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0E4-EC9C-4CC8-AEF6-F50337C3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8992-8A17-4148-AD57-72936EF0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4E9-015C-4136-87A9-DD89BF35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B29-C5C0-4881-A71A-9CD89791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6A2-6055-4A88-9D72-D573F78F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FCA-82A4-48EA-B9BB-09FFC32E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07C-9CC4-4F58-821E-45A77060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E56-45A4-4AF4-BD6E-E3FF9C51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21C2-F79C-4721-89D2-5B4AFCB1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018-842E-45F3-A96F-F1E9C7DE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001B-C53F-4A55-AEC9-A98B8CAD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2AB-344E-4B5C-83F1-49298874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AEA4-CB88-4488-9618-60F21B696F6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i="1" lang="pt-BR" sz="3600" spc="-1" strike="noStrike">
                <a:solidFill>
                  <a:srgbClr val="0070c0"/>
                </a:solidFill>
                <a:latin typeface="Calibri"/>
              </a:rPr>
              <a:t>Informe sobre os Resultados da Oficina de Trabalho sobre Gestão de Recursos Hídricos em Áreas de Fronteir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5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pt-BR" sz="2700" spc="-1" strike="noStrike">
                <a:solidFill>
                  <a:srgbClr val="898989"/>
                </a:solidFill>
                <a:latin typeface="Calibri"/>
              </a:rPr>
              <a:t>GT Diretrizes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898989"/>
                </a:solidFill>
                <a:latin typeface="Calibri"/>
              </a:rPr>
              <a:t>Reunião, da CTGRHT/CNR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"/>
              </a:rPr>
              <a:t>PRÓXIMOS PASSOS DO G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inalização e envio do relatório da oficina para as considerações da CTGRHT e dos participantes no prazo de 15 dia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presentação do relatório da oficina na próxima reunião da CTGRHT com propostas de encaminhamentos do G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"/>
              </a:rPr>
              <a:t>CONTEX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T Diretrizes (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latório do GT Diretrizes (2012) e proposta de itens para uma agenda de trabalhos nos eixos horizontal, vertical e transvers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orizonta: 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) Verificar a necessidade de elaborar critérios para a criação e o funcionamento de comitês de sub-bacia ou bacia hidrográfica parcial com águas fronteiriças e transfronteiriças; e b)  Verificar a necessidade de definir como os instrumentos de gestão serão aplicados às sub-bacias e bacias fronteiriços e transfronteiriço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Oficina de Trabalho, realizada em Brasília,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m o objetivo de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orientar possíveis diretrizes do CNRH para a gestão dos recursos hídricos em áreas de fronteir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alizada em Brasília, nos dias 6 e 7 de maio de 201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ALEST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Mesa 1 Marco Legal-Institucional: MRE, SAE/PR, ANA e SRHU/MMA.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Mesa 2 Apresentação de estudo. 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Gestão da água de rios fronteiriços e transfronteiriços compartilhados com o Brasil</a:t>
            </a:r>
            <a:r>
              <a:rPr b="1" i="1" lang="pt-BR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Calibri"/>
              </a:rPr>
              <a:t>Fernando Antunes Camina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Mesa 3 Algumas iniciativas e experiências de gestão em áreas de fronteira</a:t>
            </a: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Participação do Brasil no CIC-Plata e o Programa Marco da Bacia do Prata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Júlio Thadeu Kettelhut.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Comissão Mista Brasileiro-Uruguaia para o Desenvolvimento da Bacia do Rio Quarai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Ivo Gregório Lima Wagn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Processo de implantação do Comitê da Bacia Hidrográfica do Rio Uruguai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Ivo Mello.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Iniciativa MAP (Madre de Dios-Peru, Acre-Brasil, Pando-Bolivia)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Vera Lúcia Re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Acordo de gestão integrada do Rio Apa (Brasil-Paraguai). 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Synara Bro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Desafios da gestão transfronteiriça de recursos hídricos na bacia do Alto Paraguai.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 Débora Calheir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Proposta do pacto em defesa das cabeceiras do Pantanal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Ângelo Lima (WWF-Brasil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Gestão transfronteiriça no Plano Estratégico da Margem Direita do Amazonas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Roberto Morais (Superindentência de Planejamento de Recursos Hídricos da AN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RUPOS DE TRABALHO 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70c0"/>
                </a:solidFill>
                <a:latin typeface="Calibri"/>
              </a:rPr>
              <a:t>Quais são as principals dificuldades comuns na gestão de recursos hídricos em area de fronteira entre as diferentes regiões do Brasi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5280" y="333360"/>
          <a:ext cx="8229600" cy="6021360"/>
        </p:xfrm>
        <a:graphic>
          <a:graphicData uri="http://schemas.openxmlformats.org/drawingml/2006/table">
            <a:tbl>
              <a:tblPr/>
              <a:tblGrid>
                <a:gridCol w="1655640"/>
                <a:gridCol w="657396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planos de bacia e monitor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padronização e harmonização na gestão entre os país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comitês de bacia e outros foros de discuss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ência de orientações para a gestão dos recursos hídricos transfronteiriços na legislação nacional, que compreenda as particularidades das regiões e bacias hidrográficas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ência de orientação para a articulação contínua entre os diferentes órgãos de governo nos sistemas estaduais e federal de gerencimento de recursos hídricos e as instâncias de fronteira (CCL, Cmistas, etc.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ência de planejamento integrado das políticas setoriais  relacionadas aos usos múltiplos dos Recursos Hídricos em área de fronteir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ência de força politica, do sistema de recursos hídricos, causando a dificuldade de mobilização social e de descentralização da gestão tendo a posição geográfica e diferentes dimensões das bacias como agravan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informações hidrologicas, economicas e sociais nestas bacias e monitoramento deficitári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GRUPOS DE TRABALHO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Quais poderiam ser as diretrizes e orientações comuns para a gestão de recursos hídricos </a:t>
            </a:r>
            <a:br>
              <a:rPr sz="3200"/>
            </a:b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em area de fronteira?</a:t>
            </a: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74760" y="171360"/>
          <a:ext cx="8229600" cy="6569280"/>
        </p:xfrm>
        <a:graphic>
          <a:graphicData uri="http://schemas.openxmlformats.org/drawingml/2006/table">
            <a:tbl>
              <a:tblPr/>
              <a:tblGrid>
                <a:gridCol w="1460520"/>
                <a:gridCol w="676908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iculação e apoio entre União, estados e municíp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por bacia e padronização da coleta e tratamento de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ímulo à criação e manutenção de foros de diálogo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r as orientações gerais para a gestão dos RHT , compreendendo as experiências  acumuladas (definição de órgão competentes, procedimentos, etc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imular a aproximação e a articulação entre os diferentes órgãos e instituições envolvidas na gestão de RHT em nível interno, bi(tri)lateral ou regional;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elecer  mecanismos de articulação em nível federal para o planejamento integrado dos usos múltiplos dos RHT, levando em consideração as Especificidades das regiões e bacias hidrográf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ver a articulação dos órgãos estatais e da sociedade civil para implementação dos princípios e instrumentos de gestão na tomada de decisão, principalmente quanto a gestão compartilhada e inclusão da gestão de recursos hídricos na pauta política dos tomadores de decisão, com vistas a criação dos comitês de bacias do lado brasileir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amento e divulgação pela ANA (Agencia Nacional de Aguas), quali-quantititivo, dos 83 rios e realização de diagnósticos destas bac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"/>
              </a:rPr>
              <a:t>ALGUMAS PROPOSTA DE ENCAMINHAME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oção do CNRH recomendando ações para a regularização da vazão do Rio Ac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odução de informações sobre a situação das 83 bacias transfronteiriç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clusão de informações sobre gestão transfronteiriça no SNIR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rticulação com a CTAS para questão dos aquíferos transfronteiriç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talhamento da Resolução CNRH nº 005 para os rios de domínio da união em região de fronteir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is ações locais promovidas da ANA nas áreas de frontei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sdobramentos da oficina em mais duas: i) diretrizes mais concretas, trazendo as experiências da fronteira; ii) conclusõ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Levar o resultado das oficinas para dentro das instituiçõ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14:10:25Z</dcterms:created>
  <dc:creator>61087785120</dc:creator>
  <dc:description/>
  <dc:language>en-US</dc:language>
  <cp:lastModifiedBy>61087785120</cp:lastModifiedBy>
  <dcterms:modified xsi:type="dcterms:W3CDTF">2013-08-19T17:12:22Z</dcterms:modified>
  <cp:revision>10</cp:revision>
  <dc:subject/>
  <dc:title>Slide 1</dc:title>
</cp:coreProperties>
</file>