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932-130E-42C3-A7E8-32075106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266-849C-4C52-A4C0-5CAC0FF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721-C2E0-4ED1-9DAA-85B64509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D0F-853B-4F82-8FC0-EA757DA2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DBB-D954-4BEB-A535-5C2FAC83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AD2-1A86-44D1-98C7-9976F406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DAE8-FDC4-489F-9E07-0D4099C8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BA95-AA26-4C35-810F-88388269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FD0-D23A-40F0-A708-4F3FC952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B322-C687-4E94-8C4D-B0B91219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741E-896B-4D87-A749-4C52468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D23-5E27-43C2-8A6D-6331AD8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5AA-EFC4-4522-8247-34AF367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CE1E-5781-48E0-89C2-26A8ED6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78C9-29C8-4E66-A7C3-535E7F26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AF07-9BAE-4FB0-BEE0-B8BD8CC8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6882-9926-4AAE-9183-2AB62779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B17-2338-4297-9D4B-8D8A1F61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83D-BB4C-43B3-B270-A307297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6EB-AE3D-477B-857A-0913051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3B5-539A-4829-A6AF-39ED4314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08C-ED4C-4FD4-9D94-266E7A1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619-D400-4103-984B-F14935C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A79-6B18-4D4A-99F0-BAA4437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865B-EB1C-4136-A147-5D811802384B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7E18-3F1C-42AE-ADCD-4B4CD6C6B26A}" type="slidenum">
              <a:rPr b="0" lang="pt-B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 licenciamento ambiental como uma possibilidade legal de financiamento de projetos de E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661000"/>
            <a:ext cx="374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DEA\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forma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pacitação de professores e alunos em aspectos ecológicos (EA = Ensino de ciência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00628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ecem de u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iagnóstico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que propicie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bases necessári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à formulação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jetos coerente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realidade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Inexistência de integração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com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e educação e de gestão ambiental, bem como, 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demais projet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m andamento na região, nas esferas municipal e estad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nte dessa constatação, o licenciamento de óleo e gás do Ibama, buscou a então CGEAM para construir diretrizes e procedimentos que norteassem os projetos de EA no licenciamento de petróleo, em consonância com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s pressupostos da PNEA e da proposta 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2006, estão sendo elaborados segu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iretrizes da CGE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/ IB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cípios d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ducação no processo de gestã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“busca trazer para o processo decisório os grupos sociais que sempre estiveram à margem do licenciamento e se constituem, em muitos casos, nos mais afetados pelos seus ato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a CGPEG/IBAM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i="1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“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ORIENTAÇÕES PEDAGÓGICAS DO IBAMA PARA ELABORAÇÃO E IMPLEMENTAÇÃO DE PROGRAMAS DE EDUCAÇÃO AMBIENTAL NO LICENCIAMENTO DE ATIVIDADES DE PRODUÇÃO E ESCOAMENTO DE PETRÓLEO E GÁS NATUR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eaeaea"/>
                </a:solidFill>
                <a:latin typeface="Tahoma"/>
              </a:rPr>
              <a:t>Primeira etapa: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siderar 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olíticas Públicas relacionada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com a problemática socioambiental das esferas municipal, estadual e fede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2054160"/>
            <a:ext cx="75438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2. 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Construir coletivamente as agendas de prioridad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grupos sociais direta e indiretamente afe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elo empreendimento, tendo como base o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problemas, conflitos e potencialidades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mbientais identificados por e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aeaea"/>
                </a:solidFill>
                <a:latin typeface="Tahoma"/>
              </a:rPr>
              <a:t>Primeira etapa: Diagnóstico Participativ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3. Propor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jetos de interven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relacionados às agendas de prioridades estabelecidas pelos grupos soci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afi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ispor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quipe com experiência comprovada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a promoção de ações de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ducação ambiental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incipalmente voltada para o processo de gest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Prever mecanismos de controle 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no que tange à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avaliação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do processo de execução  e de seu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resultado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2131560"/>
            <a:ext cx="75438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rcionam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aproximação da socie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com o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órgão licenciador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com 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empreende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nclusã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ovos projet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de mitigação e compensaçã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articipação nos processos decisórios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incentiva a mobilização social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 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organização da sociedade civ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isciplinar, </a:t>
            </a:r>
            <a:r>
              <a:rPr b="0" i="1" lang="pt-BR" sz="2800" spc="-1" strike="noStrike">
                <a:solidFill>
                  <a:srgbClr val="ff9900"/>
                </a:solidFill>
                <a:latin typeface="Tahoma"/>
              </a:rPr>
              <a:t>previamente</a:t>
            </a:r>
            <a:r>
              <a:rPr b="0" lang="pt-BR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a construção, instalação, ampliação e funcionamento de empreendimentos e atividades utilizadoras de recursos naturais,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onsiderados efetiva ou potencialmente poluidore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bem como aqueles </a:t>
            </a:r>
            <a:r>
              <a:rPr b="0" i="1" lang="pt-BR" sz="2800" spc="-1" strike="noStrike">
                <a:solidFill>
                  <a:srgbClr val="eaeaea"/>
                </a:solidFill>
                <a:latin typeface="Tahoma"/>
              </a:rPr>
              <a:t>capazes de causar degradação ambi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136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jetivo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uns Resultado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s instrumentos de participação adotados no licenciamento contribuem para uma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olítica ambiental pautada na descentralização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o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fortalecimento institucional da gestão ambiental loc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, articulando as diferentes esferas do Poder Público e a sociedade civil organizada.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acterísticas dos Programa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rantia legal e obrigatória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recursos financeir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enquanto o licenciamento perdur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mite o desenvolvimento d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processos educativos de médio e longo prazo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romovem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demanda por educadores ambientais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em todo o país e geram novos conhecimentos teorico-metodoló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É possível desenvolver EA crítica e transformadora no licenciamento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EA desenvolvida com recursos financeiros dos empreendimentos,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pode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mitigar e compensar os impactos socioambientais inerentes aos próprios empreendimento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A no licenciamento: papel do Estad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O Estado, por meio dos órgãos ambientais, orienta, normatiza, monitora e promove o controle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</a:rPr>
              <a:t>social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 dos processos educativos implementados com base nos princípios da PNEA e da proposta de educação no processo de gestão ambi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Educação crítica, pautada em processos participativos, que discuta os impactos socioambientais dos empreendimentos com os grupos sociais por eles afeta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aulo Freire: </a:t>
            </a:r>
            <a:r>
              <a:rPr b="1" i="1" lang="en-US" sz="2800" spc="-1" strike="noStrike">
                <a:solidFill>
                  <a:srgbClr val="eaeaea"/>
                </a:solidFill>
                <a:latin typeface="Tahoma"/>
              </a:rPr>
              <a:t>Pedagogia da Autonomi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No mundo da História, da cultura, da política, </a:t>
            </a:r>
            <a:r>
              <a:rPr b="1" lang="pt-PT" sz="2800" spc="-1" strike="noStrike">
                <a:solidFill>
                  <a:srgbClr val="ff9900"/>
                </a:solidFill>
                <a:latin typeface="Tahoma"/>
              </a:rPr>
              <a:t>constato não para me adaptar, mas para mudar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. (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Tahoma"/>
              </a:rPr>
              <a:t>Constatando, nos tornamos capazes de intervir na realidad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, tarefa incomparavelmente mais complexa e geradora de novos saberes do que simplesmente a de nos adaptar a el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pág 7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Constituição Fed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6.938/81 - Política Nacional de Meio-ambient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ecreto 99.274/90 - Regulamenta a Política Nacional de Meio-ambient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Lei 9605/98 - Lei de crimes Ambientai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Resoluções CONAMA 001/86; 09/87; 269/00; 23/94; 237/97; 293/01; 350/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E muitas outras 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86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No Artigo 2º apresenta a listagem de atividades modificadoras do meio ambiente passíveis de elaboração de EIA/RIMA, tais com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radas de rodagem com duas ou mais faixas de rolament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errovia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tos e terminais de minério, petróleo e produtos químic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eroport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leodutos, gasodutos, minerodutos, troncos coletores e emissários de esgotos sanitári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nhas de transmissão de energia elétrica, acima de 230KV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ação de combustível fóssil (petróleo, xisto, carvão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sinas de geração de eletricidade, qualquer que seja a fonte de energia primária, acima de 10M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se legal do licenciamen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AMA 01/8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udo elaborado pelo empreendedor, conte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diagnóstico ambien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 área, identificação e análise dos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impactos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finição das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medidas mitigador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e compensatór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programas de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monitorament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isando </a:t>
            </a:r>
            <a:r>
              <a:rPr b="0" i="1" lang="en-US" sz="2800" spc="-1" strike="noStrike">
                <a:solidFill>
                  <a:srgbClr val="eaeaea"/>
                </a:solidFill>
                <a:latin typeface="Tahoma"/>
              </a:rPr>
              <a:t>garantir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uso sustentável dos recursos natur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A/RIMA como Instrumento do Licenciamento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6938/81(PNMA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“educação ambiental a todos os níveis de ensin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clusive a educação da comunid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jetivand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apacitá-la para participação ativ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 defesa do meio ambiente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ei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9795/99 (PNEA) e Decreto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4281/02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deverão ser mantidos e implementados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ramas de educação ambiental integrados às atividades de licenciamen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 revisão de atividades efetivas ou potencialmente poluidoras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22200"/>
            <a:ext cx="74613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Educação Ambiental como medida mitigadora: base leg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783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Nota técnic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ROGE/ibama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090/03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A exigibilidade de programas de EA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justifica-se 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eve-se demandá-l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clusive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dida compensató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pelo que quando incluídos com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ondicionan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são d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cumprimento obrigatório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pelo empreended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12360"/>
            <a:ext cx="746136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ão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obrigatório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 exigidos de acordo com as características dos empreendimentos. Alguns na etapa de instalação – LI e outros na etapa de operação - 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m ser desenvolvidos durante todo o período de validade das licenças, portanto,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durante a vida útil do empreendimen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jetos de Educação Ambiental no licenciamen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racterísticas comuns aos Proje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eralmente </a:t>
            </a:r>
            <a:r>
              <a:rPr b="0" lang="pt-BR" sz="2800" spc="-1" strike="noStrike">
                <a:solidFill>
                  <a:srgbClr val="ff9900"/>
                </a:solidFill>
                <a:latin typeface="Tahoma"/>
              </a:rPr>
              <a:t>não envolvem os grupos sociais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mais afetados pela atividad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s 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ações educativas propostas </a:t>
            </a:r>
            <a:r>
              <a:rPr b="0" lang="pt-PT" sz="2800" spc="-1" strike="noStrike">
                <a:solidFill>
                  <a:srgbClr val="ff9900"/>
                </a:solidFill>
                <a:latin typeface="Tahoma"/>
                <a:ea typeface="Times New Roman"/>
              </a:rPr>
              <a:t>não se articulam com os possíveis impactos e riscos socioambientais</a:t>
            </a:r>
            <a:r>
              <a:rPr b="0" lang="pt-PT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orrentes da ativid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26:48Z</dcterms:created>
  <dc:creator>Cristiano Vilardo</dc:creator>
  <dc:description/>
  <dc:language>en-US</dc:language>
  <cp:lastModifiedBy>Monica</cp:lastModifiedBy>
  <dcterms:modified xsi:type="dcterms:W3CDTF">2009-04-28T01:28:12Z</dcterms:modified>
  <cp:revision>72</cp:revision>
  <dc:subject/>
  <dc:title>Novos procedimentos do licenciamento ambiental</dc:title>
</cp:coreProperties>
</file>