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2D6-70F0-4B3D-A4F7-95EB8AFA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9B8-31FB-4CD6-A2E0-963B49B8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98F-5338-4AA5-BCCF-8D325E55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2C9-8659-409A-9A97-068B5F21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6C43-8236-4A56-8751-D053217C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CA1C-F552-4FC1-B357-77150C1F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60BB-7778-4440-B3FA-C00CCE31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0A55-20D9-4283-8778-6A4F1128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F9A5-5F31-4B23-8101-9C0385C2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9EBF-CE48-402D-BED0-75E8907C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563C-9118-4498-8685-8C537712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D4F-98A8-4478-A970-C0D2A2F0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8EFF-42B4-4AB5-BBE9-D84FAD4D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D502-30E3-406F-8F5D-C9FCB85B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CDDB-7381-443B-B652-BC81EE73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717D-F486-4AEC-A4BB-98C973C6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78C0-E895-4A61-8ACC-B960CD2B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A8D-177A-4208-BBCE-C5BAEED3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248-090E-4D86-B115-28C9BCB7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9A6-6E7A-466A-AA7A-3FEF3FC0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835-E0D0-4DD8-AC32-FAF46F26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040-A57E-4161-8EC5-7D10AA6C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8EE6-1827-4C53-A0B2-4C3CF1F7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4C1-073D-42A1-BB0B-BB4E0AA4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0D2D-F93E-44F7-8A3D-A8CB85BD2194}" type="slidenum">
              <a:rPr b="0" lang="pt-B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AEA1-320E-44CE-B3EA-D11276BE0B3D}" type="slidenum">
              <a:rPr b="0" lang="pt-B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O licenciamento ambiental como uma possibilidade legal de financiamento de projetos de E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276720" y="5661000"/>
            <a:ext cx="374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DEA\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Educação formal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pacitação de professores e alunos em aspectos ecológicos (EA = Ensino de ciências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2006280"/>
            <a:ext cx="754380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recem de um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diagnóstico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que propicie a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bases necessária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à formulação de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projetos coerente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com a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realidade local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Inexistência de integração</a:t>
            </a:r>
            <a:r>
              <a:rPr b="0" lang="pt-PT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 com a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políticas pública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e educação e de gestão ambiental, bem como, com o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demais projeto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em andamento na região, nas esferas municipal e estad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nte dessa constatação, o licenciamento de óleo e gás do Ibama, buscou a então CGEAM para construir diretrizes e procedimentos que norteassem os projetos de EA no licenciamento de petróleo, em consonância com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os pressupostos da PNEA e da proposta 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Educação no Processo de Gestão Ambien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a CGPEG/IBAMA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543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de 2006, estão sendo elaborados segund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iretrizes da CGEA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/ IBA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cípios da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educação no processo de gestão ambien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“busca trazer para o processo decisório os grupos sociais que sempre estiveram à margem do licenciamento e se constituem, em muitos casos, nos mais afetados pelos seus atos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a CGPEG/IBAMA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i="1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“</a:t>
            </a:r>
            <a:r>
              <a:rPr b="0" i="1" lang="pt-BR" sz="2800" spc="-1" strike="noStrike">
                <a:solidFill>
                  <a:srgbClr val="ff9900"/>
                </a:solidFill>
                <a:latin typeface="Tahoma"/>
              </a:rPr>
              <a:t>ORIENTAÇÕES PEDAGÓGICAS DO IBAMA PARA ELABORAÇÃO E IMPLEMENTAÇÃO DE PROGRAMAS DE EDUCAÇÃO AMBIENTAL NO LICENCIAMENTO DE ATIVIDADES DE PRODUÇÃO E ESCOAMENTO DE PETRÓLEO E GÁS NATUR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eaeaea"/>
                </a:solidFill>
                <a:latin typeface="Tahoma"/>
              </a:rPr>
              <a:t>Primeira etapa: </a:t>
            </a: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Diagnóstico Participativ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siderar a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Políticas Públicas relacionada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com a problemática socioambiental das esferas municipal, estadual e fede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eaeaea"/>
                </a:solidFill>
                <a:latin typeface="Tahoma"/>
              </a:rPr>
              <a:t>Primeira etapa: Diagnóstico Participativ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2054160"/>
            <a:ext cx="75438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Tahoma"/>
              </a:rPr>
              <a:t>2. 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Construir coletivamente as agendas de prioridade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 o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grupos sociais direta e indiretamente afetado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pelo empreendimento, tendo como base o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problemas, conflitos e potencialidades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mbientais identificados por e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eaeaea"/>
                </a:solidFill>
                <a:latin typeface="Tahoma"/>
              </a:rPr>
              <a:t>Primeira etapa: Diagnóstico Participativ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3. Propor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projetos de intervenção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relacionados às agendas de prioridades estabelecidas pelos grupos socia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esafio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Dispor de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equipe com experiência comprovada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na promoção de ações de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educação ambiental,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principalmente voltada para o processo de gestã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Prever mecanismos de controle social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no que tange à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avaliação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do processo de execução  e de seu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resultado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guns Resultados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2131560"/>
            <a:ext cx="754380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porcionam a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aproximação da sociedade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com o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órgão licenciador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e com os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empreendedore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Inclusão de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novos projeto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de mitigação e compensaçã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A participação nos processos decisórios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incentiva a mobilização social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e a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organização da sociedade civ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868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Disciplinar, </a:t>
            </a:r>
            <a:r>
              <a:rPr b="0" i="1" lang="pt-BR" sz="2800" spc="-1" strike="noStrike">
                <a:solidFill>
                  <a:srgbClr val="ff9900"/>
                </a:solidFill>
                <a:latin typeface="Tahoma"/>
              </a:rPr>
              <a:t>previamente</a:t>
            </a: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a construção, instalação, ampliação e funcionamento de empreendimentos e atividades utilizadoras de recursos naturais, </a:t>
            </a:r>
            <a:r>
              <a:rPr b="0" i="1" lang="pt-BR" sz="2800" spc="-1" strike="noStrike">
                <a:solidFill>
                  <a:srgbClr val="eaeaea"/>
                </a:solidFill>
                <a:latin typeface="Tahoma"/>
              </a:rPr>
              <a:t>considerados efetiva ou potencialmente poluidore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, bem como aqueles </a:t>
            </a:r>
            <a:r>
              <a:rPr b="0" i="1" lang="pt-BR" sz="2800" spc="-1" strike="noStrike">
                <a:solidFill>
                  <a:srgbClr val="eaeaea"/>
                </a:solidFill>
                <a:latin typeface="Tahoma"/>
              </a:rPr>
              <a:t>capazes de causar degradação ambi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042920" y="-360"/>
            <a:ext cx="746136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bjetivo d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guns Resultados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543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s instrumentos de participação adotados no licenciamento contribuem para uma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política ambiental pautada na descentralização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Promovem o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fortalecimento institucional da gestão ambiental local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, articulando as diferentes esferas do Poder Público e a sociedade civil organizada.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aracterísticas dos Programa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Garantia legal e obrigatória de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recursos financeiro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enquanto o licenciamento perdur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ermite o desenvolvimento de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processos educativos de médio e longo prazo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Promovem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demanda por educadores ambientai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em todo o país e geram novos conhecimentos teorico-metodológ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É possível desenvolver EA crítica e transformadora no licenciamento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EA desenvolvida com recursos financeiros dos empreendimentos,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pode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mitigar e compensar os impactos socioambientais inerentes aos próprios empreendimento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A no licenciamento: papel do Estad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O Estado, por meio dos órgãos ambientais, orienta, normatiza, monitora e promove o controle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social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dos processos educativos implementados com base nos princípios da PNEA e da proposta de educação no processo de gestão ambient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Educação crítica, pautada em processos participativos, que discuta os impactos socioambientais dos empreendimentos com os grupos sociais por eles afetad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aulo Freire: </a:t>
            </a:r>
            <a:r>
              <a:rPr b="1" i="1" lang="en-US" sz="2800" spc="-1" strike="noStrike">
                <a:solidFill>
                  <a:srgbClr val="eaeaea"/>
                </a:solidFill>
                <a:latin typeface="Tahoma"/>
              </a:rPr>
              <a:t>Pedagogia da Autonomia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No mundo da História, da cultura, da política, </a:t>
            </a: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constato não para me adaptar, mas para mudar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. (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ff9900"/>
                </a:solidFill>
                <a:latin typeface="Tahoma"/>
              </a:rPr>
              <a:t>Constatando, nos tornamos capazes de intervir na realidade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, tarefa incomparavelmente mais complexa e geradora de novos saberes do que simplesmente a de nos adaptar a el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(pág 7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868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Constituição Fed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Lei 6.938/81 - Política Nacional de Meio-ambiente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Decreto 99.274/90 - Regulamenta a Política Nacional de Meio-ambient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Lei 9605/98 - Lei de crimes Ambientai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Resoluções CONAMA 001/86; 09/87; 269/00; 23/94; 237/97; 293/01; 350/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E muitas outras 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066680" y="322200"/>
            <a:ext cx="74613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Base legal d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868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No Artigo 2º apresenta a listagem de atividades modificadoras do meio ambiente passíveis de elaboração de EIA/RIMA, tais com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radas de rodagem com duas ou mais faixas de rolament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Ferrovia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ortos e terminais de minério, petróleo e produtos químic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eroport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leodutos, gasodutos, minerodutos, troncos coletores e emissários de esgotos sanitári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inhas de transmissão de energia elétrica, acima de 230KV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xtração de combustível fóssil (petróleo, xisto, carvão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sinas de geração de eletricidade, qualquer que seja a fonte de energia primária, acima de 10M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066680" y="322200"/>
            <a:ext cx="74613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Base legal do licenciamen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AMA 01/86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868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udo elaborado pelo empreendedor, contendo 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</a:rPr>
              <a:t>diagnóstico ambien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 área, identificação e análise dos 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</a:rPr>
              <a:t>impactos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finição das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medidas mitigador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e compensatóri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 programas de 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</a:rPr>
              <a:t>monitoramento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isando 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</a:rPr>
              <a:t>garantir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uso sustentável dos recursos natura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066680" y="322200"/>
            <a:ext cx="74613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IA/RIMA como Instrumento do Licenciamento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868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Lei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6938/81(PNMA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“educação ambiental a todos os níveis de ensino,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nclusive a educação da comunida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jetivand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capacitá-la para participação ativ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a defesa do meio ambiente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Lei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9795/99 (PNEA) e Decreto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4281/02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deverão ser mantidos e implementados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programas de educação ambiental integrados às atividades de licenciament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 revisão de atividades efetivas ou potencialmente poluidoras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680" y="322200"/>
            <a:ext cx="74613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 Educação Ambiental como medida mitigadora: base legal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26560" y="1844640"/>
            <a:ext cx="77835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Nota técnica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PROGE/ibama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090/03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A exigibilidade de programas de EA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justifica-se 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eve-se demandá-lo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nclusive com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dida compensatór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pelo que quando incluídos com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condicionan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são de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cumprimento obrigatório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 pelo empreended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680" y="612360"/>
            <a:ext cx="746136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ã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obrigatório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 exigidos de acordo com as características dos empreendimentos. Alguns na etapa de instalação – LI e outros na etapa de operação - L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m ser desenvolvidos durante todo o período de validade das licenças, portanto,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urante a vida útil do empreendimen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aracterísticas comuns aos Proje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Geralmente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não envolvem os grupos sociai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mais afetados pela atividad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s </a:t>
            </a:r>
            <a:r>
              <a:rPr b="0" lang="pt-PT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ações educativas proposta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não se articulam com os possíveis impactos e riscos socioambientais</a:t>
            </a:r>
            <a:r>
              <a:rPr b="0" lang="pt-PT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correntes da ativida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3:26:48Z</dcterms:created>
  <dc:creator>Cristiano Vilardo</dc:creator>
  <dc:description/>
  <dc:language>en-US</dc:language>
  <cp:lastModifiedBy>Monica</cp:lastModifiedBy>
  <dcterms:modified xsi:type="dcterms:W3CDTF">2009-04-28T01:28:12Z</dcterms:modified>
  <cp:revision>72</cp:revision>
  <dc:subject/>
  <dc:title>Novos procedimentos do licenciamento ambiental</dc:title>
</cp:coreProperties>
</file>