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9CD-F1D0-4BD4-B75D-A11397CF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7B9-E7F8-4CC0-9ACD-DB670768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C9D-D937-4BE4-B4D7-D06D2D96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E9B-B9AD-422B-84AD-100F6450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B628-7F9F-426C-B001-E31E4E07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38F8-42DC-4A55-B85C-60B0FA8C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2D22-9246-47DE-BA8D-F08C0B7E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41FD-0B5A-404F-8911-0AEEBE01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CAA9-BF1E-4858-844C-CC95974F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B8CC-FAFE-47DE-AF18-987AAD78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7130-F60C-40C3-931E-6521F9B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0C8-54DB-4613-AFFA-DCA6A540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F9CC-C84C-473F-98E3-8F52B22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8FF6-F64D-4C2B-8BD3-484CC27B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0AED-87B8-49F0-A686-BB603444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AF8D-A736-44AB-A590-094235BE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0226-EFFF-499A-B7B4-D9A9A5A6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614-87D0-437F-8EDD-1F197E51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D87-90AD-4025-AA98-8D7B1E3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733-BCD2-46DE-AE60-50F1D9E8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D3E-8D2E-4736-A597-37C19556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55A-B76B-46C4-8D02-2AFC5EEE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21A-ED7D-413B-9C0C-44BD8E53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9D9-3B59-423C-8E37-B136A502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87FD-1402-43F5-A136-8084C00BEEF1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21B5-E24A-4A01-9F84-F4311D88696B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O licenciamento ambiental como uma possibilidade legal de financiamento de projetos de E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76720" y="5661000"/>
            <a:ext cx="374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DEA\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ducação form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pacitação de professores e alunos em aspectos ecológicos (EA = Ensino de ciências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006280"/>
            <a:ext cx="75438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ecem de um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diagnóstico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que propicie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bases necessári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à formulação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rojetos coerente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com a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realidade loc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Inexistência de integração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com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olíticas públic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e educação e de gestão ambiental, bem como, com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demais projet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m andamento na região, nas esferas municipal e estad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nte dessa constatação, o licenciamento de óleo e gás do Ibama, buscou a então CGEAM para construir diretrizes e procedimentos que norteassem os projetos de EA no licenciamento de petróleo, em consonância com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os pressupostos da PNEA e da proposta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ducação no Processo de Gestã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a CGPEG/IBAM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de 2006, estão sendo elaborados segund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iretrizes da CGE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 IBA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cípios da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ducação no processo de gestã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“busca trazer para o processo decisório os grupos sociais que sempre estiveram à margem do licenciamento e se constituem, em muitos casos, nos mais afetados pelos seus at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a CGPEG/IBAM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i="1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“</a:t>
            </a:r>
            <a:r>
              <a:rPr b="0" i="1" lang="pt-BR" sz="2800" spc="-1" strike="noStrike">
                <a:solidFill>
                  <a:srgbClr val="ff9900"/>
                </a:solidFill>
                <a:latin typeface="Tahoma"/>
              </a:rPr>
              <a:t>ORIENTAÇÕES PEDAGÓGICAS DO IBAMA PARA ELABORAÇÃO E IMPLEMENTAÇÃO DE PROGRAMAS DE EDUCAÇÃO AMBIENTAL NO LICENCIAMENTO DE ATIVIDADES DE PRODUÇÃO E ESCOAMENTO DE PETRÓLEO E GÁS NATUR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eaeaea"/>
                </a:solidFill>
                <a:latin typeface="Tahoma"/>
              </a:rPr>
              <a:t>Primeira etapa: </a:t>
            </a: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siderar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olíticas Públicas relacionad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com a problemática socioambiental das esferas municipal, estadual e fede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Tahoma"/>
              </a:rPr>
              <a:t>Primeira etapa: 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205416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Tahoma"/>
              </a:rPr>
              <a:t>2. 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Construir coletivamente as agendas de prioridad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grupos sociais direta e indiretamente afetad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elo empreendimento, tendo como base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roblemas, conflitos e potencialidades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mbientais identificados por e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Tahoma"/>
              </a:rPr>
              <a:t>Primeira etapa: 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3. Propor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rojetos de intervençã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relacionados às agendas de prioridades estabelecidas pelos grupos soci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afi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ispor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quipe com experiência comprovada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na promoção de ações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ducação ambiental,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incipalmente voltada para o processo de gest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Prever mecanismos de controle soci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no que tange à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avaliação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o processo de execução  e de seu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resultad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uns Resultados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2131560"/>
            <a:ext cx="75438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porcionam 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aproximação da sociedad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com o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órgão licenciador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 com os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empreendedor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nclusão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novos projet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de mitigação e compensaç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participação nos processos decisórios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incentiva a mobilização social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 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organização da sociedade civ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isciplinar, </a:t>
            </a:r>
            <a:r>
              <a:rPr b="0" i="1" lang="pt-BR" sz="2800" spc="-1" strike="noStrike">
                <a:solidFill>
                  <a:srgbClr val="ff9900"/>
                </a:solidFill>
                <a:latin typeface="Tahoma"/>
              </a:rPr>
              <a:t>previamente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a construção, instalação, ampliação e funcionamento de empreendimentos e atividades utilizadoras de recursos naturais, </a:t>
            </a:r>
            <a:r>
              <a:rPr b="0" i="1" lang="pt-BR" sz="2800" spc="-1" strike="noStrike">
                <a:solidFill>
                  <a:srgbClr val="eaeaea"/>
                </a:solidFill>
                <a:latin typeface="Tahoma"/>
              </a:rPr>
              <a:t>considerados efetiva ou potencialmente poluidor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, bem como aqueles </a:t>
            </a:r>
            <a:r>
              <a:rPr b="0" i="1" lang="pt-BR" sz="2800" spc="-1" strike="noStrike">
                <a:solidFill>
                  <a:srgbClr val="eaeaea"/>
                </a:solidFill>
                <a:latin typeface="Tahoma"/>
              </a:rPr>
              <a:t>capazes de causar degradação ambi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42920" y="-360"/>
            <a:ext cx="746136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jetivo d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uns Resultado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s instrumentos de participação adotados no licenciamento contribuem para um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olítica ambiental pautada na descentralizaçã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omovem o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fortalecimento institucional da gestão ambiental loc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, articulando as diferentes esferas do Poder Público e a sociedade civil organizada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acterísticas dos Programa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arantia legal e obrigatória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recursos financeir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nquanto o licenciamento perdur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rmite o desenvolvimento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rocessos educativos de médio e longo praz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omovem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demanda por educadores ambientai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em todo o país e geram novos conhecimentos teorico-metodológ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É possível desenvolver EA crítica e transformadora no licenciamento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A desenvolvida com recursos financeiros dos empreendimentos,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ode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mitigar e compensar os impactos socioambientais inerentes aos próprios empreendimento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A no licenciamento: papel do Estad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O Estado, por meio dos órgãos ambientais, orienta, normatiza, monitora e promove o controle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soci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dos processos educativos implementados com base nos princípios da PNEA e da proposta de educação no processo de gestão ambient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ducação crítica, pautada em processos participativos, que discuta os impactos socioambientais dos empreendimentos com os grupos sociais por eles afetad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aulo Freire: </a:t>
            </a:r>
            <a:r>
              <a:rPr b="1" i="1" lang="en-US" sz="2800" spc="-1" strike="noStrike">
                <a:solidFill>
                  <a:srgbClr val="eaeaea"/>
                </a:solidFill>
                <a:latin typeface="Tahoma"/>
              </a:rPr>
              <a:t>Pedagogia da Autonomia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No mundo da História, da cultura, da política, </a:t>
            </a: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constato não para me adaptar, mas para mudar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. (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Tahoma"/>
              </a:rPr>
              <a:t>Constatando, nos tornamos capazes de intervir na realidad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, tarefa incomparavelmente mais complexa e geradora de novos saberes do que simplesmente a de nos adaptar a el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pág 7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onstituição Fed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Lei 6.938/81 - Política Nacional de Meio-ambient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ecreto 99.274/90 - Regulamenta a Política Nacional de Meio-ambient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Lei 9605/98 - Lei de crimes Ambientai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Resoluções CONAMA 001/86; 09/87; 269/00; 23/94; 237/97; 293/01; 350/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 muitas outras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se legal d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No Artigo 2º apresenta a listagem de atividades modificadoras do meio ambiente passíveis de elaboração de EIA/RIMA, tais com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radas de rodagem com duas ou mais faixas de rolament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errovia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ortos e terminais de minério, petróleo e produtos químic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eroport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leodutos, gasodutos, minerodutos, troncos coletores e emissários de esgotos sanitári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nhas de transmissão de energia elétrica, acima de 230KV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ação de combustível fóssil (petróleo, xisto, carvão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sinas de geração de eletricidade, qualquer que seja a fonte de energia primária, acima de 10M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se legal do licenciamen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AMA 01/86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udo elaborado pelo empreendedor, contendo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diagnóstic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 área, identificação e análise dos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impactos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finição das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medidas mitigador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e compensatóri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 programas de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monitoramento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isando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garanti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uso sustentável dos recursos natur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IA/RIMA como Instrumento do Licenciamento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ei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6938/81(PNMA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“educação ambiental a todos os níveis de ensino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clusive a educação da comunida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jetivand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apacitá-la para participação ati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 defesa do meio ambiente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ei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9795/99 (PNEA) e Decreto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4281/02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deverão ser mantidos e implementados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rogramas de educação ambiental integrados às atividades de licenciament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 revisão de atividades efetivas ou potencialmente poluidora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 Educação Ambiental como medida mitigadora: base legal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560" y="1844640"/>
            <a:ext cx="7783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Nota técnic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ROGE/ibama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090/03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A exigibilidade de programas de EA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justifica-se 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eve-se demandá-l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nclusive com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dida compensató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elo que quando incluídos com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ondicionan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ão d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umprimento obrigatório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pelo empreended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612360"/>
            <a:ext cx="746136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ã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obrigatório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 exigidos de acordo com as características dos empreendimentos. Alguns na etapa de instalação – LI e outros na etapa de operação - 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m ser desenvolvidos durante todo o período de validade das licenças, portanto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urante a vida útil do empreendimen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racterísticas comuns aos Proje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eralment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não envolvem os grupos sociai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mais afetados pela atividad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s 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ações educativas propost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não se articulam com os possíveis impactos e riscos socioambientais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orrentes da ativid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26:48Z</dcterms:created>
  <dc:creator>Cristiano Vilardo</dc:creator>
  <dc:description/>
  <dc:language>en-US</dc:language>
  <cp:lastModifiedBy>Monica</cp:lastModifiedBy>
  <dcterms:modified xsi:type="dcterms:W3CDTF">2009-04-28T01:28:12Z</dcterms:modified>
  <cp:revision>72</cp:revision>
  <dc:subject/>
  <dc:title>Novos procedimentos do licenciamento ambiental</dc:title>
</cp:coreProperties>
</file>