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52E-2E39-4A30-AEAD-EB0E51F2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CD42-F5FB-4962-A546-9CF75ED1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37DE-8B61-42D8-8002-41D0A05C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149-B087-49AA-AF40-43AAF788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FE7E-D76E-41F3-8EEF-3168E250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7C4E-242A-4AB3-A162-4699CFC3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9A41-BF30-4C44-A49E-A28CBBFF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E272-8009-4247-8CF4-B514B9B7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AD89-8F8C-4D85-BC0D-CFAC41EE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F712-F46E-4513-AE4B-D1C5AA44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7F92-C941-456F-9C67-E10B0487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8E20-1215-4246-A991-1F120136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BF2F-6527-4350-AD5D-3979E279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28D2-B99C-4B63-ACCC-A58AE07D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02B9-1485-48E2-9BED-25D63C60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B3B3-0CB4-4388-8FBA-B9DDCFCF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A307-D5FE-411C-81CB-54F8A7D1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D14C-CFF5-41BC-874E-8CD50931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76E4-8B1A-463A-A223-D88E38CE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2BD-7EEB-49FD-A7B3-EC64FF14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668-67FF-41DD-B97B-0EAA8435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399-1B18-4AC2-8F89-8060FA32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C3F-339D-465F-AA05-09BA5ED0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E267-C470-479D-9DDC-FD4158CD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A0C9-11B8-4C94-B4FC-5D956F6B5888}" type="slidenum">
              <a:rPr b="0" lang="pt-B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EB27-7790-4C9C-9FA8-585660A94BE7}" type="slidenum">
              <a:rPr b="0" lang="pt-B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O licenciamento ambiental como uma possibilidade legal de financiamento de projetos de E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276720" y="5661000"/>
            <a:ext cx="374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DEA\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Educação formal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pacitação de professores e alunos em aspectos ecológicos (EA = Ensino de ciências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2006280"/>
            <a:ext cx="754380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arecem de um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diagnóstico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que propicie a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bases necessária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à formulação de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projetos coerente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com a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realidade local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Inexistência de integração</a:t>
            </a:r>
            <a:r>
              <a:rPr b="0" lang="pt-PT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 com a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políticas pública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e educação e de gestão ambiental, bem como, com o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demais projeto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em andamento na região, nas esferas municipal e estad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nte dessa constatação, o licenciamento de óleo e gás do Ibama, buscou a então CGEAM para construir diretrizes e procedimentos que norteassem os projetos de EA no licenciamento de petróleo, em consonância com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os pressupostos da PNEA e da proposta 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Educação no Processo de Gestão Ambien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a CGPEG/IBAMA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543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de 2006, estão sendo elaborados segund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diretrizes da CGEA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/ IBA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ncípios da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educação no processo de gestão ambien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“busca trazer para o processo decisório os grupos sociais que sempre estiveram à margem do licenciamento e se constituem, em muitos casos, nos mais afetados pelos seus atos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a CGPEG/IBAMA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i="1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“</a:t>
            </a:r>
            <a:r>
              <a:rPr b="0" i="1" lang="pt-BR" sz="2800" spc="-1" strike="noStrike">
                <a:solidFill>
                  <a:srgbClr val="ff9900"/>
                </a:solidFill>
                <a:latin typeface="Tahoma"/>
              </a:rPr>
              <a:t>ORIENTAÇÕES PEDAGÓGICAS DO IBAMA PARA ELABORAÇÃO E IMPLEMENTAÇÃO DE PROGRAMAS DE EDUCAÇÃO AMBIENTAL NO LICENCIAMENTO DE ATIVIDADES DE PRODUÇÃO E ESCOAMENTO DE PETRÓLEO E GÁS NATURA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eaeaea"/>
                </a:solidFill>
                <a:latin typeface="Tahoma"/>
              </a:rPr>
              <a:t>Primeira etapa: </a:t>
            </a:r>
            <a:r>
              <a:rPr b="1" lang="pt-PT" sz="2800" spc="-1" strike="noStrike">
                <a:solidFill>
                  <a:srgbClr val="ff9900"/>
                </a:solidFill>
                <a:latin typeface="Tahoma"/>
              </a:rPr>
              <a:t>Diagnóstico Participativ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99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nsiderar a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Políticas Públicas relacionada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com a problemática socioambiental das esferas municipal, estadual e fede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eaeaea"/>
                </a:solidFill>
                <a:latin typeface="Tahoma"/>
              </a:rPr>
              <a:t>Primeira etapa: Diagnóstico Participativ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2054160"/>
            <a:ext cx="75438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99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Tahoma"/>
              </a:rPr>
              <a:t>2. 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Construir coletivamente as agendas de prioridade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 o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grupos sociais direta e indiretamente afetado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pelo empreendimento, tendo como base o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problemas, conflitos e potencialidades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mbientais identificados por e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eaeaea"/>
                </a:solidFill>
                <a:latin typeface="Tahoma"/>
              </a:rPr>
              <a:t>Primeira etapa: Diagnóstico Participativ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99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3. Propor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projetos de intervenção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relacionados às agendas de prioridades estabelecidas pelos grupos socia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Desafio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Dispor de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equipe com experiência comprovada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na promoção de ações de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educação ambiental,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principalmente voltada para o processo de gestã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Prever mecanismos de controle social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no que tange à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avaliação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do processo de execução  e de seu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resultado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guns Resultados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2131560"/>
            <a:ext cx="754380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porcionam a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aproximação da sociedade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com o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órgão licenciador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e com os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empreendedore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Inclusão de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novos projeto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de mitigação e compensaçã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A participação nos processos decisórios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incentiva a mobilização social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e a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organização da sociedade civ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868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Disciplinar, </a:t>
            </a:r>
            <a:r>
              <a:rPr b="0" i="1" lang="pt-BR" sz="2800" spc="-1" strike="noStrike">
                <a:solidFill>
                  <a:srgbClr val="ff9900"/>
                </a:solidFill>
                <a:latin typeface="Tahoma"/>
              </a:rPr>
              <a:t>previamente</a:t>
            </a:r>
            <a:r>
              <a:rPr b="0" lang="pt-BR" sz="2800" spc="-1" strike="noStrike">
                <a:solidFill>
                  <a:srgbClr val="eaeaea"/>
                </a:solidFill>
                <a:latin typeface="Tahoma"/>
              </a:rPr>
              <a:t>,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a construção, instalação, ampliação e funcionamento de empreendimentos e atividades utilizadoras de recursos naturais, </a:t>
            </a:r>
            <a:r>
              <a:rPr b="0" i="1" lang="pt-BR" sz="2800" spc="-1" strike="noStrike">
                <a:solidFill>
                  <a:srgbClr val="eaeaea"/>
                </a:solidFill>
                <a:latin typeface="Tahoma"/>
              </a:rPr>
              <a:t>considerados efetiva ou potencialmente poluidore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, bem como aqueles </a:t>
            </a:r>
            <a:r>
              <a:rPr b="0" i="1" lang="pt-BR" sz="2800" spc="-1" strike="noStrike">
                <a:solidFill>
                  <a:srgbClr val="eaeaea"/>
                </a:solidFill>
                <a:latin typeface="Tahoma"/>
              </a:rPr>
              <a:t>capazes de causar degradação ambi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042920" y="-360"/>
            <a:ext cx="746136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bjetivo d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guns Resultados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543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Os instrumentos de participação adotados no licenciamento contribuem para uma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política ambiental pautada na descentralização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Promovem o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fortalecimento institucional da gestão ambiental local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, articulando as diferentes esferas do Poder Público e a sociedade civil organizada.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aracterísticas dos Programa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844640"/>
            <a:ext cx="7543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Garantia legal e obrigatória de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recursos financeiro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enquanto o licenciamento perdur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ermite o desenvolvimento de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processos educativos de médio e longo prazo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Promovem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demanda por educadores ambientai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em todo o país e geram novos conhecimentos teorico-metodológ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É possível desenvolver EA crítica e transformadora no licenciamento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844640"/>
            <a:ext cx="7543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EA desenvolvida com recursos financeiros dos empreendimentos,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pode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mitigar e compensar os impactos socioambientais inerentes aos próprios empreendimento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A no licenciamento: papel do Estad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844640"/>
            <a:ext cx="754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O Estado, por meio dos órgãos ambientais, orienta, normatiza, monitora e promove o controle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social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dos processos educativos implementados com base nos princípios da PNEA e da proposta de educação no processo de gestão ambient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Educação crítica, pautada em processos participativos, que discuta os impactos socioambientais dos empreendimentos com os grupos sociais por eles afetado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aulo Freire: </a:t>
            </a:r>
            <a:r>
              <a:rPr b="1" i="1" lang="en-US" sz="2800" spc="-1" strike="noStrike">
                <a:solidFill>
                  <a:srgbClr val="eaeaea"/>
                </a:solidFill>
                <a:latin typeface="Tahoma"/>
              </a:rPr>
              <a:t>Pedagogia da Autonomia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844640"/>
            <a:ext cx="754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No mundo da História, da cultura, da política, </a:t>
            </a:r>
            <a:r>
              <a:rPr b="1" lang="pt-PT" sz="2800" spc="-1" strike="noStrike">
                <a:solidFill>
                  <a:srgbClr val="ff9900"/>
                </a:solidFill>
                <a:latin typeface="Tahoma"/>
              </a:rPr>
              <a:t>constato não para me adaptar, mas para mudar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. (..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ff9900"/>
                </a:solidFill>
                <a:latin typeface="Tahoma"/>
              </a:rPr>
              <a:t>Constatando, nos tornamos capazes de intervir na realidade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, tarefa incomparavelmente mais complexa e geradora de novos saberes do que simplesmente a de nos adaptar a el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(pág 7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868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Constituição Fede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Lei 6.938/81 - Política Nacional de Meio-ambiente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Decreto 99.274/90 - Regulamenta a Política Nacional de Meio-ambient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Lei 9605/98 - Lei de crimes Ambientai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Resoluções CONAMA 001/86; 09/87; 269/00; 23/94; 237/97; 293/01; 350/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E muitas outras 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066680" y="322200"/>
            <a:ext cx="74613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Base legal d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868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No Artigo 2º apresenta a listagem de atividades modificadoras do meio ambiente passíveis de elaboração de EIA/RIMA, tais com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tradas de rodagem com duas ou mais faixas de rolament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Ferrovia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ortos e terminais de minério, petróleo e produtos químic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eroport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leodutos, gasodutos, minerodutos, troncos coletores e emissários de esgotos sanitári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Linhas de transmissão de energia elétrica, acima de 230KV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xtração de combustível fóssil (petróleo, xisto, carvão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sinas de geração de eletricidade, qualquer que seja a fonte de energia primária, acima de 10M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066680" y="322200"/>
            <a:ext cx="74613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Base legal do licenciamen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AMA 01/86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868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udo elaborado pelo empreendedor, contendo </a:t>
            </a:r>
            <a:r>
              <a:rPr b="0" i="1" lang="en-US" sz="2800" spc="-1" strike="noStrike">
                <a:solidFill>
                  <a:srgbClr val="eaeaea"/>
                </a:solidFill>
                <a:latin typeface="Tahoma"/>
              </a:rPr>
              <a:t>diagnóstico ambien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 área, identificação e análise dos </a:t>
            </a:r>
            <a:r>
              <a:rPr b="0" i="1" lang="en-US" sz="2800" spc="-1" strike="noStrike">
                <a:solidFill>
                  <a:srgbClr val="eaeaea"/>
                </a:solidFill>
                <a:latin typeface="Tahoma"/>
              </a:rPr>
              <a:t>impactos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finição das 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medidas mitigador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e compensatóri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 programas de </a:t>
            </a:r>
            <a:r>
              <a:rPr b="0" i="1" lang="en-US" sz="2800" spc="-1" strike="noStrike">
                <a:solidFill>
                  <a:srgbClr val="eaeaea"/>
                </a:solidFill>
                <a:latin typeface="Tahoma"/>
              </a:rPr>
              <a:t>monitoramento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isando </a:t>
            </a:r>
            <a:r>
              <a:rPr b="0" i="1" lang="en-US" sz="2800" spc="-1" strike="noStrike">
                <a:solidFill>
                  <a:srgbClr val="eaeaea"/>
                </a:solidFill>
                <a:latin typeface="Tahoma"/>
              </a:rPr>
              <a:t>garantir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uso sustentável dos recursos natura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066680" y="322200"/>
            <a:ext cx="74613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IA/RIMA como Instrumento do Licenciamento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868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Lei 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6938/81(PNMA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“educação ambiental a todos os níveis de ensino,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nclusive a educação da comunida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jetivand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capacitá-la para participação ativ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a defesa do meio ambiente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Lei 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ahoma"/>
              </a:rPr>
              <a:t>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9795/99 (PNEA) e Decreto 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4281/02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“deverão ser mantidos e implementados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programas de educação ambiental integrados às atividades de licenciament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 revisão de atividades efetivas ou potencialmente poluidoras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066680" y="322200"/>
            <a:ext cx="74613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 Educação Ambiental como medida mitigadora: base legal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26560" y="1844640"/>
            <a:ext cx="77835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Nota técnica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PROGE/ibama 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ahoma"/>
              </a:rPr>
              <a:t>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090/03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“A exigibilidade de programas de EA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justifica-se 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deve-se demandá-lo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nclusive com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edida compensatór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pelo que quando incluídos com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condicionan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são de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cumprimento obrigatório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 pelo empreended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66680" y="612360"/>
            <a:ext cx="746136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ã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obrigatório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 exigidos de acordo com as características dos empreendimentos. Alguns na etapa de instalação – LI e outros na etapa de operação - L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m ser desenvolvidos durante todo o período de validade das licenças, portanto,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durante a vida útil do empreendiment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aracterísticas comuns aos Proje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Geralmente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não envolvem os grupos sociai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mais afetados pela atividad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s </a:t>
            </a:r>
            <a:r>
              <a:rPr b="0" lang="pt-PT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ações educativas proposta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não se articulam com os possíveis impactos e riscos socioambientais</a:t>
            </a:r>
            <a:r>
              <a:rPr b="0" lang="pt-PT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correntes da ativida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3:26:48Z</dcterms:created>
  <dc:creator>Cristiano Vilardo</dc:creator>
  <dc:description/>
  <dc:language>en-US</dc:language>
  <cp:lastModifiedBy>Monica</cp:lastModifiedBy>
  <dcterms:modified xsi:type="dcterms:W3CDTF">2009-04-28T01:28:12Z</dcterms:modified>
  <cp:revision>72</cp:revision>
  <dc:subject/>
  <dc:title>Novos procedimentos do licenciamento ambiental</dc:title>
</cp:coreProperties>
</file>