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B56DA-0B2D-4D3C-AE13-AB31864E2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59CF5-67B0-4B1E-8CA6-562341BCC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E1693-87F0-49DC-9D50-32367D315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86A14-BDE9-4C6D-A6D2-FF1097388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0F210-4955-4964-BFF4-11657DDBB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20A55-4688-40C2-A743-9C2408089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112DA-537C-49C5-8482-9C17E1280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F7BF5-AC71-4B9C-BCDB-90DD68FA4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9B9E0-5557-4E5B-8638-77A8F3998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55381-8D64-4FEB-8AE0-CBB89A9B2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8C984-96E7-46EF-AD7B-3668D8559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C1C86-9B48-468F-9C62-18D6E1B66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F1670-C1FC-4A40-A329-AD923AC362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SELHO NACIONAL DE RECURSOS HÍDRICOS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âmara Técnica de Educação, Capacitação, Mobilização Social e Informação em Recursos Hídricos - CTE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209320"/>
            <a:ext cx="64008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Plano de Trabalho 2004 - 2005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Brasília, setembro a dezembro  de 20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371600" y="1268280"/>
            <a:ext cx="6400800" cy="43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issão de Redação Prelimin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uno Gonzaga Agapito da Veig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ia da Glória Almeida Teixeir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ônica Bran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na Paula Ferrreira Laranjeir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raya Damas de Oliveira Modaell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oio Técn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ábio  Lavor Teixei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684360" y="380880"/>
            <a:ext cx="7991280" cy="607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lano de Trabalho - Base Leg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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rtigo 26 do Regimento Interno do Conselho Nacional de Recursos Hídr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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olução nº 39 de 26 de março de 20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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stituição Federal,  Artigo 225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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lítica Nacional de Recursos Hídricos (Lei nº 9.433/97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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i de Diretrizes e Bases da Educação Nacional (Lei nº 9.394/96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lítica Nacional de Educação Ambiental (Lei nº 9795/9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grama Nacional de Educação Ambiental (ProNE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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i nº 10.650/2003  de acesso público aos dados e informaçõ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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grama Latinoamericano e Caribenho de Educação Ambiental (Iniciativa da América Latina e Caribe para o Desenvolvimento Sustentáve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684360" y="1267920"/>
            <a:ext cx="799128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1 Programação de Atividades -  20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1.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presentar à CTEM a proposta do Plano de Trabalho - 2004/05 para discussão, análise, aprovação e hierarquização de atividades para o exercício de 2005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gramação de Atividades –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2.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companhamento do Plano Nacional de Recursos Hídr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2.1.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  Estabelecer articulação com a CTPNRH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2.1.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 Propor à CTPNRH a sua contribuição no sentido de acompanhar o processo de mobilização do Plano e as reuniões das Comissões Executivas Regionais nas 12 Regiões Hidrográfic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178920" y="0"/>
            <a:ext cx="871380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2.2  Fortalecimento da sociedade para implementação da Política Nacional de Recursos Hídr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2.2.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Estimular, apoiar e promover ações coordenadas que visem o fortalecimento dos Comitês de Bacia Hidrográfic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2.2.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Propor diretrizes, planos e programa de educação continuada para Comitês de Bacia Hidrográfica (poder público, setores usuários e sociedade civil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2.2.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 Propor a participação em redes de parcerias com instituições nacionais, regionais e internacionais do setor água, que visam o desenvolvimento de capacidades para a realização dos Objetivos de Desenvolvimento do Milênio, em particular os relacionados à água e saneament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2.2.4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Propor (ou sugerir/incentivar) a criação de câmaras técnicas e/ou GTs voltados para os temas da CTEM nos comitês de bacia hidrográfica que não tenham essa atuação, de forma que a educação, capacitação, mobilização social e informação em recursos hídricos possam permear as ações e decisões desses colegiado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178920" y="333360"/>
            <a:ext cx="871380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2.2  Fortalecimento da sociedade para implementação da Política Nacional de Recursos Hídr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2.2.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 Propor mecanismos de articulação para o fortalecimento da participação da  Sociedade Civil Organizada no SINGREH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2.2.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 Propor diretrizes para elaboração de programa de apoio à mobilização social para gestão dos recursos hídrico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2.2.7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 Discutir e propor formas de apoiar, inclusive financeiramente (Fundos) a participação permanente e sistemática da sociedade civil organizadas em reuniões dos órgãos do SINGREH e especialmente no CNRH e suas Câmaras Técnica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2.2.8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 Recomendar a Incorporação da questão de eqüidade de gênero no SINGREH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2.2.9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 Recomendar a criação de Programa de apoio à capacitação para a gestão dos recursos hídric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78920" y="333360"/>
            <a:ext cx="871380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3 Apoio aos Conselhos Estaduais de Recursos Hídr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3.1 Articulação com os CERHs para fortalecimento e/ou criação de câmaras e GTs que atuem no âmbito da CTEM, tanto estaduais, quanto em comitês de bac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4 Difusão de informações  em recursos hídrico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4.1 - Propor, quando for o caso, consulta pública, por meio dos Comitês de Bacia, sobre documentos a serem propostos para deliberação do CNRH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4.2 - Divulgação, por meio do CNRH, e de outros mecanismos de informação, de projetos ou programas em apreciação que interessem a sociedad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4.3 - Avaliação e proposição da melhoria do acesso público e compreensão das informações em recursos hídricos produzidas pelo CNRH, para a sociedade, para o sistema de ensino e para os Comitês de Bacia Hidrográfica e Conselhos Estaduais, propondo medidas para reforçar este trabalh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178920" y="333360"/>
            <a:ext cx="871380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5.4 Difusão de informações  em recursos hídricos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5.4.4 - Concentrar informações sobre planos e trabalhos correlatos ao objeto da Câmara que estejam sendo realizados no âmbito das entidades representadas  no CNRH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5.4.5 - Avaliação e proposição da melhoria do diálogo entre sociedade e órgãos gestores da Política Nacional de Recursos Hídrico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5.4.6 - Criação de espaço específico para a CTEM, na </a:t>
            </a: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homepage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do CNRH, para contribuições e consultas sobre as discussões que estão ocorrendo no Sistema Nacional de Gerenciamento de Recursos Hídricos, em linguagem acessível a todo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5.4.7 - Avaliação e proposição de programa de comunicação social, visando a divulgação/difusão das discussões que estão ocorrendo no SINGREH, de interesse da socieda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178920" y="333360"/>
            <a:ext cx="871380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5 Fortalecimento da Educação e da Capacitação para o uso sustentável dos recursos hídr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5.1 Estabelecer articulação com a CTCT e propor sua participação nas definições sobre  ações de educação e capacitação a serem desenvolvidas no âmbito do programa de otimização do uso eficiente da água  do MCT/MI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5.2 Propor e apoiar ações educativas e de capacitação para projetos públicos de irrigação, em conjunto com a CTCT, com vistas a colaborar com o desenvolvimento  sustentável por meio da otimização do uso dos recursos hídric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8T23:48:50Z</dcterms:created>
  <dc:creator>Bruno</dc:creator>
  <dc:description/>
  <dc:language>en-US</dc:language>
  <cp:lastModifiedBy>SRH</cp:lastModifiedBy>
  <dcterms:modified xsi:type="dcterms:W3CDTF">2004-12-14T11:02:33Z</dcterms:modified>
  <cp:revision>6</cp:revision>
  <dc:subject/>
  <dc:title>CONSELHO NACIONAL DE RECURSOS HÍDRICOS Câmara Técnica de Educação, Capacitação, Mobilização Social e Informação em Recursos Hídricos - CTEM </dc:title>
</cp:coreProperties>
</file>