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F87-7782-4F2B-B29E-27E7F3BB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091-199C-401B-A82D-FCBB6DA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A0C-EA1A-4D48-A8AB-4BA653F6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51B-34B6-407D-B131-A101A11F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4FC-F63E-44FA-8BB7-B5C31BA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6B1-0A05-4AC9-95E2-504C355B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8F9-DC04-4F48-94D4-489CA99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B34-D8EB-46A3-A618-553685F5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77A-D92D-4386-87BB-74673CAF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F02-3BC5-44AE-AA88-EC714A31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143-1DD4-4D43-9D86-625C4BF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428-775A-4EEA-9F8B-49D4939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846-629F-41EC-B2FE-1D49B73C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âmara Técnica de Educação, Capacitação, Mobilização Social e Informação em Recursos Hídricos - C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no de Trabalho 2004 -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rasília, setembro a dezembro 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issão de Redação 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o Gonzaga Agapito da Ve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 da Glória Almeida Teix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nica B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a Paula Ferrreira Laranj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aya Damas de Oliveira Modae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io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bio  Lavor Teix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380880"/>
            <a:ext cx="799128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 de Trabalho - Base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go 26 do Regimento Interno do Conselho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ção nº 39 de 26 de março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ituição Federal,  Artigo 225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Nacional de Recursos Hídricos (Lei nº 9.433/9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de Diretrizes e Bases da Educação Nacional (Lei nº 9.394/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Nacional de Educação Ambiental (Lei nº 9795/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Nacional de Educação Ambiental (ProN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nº 10.650/2003  de acesso público aos dados e inform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atinoamericano e Caribenho de Educação Ambiental (Iniciativa da América Latina e Caribe para o Desenvolvimento Sustentáv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9912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 Programação de Atividades - 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resentar à CTEM a proposta do Plano de Trabalho - 2004/05 para discussão, análise, aprovação e hierarquização de atividades para o exercíci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ção de Atividades –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ompanhamento do Plano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Estabelecer articulação com a CTPNR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à CTPNRH a sua contribuição no sentido de acompanhar o processo de mobilização do Plano e as reuniões das Comissões Executivas Regionais nas 12 Regiõe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713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  Fortalecimento da sociedade para implementação da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stimular, apoiar e promover ações coordenadas que visem o fortalecimento dos Comitês de Bacia Hidrográ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por diretrizes, planos e programa de educação continuada para Comitês de Bacia Hidrográfica (poder público, setores usuários e sociedade civi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a participação em redes de parcerias com instituições nacionais, regionais e internacionais do setor água, que visam o desenvolvimento de capacidades para a realização dos Objetivos de Desenvolvimento do Milênio, em particular os relacionados à água e sane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por (ou sugerir/incentivar) a criação de câmaras técnicas e/ou GTs voltados para os temas da CTEM nos comitês de bacia hidrográfica que não tenham essa atuação, de forma que a educação, capacitação, mobilização social e informação em recursos hídricos possam permear as ações e decisões desses colegi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  Fortalecimento da sociedade para implementação da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mecanismos de articulação para o fortalecimento da participação da  Sociedade Civil Organizada no SINGRE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diretrizes para elaboração de programa de apoio à mobilização social para gestão dos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Discutir e propor formas de apoiar, inclusive financeiramente (Fundos) a participação permanente e sistemática da sociedade civil organizadas em reuniões dos órgãos do SINGREH e especialmente no CNRH e suas Câmaras Técn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comendar a Incorporação da questão de eqüidade de gênero no SINGRE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comendar a criação de Programa de apoio à capacitação para a gestã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Apoio aos Conselhos Estaduais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.1 Articulação com os CERHs para fortalecimento e/ou criação de câmaras e GTs que atuem no âmbito da CTEM, tanto estaduais, quanto em comitês de b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4 Difusão de informações  em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1 - Propor, quando for o caso, consulta pública, por meio dos Comitês de Bacia, sobre documentos a serem propostos para deliberação do CNR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2 - Divulgação, por meio do CNRH, e de outros mecanismos de informação, de projetos ou programas em apreciação que interessem a socie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3 - Avaliação e proposição da melhoria do acesso público e compreensão das informações em recursos hídricos produzidas pelo CNRH, para a sociedade, para o sistema de ensino e para os Comitês de Bacia Hidrográfica e Conselhos Estaduais, propondo medidas para reforçar este trabalh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.4 Difusão de informações  em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4 - Concentrar informações sobre planos e trabalhos correlatos ao objeto da Câmara que estejam sendo realizados no âmbito das entidades representadas  no CNR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5 - Avaliação e proposição da melhoria do diálogo entre sociedade e órgãos gestores da Política Nacional de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6 - Criação de espaço específico para a CTEM, n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omepa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CNRH, para contribuições e consultas sobre as discussões que estão ocorrendo no Sistema Nacional de Gerenciamento de Recursos Hídricos, em linguagem acessível a to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7 - Avaliação e proposição de programa de comunicação social, visando a divulgação/difusão das discussões que estão ocorrendo no SINGREH, de interesse da socie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5 Fortalecimento da Educação e da Capacitação para o uso sustentável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.1 Estabelecer articulação com a CTCT e propor sua participação nas definições sobre  ações de educação e capacitação a serem desenvolvidas no âmbito do programa de otimização do uso eficiente da água  do MCT/M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.2 Propor e apoiar ações educativas e de capacitação para projetos públicos de irrigação, em conjunto com a CTCT, com vistas a colaborar com o desenvolvimento  sustentável por meio da otimização d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23:48:50Z</dcterms:created>
  <dc:creator>Bruno</dc:creator>
  <dc:description/>
  <dc:language>en-US</dc:language>
  <cp:lastModifiedBy>SRH</cp:lastModifiedBy>
  <dcterms:modified xsi:type="dcterms:W3CDTF">2004-12-14T11:02:33Z</dcterms:modified>
  <cp:revision>6</cp:revision>
  <dc:subject/>
  <dc:title>CONSELHO NACIONAL DE RECURSOS HÍDRICOS Câmara Técnica de Educação, Capacitação, Mobilização Social e Informação em Recursos Hídricos - CTEM </dc:title>
</cp:coreProperties>
</file>