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970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i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4CE249-EA3E-43E2-B6BC-262EED12508F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E3692E-9A15-4786-91E9-9A5917D43B4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B67198-A67C-44F3-A296-CB3B6A3A59F2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76D88-E1A2-43B7-AFE3-2F671CBEF8CD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04F9E-BB67-4DD5-8A69-F6086D3A6E8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5BBBD5-52EF-48B2-B414-DB4FFE8C5B1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550C17-57D7-4F3F-A1F8-EB9500475401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9DBB30-E2BA-4B4D-B15F-9C17E9B86C8A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68B45C-76D1-4114-8383-765D46A826C3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390A6A-957E-46F7-BEB8-E45926267B57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D1CAD6-1BB7-4586-B871-807D2CD50E5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97029F-772C-43FC-A4CE-BA185A12CE92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22FE8E-2F0E-4673-AF4F-616023A4466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CBA2B-C91C-4ABF-B090-F6E87A3EEEA1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74093-256B-48E1-87EA-79C3BF513E4A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F20242-266A-4B21-B32C-C4B6755B9552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19813-C635-49EA-B439-195A8D04B69B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895D4-487E-4695-B792-431E7EE241AD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7C9A11-B430-4181-87E1-931C2CFE7C89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A75D57-25CE-4096-8204-0842C9CC324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251306-145B-464C-BF4E-B389ECC5616F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4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4" descr=""/>
            <p:cNvPicPr/>
            <p:nvPr/>
          </p:nvPicPr>
          <p:blipFill>
            <a:blip r:embed="rId5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5" descr=""/>
            <p:cNvPicPr/>
            <p:nvPr/>
          </p:nvPicPr>
          <p:blipFill>
            <a:blip r:embed="rId6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Período 2006 a 2008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7"/>
          <a:stretch/>
        </p:blipFill>
        <p:spPr>
          <a:xfrm>
            <a:off x="-6480" y="-79200"/>
            <a:ext cx="7047000" cy="101736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28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5.png"/><Relationship Id="rId6" Type="http://schemas.openxmlformats.org/officeDocument/2006/relationships/image" Target="../media/image28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11315880" cy="2643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072440" y="2361960"/>
            <a:ext cx="708156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Forma de Aplicação dos Recursos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Arrecadados com a Cobrança e Avaliação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De Fluxos Financeiros de Repasses dos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Recursos da Cobrança Visando Redução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Da Burocracia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0" y="5072040"/>
            <a:ext cx="9144000" cy="147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4857840"/>
            <a:ext cx="9144000" cy="15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0" y="4859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654120" y="210960"/>
            <a:ext cx="965160" cy="122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6"/>
          <a:stretch/>
        </p:blipFill>
        <p:spPr>
          <a:xfrm>
            <a:off x="3790800" y="179280"/>
            <a:ext cx="1428840" cy="58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7"/>
          <a:stretch/>
        </p:blipFill>
        <p:spPr>
          <a:xfrm>
            <a:off x="7435800" y="360360"/>
            <a:ext cx="102384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8"/>
          <a:stretch/>
        </p:blipFill>
        <p:spPr>
          <a:xfrm>
            <a:off x="2700360" y="1079640"/>
            <a:ext cx="4000320" cy="42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9"/>
          <a:stretch/>
        </p:blipFill>
        <p:spPr>
          <a:xfrm>
            <a:off x="2643120" y="5572080"/>
            <a:ext cx="819360" cy="29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10"/>
          <a:stretch/>
        </p:blipFill>
        <p:spPr>
          <a:xfrm>
            <a:off x="3929040" y="5500800"/>
            <a:ext cx="1336680" cy="78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11"/>
          <a:stretch/>
        </p:blipFill>
        <p:spPr>
          <a:xfrm>
            <a:off x="5857920" y="5643720"/>
            <a:ext cx="59040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2500200" y="6611760"/>
            <a:ext cx="421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io de Janeiro, 14 de agosto de 2008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84 -6 L 0 -0.27874">
                                      <p:cBhvr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3571920" y="3000240"/>
            <a:ext cx="5357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152800" y="1670040"/>
            <a:ext cx="5155920" cy="14144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42920" y="342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Telefene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14760" y="357192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(19) 3437 - 2100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43578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E-mail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643120" y="4429080"/>
            <a:ext cx="50720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-214200" y="528624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Site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143080" y="5429160"/>
            <a:ext cx="600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www.comitepcj.sp.gov.br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9"/>
          <p:cNvGrpSpPr/>
          <p:nvPr/>
        </p:nvGrpSpPr>
        <p:grpSpPr>
          <a:xfrm>
            <a:off x="-428760" y="357120"/>
            <a:ext cx="11869560" cy="1490400"/>
            <a:chOff x="-428760" y="357120"/>
            <a:chExt cx="11869560" cy="1490400"/>
          </a:xfrm>
        </p:grpSpPr>
        <p:pic>
          <p:nvPicPr>
            <p:cNvPr id="351" name="Picture 10" descr=""/>
            <p:cNvPicPr/>
            <p:nvPr/>
          </p:nvPicPr>
          <p:blipFill>
            <a:blip r:embed="rId2"/>
            <a:stretch/>
          </p:blipFill>
          <p:spPr>
            <a:xfrm>
              <a:off x="-358560" y="816840"/>
              <a:ext cx="95911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3"/>
            <a:stretch/>
          </p:blipFill>
          <p:spPr>
            <a:xfrm>
              <a:off x="-356760" y="695520"/>
              <a:ext cx="9590760" cy="8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2" descr=""/>
            <p:cNvPicPr/>
            <p:nvPr/>
          </p:nvPicPr>
          <p:blipFill>
            <a:blip r:embed="rId4"/>
            <a:stretch/>
          </p:blipFill>
          <p:spPr>
            <a:xfrm>
              <a:off x="-428760" y="357120"/>
              <a:ext cx="11869560" cy="14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3" descr=""/>
            <p:cNvPicPr/>
            <p:nvPr/>
          </p:nvPicPr>
          <p:blipFill>
            <a:blip r:embed="rId5"/>
            <a:stretch/>
          </p:blipFill>
          <p:spPr>
            <a:xfrm>
              <a:off x="-210960" y="498240"/>
              <a:ext cx="9591120" cy="12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4" descr=""/>
          <p:cNvPicPr/>
          <p:nvPr/>
        </p:nvPicPr>
        <p:blipFill>
          <a:blip r:embed="rId6"/>
          <a:stretch/>
        </p:blipFill>
        <p:spPr>
          <a:xfrm>
            <a:off x="-79200" y="-96840"/>
            <a:ext cx="7046640" cy="1316160"/>
          </a:xfrm>
          <a:prstGeom prst="rect">
            <a:avLst/>
          </a:prstGeom>
          <a:ln w="0">
            <a:noFill/>
          </a:ln>
        </p:spPr>
      </p:pic>
      <p:sp>
        <p:nvSpPr>
          <p:cNvPr id="356" name="Line 15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Contat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Bacias PCJ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-6480" y="23760"/>
            <a:ext cx="7047000" cy="131148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214200" y="1357200"/>
            <a:ext cx="8072640" cy="485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7"/>
          <a:stretch/>
        </p:blipFill>
        <p:spPr>
          <a:xfrm>
            <a:off x="-23760" y="6076800"/>
            <a:ext cx="57960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76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Fluxo Financeir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225360" y="1420920"/>
            <a:ext cx="2844720" cy="1046160"/>
            <a:chOff x="225360" y="1420920"/>
            <a:chExt cx="2844720" cy="1046160"/>
          </a:xfrm>
        </p:grpSpPr>
        <p:pic>
          <p:nvPicPr>
            <p:cNvPr id="83" name="Picture 9" descr=""/>
            <p:cNvPicPr/>
            <p:nvPr/>
          </p:nvPicPr>
          <p:blipFill>
            <a:blip r:embed="rId5"/>
            <a:stretch/>
          </p:blipFill>
          <p:spPr>
            <a:xfrm>
              <a:off x="225360" y="1420920"/>
              <a:ext cx="28447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0"/>
            <p:cNvSpPr/>
            <p:nvPr/>
          </p:nvSpPr>
          <p:spPr>
            <a:xfrm>
              <a:off x="285480" y="1499760"/>
              <a:ext cx="255096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USUÁRI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Paga o Boleto gerado e emitido pela ANA       (Banco do Brasil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4389480" y="1420920"/>
            <a:ext cx="2400120" cy="857160"/>
            <a:chOff x="4389480" y="1420920"/>
            <a:chExt cx="2400120" cy="857160"/>
          </a:xfrm>
        </p:grpSpPr>
        <p:pic>
          <p:nvPicPr>
            <p:cNvPr id="86" name="Picture 12" descr=""/>
            <p:cNvPicPr/>
            <p:nvPr/>
          </p:nvPicPr>
          <p:blipFill>
            <a:blip r:embed="rId6"/>
            <a:stretch/>
          </p:blipFill>
          <p:spPr>
            <a:xfrm>
              <a:off x="4389480" y="1420920"/>
              <a:ext cx="24001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3"/>
            <p:cNvSpPr/>
            <p:nvPr/>
          </p:nvSpPr>
          <p:spPr>
            <a:xfrm>
              <a:off x="4500360" y="1499760"/>
              <a:ext cx="211248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ONTA ÚNICA DO GOVERNO FEDERAL – TESOURO NACION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Line 14"/>
          <p:cNvSpPr/>
          <p:nvPr/>
        </p:nvSpPr>
        <p:spPr>
          <a:xfrm flipV="1">
            <a:off x="2857680" y="1927080"/>
            <a:ext cx="1571400" cy="129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4309920" y="2852640"/>
            <a:ext cx="2400480" cy="1005120"/>
            <a:chOff x="4309920" y="2852640"/>
            <a:chExt cx="2400480" cy="1005120"/>
          </a:xfrm>
        </p:grpSpPr>
        <p:pic>
          <p:nvPicPr>
            <p:cNvPr id="90" name="Picture 16" descr=""/>
            <p:cNvPicPr/>
            <p:nvPr/>
          </p:nvPicPr>
          <p:blipFill>
            <a:blip r:embed="rId7"/>
            <a:stretch/>
          </p:blipFill>
          <p:spPr>
            <a:xfrm>
              <a:off x="4309920" y="2852640"/>
              <a:ext cx="24004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7"/>
            <p:cNvSpPr/>
            <p:nvPr/>
          </p:nvSpPr>
          <p:spPr>
            <a:xfrm>
              <a:off x="4428720" y="2928600"/>
              <a:ext cx="2103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NA: Os valores são contabilizados na fonte 116 do Orçamento Geral da União (OGU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Line 18"/>
          <p:cNvSpPr/>
          <p:nvPr/>
        </p:nvSpPr>
        <p:spPr>
          <a:xfrm>
            <a:off x="1500120" y="2428920"/>
            <a:ext cx="1800" cy="785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4438800" y="4395960"/>
            <a:ext cx="2241360" cy="960120"/>
            <a:chOff x="4438800" y="4395960"/>
            <a:chExt cx="2241360" cy="960120"/>
          </a:xfrm>
        </p:grpSpPr>
        <p:pic>
          <p:nvPicPr>
            <p:cNvPr id="94" name="Picture 20" descr=""/>
            <p:cNvPicPr/>
            <p:nvPr/>
          </p:nvPicPr>
          <p:blipFill>
            <a:blip r:embed="rId8"/>
            <a:stretch/>
          </p:blipFill>
          <p:spPr>
            <a:xfrm>
              <a:off x="4438800" y="4395960"/>
              <a:ext cx="2241360" cy="9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1"/>
            <p:cNvSpPr/>
            <p:nvPr/>
          </p:nvSpPr>
          <p:spPr>
            <a:xfrm>
              <a:off x="4500360" y="4428720"/>
              <a:ext cx="2122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GÊNCIA DE ÁGUA PCJ -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ontrato de Gestão 030/2005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22"/>
          <p:cNvGrpSpPr/>
          <p:nvPr/>
        </p:nvGrpSpPr>
        <p:grpSpPr>
          <a:xfrm>
            <a:off x="1584360" y="5924520"/>
            <a:ext cx="1693800" cy="646200"/>
            <a:chOff x="1584360" y="5924520"/>
            <a:chExt cx="1693800" cy="646200"/>
          </a:xfrm>
        </p:grpSpPr>
        <p:pic>
          <p:nvPicPr>
            <p:cNvPr id="97" name="Picture 23" descr=""/>
            <p:cNvPicPr/>
            <p:nvPr/>
          </p:nvPicPr>
          <p:blipFill>
            <a:blip r:embed="rId9"/>
            <a:stretch/>
          </p:blipFill>
          <p:spPr>
            <a:xfrm>
              <a:off x="1584360" y="5924520"/>
              <a:ext cx="16938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4"/>
            <p:cNvSpPr/>
            <p:nvPr/>
          </p:nvSpPr>
          <p:spPr>
            <a:xfrm>
              <a:off x="1642680" y="6000480"/>
              <a:ext cx="15224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ONTRATAÇÃO DE PESSO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4438800" y="5992920"/>
            <a:ext cx="2179440" cy="687240"/>
            <a:chOff x="4438800" y="5992920"/>
            <a:chExt cx="2179440" cy="687240"/>
          </a:xfrm>
        </p:grpSpPr>
        <p:pic>
          <p:nvPicPr>
            <p:cNvPr id="100" name="Picture 26" descr=""/>
            <p:cNvPicPr/>
            <p:nvPr/>
          </p:nvPicPr>
          <p:blipFill>
            <a:blip r:embed="rId10"/>
            <a:stretch/>
          </p:blipFill>
          <p:spPr>
            <a:xfrm>
              <a:off x="4438800" y="5992920"/>
              <a:ext cx="21794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7"/>
            <p:cNvSpPr/>
            <p:nvPr/>
          </p:nvSpPr>
          <p:spPr>
            <a:xfrm>
              <a:off x="4500360" y="6071760"/>
              <a:ext cx="20365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QUISIÇÃO DE BENS E SERVIÇ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28"/>
          <p:cNvGrpSpPr/>
          <p:nvPr/>
        </p:nvGrpSpPr>
        <p:grpSpPr>
          <a:xfrm>
            <a:off x="7265880" y="5992920"/>
            <a:ext cx="1857600" cy="650880"/>
            <a:chOff x="7265880" y="5992920"/>
            <a:chExt cx="1857600" cy="650880"/>
          </a:xfrm>
        </p:grpSpPr>
        <p:pic>
          <p:nvPicPr>
            <p:cNvPr id="103" name="Picture 29" descr=""/>
            <p:cNvPicPr/>
            <p:nvPr/>
          </p:nvPicPr>
          <p:blipFill>
            <a:blip r:embed="rId11"/>
            <a:stretch/>
          </p:blipFill>
          <p:spPr>
            <a:xfrm>
              <a:off x="7265880" y="5992920"/>
              <a:ext cx="18576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0"/>
            <p:cNvSpPr/>
            <p:nvPr/>
          </p:nvSpPr>
          <p:spPr>
            <a:xfrm>
              <a:off x="7357680" y="6071760"/>
              <a:ext cx="15987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REPASSES PARA OS EMPREENDIMENT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31"/>
          <p:cNvSpPr/>
          <p:nvPr/>
        </p:nvSpPr>
        <p:spPr>
          <a:xfrm flipV="1">
            <a:off x="2428920" y="5570280"/>
            <a:ext cx="5800680" cy="12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 flipV="1">
            <a:off x="8215200" y="5570280"/>
            <a:ext cx="9720" cy="4791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6286680" y="2214720"/>
            <a:ext cx="1440" cy="690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4714920" y="2214720"/>
            <a:ext cx="1440" cy="69048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5"/>
          <p:cNvSpPr/>
          <p:nvPr/>
        </p:nvSpPr>
        <p:spPr>
          <a:xfrm flipH="1" flipV="1">
            <a:off x="1498320" y="3213000"/>
            <a:ext cx="2879640" cy="129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V="1">
            <a:off x="2428920" y="5570640"/>
            <a:ext cx="1440" cy="4413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3143160" y="2428920"/>
            <a:ext cx="1428840" cy="42876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Pede liberação 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6357960" y="2428920"/>
            <a:ext cx="928800" cy="28584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Libera</a:t>
            </a:r>
            <a:r>
              <a:rPr b="1" i="1" lang="en-GB" sz="12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2928960" y="3929040"/>
            <a:ext cx="1609560" cy="428760"/>
          </a:xfrm>
          <a:prstGeom prst="rect">
            <a:avLst/>
          </a:prstGeom>
          <a:solidFill>
            <a:srgbClr val="f2f2f2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Atingimento de Metas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6429240" y="4000680"/>
            <a:ext cx="1257480" cy="2203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Transfere 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3500280" y="150012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>
            <a:off x="6143760" y="3786120"/>
            <a:ext cx="1440" cy="6429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3"/>
          <p:cNvSpPr/>
          <p:nvPr/>
        </p:nvSpPr>
        <p:spPr>
          <a:xfrm>
            <a:off x="4929120" y="3786120"/>
            <a:ext cx="1800" cy="6429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4"/>
          <p:cNvSpPr/>
          <p:nvPr/>
        </p:nvSpPr>
        <p:spPr>
          <a:xfrm>
            <a:off x="5572080" y="5286240"/>
            <a:ext cx="1800" cy="7858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5" descr=""/>
          <p:cNvPicPr/>
          <p:nvPr/>
        </p:nvPicPr>
        <p:blipFill>
          <a:blip r:embed="rId12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Projet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401760" y="1390680"/>
            <a:ext cx="8864640" cy="88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9501120" y="250020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eríodo de inscrição para os projetos, inseridos nos PDC’s do Plano de Recursos Hídric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9501120" y="3071880"/>
            <a:ext cx="6572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eríodo de pré-inscrição, projetos são previamente avaliad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9572760" y="385776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Os projetos aprovados são aqueles que possuem CND’s, licenças ambientais, entre outra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572760" y="457200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rojetos contemplados são encaminhados para assinatura junto aos agentes financeir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9572760" y="5286240"/>
            <a:ext cx="6215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Os Comitês PCJ somam os recursos do FEHIDRO e das Cobranças PCJ e promovem a distribuição conjunta, com as mesmas regras e critéri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7"/>
          <a:stretch/>
        </p:blipFill>
        <p:spPr>
          <a:xfrm>
            <a:off x="-2160720" y="2278080"/>
            <a:ext cx="4157640" cy="312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8"/>
          <a:stretch/>
        </p:blipFill>
        <p:spPr>
          <a:xfrm>
            <a:off x="-1800360" y="2879640"/>
            <a:ext cx="428004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9"/>
          <a:stretch/>
        </p:blipFill>
        <p:spPr>
          <a:xfrm>
            <a:off x="-1619280" y="3959280"/>
            <a:ext cx="4309920" cy="3225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9501120" y="614376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A execução dos empreendimentos é acompanhada por um Agente Técnic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-0.08997 L -0.7724 -0.08997 E">
                                      <p:cBhvr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0.09829 L -0.76858 0.09829 E">
                                      <p:cBhvr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0.00555 L -0.77639 0.00555 E">
                                      <p:cBhvr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0.00625 L -0.77639 0.00625 E">
                                      <p:cBhvr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-0.00787 L -0.77639 -0.00787 E">
                                      <p:cBhvr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01295 L -0.76858 -0.01295 E">
                                      <p:cBhvr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39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Recurs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603360" y="1298520"/>
            <a:ext cx="8547120" cy="622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"/>
          <p:cNvGrpSpPr/>
          <p:nvPr/>
        </p:nvGrpSpPr>
        <p:grpSpPr>
          <a:xfrm>
            <a:off x="652320" y="2036880"/>
            <a:ext cx="8045640" cy="820800"/>
            <a:chOff x="652320" y="2036880"/>
            <a:chExt cx="8045640" cy="820800"/>
          </a:xfrm>
        </p:grpSpPr>
        <p:pic>
          <p:nvPicPr>
            <p:cNvPr id="148" name="Picture 11" descr=""/>
            <p:cNvPicPr/>
            <p:nvPr/>
          </p:nvPicPr>
          <p:blipFill>
            <a:blip r:embed="rId7"/>
            <a:stretch/>
          </p:blipFill>
          <p:spPr>
            <a:xfrm>
              <a:off x="652320" y="2036880"/>
              <a:ext cx="8045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2"/>
            <p:cNvSpPr/>
            <p:nvPr/>
          </p:nvSpPr>
          <p:spPr>
            <a:xfrm>
              <a:off x="740880" y="2098440"/>
              <a:ext cx="787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13" descr=""/>
          <p:cNvPicPr/>
          <p:nvPr/>
        </p:nvPicPr>
        <p:blipFill>
          <a:blip r:embed="rId8"/>
          <a:stretch/>
        </p:blipFill>
        <p:spPr>
          <a:xfrm>
            <a:off x="4383000" y="2755800"/>
            <a:ext cx="37800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"/>
          <p:cNvPicPr/>
          <p:nvPr/>
        </p:nvPicPr>
        <p:blipFill>
          <a:blip r:embed="rId9"/>
          <a:stretch/>
        </p:blipFill>
        <p:spPr>
          <a:xfrm>
            <a:off x="853920" y="2146320"/>
            <a:ext cx="75837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5"/>
          <p:cNvGrpSpPr/>
          <p:nvPr/>
        </p:nvGrpSpPr>
        <p:grpSpPr>
          <a:xfrm>
            <a:off x="725400" y="3176640"/>
            <a:ext cx="7685280" cy="1679400"/>
            <a:chOff x="725400" y="3176640"/>
            <a:chExt cx="7685280" cy="1679400"/>
          </a:xfrm>
        </p:grpSpPr>
        <p:pic>
          <p:nvPicPr>
            <p:cNvPr id="153" name="Picture 16" descr=""/>
            <p:cNvPicPr/>
            <p:nvPr/>
          </p:nvPicPr>
          <p:blipFill>
            <a:blip r:embed="rId10"/>
            <a:stretch/>
          </p:blipFill>
          <p:spPr>
            <a:xfrm>
              <a:off x="725400" y="3176640"/>
              <a:ext cx="768528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7"/>
            <p:cNvSpPr/>
            <p:nvPr/>
          </p:nvSpPr>
          <p:spPr>
            <a:xfrm>
              <a:off x="844200" y="3273120"/>
              <a:ext cx="7453440" cy="14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" name="Picture 18" descr=""/>
          <p:cNvPicPr/>
          <p:nvPr/>
        </p:nvPicPr>
        <p:blipFill>
          <a:blip r:embed="rId11"/>
          <a:stretch/>
        </p:blipFill>
        <p:spPr>
          <a:xfrm>
            <a:off x="920880" y="3286080"/>
            <a:ext cx="7156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12"/>
          <a:stretch/>
        </p:blipFill>
        <p:spPr>
          <a:xfrm>
            <a:off x="4383000" y="4754520"/>
            <a:ext cx="378000" cy="6764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20"/>
          <p:cNvGrpSpPr/>
          <p:nvPr/>
        </p:nvGrpSpPr>
        <p:grpSpPr>
          <a:xfrm>
            <a:off x="1079640" y="5175360"/>
            <a:ext cx="7191360" cy="1541520"/>
            <a:chOff x="1079640" y="5175360"/>
            <a:chExt cx="7191360" cy="1541520"/>
          </a:xfrm>
        </p:grpSpPr>
        <p:pic>
          <p:nvPicPr>
            <p:cNvPr id="158" name="Picture 21" descr=""/>
            <p:cNvPicPr/>
            <p:nvPr/>
          </p:nvPicPr>
          <p:blipFill>
            <a:blip r:embed="rId13"/>
            <a:stretch/>
          </p:blipFill>
          <p:spPr>
            <a:xfrm>
              <a:off x="1079640" y="5175360"/>
              <a:ext cx="7191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2"/>
            <p:cNvSpPr/>
            <p:nvPr/>
          </p:nvSpPr>
          <p:spPr>
            <a:xfrm>
              <a:off x="1196640" y="5268600"/>
              <a:ext cx="696276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Picture 23" descr=""/>
          <p:cNvPicPr/>
          <p:nvPr/>
        </p:nvPicPr>
        <p:blipFill>
          <a:blip r:embed="rId14"/>
          <a:stretch/>
        </p:blipFill>
        <p:spPr>
          <a:xfrm>
            <a:off x="1066680" y="5218200"/>
            <a:ext cx="695484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579600" y="633240"/>
            <a:ext cx="2668320" cy="723960"/>
            <a:chOff x="579600" y="633240"/>
            <a:chExt cx="2668320" cy="72396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579600" y="633240"/>
              <a:ext cx="26683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642600" y="713880"/>
              <a:ext cx="255096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Agência PCJ envia todos os documentos recebidos dos Comitês à CEF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5224320" y="1633680"/>
            <a:ext cx="3490920" cy="796680"/>
            <a:chOff x="5224320" y="1633680"/>
            <a:chExt cx="3490920" cy="796680"/>
          </a:xfrm>
        </p:grpSpPr>
        <p:pic>
          <p:nvPicPr>
            <p:cNvPr id="166" name="Picture 6" descr=""/>
            <p:cNvPicPr/>
            <p:nvPr/>
          </p:nvPicPr>
          <p:blipFill>
            <a:blip r:embed="rId2"/>
            <a:stretch/>
          </p:blipFill>
          <p:spPr>
            <a:xfrm>
              <a:off x="5224320" y="1633680"/>
              <a:ext cx="349092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7"/>
            <p:cNvSpPr/>
            <p:nvPr/>
          </p:nvSpPr>
          <p:spPr>
            <a:xfrm>
              <a:off x="5285880" y="1714320"/>
              <a:ext cx="335592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ontrato inicia a execução do trabalho e comunica CEF quando da finalização da 1º etapa (medição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476280" y="1494000"/>
            <a:ext cx="3319560" cy="936360"/>
            <a:chOff x="476280" y="1494000"/>
            <a:chExt cx="3319560" cy="936360"/>
          </a:xfrm>
        </p:grpSpPr>
        <p:pic>
          <p:nvPicPr>
            <p:cNvPr id="169" name="Picture 9" descr=""/>
            <p:cNvPicPr/>
            <p:nvPr/>
          </p:nvPicPr>
          <p:blipFill>
            <a:blip r:embed="rId3"/>
            <a:stretch/>
          </p:blipFill>
          <p:spPr>
            <a:xfrm>
              <a:off x="476280" y="1494000"/>
              <a:ext cx="331956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0"/>
            <p:cNvSpPr/>
            <p:nvPr/>
          </p:nvSpPr>
          <p:spPr>
            <a:xfrm>
              <a:off x="571320" y="1571400"/>
              <a:ext cx="3070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– Redur recebe a documentação, solicita complementações referentes à lei de responsabilidade fiscal -CAUC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Line 11"/>
          <p:cNvSpPr/>
          <p:nvPr/>
        </p:nvSpPr>
        <p:spPr>
          <a:xfrm flipH="1">
            <a:off x="1069920" y="285768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365040" y="6138720"/>
            <a:ext cx="3760920" cy="578160"/>
            <a:chOff x="365040" y="6138720"/>
            <a:chExt cx="3760920" cy="578160"/>
          </a:xfrm>
        </p:grpSpPr>
        <p:pic>
          <p:nvPicPr>
            <p:cNvPr id="173" name="Picture 13" descr=""/>
            <p:cNvPicPr/>
            <p:nvPr/>
          </p:nvPicPr>
          <p:blipFill>
            <a:blip r:embed="rId4"/>
            <a:stretch/>
          </p:blipFill>
          <p:spPr>
            <a:xfrm>
              <a:off x="365040" y="6138720"/>
              <a:ext cx="376092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4"/>
            <p:cNvSpPr/>
            <p:nvPr/>
          </p:nvSpPr>
          <p:spPr>
            <a:xfrm>
              <a:off x="428400" y="6214680"/>
              <a:ext cx="364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Tomador realiza licitação envia documentos para 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579600" y="3139920"/>
            <a:ext cx="1960560" cy="576360"/>
            <a:chOff x="579600" y="3139920"/>
            <a:chExt cx="1960560" cy="576360"/>
          </a:xfrm>
        </p:grpSpPr>
        <p:pic>
          <p:nvPicPr>
            <p:cNvPr id="176" name="Picture 16" descr=""/>
            <p:cNvPicPr/>
            <p:nvPr/>
          </p:nvPicPr>
          <p:blipFill>
            <a:blip r:embed="rId5"/>
            <a:stretch/>
          </p:blipFill>
          <p:spPr>
            <a:xfrm>
              <a:off x="579600" y="3139920"/>
              <a:ext cx="1960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7"/>
            <p:cNvSpPr/>
            <p:nvPr/>
          </p:nvSpPr>
          <p:spPr>
            <a:xfrm>
              <a:off x="642600" y="3214440"/>
              <a:ext cx="17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Assina contrato com clausula suspensiva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6640" y="3852720"/>
            <a:ext cx="3102120" cy="790560"/>
            <a:chOff x="566640" y="3852720"/>
            <a:chExt cx="3102120" cy="790560"/>
          </a:xfrm>
        </p:grpSpPr>
        <p:pic>
          <p:nvPicPr>
            <p:cNvPr id="179" name="Picture 19" descr=""/>
            <p:cNvPicPr/>
            <p:nvPr/>
          </p:nvPicPr>
          <p:blipFill>
            <a:blip r:embed="rId6"/>
            <a:stretch/>
          </p:blipFill>
          <p:spPr>
            <a:xfrm>
              <a:off x="566640" y="3852720"/>
              <a:ext cx="31021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0"/>
            <p:cNvSpPr/>
            <p:nvPr/>
          </p:nvSpPr>
          <p:spPr>
            <a:xfrm>
              <a:off x="642600" y="3928680"/>
              <a:ext cx="292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Redur solicita a analisa documentos técnicos (plano de trabalho e planilha orçament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69800" y="5353200"/>
            <a:ext cx="3137040" cy="649080"/>
            <a:chOff x="469800" y="5353200"/>
            <a:chExt cx="3137040" cy="649080"/>
          </a:xfrm>
        </p:grpSpPr>
        <p:pic>
          <p:nvPicPr>
            <p:cNvPr id="182" name="Picture 22" descr=""/>
            <p:cNvPicPr/>
            <p:nvPr/>
          </p:nvPicPr>
          <p:blipFill>
            <a:blip r:embed="rId7"/>
            <a:stretch/>
          </p:blipFill>
          <p:spPr>
            <a:xfrm>
              <a:off x="469800" y="5353200"/>
              <a:ext cx="31370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23"/>
            <p:cNvSpPr/>
            <p:nvPr/>
          </p:nvSpPr>
          <p:spPr>
            <a:xfrm>
              <a:off x="571320" y="5428800"/>
              <a:ext cx="285588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Redur Autoriza o tomador a fazer licitaçã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Line 24"/>
          <p:cNvSpPr/>
          <p:nvPr/>
        </p:nvSpPr>
        <p:spPr>
          <a:xfrm>
            <a:off x="1071720" y="285768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2428920" y="2357280"/>
            <a:ext cx="1440" cy="50040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357120" y="2928960"/>
            <a:ext cx="642960" cy="21420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Sim</a:t>
            </a:r>
            <a:r>
              <a:rPr b="1" i="1" lang="en-GB" sz="10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1714680" y="128592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4071960" y="6429240"/>
            <a:ext cx="428760" cy="1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1714680" y="235728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1225440" y="2610000"/>
            <a:ext cx="1040040" cy="533160"/>
            <a:chOff x="1225440" y="2610000"/>
            <a:chExt cx="1040040" cy="533160"/>
          </a:xfrm>
        </p:grpSpPr>
        <p:pic>
          <p:nvPicPr>
            <p:cNvPr id="191" name="Picture 31" descr=""/>
            <p:cNvPicPr/>
            <p:nvPr/>
          </p:nvPicPr>
          <p:blipFill>
            <a:blip r:embed="rId8"/>
            <a:stretch/>
          </p:blipFill>
          <p:spPr>
            <a:xfrm>
              <a:off x="1225440" y="2610000"/>
              <a:ext cx="10400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2"/>
            <p:cNvSpPr/>
            <p:nvPr/>
          </p:nvSpPr>
          <p:spPr>
            <a:xfrm>
              <a:off x="1517040" y="2748960"/>
              <a:ext cx="46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33"/>
          <p:cNvSpPr/>
          <p:nvPr/>
        </p:nvSpPr>
        <p:spPr>
          <a:xfrm>
            <a:off x="1428840" y="27147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Facit"/>
              </a:rPr>
              <a:t>Atende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 flipH="1">
            <a:off x="2212920" y="285768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1785960" y="2500200"/>
            <a:ext cx="500040" cy="1429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Não</a:t>
            </a:r>
            <a:r>
              <a:rPr b="1" i="1" lang="en-GB" sz="1000" spc="-1" strike="noStrike">
                <a:solidFill>
                  <a:srgbClr val="c0000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000080" y="364320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7"/>
          <p:cNvSpPr/>
          <p:nvPr/>
        </p:nvSpPr>
        <p:spPr>
          <a:xfrm flipH="1">
            <a:off x="927000" y="507204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928800" y="507204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9"/>
          <p:cNvSpPr/>
          <p:nvPr/>
        </p:nvSpPr>
        <p:spPr>
          <a:xfrm>
            <a:off x="2286000" y="4572000"/>
            <a:ext cx="1440" cy="50004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1571760" y="457200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41"/>
          <p:cNvGrpSpPr/>
          <p:nvPr/>
        </p:nvGrpSpPr>
        <p:grpSpPr>
          <a:xfrm>
            <a:off x="1079640" y="4821120"/>
            <a:ext cx="1046160" cy="534960"/>
            <a:chOff x="1079640" y="4821120"/>
            <a:chExt cx="1046160" cy="534960"/>
          </a:xfrm>
        </p:grpSpPr>
        <p:pic>
          <p:nvPicPr>
            <p:cNvPr id="202" name="Picture 42" descr=""/>
            <p:cNvPicPr/>
            <p:nvPr/>
          </p:nvPicPr>
          <p:blipFill>
            <a:blip r:embed="rId9"/>
            <a:stretch/>
          </p:blipFill>
          <p:spPr>
            <a:xfrm>
              <a:off x="1079640" y="4821120"/>
              <a:ext cx="10461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3"/>
            <p:cNvSpPr/>
            <p:nvPr/>
          </p:nvSpPr>
          <p:spPr>
            <a:xfrm>
              <a:off x="1374120" y="4965120"/>
              <a:ext cx="46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44"/>
          <p:cNvSpPr/>
          <p:nvPr/>
        </p:nvSpPr>
        <p:spPr>
          <a:xfrm>
            <a:off x="1285920" y="492912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Facit"/>
              </a:rPr>
              <a:t>Atende</a:t>
            </a:r>
            <a:endParaRPr b="1" i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45"/>
          <p:cNvSpPr/>
          <p:nvPr/>
        </p:nvSpPr>
        <p:spPr>
          <a:xfrm flipH="1">
            <a:off x="2070000" y="507204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643040" y="4643280"/>
            <a:ext cx="500040" cy="1429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Não</a:t>
            </a:r>
            <a:r>
              <a:rPr b="1" i="1" lang="en-GB" sz="1000" spc="-1" strike="noStrike">
                <a:solidFill>
                  <a:srgbClr val="c0000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285840" y="5143680"/>
            <a:ext cx="571320" cy="14256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Sim</a:t>
            </a:r>
            <a:r>
              <a:rPr b="1" i="1" lang="en-GB" sz="10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AutoShape 48"/>
          <p:cNvCxnSpPr/>
          <p:nvPr/>
        </p:nvCxnSpPr>
        <p:spPr>
          <a:xfrm flipH="1">
            <a:off x="999360" y="5929200"/>
            <a:ext cx="252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209" name="Picture 49" descr=""/>
          <p:cNvPicPr/>
          <p:nvPr/>
        </p:nvPicPr>
        <p:blipFill>
          <a:blip r:embed="rId10"/>
          <a:stretch/>
        </p:blipFill>
        <p:spPr>
          <a:xfrm>
            <a:off x="281160" y="79200"/>
            <a:ext cx="8538840" cy="5860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0"/>
          <p:cNvGrpSpPr/>
          <p:nvPr/>
        </p:nvGrpSpPr>
        <p:grpSpPr>
          <a:xfrm>
            <a:off x="6724800" y="749160"/>
            <a:ext cx="612720" cy="534960"/>
            <a:chOff x="6724800" y="749160"/>
            <a:chExt cx="612720" cy="534960"/>
          </a:xfrm>
        </p:grpSpPr>
        <p:pic>
          <p:nvPicPr>
            <p:cNvPr id="211" name="Picture 51" descr=""/>
            <p:cNvPicPr/>
            <p:nvPr/>
          </p:nvPicPr>
          <p:blipFill>
            <a:blip r:embed="rId11"/>
            <a:stretch/>
          </p:blipFill>
          <p:spPr>
            <a:xfrm>
              <a:off x="6724800" y="749160"/>
              <a:ext cx="6127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2"/>
            <p:cNvSpPr/>
            <p:nvPr/>
          </p:nvSpPr>
          <p:spPr>
            <a:xfrm>
              <a:off x="6859080" y="848880"/>
              <a:ext cx="353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Text Box 53"/>
          <p:cNvSpPr/>
          <p:nvPr/>
        </p:nvSpPr>
        <p:spPr>
          <a:xfrm>
            <a:off x="6858000" y="785880"/>
            <a:ext cx="2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1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7000920" y="1214280"/>
            <a:ext cx="1440" cy="4287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55"/>
          <p:cNvGrpSpPr/>
          <p:nvPr/>
        </p:nvGrpSpPr>
        <p:grpSpPr>
          <a:xfrm>
            <a:off x="4438800" y="6181560"/>
            <a:ext cx="612720" cy="535320"/>
            <a:chOff x="4438800" y="6181560"/>
            <a:chExt cx="612720" cy="535320"/>
          </a:xfrm>
        </p:grpSpPr>
        <p:pic>
          <p:nvPicPr>
            <p:cNvPr id="216" name="Picture 56" descr=""/>
            <p:cNvPicPr/>
            <p:nvPr/>
          </p:nvPicPr>
          <p:blipFill>
            <a:blip r:embed="rId12"/>
            <a:stretch/>
          </p:blipFill>
          <p:spPr>
            <a:xfrm>
              <a:off x="4438800" y="6181560"/>
              <a:ext cx="61272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57"/>
            <p:cNvSpPr/>
            <p:nvPr/>
          </p:nvSpPr>
          <p:spPr>
            <a:xfrm>
              <a:off x="4573080" y="6278040"/>
              <a:ext cx="353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 Box 58"/>
          <p:cNvSpPr/>
          <p:nvPr/>
        </p:nvSpPr>
        <p:spPr>
          <a:xfrm>
            <a:off x="4572000" y="6286680"/>
            <a:ext cx="2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1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59"/>
          <p:cNvSpPr/>
          <p:nvPr/>
        </p:nvSpPr>
        <p:spPr>
          <a:xfrm>
            <a:off x="7072200" y="2357280"/>
            <a:ext cx="1800" cy="357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60"/>
          <p:cNvGrpSpPr/>
          <p:nvPr/>
        </p:nvGrpSpPr>
        <p:grpSpPr>
          <a:xfrm>
            <a:off x="5224320" y="2639880"/>
            <a:ext cx="3473640" cy="790560"/>
            <a:chOff x="5224320" y="2639880"/>
            <a:chExt cx="3473640" cy="790560"/>
          </a:xfrm>
        </p:grpSpPr>
        <p:pic>
          <p:nvPicPr>
            <p:cNvPr id="221" name="Picture 61" descr=""/>
            <p:cNvPicPr/>
            <p:nvPr/>
          </p:nvPicPr>
          <p:blipFill>
            <a:blip r:embed="rId13"/>
            <a:stretch/>
          </p:blipFill>
          <p:spPr>
            <a:xfrm>
              <a:off x="5224320" y="2639880"/>
              <a:ext cx="347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2"/>
            <p:cNvSpPr/>
            <p:nvPr/>
          </p:nvSpPr>
          <p:spPr>
            <a:xfrm>
              <a:off x="5285880" y="2714400"/>
              <a:ext cx="335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EF realiza a medição e caso aprovado envia correspondência a Agência PCJ. Liberando a parcel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Line 63"/>
          <p:cNvSpPr/>
          <p:nvPr/>
        </p:nvSpPr>
        <p:spPr>
          <a:xfrm>
            <a:off x="7072200" y="3357720"/>
            <a:ext cx="180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64"/>
          <p:cNvGrpSpPr/>
          <p:nvPr/>
        </p:nvGrpSpPr>
        <p:grpSpPr>
          <a:xfrm>
            <a:off x="5224320" y="3638520"/>
            <a:ext cx="3533760" cy="792360"/>
            <a:chOff x="5224320" y="3638520"/>
            <a:chExt cx="3533760" cy="792360"/>
          </a:xfrm>
        </p:grpSpPr>
        <p:pic>
          <p:nvPicPr>
            <p:cNvPr id="225" name="Picture 65" descr=""/>
            <p:cNvPicPr/>
            <p:nvPr/>
          </p:nvPicPr>
          <p:blipFill>
            <a:blip r:embed="rId14"/>
            <a:stretch/>
          </p:blipFill>
          <p:spPr>
            <a:xfrm>
              <a:off x="5224320" y="3638520"/>
              <a:ext cx="3533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6"/>
            <p:cNvSpPr/>
            <p:nvPr/>
          </p:nvSpPr>
          <p:spPr>
            <a:xfrm>
              <a:off x="5285880" y="3714480"/>
              <a:ext cx="335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Agência PCJ- Transfere recursos da parcela para a conta do tomador e comunica a CEF e o tomado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67"/>
          <p:cNvGrpSpPr/>
          <p:nvPr/>
        </p:nvGrpSpPr>
        <p:grpSpPr>
          <a:xfrm>
            <a:off x="5151600" y="4638600"/>
            <a:ext cx="3692520" cy="577800"/>
            <a:chOff x="5151600" y="4638600"/>
            <a:chExt cx="3692520" cy="577800"/>
          </a:xfrm>
        </p:grpSpPr>
        <p:pic>
          <p:nvPicPr>
            <p:cNvPr id="228" name="Picture 68" descr=""/>
            <p:cNvPicPr/>
            <p:nvPr/>
          </p:nvPicPr>
          <p:blipFill>
            <a:blip r:embed="rId15"/>
            <a:stretch/>
          </p:blipFill>
          <p:spPr>
            <a:xfrm>
              <a:off x="5151600" y="4638600"/>
              <a:ext cx="3692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69"/>
            <p:cNvSpPr/>
            <p:nvPr/>
          </p:nvSpPr>
          <p:spPr>
            <a:xfrm>
              <a:off x="5285880" y="4714560"/>
              <a:ext cx="33562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Finalizado o contrato. Presta contas a CEF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70"/>
          <p:cNvSpPr/>
          <p:nvPr/>
        </p:nvSpPr>
        <p:spPr>
          <a:xfrm>
            <a:off x="7000920" y="435780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71"/>
          <p:cNvSpPr/>
          <p:nvPr/>
        </p:nvSpPr>
        <p:spPr>
          <a:xfrm>
            <a:off x="7000920" y="514368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72"/>
          <p:cNvGrpSpPr/>
          <p:nvPr/>
        </p:nvGrpSpPr>
        <p:grpSpPr>
          <a:xfrm>
            <a:off x="5151600" y="5425920"/>
            <a:ext cx="3692520" cy="790560"/>
            <a:chOff x="5151600" y="5425920"/>
            <a:chExt cx="3692520" cy="790560"/>
          </a:xfrm>
        </p:grpSpPr>
        <p:pic>
          <p:nvPicPr>
            <p:cNvPr id="233" name="Picture 73" descr=""/>
            <p:cNvPicPr/>
            <p:nvPr/>
          </p:nvPicPr>
          <p:blipFill>
            <a:blip r:embed="rId16"/>
            <a:stretch/>
          </p:blipFill>
          <p:spPr>
            <a:xfrm>
              <a:off x="5151600" y="5425920"/>
              <a:ext cx="36925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4"/>
            <p:cNvSpPr/>
            <p:nvPr/>
          </p:nvSpPr>
          <p:spPr>
            <a:xfrm>
              <a:off x="5285880" y="5500440"/>
              <a:ext cx="335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EF- Após o encerramento do contrato aguarda as auditorias e envia documentos para a Agênci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"/>
          <p:cNvGrpSpPr/>
          <p:nvPr/>
        </p:nvGrpSpPr>
        <p:grpSpPr>
          <a:xfrm>
            <a:off x="1725480" y="1103400"/>
            <a:ext cx="1540080" cy="826920"/>
            <a:chOff x="1725480" y="1103400"/>
            <a:chExt cx="1540080" cy="826920"/>
          </a:xfrm>
        </p:grpSpPr>
        <p:pic>
          <p:nvPicPr>
            <p:cNvPr id="236" name="Picture 2" descr=""/>
            <p:cNvPicPr/>
            <p:nvPr/>
          </p:nvPicPr>
          <p:blipFill>
            <a:blip r:embed="rId1"/>
            <a:stretch/>
          </p:blipFill>
          <p:spPr>
            <a:xfrm>
              <a:off x="1725480" y="1103400"/>
              <a:ext cx="15400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3"/>
            <p:cNvSpPr/>
            <p:nvPr/>
          </p:nvSpPr>
          <p:spPr>
            <a:xfrm>
              <a:off x="1785600" y="1142640"/>
              <a:ext cx="14274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Comitê PCJ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1511280" y="4206960"/>
            <a:ext cx="1254240" cy="796680"/>
            <a:chOff x="1511280" y="4206960"/>
            <a:chExt cx="1254240" cy="79668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1511280" y="4206960"/>
              <a:ext cx="1254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57140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ampin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1725480" y="2109960"/>
            <a:ext cx="1540080" cy="747720"/>
            <a:chOff x="1725480" y="2109960"/>
            <a:chExt cx="1540080" cy="747720"/>
          </a:xfrm>
        </p:grpSpPr>
        <p:pic>
          <p:nvPicPr>
            <p:cNvPr id="242" name="Picture 8" descr=""/>
            <p:cNvPicPr/>
            <p:nvPr/>
          </p:nvPicPr>
          <p:blipFill>
            <a:blip r:embed="rId3"/>
            <a:stretch/>
          </p:blipFill>
          <p:spPr>
            <a:xfrm>
              <a:off x="1725480" y="2109960"/>
              <a:ext cx="15400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1785600" y="214272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gência PCJ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1511280" y="2992320"/>
            <a:ext cx="1900080" cy="577800"/>
            <a:chOff x="1511280" y="2992320"/>
            <a:chExt cx="1900080" cy="577800"/>
          </a:xfrm>
        </p:grpSpPr>
        <p:pic>
          <p:nvPicPr>
            <p:cNvPr id="245" name="Picture 11" descr=""/>
            <p:cNvPicPr/>
            <p:nvPr/>
          </p:nvPicPr>
          <p:blipFill>
            <a:blip r:embed="rId4"/>
            <a:stretch/>
          </p:blipFill>
          <p:spPr>
            <a:xfrm>
              <a:off x="1511280" y="2992320"/>
              <a:ext cx="19000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1571400" y="3071520"/>
              <a:ext cx="1784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CEF Regional Piracicaba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Line 13"/>
          <p:cNvSpPr/>
          <p:nvPr/>
        </p:nvSpPr>
        <p:spPr>
          <a:xfrm>
            <a:off x="2500200" y="185724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357720" y="3286080"/>
            <a:ext cx="1214280" cy="1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500200" y="278604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500200" y="3500280"/>
            <a:ext cx="1800" cy="5004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"/>
          <p:cNvPicPr/>
          <p:nvPr/>
        </p:nvPicPr>
        <p:blipFill>
          <a:blip r:embed="rId5"/>
          <a:stretch/>
        </p:blipFill>
        <p:spPr>
          <a:xfrm>
            <a:off x="281160" y="115920"/>
            <a:ext cx="8538840" cy="822240"/>
          </a:xfrm>
          <a:prstGeom prst="rect">
            <a:avLst/>
          </a:prstGeom>
          <a:ln w="0">
            <a:noFill/>
          </a:ln>
        </p:spPr>
      </p:pic>
      <p:sp>
        <p:nvSpPr>
          <p:cNvPr id="252" name="Line 18"/>
          <p:cNvSpPr/>
          <p:nvPr/>
        </p:nvSpPr>
        <p:spPr>
          <a:xfrm>
            <a:off x="2000160" y="4000680"/>
            <a:ext cx="180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4511520" y="2535120"/>
            <a:ext cx="1686240" cy="1322640"/>
            <a:chOff x="4511520" y="2535120"/>
            <a:chExt cx="1686240" cy="1322640"/>
          </a:xfrm>
        </p:grpSpPr>
        <p:pic>
          <p:nvPicPr>
            <p:cNvPr id="254" name="Picture 20" descr=""/>
            <p:cNvPicPr/>
            <p:nvPr/>
          </p:nvPicPr>
          <p:blipFill>
            <a:blip r:embed="rId6"/>
            <a:stretch/>
          </p:blipFill>
          <p:spPr>
            <a:xfrm>
              <a:off x="4511520" y="2535120"/>
              <a:ext cx="168624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21"/>
            <p:cNvSpPr/>
            <p:nvPr/>
          </p:nvSpPr>
          <p:spPr>
            <a:xfrm>
              <a:off x="4801680" y="2749320"/>
              <a:ext cx="11102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22"/>
          <p:cNvSpPr/>
          <p:nvPr/>
        </p:nvSpPr>
        <p:spPr>
          <a:xfrm>
            <a:off x="4714920" y="2928960"/>
            <a:ext cx="128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Facit"/>
              </a:rPr>
              <a:t>Tomador  “F”</a:t>
            </a:r>
            <a:endParaRPr b="1" i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6215040" y="4000680"/>
            <a:ext cx="144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2938320" y="4206960"/>
            <a:ext cx="1260720" cy="796680"/>
            <a:chOff x="2938320" y="4206960"/>
            <a:chExt cx="1260720" cy="796680"/>
          </a:xfrm>
        </p:grpSpPr>
        <p:pic>
          <p:nvPicPr>
            <p:cNvPr id="259" name="Picture 25" descr=""/>
            <p:cNvPicPr/>
            <p:nvPr/>
          </p:nvPicPr>
          <p:blipFill>
            <a:blip r:embed="rId7"/>
            <a:stretch/>
          </p:blipFill>
          <p:spPr>
            <a:xfrm>
              <a:off x="2938320" y="4206960"/>
              <a:ext cx="126072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6"/>
            <p:cNvSpPr/>
            <p:nvPr/>
          </p:nvSpPr>
          <p:spPr>
            <a:xfrm>
              <a:off x="299988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Jundiaí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Line 27"/>
          <p:cNvSpPr/>
          <p:nvPr/>
        </p:nvSpPr>
        <p:spPr>
          <a:xfrm>
            <a:off x="3500280" y="4000680"/>
            <a:ext cx="180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4438800" y="4206960"/>
            <a:ext cx="1258560" cy="796680"/>
            <a:chOff x="4438800" y="4206960"/>
            <a:chExt cx="1258560" cy="796680"/>
          </a:xfrm>
        </p:grpSpPr>
        <p:pic>
          <p:nvPicPr>
            <p:cNvPr id="263" name="Picture 29" descr=""/>
            <p:cNvPicPr/>
            <p:nvPr/>
          </p:nvPicPr>
          <p:blipFill>
            <a:blip r:embed="rId8"/>
            <a:stretch/>
          </p:blipFill>
          <p:spPr>
            <a:xfrm>
              <a:off x="4438800" y="4206960"/>
              <a:ext cx="125856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30"/>
            <p:cNvSpPr/>
            <p:nvPr/>
          </p:nvSpPr>
          <p:spPr>
            <a:xfrm>
              <a:off x="4500360" y="4285800"/>
              <a:ext cx="1141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São Paul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31"/>
          <p:cNvGrpSpPr/>
          <p:nvPr/>
        </p:nvGrpSpPr>
        <p:grpSpPr>
          <a:xfrm>
            <a:off x="5937120" y="4206960"/>
            <a:ext cx="1413000" cy="796680"/>
            <a:chOff x="5937120" y="4206960"/>
            <a:chExt cx="1413000" cy="796680"/>
          </a:xfrm>
        </p:grpSpPr>
        <p:pic>
          <p:nvPicPr>
            <p:cNvPr id="266" name="Picture 32" descr=""/>
            <p:cNvPicPr/>
            <p:nvPr/>
          </p:nvPicPr>
          <p:blipFill>
            <a:blip r:embed="rId9"/>
            <a:stretch/>
          </p:blipFill>
          <p:spPr>
            <a:xfrm>
              <a:off x="5937120" y="4206960"/>
              <a:ext cx="14130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3"/>
            <p:cNvSpPr/>
            <p:nvPr/>
          </p:nvSpPr>
          <p:spPr>
            <a:xfrm>
              <a:off x="607176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B. Horizonte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Line 34"/>
          <p:cNvSpPr/>
          <p:nvPr/>
        </p:nvSpPr>
        <p:spPr>
          <a:xfrm>
            <a:off x="4857840" y="4000680"/>
            <a:ext cx="144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35"/>
          <p:cNvGrpSpPr/>
          <p:nvPr/>
        </p:nvGrpSpPr>
        <p:grpSpPr>
          <a:xfrm>
            <a:off x="1798560" y="5924520"/>
            <a:ext cx="5538960" cy="792360"/>
            <a:chOff x="1798560" y="5924520"/>
            <a:chExt cx="5538960" cy="792360"/>
          </a:xfrm>
        </p:grpSpPr>
        <p:pic>
          <p:nvPicPr>
            <p:cNvPr id="270" name="Picture 36" descr=""/>
            <p:cNvPicPr/>
            <p:nvPr/>
          </p:nvPicPr>
          <p:blipFill>
            <a:blip r:embed="rId10"/>
            <a:stretch/>
          </p:blipFill>
          <p:spPr>
            <a:xfrm>
              <a:off x="1798560" y="5924520"/>
              <a:ext cx="55389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7"/>
            <p:cNvSpPr/>
            <p:nvPr/>
          </p:nvSpPr>
          <p:spPr>
            <a:xfrm>
              <a:off x="1856880" y="6000480"/>
              <a:ext cx="54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buClr>
                  <a:srgbClr val="25619d"/>
                </a:buClr>
                <a:buFont typeface="Wingdings" charset="2"/>
                <a:buChar char="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– Regionais de Engenharia 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buClr>
                  <a:srgbClr val="25619d"/>
                </a:buClr>
                <a:buFont typeface="Wingdings" charset="2"/>
                <a:buChar char="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 </a:t>
              </a: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 – Gerência de Engenharia da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Line 38"/>
          <p:cNvSpPr/>
          <p:nvPr/>
        </p:nvSpPr>
        <p:spPr>
          <a:xfrm>
            <a:off x="571680" y="4000680"/>
            <a:ext cx="7500600" cy="14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9"/>
          <p:cNvSpPr/>
          <p:nvPr/>
        </p:nvSpPr>
        <p:spPr>
          <a:xfrm flipH="1">
            <a:off x="164124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314136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 flipH="1">
            <a:off x="457020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6143760" y="4929120"/>
            <a:ext cx="144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1571760" y="500076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A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1500120" y="5214960"/>
            <a:ext cx="150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B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300024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C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442908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D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600084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E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692920" cy="1865160"/>
          </a:xfrm>
          <a:prstGeom prst="rect">
            <a:avLst/>
          </a:prstGeom>
          <a:ln w="0">
            <a:noFill/>
          </a:ln>
        </p:spPr>
      </p:pic>
      <p:cxnSp>
        <p:nvCxnSpPr>
          <p:cNvPr id="283" name="AutoShape 2"/>
          <p:cNvCxnSpPr/>
          <p:nvPr/>
        </p:nvCxnSpPr>
        <p:spPr>
          <a:xfrm>
            <a:off x="3285720" y="1214280"/>
            <a:ext cx="2520" cy="5439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AutoShape 3"/>
          <p:cNvSpPr/>
          <p:nvPr/>
        </p:nvSpPr>
        <p:spPr>
          <a:xfrm>
            <a:off x="2428920" y="3000240"/>
            <a:ext cx="214200" cy="2286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48960 h 2286000"/>
              <a:gd name="textAreaBottom" fmla="*/ 2237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3"/>
                  <a:pt x="10800" y="1486"/>
                </a:cubicBezTo>
                <a:lnTo>
                  <a:pt x="10800" y="9314"/>
                </a:lnTo>
                <a:cubicBezTo>
                  <a:pt x="10800" y="10057"/>
                  <a:pt x="5400" y="10800"/>
                  <a:pt x="0" y="10800"/>
                </a:cubicBezTo>
                <a:cubicBezTo>
                  <a:pt x="5400" y="10800"/>
                  <a:pt x="10800" y="11543"/>
                  <a:pt x="10800" y="12286"/>
                </a:cubicBezTo>
                <a:lnTo>
                  <a:pt x="10800" y="20114"/>
                </a:lnTo>
                <a:cubicBezTo>
                  <a:pt x="10800" y="2085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438120" y="3249720"/>
            <a:ext cx="1766880" cy="588960"/>
            <a:chOff x="438120" y="3249720"/>
            <a:chExt cx="1766880" cy="588960"/>
          </a:xfrm>
        </p:grpSpPr>
        <p:pic>
          <p:nvPicPr>
            <p:cNvPr id="286" name="Picture 5" descr=""/>
            <p:cNvPicPr/>
            <p:nvPr/>
          </p:nvPicPr>
          <p:blipFill>
            <a:blip r:embed="rId2"/>
            <a:stretch/>
          </p:blipFill>
          <p:spPr>
            <a:xfrm>
              <a:off x="438120" y="3249720"/>
              <a:ext cx="17668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499680" y="3285720"/>
              <a:ext cx="1641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NALISE TÉCNICA DO PROJET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79600" y="3962520"/>
            <a:ext cx="1412640" cy="588960"/>
            <a:chOff x="579600" y="3962520"/>
            <a:chExt cx="1412640" cy="588960"/>
          </a:xfrm>
        </p:grpSpPr>
        <p:pic>
          <p:nvPicPr>
            <p:cNvPr id="289" name="Picture 8" descr=""/>
            <p:cNvPicPr/>
            <p:nvPr/>
          </p:nvPicPr>
          <p:blipFill>
            <a:blip r:embed="rId3"/>
            <a:stretch/>
          </p:blipFill>
          <p:spPr>
            <a:xfrm>
              <a:off x="579600" y="3962520"/>
              <a:ext cx="1412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642600" y="4000320"/>
              <a:ext cx="12920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TITULARIDADE DE ÁRE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365040" y="4675320"/>
            <a:ext cx="1766880" cy="554040"/>
            <a:chOff x="365040" y="4675320"/>
            <a:chExt cx="1766880" cy="554040"/>
          </a:xfrm>
        </p:grpSpPr>
        <p:pic>
          <p:nvPicPr>
            <p:cNvPr id="292" name="Picture 11" descr=""/>
            <p:cNvPicPr/>
            <p:nvPr/>
          </p:nvPicPr>
          <p:blipFill>
            <a:blip r:embed="rId4"/>
            <a:stretch/>
          </p:blipFill>
          <p:spPr>
            <a:xfrm>
              <a:off x="365040" y="4675320"/>
              <a:ext cx="1766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12"/>
            <p:cNvSpPr/>
            <p:nvPr/>
          </p:nvSpPr>
          <p:spPr>
            <a:xfrm>
              <a:off x="428400" y="4714560"/>
              <a:ext cx="16491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LICENCIAMENTO AMBIENTE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3"/>
          <p:cNvGrpSpPr/>
          <p:nvPr/>
        </p:nvGrpSpPr>
        <p:grpSpPr>
          <a:xfrm>
            <a:off x="579600" y="5748480"/>
            <a:ext cx="1900080" cy="784080"/>
            <a:chOff x="579600" y="5748480"/>
            <a:chExt cx="1900080" cy="784080"/>
          </a:xfrm>
        </p:grpSpPr>
        <p:pic>
          <p:nvPicPr>
            <p:cNvPr id="295" name="Picture 14" descr=""/>
            <p:cNvPicPr/>
            <p:nvPr/>
          </p:nvPicPr>
          <p:blipFill>
            <a:blip r:embed="rId5"/>
            <a:stretch/>
          </p:blipFill>
          <p:spPr>
            <a:xfrm>
              <a:off x="579600" y="5748480"/>
              <a:ext cx="190008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5"/>
            <p:cNvSpPr/>
            <p:nvPr/>
          </p:nvSpPr>
          <p:spPr>
            <a:xfrm>
              <a:off x="642600" y="5785920"/>
              <a:ext cx="178452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INTERVALO SEM POSSIBILIDADE DE ATUAÇÃO DA CAIX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16"/>
          <p:cNvGrpSpPr/>
          <p:nvPr/>
        </p:nvGrpSpPr>
        <p:grpSpPr>
          <a:xfrm>
            <a:off x="725400" y="1676520"/>
            <a:ext cx="1065240" cy="474480"/>
            <a:chOff x="725400" y="1676520"/>
            <a:chExt cx="1065240" cy="474480"/>
          </a:xfrm>
        </p:grpSpPr>
        <p:pic>
          <p:nvPicPr>
            <p:cNvPr id="298" name="Picture 17" descr=""/>
            <p:cNvPicPr/>
            <p:nvPr/>
          </p:nvPicPr>
          <p:blipFill>
            <a:blip r:embed="rId6"/>
            <a:stretch/>
          </p:blipFill>
          <p:spPr>
            <a:xfrm>
              <a:off x="725400" y="1676520"/>
              <a:ext cx="10652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8"/>
            <p:cNvSpPr/>
            <p:nvPr/>
          </p:nvSpPr>
          <p:spPr>
            <a:xfrm>
              <a:off x="785520" y="1714320"/>
              <a:ext cx="950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ETAP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0" name="AutoShape 19"/>
          <p:cNvCxnSpPr>
            <a:endCxn id="301" idx="1"/>
          </p:cNvCxnSpPr>
          <p:nvPr/>
        </p:nvCxnSpPr>
        <p:spPr>
          <a:xfrm flipV="1">
            <a:off x="1785960" y="1891800"/>
            <a:ext cx="1000800" cy="100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302" name="Group 20"/>
          <p:cNvGrpSpPr/>
          <p:nvPr/>
        </p:nvGrpSpPr>
        <p:grpSpPr>
          <a:xfrm>
            <a:off x="512640" y="2322360"/>
            <a:ext cx="1735200" cy="516240"/>
            <a:chOff x="512640" y="2322360"/>
            <a:chExt cx="1735200" cy="516240"/>
          </a:xfrm>
        </p:grpSpPr>
        <p:pic>
          <p:nvPicPr>
            <p:cNvPr id="303" name="Picture 21" descr=""/>
            <p:cNvPicPr/>
            <p:nvPr/>
          </p:nvPicPr>
          <p:blipFill>
            <a:blip r:embed="rId7"/>
            <a:stretch/>
          </p:blipFill>
          <p:spPr>
            <a:xfrm>
              <a:off x="512640" y="2322360"/>
              <a:ext cx="173520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22"/>
            <p:cNvSpPr/>
            <p:nvPr/>
          </p:nvSpPr>
          <p:spPr>
            <a:xfrm>
              <a:off x="571320" y="2356920"/>
              <a:ext cx="161892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DURAÇÃO EM DI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AutoShape 23"/>
          <p:cNvCxnSpPr/>
          <p:nvPr/>
        </p:nvCxnSpPr>
        <p:spPr>
          <a:xfrm flipV="1">
            <a:off x="2214360" y="1999440"/>
            <a:ext cx="1286280" cy="685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01" name="Rectangle 24"/>
          <p:cNvSpPr/>
          <p:nvPr/>
        </p:nvSpPr>
        <p:spPr>
          <a:xfrm>
            <a:off x="2786040" y="178596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1º ---- 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3857760" y="1714680"/>
            <a:ext cx="5429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DELIBERAÇÃO (após a deliberação os tomadores tem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té 10 dias para apresentarem mais 2 cópias de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toda a documentação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3500280" y="3000240"/>
            <a:ext cx="4500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ENTRADA DOS DOCUMENTOS E PROJETOS NA CEF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571840" y="3357720"/>
            <a:ext cx="585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CHEGADA DOS DOCUMENTOS/PROJETOS NAS REDUR(s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00200" y="3643200"/>
            <a:ext cx="6500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PRAZO FINAL PARA ASSINATURA DO CONTRATO DE REPASSE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571920" y="3000240"/>
            <a:ext cx="5357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3286080" y="4429080"/>
            <a:ext cx="585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PRAZO FINAL PARA QUE TODA A DOCUMENTAÇÃOESTEJA 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PROVADA PELA CAIXA (OCORRE A EMISSÃO DA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UTORIZAÇÃO PARA ABERTURA DA LICITAÇÃO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3714840" y="5857920"/>
            <a:ext cx="6000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TOMADOR TEM COMO PRAZO FINAL PARA PUBLICAÇÃO DO    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EXTRATO DO EDITAL DE LICITAÇÃO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2714760" y="3000240"/>
            <a:ext cx="1214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2º --- 19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2786040" y="335772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3º ----34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2786040" y="3643200"/>
            <a:ext cx="1071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4º ----9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2786040" y="450072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5º ---25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6"/>
          <p:cNvSpPr/>
          <p:nvPr/>
        </p:nvSpPr>
        <p:spPr>
          <a:xfrm>
            <a:off x="2786040" y="5929200"/>
            <a:ext cx="1071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6º ---34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319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Agilidade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8" descr=""/>
          <p:cNvPicPr/>
          <p:nvPr/>
        </p:nvPicPr>
        <p:blipFill>
          <a:blip r:embed="rId5"/>
          <a:stretch/>
        </p:blipFill>
        <p:spPr>
          <a:xfrm>
            <a:off x="603360" y="1481040"/>
            <a:ext cx="8547120" cy="731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10"/>
          <p:cNvGrpSpPr/>
          <p:nvPr/>
        </p:nvGrpSpPr>
        <p:grpSpPr>
          <a:xfrm>
            <a:off x="2365200" y="5535720"/>
            <a:ext cx="4332600" cy="1035000"/>
            <a:chOff x="2365200" y="5535720"/>
            <a:chExt cx="4332600" cy="1035000"/>
          </a:xfrm>
        </p:grpSpPr>
        <p:pic>
          <p:nvPicPr>
            <p:cNvPr id="328" name="Picture 11" descr=""/>
            <p:cNvPicPr/>
            <p:nvPr/>
          </p:nvPicPr>
          <p:blipFill>
            <a:blip r:embed="rId7"/>
            <a:stretch/>
          </p:blipFill>
          <p:spPr>
            <a:xfrm>
              <a:off x="2365200" y="5535720"/>
              <a:ext cx="43326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12"/>
            <p:cNvSpPr/>
            <p:nvPr/>
          </p:nvSpPr>
          <p:spPr>
            <a:xfrm>
              <a:off x="2463480" y="5606640"/>
              <a:ext cx="41436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365040" y="4151160"/>
            <a:ext cx="3181320" cy="1065240"/>
            <a:chOff x="365040" y="4151160"/>
            <a:chExt cx="3181320" cy="1065240"/>
          </a:xfrm>
        </p:grpSpPr>
        <p:pic>
          <p:nvPicPr>
            <p:cNvPr id="331" name="Picture 14" descr=""/>
            <p:cNvPicPr/>
            <p:nvPr/>
          </p:nvPicPr>
          <p:blipFill>
            <a:blip r:embed="rId8"/>
            <a:stretch/>
          </p:blipFill>
          <p:spPr>
            <a:xfrm>
              <a:off x="365040" y="4151160"/>
              <a:ext cx="31813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15"/>
            <p:cNvSpPr/>
            <p:nvPr/>
          </p:nvSpPr>
          <p:spPr>
            <a:xfrm>
              <a:off x="464760" y="4225680"/>
              <a:ext cx="299232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4937040" y="4151160"/>
            <a:ext cx="3821040" cy="1065240"/>
            <a:chOff x="4937040" y="4151160"/>
            <a:chExt cx="3821040" cy="1065240"/>
          </a:xfrm>
        </p:grpSpPr>
        <p:pic>
          <p:nvPicPr>
            <p:cNvPr id="334" name="Picture 17" descr=""/>
            <p:cNvPicPr/>
            <p:nvPr/>
          </p:nvPicPr>
          <p:blipFill>
            <a:blip r:embed="rId9"/>
            <a:stretch/>
          </p:blipFill>
          <p:spPr>
            <a:xfrm>
              <a:off x="4937040" y="4151160"/>
              <a:ext cx="382104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8"/>
            <p:cNvSpPr/>
            <p:nvPr/>
          </p:nvSpPr>
          <p:spPr>
            <a:xfrm>
              <a:off x="5036760" y="4225680"/>
              <a:ext cx="363024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Picture 19" descr=""/>
          <p:cNvPicPr/>
          <p:nvPr/>
        </p:nvPicPr>
        <p:blipFill>
          <a:blip r:embed="rId10"/>
          <a:stretch/>
        </p:blipFill>
        <p:spPr>
          <a:xfrm>
            <a:off x="1925640" y="2316240"/>
            <a:ext cx="2689200" cy="1901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"/>
          <p:cNvPicPr/>
          <p:nvPr/>
        </p:nvPicPr>
        <p:blipFill>
          <a:blip r:embed="rId11"/>
          <a:stretch/>
        </p:blipFill>
        <p:spPr>
          <a:xfrm>
            <a:off x="4462560" y="2316240"/>
            <a:ext cx="2541600" cy="1901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1" descr=""/>
          <p:cNvPicPr/>
          <p:nvPr/>
        </p:nvPicPr>
        <p:blipFill>
          <a:blip r:embed="rId12"/>
          <a:stretch/>
        </p:blipFill>
        <p:spPr>
          <a:xfrm>
            <a:off x="4346640" y="2328840"/>
            <a:ext cx="377640" cy="3316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"/>
          <p:cNvPicPr/>
          <p:nvPr/>
        </p:nvPicPr>
        <p:blipFill>
          <a:blip r:embed="rId13"/>
          <a:stretch/>
        </p:blipFill>
        <p:spPr>
          <a:xfrm>
            <a:off x="5102280" y="4200480"/>
            <a:ext cx="3511440" cy="762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14"/>
          <a:stretch/>
        </p:blipFill>
        <p:spPr>
          <a:xfrm>
            <a:off x="530280" y="4194000"/>
            <a:ext cx="2932200" cy="76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"/>
          <p:cNvPicPr/>
          <p:nvPr/>
        </p:nvPicPr>
        <p:blipFill>
          <a:blip r:embed="rId15"/>
          <a:stretch/>
        </p:blipFill>
        <p:spPr>
          <a:xfrm>
            <a:off x="2494080" y="5553000"/>
            <a:ext cx="4082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rigo</cp:lastModifiedBy>
  <dcterms:modified xsi:type="dcterms:W3CDTF">2009-10-06T12:14:33Z</dcterms:modified>
  <cp:revision>1</cp:revision>
  <dc:subject/>
  <dc:title>Slide 1</dc:title>
</cp:coreProperties>
</file>