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29.wmf" ContentType="image/x-wmf"/>
  <Override PartName="/ppt/media/image31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33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907588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b2ced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248520"/>
            <a:ext cx="99061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Base" hidden="1"/>
          <p:cNvSpPr/>
          <p:nvPr/>
        </p:nvSpPr>
        <p:spPr>
          <a:xfrm>
            <a:off x="1650960" y="1227240"/>
            <a:ext cx="66042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341360"/>
            <a:ext cx="99061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906120" cy="139392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-15840" y="6237360"/>
            <a:ext cx="1352520" cy="5922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1" lang="en-US" sz="18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44520" y="1773360"/>
            <a:ext cx="820908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ahoma"/>
              </a:rPr>
              <a:t>CTCOB-CNR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Cobrança pelo Uso de Recursos Hídricos nas Bacias Hidrográficas dos Rios Piracicaba, Capivari e Jundia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Nota Técnica ANA n</a:t>
            </a:r>
            <a:r>
              <a:rPr b="1" lang="en-US" sz="2400" spc="-1" strike="noStrike" u="sng" baseline="30000">
                <a:solidFill>
                  <a:srgbClr val="003366"/>
                </a:solidFill>
                <a:uFillTx/>
                <a:latin typeface="Tahoma"/>
              </a:rPr>
              <a:t>o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476 de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23/11/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31800" y="1700280"/>
            <a:ext cx="7273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Mecanismos de Cobrança – Bases de cálc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1800" y="2205000"/>
            <a:ext cx="41054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Transposi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208160" y="5665680"/>
            <a:ext cx="7632720" cy="429120"/>
            <a:chOff x="1208160" y="5665680"/>
            <a:chExt cx="7632720" cy="429120"/>
          </a:xfrm>
        </p:grpSpPr>
        <p:grpSp>
          <p:nvGrpSpPr>
            <p:cNvPr id="106" name=""/>
            <p:cNvGrpSpPr/>
            <p:nvPr/>
          </p:nvGrpSpPr>
          <p:grpSpPr>
            <a:xfrm>
              <a:off x="1208160" y="5665680"/>
              <a:ext cx="3600360" cy="429120"/>
              <a:chOff x="1208160" y="5665680"/>
              <a:chExt cx="3600360" cy="429120"/>
            </a:xfrm>
          </p:grpSpPr>
          <p:sp>
            <p:nvSpPr>
              <p:cNvPr id="107" name=""/>
              <p:cNvSpPr/>
              <p:nvPr/>
            </p:nvSpPr>
            <p:spPr>
              <a:xfrm>
                <a:off x="1208160" y="5810400"/>
                <a:ext cx="216000" cy="215640"/>
              </a:xfrm>
              <a:prstGeom prst="rect">
                <a:avLst/>
              </a:prstGeom>
              <a:noFill/>
              <a:ln w="255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496880" y="5665680"/>
                <a:ext cx="33116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66"/>
                    </a:solidFill>
                    <a:latin typeface="Tahoma"/>
                  </a:rPr>
                  <a:t>mecanismo adequad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240160" y="5665680"/>
              <a:ext cx="3600720" cy="429120"/>
              <a:chOff x="5240160" y="5665680"/>
              <a:chExt cx="3600720" cy="429120"/>
            </a:xfrm>
          </p:grpSpPr>
          <p:sp>
            <p:nvSpPr>
              <p:cNvPr id="110" name=""/>
              <p:cNvSpPr/>
              <p:nvPr/>
            </p:nvSpPr>
            <p:spPr>
              <a:xfrm>
                <a:off x="5240160" y="5810400"/>
                <a:ext cx="216000" cy="215640"/>
              </a:xfrm>
              <a:prstGeom prst="rect">
                <a:avLst/>
              </a:prstGeom>
              <a:noFill/>
              <a:ln w="255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529240" y="5665680"/>
                <a:ext cx="33116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66"/>
                    </a:solidFill>
                    <a:latin typeface="Tahoma"/>
                  </a:rPr>
                  <a:t>mecanismo inadequad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1065240" y="5589720"/>
            <a:ext cx="3603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082520" y="2881440"/>
            <a:ext cx="7686720" cy="6188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144880" y="3645000"/>
            <a:ext cx="561312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31800" y="1700280"/>
            <a:ext cx="7273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Mecanismos de Cobrança – Bases de cálc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1800" y="2205000"/>
            <a:ext cx="61214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Aproveitamento de Potencial Hidrelétr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208160" y="5665680"/>
            <a:ext cx="7632720" cy="429120"/>
            <a:chOff x="1208160" y="5665680"/>
            <a:chExt cx="7632720" cy="429120"/>
          </a:xfrm>
        </p:grpSpPr>
        <p:grpSp>
          <p:nvGrpSpPr>
            <p:cNvPr id="118" name=""/>
            <p:cNvGrpSpPr/>
            <p:nvPr/>
          </p:nvGrpSpPr>
          <p:grpSpPr>
            <a:xfrm>
              <a:off x="1208160" y="5665680"/>
              <a:ext cx="3600360" cy="429120"/>
              <a:chOff x="1208160" y="5665680"/>
              <a:chExt cx="3600360" cy="429120"/>
            </a:xfrm>
          </p:grpSpPr>
          <p:sp>
            <p:nvSpPr>
              <p:cNvPr id="119" name=""/>
              <p:cNvSpPr/>
              <p:nvPr/>
            </p:nvSpPr>
            <p:spPr>
              <a:xfrm>
                <a:off x="1208160" y="5810400"/>
                <a:ext cx="216000" cy="215640"/>
              </a:xfrm>
              <a:prstGeom prst="rect">
                <a:avLst/>
              </a:prstGeom>
              <a:noFill/>
              <a:ln w="255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496880" y="5665680"/>
                <a:ext cx="33116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66"/>
                    </a:solidFill>
                    <a:latin typeface="Tahoma"/>
                  </a:rPr>
                  <a:t>mecanismo adequad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5240160" y="5665680"/>
              <a:ext cx="3600720" cy="429120"/>
              <a:chOff x="5240160" y="5665680"/>
              <a:chExt cx="3600720" cy="429120"/>
            </a:xfrm>
          </p:grpSpPr>
          <p:sp>
            <p:nvSpPr>
              <p:cNvPr id="122" name=""/>
              <p:cNvSpPr/>
              <p:nvPr/>
            </p:nvSpPr>
            <p:spPr>
              <a:xfrm>
                <a:off x="5240160" y="5810400"/>
                <a:ext cx="216000" cy="215640"/>
              </a:xfrm>
              <a:prstGeom prst="rect">
                <a:avLst/>
              </a:prstGeom>
              <a:noFill/>
              <a:ln w="255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529240" y="5665680"/>
                <a:ext cx="33116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66"/>
                    </a:solidFill>
                    <a:latin typeface="Tahoma"/>
                  </a:rPr>
                  <a:t>mecanismo inadequad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5097600" y="5589720"/>
            <a:ext cx="3603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047600" y="2852640"/>
            <a:ext cx="7650360" cy="6606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722600" y="3933720"/>
            <a:ext cx="63007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31800" y="1700280"/>
            <a:ext cx="7273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Mecanismos de Cobrança – Bases de cálc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31800" y="2205000"/>
            <a:ext cx="70581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Aproveitamento de Potencial Hidrelétrico - Sugest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892160" y="3933720"/>
            <a:ext cx="6301080" cy="11239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11040" y="3233880"/>
            <a:ext cx="8818560" cy="28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31800" y="1700280"/>
            <a:ext cx="792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Mecanismos de Cobrança – Coeficientes Multiplic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1800" y="2205000"/>
            <a:ext cx="7058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Tahoma"/>
              </a:rPr>
              <a:t>K</a:t>
            </a:r>
            <a:r>
              <a:rPr b="1" lang="pt-BR" sz="1800" spc="-1" strike="noStrike" baseline="-25000">
                <a:solidFill>
                  <a:srgbClr val="003366"/>
                </a:solidFill>
                <a:latin typeface="Tahoma"/>
              </a:rPr>
              <a:t>cap classe</a:t>
            </a:r>
            <a:r>
              <a:rPr b="1" lang="pt-BR" sz="1800" spc="-1" strike="noStrike">
                <a:solidFill>
                  <a:srgbClr val="003366"/>
                </a:solidFill>
                <a:latin typeface="Tahoma"/>
              </a:rPr>
              <a:t> e K</a:t>
            </a:r>
            <a:r>
              <a:rPr b="1" lang="pt-BR" sz="1800" spc="-1" strike="noStrike" baseline="-25000">
                <a:solidFill>
                  <a:srgbClr val="003366"/>
                </a:solidFill>
                <a:latin typeface="Tahoma"/>
              </a:rPr>
              <a:t>lanç cla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081240" y="3141720"/>
          <a:ext cx="2971800" cy="1555560"/>
        </p:xfrm>
        <a:graphic>
          <a:graphicData uri="http://schemas.openxmlformats.org/drawingml/2006/table">
            <a:tbl>
              <a:tblPr/>
              <a:tblGrid>
                <a:gridCol w="1711440"/>
                <a:gridCol w="126036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e de Uso do curso d´águ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pt-B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pt-B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49240" y="4943520"/>
            <a:ext cx="7905960" cy="214200"/>
          </a:xfrm>
          <a:prstGeom prst="rect">
            <a:avLst/>
          </a:prstGeom>
          <a:ln w="0">
            <a:noFill/>
          </a:ln>
        </p:spPr>
      </p:pic>
      <p:grpSp>
        <p:nvGrpSpPr>
          <p:cNvPr id="135" name=""/>
          <p:cNvGrpSpPr/>
          <p:nvPr/>
        </p:nvGrpSpPr>
        <p:grpSpPr>
          <a:xfrm>
            <a:off x="1424160" y="5665680"/>
            <a:ext cx="7631640" cy="429120"/>
            <a:chOff x="1424160" y="5665680"/>
            <a:chExt cx="7631640" cy="429120"/>
          </a:xfrm>
        </p:grpSpPr>
        <p:grpSp>
          <p:nvGrpSpPr>
            <p:cNvPr id="136" name=""/>
            <p:cNvGrpSpPr/>
            <p:nvPr/>
          </p:nvGrpSpPr>
          <p:grpSpPr>
            <a:xfrm>
              <a:off x="1424160" y="5665680"/>
              <a:ext cx="3599640" cy="429120"/>
              <a:chOff x="1424160" y="5665680"/>
              <a:chExt cx="3599640" cy="429120"/>
            </a:xfrm>
          </p:grpSpPr>
          <p:sp>
            <p:nvSpPr>
              <p:cNvPr id="137" name=""/>
              <p:cNvSpPr/>
              <p:nvPr/>
            </p:nvSpPr>
            <p:spPr>
              <a:xfrm>
                <a:off x="1424160" y="5810400"/>
                <a:ext cx="215640" cy="215640"/>
              </a:xfrm>
              <a:prstGeom prst="rect">
                <a:avLst/>
              </a:prstGeom>
              <a:noFill/>
              <a:ln w="255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712520" y="5665680"/>
                <a:ext cx="33112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66"/>
                    </a:solidFill>
                    <a:latin typeface="Tahoma"/>
                  </a:rPr>
                  <a:t>mecanismo adequad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5455800" y="5665680"/>
              <a:ext cx="3600000" cy="429120"/>
              <a:chOff x="5455800" y="5665680"/>
              <a:chExt cx="3600000" cy="429120"/>
            </a:xfrm>
          </p:grpSpPr>
          <p:sp>
            <p:nvSpPr>
              <p:cNvPr id="140" name=""/>
              <p:cNvSpPr/>
              <p:nvPr/>
            </p:nvSpPr>
            <p:spPr>
              <a:xfrm>
                <a:off x="5455800" y="5810400"/>
                <a:ext cx="215640" cy="215640"/>
              </a:xfrm>
              <a:prstGeom prst="rect">
                <a:avLst/>
              </a:prstGeom>
              <a:noFill/>
              <a:ln w="255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744520" y="5665680"/>
                <a:ext cx="33112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66"/>
                    </a:solidFill>
                    <a:latin typeface="Tahoma"/>
                  </a:rPr>
                  <a:t>mecanismo inadequad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2" name=""/>
          <p:cNvSpPr/>
          <p:nvPr/>
        </p:nvSpPr>
        <p:spPr>
          <a:xfrm>
            <a:off x="1281240" y="5589720"/>
            <a:ext cx="3603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31800" y="1700280"/>
            <a:ext cx="792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Mecanismos de Cobrança – Coeficientes Multiplic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1800" y="2205000"/>
            <a:ext cx="7058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Tahoma"/>
              </a:rPr>
              <a:t>K</a:t>
            </a:r>
            <a:r>
              <a:rPr b="1" lang="pt-BR" sz="1800" spc="-1" strike="noStrike" baseline="-25000">
                <a:solidFill>
                  <a:srgbClr val="003366"/>
                </a:solidFill>
                <a:latin typeface="Tahoma"/>
              </a:rPr>
              <a:t>retorno</a:t>
            </a:r>
            <a:r>
              <a:rPr b="1" lang="pt-BR" sz="1800" spc="-1" strike="noStrike">
                <a:solidFill>
                  <a:srgbClr val="003366"/>
                </a:solidFill>
                <a:latin typeface="Tahoma"/>
              </a:rPr>
              <a:t> – Setor de Irrig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424160" y="5665680"/>
            <a:ext cx="7631640" cy="429120"/>
            <a:chOff x="1424160" y="5665680"/>
            <a:chExt cx="7631640" cy="429120"/>
          </a:xfrm>
        </p:grpSpPr>
        <p:grpSp>
          <p:nvGrpSpPr>
            <p:cNvPr id="146" name=""/>
            <p:cNvGrpSpPr/>
            <p:nvPr/>
          </p:nvGrpSpPr>
          <p:grpSpPr>
            <a:xfrm>
              <a:off x="1424160" y="5665680"/>
              <a:ext cx="3599640" cy="429120"/>
              <a:chOff x="1424160" y="5665680"/>
              <a:chExt cx="3599640" cy="429120"/>
            </a:xfrm>
          </p:grpSpPr>
          <p:sp>
            <p:nvSpPr>
              <p:cNvPr id="147" name=""/>
              <p:cNvSpPr/>
              <p:nvPr/>
            </p:nvSpPr>
            <p:spPr>
              <a:xfrm>
                <a:off x="1424160" y="5810400"/>
                <a:ext cx="215640" cy="215640"/>
              </a:xfrm>
              <a:prstGeom prst="rect">
                <a:avLst/>
              </a:prstGeom>
              <a:noFill/>
              <a:ln w="255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712520" y="5665680"/>
                <a:ext cx="33112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66"/>
                    </a:solidFill>
                    <a:latin typeface="Tahoma"/>
                  </a:rPr>
                  <a:t>mecanismo adequad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5455800" y="5665680"/>
              <a:ext cx="3600000" cy="429120"/>
              <a:chOff x="5455800" y="5665680"/>
              <a:chExt cx="3600000" cy="429120"/>
            </a:xfrm>
          </p:grpSpPr>
          <p:sp>
            <p:nvSpPr>
              <p:cNvPr id="150" name=""/>
              <p:cNvSpPr/>
              <p:nvPr/>
            </p:nvSpPr>
            <p:spPr>
              <a:xfrm>
                <a:off x="5455800" y="5810400"/>
                <a:ext cx="215640" cy="215640"/>
              </a:xfrm>
              <a:prstGeom prst="rect">
                <a:avLst/>
              </a:prstGeom>
              <a:noFill/>
              <a:ln w="255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744520" y="5665680"/>
                <a:ext cx="33112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66"/>
                    </a:solidFill>
                    <a:latin typeface="Tahoma"/>
                  </a:rPr>
                  <a:t>mecanismo inadequad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2" name=""/>
          <p:cNvSpPr/>
          <p:nvPr/>
        </p:nvSpPr>
        <p:spPr>
          <a:xfrm>
            <a:off x="1281240" y="5589720"/>
            <a:ext cx="3603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952560" y="3198960"/>
            <a:ext cx="7529400" cy="6508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873600" y="4292640"/>
            <a:ext cx="17272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Tahoma"/>
              </a:rPr>
              <a:t>K</a:t>
            </a:r>
            <a:r>
              <a:rPr b="1" lang="pt-BR" sz="1800" spc="-1" strike="noStrike" baseline="-25000">
                <a:solidFill>
                  <a:srgbClr val="003366"/>
                </a:solidFill>
                <a:latin typeface="Tahoma"/>
              </a:rPr>
              <a:t>retorno</a:t>
            </a:r>
            <a:r>
              <a:rPr b="1" lang="pt-BR" sz="1800" spc="-1" strike="noStrike">
                <a:solidFill>
                  <a:srgbClr val="003366"/>
                </a:solidFill>
                <a:latin typeface="Tahoma"/>
              </a:rPr>
              <a:t>= 0,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31800" y="1700280"/>
            <a:ext cx="792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Mecanismos de Cobrança – Coeficientes Multiplic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31800" y="2205000"/>
            <a:ext cx="7058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Tahoma"/>
              </a:rPr>
              <a:t>K</a:t>
            </a:r>
            <a:r>
              <a:rPr b="1" lang="pt-BR" sz="1800" spc="-1" strike="noStrike" baseline="-25000">
                <a:solidFill>
                  <a:srgbClr val="003366"/>
                </a:solidFill>
                <a:latin typeface="Tahoma"/>
              </a:rPr>
              <a:t>gest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784520" y="3716280"/>
            <a:ext cx="6300720" cy="10317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88880" y="2852640"/>
            <a:ext cx="871236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31800" y="1700280"/>
            <a:ext cx="792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Mecanismos de Cobrança – Coeficientes Multiplic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31800" y="2205000"/>
            <a:ext cx="7058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Tahoma"/>
              </a:rPr>
              <a:t>K</a:t>
            </a:r>
            <a:r>
              <a:rPr b="1" lang="pt-BR" sz="1800" spc="-1" strike="noStrike" baseline="-25000">
                <a:solidFill>
                  <a:srgbClr val="003366"/>
                </a:solidFill>
                <a:latin typeface="Tahoma"/>
              </a:rPr>
              <a:t>gest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424160" y="5665680"/>
            <a:ext cx="7631640" cy="429120"/>
            <a:chOff x="1424160" y="5665680"/>
            <a:chExt cx="7631640" cy="429120"/>
          </a:xfrm>
        </p:grpSpPr>
        <p:grpSp>
          <p:nvGrpSpPr>
            <p:cNvPr id="162" name=""/>
            <p:cNvGrpSpPr/>
            <p:nvPr/>
          </p:nvGrpSpPr>
          <p:grpSpPr>
            <a:xfrm>
              <a:off x="1424160" y="5665680"/>
              <a:ext cx="3599640" cy="429120"/>
              <a:chOff x="1424160" y="5665680"/>
              <a:chExt cx="3599640" cy="429120"/>
            </a:xfrm>
          </p:grpSpPr>
          <p:sp>
            <p:nvSpPr>
              <p:cNvPr id="163" name=""/>
              <p:cNvSpPr/>
              <p:nvPr/>
            </p:nvSpPr>
            <p:spPr>
              <a:xfrm>
                <a:off x="1424160" y="5810400"/>
                <a:ext cx="215640" cy="215640"/>
              </a:xfrm>
              <a:prstGeom prst="rect">
                <a:avLst/>
              </a:prstGeom>
              <a:noFill/>
              <a:ln w="255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712520" y="5665680"/>
                <a:ext cx="33112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66"/>
                    </a:solidFill>
                    <a:latin typeface="Tahoma"/>
                  </a:rPr>
                  <a:t>mecanismo adequad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5455800" y="5665680"/>
              <a:ext cx="3600000" cy="429120"/>
              <a:chOff x="5455800" y="5665680"/>
              <a:chExt cx="3600000" cy="429120"/>
            </a:xfrm>
          </p:grpSpPr>
          <p:sp>
            <p:nvSpPr>
              <p:cNvPr id="166" name=""/>
              <p:cNvSpPr/>
              <p:nvPr/>
            </p:nvSpPr>
            <p:spPr>
              <a:xfrm>
                <a:off x="5455800" y="5810400"/>
                <a:ext cx="215640" cy="215640"/>
              </a:xfrm>
              <a:prstGeom prst="rect">
                <a:avLst/>
              </a:prstGeom>
              <a:noFill/>
              <a:ln w="255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744520" y="5665680"/>
                <a:ext cx="33112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66"/>
                    </a:solidFill>
                    <a:latin typeface="Tahoma"/>
                  </a:rPr>
                  <a:t>mecanismo inadequad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8" name=""/>
          <p:cNvSpPr/>
          <p:nvPr/>
        </p:nvSpPr>
        <p:spPr>
          <a:xfrm>
            <a:off x="1281240" y="5589720"/>
            <a:ext cx="3603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065240" y="2997360"/>
            <a:ext cx="784872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31800" y="1700280"/>
            <a:ext cx="792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Mecanismos de Cobrança – Coeficientes Multiplic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31800" y="2205000"/>
            <a:ext cx="7058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Tahoma"/>
              </a:rPr>
              <a:t>K</a:t>
            </a:r>
            <a:r>
              <a:rPr b="1" lang="pt-BR" sz="1800" spc="-1" strike="noStrike" baseline="-25000">
                <a:solidFill>
                  <a:srgbClr val="003366"/>
                </a:solidFill>
                <a:latin typeface="Tahoma"/>
              </a:rPr>
              <a:t>gestão </a:t>
            </a:r>
            <a:r>
              <a:rPr b="1" lang="pt-BR" sz="1800" spc="-1" strike="noStrike">
                <a:solidFill>
                  <a:srgbClr val="003366"/>
                </a:solidFill>
                <a:latin typeface="Tahoma"/>
              </a:rPr>
              <a:t>– Sugestão de alter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495440" y="3100320"/>
            <a:ext cx="6913440" cy="20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31800" y="1700280"/>
            <a:ext cx="792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Mecanismos de Cobrança – Critérios Específ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31800" y="2205000"/>
            <a:ext cx="70581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Mecanismo diferenciado de pagame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4520" y="2852640"/>
            <a:ext cx="93614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174600">
              <a:lnSpc>
                <a:spcPct val="11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3366"/>
                </a:solidFill>
                <a:latin typeface="Tahoma"/>
              </a:rPr>
              <a:t>Tipo de uso - lançamento de carga orgânica e captação e consumo de água para usuários do setor rural</a:t>
            </a: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4600">
              <a:lnSpc>
                <a:spcPct val="11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3366"/>
                </a:solidFill>
                <a:latin typeface="Tahoma"/>
              </a:rPr>
              <a:t>Objetivo - incentivar investimentos, com recursos próprios dos usuários, em ações de melhoria da qualidade, da quantidade de água e do regime fluvial, que resultem na sustentabilidade ambiental da ba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4600">
              <a:lnSpc>
                <a:spcPct val="11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3366"/>
                </a:solidFill>
                <a:latin typeface="Tahoma"/>
              </a:rPr>
              <a:t>Lançamento de carga orgânica - ações que contemplem obras e equipamentos de sistemas de afastamento e tratamento de efluentes, excluindo redes coletoras, e medidas estruturais que propiciem a redução de cargas poluidoras lanç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4600">
              <a:lnSpc>
                <a:spcPct val="11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3366"/>
                </a:solidFill>
                <a:latin typeface="Tahoma"/>
              </a:rPr>
              <a:t>Captação e consumo de água para usuários do setor rural - ações que contemplem a aplicação de boas práticas de uso e conservação da água na propriedade rural onde se dá o uso de recursos hídri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31800" y="1700280"/>
            <a:ext cx="792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Mecanismos de Cobrança – Critérios Específ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31800" y="2205000"/>
            <a:ext cx="70581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Mecanismo diferenciado de pagame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4520" y="2852640"/>
            <a:ext cx="936144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63600" indent="-189000">
              <a:lnSpc>
                <a:spcPct val="11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Regra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189000">
              <a:lnSpc>
                <a:spcPct val="110000"/>
              </a:lnSpc>
              <a:spcBef>
                <a:spcPts val="524"/>
              </a:spcBef>
              <a:spcAft>
                <a:spcPts val="524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As ações propostas deverão estar previstas no Plano das Bacias PC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189000">
              <a:lnSpc>
                <a:spcPct val="110000"/>
              </a:lnSpc>
              <a:spcBef>
                <a:spcPts val="524"/>
              </a:spcBef>
              <a:spcAft>
                <a:spcPts val="524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As ações propostas deverão ser priorizadas anualmente pelos Comitês PC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189000">
              <a:lnSpc>
                <a:spcPct val="110000"/>
              </a:lnSpc>
              <a:spcBef>
                <a:spcPts val="524"/>
              </a:spcBef>
              <a:spcAft>
                <a:spcPts val="524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O abatimento do valor devido será limitado ao valor a ser pago pelo respectivo tipo de uso (captação e consumo ou lançamento) naquele a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189000">
              <a:lnSpc>
                <a:spcPct val="110000"/>
              </a:lnSpc>
              <a:spcBef>
                <a:spcPts val="524"/>
              </a:spcBef>
              <a:spcAft>
                <a:spcPts val="524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O usuário não terá direito a recebimento de créditos para abatimentos dos valores devidos em anos posteriores ou em decorrência de outros usos de recursos hídricos por ele pratic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566720" y="5592600"/>
            <a:ext cx="7632720" cy="429120"/>
            <a:chOff x="1566720" y="5592600"/>
            <a:chExt cx="7632720" cy="429120"/>
          </a:xfrm>
        </p:grpSpPr>
        <p:grpSp>
          <p:nvGrpSpPr>
            <p:cNvPr id="180" name=""/>
            <p:cNvGrpSpPr/>
            <p:nvPr/>
          </p:nvGrpSpPr>
          <p:grpSpPr>
            <a:xfrm>
              <a:off x="1566720" y="5592600"/>
              <a:ext cx="3600360" cy="429120"/>
              <a:chOff x="1566720" y="5592600"/>
              <a:chExt cx="3600360" cy="429120"/>
            </a:xfrm>
          </p:grpSpPr>
          <p:sp>
            <p:nvSpPr>
              <p:cNvPr id="181" name=""/>
              <p:cNvSpPr/>
              <p:nvPr/>
            </p:nvSpPr>
            <p:spPr>
              <a:xfrm>
                <a:off x="1566720" y="5737320"/>
                <a:ext cx="216000" cy="215640"/>
              </a:xfrm>
              <a:prstGeom prst="rect">
                <a:avLst/>
              </a:prstGeom>
              <a:noFill/>
              <a:ln w="255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855440" y="5592600"/>
                <a:ext cx="33116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66"/>
                    </a:solidFill>
                    <a:latin typeface="Tahoma"/>
                  </a:rPr>
                  <a:t>mecanismo adequad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5598720" y="5592600"/>
              <a:ext cx="3600720" cy="429120"/>
              <a:chOff x="5598720" y="5592600"/>
              <a:chExt cx="3600720" cy="429120"/>
            </a:xfrm>
          </p:grpSpPr>
          <p:sp>
            <p:nvSpPr>
              <p:cNvPr id="184" name=""/>
              <p:cNvSpPr/>
              <p:nvPr/>
            </p:nvSpPr>
            <p:spPr>
              <a:xfrm>
                <a:off x="5598720" y="5737320"/>
                <a:ext cx="216000" cy="215640"/>
              </a:xfrm>
              <a:prstGeom prst="rect">
                <a:avLst/>
              </a:prstGeom>
              <a:noFill/>
              <a:ln w="255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887800" y="5592600"/>
                <a:ext cx="33116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66"/>
                    </a:solidFill>
                    <a:latin typeface="Tahoma"/>
                  </a:rPr>
                  <a:t>mecanismo inadequad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6" name=""/>
          <p:cNvSpPr/>
          <p:nvPr/>
        </p:nvSpPr>
        <p:spPr>
          <a:xfrm>
            <a:off x="1424160" y="5516640"/>
            <a:ext cx="3603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-27000"/>
          <a:ext cx="9906120" cy="54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27000"/>
                    <a:ext cx="9906120" cy="54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-15840" y="-27000"/>
            <a:ext cx="410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Caracterização das Bacias PC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31800" y="1700280"/>
            <a:ext cx="792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Mecanismos de Cobrança – Critérios Específ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31800" y="2205000"/>
            <a:ext cx="70581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Número de parcelas, juros,multa, regularização de débitos e valor mínim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566720" y="5592600"/>
            <a:ext cx="7632720" cy="429120"/>
            <a:chOff x="1566720" y="5592600"/>
            <a:chExt cx="7632720" cy="429120"/>
          </a:xfrm>
        </p:grpSpPr>
        <p:grpSp>
          <p:nvGrpSpPr>
            <p:cNvPr id="190" name=""/>
            <p:cNvGrpSpPr/>
            <p:nvPr/>
          </p:nvGrpSpPr>
          <p:grpSpPr>
            <a:xfrm>
              <a:off x="1566720" y="5592600"/>
              <a:ext cx="3600360" cy="429120"/>
              <a:chOff x="1566720" y="5592600"/>
              <a:chExt cx="3600360" cy="429120"/>
            </a:xfrm>
          </p:grpSpPr>
          <p:sp>
            <p:nvSpPr>
              <p:cNvPr id="191" name=""/>
              <p:cNvSpPr/>
              <p:nvPr/>
            </p:nvSpPr>
            <p:spPr>
              <a:xfrm>
                <a:off x="1566720" y="5737320"/>
                <a:ext cx="216000" cy="215640"/>
              </a:xfrm>
              <a:prstGeom prst="rect">
                <a:avLst/>
              </a:prstGeom>
              <a:noFill/>
              <a:ln w="255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855440" y="5592600"/>
                <a:ext cx="33116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66"/>
                    </a:solidFill>
                    <a:latin typeface="Tahoma"/>
                  </a:rPr>
                  <a:t>mecanismo adequad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598720" y="5592600"/>
              <a:ext cx="3600720" cy="429120"/>
              <a:chOff x="5598720" y="5592600"/>
              <a:chExt cx="3600720" cy="429120"/>
            </a:xfrm>
          </p:grpSpPr>
          <p:sp>
            <p:nvSpPr>
              <p:cNvPr id="194" name=""/>
              <p:cNvSpPr/>
              <p:nvPr/>
            </p:nvSpPr>
            <p:spPr>
              <a:xfrm>
                <a:off x="5598720" y="5737320"/>
                <a:ext cx="216000" cy="215640"/>
              </a:xfrm>
              <a:prstGeom prst="rect">
                <a:avLst/>
              </a:prstGeom>
              <a:noFill/>
              <a:ln w="255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887800" y="5592600"/>
                <a:ext cx="33116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66"/>
                    </a:solidFill>
                    <a:latin typeface="Tahoma"/>
                  </a:rPr>
                  <a:t>mecanismo inadequad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6" name=""/>
          <p:cNvSpPr/>
          <p:nvPr/>
        </p:nvSpPr>
        <p:spPr>
          <a:xfrm>
            <a:off x="1424160" y="5516640"/>
            <a:ext cx="3603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4880" y="3213000"/>
            <a:ext cx="4824360" cy="18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Número de parcelas - 12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Juros – taxa SE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Multa – 2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Regularização de débitos – até 40 parce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Valor mínimo – R$ 20,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31800" y="1700280"/>
            <a:ext cx="792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Valores de Cobrança - PU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2000160" y="2492280"/>
          <a:ext cx="5627520" cy="2946240"/>
        </p:xfrm>
        <a:graphic>
          <a:graphicData uri="http://schemas.openxmlformats.org/drawingml/2006/table">
            <a:tbl>
              <a:tblPr/>
              <a:tblGrid>
                <a:gridCol w="2311920"/>
                <a:gridCol w="1094400"/>
                <a:gridCol w="1036440"/>
                <a:gridCol w="1184760"/>
              </a:tblGrid>
              <a:tr h="55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po U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ida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l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tação de água bru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B</a:t>
                      </a:r>
                      <a:r>
                        <a:rPr b="0" lang="pt-B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$/m</a:t>
                      </a:r>
                      <a:r>
                        <a:rPr b="0" lang="pt-BR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umo de água bru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B</a:t>
                      </a:r>
                      <a:r>
                        <a:rPr b="0" lang="pt-B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$/m</a:t>
                      </a:r>
                      <a:r>
                        <a:rPr b="0" lang="pt-BR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nçamento de carga orgânica DBO</a:t>
                      </a:r>
                      <a:r>
                        <a:rPr b="0" lang="pt-B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B</a:t>
                      </a:r>
                      <a:r>
                        <a:rPr b="0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B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$/k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nsposição de ba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B</a:t>
                      </a:r>
                      <a:r>
                        <a:rPr b="0" lang="pt-B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ns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$/m</a:t>
                      </a:r>
                      <a:r>
                        <a:rPr b="0" lang="pt-BR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425600" y="5521320"/>
            <a:ext cx="684036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631800" y="1700280"/>
            <a:ext cx="792180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Valores de Cobrança - Progressividade </a:t>
            </a:r>
            <a:r>
              <a:rPr b="0" lang="en-US" sz="1600" spc="-1" strike="noStrike">
                <a:solidFill>
                  <a:srgbClr val="003366"/>
                </a:solidFill>
                <a:latin typeface="Tahoma"/>
              </a:rPr>
              <a:t>(§ 1</a:t>
            </a:r>
            <a:r>
              <a:rPr b="0" lang="en-US" sz="1600" spc="-1" strike="noStrike" u="sng" baseline="30000">
                <a:solidFill>
                  <a:srgbClr val="003366"/>
                </a:solidFill>
                <a:uFillTx/>
                <a:latin typeface="Tahoma"/>
              </a:rPr>
              <a:t>o</a:t>
            </a:r>
            <a:r>
              <a:rPr b="0" lang="en-US" sz="1600" spc="-1" strike="noStrike">
                <a:solidFill>
                  <a:srgbClr val="003366"/>
                </a:solidFill>
                <a:latin typeface="Tahoma"/>
              </a:rPr>
              <a:t>, art. 3</a:t>
            </a:r>
            <a:r>
              <a:rPr b="0" lang="en-US" sz="1600" spc="-1" strike="noStrike" u="sng" baseline="30000">
                <a:solidFill>
                  <a:srgbClr val="003366"/>
                </a:solidFill>
                <a:uFillTx/>
                <a:latin typeface="Tahoma"/>
              </a:rPr>
              <a:t>o</a:t>
            </a:r>
            <a:r>
              <a:rPr b="0" lang="en-US" sz="1600" spc="-1" strike="noStrike">
                <a:solidFill>
                  <a:srgbClr val="003366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331000" y="2780280"/>
            <a:ext cx="5608800" cy="17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buClr>
                <a:srgbClr val="003366"/>
              </a:buClr>
              <a:buFont typeface="Wingdings" charset="2"/>
              <a:buChar char=""/>
              <a:tabLst>
                <a:tab algn="l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60% dos PUBs, no primeiro 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buClr>
                <a:srgbClr val="003366"/>
              </a:buClr>
              <a:buFont typeface="Wingdings" charset="2"/>
              <a:buChar char=""/>
              <a:tabLst>
                <a:tab algn="l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75% dos PUBs, no segundo 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003366"/>
              </a:buClr>
              <a:buFont typeface="Wingdings" charset="2"/>
              <a:buChar char=""/>
              <a:tabLst>
                <a:tab algn="l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100% dos PUBs, a partir do terceiro ano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31800" y="1700280"/>
            <a:ext cx="7921800" cy="8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Valores de Cobrança – Setor Ru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992160" y="2928960"/>
            <a:ext cx="7777080" cy="7160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970080" y="4234320"/>
            <a:ext cx="2059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66"/>
                </a:solidFill>
                <a:latin typeface="Tahoma"/>
              </a:rPr>
              <a:t>K</a:t>
            </a:r>
            <a:r>
              <a:rPr b="1" lang="pt-BR" sz="2000" spc="-1" strike="noStrike" baseline="-25000">
                <a:solidFill>
                  <a:srgbClr val="003366"/>
                </a:solidFill>
                <a:latin typeface="Tahoma"/>
              </a:rPr>
              <a:t>rural </a:t>
            </a:r>
            <a:r>
              <a:rPr b="1" lang="pt-BR" sz="2000" spc="-1" strike="noStrike">
                <a:solidFill>
                  <a:srgbClr val="003366"/>
                </a:solidFill>
                <a:latin typeface="Tahoma"/>
              </a:rPr>
              <a:t>= 0,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31800" y="1700280"/>
            <a:ext cx="856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66"/>
                </a:solidFill>
                <a:latin typeface="Tahoma"/>
              </a:rPr>
              <a:t>Valores de Cobrança – PC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992160" y="3119400"/>
            <a:ext cx="7921800" cy="917640"/>
          </a:xfrm>
          <a:prstGeom prst="rect">
            <a:avLst/>
          </a:prstGeom>
          <a:ln w="0">
            <a:noFill/>
          </a:ln>
        </p:spPr>
      </p:pic>
      <p:grpSp>
        <p:nvGrpSpPr>
          <p:cNvPr id="208" name=""/>
          <p:cNvGrpSpPr/>
          <p:nvPr/>
        </p:nvGrpSpPr>
        <p:grpSpPr>
          <a:xfrm>
            <a:off x="3272040" y="4327920"/>
            <a:ext cx="4368960" cy="1355400"/>
            <a:chOff x="3272040" y="4327920"/>
            <a:chExt cx="4368960" cy="1355400"/>
          </a:xfrm>
        </p:grpSpPr>
        <p:sp>
          <p:nvSpPr>
            <p:cNvPr id="209" name=""/>
            <p:cNvSpPr/>
            <p:nvPr/>
          </p:nvSpPr>
          <p:spPr>
            <a:xfrm>
              <a:off x="3272040" y="4327920"/>
              <a:ext cx="4368960" cy="13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363600" indent="-363600">
                <a:lnSpc>
                  <a:spcPct val="100000"/>
                </a:lnSpc>
                <a:tabLst>
                  <a:tab algn="l" pos="0"/>
                  <a:tab algn="l" pos="817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3366"/>
                  </a:solidFill>
                  <a:latin typeface="Tahoma"/>
                </a:rPr>
                <a:t>TAR = 52,67 R$</a:t>
              </a:r>
              <a:r>
                <a:rPr b="1" lang="en-US" sz="2000" spc="-1" strike="noStrike">
                  <a:solidFill>
                    <a:srgbClr val="003366"/>
                  </a:solidFill>
                  <a:latin typeface="Tahoma"/>
                  <a:ea typeface="Tahoma"/>
                </a:rPr>
                <a:t>/</a:t>
              </a:r>
              <a:r>
                <a:rPr b="1" lang="pt-BR" sz="2000" spc="-1" strike="noStrike">
                  <a:solidFill>
                    <a:srgbClr val="003366"/>
                  </a:solidFill>
                  <a:latin typeface="Tahoma"/>
                </a:rPr>
                <a:t>MW.h (2005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63600" indent="-363600">
                <a:lnSpc>
                  <a:spcPct val="100000"/>
                </a:lnSpc>
                <a:tabLst>
                  <a:tab algn="l" pos="0"/>
                  <a:tab algn="l" pos="817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3366"/>
                  </a:solidFill>
                  <a:latin typeface="Tahoma"/>
                </a:rPr>
                <a:t>K</a:t>
              </a:r>
              <a:r>
                <a:rPr b="1" lang="pt-BR" sz="2000" spc="-1" strike="noStrike" baseline="-25000">
                  <a:solidFill>
                    <a:srgbClr val="003366"/>
                  </a:solidFill>
                  <a:latin typeface="Tahoma"/>
                </a:rPr>
                <a:t>geração </a:t>
              </a:r>
              <a:r>
                <a:rPr b="1" lang="pt-BR" sz="2000" spc="-1" strike="noStrike">
                  <a:solidFill>
                    <a:srgbClr val="003366"/>
                  </a:solidFill>
                  <a:latin typeface="Tahoma"/>
                </a:rPr>
                <a:t>= 0,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63600" indent="-363600">
                <a:lnSpc>
                  <a:spcPct val="100000"/>
                </a:lnSpc>
                <a:tabLst>
                  <a:tab algn="l" pos="0"/>
                  <a:tab algn="l" pos="817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63600" indent="-363600">
                <a:lnSpc>
                  <a:spcPct val="100000"/>
                </a:lnSpc>
                <a:tabLst>
                  <a:tab algn="l" pos="0"/>
                  <a:tab algn="l" pos="817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3366"/>
                  </a:solidFill>
                  <a:latin typeface="Tahoma"/>
                </a:rPr>
                <a:t>Valor = 0,5267 R$</a:t>
              </a:r>
              <a:r>
                <a:rPr b="1" lang="en-US" sz="2000" spc="-1" strike="noStrike">
                  <a:solidFill>
                    <a:srgbClr val="003366"/>
                  </a:solidFill>
                  <a:latin typeface="Tahoma"/>
                </a:rPr>
                <a:t>/</a:t>
              </a:r>
              <a:r>
                <a:rPr b="1" lang="pt-BR" sz="2000" spc="-1" strike="noStrike">
                  <a:solidFill>
                    <a:srgbClr val="003366"/>
                  </a:solidFill>
                  <a:latin typeface="Tahoma"/>
                </a:rPr>
                <a:t>MW.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511800" y="5157720"/>
              <a:ext cx="324000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631800" y="1700280"/>
            <a:ext cx="856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Valores de Cobrança - Potencial de Arrecadação 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(águas da Uniã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865600" y="1844640"/>
            <a:ext cx="1839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849240" y="2349360"/>
          <a:ext cx="8209080" cy="3051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9240" y="2349360"/>
                    <a:ext cx="8209080" cy="30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576360" y="1700280"/>
            <a:ext cx="948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Valores de Cobrança - Potencial de Arrecadação Real 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(águas da Uniã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65600" y="1844640"/>
            <a:ext cx="1839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5765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424160" y="2703600"/>
          <a:ext cx="7083360" cy="238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4160" y="2703600"/>
                    <a:ext cx="7083360" cy="23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576360" y="1700280"/>
            <a:ext cx="948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Potencial de Arrecadação Real x Plano de Investi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865600" y="1844640"/>
            <a:ext cx="1839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25765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31800" y="2565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Plano de Recursos Hídricos das Bacias PCJ (2000/2003) - R$ 118 milh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3440" y="3098160"/>
            <a:ext cx="871344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4600" indent="-17460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Relação Arrecadação x Plano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Primeiro Ano – 9,3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Terceiro Ano – 15,5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72880" y="1700280"/>
            <a:ext cx="18558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Viabilidade Financeira da Agência de Água da Ba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65600" y="1844640"/>
            <a:ext cx="1839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25765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11192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2576520" y="399960"/>
          <a:ext cx="7056360" cy="570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6520" y="399960"/>
                    <a:ext cx="7056360" cy="57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272880" y="4062240"/>
            <a:ext cx="216072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Percentual da Arrecadação a ser gasto com custeio administrativo (7,5%) - </a:t>
            </a:r>
            <a:r>
              <a:rPr b="1" lang="en-US" sz="1600" spc="-1" strike="noStrike">
                <a:solidFill>
                  <a:srgbClr val="003366"/>
                </a:solidFill>
                <a:latin typeface="Tahoma"/>
              </a:rPr>
              <a:t>R$ 820 m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576360" y="1700280"/>
            <a:ext cx="948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Valores de Cobrança – Impacto sobre os usuá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865600" y="1844640"/>
            <a:ext cx="1839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25765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208160" y="2859120"/>
          <a:ext cx="7129440" cy="2344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8160" y="2859120"/>
                    <a:ext cx="7129440" cy="23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631800" y="2276640"/>
            <a:ext cx="432108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ahoma"/>
              </a:rPr>
              <a:t>Usuário do Setor de Sanea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88880" y="1557360"/>
            <a:ext cx="410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Caracterização das Bacias PC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8880" y="2349360"/>
            <a:ext cx="5327640" cy="29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66"/>
                </a:solidFill>
                <a:latin typeface="Tahoma"/>
              </a:rPr>
              <a:t>Área: 15.304 km</a:t>
            </a:r>
            <a:r>
              <a:rPr b="1" lang="pt-BR" sz="2000" spc="-1" strike="noStrike" baseline="30000">
                <a:solidFill>
                  <a:srgbClr val="003366"/>
                </a:solidFill>
                <a:latin typeface="Tahoma"/>
              </a:rPr>
              <a:t>2  </a:t>
            </a:r>
            <a:r>
              <a:rPr b="1" lang="pt-BR" sz="1400" spc="-1" strike="noStrike">
                <a:solidFill>
                  <a:srgbClr val="003366"/>
                </a:solidFill>
                <a:latin typeface="Tahoma"/>
              </a:rPr>
              <a:t>(92,6% SP e 7,4% M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66"/>
                </a:solidFill>
                <a:latin typeface="Tahoma"/>
              </a:rPr>
              <a:t>População: 4.467.6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66"/>
                </a:solidFill>
                <a:latin typeface="Tahoma"/>
              </a:rPr>
              <a:t>Municípios: 76 (61 c</a:t>
            </a:r>
            <a:r>
              <a:rPr b="1" lang="en-US" sz="2000" spc="-1" strike="noStrike">
                <a:solidFill>
                  <a:srgbClr val="003366"/>
                </a:solidFill>
                <a:latin typeface="Tahoma"/>
                <a:ea typeface="Tahoma"/>
              </a:rPr>
              <a:t>/</a:t>
            </a:r>
            <a:r>
              <a:rPr b="1" lang="pt-BR" sz="2000" spc="-1" strike="noStrike">
                <a:solidFill>
                  <a:srgbClr val="003366"/>
                </a:solidFill>
                <a:latin typeface="Tahoma"/>
              </a:rPr>
              <a:t>se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66"/>
                </a:solidFill>
                <a:latin typeface="Tahoma"/>
              </a:rPr>
              <a:t>Coleta Esgoto: 8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66"/>
                </a:solidFill>
                <a:latin typeface="Tahoma"/>
              </a:rPr>
              <a:t>Tratamento Esgoto: 16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66"/>
                </a:solidFill>
                <a:latin typeface="Tahoma"/>
              </a:rPr>
              <a:t>Carga DBO urbana: 200 t</a:t>
            </a: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/</a:t>
            </a:r>
            <a:r>
              <a:rPr b="1" lang="pt-BR" sz="2000" spc="-1" strike="noStrike">
                <a:solidFill>
                  <a:srgbClr val="003366"/>
                </a:solidFill>
                <a:latin typeface="Tahoma"/>
              </a:rPr>
              <a:t>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66"/>
                </a:solidFill>
                <a:latin typeface="Tahoma"/>
              </a:rPr>
              <a:t>Carga DBO industrial: 56 t</a:t>
            </a: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/</a:t>
            </a:r>
            <a:r>
              <a:rPr b="1" lang="pt-BR" sz="2000" spc="-1" strike="noStrike">
                <a:solidFill>
                  <a:srgbClr val="003366"/>
                </a:solidFill>
                <a:latin typeface="Tahoma"/>
              </a:rPr>
              <a:t>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576360" y="1700280"/>
            <a:ext cx="948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Valores de Cobrança – Impacto sobre os usuá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865600" y="1844640"/>
            <a:ext cx="1839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25765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1800" y="2276640"/>
            <a:ext cx="432108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ahoma"/>
              </a:rPr>
              <a:t>Usuário do Setor de Sanea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28764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1784520" y="2822400"/>
          <a:ext cx="6408720" cy="147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4520" y="2822400"/>
                    <a:ext cx="6408720" cy="14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0" y="29052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2252520" y="4581360"/>
          <a:ext cx="5472360" cy="1386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52520" y="4581360"/>
                    <a:ext cx="547236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576360" y="1700280"/>
            <a:ext cx="948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Valores de Cobrança – Impacto sobre os usuá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865600" y="1844640"/>
            <a:ext cx="1839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25765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31800" y="2276640"/>
            <a:ext cx="432108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ahoma"/>
              </a:rPr>
              <a:t>Usuário do Setor de Irrig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28764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29052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9052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29052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3187800" y="2905200"/>
          <a:ext cx="3457440" cy="131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7800" y="2905200"/>
                    <a:ext cx="3457440" cy="13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0" y="29433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1496880" y="4516560"/>
          <a:ext cx="6840720" cy="1288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96880" y="4516560"/>
                    <a:ext cx="6840720" cy="12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"/>
          <p:cNvSpPr/>
          <p:nvPr/>
        </p:nvSpPr>
        <p:spPr>
          <a:xfrm>
            <a:off x="0" y="25621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576360" y="1700280"/>
            <a:ext cx="948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Valores de Cobrança – Impacto sobre os usuá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865600" y="1844640"/>
            <a:ext cx="1839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25765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31800" y="2276640"/>
            <a:ext cx="432108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ahoma"/>
              </a:rPr>
              <a:t>Usuário do Setor de Irrig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28764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29052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29052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29433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25621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2505240" y="2800440"/>
          <a:ext cx="4679640" cy="2111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5240" y="2800440"/>
                    <a:ext cx="4679640" cy="21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3" name=""/>
          <p:cNvGrpSpPr/>
          <p:nvPr/>
        </p:nvGrpSpPr>
        <p:grpSpPr>
          <a:xfrm>
            <a:off x="1424160" y="5684760"/>
            <a:ext cx="7631640" cy="429120"/>
            <a:chOff x="1424160" y="5684760"/>
            <a:chExt cx="7631640" cy="429120"/>
          </a:xfrm>
        </p:grpSpPr>
        <p:grpSp>
          <p:nvGrpSpPr>
            <p:cNvPr id="274" name=""/>
            <p:cNvGrpSpPr/>
            <p:nvPr/>
          </p:nvGrpSpPr>
          <p:grpSpPr>
            <a:xfrm>
              <a:off x="1424160" y="5684760"/>
              <a:ext cx="3599640" cy="429120"/>
              <a:chOff x="1424160" y="5684760"/>
              <a:chExt cx="3599640" cy="429120"/>
            </a:xfrm>
          </p:grpSpPr>
          <p:sp>
            <p:nvSpPr>
              <p:cNvPr id="275" name=""/>
              <p:cNvSpPr/>
              <p:nvPr/>
            </p:nvSpPr>
            <p:spPr>
              <a:xfrm>
                <a:off x="1424160" y="5829120"/>
                <a:ext cx="215640" cy="215280"/>
              </a:xfrm>
              <a:prstGeom prst="rect">
                <a:avLst/>
              </a:prstGeom>
              <a:noFill/>
              <a:ln w="255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712520" y="5684760"/>
                <a:ext cx="33112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66"/>
                    </a:solidFill>
                    <a:latin typeface="Tahoma"/>
                  </a:rPr>
                  <a:t>Valores compatívei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5455800" y="5684760"/>
              <a:ext cx="3600000" cy="429120"/>
              <a:chOff x="5455800" y="5684760"/>
              <a:chExt cx="3600000" cy="429120"/>
            </a:xfrm>
          </p:grpSpPr>
          <p:sp>
            <p:nvSpPr>
              <p:cNvPr id="278" name=""/>
              <p:cNvSpPr/>
              <p:nvPr/>
            </p:nvSpPr>
            <p:spPr>
              <a:xfrm>
                <a:off x="5455800" y="5829120"/>
                <a:ext cx="215640" cy="215280"/>
              </a:xfrm>
              <a:prstGeom prst="rect">
                <a:avLst/>
              </a:prstGeom>
              <a:noFill/>
              <a:ln w="255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744520" y="5684760"/>
                <a:ext cx="33112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66"/>
                    </a:solidFill>
                    <a:latin typeface="Tahoma"/>
                  </a:rPr>
                  <a:t>Valores incompatívei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0" name=""/>
          <p:cNvSpPr/>
          <p:nvPr/>
        </p:nvSpPr>
        <p:spPr>
          <a:xfrm>
            <a:off x="1281240" y="5608800"/>
            <a:ext cx="3603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576360" y="1700280"/>
            <a:ext cx="948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Atendimento às Condições da Resolução CNRH N</a:t>
            </a:r>
            <a:r>
              <a:rPr b="1" lang="en-US" sz="2000" spc="-1" strike="noStrike" u="sng" baseline="30000">
                <a:solidFill>
                  <a:srgbClr val="003366"/>
                </a:solidFill>
                <a:uFillTx/>
                <a:latin typeface="Tahoma"/>
              </a:rPr>
              <a:t>o</a:t>
            </a: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 48, de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297240" y="1916280"/>
            <a:ext cx="1843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25765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29052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29052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29433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25621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31800" y="2436840"/>
            <a:ext cx="8424720" cy="29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Art. 6</a:t>
            </a:r>
            <a:r>
              <a:rPr b="1" i="1" lang="en-US" sz="1600" spc="-1" strike="noStrike" u="sng" baseline="30000">
                <a:solidFill>
                  <a:srgbClr val="003366"/>
                </a:solidFill>
                <a:uFillTx/>
                <a:latin typeface="Tahoma"/>
              </a:rPr>
              <a:t>o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 A cobrança estará condicionad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I – à proposição das acumulações, derivações, captações e lançamentos considerados insignificantes pelo respectivo Comitê de Bacia Hidrográfica e sua aprovação pelo respectivo Conselho de Recursos Hídricos, para os fins previstos no § 1</a:t>
            </a:r>
            <a:r>
              <a:rPr b="1" i="1" lang="en-US" sz="1600" spc="-1" strike="noStrike" u="sng" baseline="30000">
                <a:solidFill>
                  <a:srgbClr val="003366"/>
                </a:solidFill>
                <a:uFillTx/>
                <a:latin typeface="Tahoma"/>
              </a:rPr>
              <a:t>o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 do art. 12 da Lei no 9.433, de 1997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II – ao processo de regularização de usos de recursos hídricos sujeitos à outorga na respectiva bacia, incluindo o cadastramento dos usuários da bacia hidrográfic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III – ao programa de investimentos definido no respectivo Plano de Recursos Hídricos devidamente aprovado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576360" y="1700280"/>
            <a:ext cx="948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Atendimento às Condições da Resolução CNRH N</a:t>
            </a:r>
            <a:r>
              <a:rPr b="1" lang="en-US" sz="2000" spc="-1" strike="noStrike" u="sng" baseline="30000">
                <a:solidFill>
                  <a:srgbClr val="003366"/>
                </a:solidFill>
                <a:uFillTx/>
                <a:latin typeface="Tahoma"/>
              </a:rPr>
              <a:t>o</a:t>
            </a: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 48, de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297240" y="1916280"/>
            <a:ext cx="1843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25765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29052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29052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29433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25621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49240" y="2480760"/>
            <a:ext cx="8425080" cy="33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3366"/>
                </a:solidFill>
                <a:latin typeface="Tahoma"/>
              </a:rPr>
              <a:t>III – ao programa de investimentos definido no respectivo Plano de Recursos Hídricos devidamente aprovado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3366"/>
                </a:solidFill>
                <a:latin typeface="Tahoma"/>
              </a:rPr>
              <a:t>IV - à aprovação pelo competente Conselho de Recursos Hídricos, da proposta de cobrança, tecnicamente fundamentada, encaminhada pelo respectivo Comitê de Bacia Hidrográfic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3366"/>
                </a:solidFill>
                <a:latin typeface="Tahoma"/>
              </a:rPr>
              <a:t>V – à implantação da respectiva Agência de Bacia Hidrográfica ou da entidade delegatária do exercício de suas funçõ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3366"/>
                </a:solidFill>
                <a:latin typeface="Tahoma"/>
              </a:rPr>
              <a:t>Parágrafo único. Os órgãos e entidades gestores de recursos hídricos deverão elaborar estudos técnicos para subsidiar a proposta de que trata o inciso VI, dos valores a serem cobrados pelo uso de recursos hídricos, com base nos mecanismos e quantitativos sugeridos pelo Comitê de Bacia Hidrográfica ao respectivo Conselho de Recursos Hídricos, conforme inciso VI, do art. 38, da Lei n</a:t>
            </a:r>
            <a:r>
              <a:rPr b="1" i="1" lang="pt-BR" sz="1600" spc="-1" strike="noStrike" u="sng" baseline="30000">
                <a:solidFill>
                  <a:srgbClr val="003366"/>
                </a:solidFill>
                <a:uFillTx/>
                <a:latin typeface="Tahoma"/>
              </a:rPr>
              <a:t>o</a:t>
            </a:r>
            <a:r>
              <a:rPr b="1" i="1" lang="pt-BR" sz="1600" spc="-1" strike="noStrike">
                <a:solidFill>
                  <a:srgbClr val="003366"/>
                </a:solidFill>
                <a:latin typeface="Tahoma"/>
              </a:rPr>
              <a:t> 9.433, de 1997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576360" y="1700280"/>
            <a:ext cx="948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Conclusõ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297240" y="1916280"/>
            <a:ext cx="1843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25765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29052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29052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29433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25621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49240" y="2567880"/>
            <a:ext cx="8425080" cy="23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3600" indent="-363600" algn="just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ahoma"/>
              </a:rPr>
              <a:t>Os mecanismos de cobrança pelo uso de recursos hídricos estabelecidos pelos Comitês PCJ são adequados e os valores propostos são compatíveis com a capacidade de pagamento dos usuários e contribuirão parcialmente com o programa de investimentos previsto do Plano de Recursos Hídricos das bacia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ahoma"/>
              </a:rPr>
              <a:t>Sugere-se ao CNRH a aprovação dos mecanismos e valores de cobrança pelo uso de recursos hídricos encaminhados pelos Comitês PCJ na sua Deliberação Conjunta no 25, de 2005, considerando as sugestões de alteração apresentadas e consolidadas em minuta de Resolução CNR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3297240" y="1916280"/>
            <a:ext cx="1843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25765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29052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29052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29433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25621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568520" y="2276640"/>
            <a:ext cx="68403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Tahoma"/>
              </a:rPr>
              <a:t>Patrick Tho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3366"/>
                </a:solidFill>
                <a:latin typeface="Tahoma"/>
              </a:rPr>
              <a:t>Especialista em Recursos Hídricos, M.E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Tahoma"/>
              </a:rPr>
              <a:t>Superintendência de Outorga e Cobrança – SO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3366"/>
                </a:solidFill>
                <a:latin typeface="Tahoma"/>
              </a:rPr>
              <a:t>Agência Nacional de Águas – 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3366"/>
                </a:solidFill>
                <a:latin typeface="Tahoma"/>
              </a:rPr>
              <a:t>Setor Policial Sul – Área 5 – Quadra 3 – Bloco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3366"/>
                </a:solidFill>
                <a:latin typeface="Tahoma"/>
              </a:rPr>
              <a:t>Brasília – DF – 70610-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3366"/>
                </a:solidFill>
                <a:latin typeface="Tahoma"/>
              </a:rPr>
              <a:t>Tel: (61) 2109 - 5437  # Fax: (61) 2109 – 58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3366"/>
                </a:solidFill>
                <a:latin typeface="Tahoma"/>
              </a:rPr>
              <a:t>patrick@ana.gov.b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00160" y="1557360"/>
            <a:ext cx="410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Usos e Deman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281240" y="2276640"/>
          <a:ext cx="6984720" cy="384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1240" y="2276640"/>
                    <a:ext cx="6984720" cy="38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00160" y="1557360"/>
            <a:ext cx="410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Disponibilidade x 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505240" y="2386080"/>
          <a:ext cx="4176720" cy="3635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5240" y="2386080"/>
                    <a:ext cx="4176720" cy="36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6" name=""/>
          <p:cNvGrpSpPr/>
          <p:nvPr/>
        </p:nvGrpSpPr>
        <p:grpSpPr>
          <a:xfrm>
            <a:off x="3297240" y="1989000"/>
            <a:ext cx="5545080" cy="1656000"/>
            <a:chOff x="3297240" y="1989000"/>
            <a:chExt cx="5545080" cy="1656000"/>
          </a:xfrm>
        </p:grpSpPr>
        <p:sp>
          <p:nvSpPr>
            <p:cNvPr id="57" name=""/>
            <p:cNvSpPr/>
            <p:nvPr/>
          </p:nvSpPr>
          <p:spPr>
            <a:xfrm>
              <a:off x="3297240" y="2276640"/>
              <a:ext cx="3024360" cy="1368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6321600" y="2491920"/>
              <a:ext cx="1079280" cy="360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29600" y="1989000"/>
              <a:ext cx="151272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ahoma"/>
                </a:rPr>
                <a:t>Défic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ahoma"/>
                </a:rPr>
                <a:t>Hídri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608880" y="2781360"/>
            <a:ext cx="3111480" cy="1871640"/>
            <a:chOff x="6608880" y="2781360"/>
            <a:chExt cx="3111480" cy="1871640"/>
          </a:xfrm>
        </p:grpSpPr>
        <p:sp>
          <p:nvSpPr>
            <p:cNvPr id="61" name=""/>
            <p:cNvSpPr/>
            <p:nvPr/>
          </p:nvSpPr>
          <p:spPr>
            <a:xfrm>
              <a:off x="6608880" y="4005360"/>
              <a:ext cx="311148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Tahoma"/>
                </a:rPr>
                <a:t>Todos os usos são significan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048520" y="2781360"/>
              <a:ext cx="0" cy="100800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136520" y="3119400"/>
            <a:ext cx="8064720" cy="741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31800" y="1700280"/>
            <a:ext cx="7273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Mecanismos de Cobrança – Bases de cálc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1800" y="2421000"/>
            <a:ext cx="1584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Capt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806480" y="4229280"/>
            <a:ext cx="674712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31800" y="1700280"/>
            <a:ext cx="7273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Mecanismos de Cobrança – Bases de cálc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1800" y="2421000"/>
            <a:ext cx="410544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Tahoma"/>
              </a:rPr>
              <a:t>Captação – (Se Q</a:t>
            </a:r>
            <a:r>
              <a:rPr b="1" lang="pt-BR" sz="1800" spc="-1" strike="noStrike" baseline="-25000">
                <a:solidFill>
                  <a:srgbClr val="003366"/>
                </a:solidFill>
                <a:latin typeface="Tahoma"/>
              </a:rPr>
              <a:t>cap med</a:t>
            </a:r>
            <a:r>
              <a:rPr b="1" lang="pt-BR" sz="1800" spc="-1" strike="noStrike">
                <a:solidFill>
                  <a:srgbClr val="003366"/>
                </a:solidFill>
                <a:latin typeface="Tahoma"/>
              </a:rPr>
              <a:t> &lt; Q</a:t>
            </a:r>
            <a:r>
              <a:rPr b="1" lang="pt-BR" sz="1800" spc="-1" strike="noStrike" baseline="-25000">
                <a:solidFill>
                  <a:srgbClr val="003366"/>
                </a:solidFill>
                <a:latin typeface="Tahoma"/>
              </a:rPr>
              <a:t>cap out</a:t>
            </a:r>
            <a:r>
              <a:rPr b="1" lang="pt-BR" sz="1800" spc="-1" strike="noStrike">
                <a:solidFill>
                  <a:srgbClr val="003366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76160" y="3327480"/>
            <a:ext cx="8569440" cy="1068480"/>
          </a:xfrm>
          <a:prstGeom prst="rect">
            <a:avLst/>
          </a:prstGeom>
          <a:ln w="0">
            <a:noFill/>
          </a:ln>
        </p:spPr>
      </p:pic>
      <p:grpSp>
        <p:nvGrpSpPr>
          <p:cNvPr id="70" name=""/>
          <p:cNvGrpSpPr/>
          <p:nvPr/>
        </p:nvGrpSpPr>
        <p:grpSpPr>
          <a:xfrm>
            <a:off x="1208160" y="5445000"/>
            <a:ext cx="7632720" cy="429120"/>
            <a:chOff x="1208160" y="5445000"/>
            <a:chExt cx="7632720" cy="429120"/>
          </a:xfrm>
        </p:grpSpPr>
        <p:grpSp>
          <p:nvGrpSpPr>
            <p:cNvPr id="71" name=""/>
            <p:cNvGrpSpPr/>
            <p:nvPr/>
          </p:nvGrpSpPr>
          <p:grpSpPr>
            <a:xfrm>
              <a:off x="1208160" y="5445000"/>
              <a:ext cx="3600360" cy="429120"/>
              <a:chOff x="1208160" y="5445000"/>
              <a:chExt cx="3600360" cy="429120"/>
            </a:xfrm>
          </p:grpSpPr>
          <p:sp>
            <p:nvSpPr>
              <p:cNvPr id="72" name=""/>
              <p:cNvSpPr/>
              <p:nvPr/>
            </p:nvSpPr>
            <p:spPr>
              <a:xfrm>
                <a:off x="1208160" y="5589720"/>
                <a:ext cx="216000" cy="215640"/>
              </a:xfrm>
              <a:prstGeom prst="rect">
                <a:avLst/>
              </a:prstGeom>
              <a:noFill/>
              <a:ln w="255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496880" y="5445000"/>
                <a:ext cx="33116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66"/>
                    </a:solidFill>
                    <a:latin typeface="Tahoma"/>
                  </a:rPr>
                  <a:t>mecanismo adequad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5240160" y="5445000"/>
              <a:ext cx="3600720" cy="429120"/>
              <a:chOff x="5240160" y="5445000"/>
              <a:chExt cx="3600720" cy="429120"/>
            </a:xfrm>
          </p:grpSpPr>
          <p:sp>
            <p:nvSpPr>
              <p:cNvPr id="75" name=""/>
              <p:cNvSpPr/>
              <p:nvPr/>
            </p:nvSpPr>
            <p:spPr>
              <a:xfrm>
                <a:off x="5240160" y="5589720"/>
                <a:ext cx="216000" cy="215640"/>
              </a:xfrm>
              <a:prstGeom prst="rect">
                <a:avLst/>
              </a:prstGeom>
              <a:noFill/>
              <a:ln w="255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529240" y="5445000"/>
                <a:ext cx="33116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66"/>
                    </a:solidFill>
                    <a:latin typeface="Tahoma"/>
                  </a:rPr>
                  <a:t>mecanismo inadequad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7" name=""/>
          <p:cNvSpPr/>
          <p:nvPr/>
        </p:nvSpPr>
        <p:spPr>
          <a:xfrm>
            <a:off x="1065240" y="5373720"/>
            <a:ext cx="3603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31800" y="1700280"/>
            <a:ext cx="7273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Mecanismos de Cobrança – Bases de cálc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31800" y="2421000"/>
            <a:ext cx="41054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Consu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208160" y="5665680"/>
            <a:ext cx="7632720" cy="429120"/>
            <a:chOff x="1208160" y="5665680"/>
            <a:chExt cx="7632720" cy="429120"/>
          </a:xfrm>
        </p:grpSpPr>
        <p:grpSp>
          <p:nvGrpSpPr>
            <p:cNvPr id="81" name=""/>
            <p:cNvGrpSpPr/>
            <p:nvPr/>
          </p:nvGrpSpPr>
          <p:grpSpPr>
            <a:xfrm>
              <a:off x="1208160" y="5665680"/>
              <a:ext cx="3600360" cy="429120"/>
              <a:chOff x="1208160" y="5665680"/>
              <a:chExt cx="3600360" cy="429120"/>
            </a:xfrm>
          </p:grpSpPr>
          <p:sp>
            <p:nvSpPr>
              <p:cNvPr id="82" name=""/>
              <p:cNvSpPr/>
              <p:nvPr/>
            </p:nvSpPr>
            <p:spPr>
              <a:xfrm>
                <a:off x="1208160" y="5810400"/>
                <a:ext cx="216000" cy="215640"/>
              </a:xfrm>
              <a:prstGeom prst="rect">
                <a:avLst/>
              </a:prstGeom>
              <a:noFill/>
              <a:ln w="255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496880" y="5665680"/>
                <a:ext cx="33116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66"/>
                    </a:solidFill>
                    <a:latin typeface="Tahoma"/>
                  </a:rPr>
                  <a:t>mecanismo adequad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5240160" y="5665680"/>
              <a:ext cx="3600720" cy="429120"/>
              <a:chOff x="5240160" y="5665680"/>
              <a:chExt cx="3600720" cy="429120"/>
            </a:xfrm>
          </p:grpSpPr>
          <p:sp>
            <p:nvSpPr>
              <p:cNvPr id="85" name=""/>
              <p:cNvSpPr/>
              <p:nvPr/>
            </p:nvSpPr>
            <p:spPr>
              <a:xfrm>
                <a:off x="5240160" y="5810400"/>
                <a:ext cx="216000" cy="215640"/>
              </a:xfrm>
              <a:prstGeom prst="rect">
                <a:avLst/>
              </a:prstGeom>
              <a:noFill/>
              <a:ln w="255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529240" y="5665680"/>
                <a:ext cx="33116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66"/>
                    </a:solidFill>
                    <a:latin typeface="Tahoma"/>
                  </a:rPr>
                  <a:t>mecanismo inadequad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7" name=""/>
          <p:cNvSpPr/>
          <p:nvPr/>
        </p:nvSpPr>
        <p:spPr>
          <a:xfrm>
            <a:off x="1065240" y="5589720"/>
            <a:ext cx="3603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76160" y="2997360"/>
            <a:ext cx="8569440" cy="7412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806480" y="3909960"/>
            <a:ext cx="630072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31800" y="1700280"/>
            <a:ext cx="7273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Mecanismos de Cobrança – Bases de cálc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31800" y="2205000"/>
            <a:ext cx="41054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Lançamento (diluiçã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208160" y="5665680"/>
            <a:ext cx="7632720" cy="429120"/>
            <a:chOff x="1208160" y="5665680"/>
            <a:chExt cx="7632720" cy="429120"/>
          </a:xfrm>
        </p:grpSpPr>
        <p:grpSp>
          <p:nvGrpSpPr>
            <p:cNvPr id="93" name=""/>
            <p:cNvGrpSpPr/>
            <p:nvPr/>
          </p:nvGrpSpPr>
          <p:grpSpPr>
            <a:xfrm>
              <a:off x="1208160" y="5665680"/>
              <a:ext cx="3600360" cy="429120"/>
              <a:chOff x="1208160" y="5665680"/>
              <a:chExt cx="3600360" cy="429120"/>
            </a:xfrm>
          </p:grpSpPr>
          <p:sp>
            <p:nvSpPr>
              <p:cNvPr id="94" name=""/>
              <p:cNvSpPr/>
              <p:nvPr/>
            </p:nvSpPr>
            <p:spPr>
              <a:xfrm>
                <a:off x="1208160" y="5810400"/>
                <a:ext cx="216000" cy="215640"/>
              </a:xfrm>
              <a:prstGeom prst="rect">
                <a:avLst/>
              </a:prstGeom>
              <a:noFill/>
              <a:ln w="255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96880" y="5665680"/>
                <a:ext cx="33116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66"/>
                    </a:solidFill>
                    <a:latin typeface="Tahoma"/>
                  </a:rPr>
                  <a:t>mecanismo adequad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" name=""/>
            <p:cNvGrpSpPr/>
            <p:nvPr/>
          </p:nvGrpSpPr>
          <p:grpSpPr>
            <a:xfrm>
              <a:off x="5240160" y="5665680"/>
              <a:ext cx="3600720" cy="429120"/>
              <a:chOff x="5240160" y="5665680"/>
              <a:chExt cx="3600720" cy="429120"/>
            </a:xfrm>
          </p:grpSpPr>
          <p:sp>
            <p:nvSpPr>
              <p:cNvPr id="97" name=""/>
              <p:cNvSpPr/>
              <p:nvPr/>
            </p:nvSpPr>
            <p:spPr>
              <a:xfrm>
                <a:off x="5240160" y="5810400"/>
                <a:ext cx="216000" cy="215640"/>
              </a:xfrm>
              <a:prstGeom prst="rect">
                <a:avLst/>
              </a:prstGeom>
              <a:noFill/>
              <a:ln w="255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529240" y="5665680"/>
                <a:ext cx="33116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66"/>
                    </a:solidFill>
                    <a:latin typeface="Tahoma"/>
                  </a:rPr>
                  <a:t>mecanismo inadequad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9" name=""/>
          <p:cNvSpPr/>
          <p:nvPr/>
        </p:nvSpPr>
        <p:spPr>
          <a:xfrm>
            <a:off x="1065240" y="5589720"/>
            <a:ext cx="3603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162160" y="3567240"/>
            <a:ext cx="5940360" cy="546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712880" y="2867040"/>
            <a:ext cx="6840720" cy="550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2325600" y="4305240"/>
            <a:ext cx="5613480" cy="12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4T19:55:44Z</dcterms:created>
  <dc:creator>Laboratorio de Hidrologia</dc:creator>
  <dc:description/>
  <dc:language>en-US</dc:language>
  <cp:lastModifiedBy>Agencia Nacional de Aguas</cp:lastModifiedBy>
  <cp:lastPrinted>2001-06-06T00:02:34Z</cp:lastPrinted>
  <dcterms:modified xsi:type="dcterms:W3CDTF">2005-11-23T02:34:25Z</dcterms:modified>
  <cp:revision>804</cp:revision>
  <dc:subject/>
  <dc:title>Apresentação do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98972422</vt:r8>
  </property>
  <property fmtid="{D5CDD505-2E9C-101B-9397-08002B2CF9AE}" pid="3" name="_AuthorEmail">
    <vt:lpwstr>patrick@ana.gov.br</vt:lpwstr>
  </property>
  <property fmtid="{D5CDD505-2E9C-101B-9397-08002B2CF9AE}" pid="4" name="_AuthorEmailDisplayName">
    <vt:lpwstr>Patrick Thadeu Thomas</vt:lpwstr>
  </property>
  <property fmtid="{D5CDD505-2E9C-101B-9397-08002B2CF9AE}" pid="5" name="_EmailSubject">
    <vt:lpwstr>Cobranca Poluicao Franca.ppt</vt:lpwstr>
  </property>
  <property fmtid="{D5CDD505-2E9C-101B-9397-08002B2CF9AE}" pid="6" name="_ReviewingToolsShownOnce">
    <vt:lpwstr/>
  </property>
</Properties>
</file>