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whoosh.wav" ContentType="audio/x-wav"/>
  <Override PartName="/ppt/media/image3.png" ContentType="image/png"/>
  <Override PartName="/ppt/media/camera.wav" ContentType="audio/x-wav"/>
  <Override PartName="/ppt/media/carbrake.wav" ContentType="audio/x-wav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36FE-FCF5-4412-A186-A813B58A6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FA1A-2749-4E55-86D4-9D535A61F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05F0-DEE6-4B45-BF71-E1DFCBA66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84D8-4EEA-4368-B853-FF847CA32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D7209-10C5-4863-941D-F75832689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E27F1-6923-448C-AC70-9C82898DC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C934B-EFB3-4111-AE31-8E2387B7F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358C7-48DA-45BD-8318-3F56E3727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E4403-9A11-4E6E-98C8-31CCDC01D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F8F93-280C-4DA0-81F6-72CE63535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EEF0C-458A-4954-8658-DF49CBCC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9C67-86FA-4ACA-A95E-00768979A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74C5D-6423-4152-AF8C-2F1CF0B3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D618B-5BE6-4863-AE37-DD6734ED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D6081-E68A-443E-B0B9-4B98FF252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54859-51A7-431D-BE5A-B997AD62D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E2D1F-D94E-411A-9C93-A3B8D6F28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B32E-8E94-479A-9C25-26E9AD157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F5E9-8AA7-4EFC-ADA8-FC689E701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EC5E-C725-4A58-8D11-7B69D03A4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9098-778B-45EB-AE6C-15C3EDEFD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DD67-A49F-4EB0-A7A1-0D971C77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0576-EECA-40CE-97D1-FFC1822B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B2C5-C060-4355-A848-A3B3565A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73516-8FA8-440D-8F20-2EA51D3A9E32}" type="slidenum">
              <a:rPr b="0" lang="pt-BR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AEC30-1FDA-493F-8296-01E10BE657A3}" type="slidenum">
              <a:rPr b="0" lang="pt-BR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audio" Target="../media/carbrake.wav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INSTRUMENTO DA COBRANÇA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OPINIÕES E RECOMENDAÇÕE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Saneamento Básico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ONCEITOS GERAIS PARA INTRODUÇÃO DA COBRANÇA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       </a:t>
            </a:r>
            <a:r>
              <a:rPr b="0" lang="en-US" sz="3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Para a credibilidade da cobrança, deve-se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ter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- Participação dos usuários da bacia, com      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representatividade da sociedade, 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na             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formação do preço a ser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cobrado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- Total transparência na gestão dos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recursos financeiros obtidos da cobrança.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- Total certeza de que os valores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arrecadados em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uma Bacia serão nela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aplicados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ONCEITOS GERAIS PARA INTRODUÇÃO DA COBRANÇA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 cobrança deverá levar em consideração os seguintes itens, entre outros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Preço Público Unitário (PPU)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Volumes Captado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     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Volumes Consumidos ( perda inerente )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Despejo de efluente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Classe de corpo líquido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ONCEITOS GERAIS PARA INTRODUÇÃO DA COBRANÇA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- O PPU deverá  estar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sujeito as leis de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mercado (oferta x demanda)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- O PPU  deverá respeitar as 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sazonalidades. 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(Período seco e úmido).</a:t>
            </a:r>
            <a:endParaRPr b="0" lang="en-US" sz="3000" spc="-1" strike="noStrike">
              <a:solidFill>
                <a:srgbClr val="00264c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- O Preço Público Unitário (PPU), precisa de 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ser estudado tecnicamente, tirando-se a 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sua 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formação por base empírica.</a:t>
            </a:r>
            <a:endParaRPr b="0" lang="en-US" sz="3000" spc="-1" strike="noStrike">
              <a:solidFill>
                <a:srgbClr val="00264c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- Na formação do preço de cobrança devemos 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dar 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maior peso ao componente poluidor e 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menor peso ao componente captação  de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água.</a:t>
            </a:r>
            <a:endParaRPr b="0" lang="en-US" sz="3000" spc="-1" strike="noStrike">
              <a:solidFill>
                <a:srgbClr val="00264c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RECOMENDAÇÕE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Propomos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) Que a CTIL/CTCOB realize seminário  sobre o tema: “A Política de Recursos Hídricos e a Cobrança pelo Uso da Água”, tendo como convidados as Prestadoras de Serviços deste segmento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b) Que a CTCOB crie um grupo técnico para estudar um embasamento técnico, para a definição do PPU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IMPACTOS SETORIAIS DA COBRANÇ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 quase totalidade das </a:t>
            </a:r>
            <a:r>
              <a:rPr b="0" lang="en-US" sz="3200" spc="-1" strike="noStrike" u="sng">
                <a:solidFill>
                  <a:srgbClr val="00264c"/>
                </a:solidFill>
                <a:uFillTx/>
                <a:latin typeface="Times New Roman"/>
              </a:rPr>
              <a:t>prestadoras de serviço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, teriam dificuldades de absorver aumento de dispêndios em sua estrutura de custos;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bsorver a cobrança implica sempre em adequar custos ou postergar investimentos, algo sempre complicado de se fazer;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8305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IMPACTOS SETORIAIS DA COBRANÇ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Não é intenção repassar custos para o usuário final, que terá dificuldades de absorver aumentos tarifários. Reflexo desse aumento: crescimento da </a:t>
            </a:r>
            <a:r>
              <a:rPr b="0" lang="en-US" sz="3200" spc="-1" strike="noStrike" u="sng">
                <a:solidFill>
                  <a:srgbClr val="00264c"/>
                </a:solidFill>
                <a:uFillTx/>
                <a:latin typeface="Times New Roman"/>
              </a:rPr>
              <a:t>inadimplência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É um dilema que o setor deverá analisar, discutir e a decisão será sempre caso a caso;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 tarifa pelo uso tem de ter valores módicos e ser referendada por instância superior aos Comitês de Bacia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DEFINIÇÃO DE USOS INSIGNIFICANTE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O universo das Prestadoras de Serviços inclui as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ESB;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AE’S, DAAE’S (Municipal);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Empresas Privada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Dentro deste universo, é difícil inserir o conceito de uso insignificante, pois quase todas estas “unidades consumidoras” são representativas a nível da utilização dos recursos hídrico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3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8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LIMITES DE SUSTENTABILIDADE ECONÔMICA DA COBRANÇA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628280"/>
            <a:ext cx="7772400" cy="461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imes New Roman"/>
              </a:rPr>
              <a:t>O Brasil é muito diversificado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imes New Roman"/>
              </a:rPr>
              <a:t>O limite de sustentabilidade estará  sempre atrelado ao cenário econômico de cada região e como a Bacia Hidrográfica se insere dentro desse  cenário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imes New Roman"/>
              </a:rPr>
              <a:t>Nessa situação, é muito difícil definir um limite de sustentabilidade da cobrança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QUANDO IMPLANTAR A COBRANÇA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umprir a Lei 9.433/97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apítulo IV –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ção IV – Da cobrança do uso dos Recursos Hídrico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ítulo II – Capítulo III – Dos comitês de Bacia Hidrográfica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ítulo II – Capítulo IV – Das agências de água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QUANDO IMPLANTAR A COBRANÇA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6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</a:rPr>
              <a:t>Durante o andamento dos trâmites para cumprimento itens da lei retromencionada, os Comitês de Bacia deverão:</a:t>
            </a:r>
            <a:endParaRPr b="0" lang="en-US" sz="27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</a:rPr>
              <a:t>Realizar amplo debate entre usuários e a sociedade, visando:</a:t>
            </a:r>
            <a:endParaRPr b="0" lang="en-US" sz="27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64c"/>
                </a:solidFill>
                <a:latin typeface="Symbol"/>
                <a:ea typeface="Symbol"/>
              </a:rPr>
              <a:t>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Explicar o que é a COBRANÇA.</a:t>
            </a:r>
            <a:endParaRPr b="0" lang="en-US" sz="27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64c"/>
                </a:solidFill>
                <a:latin typeface="Symbol"/>
                <a:ea typeface="Symbol"/>
              </a:rPr>
              <a:t>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Desenvolvimento amplo programa Plano de Educação Ambiental.</a:t>
            </a:r>
            <a:endParaRPr b="0" lang="en-US" sz="27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64c"/>
                </a:solidFill>
                <a:latin typeface="Symbol"/>
                <a:ea typeface="Symbol"/>
              </a:rPr>
              <a:t>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Mostrando claramente a situação de degradação da Bacia (quantitativamente e qualitativamente).</a:t>
            </a:r>
            <a:endParaRPr b="0" lang="en-US" sz="27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64c"/>
                </a:solidFill>
                <a:latin typeface="Symbol"/>
                <a:ea typeface="Symbol"/>
              </a:rPr>
              <a:t>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Dando ampla divulgação junto aos usuários da Bacia daquilo que está sendo realizado.</a:t>
            </a:r>
            <a:endParaRPr b="0" lang="en-US" sz="27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64c"/>
                </a:solidFill>
                <a:latin typeface="Symbol"/>
                <a:ea typeface="Symbol"/>
              </a:rPr>
              <a:t>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Discutir o Plano de Bacia, de forma democrática, com a participação da Sociedade e dos usuários.</a:t>
            </a:r>
            <a:endParaRPr b="0" lang="en-US" sz="27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ONCEITOS GERAIS PARA INTRODUÇÃO DA COBRANÇA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Introdução do conceito de auto sustentabilidade econômica da Bacia Hidrográfica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264c"/>
                </a:solidFill>
                <a:latin typeface="Symbol"/>
                <a:ea typeface="Symbol"/>
              </a:rPr>
              <a:t>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Este conceito tem por base que, a unidade territorial Bacia Hidrográfica seja um “ente econômico” capaz de no </a:t>
            </a:r>
            <a:r>
              <a:rPr b="0" lang="en-US" sz="2800" spc="-1" strike="noStrike" u="sng">
                <a:solidFill>
                  <a:srgbClr val="00264c"/>
                </a:solidFill>
                <a:uFillTx/>
                <a:latin typeface="Times New Roman"/>
                <a:ea typeface="Times New Roman"/>
              </a:rPr>
              <a:t>médio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e </a:t>
            </a:r>
            <a:r>
              <a:rPr b="0" lang="en-US" sz="2800" spc="-1" strike="noStrike" u="sng">
                <a:solidFill>
                  <a:srgbClr val="00264c"/>
                </a:solidFill>
                <a:uFillTx/>
                <a:latin typeface="Times New Roman"/>
                <a:ea typeface="Times New Roman"/>
              </a:rPr>
              <a:t>longo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prazos encontrar a maioria das soluções para os seus próprios problemas, preservando os seus corpos líquidos e assegurando as necessidades de gerações futuras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ONCEITOS GERAIS PARA INTRODUÇÃO DA COBRANÇA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Baseado neste conceito, deveremos ter em mente os seguintes princípios: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a)  Isonomia de Tratamento aos Integrantes da Bacia.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Inexistência de isenções de qualquer espécie.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 u="sng">
                <a:solidFill>
                  <a:srgbClr val="00264c"/>
                </a:solidFill>
                <a:uFillTx/>
                <a:latin typeface="Times New Roman"/>
                <a:ea typeface="Times New Roman"/>
              </a:rPr>
              <a:t>“Todos devem pagar”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b) Isonomia de Aplicação, o que implicaria na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aplicação, ao mesmo tempo, da cobrança a todos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os setores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   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9T16:06:44Z</dcterms:created>
  <dc:creator>Katia Lepletier</dc:creator>
  <dc:description/>
  <dc:language>en-US</dc:language>
  <cp:lastModifiedBy>Katia Lepletier</cp:lastModifiedBy>
  <dcterms:modified xsi:type="dcterms:W3CDTF">2002-09-24T17:56:41Z</dcterms:modified>
  <cp:revision>39</cp:revision>
  <dc:subject/>
  <dc:title>Apresentação do PowerPoint</dc:title>
</cp:coreProperties>
</file>