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F08B-48C5-4890-AF8A-DABBB0601C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7B47-069E-4CD3-A283-BF29F489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632D8-AB8B-46DC-BE9B-50FB6CB9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510C-1735-4715-98F4-6C4A11B5EB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AF20C-AE31-4C70-9247-C8FAFE2C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44AAC-AE89-4854-8F43-87B777E3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3B4CF-5EE8-44AA-92FE-74D81906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1E157-BF1D-415A-9EE3-86852F67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62444-3BB9-4EE8-BB61-96EB007A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966A6-7486-4C51-957B-749703FD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90C2A-5C38-4FEF-B569-27FA24DF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080D6-51DC-4D99-A508-BCCC2940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829EA-C406-4AB3-8383-9FFA26E8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7614A-146C-4A7D-87A2-8E7B66AC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31FC3-64C5-4FD0-B8E7-4507125E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3E80A-CA1D-40C6-B0FA-16D305F6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579ED-77D0-4F43-A026-9C1F1167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98AF-9F04-42F5-92BE-1FA5C575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262D8-163E-4849-8ABB-B35090FB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B39EF-934B-4463-A909-D0ECC39E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42774-2256-437D-92C9-649BF815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72BB4-227E-45E9-9658-323B4660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2D9F0-BE1F-487D-AB86-90212465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3AAC-F713-478A-B31F-99E81ECD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505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1B32-F3E4-4305-92F8-60AB1019ED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4D8B-6C45-41E1-8511-3470360449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3978360"/>
            <a:ext cx="8136000" cy="167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ção Regional dos Usuários de Recursos Hídricos do Brasil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e: Caldas Novas – 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57280" y="981000"/>
            <a:ext cx="62308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5160" y="260280"/>
            <a:ext cx="57736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pos de Empreendi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 do mar para lazer e entretenimento e água doce de poços tubulares somente para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cursos de água doce, rios e lagos, “in situ”, ou por meio de derivação ou captação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s superficiais ou subterrâneas, consideradas minerais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42440" y="260280"/>
            <a:ext cx="6459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o Setoriais da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ação dos custos dos empreend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cia do rio Paraíba do Sul, critérios e valores para uso industrial e saneamento básico: água captada + água consumida + variação de DBO entre captação e devolu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generalizada para o setor turístico em termo de Brasil ou regional, é prem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mo em mananciais tão próximos com Caldas Novas e Rio Quente, há diferenciações técnicas consideráveis e complex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60480" y="260280"/>
            <a:ext cx="72230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finição de “Usos Insignificant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ve variar de bacia para bacia, considerando quantidade e qualidade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“in situ” que não altere o volume e a qualidade dos corpos d’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Águas subterrâneas extraídas, quando devolvidas em igual volume e qualidade por intermédio de recarga arti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eito de Berlim - Alemanha: desde que o usuário não cause alteração no equilíbrio do corpo d’água, nada deve ser cob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6000" y="260280"/>
            <a:ext cx="85338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ites de Sustentabilidade Econômica da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É necessário que se faça avaliação profunda do setor turístico, partindo do âmbito nacional para os regionais e até mesmo para os loc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limites e condições da cobrança se processam em termos de bacia hidrográ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smo no caso da bacia do rio Paraíba do Sul ainda aguarda-se soluções relacionadas a dominialidade para os recursos hídricos subterrâneos e/ou miner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5080" y="260280"/>
            <a:ext cx="849420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para Avaliações de Subsíd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1635120"/>
            <a:ext cx="80647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ar todos os fundamentos econômico-financeiros e sociais da ativ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resas turísticas são de natureza muito variada em seus níveis de atividade, de infra-estrutura aplicada, de insumos utilizados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ismo – atividade “limpa”: atenuação do grau de agressividade ao equilíbrio natural dos 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200" y="260280"/>
            <a:ext cx="894996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de Tetos Máximos de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199404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lumbramos como fórmula mais justa aquela que levar em conta, que ao usuário que promova a devolução da água em sua plenitude mantendo o equilíbrio do corpo d’água não seja imposto qualquer tipo de 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7040" y="260280"/>
            <a:ext cx="88110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as Considerações Sobre os Critérios de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1295280"/>
            <a:ext cx="8064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termais: foco e essência do turismo na Região das Águas Qu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elo grau de pure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 serem de uso limi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que carecem de ampla proteção e preserv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erimos, mecanismos de compensação às empresas que investirem na manutenção e equilíbrio do corpo hídrico e do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16360" y="5013360"/>
            <a:ext cx="309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ernando Gamb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ábio Haesba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Jáckson A. R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p. TH. Lázaro Cun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aboração - A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0840" y="333000"/>
            <a:ext cx="6861960" cy="1191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ÁGUA PARA O TURISM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OBRANÇA PELO SEU U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1120" y="5013360"/>
            <a:ext cx="295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abor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Emerson M.C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cn. Marcos F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Leila P. Pas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g. Valter E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57280" y="1700280"/>
            <a:ext cx="6230880" cy="2919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4978440"/>
            <a:ext cx="691344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3360" y="26028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4360" y="1197000"/>
            <a:ext cx="8423280" cy="4953600"/>
            <a:chOff x="684360" y="1197000"/>
            <a:chExt cx="8423280" cy="49536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684360" y="1197000"/>
              <a:ext cx="8423280" cy="47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532920" y="5813280"/>
              <a:ext cx="195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EMBRAT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3360" y="26676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03280" y="1214280"/>
            <a:ext cx="8136000" cy="4914360"/>
            <a:chOff x="503280" y="1214280"/>
            <a:chExt cx="8136000" cy="4914360"/>
          </a:xfrm>
        </p:grpSpPr>
        <p:sp>
          <p:nvSpPr>
            <p:cNvPr id="99" name=""/>
            <p:cNvSpPr/>
            <p:nvPr/>
          </p:nvSpPr>
          <p:spPr>
            <a:xfrm>
              <a:off x="503280" y="1214280"/>
              <a:ext cx="8136000" cy="451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mundial – 12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Brasil - Receita direta e indireta R$39,1(bilhões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nacional – 3,5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io de Janeiro, Florianópolis e Salvador, recebem 63% do fluxo internacion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Gasto médio per capita/dia: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Internacional - US$ 79,08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Doméstico - R$ 25,3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81880" y="57913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9640" y="1355760"/>
            <a:ext cx="8064360" cy="4426560"/>
            <a:chOff x="539640" y="1355760"/>
            <a:chExt cx="8064360" cy="4426560"/>
          </a:xfrm>
        </p:grpSpPr>
        <p:sp>
          <p:nvSpPr>
            <p:cNvPr id="105" name=""/>
            <p:cNvSpPr/>
            <p:nvPr/>
          </p:nvSpPr>
          <p:spPr>
            <a:xfrm>
              <a:off x="539640" y="1355760"/>
              <a:ext cx="8064360" cy="4040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m volume de geração de divisas, só perde para a so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ada US$7(mil) deixados no Brasil repercute na manutenção de 1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170(mil) na Indústria automobilística ou R$40(mil) num hotel ou R$10(mil) num restaurante geram 1 novo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50 de matéria-prima emprega um artesã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4920" y="5445000"/>
              <a:ext cx="21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38960" y="26028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653000"/>
            <a:ext cx="7920000" cy="79200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11280" y="1197000"/>
            <a:ext cx="7920000" cy="4637880"/>
            <a:chOff x="611280" y="1197000"/>
            <a:chExt cx="7920000" cy="4637880"/>
          </a:xfrm>
        </p:grpSpPr>
        <p:grpSp>
          <p:nvGrpSpPr>
            <p:cNvPr id="112" name=""/>
            <p:cNvGrpSpPr/>
            <p:nvPr/>
          </p:nvGrpSpPr>
          <p:grpSpPr>
            <a:xfrm>
              <a:off x="611280" y="1197000"/>
              <a:ext cx="7920000" cy="4247640"/>
              <a:chOff x="611280" y="1197000"/>
              <a:chExt cx="7920000" cy="4247640"/>
            </a:xfrm>
          </p:grpSpPr>
          <p:sp>
            <p:nvSpPr>
              <p:cNvPr id="113" name=""/>
              <p:cNvSpPr/>
              <p:nvPr/>
            </p:nvSpPr>
            <p:spPr>
              <a:xfrm>
                <a:off x="760680" y="1197000"/>
                <a:ext cx="7546320" cy="42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eração de Empregos Diretos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An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Geral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Turismo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3.830.81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882.215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5.752.249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1.241.708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anh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8,06%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40,75%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1280" y="1274400"/>
                <a:ext cx="7920000" cy="41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1280" y="213696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1280" y="300060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1280" y="37915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1280" y="46537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9456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1128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166880" y="54975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RA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9640" y="1332000"/>
            <a:ext cx="8064720" cy="4595040"/>
            <a:chOff x="539640" y="1332000"/>
            <a:chExt cx="8064720" cy="4595040"/>
          </a:xfrm>
        </p:grpSpPr>
        <p:sp>
          <p:nvSpPr>
            <p:cNvPr id="126" name=""/>
            <p:cNvSpPr/>
            <p:nvPr/>
          </p:nvSpPr>
          <p:spPr>
            <a:xfrm>
              <a:off x="539640" y="1332000"/>
              <a:ext cx="8064720" cy="4218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tua em 53 segmentos diferentes da econom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5% turismo é domésti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7% das viagens tem motivação turíst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3% dos turistas se hospedam em casas de amig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s Estados do Brasil Central, apesar do potencial, emitem de 2 a 3 vezes mais turista do que receb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75400" y="55897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5400" y="260280"/>
            <a:ext cx="42728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ção ao T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1368360"/>
            <a:ext cx="80647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 escassez e poluição cresc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cientização  da interdependência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–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ição de 1988: bem de domínio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ito novo: contradições e dúv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em valores reais: enfoques distintos pelos diferentes setores econô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no TURISMO: essencial x subesti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41440" y="260280"/>
            <a:ext cx="8061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eitos Preliminares - Pressupos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1368360"/>
            <a:ext cx="806472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de superfícies e subterrâneas, único sistema na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hecer a água como bem público com valor econôm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rgente necessidade de racionalizar o uso da 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inação dos recursos para programas e intervenções para conseguir auto-sustentação e manutenção dos regimes naturais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8:36:37Z</dcterms:created>
  <dc:creator>CTRQ</dc:creator>
  <dc:description/>
  <dc:language>en-US</dc:language>
  <cp:lastModifiedBy>CTRQ</cp:lastModifiedBy>
  <dcterms:modified xsi:type="dcterms:W3CDTF">2002-09-25T14:53:38Z</dcterms:modified>
  <cp:revision>30</cp:revision>
  <dc:subject/>
  <dc:title>Apresentação do PowerPoint</dc:title>
</cp:coreProperties>
</file>