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C44-9E19-4B0F-84A6-EDECD3F4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7D9-0BC7-4C85-AF1D-0C739E50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B69-7587-41FF-A512-A105268F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DF78-8A5C-47C1-AAA2-26A2A199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0211-C588-4F64-8092-55F68125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1F6-BEA6-400E-8BA4-74278E0B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B6C-13E9-4FDC-B54D-479FCBEE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D67-36DA-4A12-80AE-782205ED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DD5-DDB1-4B0A-8290-BBCD06D9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6F7D-2763-445D-8BCE-0FE1950F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F86-03B7-49A7-B6CB-4715A173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D12-D3FB-4393-9434-954EEB7C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D507-03FD-43A9-8102-221F830DE4B3}" type="slidenum">
              <a:rPr b="0" lang="pt-BR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O IMPACTO DA COBRANÇA PELO USO DA ÁGUA 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NO COMPORTAMENTO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 DO USUÁRIO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Marilene de O. Ramos M. dos Santo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D.Sc. Engenharia Ambiental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oordenadora do Núcleo de Água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IDS/EBAPE/FGV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45960" y="255600"/>
          <a:ext cx="845208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55600"/>
                    <a:ext cx="845208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71680" y="1257480"/>
          <a:ext cx="7981920" cy="56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57480"/>
                    <a:ext cx="79819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3520" y="2590920"/>
          <a:ext cx="8065800" cy="30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06580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</a:t>
            </a:r>
            <a:br>
              <a:rPr sz="3200"/>
            </a:b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O impacto da cobrança sobre o usuário industri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6280" y="1447920"/>
          <a:ext cx="817236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447920"/>
                    <a:ext cx="81723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1960" y="38160"/>
            <a:ext cx="8021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50800" y="835200"/>
          <a:ext cx="8042400" cy="518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835200"/>
                    <a:ext cx="8042400" cy="51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752480"/>
            <a:ext cx="84582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Inglaterra e País de Gales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1,5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Financia apenas os custos do sistema de gestão (administrativos e de monitoramento)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Franç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30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Gera recursos para financiar parte dos investimento contemplados nos planos de bacia e os custos administrativos dos comitês/agências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Holand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43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ressarcimento às agências dos custos incorridos para tratamento dos efluentes nas estações sob sua responsabilidade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ahoma"/>
              </a:rPr>
              <a:t>Avaliação das experiências/propostas brasileiras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39840"/>
          <a:ext cx="8993160" cy="43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39840"/>
                    <a:ext cx="899316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Analisar o impacto da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cobrança pelo uso da água bruta e da cobrança-tarifaç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ão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de água e esgoto 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sobre o comportamento do usuári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2860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 global do estudo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Impactos da cobrança pelo uso da água sobre as tarifas de saneamento no Brasi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320" y="1295280"/>
          <a:ext cx="8991360" cy="52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95280"/>
                    <a:ext cx="8991360" cy="52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04920"/>
          <a:ext cx="83059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0"/>
          <a:ext cx="82296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229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1828800"/>
          <a:ext cx="7591320" cy="421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59132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Tarifa x Consum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Países da OCD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cc"/>
                </a:solidFill>
                <a:latin typeface="Tahoma"/>
              </a:rPr>
              <a:t>Relação Tarifas x Consumo no Brasil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Brasil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: R$55/hab.ano =1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 e esgoto: R$107/hab.ano = 2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aíses da OCD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+Esgoto = 0,3 a 0,8% da renda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passe para as tarifas dos custos de ampliação destes é limitad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Tarifas ponderadas elevadas e níveis de consumo moderados para um país tropical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Tarifa média = US$1,13/m³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sumo médio = 150l/hab.di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fasagem entre custos de provisão e tarifas vem se reduzindo, média de  6% (2000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Médi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m cobrança nas bacias do Amazonas, Tocantins e Paraguai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mais bacias adotou-se como “</a:t>
            </a:r>
            <a:r>
              <a:rPr b="1" i="1" lang="pt-BR" sz="2600" spc="-1" strike="noStrike">
                <a:solidFill>
                  <a:srgbClr val="4d4d4d"/>
                </a:solidFill>
                <a:latin typeface="Tahoma"/>
              </a:rPr>
              <a:t>cobrança unitária per capita de médio prazo”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 os seguintes valore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N/NE e São Francisco: US$0,6/hab.ano (similar ao Ceará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Leste, Uruguai e Vertente S/SE: US$1,3/hab.ano (similar ao Paraíba do Sul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Bacia do Paraná US$5/hab.ano (similar ao proposto para São Paulo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Long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 futura em níveis similares ao sistema francês, mas ponderado pela capacidade de pagamento existente em cada bacia (renda per capita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Cobrança Longo Prazo (US$/hab.ano)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= 30*PIB</a:t>
            </a:r>
            <a:r>
              <a:rPr b="1" lang="pt-BR" sz="2600" spc="-1" strike="noStrike" baseline="-25000">
                <a:solidFill>
                  <a:srgbClr val="ff3300"/>
                </a:solidFill>
                <a:latin typeface="Tahoma"/>
              </a:rPr>
              <a:t>BACIA</a:t>
            </a: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/23.954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nd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francesa = US$30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IB França = US$23.954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15920" y="380880"/>
          <a:ext cx="891396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380880"/>
                    <a:ext cx="89139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s em Água e Esgoto (SEDU, 1998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$44 bilhões, até 2010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20 bilhões em coleta de esgoto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10 bilhões em tratamento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 7 bilhões em distribuição de água; 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7bilhões em reposição dos sistemas existent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 em redução da poluição industrial (MENDES, 1994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50% da carga poluente: US$815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75% da carga poluente: US$1.006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áximo da carga poluente: US$1.659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 (cont)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1800"/>
              </a:spcBef>
              <a:buClr>
                <a:srgbClr val="4d4d4d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nálise da experiência estrangeira de cobrança pelo uso da água bruta em termos de eficiência e efetividade (financeira e econômica), impacto ambiental, praticabilidade e aceitabilida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2) Análise das práticas dos países da OCDE em termos d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 de água e esgot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e seu impacto sobre o usuário doméstic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3) Avali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as potencialidades, impactos e limites da cobrança 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e água no Brasil,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à luz da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experiência estrangeir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s específicos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algumas constat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Limitações para tanto da cobrança pelo uso da água bruta, como da cobrança pelos serviços de saneamento de gerar os recursos necessários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es usuários: o que pagam ou pagarão não será suficiente para a reversão do quadr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 público e os organismos de fomento: Buscar fontes de financiamento de “baixo custo” para gestão e investiment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m capacidade de intervenção e melhoria real dos problemas que afetam a qualidade da água e a disponibilidade hídrica, sistema pode cair em descrédito, e a cobrança passa a ser vista como apenas mais um impost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Gradualismo e simplicidade: qualidades essenciais, dentro do já complicado sistema federalista brasilei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Criação de agências de bacias ou sub-bacias precedida de análise de sua sustentabilidade econômico-financeira, social e técnica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Uniformidade na cobrança pelo uso da água: metodologias díspares em cada bacia ou sub-bacia, reduz transparência, prejudica a aceitabilidade e o impacto ambiental da aplicação do instrument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recomend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81240" y="144756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etividade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sistema de gestão de gerar receitas para financiamento das atividades necessárias ao alcance dos objetivos para os quais o sistema foi montad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é relativa aos custos de transação decorrentes dos encargos gerados para as autoridades responsáveis por sua aplicação e para os usuári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econômic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a cobrança de incorporar os custos sociais (externalidades) dos us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Impacto ambiental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instrumento de influenciar o comportamento dos usuários e melhorar a qualidade ambienta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Praticabilidade e Aceitabilida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Cobrança pelo uso da água x Instrumento Econômico</a:t>
            </a:r>
            <a:r>
              <a:rPr b="0" lang="pt-BR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doméstico individua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duz uso quant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Não tem controle sobre o uso qual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ode privilegiar confort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Limitações macroeconômic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Prestadores dos serviços de água e esgot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2251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Se repassam não são induzidos a reduzir us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industrial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tremamente sensível à cobrança quantitativ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is sensível à cobrança qualitativa quando descarrega os efluentes diretamente nos corpos hídric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scarga em rede pública: depende dos padrões permitidos e do tipo de tarifa/cobranç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Cobrança da água bruta na França, Alemanha, Holanda e </a:t>
            </a:r>
            <a:br>
              <a:rPr sz="3600"/>
            </a:b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Inglaterra &amp; País de Gales 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Cobrança nos países analisad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não se baseia nos danos ambientais decorrentes do uso da águ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é um instrumento arrecada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Desvinculação entre a cobrança por qualidade e por quantidad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s por captação e por consumo incidem sobre o volume outorgado/licenciad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por kg de poluente presente no efluente final (tabelas de cargas poluentes por tipologia e porte da fonte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fórmula única definida nacionalmente e incide sobre fatores de cobrança também definidos nacionalment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gradual (valores unitários e  novos poluentes)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6:30:18Z</dcterms:created>
  <dc:creator>FGV</dc:creator>
  <dc:description/>
  <dc:language>en-US</dc:language>
  <cp:lastModifiedBy>Mramos</cp:lastModifiedBy>
  <cp:lastPrinted>2002-04-01T16:57:58Z</cp:lastPrinted>
  <dcterms:modified xsi:type="dcterms:W3CDTF">2002-09-24T22:47:50Z</dcterms:modified>
  <cp:revision>56</cp:revision>
  <dc:subject/>
  <dc:title>O IMPACTO DA COBRANÇA PELO USO DA ÁGUA NO COMPORTAMENTO DO USUÁRIO</dc:title>
</cp:coreProperties>
</file>