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camera.wav" ContentType="audio/x-wav"/>
  <Override PartName="/ppt/media/carbrak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025-A4ED-42E4-BBEF-85E31D02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3C7-C633-456D-A702-68E10BA6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22F-F4E4-42AD-8A1D-4D83725B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8B7-F1A8-43FF-A31A-2D69BF6C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3B30-DA3B-4871-BC25-59A50D29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CD9F-0A96-4C5C-A1FD-DA95E432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FCAD-720F-4424-B84A-D2F02D22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5C8D-FF9D-4AA7-AE2A-E4EAD880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EF5D-C8D8-4767-AAD9-465A380B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3D87-FB3C-4AF6-B794-CACA4B1A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D454-0C80-4AE8-847F-EA59DB72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402-9293-4BCF-AFCF-B5D7702E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C600-45CD-4EA2-9CBB-B9260E69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A955-3931-4E4A-AED3-A43124B7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8742-82EA-43A0-8BA8-AF63D282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2D5F-7ABE-4951-93DA-0DE508D3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A612-4B0D-46EC-91CB-8409849D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B12B-8CF7-48E1-A2DB-83C0D79C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4DB-5090-4F52-8860-D6DD809B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69E-D816-4A64-AB04-198E1C24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5E9-7AA2-477D-9F69-16F160D4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503-18CA-4871-AF88-D094B911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44F-50F5-4766-BFB4-C6EEBC58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988D-2EE3-4B72-BF73-5469F33E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AEB9-C5AD-4632-899C-3FD598BA701C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D9E4-D069-4816-AB10-5C11B32692B1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INSTRUMENTO DA COBRANÇA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OPINIÕES E RECOMENDAÇÕ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Saneamento Básic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ara a credibilidade da cobrança, deve-s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er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Participação dos usuários da bacia, com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presentatividade da sociedade,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a       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rmação do preço a ser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br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transparência na gestão do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cursos financeiros obtidos da cobrança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certeza de que os valore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rrecadados em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uma Bacia serão nela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do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obrança deverá levar em consideração os seguintes itens, entre outr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ço Público Unitário (PPU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aptad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onsumidos ( perda inerente 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pejo de efluen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lasse de corpo líquido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O PPU deverá  estar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ujeito as leis de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ercado (oferta x demanda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PU  deverá respeitar a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azonalidades.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(Período seco e úmido)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reço Público Unitário (PPU), precisa d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er estudado tecnicamente, tirando-se 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u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formação por base empíric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Na formação do preço de cobrança devemo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dar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aior peso ao componente poluidor 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enor peso ao componente captação  de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águ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RECOMENDAÇÕ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pom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) Que a CTIL/CTCOB realize seminário  sobre o tema: “A Política de Recursos Hídricos e a Cobrança pelo Uso da Água”, tendo como convidados as Prestadoras de Serviços deste segmen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) Que a CTCOB crie um grupo técnico para estudar um embasamento técnico, para a definição do PPU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quase totalidade das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prestadoras de serviço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, teriam dificuldades de absorver aumento de dispêndios em sua estrutura de custos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bsorver a cobrança implica sempre em adequar custos ou postergar investimentos, algo sempre complicado de se fazer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ão é intenção repassar custos para o usuário final, que terá dificuldades de absorver aumentos tarifários. Reflexo desse aumento: crescimento da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inadimplência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É um dilema que o setor deverá analisar, discutir e a decisão será sempre caso a caso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tarifa pelo uso tem de ter valores módicos e ser referendada por instância superior aos Comitês de Baci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EFINIÇÃO DE USOS INSIGNIFICANT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 universo das Prestadoras de Serviços inclui a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ESB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AE’S, DAAE’S (Municipal)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mpresas Privad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entro deste universo, é difícil inserir o conceito de uso insignificante, pois quase todas estas “unidades consumidoras” são representativas a nível da utilizaçã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LIMITES DE SUSTENTABILIDADE ECONÔMICA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28280"/>
            <a:ext cx="77724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Brasil é muito diversific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limite de sustentabilidade estará  sempre atrelado ao cenário econômico de cada região e como a Bacia Hidrográfica se insere dentro desse  cenári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essa situação, é muito difícil definir um limite de sustentabilidade da cobranç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umprir a Lei 9.433/97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pítulo IV –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ção IV – Da cobrança do us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II – Dos comitês de Bacia Hidrográfic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V – Das agências de águ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Durante o andamento dos trâmites para cumprimento itens da lei retromencionada, os Comitês de Bacia deverã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Realizar amplo debate entre usuários e a sociedade, visand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xplicar o que é a COBRANÇA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envolvimento amplo programa Plano de Educação Ambiental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ostrando claramente a situação de degradação da Bacia (quantitativamente e qualitativamente)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ando ampla divulgação junto aos usuários da Bacia daquilo que está sendo realizado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iscutir o Plano de Bacia, de forma democrática, com a participação da Sociedade e dos usuários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rodução do conceito de auto sustentabilidade econômica da Bacia Hidrográfic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ste conceito tem por base que, a unidade territorial Bacia Hidrográfica seja um “ente econômico” capaz de no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médi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e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long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prazos encontrar a maioria das soluções para os seus próprios problemas, preservando os seus corpos líquidos e assegurando as necessidades de gerações futura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aseado neste conceito, deveremos ter em mente os seguintes princípi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)  Isonomia de Tratamento aos Integrantes da Bacia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nexistência de isenções de qualquer espécie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“Todos devem pagar”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) Isonomia de Aplicação, o que implicaria na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ção, ao mesmo tempo, da cobrança a todos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os setor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6:06:44Z</dcterms:created>
  <dc:creator>Katia Lepletier</dc:creator>
  <dc:description/>
  <dc:language>en-US</dc:language>
  <cp:lastModifiedBy>Katia Lepletier</cp:lastModifiedBy>
  <dcterms:modified xsi:type="dcterms:W3CDTF">2002-09-24T17:56:41Z</dcterms:modified>
  <cp:revision>39</cp:revision>
  <dc:subject/>
  <dc:title>Apresentação do PowerPoint</dc:title>
</cp:coreProperties>
</file>