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54B-CA82-4087-9AB8-3B661DFE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D7E-CA88-4071-AC29-7C57D155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6DB-FBBB-41CB-956E-E6F4419D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83B-FB1D-4EE8-84F3-8B026622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1127-0FD1-4612-9859-DDC5B4E0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502E-4262-4874-A9AE-6A9FDCF6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B01E-946A-43B0-9654-DE00B2BC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EFEF-51F6-4FAF-92AA-07D5B69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D84C-768F-42C5-B430-C3613CC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327-0EAD-4B29-A3B4-A9E60836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0FCB-425D-4F66-9AB7-3524F1A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7A8-B269-4E08-BC69-ED667F48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EFB3-DCFF-4774-9FA5-A39918C5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5E40-B788-428E-AB6C-B88C513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3650-D661-4B76-A225-93690E36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D840-0C93-4B49-83B3-0DF15FA9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2D8F-1715-42EA-AE8A-2F4C9095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007-D208-4E86-85AD-2DBE3646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946-31D4-4F73-A50A-C2CDA3A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924-3D65-498B-83D6-9B114BA5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179-49C1-4DCE-992B-3BF8C696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E82-2C91-47A7-AFCF-537BF8C5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F18-65CC-4DCC-B3A0-96A0B17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2B0-E016-467D-AE0F-C059249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BFAD-CF95-41D1-9E9B-F6FE2864094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4779-429D-4962-979D-00ED450A78B6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1752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A COBRANÇA PELO USO DA ÁGUA NA VISÃO DO IBRAM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440" y="586728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Patrícia Helena Gambogi Bo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33720"/>
            <a:ext cx="7729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plicação universal</a:t>
            </a:r>
            <a:r>
              <a:rPr b="1" lang="en-US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a cobrança como instrumento de mudança comportamental do uso predatório dos recursos hídricos deve ser aplicada a todos os usuários, considerando suas especificidades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209680"/>
            <a:ext cx="76201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Há que se fazer um esforço para uma revisão no aparelho público de modo que isto possa ser efetivamente alcançado.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A descentralização e a participação da sociedade civil e usuária no processo decisório de aplicação é feita através da estruturação dos Comitês e Agências de Bacias e se dá com o retorno dos recursos financeiros na bacia, sub-bacia, trecho de bacia, etc., onde os recursos forem gerados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209680"/>
            <a:ext cx="7620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scentralização e participação nos processos de arrecadação e de aplicação.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Reconhecendo a incapacidade da economia estabelecer metodologias exatas para a determinação do valor da cobrança pelo uso da água, a sociedade participante do processo atuará também como determinante desse valor. É nos organismos de bacias, nos quais se dá a gestão participativa dos recursos hídricos, que deverão ser encontradas as respostas para o equilíbrio necessário ao resultado da equação 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alor econômico </a:t>
            </a:r>
            <a:r>
              <a:rPr b="1" i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versus</a:t>
            </a:r>
            <a:r>
              <a:rPr b="1" lang="pt-BR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 valor social e ambiental da água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0" y="1295280"/>
            <a:ext cx="7729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209680"/>
            <a:ext cx="7620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Agência de Bacia constituída e implantad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– garantia da autonom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Organizações civis de direito priv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 que garanta a vinculação direta com o Comitê –Lembrando que o Comitê não tem CNPJ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Verdana"/>
              </a:rPr>
              <a:t>* Estruturas enxutas e ágei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Definição de usos insignificantes – que usos não serão cobr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295280"/>
            <a:ext cx="7543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ESPECIFIC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cobrança no setor elétrico – diferentes domíni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liberação 08 do CEIVAP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aplicação na bacia – Leis estaduais e Nacional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destinação – possibilidade real de delegação e repasse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 necessidade de se estabelecer modelos que vinculem ao máximo a interferência ao valor cobrado – empreendimentos de porte econômico x efetiva interferência n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 problema do saneamento e a cobrança pelo uso da água – o setor de saneamento, público ou privado é apenas um usuário (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o setor de saneamento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95280"/>
            <a:ext cx="754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- 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DESAFIOS/ RIS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Atuação, de forma consistente e com programas bem fundamentados, no apoio e na definição de subsídios no setor agropecuário, para que esse participe da cobrança pelo uso da água – 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O setor industrial e de mineração não vão subsidiar a agricultur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 cobrança devem considerar a capacidade econômica do País e dos setores produtivo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Os critérios devem evitar que os mesmos venham estabelecer barreiras mercadológic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ICIPAÇÃO DO  PODER PÚBLICO NA COMPOSIÇÃO DO CUSTO DA ÁGU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143000"/>
            <a:ext cx="695016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OMINIALIDADE – ESTADO E UNI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soberania administrativa como forma de compatibilizar política territorial e política de recursos hídricos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DESCENTRALIZ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fomentar iniciativas de organização descentralizada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UNIDADE BACIA HIDROGRÁFICA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não se pode em seu nome promover a centralização em grandes bacias)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RTICULAÇÃO 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(instrumento básico para se alcançar a descentralização e, portanto, o </a:t>
            </a: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respeito à soberania dos estados na administração de suas águas e o respeito aos municípios na administração de seu território)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057400"/>
            <a:ext cx="7848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GOVERNANÇA COM GOVERNABILIDADE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Caberá ao Governo, ao Poder Público “regulamentar, regular e fiscalizar os </a:t>
            </a:r>
            <a:r>
              <a:rPr b="1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sociais sobre as questões ambientais para que eles permaneçam como rotinas”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057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SETOR INDUSTRIAL E DE MINERAÇÃO DEVEM SER TRATADOS DE ACORDO COM SUAS ESPECIFICIDADE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eração é atividade extrativist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Minério é bem público como águ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 relação da atividade minerária com os recursos hídricos vai além da captação e o lançamento.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600200"/>
            <a:ext cx="75438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ÓRGÃO MÁXIMO DO SISTEMA –DEFINIDOR DA POLÍTICA N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REGRAS/DIRETRIZES GERAIS QU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NÃO INTERFIRAM NA SOBERANIA ADMINISTRATIVA MAS QUE PROMOVAM A ARTICULAÇÃO A INTEG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75248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AGENTES OUTORGANTES – ANA E AGENTES ESTADUAIS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3333ff"/>
                </a:solidFill>
                <a:latin typeface="Verdana"/>
              </a:rPr>
              <a:t>GARANTIA DA GOVERNABILIDADE &amp; GOVERNANÇA</a:t>
            </a:r>
            <a:r>
              <a:rPr b="0" lang="pt-BR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1 -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REALIZAR A REGULAÇÃO E O CONTROLE DE USO DA ÁGU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Regulamentar, regular e fiscalizar  - 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entendimentos sociai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ACE 2 – </a:t>
            </a:r>
            <a:r>
              <a:rPr b="0" lang="pt-BR" sz="2000" spc="-1" strike="noStrike">
                <a:solidFill>
                  <a:srgbClr val="0000cc"/>
                </a:solidFill>
                <a:latin typeface="Tahoma"/>
              </a:rPr>
              <a:t>FOMENTAR A GESTÃO DESCENTRALIZADA E PARTICIPATIVA - </a:t>
            </a:r>
            <a:r>
              <a:rPr b="0" i="1" lang="pt-BR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Fomentar, apoiar as unidades de gestão descentralizadas (cenário dos entendimentos sociais); implementar Sistema de Informações (instrumento básico para os entendimentos sociais de forma justa e correta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RINCIPAIS CONCEITOS PARA A IMPLANTAÇÃO DA PNRH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447920"/>
            <a:ext cx="754380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PRIMEIR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INSTRUMENTO DE RACIONALIZAÇÃO DO USO (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ão é taxa; não é penalidad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FUNÇÃO – SEGUND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: GARANTIA DE INVESTIMENTOS NECESSÁRIOS A BACI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BRANÇA &amp; GOVERNANÇA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– PRINCÍPIO BÁSICO O COMITÊ DEVE TER TOTAL AUTONOMIA PARA A GESTÃO DOS RECURSOS ORIUNDOS DA COBRANÇ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ÃO SE EFETIVA OS PRINCÍPIOS DA GOVERNANÇA SEM INDEPENDÊNCIA ECONÔMICA E FINANCEIRA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0" y="1295280"/>
            <a:ext cx="7729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Plano de Recursos Hídricos, Plano de Investimento da bacia aprovado –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onde aplic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as nossas bacias se encontram em patamar de   degradação avançado, devido a um passivo enorme advindo da falta de financiamento do setor público no tratamento do esgoto doméstico;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* Plano de Investimento deve ser uma referência para o patamar de qualidade e quantidade dos recursos hídricos desejados,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Verdana"/>
                <a:ea typeface="Times New Roman"/>
              </a:rPr>
              <a:t>não podendo ser base de um rateio de custos entre todos os usuários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, como se a esses coubessem, igualmente, penalidades pela falta de investimentos no setor de saneamento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INSTRUMENTOS DE GESTÃO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RINCÍPIOS BÁSICOS</a:t>
            </a:r>
            <a:endParaRPr b="0" lang="en-US" sz="36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40" y="1295280"/>
            <a:ext cx="7729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1295280"/>
            <a:ext cx="77295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pt-BR" sz="2800" spc="-1" strike="noStrike">
                <a:solidFill>
                  <a:srgbClr val="000099"/>
                </a:solidFill>
                <a:latin typeface="Verdana"/>
              </a:rPr>
              <a:t>COBRANÇA </a:t>
            </a:r>
            <a:r>
              <a:rPr b="0" lang="pt-BR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GARANTIAS PARA IMPLA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  <a:ea typeface="Times New Roman"/>
              </a:rPr>
              <a:t>Inventário de Usuários – como parâmetro de um Sistema de Informação em Recursos Hídricos</a:t>
            </a:r>
            <a:r>
              <a:rPr b="1" lang="pt-BR" sz="2400" spc="-1" strike="noStrike">
                <a:solidFill>
                  <a:srgbClr val="2d2525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ter investimentos neste campo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em-se uma preocupação especial com informações relativas às águas subterrâneas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*</a:t>
            </a:r>
            <a:r>
              <a:rPr b="0" lang="pt-BR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Há que se estabelecer laboratórios de referência, certificadores em metrologia ambiental, com vistas à validação do automonitoramento.</a:t>
            </a:r>
            <a:endParaRPr b="0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8T18:59:05Z</dcterms:created>
  <dc:creator>-</dc:creator>
  <dc:description/>
  <dc:language>en-US</dc:language>
  <cp:lastModifiedBy>-</cp:lastModifiedBy>
  <dcterms:modified xsi:type="dcterms:W3CDTF">2002-07-16T21:48:57Z</dcterms:modified>
  <cp:revision>8</cp:revision>
  <dc:subject/>
  <dc:title>Apresentação do PowerPoint</dc:title>
</cp:coreProperties>
</file>