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290D-291C-48BC-A8A2-BD4604900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6C6B-3FB2-4077-B481-56695243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EF06-7489-42C6-8110-123517517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1C91-D8B4-46ED-BF5A-3AB864665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D68C-04DC-4859-9553-1A11806B0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D7FE9-AF87-4F8C-B177-087F8310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7859-037C-445F-99FF-78A0574E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2B73-A3FE-4AA7-8F11-DCF70D85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39E7-4C4F-4B77-86B2-3634ECA8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8608-4BDF-4D58-98CC-3B99490F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20A1-5D7A-47E8-BFEE-D58979A5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F7C8-6D58-4BFC-8050-4CE18CB1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012A-116C-4433-A141-B2259974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E42CF-EC3F-423F-955D-B7FB85DD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6D45-D183-41DD-9BEE-8F6B392B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1825-039D-46E4-867A-C91BCE262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D30B-A65A-4C31-8081-7BAD2466D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2493-12B4-438D-812D-33EF0F6F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65C0-0B28-46C2-ABA1-8136D225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F5AC-EEAA-46F0-BD49-ED3A3B7F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446C-D0A8-4DA4-ADC0-B26A2BDA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0B10-65CB-4AB7-BB4D-1302D8AE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2D88-111F-45DE-AA04-C64834EE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CC02-6A16-4AC6-8EA7-23639DC4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EBB3-A459-4BEB-9BC1-CB319F131AD9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1769-CB06-469C-A96A-70CC153EE302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175248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A COBRANÇA PELO USO DA ÁGUA NA VISÃO DO IBRAM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”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28440" y="5867280"/>
            <a:ext cx="41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Patrícia Helena Gambogi Boson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INSTRUMENTO DE GESTÃO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RINCÍPIOS BÁSICOS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840" y="1295280"/>
            <a:ext cx="772956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pt-BR" sz="2800" spc="-1" strike="noStrike">
                <a:solidFill>
                  <a:srgbClr val="000099"/>
                </a:solidFill>
                <a:latin typeface="Verdana"/>
              </a:rPr>
              <a:t>COBRANÇA </a:t>
            </a: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pt-BR" sz="2400" spc="-1" strike="noStrike">
                <a:solidFill>
                  <a:srgbClr val="000099"/>
                </a:solidFill>
                <a:latin typeface="Verdana"/>
              </a:rPr>
              <a:t>GARANTIAS PARA IMPLANT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133720"/>
            <a:ext cx="77295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Aplicação universal</a:t>
            </a:r>
            <a:r>
              <a:rPr b="1" lang="en-US" sz="2400" spc="-1" strike="noStrike">
                <a:solidFill>
                  <a:srgbClr val="2d2525"/>
                </a:solidFill>
                <a:latin typeface="Verdana"/>
                <a:ea typeface="Times New Roman"/>
              </a:rPr>
              <a:t> –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a cobrança como instrumento de mudança comportamental do uso predatório dos recursos hídricos deve ser aplicada a todos os usuários, considerando suas especificidades.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INSTRUMENTO DE GESTÃO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RINCÍPIOS BÁSICOS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840" y="1295280"/>
            <a:ext cx="77295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COBRANÇA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GARANTIAS PARA IMPLANT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2209680"/>
            <a:ext cx="762012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Descentralização e participação nos processos de arrecadação e de aplicação.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 Há que se fazer um esforço para uma revisão no aparelho público de modo que isto possa ser efetivamente alcançado.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*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A descentralização e a participação da sociedade civil e usuária no processo decisório de aplicação é feita através da estruturação dos Comitês e Agências de Bacias e se dá com o retorno dos recursos financeiros na bacia, sub-bacia, trecho de bacia, etc., onde os recursos forem gerados.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INSTRUMENTO DE GESTÃO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RINCÍPIOS BÁSICOS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840" y="1295280"/>
            <a:ext cx="77295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COBRANÇA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GARANTIAS PARA IMPLANT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2209680"/>
            <a:ext cx="762012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Descentralização e participação nos processos de arrecadação e de aplicação.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* </a:t>
            </a:r>
            <a:r>
              <a:rPr b="1" lang="pt-BR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Reconhecendo a incapacidade da economia estabelecer metodologias exatas para a determinação do valor da cobrança pelo uso da água, a sociedade participante do processo atuará também como determinante desse valor. É nos organismos de bacias, nos quais se dá a gestão participativa dos recursos hídricos, que deverão ser encontradas as respostas para o equilíbrio necessário ao resultado da equação </a:t>
            </a:r>
            <a:r>
              <a:rPr b="1" lang="pt-BR" sz="1800" spc="-1" strike="noStrike" u="sng">
                <a:solidFill>
                  <a:srgbClr val="ff0000"/>
                </a:solidFill>
                <a:uFillTx/>
                <a:latin typeface="Verdana"/>
                <a:ea typeface="Times New Roman"/>
              </a:rPr>
              <a:t>valor econômico </a:t>
            </a:r>
            <a:r>
              <a:rPr b="1" i="1" lang="pt-BR" sz="1800" spc="-1" strike="noStrike" u="sng">
                <a:solidFill>
                  <a:srgbClr val="ff0000"/>
                </a:solidFill>
                <a:uFillTx/>
                <a:latin typeface="Verdana"/>
                <a:ea typeface="Times New Roman"/>
              </a:rPr>
              <a:t>versus</a:t>
            </a:r>
            <a:r>
              <a:rPr b="1" lang="pt-BR" sz="1800" spc="-1" strike="noStrike" u="sng">
                <a:solidFill>
                  <a:srgbClr val="ff0000"/>
                </a:solidFill>
                <a:uFillTx/>
                <a:latin typeface="Verdana"/>
                <a:ea typeface="Times New Roman"/>
              </a:rPr>
              <a:t> valor social e ambiental da água</a:t>
            </a:r>
            <a:r>
              <a:rPr b="1" lang="pt-BR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.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INSTRUMENTO DE GESTÃO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RINCÍPIOS BÁSICOS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840" y="1295280"/>
            <a:ext cx="77295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COBRANÇA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GARANTIAS PARA IMPLANT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2209680"/>
            <a:ext cx="76201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Agência de Bacia constituída e implantada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 – garantia da autonomia econômica e financeira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ff0000"/>
                </a:solidFill>
                <a:latin typeface="Verdana"/>
              </a:rPr>
              <a:t>*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ff0000"/>
                </a:solidFill>
                <a:latin typeface="Verdana"/>
              </a:rPr>
              <a:t>Organizações civis de direito privado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ff0000"/>
                </a:solidFill>
                <a:latin typeface="Verdana"/>
              </a:rPr>
              <a:t>* Estrutura que garanta a vinculação direta com o Comitê –Lembrando que o Comitê não tem CNPJ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ff0000"/>
                </a:solidFill>
                <a:latin typeface="Verdana"/>
              </a:rPr>
              <a:t>* Estruturas enxutas e ágeis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Definição de usos insignificantes – que usos não serão cobrad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INSTRUMENTO DE GESTÃO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RINCÍPIOS BÁSICOS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1295280"/>
            <a:ext cx="754380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COBRANÇA - 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ESPECIFICIDAD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A cobrança no setor elétrico – diferentes domínios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A Deliberação 08 do CEIVAP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A aplicação na bacia – Leis estaduais e Nacional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A destinação – possibilidade real de delegação e repasse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A necessidade de se estabelecer modelos que vinculem ao máximo a interferência ao valor cobrado – empreendimentos de porte econômico x efetiva interferência na água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O problema do saneamento e a cobrança pelo uso da água – o setor de saneamento, público ou privado é apenas um usuário (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o setor industrial e de mineração não vão subsidiar o setor de saneamento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)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INSTRUMENTO DE GESTÃO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RINCÍPIOS BÁSICOS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1295280"/>
            <a:ext cx="75438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Verdana"/>
              </a:rPr>
              <a:t>COBRANÇA - </a:t>
            </a:r>
            <a:r>
              <a:rPr b="1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pt-BR" sz="2800" spc="-1" strike="noStrike">
                <a:solidFill>
                  <a:srgbClr val="000099"/>
                </a:solidFill>
                <a:latin typeface="Verdana"/>
              </a:rPr>
              <a:t>DESAFIOS/ RISCOS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Atuação, de forma consistente e com programas bem fundamentados, no apoio e na definição de subsídios no setor agropecuário, para que esse participe da cobrança pelo uso da água – </a:t>
            </a:r>
            <a:r>
              <a:rPr b="0" lang="pt-BR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O setor industrial e de mineração não vão subsidiar a agricultura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. 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Os critérios de cobrança devem considerar a capacidade econômica do País e dos setores produtivos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Os critérios devem evitar que os mesmos venham estabelecer barreiras mercadológicas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RTICIPAÇÃO DO  PODER PÚBLICO NA COMPOSIÇÃO DO CUSTO DA ÁGUA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PRINCIPAIS CONCEITOS PARA A IMPLANTAÇÃO DA PNRH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143000"/>
            <a:ext cx="695016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DOMINIALIDADE – ESTADO E UNIÃO 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(soberania administrativa como forma de compatibilizar política territorial e política de recursos hídricos)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DESCENTRALIZAÇÃO 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(fomentar iniciativas de organização descentralizada)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UNIDADE BACIA HIDROGRÁFICA 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(não se pode em seu nome promover a centralização em grandes bacias) 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ARTICULAÇÃO 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(instrumento básico para se alcançar a descentralização e, portanto, o </a:t>
            </a:r>
            <a:r>
              <a:rPr b="0" i="1" lang="pt-BR" sz="1800" spc="-1" strike="noStrike">
                <a:solidFill>
                  <a:srgbClr val="000099"/>
                </a:solidFill>
                <a:latin typeface="Verdana"/>
              </a:rPr>
              <a:t>respeito à soberania dos estados na administração de suas águas e o respeito aos municípios na administração de seu território)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2057400"/>
            <a:ext cx="784872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GOVERNANÇA COM GOVERNABILIDADE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Caberá ao Governo, ao Poder Público “regulamentar, regular e fiscalizar os </a:t>
            </a:r>
            <a:r>
              <a:rPr b="1" i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entendimentos </a:t>
            </a:r>
            <a:r>
              <a:rPr b="0" i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sociais sobre as questões ambientais para que eles permaneçam como rotinas”</a:t>
            </a:r>
            <a:r>
              <a:rPr b="0" i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Verdana"/>
              </a:rPr>
              <a:t>PRINCIPAIS CONCEITOS PARA A IMPLANTAÇÃO DA PNRH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057400"/>
            <a:ext cx="7848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SETOR INDUSTRIAL E DE MINERAÇÃO DEVEM SER TRATADOS DE ACORDO COM SUAS ESPECIFICIDADES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Mineração é atividade extrativista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Minério é bem público como água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A relação da atividade minerária com os recursos hídricos vai além da captação e o lançamento.</a:t>
            </a: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0492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Verdana"/>
              </a:rPr>
              <a:t>PRINCIPAIS CONCEITOS PARA A IMPLANTAÇÃO DA PNRH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2280" y="1600200"/>
            <a:ext cx="7543800" cy="37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CONSELHO NACIONAL DE RECURSOS HÍDRICOS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ÓRGÃO MÁXIMO DO SISTEMA –DEFINIDOR DA POLÍTICA NACION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REGRAS/DIRETRIZES GERAIS QUE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NÃO INTERFIRAM NA SOBERANIA ADMINISTRATIVA MAS QUE PROMOVAM A ARTICULAÇÃO A INTEGR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28600"/>
            <a:ext cx="769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PRINCIPAIS CONCEITOS PARA A IMPLANTAÇÃO DA PNRH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8600" y="1752480"/>
            <a:ext cx="754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AGENTES OUTORGANTES – ANA E AGENTES ESTADUAIS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3333ff"/>
                </a:solidFill>
                <a:latin typeface="Verdana"/>
              </a:rPr>
              <a:t>GARANTIA DA GOVERNABILIDADE &amp; GOVERNANÇA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	</a:t>
            </a:r>
            <a:r>
              <a:rPr b="1" i="1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FACE 1 - </a:t>
            </a:r>
            <a:r>
              <a:rPr b="0" lang="pt-BR" sz="2000" spc="-1" strike="noStrike">
                <a:solidFill>
                  <a:srgbClr val="0000cc"/>
                </a:solidFill>
                <a:latin typeface="Tahoma"/>
              </a:rPr>
              <a:t>REALIZAR A REGULAÇÃO E O CONTROLE DE USO DA ÁGUA - </a:t>
            </a:r>
            <a:r>
              <a:rPr b="0" i="1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Regulamentar, regular e fiscalizar  - 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	</a:t>
            </a:r>
            <a:r>
              <a:rPr b="0" i="1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 </a:t>
            </a:r>
            <a:r>
              <a:rPr b="1" i="1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entendimentos sociais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	</a:t>
            </a:r>
            <a:r>
              <a:rPr b="1" i="1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FACE 2 – </a:t>
            </a:r>
            <a:r>
              <a:rPr b="0" lang="pt-BR" sz="2000" spc="-1" strike="noStrike">
                <a:solidFill>
                  <a:srgbClr val="0000cc"/>
                </a:solidFill>
                <a:latin typeface="Tahoma"/>
              </a:rPr>
              <a:t>FOMENTAR A GESTÃO DESCENTRALIZADA E PARTICIPATIVA - </a:t>
            </a:r>
            <a:r>
              <a:rPr b="0" i="1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Fomentar, apoiar as unidades de gestão descentralizadas (cenário dos entendimentos sociais); implementar Sistema de Informações (instrumento básico para os entendimentos sociais de forma justa e correta)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2286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PRINCIPAIS CONCEITOS PARA A IMPLANTAÇÃO DA PNRH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2286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INSTRUMENTO DE GESTÃO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RINCÍPIOS BÁSICOS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1447920"/>
            <a:ext cx="7543800" cy="48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COBRANÇA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FUNÇÃO – PRIMEIRA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: INSTRUMENTO DE RACIONALIZAÇÃO DO USO (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não é taxa; não é penalidade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FUNÇÃO – SEGUNDA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: GARANTIA DE INVESTIMENTOS NECESSÁRIOS A BACIA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BRANÇA &amp; GOVERNANÇA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– PRINCÍPIO BÁSICO O COMITÊ DEVE TER TOTAL AUTONOMIA PARA A GESTÃO DOS RECURSOS ORIUNDOS DA COBRANÇA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ÃO SE EFETIVA OS PRINCÍPIOS DA GOVERNANÇA SEM INDEPENDÊNCIA ECONÔMICA E FINANCEIRA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INSTRUMENTODE GESTÃO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RINCÍPIOS BÁSICOS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840" y="1295280"/>
            <a:ext cx="772956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COBRANÇA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GARANTIAS PARA IMPLANT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Plano de Recursos Hídricos, Plano de Investimento da bacia aprovado – 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onde aplicar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* as nossas bacias se encontram em patamar de   degradação avançado, devido a um passivo enorme advindo da falta de financiamento do setor público no tratamento do esgoto doméstico;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* Plano de Investimento deve ser uma referência para o patamar de qualidade e quantidade dos recursos hídricos desejados,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Verdana"/>
                <a:ea typeface="Times New Roman"/>
              </a:rPr>
              <a:t>não podendo ser base de um rateio de custos entre todos os usuários</a:t>
            </a:r>
            <a:r>
              <a:rPr b="1" i="1" lang="en-US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, como se a esses coubessem, igualmente, penalidades pela falta de investimentos no setor de saneamento 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INSTRUMENTOS DE GESTÃO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RINCÍPIOS BÁSICOS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840" y="1295280"/>
            <a:ext cx="772956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pt-BR" sz="2800" spc="-1" strike="noStrike">
                <a:solidFill>
                  <a:srgbClr val="000099"/>
                </a:solidFill>
                <a:latin typeface="Verdana"/>
              </a:rPr>
              <a:t>COBRANÇA </a:t>
            </a: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pt-BR" sz="2400" spc="-1" strike="noStrike">
                <a:solidFill>
                  <a:srgbClr val="000099"/>
                </a:solidFill>
                <a:latin typeface="Verdana"/>
              </a:rPr>
              <a:t>GARANTIAS PARA IMPLANT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40" y="1295280"/>
            <a:ext cx="772956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pt-BR" sz="2800" spc="-1" strike="noStrike">
                <a:solidFill>
                  <a:srgbClr val="000099"/>
                </a:solidFill>
                <a:latin typeface="Verdana"/>
              </a:rPr>
              <a:t>COBRANÇA </a:t>
            </a: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pt-BR" sz="2400" spc="-1" strike="noStrike">
                <a:solidFill>
                  <a:srgbClr val="000099"/>
                </a:solidFill>
                <a:latin typeface="Verdana"/>
              </a:rPr>
              <a:t>GARANTIAS PARA IMPLANT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Inventário de Usuários – como parâmetro de um Sistema de Informação em Recursos Hídricos</a:t>
            </a:r>
            <a:r>
              <a:rPr b="1" lang="pt-BR" sz="2400" spc="-1" strike="noStrike">
                <a:solidFill>
                  <a:srgbClr val="2d2525"/>
                </a:solidFill>
                <a:latin typeface="Verdana"/>
                <a:ea typeface="Times New Roman"/>
              </a:rPr>
              <a:t>.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   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*</a:t>
            </a:r>
            <a:r>
              <a:rPr b="0" lang="pt-BR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Há que se ter investimentos neste campo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   </a:t>
            </a:r>
            <a:r>
              <a:rPr b="1" lang="pt-BR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*</a:t>
            </a:r>
            <a:r>
              <a:rPr b="0" lang="pt-BR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Tem-se uma preocupação especial com informações relativas às águas subterrâneas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  </a:t>
            </a:r>
            <a:r>
              <a:rPr b="1" lang="pt-BR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*</a:t>
            </a:r>
            <a:r>
              <a:rPr b="0" lang="pt-BR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Há que se estabelecer laboratórios de referência, certificadores em metrologia ambiental, com vistas à validação do automonitoramento.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8T18:59:05Z</dcterms:created>
  <dc:creator>-</dc:creator>
  <dc:description/>
  <dc:language>en-US</dc:language>
  <cp:lastModifiedBy>-</cp:lastModifiedBy>
  <dcterms:modified xsi:type="dcterms:W3CDTF">2002-07-16T21:48:57Z</dcterms:modified>
  <cp:revision>8</cp:revision>
  <dc:subject/>
  <dc:title>Apresentação do PowerPoint</dc:title>
</cp:coreProperties>
</file>