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0DB0-11AF-415C-9E27-393083A5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FD84-08F4-4C53-A970-77EC6356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CB64-E3AA-4244-8CD6-D792315A8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6546-164A-48D5-9727-DB80945F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4779-4AEE-4176-B2D5-61224C4F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888B-3482-4852-80EF-9561E32A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97B4-235B-491E-B346-D50C4AC4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9854-274C-4955-8F4A-2B41BEA7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BFAE-7FEA-423B-9C6B-6B35C8C7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3298-C4E4-47CE-BEFC-DD09A576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3238-83C0-4477-90F2-31326752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3212-7B32-4ED9-8102-9C307834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9571-3AED-4F16-83DB-9EE8128D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9639-3853-49F8-9BB9-DC5C6C0C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B6E9-04CF-42DC-B515-151A38F4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5460-6C33-489F-A803-0160204E9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4188-FCFE-4D2A-8096-88345F2E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57B5-6469-4DE9-AC34-2D09297B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4CFE-DF11-4CAA-94ED-18EE8DFB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E80C-6BD2-4B9A-AFB2-90695DC7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2DBA-4AE2-444D-B8A2-738A0FAD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8E84-7377-4812-B60B-0A606C95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903B-179D-4554-87FC-6003EEBF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59AB-8079-4D66-9DBC-EACEAF0A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D7E3-639B-4160-86FD-5FD137327901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66D0-BCB4-40AC-9818-915A03CAD0A6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175248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A COBRANÇA PELO USO DA ÁGUA NA VISÃO DO IBRAM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”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440" y="586728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Patrícia Helena Gambogi Boso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840" y="1295280"/>
            <a:ext cx="772956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133720"/>
            <a:ext cx="77295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Aplicação universal</a:t>
            </a:r>
            <a:r>
              <a:rPr b="1" lang="en-US" sz="2400" spc="-1" strike="noStrike">
                <a:solidFill>
                  <a:srgbClr val="2d2525"/>
                </a:solidFill>
                <a:latin typeface="Verdana"/>
                <a:ea typeface="Times New Roman"/>
              </a:rPr>
              <a:t> –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a cobrança como instrumento de mudança comportamental do uso predatório dos recursos hídricos deve ser aplicada a todos os usuários, considerando suas especificidades.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840" y="1295280"/>
            <a:ext cx="7729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2209680"/>
            <a:ext cx="762012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Descentralização e participação nos processos de arrecadação e de aplicação.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Há que se fazer um esforço para uma revisão no aparelho público de modo que isto possa ser efetivamente alcançado.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*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A descentralização e a participação da sociedade civil e usuária no processo decisório de aplicação é feita através da estruturação dos Comitês e Agências de Bacias e se dá com o retorno dos recursos financeiros na bacia, sub-bacia, trecho de bacia, etc., onde os recursos forem gerados.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840" y="1295280"/>
            <a:ext cx="7729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2209680"/>
            <a:ext cx="76201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Descentralização e participação nos processos de arrecadação e de aplicação.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* </a:t>
            </a:r>
            <a:r>
              <a:rPr b="1" lang="pt-BR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Reconhecendo a incapacidade da economia estabelecer metodologias exatas para a determinação do valor da cobrança pelo uso da água, a sociedade participante do processo atuará também como determinante desse valor. É nos organismos de bacias, nos quais se dá a gestão participativa dos recursos hídricos, que deverão ser encontradas as respostas para o equilíbrio necessário ao resultado da equação </a:t>
            </a:r>
            <a:r>
              <a:rPr b="1" lang="pt-BR" sz="18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valor econômico </a:t>
            </a:r>
            <a:r>
              <a:rPr b="1" i="1" lang="pt-BR" sz="18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versus</a:t>
            </a:r>
            <a:r>
              <a:rPr b="1" lang="pt-BR" sz="18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 valor social e ambiental da água</a:t>
            </a:r>
            <a:r>
              <a:rPr b="1" lang="pt-BR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.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840" y="1295280"/>
            <a:ext cx="7729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2209680"/>
            <a:ext cx="76201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Agência de Bacia constituída e implantada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 – garantia da autonomia econômica e financeir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*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Organizações civis de direito privado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* Estrutura que garanta a vinculação direta com o Comitê –Lembrando que o Comitê não tem CNPJ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* Estruturas enxutas e ágeis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Definição de usos insignificantes – que usos não serão cobrad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1295280"/>
            <a:ext cx="75438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OBRANÇA - 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ESPECIFICIDAD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 cobrança no setor elétrico – diferentes domínios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 Deliberação 08 do CEIVAP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 aplicação na bacia – Leis estaduais e Nacional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 destinação – possibilidade real de delegação e repasse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 necessidade de se estabelecer modelos que vinculem ao máximo a interferência ao valor cobrado – empreendimentos de porte econômico x efetiva interferência na águ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O problema do saneamento e a cobrança pelo uso da água – o setor de saneamento, público ou privado é apenas um usuário (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o setor industrial e de mineração não vão subsidiar o setor de saneamento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)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295280"/>
            <a:ext cx="75438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COBRANÇA - </a:t>
            </a: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DESAFIOS/ RISCOS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tuação, de forma consistente e com programas bem fundamentados, no apoio e na definição de subsídios no setor agropecuário, para que esse participe da cobrança pelo uso da água – </a:t>
            </a:r>
            <a:r>
              <a:rPr b="0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O setor industrial e de mineração não vão subsidiar a agricultura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. 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Os critérios de cobrança devem considerar a capacidade econômica do País e dos setores produtivos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Os critérios devem evitar que os mesmos venham estabelecer barreiras mercadológicas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TICIPAÇÃO DO  PODER PÚBLICO NA COMPOSIÇÃO DO CUSTO DA ÁGU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RINCIPAIS CONCEITOS PARA A IMPLANTAÇÃO DA PNRH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143000"/>
            <a:ext cx="695016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DOMINIALIDADE – ESTADO E UNIÃO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(soberania administrativa como forma de compatibilizar política territorial e política de recursos hídricos)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DESCENTRALIZAÇÃO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(fomentar iniciativas de organização descentralizada)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UNIDADE BACIA HIDROGRÁFICA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(não se pode em seu nome promover a centralização em grandes bacias) 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ARTICULAÇÃO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(instrumento básico para se alcançar a descentralização e, portanto, o </a:t>
            </a:r>
            <a:r>
              <a:rPr b="0" i="1" lang="pt-BR" sz="1800" spc="-1" strike="noStrike">
                <a:solidFill>
                  <a:srgbClr val="000099"/>
                </a:solidFill>
                <a:latin typeface="Verdana"/>
              </a:rPr>
              <a:t>respeito à soberania dos estados na administração de suas águas e o respeito aos municípios na administração de seu território)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057400"/>
            <a:ext cx="784872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GOVERNANÇA COM GOVERNABILIDADE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Caberá ao Governo, ao Poder Público “regulamentar, regular e fiscalizar os </a:t>
            </a:r>
            <a:r>
              <a:rPr b="1" i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entendimentos </a:t>
            </a:r>
            <a:r>
              <a:rPr b="0" i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sociais sobre as questões ambientais para que eles permaneçam como rotinas”</a:t>
            </a:r>
            <a:r>
              <a:rPr b="0" i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Verdana"/>
              </a:rPr>
              <a:t>PRINCIPAIS CONCEITOS PARA A IMPLANTAÇÃO DA PNRH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057400"/>
            <a:ext cx="784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SETOR INDUSTRIAL E DE MINERAÇÃO DEVEM SER TRATADOS DE ACORDO COM SUAS ESPECIFICIDADES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Mineração é atividade extrativist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Minério é bem público como águ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A relação da atividade minerária com os recursos hídricos vai além da captação e o lançamento.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0492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Verdana"/>
              </a:rPr>
              <a:t>PRINCIPAIS CONCEITOS PARA A IMPLANTAÇÃO DA PNRH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280" y="1600200"/>
            <a:ext cx="7543800" cy="37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CONSELHO NACIONAL DE RECURSOS HÍDRICOS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ÓRGÃO MÁXIMO DO SISTEMA –DEFINIDOR DA POLÍTICA NACION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REGRAS/DIRETRIZES GERAIS QUE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NÃO INTERFIRAM NA SOBERANIA ADMINISTRATIVA MAS QUE PROMOVAM A ARTICULAÇÃO A INTEGR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2860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RINCIPAIS CONCEITOS PARA A IMPLANTAÇÃO DA PNRH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175248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AGENTES OUTORGANTES – ANA E AGENTES ESTADUAIS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3333ff"/>
                </a:solidFill>
                <a:latin typeface="Verdana"/>
              </a:rPr>
              <a:t>GARANTIA DA GOVERNABILIDADE &amp; GOVERNANÇA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	</a:t>
            </a:r>
            <a:r>
              <a:rPr b="1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FACE 1 - </a:t>
            </a:r>
            <a:r>
              <a:rPr b="0" lang="pt-BR" sz="2000" spc="-1" strike="noStrike">
                <a:solidFill>
                  <a:srgbClr val="0000cc"/>
                </a:solidFill>
                <a:latin typeface="Tahoma"/>
              </a:rPr>
              <a:t>REALIZAR A REGULAÇÃO E O CONTROLE DE USO DA ÁGUA - </a:t>
            </a:r>
            <a:r>
              <a:rPr b="0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Regulamentar, regular e fiscalizar  - 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	</a:t>
            </a:r>
            <a:r>
              <a:rPr b="0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 </a:t>
            </a:r>
            <a:r>
              <a:rPr b="1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entendimentos sociais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	</a:t>
            </a:r>
            <a:r>
              <a:rPr b="1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FACE 2 – </a:t>
            </a:r>
            <a:r>
              <a:rPr b="0" lang="pt-BR" sz="2000" spc="-1" strike="noStrike">
                <a:solidFill>
                  <a:srgbClr val="0000cc"/>
                </a:solidFill>
                <a:latin typeface="Tahoma"/>
              </a:rPr>
              <a:t>FOMENTAR A GESTÃO DESCENTRALIZADA E PARTICIPATIVA - </a:t>
            </a:r>
            <a:r>
              <a:rPr b="0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Fomentar, apoiar as unidades de gestão descentralizadas (cenário dos entendimentos sociais); implementar Sistema de Informações (instrumento básico para os entendimentos sociais de forma justa e correta)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2286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RINCIPAIS CONCEITOS PARA A IMPLANTAÇÃO DA PNRH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2286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1447920"/>
            <a:ext cx="7543800" cy="48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OBRANÇ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FUNÇÃO – PRIMEIRA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: INSTRUMENTO DE RACIONALIZAÇÃO DO USO (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não é taxa; não é penalidade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FUNÇÃO – SEGUNDA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: GARANTIA DE INVESTIMENTOS NECESSÁRIOS A BACI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BRANÇA &amp; GOVERNANÇA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– PRINCÍPIO BÁSICO O COMITÊ DEVE TER TOTAL AUTONOMIA PARA A GESTÃO DOS RECURSOS ORIUNDOS DA COBRANÇ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ÃO SE EFETIVA OS PRINCÍPIOS DA GOVERNANÇA SEM INDEPENDÊNCIA ECONÔMICA E FINANCEIR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840" y="1295280"/>
            <a:ext cx="772956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Plano de Recursos Hídricos, Plano de Investimento da bacia aprovado –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onde aplica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* as nossas bacias se encontram em patamar de   degradação avançado, devido a um passivo enorme advindo da falta de financiamento do setor público no tratamento do esgoto doméstico;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* Plano de Investimento deve ser uma referência para o patamar de qualidade e quantidade dos recursos hídricos desejados,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não podendo ser base de um rateio de custos entre todos os usuários</a:t>
            </a:r>
            <a:r>
              <a:rPr b="1" i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, como se a esses coubessem, igualmente, penalidades pela falta de investimentos no setor de saneamento 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S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840" y="1295280"/>
            <a:ext cx="772956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40" y="1295280"/>
            <a:ext cx="77295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Inventário de Usuários – como parâmetro de um Sistema de Informação em Recursos Hídricos</a:t>
            </a:r>
            <a:r>
              <a:rPr b="1" lang="pt-BR" sz="2400" spc="-1" strike="noStrike">
                <a:solidFill>
                  <a:srgbClr val="2d2525"/>
                </a:solidFill>
                <a:latin typeface="Verdana"/>
                <a:ea typeface="Times New Roman"/>
              </a:rPr>
              <a:t>.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  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*</a:t>
            </a:r>
            <a:r>
              <a:rPr b="0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Há que se ter investimentos neste campo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   </a:t>
            </a:r>
            <a:r>
              <a:rPr b="1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*</a:t>
            </a:r>
            <a:r>
              <a:rPr b="0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Tem-se uma preocupação especial com informações relativas às águas subterrâneas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  </a:t>
            </a:r>
            <a:r>
              <a:rPr b="1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*</a:t>
            </a:r>
            <a:r>
              <a:rPr b="0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Há que se estabelecer laboratórios de referência, certificadores em metrologia ambiental, com vistas à validação do automonitoramento.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8T18:59:05Z</dcterms:created>
  <dc:creator>-</dc:creator>
  <dc:description/>
  <dc:language>en-US</dc:language>
  <cp:lastModifiedBy>-</cp:lastModifiedBy>
  <dcterms:modified xsi:type="dcterms:W3CDTF">2002-07-16T21:48:57Z</dcterms:modified>
  <cp:revision>8</cp:revision>
  <dc:subject/>
  <dc:title>Apresentação do PowerPoint</dc:title>
</cp:coreProperties>
</file>