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D53-0108-4B83-A353-474278C6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462-9BA6-49BB-9358-420BACB3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2B5-EFC2-40D7-ABD7-02D3456E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2B6-6FF3-41D8-B5A2-254F864C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5A3-1E31-4BA0-B606-1808D8E0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E8D-8FAC-4D03-88AB-1F8B4956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340-D055-48CA-9ED7-13A8538B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CD0-0774-40E9-BEBE-530E8578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E5D-080F-4793-96A5-CAF9B2F3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D26-42C8-4FA9-B078-B99C063C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4C9-64BF-490F-9511-6A60AF53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0F9-9A13-4C5B-A8FD-3BCAC611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88120" y="1585800"/>
            <a:ext cx="3744720" cy="5261040"/>
          </a:xfrm>
          <a:custGeom>
            <a:avLst/>
            <a:gdLst/>
            <a:ahLst/>
            <a:rect l="l" t="t" r="r" b="b"/>
            <a:pathLst>
              <a:path w="2359" h="3314">
                <a:moveTo>
                  <a:pt x="1905" y="3312"/>
                </a:moveTo>
                <a:lnTo>
                  <a:pt x="2358" y="3313"/>
                </a:lnTo>
                <a:lnTo>
                  <a:pt x="2358" y="1437"/>
                </a:lnTo>
                <a:lnTo>
                  <a:pt x="0" y="0"/>
                </a:lnTo>
                <a:lnTo>
                  <a:pt x="201" y="150"/>
                </a:lnTo>
                <a:lnTo>
                  <a:pt x="366" y="279"/>
                </a:lnTo>
                <a:lnTo>
                  <a:pt x="552" y="441"/>
                </a:lnTo>
                <a:lnTo>
                  <a:pt x="732" y="612"/>
                </a:lnTo>
                <a:lnTo>
                  <a:pt x="996" y="903"/>
                </a:lnTo>
                <a:lnTo>
                  <a:pt x="1230" y="1212"/>
                </a:lnTo>
                <a:lnTo>
                  <a:pt x="1400" y="1482"/>
                </a:lnTo>
                <a:lnTo>
                  <a:pt x="1548" y="1761"/>
                </a:lnTo>
                <a:lnTo>
                  <a:pt x="1665" y="2040"/>
                </a:lnTo>
                <a:lnTo>
                  <a:pt x="1751" y="2295"/>
                </a:lnTo>
                <a:lnTo>
                  <a:pt x="1809" y="2511"/>
                </a:lnTo>
                <a:lnTo>
                  <a:pt x="1863" y="2778"/>
                </a:lnTo>
                <a:lnTo>
                  <a:pt x="1890" y="3012"/>
                </a:lnTo>
                <a:lnTo>
                  <a:pt x="1905" y="3312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8410320" y="1440"/>
            <a:ext cx="16820640" cy="136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286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916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ff"/>
                </a:solidFill>
                <a:latin typeface="Times New Roman"/>
              </a:rPr>
              <a:t>Reflexões sobre a Implementação  do Instrumento Cobranç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3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AC59-7F60-43FF-BF86-D9F7CC69C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1337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Reflexões sobre a implementação do instrumento Cobrança pelo uso de recursos hídricos”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5638680"/>
            <a:ext cx="556272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úlio Thadeu Silva Kettel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retor do Programa de Implemen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1430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ffff"/>
                </a:solidFill>
                <a:latin typeface="Verdana"/>
              </a:rPr>
              <a:t>Reuniões das Câmaras Técnicas de Cobrança e Assuntos Legais e Institucionais</a:t>
            </a:r>
            <a:br>
              <a:rPr sz="2000"/>
            </a:br>
            <a:r>
              <a:rPr b="1" lang="en-US" sz="1600" spc="-1" strike="noStrike">
                <a:solidFill>
                  <a:srgbClr val="00ffff"/>
                </a:solidFill>
                <a:latin typeface="Verdana"/>
              </a:rPr>
              <a:t>Brasília, 16 de julho de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4EF-3626-4BAE-9767-607B181292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9810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SECRETARIA DE RECURSOS HÍD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SGAN Q 601, Lote 1, Ed. Sede da CODEVASF, 4ºAN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Asa Norte - Brasília/DF - CEP: 70830 9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Tel: 317 1347 / 13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Arial Black"/>
              </a:rPr>
              <a:t>srh@mma.gov.br</a:t>
            </a:r>
            <a:br>
              <a:rPr sz="3200"/>
            </a:b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mma.gov.br/port/sr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 Black"/>
              </a:rPr>
              <a:t>CNR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 Black"/>
              </a:rPr>
              <a:t>sec.executiva@cnrh-srh.gov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cnrh-srh.gov.b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705680"/>
            <a:ext cx="8305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00"/>
                </a:solidFill>
                <a:uFillTx/>
                <a:latin typeface="Verdana"/>
              </a:rPr>
              <a:t>COBRANÇA NÃO É IMPOS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Como transmitir este novo conceito à sociedade brasileir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conceito com a palavra 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“COBRANÇ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confiança com relação às ações governamenta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de conhecimento ou divergências entre autoridades publicas sobre o 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ou erro de comunicação entre os responsáveis pela implementação e a soc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379520"/>
            <a:ext cx="83059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COBRANÇA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é um instrumento de gestão da Política Nacional de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OBJE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água como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em econôm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entivar a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acionalizaçã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o uso da ág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ter recursos financeiros para o financiamento dos programas e intervenções contemplados nos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lanos de Recursos Hídrico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75248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Considerar que a sociedad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á paga pelo uso de recursos hídri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ú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rvató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e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entos críticos (enchentes/secas)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67440"/>
            <a:ext cx="914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cc00"/>
                </a:solidFill>
                <a:latin typeface="Verdana"/>
              </a:rPr>
              <a:t>UTILIZAÇÃO DOS RECURSOS NÃO VISA CORRIGIR DISTORÇÕES REGIONAIS</a:t>
            </a:r>
            <a:r>
              <a:rPr b="1" lang="pt-BR" sz="2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Lei 9433/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na bacia hidrográfica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iação de fundo de 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RESSALT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imite de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7,5%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spesas adm.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SINGREH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comitê de bacia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deve decidir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possibilidade de aplicação dos recursos arrecadad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em outr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1023120"/>
            <a:ext cx="883908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NÃO VISA A UTILIZAÇÃO DOS RECUR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cc00"/>
                </a:solidFill>
                <a:latin typeface="Verdana"/>
              </a:rPr>
              <a:t>SOMENTE A FUNDO PERDI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ei 9433/97</a:t>
            </a:r>
            <a:r>
              <a:rPr b="1" lang="pt-BR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fundo perdi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projetos e obras que beneficiem a coletividade, a qualidade, a quantidade e o regime de vazão de um corpo d’á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Esta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ixa de atu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RESSALTAR 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xa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condomin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PLIC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e estudos programas, projetos e obr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Verdana"/>
              </a:rPr>
              <a:t>obter recursos financeiros para o 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os programas e intervenções contemplados nos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Planos de Recursos Hídricos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gencias de bacia: analisar e emitir pareceres sobre os projetos e obras a serem financiados com recursos gerados pela cobrança e encaminhá-los à instituição financeira responsável pela administração desses recurso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O respectivo comitê de bacia deve decidir a possibilidade de aplicação dos recursos arrecadados em outro lo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906560"/>
            <a:ext cx="86104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OS RECURSOS ARRECADADOS RETORNARÃO À BAC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DESCONFIANÇA NOS PODERES PUBL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LEI 9.433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 na bacia hidrográfica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853280"/>
            <a:ext cx="830556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presentação de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VALORES FIXOS, MÁXIMOS OU MÍNIMO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como sendo os que serão co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TRANSM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 serão iguais para toda a bacia, região, Estado ou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a serem cobrados serão iguais para todos os usuários, independente da  decisão do comitê, da diferença de uso, da localização espacial dos usuários na ba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34760"/>
            <a:ext cx="83059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SÓ IMPLICA EM PAGAMENTO (CUSTO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QUAIS BENEFÍCI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iminuição d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ociais/ambient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aú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bertura para mercados que exigem linha de produção ambientalmente cor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esso a recursos financeiros (financiamento) oriundos da cobranç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em condições privilegiadas (definidas pelo Comitê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00:10:02Z</dcterms:created>
  <dc:creator>MINE</dc:creator>
  <dc:description/>
  <dc:language>en-US</dc:language>
  <cp:lastModifiedBy>Secretaria Recursos Hidricos</cp:lastModifiedBy>
  <dcterms:modified xsi:type="dcterms:W3CDTF">2002-07-17T12:23:11Z</dcterms:modified>
  <cp:revision>65</cp:revision>
  <dc:subject/>
  <dc:title>Apresentação do PowerPoint</dc:title>
</cp:coreProperties>
</file>