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CD92-A2C2-4799-AF7B-EA688795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76F6-0283-423F-A118-BFE81276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40BE-931D-4B82-B074-04C8140C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1A8A-CA7E-4E86-9A00-5EEA3A933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34BC-374F-4710-9FEE-87FEA939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3EFC-546C-4C2F-BD6B-48731AA7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B009-1A9E-417B-A46A-3C0CE369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71B6-6525-457D-8D05-0CBB79A8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2B02-3F18-4816-9A66-E102774B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48B2-344A-4E0E-A5DF-2DB2FDA0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985A-9026-402A-8EDB-0FAF05D9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5638-DD69-4A7C-9342-D31CEAE7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0172-1145-4631-8662-49CC9CA4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8ADB-1E05-4DD4-B9D3-23A8335A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4BB8-3B2B-4DFD-96FB-58922969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3AE4-9865-4113-A5A8-A52E81192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1E7D-A9D9-4898-8696-34D2FDCDA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1A7A-B741-43C5-A754-1093F1E3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07ED-2CA7-4A03-827A-7F9FA375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DB0C-6693-4B66-A4CF-8C8595DB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569A-3150-4712-8929-D3AE23F8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388B-659B-4D63-B4A0-009D436C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A5DD-BB09-4127-8798-B40CAE87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725D-6B19-41B8-A626-01B40F58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6B3B-B922-44B4-8409-8277B237B549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A046-C4B1-49CE-BF89-B606287F2CD2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175248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A COBRANÇA PELO USO DA ÁGUA NA VISÃO DO IBRAM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”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440" y="586728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Patrícia Helena Gambogi Boso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840" y="1295280"/>
            <a:ext cx="772956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133720"/>
            <a:ext cx="77295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Aplicação universal</a:t>
            </a:r>
            <a:r>
              <a:rPr b="1" lang="en-US" sz="2400" spc="-1" strike="noStrike">
                <a:solidFill>
                  <a:srgbClr val="2d2525"/>
                </a:solidFill>
                <a:latin typeface="Verdana"/>
                <a:ea typeface="Times New Roman"/>
              </a:rPr>
              <a:t> –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a cobrança como instrumento de mudança comportamental do uso predatório dos recursos hídricos deve ser aplicada a todos os usuários, considerando suas especificidades.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840" y="1295280"/>
            <a:ext cx="7729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2209680"/>
            <a:ext cx="762012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Descentralização e participação nos processos de arrecadação e de aplicação.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Há que se fazer um esforço para uma revisão no aparelho público de modo que isto possa ser efetivamente alcançado.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*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A descentralização e a participação da sociedade civil e usuária no processo decisório de aplicação é feita através da estruturação dos Comitês e Agências de Bacias e se dá com o retorno dos recursos financeiros na bacia, sub-bacia, trecho de bacia, etc., onde os recursos forem gerados.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840" y="1295280"/>
            <a:ext cx="7729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2209680"/>
            <a:ext cx="76201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Descentralização e participação nos processos de arrecadação e de aplicação.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* </a:t>
            </a:r>
            <a:r>
              <a:rPr b="1" lang="pt-BR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Reconhecendo a incapacidade da economia estabelecer metodologias exatas para a determinação do valor da cobrança pelo uso da água, a sociedade participante do processo atuará também como determinante desse valor. É nos organismos de bacias, nos quais se dá a gestão participativa dos recursos hídricos, que deverão ser encontradas as respostas para o equilíbrio necessário ao resultado da equação </a:t>
            </a:r>
            <a:r>
              <a:rPr b="1" lang="pt-BR" sz="18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valor econômico </a:t>
            </a:r>
            <a:r>
              <a:rPr b="1" i="1" lang="pt-BR" sz="18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versus</a:t>
            </a:r>
            <a:r>
              <a:rPr b="1" lang="pt-BR" sz="18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 valor social e ambiental da água</a:t>
            </a:r>
            <a:r>
              <a:rPr b="1" lang="pt-BR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.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840" y="1295280"/>
            <a:ext cx="7729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2209680"/>
            <a:ext cx="76201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Agência de Bacia constituída e implantada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 – garantia da autonomia econômica e financeir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*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Organizações civis de direito privado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* Estrutura que garanta a vinculação direta com o Comitê –Lembrando que o Comitê não tem CNPJ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* Estruturas enxutas e ágeis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Definição de usos insignificantes – que usos não serão cobrad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1295280"/>
            <a:ext cx="75438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OBRANÇA - 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ESPECIFICIDAD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 cobrança no setor elétrico – diferentes domínios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 Deliberação 08 do CEIVAP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 aplicação na bacia – Leis estaduais e Nacional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 destinação – possibilidade real de delegação e repasse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 necessidade de se estabelecer modelos que vinculem ao máximo a interferência ao valor cobrado – empreendimentos de porte econômico x efetiva interferência na águ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O problema do saneamento e a cobrança pelo uso da água – o setor de saneamento, público ou privado é apenas um usuário (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o setor industrial e de mineração não vão subsidiar o setor de saneamento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)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295280"/>
            <a:ext cx="75438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COBRANÇA - </a:t>
            </a: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DESAFIOS/ RISCOS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tuação, de forma consistente e com programas bem fundamentados, no apoio e na definição de subsídios no setor agropecuário, para que esse participe da cobrança pelo uso da água – </a:t>
            </a:r>
            <a:r>
              <a:rPr b="0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O setor industrial e de mineração não vão subsidiar a agricultura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. 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Os critérios de cobrança devem considerar a capacidade econômica do País e dos setores produtivos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Os critérios devem evitar que os mesmos venham estabelecer barreiras mercadológicas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TICIPAÇÃO DO  PODER PÚBLICO NA COMPOSIÇÃO DO CUSTO DA ÁGU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RINCIPAIS CONCEITOS PARA A IMPLANTAÇÃO DA PNRH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143000"/>
            <a:ext cx="695016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DOMINIALIDADE – ESTADO E UNIÃO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(soberania administrativa como forma de compatibilizar política territorial e política de recursos hídricos)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DESCENTRALIZAÇÃO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(fomentar iniciativas de organização descentralizada)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UNIDADE BACIA HIDROGRÁFICA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(não se pode em seu nome promover a centralização em grandes bacias) 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ARTICULAÇÃO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(instrumento básico para se alcançar a descentralização e, portanto, o </a:t>
            </a:r>
            <a:r>
              <a:rPr b="0" i="1" lang="pt-BR" sz="1800" spc="-1" strike="noStrike">
                <a:solidFill>
                  <a:srgbClr val="000099"/>
                </a:solidFill>
                <a:latin typeface="Verdana"/>
              </a:rPr>
              <a:t>respeito à soberania dos estados na administração de suas águas e o respeito aos municípios na administração de seu território)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057400"/>
            <a:ext cx="784872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GOVERNANÇA COM GOVERNABILIDADE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Caberá ao Governo, ao Poder Público “regulamentar, regular e fiscalizar os </a:t>
            </a:r>
            <a:r>
              <a:rPr b="1" i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entendimentos </a:t>
            </a:r>
            <a:r>
              <a:rPr b="0" i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sociais sobre as questões ambientais para que eles permaneçam como rotinas”</a:t>
            </a:r>
            <a:r>
              <a:rPr b="0" i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Verdana"/>
              </a:rPr>
              <a:t>PRINCIPAIS CONCEITOS PARA A IMPLANTAÇÃO DA PNRH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057400"/>
            <a:ext cx="784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SETOR INDUSTRIAL E DE MINERAÇÃO DEVEM SER TRATADOS DE ACORDO COM SUAS ESPECIFICIDADES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Mineração é atividade extrativist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Minério é bem público como águ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A relação da atividade minerária com os recursos hídricos vai além da captação e o lançamento.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0492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Verdana"/>
              </a:rPr>
              <a:t>PRINCIPAIS CONCEITOS PARA A IMPLANTAÇÃO DA PNRH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280" y="1600200"/>
            <a:ext cx="7543800" cy="37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CONSELHO NACIONAL DE RECURSOS HÍDRICOS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ÓRGÃO MÁXIMO DO SISTEMA –DEFINIDOR DA POLÍTICA NACION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REGRAS/DIRETRIZES GERAIS QUE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NÃO INTERFIRAM NA SOBERANIA ADMINISTRATIVA MAS QUE PROMOVAM A ARTICULAÇÃO A INTEGR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2860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RINCIPAIS CONCEITOS PARA A IMPLANTAÇÃO DA PNRH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175248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AGENTES OUTORGANTES – ANA E AGENTES ESTADUAIS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3333ff"/>
                </a:solidFill>
                <a:latin typeface="Verdana"/>
              </a:rPr>
              <a:t>GARANTIA DA GOVERNABILIDADE &amp; GOVERNANÇA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	</a:t>
            </a:r>
            <a:r>
              <a:rPr b="1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FACE 1 - </a:t>
            </a:r>
            <a:r>
              <a:rPr b="0" lang="pt-BR" sz="2000" spc="-1" strike="noStrike">
                <a:solidFill>
                  <a:srgbClr val="0000cc"/>
                </a:solidFill>
                <a:latin typeface="Tahoma"/>
              </a:rPr>
              <a:t>REALIZAR A REGULAÇÃO E O CONTROLE DE USO DA ÁGUA - </a:t>
            </a:r>
            <a:r>
              <a:rPr b="0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Regulamentar, regular e fiscalizar  - 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	</a:t>
            </a:r>
            <a:r>
              <a:rPr b="0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 </a:t>
            </a:r>
            <a:r>
              <a:rPr b="1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entendimentos sociais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	</a:t>
            </a:r>
            <a:r>
              <a:rPr b="1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FACE 2 – </a:t>
            </a:r>
            <a:r>
              <a:rPr b="0" lang="pt-BR" sz="2000" spc="-1" strike="noStrike">
                <a:solidFill>
                  <a:srgbClr val="0000cc"/>
                </a:solidFill>
                <a:latin typeface="Tahoma"/>
              </a:rPr>
              <a:t>FOMENTAR A GESTÃO DESCENTRALIZADA E PARTICIPATIVA - </a:t>
            </a:r>
            <a:r>
              <a:rPr b="0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Fomentar, apoiar as unidades de gestão descentralizadas (cenário dos entendimentos sociais); implementar Sistema de Informações (instrumento básico para os entendimentos sociais de forma justa e correta)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2286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RINCIPAIS CONCEITOS PARA A IMPLANTAÇÃO DA PNRH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2286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1447920"/>
            <a:ext cx="7543800" cy="48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OBRANÇ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FUNÇÃO – PRIMEIRA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: INSTRUMENTO DE RACIONALIZAÇÃO DO USO (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não é taxa; não é penalidade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FUNÇÃO – SEGUNDA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: GARANTIA DE INVESTIMENTOS NECESSÁRIOS A BACI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BRANÇA &amp; GOVERNANÇA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– PRINCÍPIO BÁSICO O COMITÊ DEVE TER TOTAL AUTONOMIA PARA A GESTÃO DOS RECURSOS ORIUNDOS DA COBRANÇ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ÃO SE EFETIVA OS PRINCÍPIOS DA GOVERNANÇA SEM INDEPENDÊNCIA ECONÔMICA E FINANCEIR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840" y="1295280"/>
            <a:ext cx="772956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Plano de Recursos Hídricos, Plano de Investimento da bacia aprovado –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onde aplica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* as nossas bacias se encontram em patamar de   degradação avançado, devido a um passivo enorme advindo da falta de financiamento do setor público no tratamento do esgoto doméstico;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* Plano de Investimento deve ser uma referência para o patamar de qualidade e quantidade dos recursos hídricos desejados,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não podendo ser base de um rateio de custos entre todos os usuários</a:t>
            </a:r>
            <a:r>
              <a:rPr b="1" i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, como se a esses coubessem, igualmente, penalidades pela falta de investimentos no setor de saneamento 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S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840" y="1295280"/>
            <a:ext cx="772956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40" y="1295280"/>
            <a:ext cx="77295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Inventário de Usuários – como parâmetro de um Sistema de Informação em Recursos Hídricos</a:t>
            </a:r>
            <a:r>
              <a:rPr b="1" lang="pt-BR" sz="2400" spc="-1" strike="noStrike">
                <a:solidFill>
                  <a:srgbClr val="2d2525"/>
                </a:solidFill>
                <a:latin typeface="Verdana"/>
                <a:ea typeface="Times New Roman"/>
              </a:rPr>
              <a:t>.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  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*</a:t>
            </a:r>
            <a:r>
              <a:rPr b="0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Há que se ter investimentos neste campo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   </a:t>
            </a:r>
            <a:r>
              <a:rPr b="1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*</a:t>
            </a:r>
            <a:r>
              <a:rPr b="0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Tem-se uma preocupação especial com informações relativas às águas subterrâneas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  </a:t>
            </a:r>
            <a:r>
              <a:rPr b="1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*</a:t>
            </a:r>
            <a:r>
              <a:rPr b="0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Há que se estabelecer laboratórios de referência, certificadores em metrologia ambiental, com vistas à validação do automonitoramento.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8T18:59:05Z</dcterms:created>
  <dc:creator>-</dc:creator>
  <dc:description/>
  <dc:language>en-US</dc:language>
  <cp:lastModifiedBy>-</cp:lastModifiedBy>
  <dcterms:modified xsi:type="dcterms:W3CDTF">2002-07-16T21:48:57Z</dcterms:modified>
  <cp:revision>8</cp:revision>
  <dc:subject/>
  <dc:title>Apresentação do PowerPoint</dc:title>
</cp:coreProperties>
</file>