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B0A-4E8D-4020-AE9D-E9992098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732-4C42-4FD4-B747-45A4418D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0A1-F156-40EA-A1D0-C2777AEE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6DC-50BD-401F-82FD-232D3284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548E-E514-4079-A6AD-6E5DE081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09FD-35CA-45E3-9A28-320D76FD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E7A7-4D06-4181-8816-7FF99159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3FCC-B814-48C9-9CD5-CBA3B3D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2C57-CDFC-4CBE-AFBA-551AA3DA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C8D-6383-4AE8-8216-CB722B9B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4B8E-FE5E-4500-80F0-1BF68E05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E0D-D723-4F78-9DD3-69DB62C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710-9CB6-4DA8-97DA-85A477A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E3C8-C66C-4857-AFFA-A9F1845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18EC-7D54-43A7-8393-8EDF86C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96B1-15DA-464C-8DF8-7CDE5011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C3A9-F54E-49B7-AC88-5EB89E40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20D-6306-4812-A1A3-359E0CFD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7BC-1100-4FD2-9854-4F2FD36F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8F3-65E5-4873-BA52-CA1B65BE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98C-6BB2-4C43-B2DB-47151F3C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F5C-B0A3-4F71-BA18-ABED9B3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F99-2AFF-4218-96D1-CF93C3C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092-9E85-4CD1-B370-98644151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C7E4-BDF9-4559-B046-F7CB2672561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C7F8-7012-453E-B539-26C2AD26411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752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 COBRANÇA PELO USO DA ÁGUA NA VISÃO DO IBRAM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440" y="58672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Patrícia Helena Gambogi Bo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7729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plicação universal</a:t>
            </a:r>
            <a:r>
              <a:rPr b="1" lang="en-US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a cobrança como instrumento de mudança comportamental do uso predatório dos recursos hídricos deve ser aplicada a todos os usuários, considerando suas especificidades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76201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Há que se fazer um esforço para uma revisão no aparelho público de modo que isto possa ser efetivamente alcançado.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A descentralização e a participação da sociedade civil e usuária no processo decisório de aplicação é feita através da estruturação dos Comitês e Agências de Bacias e se dá com o retorno dos recursos financeiros na bacia, sub-bacia, trecho de bacia, etc., onde os recursos forem gerados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209680"/>
            <a:ext cx="7620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Reconhecendo a incapacidade da economia estabelecer metodologias exatas para a determinação do valor da cobrança pelo uso da água, a sociedade participante do processo atuará também como determinante desse valor. É nos organismos de bacias, nos quais se dá a gestão participativa dos recursos hídricos, que deverão ser encontradas as respostas para o equilíbrio necessário ao resultado da equação 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alor econômico </a:t>
            </a:r>
            <a:r>
              <a:rPr b="1" i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ersus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 valor social e ambiental da água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20968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gência de Bacia constituída e implantad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– garantia da autonom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rganizações civis de direito priv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 que garanta a vinculação direta com o Comitê –Lembrando que o Comitê não tem CNPJ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s enxutas e ágei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finição de usos insignificantes – que usos não serão cobr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7543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PECIFIC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cobrança no setor elétrico – diferentes domíni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liberação 08 do CEIVAP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aplicação na bacia – Leis estaduais e Nacional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stinação – possibilidade real de delegação e repass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necessidade de se estabelecer modelos que vinculem ao máximo a interferência ao valor cobrado – empreendimentos de porte econômico x efetiva interferência n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 problema do saneamento e a cobrança pelo uso da água – o setor de saneamento, público ou privado é apenas um usuário (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o setor de sane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9528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DESAFIOS/ RIS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tuação, de forma consistente e com programas bem fundamentados, no apoio e na definição de subsídios no setor agropecuário, para que esse participe da cobrança pelo uso da água –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a agricultur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 cobrança devem considerar a capacidade econômica do País e dos setores produtiv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vem evitar que os mesmos venham estabelecer barreiras mercadológic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ÇÃO DO  PODER PÚBLICO NA COMPOSIÇÃO DO CUSTO D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69501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OMINIALIDADE – ESTADO E UNI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soberania administrativa como forma de compatibilizar política territorial e política de recursos hídricos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ESCENTRALIZ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fomentar iniciativas de organização descentralizada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UNIDADE BACIA HIDROGRÁFICA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não se pode em seu nome promover a centralização em grandes bacias)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RTICUL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instrumento básico para se alcançar a descentralização e, portanto, o </a:t>
            </a: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respeito à soberania dos estados na administração de suas águas e o respeito aos municípios na administração de seu território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057400"/>
            <a:ext cx="7848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GOVERNANÇA COM GOVERNABILIDA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Caberá ao Governo, ao Poder Público “regulamentar, regular e fiscalizar os 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ociais sobre as questões ambientais para que eles permaneçam como rotinas”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57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SETOR INDUSTRIAL E DE MINERAÇÃO DEVEM SER TRATADOS DE ACORDO COM SUAS ESPECIFICIDADE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eração é atividade extrativist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ério é bem público como águ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 relação da atividade minerária com os recursos hídricos vai além da captação e o lançamento.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600200"/>
            <a:ext cx="7543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ÓRGÃO MÁXIMO DO SISTEMA –DEFINIDOR DA POLÍTICA N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REGRAS/DIRETRIZES GERAIS QU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NÃO INTERFIRAM NA SOBERANIA ADMINISTRATIVA MAS QUE PROMOVAM A ARTICULAÇÃO A INTEG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75248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GENTES OUTORGANTES – ANA E AGENTES ESTADUAI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3333ff"/>
                </a:solidFill>
                <a:latin typeface="Verdana"/>
              </a:rPr>
              <a:t>GARANTIA DA GOVERNABILIDADE &amp; GOVERNANÇ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1 -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REALIZAR A REGULAÇÃO E O CONTROLE DE USO DA ÁGU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egulamentar, regular e fiscalizar  -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sociai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2 –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FOMENTAR A GESTÃO DESCENTRALIZADA E PARTICIPATIV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mentar, apoiar as unidades de gestão descentralizadas (cenário dos entendimentos sociais); implementar Sistema de Informações (instrumento básico para os entendimentos sociais de forma justa e correta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754380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PRIMEIR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INSTRUMENTO DE RACIONALIZAÇÃO DO USO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ão é taxa; não é penalidad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SEGUND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GARANTIA DE INVESTIMENTOS NECESSÁRIOS A BACI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BRANÇA &amp; GOVERNANÇ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– PRINCÍPIO BÁSICO O COMITÊ DEVE TER TOTAL AUTONOMIA PARA A GESTÃO DOS RECURSOS ORIUNDOS DA COBRANÇ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ÃO SE EFETIVA OS PRINCÍPIOS DA GOVERNANÇA SEM INDEPENDÊNC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0" y="1295280"/>
            <a:ext cx="7729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lano de Recursos Hídricos, Plano de Investimento da bacia aprovado –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onde aplic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as nossas bacias se encontram em patamar de   degradação avançado, devido a um passivo enorme advindo da falta de financiamento do setor público no tratamento do esgoto doméstico;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Plano de Investimento deve ser uma referência para o patamar de qualidade e quantidade dos recursos hídricos desejados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não podendo ser base de um rateio de custos entre todos os usuários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, como se a esses coubessem, igualmente, penalidades pela falta de investimentos no setor de saneamento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S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1295280"/>
            <a:ext cx="77295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Inventário de Usuários – como parâmetro de um Sistema de Informação em Recursos Hídricos</a:t>
            </a:r>
            <a:r>
              <a:rPr b="1" lang="pt-BR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ter investimentos neste camp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em-se uma preocupação especial com informações relativas às águas subterrâne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estabelecer laboratórios de referência, certificadores em metrologia ambiental, com vistas à validação do automonitoramento.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-</cp:lastModifiedBy>
  <dcterms:modified xsi:type="dcterms:W3CDTF">2002-07-16T21:48:57Z</dcterms:modified>
  <cp:revision>8</cp:revision>
  <dc:subject/>
  <dc:title>Apresentação do PowerPoint</dc:title>
</cp:coreProperties>
</file>