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3521-50DC-474B-9021-F05384C2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802-13AD-47C9-868F-3232464C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1E73-C89A-46F7-AA29-34ACA50E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8925-CF85-4535-AAB2-EE266D29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9372-5738-4DC7-AA81-3A6298AB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CEE9-FCA7-41D2-B36C-4C326FAB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8F9-40A2-4F93-AA25-21DB1A18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05E8-8FFE-4FB9-B418-FFF6AB91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263A-9048-4E2B-BD85-DA0E50D1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F5E1-70DC-455D-9F4F-4846764D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6CDE-327F-4CB3-A2CD-0359A592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19F6-A7C5-4025-80DE-D0BC5BD8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AF90-8FA6-44E7-B8FC-F6F9972E9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152280"/>
          <a:ext cx="4952880" cy="13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2280"/>
                    <a:ext cx="495288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04920" y="4191120"/>
            <a:ext cx="94485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Altamirano Vaz Lordêllo Ne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Eng.º Agr.º MSc. Coordenador Técnico de Controle e Avali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GEREST/SRH-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email: alordelo@srh.ba.gov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Tel: (71) 370-6207/32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276640"/>
            <a:ext cx="92966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orga de Água, Alvará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squisa e Lavra de Água Mi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pectos Legais e Procedimentos no Estado da Bah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tó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800" y="1557360"/>
            <a:ext cx="906804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a outorga de direito de uso - 539,5 m³/dia em maio de 199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igência para Concessão de Licença de Localiz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mitida pelo órgão ambiental – Centro de Recursos Ambientais - C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nte – Superintendência de Recursos Hídricos – SR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do – Indústria e Comércio de Águas Minerais  Lt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Legal – Legislação de Recursos Híd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371600"/>
            <a:ext cx="8686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i Estadual 6.855 de 12 de maio de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õe sobre a Política, o Gerenciamento e o Plano Estadual de Recursos Hídricos e dá outras providências (Anterior a lei federal 9.43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. 20 - A concessão  d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cença de Localizaçã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ara empreendimentos que demandem a utilização de recursos hídricos, dependerá da prévia obtenção da respectiva outorga do direito de u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52280"/>
            <a:ext cx="8610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lvl="1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 Legal – Legislaçã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5800" y="1341360"/>
            <a:ext cx="86108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i Estadual 7.799 de 07 de fevereiro de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i a Política Estadual de Administração de Recursos Ambientais e dá outras providê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to Estadual Nº 7.967 de 05 de  junho de 2001 (Regulamenta a Lei 7.799)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ção VIII - Procedimentos Para Emissão de Autorização ou Licença Ambient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692280"/>
            <a:ext cx="87631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reto 7.967 - Seção VIII, Continu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371600"/>
            <a:ext cx="8686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t. 181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ção dos processos de autorização ou de licenciamento ambiental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§ 1o - O CRA exigirá, no que couber, dentre outros documentos e informações: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II - Outorga de uso da água expedida pelo órgão competente;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II - Alvará de pesquisa mineral expedido pelo DNPM;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304920"/>
            <a:ext cx="906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entos Para Exploração de Água Mineral – Bah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" y="1600200"/>
            <a:ext cx="8534520" cy="4284720"/>
            <a:chOff x="457200" y="1600200"/>
            <a:chExt cx="8534520" cy="4284720"/>
          </a:xfrm>
        </p:grpSpPr>
        <p:sp>
          <p:nvSpPr>
            <p:cNvPr id="60" name=""/>
            <p:cNvSpPr/>
            <p:nvPr/>
          </p:nvSpPr>
          <p:spPr>
            <a:xfrm>
              <a:off x="457200" y="2552760"/>
              <a:ext cx="1828800" cy="118836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mpresário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3505320"/>
              <a:ext cx="2057400" cy="76212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Outorga de Uso da Águ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43200" y="2057400"/>
              <a:ext cx="2438280" cy="76212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Alvará de pesquisa mineral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1600200"/>
              <a:ext cx="11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DNP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2520" y="3048120"/>
              <a:ext cx="1008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SRH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480" y="1676520"/>
              <a:ext cx="898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CR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2133720"/>
              <a:ext cx="2286000" cy="85572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icença de Localização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0" idx="3"/>
              <a:endCxn id="62" idx="1"/>
            </p:cNvCxnSpPr>
            <p:nvPr/>
          </p:nvCxnSpPr>
          <p:spPr>
            <a:xfrm flipV="1">
              <a:off x="2297160" y="2448720"/>
              <a:ext cx="435600" cy="69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" name=""/>
            <p:cNvCxnSpPr>
              <a:stCxn id="60" idx="3"/>
              <a:endCxn id="61" idx="1"/>
            </p:cNvCxnSpPr>
            <p:nvPr/>
          </p:nvCxnSpPr>
          <p:spPr>
            <a:xfrm>
              <a:off x="2297160" y="3142800"/>
              <a:ext cx="511920" cy="75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"/>
            <p:cNvCxnSpPr>
              <a:stCxn id="60" idx="3"/>
              <a:endCxn id="62" idx="1"/>
            </p:cNvCxnSpPr>
            <p:nvPr/>
          </p:nvCxnSpPr>
          <p:spPr>
            <a:xfrm flipV="1">
              <a:off x="2297160" y="2448720"/>
              <a:ext cx="435600" cy="69444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0" idx="3"/>
              <a:endCxn id="61" idx="1"/>
            </p:cNvCxnSpPr>
            <p:nvPr/>
          </p:nvCxnSpPr>
          <p:spPr>
            <a:xfrm>
              <a:off x="2297160" y="3142800"/>
              <a:ext cx="511920" cy="754920"/>
            </a:xfrm>
            <a:prstGeom prst="straightConnector1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</p:cxnSp>
        <p:sp>
          <p:nvSpPr>
            <p:cNvPr id="71" name=""/>
            <p:cNvSpPr/>
            <p:nvPr/>
          </p:nvSpPr>
          <p:spPr>
            <a:xfrm>
              <a:off x="5334120" y="5410080"/>
              <a:ext cx="3657600" cy="47484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icença de Implantação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61" idx="3"/>
              <a:endCxn id="66" idx="1"/>
            </p:cNvCxnSpPr>
            <p:nvPr/>
          </p:nvCxnSpPr>
          <p:spPr>
            <a:xfrm flipV="1">
              <a:off x="4887720" y="2571480"/>
              <a:ext cx="1121400" cy="1326240"/>
            </a:xfrm>
            <a:prstGeom prst="straightConnector1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</p:cxnSp>
        <p:cxnSp>
          <p:nvCxnSpPr>
            <p:cNvPr id="73" name=""/>
            <p:cNvCxnSpPr>
              <a:stCxn id="62" idx="3"/>
              <a:endCxn id="66" idx="1"/>
            </p:cNvCxnSpPr>
            <p:nvPr/>
          </p:nvCxnSpPr>
          <p:spPr>
            <a:xfrm>
              <a:off x="5192280" y="2449440"/>
              <a:ext cx="816840" cy="12312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562720" y="3771720"/>
              <a:ext cx="3200400" cy="47484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Portaria de Lavr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38680" y="3314520"/>
              <a:ext cx="11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DNP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66" idx="2"/>
              <a:endCxn id="74" idx="0"/>
            </p:cNvCxnSpPr>
            <p:nvPr/>
          </p:nvCxnSpPr>
          <p:spPr>
            <a:xfrm>
              <a:off x="7162560" y="3021120"/>
              <a:ext cx="1080" cy="740160"/>
            </a:xfrm>
            <a:prstGeom prst="straightConnector1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5638680" y="4952880"/>
              <a:ext cx="898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CR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4" idx="2"/>
              <a:endCxn id="71" idx="0"/>
            </p:cNvCxnSpPr>
            <p:nvPr/>
          </p:nvCxnSpPr>
          <p:spPr>
            <a:xfrm>
              <a:off x="7162560" y="4277880"/>
              <a:ext cx="1080" cy="1121400"/>
            </a:xfrm>
            <a:prstGeom prst="straightConnector1">
              <a:avLst/>
            </a:prstGeom>
            <a:ln w="38160">
              <a:solidFill>
                <a:srgbClr val="990000"/>
              </a:solidFill>
              <a:miter/>
              <a:tailEnd len="med" type="triangle" w="med"/>
            </a:ln>
          </p:spPr>
        </p:cxnSp>
      </p:grpSp>
      <p:sp>
        <p:nvSpPr>
          <p:cNvPr id="79" name=""/>
          <p:cNvSpPr/>
          <p:nvPr/>
        </p:nvSpPr>
        <p:spPr>
          <a:xfrm>
            <a:off x="457200" y="5791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* Detalhado a se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00160" y="1890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so Para Outorga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15800" y="1468440"/>
            <a:ext cx="9145440" cy="4629240"/>
            <a:chOff x="415800" y="1468440"/>
            <a:chExt cx="9145440" cy="4629240"/>
          </a:xfrm>
        </p:grpSpPr>
        <p:sp>
          <p:nvSpPr>
            <p:cNvPr id="83" name=""/>
            <p:cNvSpPr/>
            <p:nvPr/>
          </p:nvSpPr>
          <p:spPr>
            <a:xfrm>
              <a:off x="415800" y="1468440"/>
              <a:ext cx="19900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ADA: PROTOCO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30320" y="1468440"/>
              <a:ext cx="343404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BERTURA DA FOLHA DE ACOMPANH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85560" y="1468440"/>
              <a:ext cx="28756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TOR JURÍDICO: PARECER JURÍD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64360" y="2560680"/>
              <a:ext cx="28522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TOR GEOLÓGICO: PARECER TECN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78080" y="2560680"/>
              <a:ext cx="241596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REST: PARECER FI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8080" y="2560680"/>
              <a:ext cx="191556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GES: AVALI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53920" y="3652920"/>
              <a:ext cx="182556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CON: COBRANÇ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585520" y="2924280"/>
              <a:ext cx="5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2880" y="3652920"/>
              <a:ext cx="211572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RTARIA DE OUTORG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09960" y="3652920"/>
              <a:ext cx="370080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RES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RREÇÃO DA PORTA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17840" y="4745160"/>
              <a:ext cx="180864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UTA DA PORTA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12720" y="1832040"/>
              <a:ext cx="4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68960" y="401652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96360" y="4705200"/>
              <a:ext cx="33508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GES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RREÇÃO DA MINU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858080" y="4287960"/>
              <a:ext cx="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280" y="4705200"/>
              <a:ext cx="20260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.G.: PUBLIC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48760" y="5729400"/>
              <a:ext cx="1901880" cy="368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CHA FI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655000" y="504972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0200" y="5729400"/>
              <a:ext cx="1498320" cy="368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PR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593680" y="292428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67800" y="32367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03680" y="5345280"/>
              <a:ext cx="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64360" y="1832040"/>
              <a:ext cx="36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10760" y="4016520"/>
              <a:ext cx="4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473160" y="5049720"/>
              <a:ext cx="5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78000" y="597060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72880" y="476280"/>
            <a:ext cx="8420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ras Outorgas Conce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8880" y="1197000"/>
            <a:ext cx="8077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nte – Superintendência de Recursos Hídricos – SR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do –Água Mineral Salvador Ltda – 172,8 m³/dia em outubro de 199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do – Milfontes Águas Minerais e Bebidas Ltda - 192 m³/dia em junho de 20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do – Água Mineral Vida Ltda  - 180 m³/dia em abril de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72880" y="260280"/>
            <a:ext cx="9112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A TÉCNICA NT - 004/02 CEP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8880" y="1268280"/>
            <a:ext cx="8382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rt. 4º - Para o requerimento da Renovação da Licença de Operação - RLO, faz-se necessária a apresentação dos seguintes documentos, no que couber, junto ao Centro de Recursos Ambientais - CRA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X - Outorga do Direito de Uso da Água para Mananciais Superficiais ou Subterrâneos concedida pelo competente órgão gestor dos recursos hídricos;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5:12:39Z</dcterms:created>
  <dc:creator>rbomfim</dc:creator>
  <dc:description/>
  <dc:language>en-US</dc:language>
  <cp:lastModifiedBy>alordelo</cp:lastModifiedBy>
  <dcterms:modified xsi:type="dcterms:W3CDTF">2004-08-10T22:56:09Z</dcterms:modified>
  <cp:revision>304</cp:revision>
  <dc:subject/>
  <dc:title>Apresentação do PowerPoint</dc:title>
</cp:coreProperties>
</file>