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39A9-180A-48D1-957B-1CAC2DC9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28F7-B85C-4D76-BCAE-8E3A40EC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FA8-B9C3-4F01-920B-62EBCB69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D487-018B-4832-9126-5CAA4E17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D97-DAEC-4248-B4E9-166DD33E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67C-B798-4267-A843-B021C712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17E-678E-454D-85F5-4F735C5F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E93A-DF55-4B07-9A18-A18217E7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4CF-DEBF-4601-AE5C-234D74C7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AC4-F480-4829-91B2-D2383226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B03-5FBB-475C-8120-1FB9AF5A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916-C398-49D9-BBD9-D90886B6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EAA0-E231-4BAF-9084-9EABEFEEA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077320" y="6504120"/>
          <a:ext cx="857160" cy="23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7320" y="6504120"/>
                    <a:ext cx="85716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CONSELHO NACIONAL DE RECURSOS HÍDRICO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CÂMARA TÉCNICA DE ÁGUAS SUBTERRÂ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199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rberto Ramon                                                                          Agosto/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514600"/>
            <a:ext cx="8686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EMINÁR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 GESTÃO DAS ÁGUAS MINERAIS, TERMAIS, POTÁVEIS DE MESA E PARA FINS BALNEÁRIOS E A GESTÃO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Aft>
                <a:spcPts val="2001"/>
              </a:spcAft>
              <a:buClr>
                <a:srgbClr val="ff99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Integração de Procedimento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de Outorga de Uso de Recurs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Hídricos e de Licenciame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Ambiental no Estado do Par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-304920" y="-30528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33"/>
                </a:solidFill>
                <a:latin typeface="Arial"/>
              </a:rPr>
              <a:t>Experiência de Gestão Integrada do Uso de Recurso Hídr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5264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33"/>
                </a:solidFill>
                <a:latin typeface="Arial"/>
              </a:rPr>
              <a:t>Experiência de Gestão Integrada do Uso de Recurso Hídr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209680"/>
            <a:ext cx="1828800" cy="685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2286000"/>
            <a:ext cx="1752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S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895480"/>
            <a:ext cx="0" cy="838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3733920"/>
            <a:ext cx="571500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3733920"/>
            <a:ext cx="0" cy="9144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3733920"/>
            <a:ext cx="0" cy="9144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648320"/>
            <a:ext cx="2133720" cy="685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4648320"/>
            <a:ext cx="1828800" cy="685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472428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SUDERH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47242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IA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07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838080"/>
            <a:ext cx="5029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99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Arial"/>
              </a:rPr>
              <a:t>Estrutura Organizacional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4267080"/>
            <a:ext cx="0" cy="3812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4267080"/>
            <a:ext cx="0" cy="3812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9933"/>
                </a:solidFill>
                <a:latin typeface="Arial"/>
              </a:rPr>
              <a:t>Dificuld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33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Os processos de Licenci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Ambiental deveriam ser precedi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pelas Outorgas de Direito de U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pt-BR" sz="2600" spc="-1" strike="noStrike">
                <a:solidFill>
                  <a:srgbClr val="000099"/>
                </a:solidFill>
                <a:latin typeface="Arial"/>
              </a:rPr>
              <a:t>(Manual de Licenciamento - IA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-15264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33"/>
                </a:solidFill>
                <a:latin typeface="Arial"/>
              </a:rPr>
              <a:t>Experiência de Gestão Integrada do Uso de Recurso Hídr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Decreto 4.646/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ria o instrumento da Outorga Pré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dicionante para a continuidade de procedimentos de Licenc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15228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33"/>
                </a:solidFill>
                <a:latin typeface="Arial"/>
              </a:rPr>
              <a:t>Experiência de Gestão Integrada do Uso de Recurso Hídr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33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ff9933"/>
                </a:solidFill>
                <a:latin typeface="Arial"/>
                <a:ea typeface="Arial"/>
              </a:rPr>
              <a:t>Resolução  003/04-SEMA </a:t>
            </a:r>
            <a:r>
              <a:rPr b="1" lang="pt-BR" sz="1800" spc="-1" strike="noStrike">
                <a:solidFill>
                  <a:srgbClr val="ff9933"/>
                </a:solidFill>
                <a:latin typeface="Arial"/>
                <a:ea typeface="Arial"/>
              </a:rPr>
              <a:t>(Fevereiro/2004)</a:t>
            </a: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Estabelece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ocedimentos de integraçã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ara emissão da Outorga Prévia, 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utorga de Direito de Uso de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Hídricos e para o Licencia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Ambien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15228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33"/>
                </a:solidFill>
                <a:latin typeface="Arial"/>
              </a:rPr>
              <a:t>Experiência de Gestão Integrada do Uso de Recurso Hídr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295280"/>
            <a:ext cx="8001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33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ff9933"/>
                </a:solidFill>
                <a:latin typeface="Arial"/>
                <a:ea typeface="Arial"/>
              </a:rPr>
              <a:t>Resolução  003/04-SEMA </a:t>
            </a:r>
            <a:r>
              <a:rPr b="1" lang="pt-BR" sz="1800" spc="-1" strike="noStrike">
                <a:solidFill>
                  <a:srgbClr val="ff9933"/>
                </a:solidFill>
                <a:latin typeface="Arial"/>
                <a:ea typeface="Arial"/>
              </a:rPr>
              <a:t>(Fevereiro/2004)</a:t>
            </a: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A Outorga Prévia emitida pela SUDERH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será apresentada pelo requerente ao IA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ao solicitar a Licença Prévia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15228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33"/>
                </a:solidFill>
                <a:latin typeface="Arial"/>
              </a:rPr>
              <a:t>Experiência de Gestão Integrada do Uso de Recurso Hídr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143000"/>
            <a:ext cx="8001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33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ff9933"/>
                </a:solidFill>
                <a:latin typeface="Arial"/>
                <a:ea typeface="Arial"/>
              </a:rPr>
              <a:t>Resolução  003/04-SEMA </a:t>
            </a:r>
            <a:r>
              <a:rPr b="1" lang="pt-BR" sz="1800" spc="-1" strike="noStrike">
                <a:solidFill>
                  <a:srgbClr val="ff9933"/>
                </a:solidFill>
                <a:latin typeface="Arial"/>
                <a:ea typeface="Arial"/>
              </a:rPr>
              <a:t>(Fevereiro/2004)</a:t>
            </a: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Quando do pedido de Outorga de Dire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de Uso de Recursos Hídricos deverá 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apresentada, pelo requerente, a Licenç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Arial"/>
              </a:rPr>
              <a:t>de Instalação ou a Autorização Ambien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15228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33"/>
                </a:solidFill>
                <a:latin typeface="Arial"/>
              </a:rPr>
              <a:t>Experiência de Gestão Integrada do Uso de Recurso Hídr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15228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33"/>
                </a:solidFill>
                <a:latin typeface="Arial"/>
              </a:rPr>
              <a:t>Experiência de Gestão Integrada do Uso de Recurso Hídr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1219320"/>
            <a:ext cx="2590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Outorga Pré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1905120"/>
            <a:ext cx="0" cy="4572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228600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Licença Pré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2971800"/>
            <a:ext cx="0" cy="4572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3505320"/>
            <a:ext cx="3733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Licença de Insta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4038480"/>
            <a:ext cx="0" cy="4572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457200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Outorga de Direito de 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4572000"/>
            <a:ext cx="4267440" cy="4572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5105520"/>
            <a:ext cx="0" cy="4572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638680"/>
            <a:ext cx="365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Licença de Ope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5638680"/>
            <a:ext cx="3505320" cy="4572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1371600"/>
            <a:ext cx="2514600" cy="4572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2438280"/>
            <a:ext cx="2438280" cy="4572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3505320"/>
            <a:ext cx="3657600" cy="4572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1371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UDERH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2438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35053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56386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45720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UDERH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13:22:12Z</dcterms:created>
  <dc:creator>Ramon</dc:creator>
  <dc:description/>
  <dc:language>en-US</dc:language>
  <cp:lastModifiedBy>Ramon</cp:lastModifiedBy>
  <dcterms:modified xsi:type="dcterms:W3CDTF">2004-08-05T13:31:06Z</dcterms:modified>
  <cp:revision>11</cp:revision>
  <dc:subject/>
  <dc:title>CONSELHO NACIONAL DE RECURSOS HÍDRICOS </dc:title>
</cp:coreProperties>
</file>