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EFE8-0334-4B67-BAC0-ED4354691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4990-5939-4F35-B26B-E1D9C3C6E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1DB8-BA41-42D1-87F6-839420C0E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0505-0343-4AC1-B5C5-E6C96D6C1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A4813-E1A3-4723-82B4-F97EEC86F7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3638-E725-4898-B9F4-264A7750B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D722F-B73D-460A-83B7-DA07945F02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88F05-B515-421B-B228-021641C995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C3AA9-4003-473E-AD8A-E0F12F84E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E26E-9428-4FA2-A478-088D2FC1FF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52FCB-B421-442B-8DF3-1D71530837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0433-998D-4DA3-95F0-ECFBAC204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2C0DD-4F15-42F0-AE54-1B3AD2DDB0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EDC24-4A6F-472F-84EA-D5F9537DCF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C7342-D7A8-4547-B5BC-F7C9C9B9D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1BC2-7C7C-4527-8754-8820EF1D78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1196E-766D-4B23-B478-DC9E00008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2FD2-3747-43E9-886A-29AD7E326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AEEB-269D-4399-A5A5-8BCB635AB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DEDD-91BA-422E-9FAD-9CC9A5565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3C29-9697-4120-840D-A9584F407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2153-5CF0-4050-A3BF-97131A26D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52BD-0AAE-4158-AD62-DDF903990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5DB2-E46E-45CD-9876-660F91F3B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490C-671F-4711-80CE-A9BC9E489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6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8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8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413-9C91-4322-831E-E7CB0F084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aff2d"/>
                </a:solidFill>
                <a:latin typeface="Times New Roman"/>
              </a:rPr>
              <a:t>“</a:t>
            </a:r>
            <a:r>
              <a:rPr b="0" lang="pt-BR" sz="4400" spc="-1" strike="noStrike">
                <a:solidFill>
                  <a:srgbClr val="faff2d"/>
                </a:solidFill>
                <a:latin typeface="Times New Roman"/>
              </a:rPr>
              <a:t>Integração da Gestão de Recursos Hídricos e a de Águas Minerais: Oportunidades e Desafios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440" y="3657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arcelo Taylor de 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pecialista em Meio Ambiente 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Sistema FIRJ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mtaylor@firjan.org.b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el (21) 2563 31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638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eminário A Gestão das Águas Minerais, Termais, Potáveis de Mesa e para Fins Balneários e a Gestão de Recursos Hídricos - 11 de Agos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-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e Recursos Hídr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6049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Código de Águas Mine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Situação Leg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181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POTENCIAL DE CONFLITOS DE COMPETÊNCIA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0320" y="32148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Leis federais de Recursos Híd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9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Leis estaduais de Recursos Hídricos e de águas subterrân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que faz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lterações Constituciona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0320" y="2635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finir as Águas Subterrâneas como de domínio da Uniã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3854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passar especificamente a Gestão das Águas Minerais para os Est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5181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TEMA POLÊMICO QUE DEMANDARÁ TEMPO E DE DIFÍCIL CONSENS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que fazer I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lterações Lega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320" y="2514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passar a Gestão das Águas Minerais à Agência Nacional de Águ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0320" y="353376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Alterar o Código de Águas para permitir a subordinação das concessões de AM aos ditames dos Sistemas Estaduais de Recursos Hídric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5378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TEMA POLÊMICO DE DIFÍCIL CONSENSO E QUE NÃO RESOLVE O PROBLEM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Não se pode fazer nada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CNRH e sua CTAS pod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320" y="251460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finir e sugerir critérios de integração de procedimentos que permitam que os órgãos do Sistema Nacional de Recursos Hídricos  e de Produção Mineral comuniquem-se e decidam fundamentada e cooperativamen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5378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TROCA DE INFORMAÇÕES E NEGOCIAÇÃO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lgumas premiss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032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Não pode haver subordinação de um sistema a ou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3526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Informações devem ser compartidas: Sistemas de Informação de Recursos Hídricos e Minerais devem ser compatíve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51814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Planos de Recursos Hídricos devem contemplar a água mineral e suas caracterís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0320" y="27576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soluções CNRH devem ser leg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Planos de Recursos Hídr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0320" y="2178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contemplar as concessões de Águas Minerais já outorg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48768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prever a possibilidade de descoberta de novas jazidas de Águas Minerais e sua inserção entre os usos possíveis e previstos, de ocorrência inc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 DNP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320" y="19810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considerar os usos existentes já outorgados (especialmente os prioritários) quando da concessão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4290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m cuidar para que os poços de pesquisa de águas minerais sejam feitos conforme a melhor téc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0320" y="49514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eve estar atento para possíveis utilizações indevidas da Autorização para perfuração de poç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otona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047960" cy="152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584400">
            <a:off x="836640" y="623520"/>
            <a:ext cx="6703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Conclus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0320" y="198108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Há uma grande oportunidade para a minimização dos conflitos atuais e futuros na gestão das Águas Minerais e dos Recursos Hídricos. Essa oportunidade traz desafios que devem ser vencidos com a devida negociação e entendimentos entre as par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5105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ACALMEMOS OS ÂNIM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DESARMEMO-N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21584400">
            <a:off x="1064880" y="863280"/>
            <a:ext cx="70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Origem da Água no Plan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82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Poeira Cósmica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697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Vulcâ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505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Reações Roch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449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Contribuição de Come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41-nasa" descr=""/>
          <p:cNvPicPr/>
          <p:nvPr/>
        </p:nvPicPr>
        <p:blipFill>
          <a:blip r:embed="rId1"/>
          <a:stretch/>
        </p:blipFill>
        <p:spPr>
          <a:xfrm>
            <a:off x="7315200" y="1905120"/>
            <a:ext cx="150984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21584400">
            <a:off x="1066320" y="867960"/>
            <a:ext cx="54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oceano" descr=""/>
          <p:cNvPicPr/>
          <p:nvPr/>
        </p:nvPicPr>
        <p:blipFill>
          <a:blip r:embed="rId1"/>
          <a:stretch/>
        </p:blipFill>
        <p:spPr>
          <a:xfrm>
            <a:off x="1039680" y="1736640"/>
            <a:ext cx="2362320" cy="158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818280" y="341316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Oceanos  -  97,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geleira" descr=""/>
          <p:cNvPicPr/>
          <p:nvPr/>
        </p:nvPicPr>
        <p:blipFill>
          <a:blip r:embed="rId2"/>
          <a:stretch/>
        </p:blipFill>
        <p:spPr>
          <a:xfrm>
            <a:off x="1039680" y="4251240"/>
            <a:ext cx="236232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44440" y="600408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Icebergs e Geleiras - 2,1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rio" descr=""/>
          <p:cNvPicPr/>
          <p:nvPr/>
        </p:nvPicPr>
        <p:blipFill>
          <a:blip r:embed="rId3"/>
          <a:stretch/>
        </p:blipFill>
        <p:spPr>
          <a:xfrm>
            <a:off x="4343400" y="2560680"/>
            <a:ext cx="4495680" cy="299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69160" y="2712960"/>
            <a:ext cx="2889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lloon XBd BT"/>
              </a:rPr>
              <a:t>Água Do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lloon XBd BT"/>
              </a:rPr>
              <a:t>Disponí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Balloon XBd BT"/>
              </a:rPr>
              <a:t>0,65%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4840" y="1630440"/>
            <a:ext cx="34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alloon XBd BT"/>
              </a:rPr>
              <a:t>1,35 bilhões  km</a:t>
            </a:r>
            <a:r>
              <a:rPr b="0" lang="pt-BR" sz="3200" spc="-1" strike="noStrike" baseline="30000">
                <a:solidFill>
                  <a:srgbClr val="ffffff"/>
                </a:solidFill>
                <a:latin typeface="Balloon XBd BT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21584400">
            <a:off x="1064520" y="867960"/>
            <a:ext cx="76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Armazenamento da Água Disponív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laneta" descr=""/>
          <p:cNvPicPr/>
          <p:nvPr/>
        </p:nvPicPr>
        <p:blipFill>
          <a:blip r:embed="rId1"/>
          <a:stretch/>
        </p:blipFill>
        <p:spPr>
          <a:xfrm>
            <a:off x="762120" y="1647720"/>
            <a:ext cx="3456000" cy="3471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56240" y="167148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48 % Águas Subterrâ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         </a:t>
            </a: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até 800 m de Pr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845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49 % Águas subterrâneas a mais de 800 m de  Pr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48680" y="4064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0,8 % Água no s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72520" y="4719600"/>
            <a:ext cx="285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0,7 % vapor d´Água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atmosf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01600" y="5699160"/>
            <a:ext cx="24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1,5 %  Rios e La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19720" y="1724040"/>
            <a:ext cx="914400" cy="4371840"/>
            <a:chOff x="4419720" y="1724040"/>
            <a:chExt cx="914400" cy="4371840"/>
          </a:xfrm>
        </p:grpSpPr>
        <p:sp>
          <p:nvSpPr>
            <p:cNvPr id="146" name=""/>
            <p:cNvSpPr/>
            <p:nvPr/>
          </p:nvSpPr>
          <p:spPr>
            <a:xfrm>
              <a:off x="4419720" y="172404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9720" y="271476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401004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469584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5638680"/>
              <a:ext cx="914400" cy="4572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38080" y="51814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alloon XBd BT"/>
              </a:rPr>
              <a:t>Parte não contabilizada em rochas hidratadas e águas con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21584400">
            <a:off x="2436120" y="86796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Circulação da Água Subterrân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9280" y="17524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Hipodérmica (geralmente freáticas de circulação de baixa profundi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41-nasa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0948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990720" y="46465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A circulação da Água subterrânea é um processo de baixa velocidade, onde há a dissolução e precipitação de s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9280" y="3321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Circulação profunda (alto tempo de circulaçã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rot="21584400">
            <a:off x="914040" y="8679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9051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Quando a água natural tem uma concentração de sais, estável no tempo, que conferem-na características benéficas à saúde e possuem  viabilidade de aproveitamento econômico para o consumo ou uso direto é classificada como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ÁGUA MI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21584400">
            <a:off x="914040" y="8679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986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o TEMPO de circulação  subterrâ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A sua ocorrência depende geralmente (há exceçõe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778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a reatividade das rochas por onde circ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7689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dos fenômenos dispersivos, difusivos, não-saturativos, transformativos, retardativos ou atenuativos</a:t>
            </a:r>
            <a:r>
              <a:rPr b="0" lang="pt-BR" sz="2400" spc="-1" strike="noStrike">
                <a:solidFill>
                  <a:srgbClr val="ffffff"/>
                </a:solidFill>
                <a:latin typeface="Balloon XBd BT"/>
              </a:rPr>
              <a:t> dessa circul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21584400">
            <a:off x="914040" y="8679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I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438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pouca conexão com os recursos hídricos superficiais ou de longo prazo de renov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Característ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733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ocorrência localizada às condicionantes hidrogeológ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geralmente com alta rigidez locac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SIMILAR AOS RECURSOS MINERAI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21584400">
            <a:off x="912600" y="86364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Águas Minerais e Recursos Hídr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438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recursos minerais são bens de domínio da União (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alloon XBd BT"/>
              </a:rPr>
              <a:t>Situação Constituci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3973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Águas subterrâneas são bens de domínio dos estados (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5378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alloon XBd BT"/>
              </a:rPr>
              <a:t>POTENCIAL DE CONFLITOS DE COMPETÊNCIA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0320" y="43117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lloon X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alloon XBd BT"/>
              </a:rPr>
              <a:t>Cabe à União instituir um Sistema Nacional de Recursos Hídricos (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7:20:20Z</dcterms:created>
  <dc:creator>Claudio</dc:creator>
  <dc:description/>
  <dc:language>en-US</dc:language>
  <cp:lastModifiedBy>Marcelo Taylor de Lima</cp:lastModifiedBy>
  <dcterms:modified xsi:type="dcterms:W3CDTF">2004-08-11T13:57:56Z</dcterms:modified>
  <cp:revision>65</cp:revision>
  <dc:subject/>
  <dc:title>A Gestão de Recursos Hídricos e o Desenvolvimento Industrial no Estado do Rio de Janeiro</dc:title>
</cp:coreProperties>
</file>