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AC2-59F3-48A9-857D-7388BE7B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CDF-FE0E-4096-8E38-196B59B9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B9D-A733-4F70-8B92-FE05F80E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302-B5A1-475D-A475-84512443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B0F-516F-4205-BDAC-E55B3036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F33-E79F-450B-AC48-F8647F82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D00-4E8E-4FEC-B925-B355D846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012-79FE-4BBC-855C-0D9879EE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AC2-A3E3-4A54-A9A5-7BF149C2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533-B5E6-42AC-86F7-BBABD5AA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2EF-CC85-4D13-A863-0CA8E916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5B8-0531-423D-AD00-0A3C6112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6C0-94D1-4E1B-81DA-1C9DF4A9B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3120" y="2286000"/>
            <a:ext cx="86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ustentabilidade e Qualidade das Águas Minerai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330192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eóloga Elzira Déa Alves Barb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181480"/>
            <a:ext cx="8567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panhia de Tecnologia de Saneamento Ambiental (CETE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v. Prof. Frederico Hermann Jr., 345 CEP 05459-900 - São Paulo -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ne: (011) 3030-6033  Fax: (011) 3030-612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-mail: elzirab@cetesb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6320"/>
            <a:ext cx="647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slação Estadual -  DECRETO 32.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838080"/>
            <a:ext cx="8458200" cy="58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ÁREA DE PROTEÇÃO MÁXIMA - A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PARTE OU TODA A ZONA DE RECARGA DE AQÜÍFEROS ALTAMENTE VULNERÁVEIS À POLUIÇÃO E QUE SE CONSTITUAM DE DEPÓSITOS PARA ABASTECIMENT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ÁREA DE RESTRIÇÃO E CONTROLE - A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ZONA CARCTERIZADA PELA NECESSIDADE DE DISCIPLINA DAS EXTRAÇÕES, CONTROLE MÁXIMO DAS FONTES POLUIDORAS E RESTRIÇÃO À INSTALAÇÃO DE NOVAS A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ÁREA DE PROTEÇÃO DE POÇOS E OUTRAS CAPTAÇÕES - A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INCLUI A DISTÂNCIA MÍNIMA ENTRE POÇOS E O RESPECTIVO PERÍMETRO DE PROTE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REA DE PROTEÇÃO DE POÇOS E OUTRAS CAPTAÇÕ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ERÍMETRO IMEDIATO DE PROTEÇÃO SANITÁ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RAIO DE 10 METROS A PARTIR DO PONTO DE CAPTAÇÃO, CERCADO E PROTEGIDO E COM  LAGE DE PROTEÇÃO. CORRESPONDE ZI  DA PORTARIA DNPM 23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870120"/>
            <a:ext cx="845820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ÁREA DE PROTEÇÃO DE POÇOS E OUTRAS      CAPT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240" indent="-20952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RÍMETRO DE ALER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DELIMITADO POR UMA DISTÂNCIA COAXIAL AO SENTIDO DO FLUXO EQUIVALENTE AO TEMPO DE TRÂNSITO DE 50 DIAS DE POLUENTES NÃO CONSERVATIVOS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VER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R DISCIPLINA DAS EXTRAÇÕES, CONTROLE MÁXIMO DE FONTES POLUIDORAS E RESTRIÇÕES A NOVAS LICENÇA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RESPONDE ZT DA PORTARIA DNPM 23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240" indent="-209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240" indent="-209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ACA-SE QUE ASSIM COMO A PORTARIA DNPM 231 O DECRETO ESTADUAL TAMBÉM É UM INSTRUMENTO DE PLANEJAMENTO QUE DE FORMA MAIS ABRANGENTE INCLUE NÃO SÓ A PROTEÇÃO DO POÇO, MAS TAMBÉM  A PROTEÇÃO DO AQUÍF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9880" indent="-322200" algn="just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320"/>
            <a:ext cx="647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slação Estadual -  DECRETO 32.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85800"/>
            <a:ext cx="855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762120"/>
            <a:ext cx="83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I ESTADUAL 7663.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ESTABELECE A POLÍTICA ESTADUAL DE RECURSOS HÍDRICOS E O SISTEMA INTEGRADO DE GERENCIAMENT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889280"/>
            <a:ext cx="83977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6720" indent="-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E CONSTA DIRETRIZES GERAIS, A NÍVEL REGIONAL, CAPAZES DE ORIENTAR OS PLANOS DIRETORES MUNICIPAIS, NOTADAMENTE NOS SETORES DE CRESCIMENTO URBANO, LOCALIZAÇÃO INDUSTRIAL,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TEÇÃO DOS MANANCIA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XPLORAÇÃ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RRIGAÇÃO E SANEAMENTO, SEGUNDO AS NECESSIDADES DE RECUPERAÇÃO, PROTEÇÃO E CONSERVAÇÃO DOS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6720" indent="-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SMA n° 04.99 Q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ENDE ÀS RESOLUÇÕES CONAMA N°09/90 E N°237 / 199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SCIPLINA O PROCEDIMENTO PARA O LICENCIAMENTO AMBIENTAL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RA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 ATIVIDADE MINERÁRIA TENDO SIDO ELABORADA EM PARCERIA COM O DNPM DE SÃO PAU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4280" y="76320"/>
            <a:ext cx="7779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OS LEGAIS - ESTADO DE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76212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O ATENDIMENTO AOS INSTRUMENTOS LEGAIS A CETESB EXECUTA AS SEGUINTES  AÇÕ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080" y="789120"/>
            <a:ext cx="855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080" y="974880"/>
            <a:ext cx="8397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9960" y="2590920"/>
            <a:ext cx="801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DE MONITORAMENTO DA QUALIDADE DE ÁGUAS SUBTERRÃ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CIAMENTO E FISCALIZAÇÃO DE FONTES POTENCIAIS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762120"/>
            <a:ext cx="8458200" cy="61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CETESB DESENVOLVE DESDE 1990 O MONITORAMENTO DAS ÁGUAS SUBTERRÂNEAS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BRUT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DOS SISTEMAS AQÜÍFEROS DO ESTADO DE SÃO PAU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 OBJETIVO  É 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CARACTERIZAR SUA QUALIDADE DE FORMA A SUBSIDIAR ÀS AÇÕES EXECUTADAS PELA CETESB NA PREVENÇÃO E CONTROLE DA POLUI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ISTEMAS AQÜÍFEROS PRIORITÁRIOS PARA ABAST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NTOS DE AMOSTRAGEM INCLUINDO POÇOS DE ÁGUA MINERAL NA REGIÃO METROPOLITANA DE SÃO PAU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LETAS  ANUAIS DE AMOS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 PARÂMETROS DETERMINADOS EM CADA CAMPAN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 DE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14.10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NÁLISES EFETUADAS AN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640" y="152280"/>
            <a:ext cx="811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AMENTO DA QUALIDADE DE ÁGUAS SUBTERRA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93640" y="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demonitora.jpg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14_RMSP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95520" y="333360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26708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72428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516240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6095880"/>
            <a:ext cx="152280" cy="15264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3560" y="601344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 Black"/>
              </a:rPr>
              <a:t>4   NASC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48440" y="621036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 Black"/>
              </a:rPr>
              <a:t>11  POÇ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36440"/>
            <a:ext cx="8153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ENCIAMENTO E FISCALIZAÇÃO DE FONTES POTENCIAIS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36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60" y="1219320"/>
            <a:ext cx="8626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ÇÃO DA QUALIDADE  AOS RECURSOS HÍDRICOS SUBTERRÂNE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GIR OUTORGA, LAUDO ANALÍTICO E PERÍMETRO DE PROTEÇÃO PARA EMPREENDIMENTOS LICENCIÁVEIS ABASTECIDOS POR POÇ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OMPANHAR A QUALIDADE DAS ÁGUAS DOS AQÜÍFEROS FREÁT ICOS POR MEIO DE AMOSTRAGEM DE POÇOS DE MONITOR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LIAR O USO DO RECURSO HÍDRICO NO ENTORNO DE EMPREENDIMENTOS LICENCIÁVEIS COM SUSPEITA DE CONTAMINAÇÃO E CONTAMI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4419720"/>
            <a:ext cx="396216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 de proteçã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 localizada  na faix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km das Unidade Conserv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40384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2209680"/>
            <a:ext cx="4114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ULTA  OUTROS ÓRGÃ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200400"/>
            <a:ext cx="167940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4495680"/>
            <a:ext cx="1527120" cy="10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40384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4960" y="3233880"/>
            <a:ext cx="27068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MA . DEP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90680" y="3029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812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685800"/>
            <a:ext cx="7619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ENDEDOR SOLICITA AO DNPM  AUTORIZAÇÃO DE PESQUISA MIN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1523880"/>
            <a:ext cx="4724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PM VERIFICA SE A ÁREA ESTÁ LI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9436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6172200"/>
            <a:ext cx="5334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TE OUTORGA DE ALVARÁ DE 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655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0481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76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NCIAMENTO DAS ÁGUAS MINERAIS - RESOLUÇÃO SMA n° 04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119400"/>
            <a:ext cx="2286000" cy="11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ÓRIO FINAL DE PESQUISA APRO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2057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IDO O ALVARA DE 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7496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600200"/>
            <a:ext cx="5943600" cy="26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DADE - CLASS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TIDADE - VOLUME DISPONÍ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ABILIDADE ECONÔMICA DA SUBSTÂNC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QUI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gulamento do Decreto-Lei 227.6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IMITAÇÃO DAS ZONAS DE PROTE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ortaria DNPM 231.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952880"/>
            <a:ext cx="21333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CITAÇÃO DE CONCESSÃO DE LAV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08240" y="4975200"/>
            <a:ext cx="57308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ÇÃO DE PLANO DE APROVEITAMENTO ECONÔMICO - P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GADO SATISF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4284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076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NCIAMENTO DAS ÁGUAS MINERAIS - RESOLUÇÃO SMA n° 04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447920"/>
            <a:ext cx="74678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EMBORA O BRASIL OSTENTE A MAIOR DESCARGA DE ÁGUA DOCE DO MUNDO, QUANDO OS RECURSOS HÍDRICOS SECAREM OU SÓ TRANSPORTAREM POLUENTES, JÁ NÃO SERÁ POSSÍVEL PRODUZIR ALIMENTOS, PLANTAR ÁRVORES E O DINHEIRO DO BOLSO DE POUCO VALERÁ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. Dr.ALDO DA CUNHA REBOUÇAS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609480"/>
            <a:ext cx="175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447920"/>
            <a:ext cx="2590920" cy="81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ICITA LICENÇA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ção SMA 04.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940120"/>
            <a:ext cx="259092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P . 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ETE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260880"/>
            <a:ext cx="40384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LTA AO DUSM, DEPRN, CERTIDÃO DE USO E OCUPAÇÃO (PREFEI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6572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191120"/>
            <a:ext cx="25909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PM CONCEDE A PORTARIA DE LAV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638680"/>
            <a:ext cx="259092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ETE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33520"/>
            <a:ext cx="4800600" cy="25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A-Relatório de Controle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ados de projeto, fontes de poluição no entorno, uso do solo, medidas de controle e proposta de recuper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A-Plano de Controle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lhamento das medidas de controle e monit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57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5394240"/>
            <a:ext cx="259056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SSÃO DE POSSE DA JAZ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076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NCIAMENTO DAS ÁGUAS MINERAIS - RESOLUÇÃO SMA n° 04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152280"/>
            <a:ext cx="845820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ÕES OBTIDAS POR MEI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MONITORAMENTO DE ÁGUAS  SUBTERRÂNE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ÇOS TUBULARES EM ÁREAS URBANIZAD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600200"/>
            <a:ext cx="839808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A HIDROGEOQUÍMICA  DOS AQ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UAÇÃO DAS ÁREAS DE PROTEÇÃO: GERALMENTE  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CORRÊNCIA DE COLIFORMES, NITRATO, CROMO E OUTROS METAIS EM CONCENTRAÇÕES  ACIMA DOS PADRÕES DE POTABIL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SENÇA DE SUBSTÂNCIAS ORGÂNICAS (CLOROFÓRMIO E TOLUENO), EMBORA EM CONCENTRAÇÕES AINDA ABAIXO DOS PADRÕ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1219320"/>
            <a:ext cx="839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HECIMENTO DA HIDROGEOQUÍMICA DA ÁGUA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TAÇÃO QUE A DELIMITAÇÃO DAS ZONAS DE PROTEÇÃO DE POÇOS É TEÓRICA E NÃO IMPLEMENTADA NA PR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ÇA DE BACTÉRIAS, NITRATO, FERRO E FLUOR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204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ÇA DE SUBSTÂNCIAS ORGÂNICAS (CLOROFÓRMIO), O QUE DESCARACTERIZA A ÁGUA COMO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52280"/>
            <a:ext cx="84582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ÕES OBTIDAS POR MEI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MONITORAMENTO DE ÁGUAS  MINER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ÇOS E NASCENTES NA RM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80" y="152280"/>
            <a:ext cx="914652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AÇÕES OBTIDAS POR MEIO DO - </a:t>
            </a:r>
            <a:r>
              <a:rPr b="1" lang="en-US" sz="1900" spc="-1" strike="noStrike">
                <a:solidFill>
                  <a:srgbClr val="ff3300"/>
                </a:solidFill>
                <a:latin typeface="Arial"/>
              </a:rPr>
              <a:t>LICENCIAMENTO E FISCAL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6440" y="838080"/>
            <a:ext cx="877896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-SE QUE O  RELATÓRIO DE PESQUISA É APROVADO PELO DNPM, MESMO QUANDO SÃO DEMONSTRADAS AS LIMITAÇÕES ABAIX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ÊNCIA DE FONTES POTENCIAIS DE CONTAMINAÇÃO NAS ZI, ZT E Z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ÇOS LOCALIZADOS PRÓXIMOS A RIOS CONTAMINADOS, CORREDOR VIÁRIO E ÁREAS CONTAMIN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ZAÇÃO HIDROQUÍMICA NÃO CONSIDERA AS FONTES POTENCIAIS DE POLUIÇÃO, ADMITINDO SEMPRE QUE AS CONCENTRAÇÕES PROVÉM DA INTERAÇÃO ÁGUA-RO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ÊNCIA DE OUTROS POÇOS OUTORGADOS PELO DAEE NA MESMA POLIG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ARTIGOS. 12 A 18 DO CÓDIGO DAS ÁGUAS MINERAIS NÃO SÃO ATENDIDOS EM ÁREAS URBANIZADAS, POIS É INVIÁVEL ECONOMICAMENTE A DESOCUPAÇÃO DA ZONA DE PROTE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228600"/>
            <a:ext cx="604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 A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AÇÕES OBTIDAS FOI POSSIVEL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838080"/>
            <a:ext cx="824544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ELECER VALORES DE REFERÊNCIA DE QUALIDADE PARA AS ÁGUAS SUBTERRÂ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 ÍNDICES DE QUALIDADE PARA AS ÁGUAS SUBTERRÂ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 NOVAS EXIGÊNCIAS PARA O LICENCIAMENTO RENOVÁVEL DE FONTES POTENCIAIS DE POLUI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ULAR DIRETRIZES PARA DEFINIR ÁREAS DE RESTRIÇÃO E CONTROLE DE PERFURAÇÃO DE POÇ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  BASE EM QUANTIDADE E QUALIDADE DA ÁGUA SUBTERRÂ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ELECENDO A NECESSIDADE DE AUDIÊNCIAS PÚBLICAS, APROVAÇÃO PELO CRH E IMPLEMENTAÇÃO PELOS COMITÊS DE B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76320"/>
            <a:ext cx="84582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IMPLEMENTAR  A SUSTENTABILIDADE E QUALIDADE DAS ÁGUAS MIN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6536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GIR A IMPLANTAÇÃO DE FATO DAS ZONAS DE PROTEÇÃO DE POÇ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PERMITIR A MINERAÇÃO DE ÁGUA MINERAL EM ÁREAS URB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MPLANTAR O LICENCIAMENTO RENOVÁVEL PARA AS LAVRAS JÁ INSTA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ATIBILIZAR OS PADRÕES DE POTABILIDADE DA PORTARIA 518/04 COM OS DA RDC 54/00, AMBAS DA ANVI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219320"/>
            <a:ext cx="82454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GIR ANÁLISE DA QUALIDADE DAS ÁGUAS MINERAIS PARA OS PARÂMETROS DA PORTARIA 518/2004 E PARÂMETROS INDICADORES DE CONTAMINAÇÃO ASSOCIADOS AOS EMPREENDIMENTOS POTENCIALMENTE POLUIDORES LOCALIZADOS NAS ZONAS DE PROTE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FUNÇÃO DA PRESENÇA DE CONTAMINAÇÃO, CONSULTAR ANTES DA OUTORGA DE ALVARÁ DE PESQUISA, OS ÓRGÃOS AMBIENTAIS E/OU GESTORES QUANTO ÀS QUESTÕES DE QUANTIDADE E QUAL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GRAR AS INFORMAÇÕES EXISTENTES NOS DIVERSOS ÓRGÃOS FEDERAIS, ESTADUAIS E MUNICIP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76320"/>
            <a:ext cx="84582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IMPLEMENTAR  A SUSTENTABILIDADE E QUALIDADE DAS ÁGUAS MIN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3581280"/>
            <a:ext cx="861048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BRIGADA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eóloga Elzira Déa Alves Barb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TOR DE SOLOS E ÁGUAS SUBTERRÂNEAS -CETESB-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ne: (011) 3030-60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-mail: elzirab@cetesb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19520" y="144792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0"/>
                </a:moveTo>
                <a:cubicBezTo>
                  <a:pt x="300" y="60"/>
                  <a:pt x="600" y="120"/>
                  <a:pt x="720" y="14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066680"/>
            <a:ext cx="6019560" cy="1244880"/>
          </a:xfrm>
          <a:custGeom>
            <a:avLst/>
            <a:gdLst/>
            <a:ahLst/>
            <a:rect l="l" t="t" r="r" b="b"/>
            <a:pathLst>
              <a:path w="3792" h="784">
                <a:moveTo>
                  <a:pt x="0" y="96"/>
                </a:moveTo>
                <a:cubicBezTo>
                  <a:pt x="292" y="144"/>
                  <a:pt x="584" y="192"/>
                  <a:pt x="816" y="288"/>
                </a:cubicBezTo>
                <a:cubicBezTo>
                  <a:pt x="1048" y="384"/>
                  <a:pt x="1248" y="600"/>
                  <a:pt x="1392" y="672"/>
                </a:cubicBezTo>
                <a:cubicBezTo>
                  <a:pt x="1536" y="744"/>
                  <a:pt x="1568" y="784"/>
                  <a:pt x="1680" y="720"/>
                </a:cubicBezTo>
                <a:cubicBezTo>
                  <a:pt x="1792" y="656"/>
                  <a:pt x="1808" y="400"/>
                  <a:pt x="2064" y="288"/>
                </a:cubicBezTo>
                <a:cubicBezTo>
                  <a:pt x="2320" y="176"/>
                  <a:pt x="2928" y="96"/>
                  <a:pt x="3216" y="48"/>
                </a:cubicBezTo>
                <a:cubicBezTo>
                  <a:pt x="3504" y="0"/>
                  <a:pt x="3648" y="0"/>
                  <a:pt x="3792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4640" y="44280"/>
            <a:ext cx="8334720" cy="6769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09760" y="457200"/>
            <a:ext cx="0" cy="530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523880"/>
            <a:ext cx="0" cy="448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19520" y="144792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0"/>
                </a:moveTo>
                <a:cubicBezTo>
                  <a:pt x="300" y="60"/>
                  <a:pt x="600" y="120"/>
                  <a:pt x="720" y="14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1066680"/>
            <a:ext cx="6019560" cy="1244880"/>
          </a:xfrm>
          <a:custGeom>
            <a:avLst/>
            <a:gdLst/>
            <a:ahLst/>
            <a:rect l="l" t="t" r="r" b="b"/>
            <a:pathLst>
              <a:path w="3792" h="784">
                <a:moveTo>
                  <a:pt x="0" y="96"/>
                </a:moveTo>
                <a:cubicBezTo>
                  <a:pt x="292" y="144"/>
                  <a:pt x="584" y="192"/>
                  <a:pt x="816" y="288"/>
                </a:cubicBezTo>
                <a:cubicBezTo>
                  <a:pt x="1048" y="384"/>
                  <a:pt x="1248" y="600"/>
                  <a:pt x="1392" y="672"/>
                </a:cubicBezTo>
                <a:cubicBezTo>
                  <a:pt x="1536" y="744"/>
                  <a:pt x="1568" y="784"/>
                  <a:pt x="1680" y="720"/>
                </a:cubicBezTo>
                <a:cubicBezTo>
                  <a:pt x="1792" y="656"/>
                  <a:pt x="1808" y="400"/>
                  <a:pt x="2064" y="288"/>
                </a:cubicBezTo>
                <a:cubicBezTo>
                  <a:pt x="2320" y="176"/>
                  <a:pt x="2928" y="96"/>
                  <a:pt x="3216" y="48"/>
                </a:cubicBezTo>
                <a:cubicBezTo>
                  <a:pt x="3504" y="0"/>
                  <a:pt x="3648" y="0"/>
                  <a:pt x="3792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04640" y="44280"/>
            <a:ext cx="8334720" cy="6769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09760" y="457200"/>
            <a:ext cx="0" cy="530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1523880"/>
            <a:ext cx="0" cy="448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5165640"/>
            <a:ext cx="4138560" cy="1463760"/>
            <a:chOff x="1752480" y="5165640"/>
            <a:chExt cx="4138560" cy="1463760"/>
          </a:xfrm>
        </p:grpSpPr>
        <p:sp>
          <p:nvSpPr>
            <p:cNvPr id="162" name=""/>
            <p:cNvSpPr/>
            <p:nvPr/>
          </p:nvSpPr>
          <p:spPr>
            <a:xfrm>
              <a:off x="1752480" y="5165640"/>
              <a:ext cx="4023720" cy="1463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7120" y="5257080"/>
              <a:ext cx="0" cy="12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10880" y="5165640"/>
              <a:ext cx="1280160" cy="14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9718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463760"/>
            <a:ext cx="0" cy="447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3680" y="878040"/>
            <a:ext cx="1924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3640" y="1828800"/>
            <a:ext cx="809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PRESENTAR A ATUAÇÃO DA CETESB NA PREVENÇÃO E CONTROLE DA QUALIDADE DAS ÁGUAS SUBTERRÂNEAS NO ESTADO DE SÃO PAU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IBUIR PARA A DISCUSSÃO DA GESTÃO DAS ÁGUAS MINERAIS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095480"/>
            <a:ext cx="838188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SCASSEZ (QUANTIDADE E QUALIDADE) DA ÁGUA SUPERFICIAL TORNA A ÁGUA SUBTERRÂNEA, CADA VEZ MAIS, UMA RESERVA ESTRATÉGICA PARA O ABASTECIMENTO INCLUINDO AS ÁGUAS ENVASADAS (MINERAL OU POTÁVEL DE MESA), BEM COMO PARA O DESENVOLVIMENTO ECONÔM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E RECURSO É FINITO E TAMBÉM SUSCETÍVEL DE SUPEREXPLOTAÇÃO E CONTAMINAÇÃO PELO USO E OCUPAÇÃO DO SO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TEÇÃO DA QUALIDADE E QUANTIDADE DA ÁGUA SUBTERRÂNEA CONSTITUI UM OBJETIVO ESTRATÉGICO DA MAIOR IMPORTÂNCIA NO QUADRO DE UM DESENVOLVIMENTO SUSTENTÁVEL E DEPENDE DE UMA GESTÃO INTEGRADA ENTRE OS DIVERSOS ÓRGÃOS GESTORES: FEDERAIS, ESTADUAIS E MUNICIP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3960" y="193680"/>
            <a:ext cx="615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UAÇÃO DAS ÁGUAS SUBTERRÂ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12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57200"/>
            <a:ext cx="7864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 ESTADO DE SÃO PAULO A ÁGUA SUBTERRÂNEA TEM IMPORTANTE PAPEL NO ABASTECIMENTO, ONDE 72% DOS MUNICÍPIOS SÃO TOTAL OU PARCIALMENTE ABASTECIDOS POR ESSE RECURSO HÍD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STE UM GRANDE PARQUE AGRO-INDUSTRIAL NO ESTADO, INTENSA URBANIZAÇÃO DOS MUNICÍPIOS E  INTENSA PERFURAÇÃO DE POÇOS PARA CAPTAÇÃO DE ÁGUA SUBTERRÂ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REGIÃO METROPOLITANA DE SÃO PAULO REPRESENTA O MAIOR MERCADO PRODUTOR E CONSUMIDOR BRASILEIRO DE ÁGUA MINERAL (ABINAM, 200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ESTA SITUAÇÃO EXIGE INSTRUMENTOS PARA A PROTEÇÃO DA QUALIDADE DO RECURSO HÍDRICO SUBTERRÂNE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60280" y="76320"/>
            <a:ext cx="554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OS LEGAIS FEDER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" y="609480"/>
            <a:ext cx="855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TO N° 25643 DE 10.07.1934 - CÓDIGO DAS Á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iplina o uso dos Recursos Hídricos em todo o território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TO-LEI N° 7.841 de 08.08.1945 - CÓDIGO DAS ÁGUAS MIN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TO-LEI N° 227 de 28.02.1967 - CÓDIGO DE MIN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ITUIÇÃO DE 1988 - Artigos 20 e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9433 de 08.01.1997 - INSTITUI A POLÍTICA NACIONAL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i como instrumentos, os planos de recursos hídricos, enquadramento de corpos d’água e o sistema de inform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ÇÃO CONAMA 237 de 19.12.1997 - DISPÕE SOBRE O LICENCIAMENTO AMBIENTAL DE EMPREENDIMENTOS MINER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XCELENTE PORTARIA DNPM 231 de 31.07.1998 - ESTABELECE INSTRUÇÕES SOBRE ÁREAS DE PROTEÇÃO DE ÁGUAS MINER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ONAS DE PROTEÇÃO DE POÇOS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A PORTARIA DNPM 231 de 31.07.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990720"/>
            <a:ext cx="7696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 DE CONTRIBUIÇÃO - ZC, QUE ABRANGE A ÁREA DE RECARGA DE UMA CAPTAÇÃO, DELIMITADA PELAS LINHAS DE FLUXO DAS ÁGUAS SUBTERRÂ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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 DE TRANSPORTE OU DE CAPTURA- ZT, DEFINIDA ENTRE A ÁREA DE RECARGA E O PONTO DA CAPTAÇÃO, CONSIDERANDO-SE O TEMPO DE TRANSITO DE UM CONTA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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 DE INFLUÊNCIA- ZI, AQUELA ASSOCIADA AO CONE DE DEPRESSÃO  QUE É ASSOCIADO AO PERÍMETRO IMEDIATO DO POÇO OU FONTE E DELIMITA TAMBÉM O ENTORNO DE PROTEÇÃO MICROBIOLÓGICA E DE RISCO DE CONTAMINAÇÃO  DE CURTO PRAZO. NÃO PERMITE QUALQUER EDIF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T E ZC - VISAM A PROTEÇÃO CONTRA CONTAMINANTES MAIS PERSISTE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5040" y="1565280"/>
            <a:ext cx="77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762120"/>
            <a:ext cx="83977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ÉM DISSO EXISTE AINDA AS LEGISLAÇÕES DO MINISTERIO DA SAÚDE - ANVISA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UÇÃO RDC 54 de 15/06/2000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ÕE SOBRE O REGULAMENTO TÉCNICO PARA FIXAÇÃO DE IDENTIDADE E QUALIDADE DE ÁGUA MINERAL E ÁGUA NATURAL ( PADRÕ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ARIA 518 de 26.03.200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ELECE QUALIDADE DA ÁGUA PARA CONSUMO HUMANO E SEU  PADRÕES DE POTABIL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60280" y="76320"/>
            <a:ext cx="554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OS LEGAIS FEDER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4280" y="76320"/>
            <a:ext cx="7779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OS LEGAIS - ESTADO DE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080" y="609480"/>
            <a:ext cx="8550000" cy="63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EI 997 de 31.05.76 e seu Regulamento aprovado pelo DECRETO 8468 de 08.09.1976. Dispõe sobre o Controle da Poluição do Me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TITUIÇÃO ESTADUAL de 1989 - Estabelece que as águas subterrâneas devem ter programas permanentes de prevenção e proteção contra a poluição e superexplo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EI  6.134.88- dispõe sobre a preservação dos depósitos naturais de águas subterrâneas e obriga o cadastro de todos os poços profundos perfurados no território do Estado  apresentando as informações téc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RETO Nº 32.955.91,  REGULAMENTA A LEI 6.134.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ribui à CETESB a prevenção e controle a poluição dos recursos hídricos subterrâ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ige monitoramento nas áreas de disposição de resíd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abelece a necessidade de delimitação de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áreas de proteç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2:40:16Z</dcterms:created>
  <dc:creator>claudiod</dc:creator>
  <dc:description/>
  <dc:language>en-US</dc:language>
  <cp:lastModifiedBy>dorothyc</cp:lastModifiedBy>
  <cp:lastPrinted>2004-08-10T14:39:26Z</cp:lastPrinted>
  <dcterms:modified xsi:type="dcterms:W3CDTF">2004-08-10T20:43:37Z</dcterms:modified>
  <cp:revision>55</cp:revision>
  <dc:subject/>
  <dc:title>Slide sem título </dc:title>
</cp:coreProperties>
</file>