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821-5930-4398-A473-70E2D02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861-6F9B-4EA1-8D87-54E5A548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E86-2BA8-4B63-B075-1BEC634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060-C769-4043-8806-35C718F9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8D9-68EA-4C3F-B109-BAA0369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43E-C57B-45B6-A37E-D7F368F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7E77-B172-492C-A334-507786D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BA11-2A95-4059-8FC6-42A6394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316E-1D31-4865-9C28-00651A5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B24-19DF-4AC5-963A-2B50D2B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90D-4005-41B4-B401-7E6B47C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504-1539-4427-ACDA-8487D3B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3440-4007-454B-A75C-F9F1157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FEB-D2B4-4142-8F7D-762A11F5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90D-5DBD-4B9E-8AC4-E76C852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CAB3-DB47-4DA2-9621-3B5D687F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EC8-B4EB-432E-B35C-7FC5A88B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E3C-F8BD-48E2-9AB7-F2B5B698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A42-7587-4A05-B8CD-3812EBD2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4A5-7781-4671-9AB6-17340E2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9D2-2FAF-4154-BC0C-1E1DE41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C50-C5CE-40A3-BD08-69F35CB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B95-7AAB-4E9F-8AD2-A961F98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22A-C1C4-4D03-840C-4C62BA9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C68C-CFC4-416A-BAD6-156A88908CC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A1E-E89E-4728-9F72-7157EB7AD4B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38080" y="685800"/>
          <a:ext cx="25146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25146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SEMINÁRI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ÁGUAS MINERAIS E POTÁVEIS DE MESA E SUA INSERÇÃO NO CICLO HIDROLÓG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Sebastião Peixoto Filh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Geólogo-Hidrogeólog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2033640"/>
          <a:ext cx="9144000" cy="414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3640"/>
                    <a:ext cx="9144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6600"/>
            </a:b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240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a3d7a"/>
                </a:solidFill>
                <a:latin typeface="Arial"/>
              </a:rPr>
              <a:t>Tipos de água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CONATA (Connate Water): água contida em um sedimento no momento de sua deposição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DIAGENÉTICA (Water of Diagenesis) : água expulsa das litologias em função de compressão, por processos litogenéticos ou metamórficos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FÓSSIL (Fossile Water) : água contida em um aqüífero, que infiltrada em época geológica cujas condições climáticas e morfológicas eram diferentes das atuai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JUVENIL (Juvenile Water) : água derivada diretamente do magma e que entra pela primeira vez no ciclo hídric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ÁGUA METEÓRICA : água de origem atmosférica.</a:t>
            </a:r>
            <a:br>
              <a:rPr sz="2000"/>
            </a:b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Aproveitament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Envasament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Balneabilidad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As águas Minerais possuem em sua composição valor agregados como: sais minerais, calor, minerais raros, gases dissolvidos que as tornam diferenciadas das denominadas águas comun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No Mundo todo as minerais tem um tratamento diferenciado ( legislação específica)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As águas de Caldas Novas são termominerais, a cidade de Caldas Novas está quase coberta por áreas com alvará de pesquisa ou concessões de Lavras e encontra-se em equilíbrio porque o DNPM a 25 anos está exercendo o gerenciamento e monitoramento do sistema aquífero</a:t>
            </a:r>
            <a:r>
              <a:rPr b="0" lang="pt-BR" sz="1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stão das Águas Minerai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249"/>
                </a:solidFill>
                <a:latin typeface="Arial"/>
              </a:rPr>
              <a:t>O total de uma fonte captada: o consumo em algumas fontes  consumo de águas e gestão desde a captação, a forma de captação, a higiene na  desse bem miner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249"/>
                </a:solidFill>
                <a:latin typeface="Arial"/>
              </a:rPr>
              <a:t>Águas Minerais dão origem a industrias que geram empregos e movimenta a economia local, em alguns locais permitiram o surgimento de novos municípios, como ex:Caldas Novas, Rio Quente, Lagoa Santa etc., ou transformando cidades pequenas em pólos turistico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Arial"/>
              </a:rPr>
              <a:t>Orig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Água Juvenil (Juvenile Water):  água  derivada diretamente do magma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Águas Meteóricas : oriundas das precipitações atmosférica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a3d7a"/>
                </a:solidFill>
                <a:latin typeface="Arial"/>
              </a:rPr>
              <a:t>Meteoric Water Line (Craig, 1961</a:t>
            </a:r>
            <a:r>
              <a:rPr b="1" lang="de-DE" sz="4400" spc="-1" strike="noStrike">
                <a:solidFill>
                  <a:srgbClr val="2a3d7a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692440"/>
            <a:ext cx="3814920" cy="29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4520" y="2725560"/>
            <a:ext cx="38145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irculação das Águ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Zonas de Cargas : áreas em que as águas circulam de pontos de maior energia potencial em direção aos pontos de menor energia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Fluxo e Potencialidades dos aqüíferos dependem do esqueleto sólido (litologia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Seguem pelas descontinuidades dos maciços rochosos ou pelos interstícios dos grãos das rochas porosas até os pontos de descargas 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77240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5b5249"/>
                </a:solidFill>
                <a:latin typeface="Arial"/>
              </a:rPr>
              <a:t>Tipos de Aquífero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Fissurais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Granular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Cárstico; 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Arial"/>
              </a:rPr>
              <a:t>Mis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a3d7a"/>
                </a:solidFill>
                <a:latin typeface="Arial"/>
              </a:rPr>
              <a:t>Mineralizaçã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As Águas Minerais comportam-se como verdadeiros corpos mineralizados, ocorrem em espaços delimitados e apresentam características definidas, (</a:t>
            </a:r>
            <a:r>
              <a:rPr b="0" lang="pt-BR" sz="2800" spc="-1" strike="noStrike">
                <a:solidFill>
                  <a:srgbClr val="5b5249"/>
                </a:solidFill>
                <a:latin typeface="Arial"/>
              </a:rPr>
              <a:t>ex: Poços Caldas, Águas de Lindoia, Araxá, Caldas da Imperatriz, Barra do Garças, vários outras localidade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As mineralização das águas dependem da interação entre </a:t>
            </a:r>
            <a:r>
              <a:rPr b="1" lang="pt-BR" sz="4000" spc="-1" strike="noStrike">
                <a:solidFill>
                  <a:srgbClr val="2a3d7a"/>
                </a:solidFill>
                <a:latin typeface="Arial"/>
              </a:rPr>
              <a:t>água / rocha</a:t>
            </a:r>
            <a:r>
              <a:rPr b="1" lang="pt-BR" sz="2800" spc="-1" strike="noStrike">
                <a:solidFill>
                  <a:srgbClr val="5b5249"/>
                </a:solidFill>
                <a:latin typeface="Arial"/>
              </a:rPr>
              <a:t> ( maior o tempo de trânsito, maior a interação, maior a mineralização).</a:t>
            </a:r>
            <a:r>
              <a:rPr b="1" lang="pt-BR" sz="18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378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a3d7a"/>
                </a:solidFill>
                <a:latin typeface="Arial"/>
              </a:rPr>
              <a:t>Sistema Hidroterma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3800" y="2101680"/>
            <a:ext cx="65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811080"/>
          <a:ext cx="86104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1080"/>
                    <a:ext cx="86104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1T18:20:49Z</dcterms:created>
  <dc:creator>USUARIO</dc:creator>
  <dc:description/>
  <dc:language>en-US</dc:language>
  <cp:lastModifiedBy>DNPM</cp:lastModifiedBy>
  <dcterms:modified xsi:type="dcterms:W3CDTF">2004-08-11T13:22:04Z</dcterms:modified>
  <cp:revision>17</cp:revision>
  <dc:subject/>
  <dc:title>ÁGUAS MINERAIS E POTAVEIS DE MESA E SUA INSERÇÃO NO CICLO HIDROLÓGICO</dc:title>
</cp:coreProperties>
</file>