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8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13.png" ContentType="image/png"/>
  <Override PartName="/ppt/media/image6.png" ContentType="image/png"/>
  <Override PartName="/ppt/media/image11.png" ContentType="image/png"/>
  <Override PartName="/ppt/media/image31.png" ContentType="image/png"/>
  <Override PartName="/ppt/media/image29.wmf" ContentType="image/x-wmf"/>
  <Override PartName="/ppt/media/image7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3.jpeg" ContentType="image/jpeg"/>
  <Override PartName="/ppt/media/image30.png" ContentType="image/png"/>
  <Override PartName="/ppt/media/voltage.wav" ContentType="audio/x-wav"/>
  <Override PartName="/ppt/media/image18.png" ContentType="image/png"/>
  <Override PartName="/ppt/media/image2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26.wmf" ContentType="image/x-wmf"/>
  <Override PartName="/ppt/media/image16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29425" cy="9953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C019-D6AD-4C2E-8D0C-B2C0350E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F707-4562-43DE-95B4-0C767F54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A866-C017-40A0-9F1D-2781CE30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647-C081-4B4B-9F39-3E94381B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88E9-B7BA-4318-8A2F-16B8AD07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76B8-A289-4B77-AFFF-D1755F34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F1D9-F197-4228-BA0A-449FE586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B17A-9D58-438E-A652-DF97546E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7D2F-0F2E-4B45-9FE8-E3BC57A5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D9A3-2F53-403D-A24C-8BA485A9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E0CB-F648-4619-9E1F-8AD678A1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6A69-4813-4241-B7C7-35581ABC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6606-325A-4C3F-AE47-DEC803B1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5076-EE83-4A36-A836-942DD968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5FB2-3E45-4712-9FB9-D0849E0A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EB2D-82D0-4A77-8601-74FEE3BB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A5B0-4E01-4D03-BD50-46E1275A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5E752-FA21-400A-8C09-DD146019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60A93-A2CE-49E8-B030-67F42A85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F4A72-12D6-48B9-AFEA-416D27B5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7963C-8E33-43F8-8EFA-B74CE3CC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7135E-62FE-4054-9D50-E6359C70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4987-044B-4B65-A070-E07CB5B3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9ABD5-5460-4469-BCDA-8A34FA86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B4774-9546-4165-862B-E1B6D56B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28FAC-94B7-400A-BA94-22163238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DFD03-4B92-45EB-A613-7B94B137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901B4-6B14-4343-9904-3AC611C7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8C50A-E5E7-490B-B663-A999AC86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A62F7-1963-4805-8B1F-2F80DADB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10E3-0B06-400C-B0D2-4FBB0A9F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3DE-7EDB-42D9-B6A3-9E8972C4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6CC-0D64-48FC-A5A9-4DC2BDB5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840A-DE56-4F8E-B019-E2E6BA69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B25B-D9F8-44D5-86B1-F56F0468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E1E-9832-4D95-A723-8AF6F742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1A7C-EDA7-4451-96C0-19636E68FA8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46F2-9EEC-4939-A2CD-ECFAD9E729A9}" type="slidenum">
              <a:rPr b="0" lang="pt-B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83BE-42C5-42D5-B3BC-1F4DFF1B68E2}" type="slidenum">
              <a:rPr b="0" lang="pt-B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suez-lyonnaise-eaux.com/english/index.htm" TargetMode="External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6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6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6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6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6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6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6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2000" y="40428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Águas Minerais Naturais </a:t>
            </a:r>
            <a:br>
              <a:rPr sz="2900"/>
            </a:b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enário Mundial e Seus Reflexos no Brasil</a:t>
            </a:r>
            <a:br>
              <a:rPr sz="30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620120" y="6026040"/>
            <a:ext cx="1523880" cy="831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6033960"/>
            <a:ext cx="5486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NI – Brasília / D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 Agosto d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48360" y="1916280"/>
            <a:ext cx="419076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los Alberto L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idente da ABIN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3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547640" y="40464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ideres Mundia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Coca-Cola"/>
          <p:cNvPicPr/>
          <p:nvPr/>
        </p:nvPicPr>
        <p:blipFill>
          <a:blip r:embed="rId2"/>
          <a:stretch/>
        </p:blipFill>
        <p:spPr>
          <a:xfrm>
            <a:off x="1563840" y="2328840"/>
            <a:ext cx="1631880" cy="15987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rcRect l="2661" t="4277" r="87650" b="55963"/>
          <a:stretch/>
        </p:blipFill>
        <p:spPr>
          <a:xfrm>
            <a:off x="5486400" y="2459160"/>
            <a:ext cx="1249200" cy="1427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Pepsi-Cola Bottling of Northern Californi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84280" y="4487760"/>
            <a:ext cx="1544760" cy="1150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5486400" y="4429080"/>
            <a:ext cx="1239840" cy="1247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  <p:sndAc>
      <p:stSnd>
        <p:snd r:embed="rId7" name="voltag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763640" y="40464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% de Participaçã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1920" y="1835280"/>
            <a:ext cx="9082080" cy="3431880"/>
            <a:chOff x="61920" y="1835280"/>
            <a:chExt cx="9082080" cy="3431880"/>
          </a:xfrm>
        </p:grpSpPr>
        <p:sp>
          <p:nvSpPr>
            <p:cNvPr id="248" name=""/>
            <p:cNvSpPr/>
            <p:nvPr/>
          </p:nvSpPr>
          <p:spPr>
            <a:xfrm>
              <a:off x="268200" y="2514600"/>
              <a:ext cx="887580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Europa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15,5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13,1           1,5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  1,0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ahoma"/>
                </a:rPr>
                <a:t>68,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U.S.A.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31,1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14,1         10,0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14,7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ahoma"/>
                </a:rPr>
                <a:t>30,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América Latina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4,4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   14,0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 8,4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10,2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ahoma"/>
                </a:rPr>
                <a:t>63,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Resto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6,5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   17,5           5,5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  0,8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ahoma"/>
                </a:rPr>
                <a:t>69,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TOTAL MUNDO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16,3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   14,2           4,6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	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  4,1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ahoma"/>
                </a:rPr>
                <a:t>60,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920" y="4672080"/>
              <a:ext cx="8826480" cy="19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39120" y="1928880"/>
              <a:ext cx="0" cy="3338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08360" y="1835280"/>
              <a:ext cx="63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600120"/>
                  <a:tab algn="l" pos="1200240"/>
                  <a:tab algn="l" pos="1800360"/>
                  <a:tab algn="l" pos="2400480"/>
                  <a:tab algn="l" pos="3000240"/>
                  <a:tab algn="l" pos="3600360"/>
                  <a:tab algn="l" pos="4200480"/>
                  <a:tab algn="l" pos="4800600"/>
                  <a:tab algn="l" pos="5400720"/>
                  <a:tab algn="l" pos="6000840"/>
                  <a:tab algn="l" pos="6600960"/>
                  <a:tab algn="l" pos="7201080"/>
                  <a:tab algn="l" pos="7800840"/>
                  <a:tab algn="l" pos="8400960"/>
                  <a:tab algn="l" pos="9001080"/>
                  <a:tab algn="l" pos="9601200"/>
                  <a:tab algn="l" pos="10201320"/>
                  <a:tab algn="l" pos="10801440"/>
                </a:tabLst>
              </a:pPr>
              <a:r>
                <a:rPr b="0" lang="es-ES_tradnl" sz="1800" spc="-1" strike="noStrike">
                  <a:solidFill>
                    <a:srgbClr val="ffff99"/>
                  </a:solidFill>
                  <a:latin typeface="Tahoma"/>
                </a:rPr>
                <a:t> 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Nestle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Danone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  Cola-Cola    Pepsi      Out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"/>
    <p:sndAc>
      <p:stSnd>
        <p:snd r:embed="rId2" name="voltag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828800" y="457200"/>
            <a:ext cx="6858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perações Internacionais e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$ Milhõ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350200" cy="38642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905120" y="5638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est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5638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a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56833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ca-C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467480" y="56833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PepsiC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3" name="voltag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447920" y="304920"/>
            <a:ext cx="7086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uropa: Principais Da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765000" cy="9525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1143000" y="2895480"/>
            <a:ext cx="914400" cy="730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rcRect l="5668" t="0" r="26417" b="0"/>
          <a:stretch/>
        </p:blipFill>
        <p:spPr>
          <a:xfrm>
            <a:off x="1143000" y="4038480"/>
            <a:ext cx="914400" cy="9018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219320" y="5257800"/>
            <a:ext cx="685800" cy="609480"/>
          </a:xfrm>
          <a:custGeom>
            <a:avLst/>
            <a:gdLst/>
            <a:ahLst/>
            <a:rect l="l" t="t" r="r" b="b"/>
            <a:pathLst>
              <a:path w="3078" h="3215">
                <a:moveTo>
                  <a:pt x="122" y="1729"/>
                </a:moveTo>
                <a:lnTo>
                  <a:pt x="452" y="1729"/>
                </a:lnTo>
                <a:lnTo>
                  <a:pt x="444" y="1607"/>
                </a:lnTo>
                <a:lnTo>
                  <a:pt x="452" y="1471"/>
                </a:lnTo>
                <a:lnTo>
                  <a:pt x="7" y="1471"/>
                </a:lnTo>
                <a:lnTo>
                  <a:pt x="129" y="1198"/>
                </a:lnTo>
                <a:lnTo>
                  <a:pt x="495" y="1198"/>
                </a:lnTo>
                <a:lnTo>
                  <a:pt x="574" y="947"/>
                </a:lnTo>
                <a:lnTo>
                  <a:pt x="696" y="718"/>
                </a:lnTo>
                <a:lnTo>
                  <a:pt x="760" y="610"/>
                </a:lnTo>
                <a:lnTo>
                  <a:pt x="839" y="517"/>
                </a:lnTo>
                <a:lnTo>
                  <a:pt x="925" y="424"/>
                </a:lnTo>
                <a:lnTo>
                  <a:pt x="1018" y="338"/>
                </a:lnTo>
                <a:lnTo>
                  <a:pt x="1226" y="194"/>
                </a:lnTo>
                <a:lnTo>
                  <a:pt x="1334" y="137"/>
                </a:lnTo>
                <a:lnTo>
                  <a:pt x="1449" y="86"/>
                </a:lnTo>
                <a:lnTo>
                  <a:pt x="1571" y="51"/>
                </a:lnTo>
                <a:lnTo>
                  <a:pt x="1692" y="22"/>
                </a:lnTo>
                <a:lnTo>
                  <a:pt x="1958" y="0"/>
                </a:lnTo>
                <a:lnTo>
                  <a:pt x="2116" y="8"/>
                </a:lnTo>
                <a:lnTo>
                  <a:pt x="2266" y="29"/>
                </a:lnTo>
                <a:lnTo>
                  <a:pt x="2417" y="72"/>
                </a:lnTo>
                <a:lnTo>
                  <a:pt x="2568" y="130"/>
                </a:lnTo>
                <a:lnTo>
                  <a:pt x="2704" y="194"/>
                </a:lnTo>
                <a:lnTo>
                  <a:pt x="2833" y="273"/>
                </a:lnTo>
                <a:lnTo>
                  <a:pt x="2962" y="366"/>
                </a:lnTo>
                <a:lnTo>
                  <a:pt x="3077" y="474"/>
                </a:lnTo>
                <a:lnTo>
                  <a:pt x="2969" y="732"/>
                </a:lnTo>
                <a:lnTo>
                  <a:pt x="2869" y="624"/>
                </a:lnTo>
                <a:lnTo>
                  <a:pt x="2761" y="531"/>
                </a:lnTo>
                <a:lnTo>
                  <a:pt x="2639" y="452"/>
                </a:lnTo>
                <a:lnTo>
                  <a:pt x="2517" y="388"/>
                </a:lnTo>
                <a:lnTo>
                  <a:pt x="2381" y="330"/>
                </a:lnTo>
                <a:lnTo>
                  <a:pt x="2245" y="287"/>
                </a:lnTo>
                <a:lnTo>
                  <a:pt x="2101" y="266"/>
                </a:lnTo>
                <a:lnTo>
                  <a:pt x="1958" y="259"/>
                </a:lnTo>
                <a:lnTo>
                  <a:pt x="1743" y="273"/>
                </a:lnTo>
                <a:lnTo>
                  <a:pt x="1549" y="330"/>
                </a:lnTo>
                <a:lnTo>
                  <a:pt x="1363" y="409"/>
                </a:lnTo>
                <a:lnTo>
                  <a:pt x="1198" y="524"/>
                </a:lnTo>
                <a:lnTo>
                  <a:pt x="1054" y="660"/>
                </a:lnTo>
                <a:lnTo>
                  <a:pt x="925" y="818"/>
                </a:lnTo>
                <a:lnTo>
                  <a:pt x="825" y="998"/>
                </a:lnTo>
                <a:lnTo>
                  <a:pt x="753" y="1198"/>
                </a:lnTo>
                <a:lnTo>
                  <a:pt x="2768" y="1198"/>
                </a:lnTo>
                <a:lnTo>
                  <a:pt x="2654" y="1471"/>
                </a:lnTo>
                <a:lnTo>
                  <a:pt x="703" y="1471"/>
                </a:lnTo>
                <a:lnTo>
                  <a:pt x="696" y="1607"/>
                </a:lnTo>
                <a:lnTo>
                  <a:pt x="703" y="1729"/>
                </a:lnTo>
                <a:lnTo>
                  <a:pt x="2539" y="1729"/>
                </a:lnTo>
                <a:lnTo>
                  <a:pt x="2417" y="2002"/>
                </a:lnTo>
                <a:lnTo>
                  <a:pt x="746" y="2002"/>
                </a:lnTo>
                <a:lnTo>
                  <a:pt x="817" y="2195"/>
                </a:lnTo>
                <a:lnTo>
                  <a:pt x="918" y="2382"/>
                </a:lnTo>
                <a:lnTo>
                  <a:pt x="1047" y="2547"/>
                </a:lnTo>
                <a:lnTo>
                  <a:pt x="1119" y="2619"/>
                </a:lnTo>
                <a:lnTo>
                  <a:pt x="1190" y="2683"/>
                </a:lnTo>
                <a:lnTo>
                  <a:pt x="1355" y="2798"/>
                </a:lnTo>
                <a:lnTo>
                  <a:pt x="1449" y="2841"/>
                </a:lnTo>
                <a:lnTo>
                  <a:pt x="1542" y="2884"/>
                </a:lnTo>
                <a:lnTo>
                  <a:pt x="1642" y="2913"/>
                </a:lnTo>
                <a:lnTo>
                  <a:pt x="1743" y="2934"/>
                </a:lnTo>
                <a:lnTo>
                  <a:pt x="1850" y="2949"/>
                </a:lnTo>
                <a:lnTo>
                  <a:pt x="1958" y="2956"/>
                </a:lnTo>
                <a:lnTo>
                  <a:pt x="2101" y="2949"/>
                </a:lnTo>
                <a:lnTo>
                  <a:pt x="2245" y="2920"/>
                </a:lnTo>
                <a:lnTo>
                  <a:pt x="2381" y="2884"/>
                </a:lnTo>
                <a:lnTo>
                  <a:pt x="2517" y="2827"/>
                </a:lnTo>
                <a:lnTo>
                  <a:pt x="2639" y="2755"/>
                </a:lnTo>
                <a:lnTo>
                  <a:pt x="2761" y="2676"/>
                </a:lnTo>
                <a:lnTo>
                  <a:pt x="2869" y="2583"/>
                </a:lnTo>
                <a:lnTo>
                  <a:pt x="2969" y="2482"/>
                </a:lnTo>
                <a:lnTo>
                  <a:pt x="2969" y="2834"/>
                </a:lnTo>
                <a:lnTo>
                  <a:pt x="2740" y="2992"/>
                </a:lnTo>
                <a:lnTo>
                  <a:pt x="2625" y="3056"/>
                </a:lnTo>
                <a:lnTo>
                  <a:pt x="2496" y="3114"/>
                </a:lnTo>
                <a:lnTo>
                  <a:pt x="2367" y="3157"/>
                </a:lnTo>
                <a:lnTo>
                  <a:pt x="2230" y="3185"/>
                </a:lnTo>
                <a:lnTo>
                  <a:pt x="2094" y="3207"/>
                </a:lnTo>
                <a:lnTo>
                  <a:pt x="1958" y="3214"/>
                </a:lnTo>
                <a:lnTo>
                  <a:pt x="1692" y="3185"/>
                </a:lnTo>
                <a:lnTo>
                  <a:pt x="1571" y="3157"/>
                </a:lnTo>
                <a:lnTo>
                  <a:pt x="1449" y="3121"/>
                </a:lnTo>
                <a:lnTo>
                  <a:pt x="1327" y="3071"/>
                </a:lnTo>
                <a:lnTo>
                  <a:pt x="1219" y="3013"/>
                </a:lnTo>
                <a:lnTo>
                  <a:pt x="1011" y="2870"/>
                </a:lnTo>
                <a:lnTo>
                  <a:pt x="832" y="2690"/>
                </a:lnTo>
                <a:lnTo>
                  <a:pt x="760" y="2590"/>
                </a:lnTo>
                <a:lnTo>
                  <a:pt x="688" y="2482"/>
                </a:lnTo>
                <a:lnTo>
                  <a:pt x="624" y="2368"/>
                </a:lnTo>
                <a:lnTo>
                  <a:pt x="566" y="2253"/>
                </a:lnTo>
                <a:lnTo>
                  <a:pt x="523" y="2131"/>
                </a:lnTo>
                <a:lnTo>
                  <a:pt x="488" y="2002"/>
                </a:lnTo>
                <a:lnTo>
                  <a:pt x="0" y="2002"/>
                </a:lnTo>
                <a:lnTo>
                  <a:pt x="122" y="172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1371600" y="6086520"/>
            <a:ext cx="533520" cy="7714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0" y="1905120"/>
            <a:ext cx="419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spcAft>
                <a:spcPts val="1950"/>
              </a:spcAft>
              <a:buClr>
                <a:srgbClr val="fec92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fr-FR" sz="2600" spc="-1" strike="noStrike">
                <a:solidFill>
                  <a:srgbClr val="ffffcc"/>
                </a:solidFill>
                <a:latin typeface="Tahoma"/>
              </a:rPr>
              <a:t>1.000 MARC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2971800"/>
            <a:ext cx="586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spcAft>
                <a:spcPts val="1950"/>
              </a:spcAft>
              <a:buClr>
                <a:srgbClr val="fec92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fr-FR" sz="2600" spc="-1" strike="noStrike">
                <a:solidFill>
                  <a:srgbClr val="ffffcc"/>
                </a:solidFill>
                <a:latin typeface="Tahoma"/>
              </a:rPr>
              <a:t>35 BILHÕES DE LITR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62320" y="3809880"/>
            <a:ext cx="53337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spcAft>
                <a:spcPts val="1950"/>
              </a:spcAft>
              <a:buClr>
                <a:srgbClr val="fec92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fr-FR" sz="2600" spc="-1" strike="noStrike">
                <a:solidFill>
                  <a:srgbClr val="ffffcc"/>
                </a:solidFill>
                <a:latin typeface="Tahoma"/>
              </a:rPr>
              <a:t>45.000 EMPREGOS DIRET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4495680"/>
            <a:ext cx="5562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spcAft>
                <a:spcPts val="1950"/>
              </a:spcAft>
              <a:buClr>
                <a:srgbClr val="fec92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fr-FR" sz="2600" spc="-1" strike="noStrike">
                <a:solidFill>
                  <a:srgbClr val="ffffcc"/>
                </a:solidFill>
                <a:latin typeface="Tahoma"/>
              </a:rPr>
              <a:t>100.000 EMPREGOS INDIRET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5334120"/>
            <a:ext cx="56386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spcAft>
                <a:spcPts val="1950"/>
              </a:spcAft>
              <a:buClr>
                <a:srgbClr val="fec92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fr-FR" sz="2600" spc="-1" strike="noStrike">
                <a:solidFill>
                  <a:srgbClr val="ffffcc"/>
                </a:solidFill>
                <a:latin typeface="Tahoma"/>
              </a:rPr>
              <a:t>12.000 MILHÕES DE EUR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62320" y="6219720"/>
            <a:ext cx="60195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spcAft>
                <a:spcPts val="1950"/>
              </a:spcAft>
              <a:buClr>
                <a:srgbClr val="fec92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fr-FR" sz="2600" spc="-1" strike="noStrike">
                <a:solidFill>
                  <a:srgbClr val="ffffcc"/>
                </a:solidFill>
                <a:latin typeface="Tahoma"/>
              </a:rPr>
              <a:t>93 LITROS PER CAPI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6" name="voltage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ferta Mundial - Principais País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ilhões Litr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11280" y="1557360"/>
          <a:ext cx="7848360" cy="5075280"/>
        </p:xfrm>
        <a:graphic>
          <a:graphicData uri="http://schemas.openxmlformats.org/drawingml/2006/table">
            <a:tbl>
              <a:tblPr/>
              <a:tblGrid>
                <a:gridCol w="1577880"/>
                <a:gridCol w="1014480"/>
                <a:gridCol w="1081080"/>
                <a:gridCol w="1008000"/>
                <a:gridCol w="1079640"/>
                <a:gridCol w="936360"/>
                <a:gridCol w="115092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í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lu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lu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lu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ras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tá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.2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.4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.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eman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.5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.9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.7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Áust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él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.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.2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.3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span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.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.6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.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.U.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2.0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3.6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.7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anç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.4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.7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.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rtu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.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íç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éx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6.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8.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.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ad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.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l"/>
    <p:sndAc>
      <p:stSnd>
        <p:snd r:embed="rId2" name="voltag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1371600"/>
            <a:ext cx="8077320" cy="57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Gill Sans MT"/>
              </a:rPr>
              <a:t>Na Euro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ill Sans MT"/>
              </a:rPr>
              <a:t>O crescimento do mercado de água engarrafada é regulado pelo preço e prefer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ill Sans MT"/>
              </a:rPr>
              <a:t>A preferência responde ao inves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ill Sans MT"/>
              </a:rPr>
              <a:t>O preço muito baixo impede o inves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ill Sans MT"/>
              </a:rPr>
              <a:t>A comoditização  - uma amea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Gill Sans MT"/>
              </a:rPr>
              <a:t>Na América La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ill Sans MT"/>
              </a:rPr>
              <a:t>O crescimento do mercado de água engarrafada é regulado pela necessidade, preço e prefer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ill Sans MT"/>
              </a:rPr>
              <a:t>Os produtores de baixo custo operam fora da economia f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ill Sans MT"/>
              </a:rPr>
              <a:t>A comoditização não é uma ameaça tão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ill Sans MT"/>
              </a:rPr>
              <a:t>A migração é uma possibilidad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24000" y="476280"/>
            <a:ext cx="482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Quais São as Tendênci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2" name="voltag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433520" y="404640"/>
            <a:ext cx="77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Mercado de Bebidas na América Lati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63680" y="1536840"/>
            <a:ext cx="8216640" cy="5016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  <p:sndAc>
      <p:stSnd>
        <p:snd r:embed="rId3" name="voltag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95280" y="1904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Água e Seus Concorrentes n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mérica Lati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31720" y="1523880"/>
            <a:ext cx="8080560" cy="4641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  <p:sndAc>
      <p:stSnd>
        <p:snd r:embed="rId3" name="voltag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2"/>
          <a:srcRect l="4089" t="0" r="216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80880" y="4648320"/>
            <a:ext cx="838224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15% dos Recursos Mundiais de Água Póta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30% dos Recursos Mundiais de Água Miner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094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RASI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3" name="voltag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116000" y="33336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Províncias Hidrogeológic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1763640" y="1413000"/>
            <a:ext cx="5508720" cy="5343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  <p:sndAc>
      <p:stSnd>
        <p:snd r:embed="rId3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rcRect l="9567" t="0" r="71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34920" y="4653000"/>
            <a:ext cx="8209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% de Reservas para Consumo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% de Paises: 66%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cada 100 pessoas 25 não têm ace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30492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 ÁGUA NO MUN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92160" y="4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3" name="voltag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042920" y="619200"/>
            <a:ext cx="828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Água Mineral, Termal e Potável de Mesa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volução da Concessão de Lavra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4000" y="1839960"/>
          <a:ext cx="8569080" cy="461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839960"/>
                    <a:ext cx="8569080" cy="46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  <p:sndAc>
      <p:stSnd>
        <p:snd r:embed="rId4" name="voltag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16000" y="620640"/>
            <a:ext cx="8229600" cy="10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rasil – Evolução da Produção 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sumo Per Capi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611280" y="1989000"/>
          <a:ext cx="8064360" cy="453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989000"/>
                    <a:ext cx="806436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  <p:sndAc>
      <p:stSnd>
        <p:snd r:embed="rId4" name="voltag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042920" y="1716120"/>
            <a:ext cx="7291440" cy="514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1240" y="-27000"/>
            <a:ext cx="7451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Água Mineral 2003 Regiões e Esta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549360"/>
            <a:ext cx="87631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Produção Total: 5,1 Bilhões de 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Produção Engarrafada: 4,2 Bilhões de 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Principais Estados: São Paulo 39% - Minas Gerais 8,62% - Rio de Janeiro 5,2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3" name="voltag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rasil: Principais Marc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16000" y="1916280"/>
            <a:ext cx="734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3800" y="762120"/>
            <a:ext cx="84582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De acordo com o DNPM, as principais empresas engarrafadoras de água mineral, responsáveis por 40% da produção nacional, são as seguint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Empresa:</a:t>
            </a: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Estado:</a:t>
            </a: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Marca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Grupo Edson Queiroz 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14 estados)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Indaiá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Águas Ouro Fino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PR)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Ouro Fi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Grupo Edson Queiroz  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SP)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Minal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Dias D’Ávila                 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BA)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Dias D’Ávil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Padre Manoel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MG)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Magn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Superágua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MG )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Araxá/Cambuquira/Lamba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Nestlé Waters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(MG, RJ, SC)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São Lourenço/Petropólis/Levissí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Mineração Ijuí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RS)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Ijuí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Flamin Mineração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SP)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Biole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Miner Mineração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SP)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Santa Bárbara/Ômeg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Mineração Mantovani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SP)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Lindoya Vid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00"/>
                </a:solidFill>
                <a:latin typeface="Arial"/>
              </a:rPr>
              <a:t>Primo Schincariol </a:t>
            </a:r>
            <a:r>
              <a:rPr b="1" lang="es-ES_tradnl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ES_tradnl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ffff00"/>
                </a:solidFill>
                <a:latin typeface="Arial"/>
              </a:rPr>
              <a:t>(SP) </a:t>
            </a:r>
            <a:r>
              <a:rPr b="1" lang="es-ES_tradnl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ffff00"/>
                </a:solidFill>
                <a:latin typeface="Arial"/>
              </a:rPr>
              <a:t>Schincari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Spal – Ind. Bras.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Bebidas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SP)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Cryst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Empresa de Águas Áurea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SP)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Sul de Min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Aquanova Emp. Mineração 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SP)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Lindóya Miner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Francisco Ullmann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MG)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Roda D’Águ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Água Mineral Sarandi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RS)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Fonte Sarand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Lindoyana de Água Mineral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SP)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Genuína Lindóy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Comercial Zullu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(SP) 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ffff00"/>
                </a:solidFill>
                <a:latin typeface="Arial"/>
              </a:rPr>
              <a:t>Crystal Fonte Del Re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2" name="voltag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istribuição por Tamanho de Embalag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8001000" cy="4413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85800" y="6172200"/>
            <a:ext cx="8001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ornável: 56%  -  Descartável: 4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3" name="voltag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2"/>
          <a:srcRect l="6098" t="28051" r="2539" b="6391"/>
          <a:stretch/>
        </p:blipFill>
        <p:spPr>
          <a:xfrm>
            <a:off x="684360" y="2592360"/>
            <a:ext cx="7920000" cy="4265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229120" y="115920"/>
            <a:ext cx="464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endências do Mercado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5280" y="981000"/>
            <a:ext cx="856764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Países Desenvolvi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Arial"/>
              </a:rPr>
              <a:t>Fatores de Concorrência: Design/Rótul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Arial"/>
              </a:rPr>
              <a:t>Embalagens PET - Permite diferentes formas e apel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3" name="voltage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543760" y="333360"/>
            <a:ext cx="462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endências do Mercado</a:t>
            </a: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1052640"/>
            <a:ext cx="785340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Países em Desenvolvimen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Fatores de concorrência:  Preço / Seguranç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Embalagens não sofisticad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771640" y="2637000"/>
            <a:ext cx="4056120" cy="4221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  <p:sndAc>
      <p:stSnd>
        <p:snd r:embed="rId3" name="voltage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71400" y="324360"/>
            <a:ext cx="7772400" cy="84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00"/>
                </a:solidFill>
                <a:latin typeface="Arial"/>
              </a:rPr>
              <a:t>Porque Água Envasada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04920" y="836640"/>
            <a:ext cx="8839080" cy="5805720"/>
            <a:chOff x="304920" y="836640"/>
            <a:chExt cx="8839080" cy="5805720"/>
          </a:xfrm>
        </p:grpSpPr>
        <p:sp>
          <p:nvSpPr>
            <p:cNvPr id="307" name=""/>
            <p:cNvSpPr/>
            <p:nvPr/>
          </p:nvSpPr>
          <p:spPr>
            <a:xfrm>
              <a:off x="7556400" y="6365880"/>
              <a:ext cx="158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ahoma"/>
                </a:rPr>
                <a:t>Fuente: U&amp;A 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304920" y="836640"/>
            <a:ext cx="7986600" cy="578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836640"/>
                      <a:ext cx="7986600" cy="578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0" name=""/>
            <p:cNvSpPr/>
            <p:nvPr/>
          </p:nvSpPr>
          <p:spPr>
            <a:xfrm>
              <a:off x="6667560" y="1174680"/>
              <a:ext cx="0" cy="517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54000" y="2209680"/>
              <a:ext cx="3483000" cy="927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168120" y="907920"/>
            <a:ext cx="8763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3" name="voltag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423720" y="1196640"/>
            <a:ext cx="8294760" cy="12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80880" y="1855440"/>
            <a:ext cx="8294760" cy="12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6440" y="4165560"/>
            <a:ext cx="538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48160" y="6491160"/>
            <a:ext cx="5595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8120" y="61128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stema Públicos         Águas Minerais Natura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4280" y="1312920"/>
            <a:ext cx="30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urso Híd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40240" y="130968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urso Mi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87640" y="2708280"/>
            <a:ext cx="50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os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4720" y="2981160"/>
            <a:ext cx="3630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87640" y="342900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acterística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63680" y="2201760"/>
            <a:ext cx="30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ferenç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87640" y="4149720"/>
            <a:ext cx="48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es Sanit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00480" y="4664160"/>
            <a:ext cx="381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87640" y="4797360"/>
            <a:ext cx="27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gis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1" name="voltag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276120"/>
            <a:ext cx="8207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 Que é uma Boa Regulamentação ?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Ponto de Vista da Indústria</a:t>
            </a:r>
            <a:r>
              <a:rPr b="1" lang="en-US" sz="3200" spc="-1" strike="noStrike">
                <a:solidFill>
                  <a:srgbClr val="ffff0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7991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ger o consumidor : propiciar boa segurança alimentar isto é dar “credibilidade” ao negócio da água engarrafad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468360" y="3213000"/>
            <a:ext cx="82072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ção clara sobre o tipo de á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ão enganar o consumidor e não fazer competição injusta entre os engarraf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vre circulação de mercadori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60958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3840" y="6093000"/>
            <a:ext cx="907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Evitar barreira alfandegária indevida no comércio interna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835280" y="115920"/>
            <a:ext cx="6858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ebidas em Geral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orcentagem Consumo Mund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1752480"/>
            <a:ext cx="73915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Água de Torneira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3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afé e Chá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3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uco de Fruta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eit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lcoólicos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oft Drink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4%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Água Envasada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utra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2" name="voltage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25920" y="544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85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0"/>
            <a:ext cx="52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-3411360" y="48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09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561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4000" y="260280"/>
            <a:ext cx="80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0560" y="333360"/>
            <a:ext cx="81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-439560" y="1812960"/>
            <a:ext cx="9360" cy="950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-439560" y="4067280"/>
            <a:ext cx="47520" cy="475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0" y="0"/>
            <a:ext cx="914400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egislação de Água de Consumo Huma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arâmetros Microbiológ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4581360"/>
            <a:ext cx="68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79280" y="1413000"/>
          <a:ext cx="5685120" cy="5400720"/>
        </p:xfrm>
        <a:graphic>
          <a:graphicData uri="http://schemas.openxmlformats.org/drawingml/2006/table">
            <a:tbl>
              <a:tblPr/>
              <a:tblGrid>
                <a:gridCol w="3024360"/>
                <a:gridCol w="26607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Água da Rede Pública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lui as Águas Mine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guas Minerais Naturais e Potáveis de M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ANVISA    518/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MS (WHO) 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ANVISA     54/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Codex Alimentarí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.</a:t>
                      </a:r>
                      <a:r>
                        <a:rPr b="1" i="1" lang="pt-B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col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iformes </a:t>
                      </a:r>
                      <a:r>
                        <a:rPr b="1" i="1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ctérias </a:t>
                      </a:r>
                      <a:r>
                        <a:rPr b="1" i="1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terotróficas</a:t>
                      </a:r>
                      <a:r>
                        <a:rPr b="1" i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nas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 20% das amos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ão condenató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.</a:t>
                      </a:r>
                      <a:r>
                        <a:rPr b="1" i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col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iformes t</a:t>
                      </a:r>
                      <a:r>
                        <a:rPr b="1" i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.</a:t>
                      </a:r>
                      <a:r>
                        <a:rPr b="1" i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erugin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tri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eroco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liformes totai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lerância de  5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ativ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não estabelece núme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lerância 1 amostra positiva para  os parâmetros acima e exceto para 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.col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ntitativ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estabelece numero de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67280" y="1413000"/>
          <a:ext cx="3276720" cy="5400720"/>
        </p:xfrm>
        <a:graphic>
          <a:graphicData uri="http://schemas.openxmlformats.org/drawingml/2006/table">
            <a:tbl>
              <a:tblPr/>
              <a:tblGrid>
                <a:gridCol w="1632240"/>
                <a:gridCol w="1644480"/>
              </a:tblGrid>
              <a:tr h="100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guas Preparad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guas não Minerais Nat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ANVISA 54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Codex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WHO 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m 54/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guas Miner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.coli</a:t>
                      </a: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iformes tota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l"/>
    <p:sndAc>
      <p:stSnd>
        <p:snd r:embed="rId3" name="voltage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525920" y="544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092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585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0"/>
            <a:ext cx="52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189000"/>
            <a:ext cx="889308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ritérios Microbiológicos – ANVISA - RDC nº 54 / 2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Água Mineral Natur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0920" y="1185480"/>
            <a:ext cx="889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aracterísticas Microbiológ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 fonte, poço ou local de surgência e na sua comercialização, a água mineral natural e a água natural não devem apresentar risco à saúde do consumidor (ausência de microrganismos patogênicos) e estar em conformidade com as características microbiológicas descritas abaix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24000" y="2781360"/>
          <a:ext cx="8568720" cy="3816000"/>
        </p:xfrm>
        <a:graphic>
          <a:graphicData uri="http://schemas.openxmlformats.org/drawingml/2006/table">
            <a:tbl>
              <a:tblPr/>
              <a:tblGrid>
                <a:gridCol w="2313360"/>
                <a:gridCol w="2143440"/>
                <a:gridCol w="342000"/>
                <a:gridCol w="341640"/>
                <a:gridCol w="1971720"/>
                <a:gridCol w="1456560"/>
              </a:tblGrid>
              <a:tr h="299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Microrganism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Amostra ind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limit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Amostra representativ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c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. </a:t>
                      </a:r>
                      <a:r>
                        <a:rPr b="1" i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li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ou coliforme (fecais) termotolerantes, em 100 m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Aus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.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Aus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liformes totais, em 100 m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1,0 UFC; &lt;1,1 NMP ou aus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1,0 UFC; &lt;1,1 NMP ou aus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,0 UFC ou 2,2 NM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terococos, em 100 m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1,0 UFC; &lt;1,1 NMP ou aus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1,0 UFC; &lt;1,1 NMP ou aus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,0 UFC ou 2,2 NM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eudomonas aeruginosa, em 100 m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1,0 UFC; &lt;1,1 NMP ou aus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1,0 UFC; &lt;1,1 NMP ou aus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,0 UFC ou 2,2 NM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lostrídios sulfito redutores ou C. perfringens, em 100m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1,0 UFC; &lt;1,1 NMP ou aus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1,0 UFC; &lt;1,1 NMP ou aus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,0 UFC ou 2,2 NM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"/>
          <p:cNvSpPr/>
          <p:nvPr/>
        </p:nvSpPr>
        <p:spPr>
          <a:xfrm>
            <a:off x="-3411360" y="48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1" name="voltage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240" y="5490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Resolução- RDC nº 175, de 08 de Julho de 2003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19640" y="134136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Republicada no D.O.U de 10/07/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2565360"/>
            <a:ext cx="8370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stabelece normas e padrões sobre limites de contaminantes, resíduos tóxicos, desinfetantes, metais pesados e outros que envolvam risco à saú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338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32767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1" name="voltage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4280" y="260280"/>
            <a:ext cx="8650440" cy="67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6760" indent="-11667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.1.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téria prejudicial à saúde humana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é aquela matéria  detectada macroscopicamente e ou microscopicamente, relacionada ao risco à saúde humana e ab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4604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etos,em qualquer fase de desenvolvimento, vivos ou  mortos, insetos ou em partes, reconhecidos como vetores mecânic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4604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ros animais vivos ou mortos, inteiros ou em  partes, reconhecidos como vetores mecân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4604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as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4604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remento de insetos e ou de outros anim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4604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tos rígidos, pontiagudos e ou cortantes, que podem   causar lesões no consum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66760" indent="-1166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1" name="voltage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525920" y="544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585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5280" y="0"/>
            <a:ext cx="52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-3411360" y="48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4000" y="260280"/>
            <a:ext cx="80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60" y="333360"/>
            <a:ext cx="81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-439560" y="1812960"/>
            <a:ext cx="9360" cy="950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-439560" y="4067280"/>
            <a:ext cx="47520" cy="475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611280" y="0"/>
            <a:ext cx="828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Critérios Microbiológicos – CODEX Alimentarius Nº 108- 1981- Revisão 1- 199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87280" y="1052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itérios Microbiológicos – Água Mineral Natur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620720" y="148428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ante a Comercialização, a água mineral natu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92360" y="1965240"/>
            <a:ext cx="691344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 ser de tal qualidade que não apresentará risco a saúde do consumidor (ausência de microrganismo patogênic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ra estar em conformidade com os seguintes critérios de qualidade microbiológic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332000" y="3429000"/>
          <a:ext cx="6696000" cy="3232080"/>
        </p:xfrm>
        <a:graphic>
          <a:graphicData uri="http://schemas.openxmlformats.org/drawingml/2006/table">
            <a:tbl>
              <a:tblPr/>
              <a:tblGrid>
                <a:gridCol w="2249280"/>
                <a:gridCol w="1008360"/>
                <a:gridCol w="430200"/>
                <a:gridCol w="30081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imeira Analí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cis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1440"/>
                          <a:tab algn="l" pos="880920"/>
                          <a:tab algn="l" pos="993600"/>
                          <a:tab algn="l" pos="133668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E. coli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ou coliformes termotoler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x 250 ml</a:t>
                      </a: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}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ão deve ser detectado em qualquer amos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1440"/>
                          <a:tab algn="l" pos="880920"/>
                          <a:tab algn="l" pos="993600"/>
                          <a:tab algn="l" pos="133668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liformes Totais bacté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x 250 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}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 </a:t>
                      </a:r>
                      <a:r>
                        <a:rPr b="1" lang="pt-BR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&gt;</a:t>
                      </a: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1 or </a:t>
                      </a:r>
                      <a:r>
                        <a:rPr b="1" lang="pt-BR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&lt;</a:t>
                      </a: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1440"/>
                          <a:tab algn="l" pos="880920"/>
                          <a:tab algn="l" pos="993600"/>
                          <a:tab algn="l" pos="133668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eptococos fec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x 250 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}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580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gundo exame deve ser realiz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1440"/>
                          <a:tab algn="l" pos="880920"/>
                          <a:tab algn="l" pos="993600"/>
                          <a:tab algn="l" pos="133668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i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eudomonas aerugin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x 250 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40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 &gt; 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1440"/>
                          <a:tab algn="l" pos="880920"/>
                          <a:tab algn="l" pos="993600"/>
                          <a:tab algn="l" pos="133668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lfito-redutores anaerób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x 50 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57080"/>
                          <a:tab algn="l" pos="880920"/>
                          <a:tab algn="l" pos="993600"/>
                          <a:tab algn="l" pos="1335240"/>
                          <a:tab algn="l" pos="2489040"/>
                          <a:tab algn="l" pos="2921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jei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l"/>
    <p:sndAc>
      <p:stSnd>
        <p:snd r:embed="rId3" name="voltage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79280" y="1267920"/>
            <a:ext cx="8964720" cy="426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66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Recomendações para usa-lo juntamente com os príncipios de  APPCC (Análise de Perigos e Pontos Criticos de Controles)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6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66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s práticas higiênicas são aplicadas em cada etapa do processo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6040" indent="-266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ptação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6040" indent="-266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jeto e Instalações da Indústria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6040" indent="-266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trole da Operação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6040" indent="-266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anutenção e Sanitização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6040" indent="-266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igiene Pessoal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6040" indent="-266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rasnsporte e Estocagem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6040" indent="-266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formação sobre o Produto e 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Consciência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do Consumidor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6040" indent="-266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reinamento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6040" indent="-266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specificações Microbiológicas, Fisico-químic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0920" cy="765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2123640" y="188640"/>
            <a:ext cx="67690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ódigo de Boas Práticas de Higiene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9072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525920" y="544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585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5280" y="0"/>
            <a:ext cx="52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-3411360" y="48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509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468360" y="1757520"/>
          <a:ext cx="8351640" cy="5010120"/>
        </p:xfrm>
        <a:graphic>
          <a:graphicData uri="http://schemas.openxmlformats.org/drawingml/2006/table">
            <a:tbl>
              <a:tblPr/>
              <a:tblGrid>
                <a:gridCol w="4094280"/>
                <a:gridCol w="42573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Padrão Microbiológico de Potabilidade da Água para Consumo Humano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RÂMETRO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MP (1)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Água para consumo humano (2)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pt-BR" sz="15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Escherichia coli</a:t>
                      </a: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ou coliform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rmotolerantes (3)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usência em 100ml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Água na saída do tratamento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liformes totais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usência em 100ml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Água tratada no sistema de distribuiçã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(reservatórios e rede)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pt-BR" sz="15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Escherichia coli </a:t>
                      </a: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u coliform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rmotolerantes (3)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usência em 100ml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liformes totais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stemas que analisam 40 ou mais amostras por mês: Ausência em 100ml em 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das amostras examinadas no mês;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stemas que analisam menos de 40 amostras por mês: Apenas 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ma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amostra poderá apresentar mensalmente resultado positivo em 100ml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"/>
          <p:cNvSpPr/>
          <p:nvPr/>
        </p:nvSpPr>
        <p:spPr>
          <a:xfrm>
            <a:off x="0" y="561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5280" y="1262160"/>
            <a:ext cx="86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rma de Qualidade da Água para Consumo Humano – Rede de Distribui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5280" y="166680"/>
            <a:ext cx="8461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NVISA – Portaria 518 / 2004 Rede de Distribuição 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Água de Consumo Humano ( Exclui as Minerais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79280" y="1125360"/>
            <a:ext cx="8785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1" name="voltage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4525920" y="544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585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0"/>
            <a:ext cx="52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3411360" y="48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509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561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00" y="260280"/>
            <a:ext cx="80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-439560" y="1812960"/>
            <a:ext cx="9360" cy="950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-439560" y="4067280"/>
            <a:ext cx="47520" cy="475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611280" y="334800"/>
            <a:ext cx="792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Legislação – Água de Consumo Humano Rede de Distribuição – OMS/WHO 199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4360" y="4581360"/>
            <a:ext cx="68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395280" y="1709640"/>
          <a:ext cx="8424360" cy="4672080"/>
        </p:xfrm>
        <a:graphic>
          <a:graphicData uri="http://schemas.openxmlformats.org/drawingml/2006/table">
            <a:tbl>
              <a:tblPr/>
              <a:tblGrid>
                <a:gridCol w="4213080"/>
                <a:gridCol w="421128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DRÕES INTERNACIONAIS DA OMS PARA ÁGUAS POTÁVEIS – QUALIDADE BACTERIOLÓGICA DA ÁGUA PARA CONSUMO HUM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Tipo de Água / Procedê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Recomendação (Nº / 100 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ualquer água para consu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usência de </a:t>
                      </a:r>
                      <a:r>
                        <a:rPr b="0" i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E. coli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ou coliformes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ecais (termotoleran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806560"/>
                          <a:tab algn="r" pos="56116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Água tratada (na entrada do sistema de distribuiçã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usência de </a:t>
                      </a:r>
                      <a:r>
                        <a:rPr b="0" i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E. coli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ou colifor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ecais (termotoleran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usência de coliformes tot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806560"/>
                          <a:tab algn="r" pos="56116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Água tratada (no sistema de distribuiçã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usência de </a:t>
                      </a:r>
                      <a:r>
                        <a:rPr b="0" i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E. coli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ou colifor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ecais (termotoleran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usência de coliformes totais 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5% das amostras analisadas duran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m 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onte: Guidelines for Drinking Water Quality – Recomendations – Volume 1 – 2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edition, Geneva -1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cover dir="l"/>
    <p:sndAc>
      <p:stSnd>
        <p:snd r:embed="rId3" name="voltage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0840" y="2195640"/>
            <a:ext cx="82072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46440" y="4165560"/>
            <a:ext cx="538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48160" y="6491160"/>
            <a:ext cx="5595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98520" y="423720"/>
            <a:ext cx="60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adrões Físico / Quím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23920" y="1916280"/>
          <a:ext cx="6095880" cy="2877840"/>
        </p:xfrm>
        <a:graphic>
          <a:graphicData uri="http://schemas.openxmlformats.org/drawingml/2006/table">
            <a:tbl>
              <a:tblPr/>
              <a:tblGrid>
                <a:gridCol w="3049560"/>
                <a:gridCol w="304632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Água da Rede Públ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Águas Minerais Naturais e Potáveis de Me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VISA  518/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S (WHO) 19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VISA   RDC  nº 54 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dex Alimentarí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6350040" y="1916280"/>
          <a:ext cx="2571840" cy="288108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Águas Preparadas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dex Alimentaríus  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1996 Re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l"/>
    <p:sndAc>
      <p:stSnd>
        <p:snd r:embed="rId1" name="voltage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73422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ites Permitidos de Substância Relacionadas à Saúd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964080"/>
            <a:ext cx="8893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Padrão de potabilidade para substâncias químicas que representam risco à saúd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541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50920" y="1413000"/>
          <a:ext cx="5976720" cy="5359320"/>
        </p:xfrm>
        <a:graphic>
          <a:graphicData uri="http://schemas.openxmlformats.org/drawingml/2006/table">
            <a:tbl>
              <a:tblPr/>
              <a:tblGrid>
                <a:gridCol w="2490840"/>
                <a:gridCol w="3485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bstancia Química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imôni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5 m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sénico</a:t>
                      </a:r>
                      <a:r>
                        <a:rPr b="0" lang="pt-B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1 mg/l , calculado como As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ário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7 mg 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ra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m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ádm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3 m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m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5 mg/l com Cr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b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m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ane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7 m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uore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u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1 m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ganês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 m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úri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1 m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íq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2 m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tra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 mg/l, como nitr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tri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53920"/>
                          <a:tab algn="l" pos="1708200"/>
                          <a:tab algn="l" pos="2562120"/>
                          <a:tab algn="l" pos="3416400"/>
                          <a:tab algn="l" pos="4270320"/>
                          <a:tab algn="l" pos="5124600"/>
                          <a:tab algn="l" pos="5978520"/>
                          <a:tab algn="l" pos="6832440"/>
                          <a:tab algn="l" pos="7686720"/>
                          <a:tab algn="l" pos="8540640"/>
                          <a:tab algn="l" pos="9394920"/>
                          <a:tab algn="l" pos="1024884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2 mg/l nitr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"/>
          <p:cNvSpPr/>
          <p:nvPr/>
        </p:nvSpPr>
        <p:spPr>
          <a:xfrm>
            <a:off x="430200" y="0"/>
            <a:ext cx="871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Água Mineral Natural Codex Alimentariun WHO - 200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227640" y="2924280"/>
            <a:ext cx="29545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pt-BR" sz="1500" spc="-1" strike="noStrike">
                <a:solidFill>
                  <a:srgbClr val="ffff66"/>
                </a:solidFill>
                <a:latin typeface="Arial"/>
              </a:rPr>
              <a:t>Agentes Tensioativos</a:t>
            </a:r>
            <a:r>
              <a:rPr b="1" lang="pt-BR" sz="15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pt-BR" sz="1500" spc="-1" strike="noStrike">
                <a:solidFill>
                  <a:srgbClr val="ffff66"/>
                </a:solidFill>
                <a:latin typeface="Arial"/>
              </a:rPr>
              <a:t>Biocidas e PCBs</a:t>
            </a:r>
            <a:r>
              <a:rPr b="1" lang="pt-BR" sz="15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pt-BR" sz="1500" spc="-1" strike="noStrike">
                <a:solidFill>
                  <a:srgbClr val="ffff66"/>
                </a:solidFill>
                <a:latin typeface="Arial"/>
              </a:rPr>
              <a:t>Óleo Mineral </a:t>
            </a:r>
            <a:r>
              <a:rPr b="1" lang="pt-BR" sz="15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pt-BR" sz="1500" spc="-1" strike="noStrike">
                <a:solidFill>
                  <a:srgbClr val="ffff66"/>
                </a:solidFill>
                <a:latin typeface="Arial"/>
              </a:rPr>
              <a:t>Hidrocarbonetos Aromático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ffff66"/>
                </a:solidFill>
                <a:latin typeface="Arial"/>
              </a:rPr>
              <a:t>Polinucleares</a:t>
            </a:r>
            <a:r>
              <a:rPr b="1" lang="pt-BR" sz="15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1" lang="pt-BR" sz="1500" spc="-1" strike="noStrike">
                <a:solidFill>
                  <a:srgbClr val="ffff66"/>
                </a:solidFill>
                <a:latin typeface="Arial"/>
              </a:rPr>
              <a:t> (PAH</a:t>
            </a:r>
            <a:r>
              <a:rPr b="1" lang="pt-BR" sz="1500" spc="-1" strike="noStrike" baseline="-25000">
                <a:solidFill>
                  <a:srgbClr val="ffff66"/>
                </a:solidFill>
                <a:latin typeface="Arial"/>
              </a:rPr>
              <a:t>s</a:t>
            </a:r>
            <a:r>
              <a:rPr b="1" lang="pt-BR" sz="15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302160" y="63342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ffff66"/>
                </a:solidFill>
                <a:latin typeface="Times New Roman"/>
              </a:rPr>
              <a:t> Revisão em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1" name="voltag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-4680" y="304920"/>
            <a:ext cx="9153360" cy="65530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84080" y="525600"/>
            <a:ext cx="515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2860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dução Mundial de Água Envasad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6 Bilhões L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2" name="voltage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87156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1143000" y="1866960"/>
            <a:ext cx="6858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sénic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0.01 mg/L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ário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0.7 mg/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ganê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0.5 mg/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2484360" y="188640"/>
            <a:ext cx="61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xação de Limites para os Seguintes Compostos: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1440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5760" y="4915080"/>
            <a:ext cx="836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ima deste limite são exigidos menções especiais de rotulag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544500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DEX Revisão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3048120" cy="107964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24000" y="189000"/>
            <a:ext cx="6428160" cy="1014480"/>
            <a:chOff x="324000" y="189000"/>
            <a:chExt cx="6428160" cy="101448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324000" y="189000"/>
              <a:ext cx="1066680" cy="10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1540800" y="416160"/>
              <a:ext cx="521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Food and Agriculture Organiz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24000" y="1268280"/>
            <a:ext cx="6289560" cy="936720"/>
            <a:chOff x="324000" y="1268280"/>
            <a:chExt cx="6289560" cy="936720"/>
          </a:xfrm>
        </p:grpSpPr>
        <p:pic>
          <p:nvPicPr>
            <p:cNvPr id="427" name="" descr=""/>
            <p:cNvPicPr/>
            <p:nvPr/>
          </p:nvPicPr>
          <p:blipFill>
            <a:blip r:embed="rId3"/>
            <a:stretch/>
          </p:blipFill>
          <p:spPr>
            <a:xfrm>
              <a:off x="324000" y="1268280"/>
              <a:ext cx="111564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585080" y="1467000"/>
              <a:ext cx="50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WHO : World Health Organiz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7200" y="4005360"/>
            <a:ext cx="85075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62- The joint FAO/WHO Food Standards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167 Países  &gt; 98%  População Mundi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4- Criação da  World Trade Organization (W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62485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4" name="voltage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8715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84120" y="452520"/>
            <a:ext cx="64767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Codex Alimentarius é uma 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coleçã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e padrões Internacionais para Alimentos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9185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4280" indent="-314280" algn="just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que têm sido adotada pela Comissão do Codex Alimentarius. Os padrões do Codex cobrem todos os principais alimentos, processados, semi-processados ou cru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142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14280" indent="-314280" algn="just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 principal objetivo é “proteger a saúde do consumidor e facilitar as boas práticas no comércio de alimentos”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142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14280" indent="-314280" algn="just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 Codex diz respeito à higiene e a qualidade nutricional do alimento, incluindo padrões microbiológicos, aditivos alimentícios, pesticidas e resíduos de fármacos veterinários, contaminantes, rotulagem e apresentação, e método de amostragem e análise de risco. Padrões individuais, códigos de ética profissional, consultoria e diretrizes do código alimentar glob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63244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87156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340000" y="188640"/>
            <a:ext cx="68040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Água Envasada Preparada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Não Mineral Natural)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64680" y="1483920"/>
            <a:ext cx="8960040" cy="433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1997</a:t>
            </a:r>
            <a:r>
              <a:rPr b="0" lang="en-US" sz="21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Grupo de trabalho-liderado por EUA e Canadá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Padrão para atender as outras categorias de águ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1998-2000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Várias Reuniõ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2001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Foi aprovado o Padrão para Águas Envasadas Não Minerai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1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1" lang="en-US" sz="2100" spc="-1" strike="noStrike">
                <a:solidFill>
                  <a:srgbClr val="ffcc66"/>
                </a:solidFill>
                <a:latin typeface="Arial"/>
              </a:rPr>
              <a:t>Duas Categorias Amplas: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533160" indent="-39600">
              <a:lnSpc>
                <a:spcPct val="100000"/>
              </a:lnSpc>
              <a:spcBef>
                <a:spcPts val="524"/>
              </a:spcBef>
              <a:buClr>
                <a:srgbClr val="ffcc66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1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cc66"/>
                </a:solidFill>
                <a:latin typeface="Arial"/>
              </a:rPr>
              <a:t>Àgua preparad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533160" indent="-39600">
              <a:lnSpc>
                <a:spcPct val="75000"/>
              </a:lnSpc>
              <a:spcBef>
                <a:spcPts val="524"/>
              </a:spcBef>
              <a:buClr>
                <a:srgbClr val="ffcc66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1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cc66"/>
                </a:solidFill>
                <a:latin typeface="Arial"/>
              </a:rPr>
              <a:t>Água definida por origem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53316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s padrões de qualidade estão ligados aos padrões da OMS, relacionados à risco a saúde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76500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78920" y="1412640"/>
            <a:ext cx="9434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DRÃO PARA ÁGUAS MINERAIS NATURAI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ODEX STAN 108 - 1981, Pev. 1 - 1997 *Revisado em  2001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ADRÃO PARA ÁGUAS Envasadas / Preparad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ADAS E ENVASADAS (Exceto Àgua Minerais Naturai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ODEX STAN 227-2001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Código de Boas Práticas de Higiene para Água Potavél Preparad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exceto Águas Minerais Naturais) CAC/RCP CAC/RCP 48-2001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ódigo de Higiene para a Àgua Mineral Natural CAC/RCP 33-1985</a:t>
            </a:r>
            <a:r>
              <a:rPr b="1" lang="en-US" sz="2000" spc="-1" strike="noStrike">
                <a:solidFill>
                  <a:srgbClr val="003b76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obsoleto porque é anterior ao APPCC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2195640" y="188640"/>
            <a:ext cx="672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exto do Codex Dirigido para Água Envasadas.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nselho Internacional das Associações de Águas Engarrafadas - ICBWA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28520" y="2473200"/>
            <a:ext cx="8984880" cy="1139760"/>
            <a:chOff x="128520" y="2473200"/>
            <a:chExt cx="8984880" cy="1139760"/>
          </a:xfrm>
        </p:grpSpPr>
        <p:cxnSp>
          <p:nvCxnSpPr>
            <p:cNvPr id="443" name="_s214038"/>
            <p:cNvCxnSpPr>
              <a:stCxn id="444" idx="0"/>
              <a:endCxn id="445" idx="2"/>
            </p:cNvCxnSpPr>
            <p:nvPr/>
          </p:nvCxnSpPr>
          <p:spPr>
            <a:xfrm flipV="1" rot="16200000">
              <a:off x="5645880" y="1905840"/>
              <a:ext cx="229320" cy="2277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46" name="_s214036"/>
            <p:cNvCxnSpPr>
              <a:stCxn id="447" idx="0"/>
              <a:endCxn id="445" idx="2"/>
            </p:cNvCxnSpPr>
            <p:nvPr/>
          </p:nvCxnSpPr>
          <p:spPr>
            <a:xfrm flipV="1" rot="16200000">
              <a:off x="6404760" y="1146960"/>
              <a:ext cx="229320" cy="3794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448" name="_s214034"/>
            <p:cNvCxnSpPr>
              <a:stCxn id="449" idx="0"/>
              <a:endCxn id="445" idx="2"/>
            </p:cNvCxnSpPr>
            <p:nvPr/>
          </p:nvCxnSpPr>
          <p:spPr>
            <a:xfrm flipV="1" rot="16200000">
              <a:off x="4886280" y="2665440"/>
              <a:ext cx="229320" cy="757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450" name="_s214030"/>
            <p:cNvCxnSpPr>
              <a:stCxn id="451" idx="0"/>
              <a:endCxn id="445" idx="2"/>
            </p:cNvCxnSpPr>
            <p:nvPr/>
          </p:nvCxnSpPr>
          <p:spPr>
            <a:xfrm flipH="1" flipV="1" rot="5400000">
              <a:off x="4127760" y="2663640"/>
              <a:ext cx="229320" cy="761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452" name="_s214029"/>
            <p:cNvCxnSpPr>
              <a:stCxn id="453" idx="0"/>
              <a:endCxn id="445" idx="2"/>
            </p:cNvCxnSpPr>
            <p:nvPr/>
          </p:nvCxnSpPr>
          <p:spPr>
            <a:xfrm flipH="1" flipV="1" rot="5400000">
              <a:off x="3368880" y="1905120"/>
              <a:ext cx="229320" cy="2278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54" name="_s214028"/>
            <p:cNvCxnSpPr>
              <a:stCxn id="455" idx="0"/>
              <a:endCxn id="445" idx="2"/>
            </p:cNvCxnSpPr>
            <p:nvPr/>
          </p:nvCxnSpPr>
          <p:spPr>
            <a:xfrm flipH="1" flipV="1" rot="5400000">
              <a:off x="2610360" y="1146240"/>
              <a:ext cx="229320" cy="3796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445" name="_s214024"/>
            <p:cNvSpPr/>
            <p:nvPr/>
          </p:nvSpPr>
          <p:spPr>
            <a:xfrm>
              <a:off x="4252320" y="2473200"/>
              <a:ext cx="73836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ICBW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_s214025"/>
            <p:cNvSpPr/>
            <p:nvPr/>
          </p:nvSpPr>
          <p:spPr>
            <a:xfrm>
              <a:off x="128520" y="3159000"/>
              <a:ext cx="1394640" cy="45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munida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uropé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_s214026"/>
            <p:cNvSpPr/>
            <p:nvPr/>
          </p:nvSpPr>
          <p:spPr>
            <a:xfrm>
              <a:off x="1646280" y="3159000"/>
              <a:ext cx="1394640" cy="45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stados Unid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_s214027"/>
            <p:cNvSpPr/>
            <p:nvPr/>
          </p:nvSpPr>
          <p:spPr>
            <a:xfrm>
              <a:off x="3164400" y="3159000"/>
              <a:ext cx="1394640" cy="45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_s214033"/>
            <p:cNvSpPr/>
            <p:nvPr/>
          </p:nvSpPr>
          <p:spPr>
            <a:xfrm>
              <a:off x="4682520" y="3159000"/>
              <a:ext cx="1394640" cy="45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_s214035"/>
            <p:cNvSpPr/>
            <p:nvPr/>
          </p:nvSpPr>
          <p:spPr>
            <a:xfrm>
              <a:off x="7718760" y="3159000"/>
              <a:ext cx="1394640" cy="45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érica Lat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_s214037"/>
            <p:cNvSpPr/>
            <p:nvPr/>
          </p:nvSpPr>
          <p:spPr>
            <a:xfrm>
              <a:off x="6200640" y="3159000"/>
              <a:ext cx="1394640" cy="45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Ási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"/>
    <p:sndAc>
      <p:stSnd>
        <p:snd r:embed="rId1" name="voltage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inição de Água Mineral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t. 1º Águas minerais são aquelas provenientes de fontes naturais ou de fontes artificialmente captadas que possuam composição química ou propriedades físicas ou físico-químicas distintas das águas comuns, com características que lhes confiram uma ação medicamentos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30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30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§ 1º A presente lei estabelece nos Capítulos VII e VIII as características de composição e propriedades para classificação como água mineral pela imediata atribuição de ação medicamentos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30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30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§ 2º Poderão ser, também, classificadas como minerais, águas que, mesmo sem atingir os limites da classificação estabelecida nos Capítulos VII e VII, possuam inconteste e comprovada ação medicamentos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30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30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§ 3º Ação medicamentosa referida no parágrafo anterior das águas que não atinjam os  limites da classificação estabelecida nos Capítulos VII e VIII deverá ser comprovada no local, mediante observações repetidas, estatísticas completas, documentos de ordem clínica e de laboratório, a cargo de médicos crenologistas, sujeitas as observações à fiscalização a aprovação da Comissão Permanente de Crenologia definida no Art. 2º desta lei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30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539640" y="90792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ódigo de Águas Minerais – Decreto Lei nº 7.841 08/08/194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55640" y="141300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Capítulo I – Disposições Prelimina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1" name="voltage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inição de Água Mineral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0" y="191772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rt. 7º As análises químicas e determinações dos demais dados a que se refere o artigo precedente serão repetidas em análises completas ou de elementos característicos no mínimo, duas vezes num ano, ou tantas vezes quantas o DNPM julgar conveniente, até ficar comprovado possuir a água da fonte uma composição química regularmente definida, antes de se poder considerar satisfatoriamente terminada a pesquisa autorizad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ffcc66"/>
                </a:solidFill>
                <a:latin typeface="Arial"/>
              </a:rPr>
              <a:t>Capítulo V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rt. 24º As autoridades sanitárias e administrativas federais, estaduais e municipais, deverão auxiliar e assistir o DNPM em tudo que for necessário ao fiel cumprimento desta lei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“ 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ANVISA – Resolução RDC nº 54 de 15/06/2000 ”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7. HIGIEN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7.1. Considerações Gerai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As águas minerais naturais e águas naturais devem ser captadas, processadas e envasadas obedecendo as condições higiênico-sanitárias e Boas Práticas de Fabricação fixadas em legislações específica .......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539640" y="83664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ódigo de Águas Minerais – Decreto Lei nº 7.841 08/08/194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55640" y="134136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Capítulo II – Da Autorização de Pesqui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1" name="voltage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inição de Água Mineral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Capítulo VI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t. 26º Não poderão ser exploradas comercialmente, para quaisquer fins, as fontes sujeitas à influência de águas superficiais e por conseguinte suscetíveis de poluição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t. 27º Em cada fonte em exploração regular, além de determinação mensal de descarga e de certas propriedades físicas e físico-químicas, será exigida a realização de análises químicas periódicas, parciais ou completas, e, no mínimo, uma análise completa de 3 em 3 anos, para verificação de sua composiçã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rágrafo Único – Em  relação  às  qualidades  higiênicas  das  fontes  serão  exigidos, no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ínimo,  quatro   exames   bacteriológicos por ano, um a cada trimestre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dendo,   entretanto,   a  repartição   fiscalizadora   exigir   as   análise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cteriológicas que julgar necessárias para garantir a pureza da água d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nte e da água engarrafada ou embalada em plástico (1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539640" y="83664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ódigo de Águas Minerais – Decreto Lei nº 7.841 08/08/194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1" name="voltage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Codex Alimentarius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0" y="1270080"/>
            <a:ext cx="89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27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66"/>
                </a:solidFill>
                <a:latin typeface="Arial"/>
              </a:rPr>
              <a:t>1. Abrangênc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Este padrão se aplica a todas as águas minerais naturais envasadas oferecidas à venda como alimento. Não se aplica a águas minerais naturais vendidas ou usadas para outros propósitos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66"/>
                </a:solidFill>
                <a:latin typeface="Arial"/>
              </a:rPr>
              <a:t>2. Descriçã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pt-BR" sz="1700" spc="-1" strike="noStrike">
                <a:solidFill>
                  <a:srgbClr val="ffffff"/>
                </a:solidFill>
                <a:latin typeface="Arial"/>
              </a:rPr>
              <a:t>2.1 Definição de Água Mineral Natural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pt-BR" sz="1700" spc="-1" strike="noStrike">
                <a:solidFill>
                  <a:srgbClr val="ffffff"/>
                </a:solidFill>
                <a:latin typeface="Arial"/>
              </a:rPr>
              <a:t>A Água mineral natural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 distingue-se claramente de outras águas comuns destinadas ao consumo humano, porque: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a) caracteriza-se pelo seu conteúdo e proporção relativa de alguns sais minerais, e pela presença de oligo elementos ou outros constituintes;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Arial"/>
              </a:rPr>
              <a:t>(Artigo 1º - Código Brasil 1945)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 É obtida diretamente de fontes naturais ou então por extração de águas subterrâneas, 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cuja extração deverá ser cuidadosamente manipula, bem como todo o perímetro protegido, para se evitar qualquer tipo de poluição de influência externa nas características físicas e químicas da água mineral natural;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227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Arial"/>
              </a:rPr>
              <a:t>(Artigo 1º - Código Brasil 1945)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324000" y="83664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00"/>
                </a:solidFill>
                <a:latin typeface="Arial"/>
              </a:rPr>
              <a:t>Codex Stan 108 – 1981, Rev. 1 – 1997, Rev. 2 - 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1" name="voltag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8153280" cy="4813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29528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3276720"/>
            <a:ext cx="7621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2209680"/>
            <a:ext cx="1600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E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8320" y="2971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9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95680" y="2971800"/>
            <a:ext cx="914400" cy="6094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2514600"/>
            <a:ext cx="14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77120" y="3429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4480" y="3352680"/>
            <a:ext cx="7621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4724280"/>
            <a:ext cx="1676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Á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152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86600" y="5334120"/>
            <a:ext cx="7621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4343400"/>
            <a:ext cx="76176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886200"/>
            <a:ext cx="1828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TE DA Á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48360" y="5877000"/>
            <a:ext cx="15238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TO 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Á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5257800"/>
            <a:ext cx="76176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16000" y="53737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ÉRICA LA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14600" y="5029200"/>
            <a:ext cx="7621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333360"/>
            <a:ext cx="70866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Água Envasada no Mun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Média de Consumo Per Capi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3" name="voltage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Codex Alimentarius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c) da constância de sua composição e a estabilidade de sua vazão e sua temperatura, levando-se em consideração os ciclos de pequenas flutuações naturais;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Arial"/>
              </a:rPr>
              <a:t>(Artigo 7º - Código Brasil 1945)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d) é coletada sob condições que garantem a pureza microbiológica original e a composição química dos componentes essenciais;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Arial"/>
              </a:rPr>
              <a:t>(Artigo 27º / Parágrafo Único – Código Brasil 1945)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e) é envasado próxima ao ponto de emergência da fonte, sob rigorosa condição de higiene;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Arial"/>
              </a:rPr>
              <a:t>(Artigo 24º - Código Brasil 1945 - “ANVISA Resolução RDC nº 54, de 15/06/2000”)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f) não está sujeita a qualquer tratamento além daqueles permitidos por esta norma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Arial"/>
              </a:rPr>
              <a:t>(Artigo 26º - Código Brasil 1945)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>
            <a:off x="324000" y="83664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00"/>
                </a:solidFill>
                <a:latin typeface="Arial"/>
              </a:rPr>
              <a:t>Codex Stan 108 – 1981, Rev. 1 – 1997, Rev. 2 - 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1" name="voltage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68360" y="1886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Águas Minerais Naturais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enário Mundial e Seus Reflexos no Brasil</a:t>
            </a:r>
            <a:br>
              <a:rPr sz="2500"/>
            </a:b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7620120" y="6026040"/>
            <a:ext cx="1523880" cy="83196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0" y="6033960"/>
            <a:ext cx="5486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NI – Brasília / D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 Agosto d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48360" y="1916280"/>
            <a:ext cx="419076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los Alberto L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idente da ABIN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3" name="voltag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688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042920" y="0"/>
            <a:ext cx="75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sumo de Água: Sem Gás e Com Gá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2" name="voltag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61c3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-19080" y="692280"/>
            <a:ext cx="9182160" cy="6165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11280" y="189000"/>
            <a:ext cx="82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sumo de Água Natural e Água Trata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2" name="voltag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688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640" y="71280"/>
            <a:ext cx="81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sumo de Água por Tipo de Embalag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2" name="voltag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7920" y="304920"/>
            <a:ext cx="7086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Água Envasada: Evolução Glob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rcRect l="9695" t="20037" r="8377" b="13167"/>
          <a:stretch/>
        </p:blipFill>
        <p:spPr>
          <a:xfrm>
            <a:off x="0" y="1600200"/>
            <a:ext cx="9220320" cy="5280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  <p:sndAc>
      <p:stSnd>
        <p:snd r:embed="rId3" name="voltag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9:21:33Z</dcterms:created>
  <dc:creator>Graziele</dc:creator>
  <dc:description/>
  <dc:language>en-US</dc:language>
  <cp:lastModifiedBy>servidor</cp:lastModifiedBy>
  <cp:lastPrinted>2004-07-22T12:31:41Z</cp:lastPrinted>
  <dcterms:modified xsi:type="dcterms:W3CDTF">2004-08-09T21:40:51Z</dcterms:modified>
  <cp:revision>205</cp:revision>
  <dc:subject/>
  <dc:title>Apresentação do PowerPoint</dc:title>
</cp:coreProperties>
</file>