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662-AE53-4AFC-B403-8E0CCCA3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655-D297-4182-AA70-B2B61953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388-9821-4B64-8277-924D3685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269-A0AE-4002-9A54-C91726F7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E8D-D337-4F91-84DD-C1ACF57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CD2-9027-474E-A932-245FF577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9B9-C10F-4422-B10A-EDB7CA5C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7B5-F8C4-4C27-BF24-50DD0F74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E1B-4ED9-49F7-B54C-EDA0CEE4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014-58A8-4B5B-8949-C5137D81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914-7E44-426D-A557-7421A53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840-82DB-46F5-AD1B-4ACCE87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A38C-48E4-408C-85C1-EB82B48FC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2280"/>
          <a:ext cx="495288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280"/>
                    <a:ext cx="495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4191120"/>
            <a:ext cx="94485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ltamirano Vaz Lordêllo N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ng.º Agr.º MSc. Coordenador Técnico de Controle e Aval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REST/SRH-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mail: alordelo@srh.ba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Tel: (71) 370-6207/3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76640"/>
            <a:ext cx="92966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orga de Água, Alvará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quisa e Lavra de Águ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pectos Legais e Procedimentos no Estado da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557360"/>
            <a:ext cx="90680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outorga de direito de uso - 539,5 m³/dia em mai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gência para Concessão de Licença de Loc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itida pelo órgão ambiental – Centro de Recursos Ambientais - 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do – Indústria e Comércio de Águas Minerais  Lt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Legal – Legislação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6.855 de 12 de maio de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õe sobre a Política, o Gerenciamento e o Plano Estadual de Recursos Hídricos e dá outras providências (Anterior a lei federal 9.43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. 20 - A concessão 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cença de Localiz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 empreendimentos que demandem a utilização de recursos hídricos, dependerá da prévia obtenção da respectiva outorga do direito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Legal – Legislaçã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800" y="1341360"/>
            <a:ext cx="8610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7.799 de 07 de fevereiro d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i a Política Estadual de Administração de Recursos Ambientais e dá outras provid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to Estadual Nº 7.967 de 05 de  junho de 2001 (Regulamenta a Lei 7.799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ção VIII - Procedimentos Para Emissão de Autorização ou Licença Ambient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92280"/>
            <a:ext cx="8763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to 7.967 - Seção VIII, Continu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. 18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ção dos processos de autorização ou de licenciamento ambienta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 1o - O CRA exigirá, no que couber, dentre outros documentos e informações: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II - Outorga de uso da água expedida pelo órgão competente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I - Alvará de pesquisa mineral expedido pelo DNPM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entos Para Exploração de Água Mineral –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8534520" cy="4284720"/>
            <a:chOff x="457200" y="1600200"/>
            <a:chExt cx="8534520" cy="4284720"/>
          </a:xfrm>
        </p:grpSpPr>
        <p:sp>
          <p:nvSpPr>
            <p:cNvPr id="60" name=""/>
            <p:cNvSpPr/>
            <p:nvPr/>
          </p:nvSpPr>
          <p:spPr>
            <a:xfrm>
              <a:off x="457200" y="2552760"/>
              <a:ext cx="1828800" cy="118836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mpresário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3505320"/>
              <a:ext cx="205740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utorga de Uso da Águ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2057400"/>
              <a:ext cx="243828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lvará de pesquisa mineral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16002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2520" y="3048120"/>
              <a:ext cx="100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SRH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167652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2133720"/>
              <a:ext cx="2286000" cy="8557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Localiz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334120" y="5410080"/>
              <a:ext cx="36576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Implant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1" idx="3"/>
              <a:endCxn id="66" idx="1"/>
            </p:cNvCxnSpPr>
            <p:nvPr/>
          </p:nvCxnSpPr>
          <p:spPr>
            <a:xfrm flipV="1">
              <a:off x="4887720" y="2571480"/>
              <a:ext cx="1121400" cy="132624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2" idx="3"/>
              <a:endCxn id="66" idx="1"/>
            </p:cNvCxnSpPr>
            <p:nvPr/>
          </p:nvCxnSpPr>
          <p:spPr>
            <a:xfrm>
              <a:off x="5192280" y="2449440"/>
              <a:ext cx="816840" cy="123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562720" y="3771720"/>
              <a:ext cx="32004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Portaria de Lavr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33145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6" idx="2"/>
              <a:endCxn id="74" idx="0"/>
            </p:cNvCxnSpPr>
            <p:nvPr/>
          </p:nvCxnSpPr>
          <p:spPr>
            <a:xfrm>
              <a:off x="7162560" y="3021120"/>
              <a:ext cx="1080" cy="740160"/>
            </a:xfrm>
            <a:prstGeom prst="straightConnector1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638680" y="495288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4" idx="2"/>
              <a:endCxn id="71" idx="0"/>
            </p:cNvCxnSpPr>
            <p:nvPr/>
          </p:nvCxnSpPr>
          <p:spPr>
            <a:xfrm>
              <a:off x="7162560" y="4277880"/>
              <a:ext cx="1080" cy="11214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457200" y="5791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* Detalhado a se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0160" y="189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o Para Outorga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15800" y="1468440"/>
            <a:ext cx="9145440" cy="4629240"/>
            <a:chOff x="415800" y="1468440"/>
            <a:chExt cx="9145440" cy="4629240"/>
          </a:xfrm>
        </p:grpSpPr>
        <p:sp>
          <p:nvSpPr>
            <p:cNvPr id="83" name=""/>
            <p:cNvSpPr/>
            <p:nvPr/>
          </p:nvSpPr>
          <p:spPr>
            <a:xfrm>
              <a:off x="415800" y="1468440"/>
              <a:ext cx="1990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: PROTOC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30320" y="1468440"/>
              <a:ext cx="34340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ERTURA DA FOLHA DE ACOMPANH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5560" y="1468440"/>
              <a:ext cx="28756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JURÍDICO: PARECER JURÍD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2560680"/>
              <a:ext cx="28522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GEOLÓGICO: PARECER TE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78080" y="2560680"/>
              <a:ext cx="24159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 PARECER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080" y="2560680"/>
              <a:ext cx="191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AVALI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920" y="3652920"/>
              <a:ext cx="182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CON: COBR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85520" y="292428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880" y="3652920"/>
              <a:ext cx="211572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RIA DE OUTO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9960" y="3652920"/>
              <a:ext cx="370080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7840" y="4745160"/>
              <a:ext cx="18086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UTA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2720" y="183204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68960" y="40165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6360" y="4705200"/>
              <a:ext cx="33508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MINU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58080" y="42879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280" y="4705200"/>
              <a:ext cx="2026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.G.: PUB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8760" y="5729400"/>
              <a:ext cx="190188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CHA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55000" y="5049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0200" y="5729400"/>
              <a:ext cx="149832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P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93680" y="2924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7800" y="3236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3680" y="534528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4360" y="1832040"/>
              <a:ext cx="3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0760" y="401652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3160" y="504972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8000" y="5970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2880" y="476280"/>
            <a:ext cx="8420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ras Outorgas Conce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880" y="11970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Água Mineral Salvador Ltda – 172,8 m³/dia em outubr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Milfontes Águas Minerais e Bebidas Ltda - 192 m³/dia em junho de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Água Mineral Vida Ltda  - 180 m³/dia em abril d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2880" y="260280"/>
            <a:ext cx="911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 TÉCNICA NT - 004/02 CEP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1268280"/>
            <a:ext cx="8382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º - Para o requerimento da Renovação da Licença de Operação - RLO, faz-se necessária a apresentação dos seguintes documentos, no que couber, junto ao Centro de Recursos Ambientais - CR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 - Outorga do Direito de Uso da Água para Mananciais Superficiais ou Subterrâneos concedida pelo competente órgão gestor dos recursos hídricos;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5:12:39Z</dcterms:created>
  <dc:creator>rbomfim</dc:creator>
  <dc:description/>
  <dc:language>en-US</dc:language>
  <cp:lastModifiedBy>alordelo</cp:lastModifiedBy>
  <dcterms:modified xsi:type="dcterms:W3CDTF">2004-08-10T22:56:09Z</dcterms:modified>
  <cp:revision>304</cp:revision>
  <dc:subject/>
  <dc:title>Apresentação do PowerPoint</dc:title>
</cp:coreProperties>
</file>