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930-0927-4AA1-B964-99C99027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E89-4E70-443F-B507-54E260F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682-02BA-47C7-B34B-8C419F5C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174-7904-486B-B454-274589B6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B4F-ED57-4001-B035-6ABDBAAB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9FF-75E2-4864-8D85-919AB98C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1F8-3D97-407C-930B-BB0DFDB0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DAD-98F4-4CDF-A289-9A56DEF5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383-6883-412E-8B7E-1CF770A7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867-E9DB-4EE7-B1AA-0AE6F7D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6F0-7A3C-4502-A390-3FD537A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A1F-8392-4440-88DC-0A236963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5931-C046-4576-AFFC-6BB5B3FB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077320" y="6504120"/>
          <a:ext cx="857160" cy="23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6504120"/>
                    <a:ext cx="8571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CONSELHO NACIONAL DE RECURSOS HÍDRIC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CÂMARA TÉCNICA DE ÁGUAS SUBTERRÂ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19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rberto Ramon                                                                          Agosto/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MINÁ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GESTÃO DAS ÁGUAS MINERAIS, TERMAIS, POTÁVEIS DE MESA E PARA FINS BALNEÁRIOS E A GESTÃO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Aft>
                <a:spcPts val="2001"/>
              </a:spcAft>
              <a:buClr>
                <a:srgbClr val="ff99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Integração de Procediment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de Outorga de Uso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Hídricos e de Licencia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mbiental no Estado do Par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-304920" y="-30528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64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209680"/>
            <a:ext cx="18288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228600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S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895480"/>
            <a:ext cx="0" cy="838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733920"/>
            <a:ext cx="5715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373392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648320"/>
            <a:ext cx="213372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648320"/>
            <a:ext cx="18288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7242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SUDERH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47242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I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838080"/>
            <a:ext cx="5029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strutura Organizacion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267080"/>
            <a:ext cx="0" cy="3812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267080"/>
            <a:ext cx="0" cy="3812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</a:rPr>
              <a:t>Dificul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Os processos de Licenci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mbiental deveriam ser preced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pelas Outorgas de Direito de U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000099"/>
                </a:solidFill>
                <a:latin typeface="Arial"/>
              </a:rPr>
              <a:t>(Manual de Licenciamento - IA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-15264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ecreto 4.646/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a o instrumento da Outorga Pré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cionante para a continuidade de procedimentos de Licenc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Resolução  003/04-SEMA </a:t>
            </a:r>
            <a:r>
              <a:rPr b="1" lang="pt-BR" sz="1800" spc="-1" strike="noStrike">
                <a:solidFill>
                  <a:srgbClr val="ff9933"/>
                </a:solidFill>
                <a:latin typeface="Arial"/>
                <a:ea typeface="Arial"/>
              </a:rPr>
              <a:t>(Fevereiro/2004)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stabelece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cedimentos de integraçã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ara emissão da Outorga Prévia, 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utorga de Direito de Uso de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ídricos e para o Lic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295280"/>
            <a:ext cx="8001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Resolução  003/04-SEMA </a:t>
            </a:r>
            <a:r>
              <a:rPr b="1" lang="pt-BR" sz="1800" spc="-1" strike="noStrike">
                <a:solidFill>
                  <a:srgbClr val="ff9933"/>
                </a:solidFill>
                <a:latin typeface="Arial"/>
                <a:ea typeface="Arial"/>
              </a:rPr>
              <a:t>(Fevereiro/2004)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A Outorga Prévia emitida pela SUDERH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será apresentada pelo requerente ao I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ao solicitar a Licença Prévia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143000"/>
            <a:ext cx="8001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Resolução  003/04-SEMA </a:t>
            </a:r>
            <a:r>
              <a:rPr b="1" lang="pt-BR" sz="1800" spc="-1" strike="noStrike">
                <a:solidFill>
                  <a:srgbClr val="ff9933"/>
                </a:solidFill>
                <a:latin typeface="Arial"/>
                <a:ea typeface="Arial"/>
              </a:rPr>
              <a:t>(Fevereiro/2004)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Quando do pedido de Outorga de Dir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de Uso de Recursos Hídricos deverá 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apresentada, pelo requerente, a Licenç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de Instalação ou a Autorizaçã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12193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utorga Pré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19051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icença Pré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971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5053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icença de Insta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03848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5720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utorga de Direito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4572000"/>
            <a:ext cx="426744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51055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6386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icença de O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638680"/>
            <a:ext cx="350532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1371600"/>
            <a:ext cx="251460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438280"/>
            <a:ext cx="243828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3505320"/>
            <a:ext cx="365760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371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438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5053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5638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572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3:22:12Z</dcterms:created>
  <dc:creator>Ramon</dc:creator>
  <dc:description/>
  <dc:language>en-US</dc:language>
  <cp:lastModifiedBy>Ramon</cp:lastModifiedBy>
  <dcterms:modified xsi:type="dcterms:W3CDTF">2004-08-05T13:31:06Z</dcterms:modified>
  <cp:revision>11</cp:revision>
  <dc:subject/>
  <dc:title>CONSELHO NACIONAL DE RECURSOS HÍDRICOS </dc:title>
</cp:coreProperties>
</file>