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B9006-7247-4C1C-99B3-2C16BFF30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45696-3B25-47F0-B2AB-A513BDBE5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AEC2C-7030-4C87-BDC6-9E248D5FF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5EEC7-96D1-416F-BA7D-8F2849803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E1ADC-9792-4EF8-8499-0B0FE97CA7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7ECA3-9293-4063-ADF6-C11EA62D81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DE384-D748-4DE4-A00C-DE97B2684B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698C7-431D-401A-9249-42EC6513E5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AE66C-AD5B-40B5-A577-1AF9819D3A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5014F-5BCA-471E-87E2-4A572F49F4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79A3A-2C74-4525-B825-FF7E0AEFB2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EFEED-7814-4FB4-9B2B-BBF9C1018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13628-19B6-4794-884C-78B7160609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C7715-D174-4B9B-B285-99FAD33430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1FF69-0D70-4B13-ACCB-263FD0F102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C3ECF-4179-487B-8AF5-B21329D3BA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ED302-27B4-4815-B6A0-3899B2AB2E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F18C2-7FB1-43B8-99A7-0BBAC6EB8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3ABAD-3EF8-463A-B929-8164CF4AE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AD9BA-13F3-461F-B4A7-221DB06C0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4DEF4-4F5F-40A6-B1A7-D00A0ECE1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6F46D-FCB0-4CD6-9954-735191EA1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7D3CB-F5A9-4E74-B96D-0051378FB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2BBF2-C4ED-448F-952B-2FA968F01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8B32-9D98-4FD8-ADE8-47F4742813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6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8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8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EAA3-C8D1-4216-9F11-9818F58160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aff2d"/>
                </a:solidFill>
                <a:latin typeface="Times New Roman"/>
              </a:rPr>
              <a:t>“</a:t>
            </a:r>
            <a:r>
              <a:rPr b="0" lang="pt-BR" sz="4400" spc="-1" strike="noStrike">
                <a:solidFill>
                  <a:srgbClr val="faff2d"/>
                </a:solidFill>
                <a:latin typeface="Times New Roman"/>
              </a:rPr>
              <a:t>Integração da Gestão de Recursos Hídricos e a de Águas Minerais: Oportunidades e Desafios”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440" y="365724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arcelo Taylor de L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Especialista em Meio Ambiente e Recursos Hídr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Sistema FIRJ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mtaylor@firjan.org.b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Tel (21) 2563 31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56386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eminário A Gestão das Águas Minerais, Termais, Potáveis de Mesa e para Fins Balneários e a Gestão de Recursos Hídricos - 11 de Agosto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-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rot="21584400">
            <a:off x="912600" y="863640"/>
            <a:ext cx="82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Águas Minerais e Recursos Hídr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260496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Código de Águas Miner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1905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Situação Leg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5181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alloon XBd BT"/>
              </a:rPr>
              <a:t>POTENCIAL DE CONFLITOS DE COMPETÊNCIAS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0320" y="32148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Leis federais de Recursos Hídr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3900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Leis estaduais de Recursos Hídricos e de águas subterrân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gotona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047960" cy="15242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rot="21584400">
            <a:off x="836640" y="623520"/>
            <a:ext cx="6703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21584400">
            <a:off x="912600" y="863640"/>
            <a:ext cx="82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O que faz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1905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Alterações Constituciona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0320" y="26352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Definir as Águas Subterrâneas como de domínio da Uniã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38545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Repassar especificamente a Gestão das Águas Minerais para os Estad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5181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alloon XBd BT"/>
              </a:rPr>
              <a:t>TEMA POLÊMICO QUE DEMANDARÁ TEMPO E DE DIFÍCIL CONSENSO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gotona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047960" cy="1524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21584400">
            <a:off x="836640" y="623520"/>
            <a:ext cx="6703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21584400">
            <a:off x="912600" y="863640"/>
            <a:ext cx="82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O que fazer I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Alterações Lega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0320" y="25146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Repassar a Gestão das Águas Minerais à Agência Nacional de Águ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0320" y="3533760"/>
            <a:ext cx="838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Alterar o Código de Águas para permitir a subordinação das concessões de AM aos ditames dos Sistemas Estaduais de Recursos Hídric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53784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alloon XBd BT"/>
              </a:rPr>
              <a:t>TEMA POLÊMICO DE DIFÍCIL CONSENSO E QUE NÃO RESOLVE O PROBLEM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gotona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047960" cy="15242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rot="21584400">
            <a:off x="836640" y="623520"/>
            <a:ext cx="6703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21584400">
            <a:off x="912600" y="863640"/>
            <a:ext cx="82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Não se pode fazer nada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O CNRH e sua CTAS pod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0320" y="2514600"/>
            <a:ext cx="838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Definir e sugerir critérios de integração de procedimentos que permitam que os órgãos do Sistema Nacional de Recursos Hídricos  e de Produção Mineral comuniquem-se e decidam fundamentada e cooperativament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53784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alloon XBd BT"/>
              </a:rPr>
              <a:t>TROCA DE INFORMAÇÕES E NEGOCIAÇÃO!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gotona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047960" cy="15242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rot="21584400">
            <a:off x="836640" y="623520"/>
            <a:ext cx="6703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21584400">
            <a:off x="912600" y="863640"/>
            <a:ext cx="82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Algumas premiss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0320" y="19051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Não pode haver subordinação de um sistema a ou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335268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Informações devem ser compartidas: Sistemas de Informação de Recursos Hídricos e Minerais devem ser compatíve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0320" y="51814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Planos de Recursos Hídricos devem contemplar a água mineral e suas caracterís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0320" y="27576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Resoluções CNRH devem ser leg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gotona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047960" cy="1524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21584400">
            <a:off x="836640" y="623520"/>
            <a:ext cx="6703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21584400">
            <a:off x="912600" y="863640"/>
            <a:ext cx="82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Planos de Recursos Hídr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0320" y="21780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Devem contemplar as concessões de Águas Minerais já outorg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348768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Devem prever a possibilidade de descoberta de novas jazidas de Águas Minerais e sua inserção entre os usos possíveis e previstos, de ocorrência ince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gotona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047960" cy="15242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 rot="21584400">
            <a:off x="836640" y="623520"/>
            <a:ext cx="6703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21584400">
            <a:off x="912600" y="863640"/>
            <a:ext cx="82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O DNP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0320" y="198108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Devem considerar os usos existentes já outorgados (especialmente os prioritários) quando da concessão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42900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Devem cuidar para que os poços de pesquisa de águas minerais sejam feitos conforme a melhor téc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0320" y="495144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Deve estar atento para possíveis utilizações indevidas da Autorização para perfuração de poç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gotona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047960" cy="1524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21584400">
            <a:off x="836640" y="623520"/>
            <a:ext cx="6703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21584400">
            <a:off x="912600" y="863640"/>
            <a:ext cx="82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Conclusã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0320" y="1981080"/>
            <a:ext cx="838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Há uma grande oportunidade para a minimização dos conflitos atuais e futuros na gestão das Águas Minerais e dos Recursos Hídricos. Essa oportunidade traz desafios que devem ser vencidos com a devida negociação e entendimentos entre as par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5105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alloon XBd BT"/>
              </a:rPr>
              <a:t>ACALMEMOS OS ÂNIMO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alloon XBd BT"/>
              </a:rPr>
              <a:t>DESARMEMO-NO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 rot="21584400">
            <a:off x="1064880" y="863280"/>
            <a:ext cx="700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Origem da Água no Plane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828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alloon XBd BT"/>
              </a:rPr>
              <a:t>Poeira Cósmica Orig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26971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alloon XBd BT"/>
              </a:rPr>
              <a:t>Vulcân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35053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alloon XBd BT"/>
              </a:rPr>
              <a:t>Reações Rocho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449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alloon XBd BT"/>
              </a:rPr>
              <a:t>Contribuição de Come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41-nasa" descr=""/>
          <p:cNvPicPr/>
          <p:nvPr/>
        </p:nvPicPr>
        <p:blipFill>
          <a:blip r:embed="rId1"/>
          <a:stretch/>
        </p:blipFill>
        <p:spPr>
          <a:xfrm>
            <a:off x="7315200" y="1905120"/>
            <a:ext cx="1509840" cy="2895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 rot="21584400">
            <a:off x="1066320" y="867960"/>
            <a:ext cx="542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Água no Mu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oceano" descr=""/>
          <p:cNvPicPr/>
          <p:nvPr/>
        </p:nvPicPr>
        <p:blipFill>
          <a:blip r:embed="rId1"/>
          <a:stretch/>
        </p:blipFill>
        <p:spPr>
          <a:xfrm>
            <a:off x="1039680" y="1736640"/>
            <a:ext cx="2362320" cy="158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818280" y="3413160"/>
            <a:ext cx="31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Oceanos  -  97,2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geleira" descr=""/>
          <p:cNvPicPr/>
          <p:nvPr/>
        </p:nvPicPr>
        <p:blipFill>
          <a:blip r:embed="rId2"/>
          <a:stretch/>
        </p:blipFill>
        <p:spPr>
          <a:xfrm>
            <a:off x="1039680" y="4251240"/>
            <a:ext cx="2362320" cy="160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244440" y="6004080"/>
            <a:ext cx="46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Icebergs e Geleiras - 2,1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rio" descr=""/>
          <p:cNvPicPr/>
          <p:nvPr/>
        </p:nvPicPr>
        <p:blipFill>
          <a:blip r:embed="rId3"/>
          <a:stretch/>
        </p:blipFill>
        <p:spPr>
          <a:xfrm>
            <a:off x="4343400" y="2560680"/>
            <a:ext cx="4495680" cy="299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5069160" y="2712960"/>
            <a:ext cx="2889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Balloon XBd BT"/>
              </a:rPr>
              <a:t>Água Doc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Balloon XBd BT"/>
              </a:rPr>
              <a:t>Disponí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ffff"/>
                </a:solidFill>
                <a:latin typeface="Balloon XBd BT"/>
              </a:rPr>
              <a:t>0,65%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4840" y="1630440"/>
            <a:ext cx="34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alloon XBd BT"/>
              </a:rPr>
              <a:t>1,35 bilhões  km</a:t>
            </a:r>
            <a:r>
              <a:rPr b="0" lang="pt-BR" sz="3200" spc="-1" strike="noStrike" baseline="30000">
                <a:solidFill>
                  <a:srgbClr val="ffffff"/>
                </a:solidFill>
                <a:latin typeface="Balloon XBd BT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rot="21584400">
            <a:off x="1064520" y="867960"/>
            <a:ext cx="762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Armazenamento da Água Disponív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laneta" descr=""/>
          <p:cNvPicPr/>
          <p:nvPr/>
        </p:nvPicPr>
        <p:blipFill>
          <a:blip r:embed="rId1"/>
          <a:stretch/>
        </p:blipFill>
        <p:spPr>
          <a:xfrm>
            <a:off x="762120" y="1647720"/>
            <a:ext cx="3456000" cy="3471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556240" y="167148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alloon XBd BT"/>
              </a:rPr>
              <a:t>48 % Águas Subterrân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alloon XBd BT"/>
              </a:rPr>
              <a:t>         </a:t>
            </a:r>
            <a:r>
              <a:rPr b="0" lang="pt-BR" sz="2000" spc="-1" strike="noStrike">
                <a:solidFill>
                  <a:srgbClr val="ffffff"/>
                </a:solidFill>
                <a:latin typeface="Balloon XBd BT"/>
              </a:rPr>
              <a:t>até 800 m de Pro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268452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alloon XBd BT"/>
              </a:rPr>
              <a:t>49 % Águas subterrâneas a mais de 800 m de  Pro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48680" y="406404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alloon XBd BT"/>
              </a:rPr>
              <a:t>0,8 % Água no so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72520" y="4719600"/>
            <a:ext cx="285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alloon XBd BT"/>
              </a:rPr>
              <a:t>0,7 % vapor d´Água 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alloon XBd BT"/>
              </a:rPr>
              <a:t>          </a:t>
            </a:r>
            <a:r>
              <a:rPr b="0" lang="pt-BR" sz="2000" spc="-1" strike="noStrike">
                <a:solidFill>
                  <a:srgbClr val="ffffff"/>
                </a:solidFill>
                <a:latin typeface="Balloon XBd BT"/>
              </a:rPr>
              <a:t>atmosf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01600" y="5699160"/>
            <a:ext cx="24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alloon XBd BT"/>
              </a:rPr>
              <a:t>1,5 %  Rios e La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419720" y="1724040"/>
            <a:ext cx="914400" cy="4371840"/>
            <a:chOff x="4419720" y="1724040"/>
            <a:chExt cx="914400" cy="4371840"/>
          </a:xfrm>
        </p:grpSpPr>
        <p:sp>
          <p:nvSpPr>
            <p:cNvPr id="146" name=""/>
            <p:cNvSpPr/>
            <p:nvPr/>
          </p:nvSpPr>
          <p:spPr>
            <a:xfrm>
              <a:off x="4419720" y="1724040"/>
              <a:ext cx="914400" cy="45720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19720" y="2714760"/>
              <a:ext cx="914400" cy="45720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19720" y="4010040"/>
              <a:ext cx="914400" cy="45720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19720" y="4695840"/>
              <a:ext cx="914400" cy="45720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19720" y="5638680"/>
              <a:ext cx="914400" cy="45720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38080" y="518148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alloon XBd BT"/>
              </a:rPr>
              <a:t>Parte não contabilizada em rochas hidratadas e águas cona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rot="21584400">
            <a:off x="2436120" y="86796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Circulação da Água Subterrâne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9280" y="175248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Hipodérmica (geralmente freáticas de circulação de baixa profundia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41-nasa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509480" cy="2895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990720" y="464652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alloon XBd BT"/>
              </a:rPr>
              <a:t>A circulação da Água subterrânea é um processo de baixa velocidade, onde há a dissolução e precipitação de s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19280" y="332100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Circulação profunda (alto tempo de circulaçã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 rot="21584400">
            <a:off x="914040" y="86796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Águas Minera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90512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alloon XBd BT"/>
              </a:rPr>
              <a:t>Quando a água natural tem uma concentração de sais, estável no tempo, que conferem-na características benéficas à saúde e possuem  viabilidade de aproveitamento econômico para o consumo ou uso direto é classificada como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Balloon XBd BT"/>
              </a:rPr>
              <a:t>ÁGUA MI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 rot="21584400">
            <a:off x="914040" y="86796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Águas Minerais I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986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do TEMPO de circulação  subterrân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alloon XBd BT"/>
              </a:rPr>
              <a:t>A sua ocorrência depende geralmente (há exceções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3778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da reatividade das rochas por onde circ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47689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dos fenômenos dispersivos, difusivos, não-saturativos, transformativos, retardativos ou atenuativos</a:t>
            </a:r>
            <a:r>
              <a:rPr b="0" lang="pt-BR" sz="2400" spc="-1" strike="noStrike">
                <a:solidFill>
                  <a:srgbClr val="ffffff"/>
                </a:solidFill>
                <a:latin typeface="Balloon XBd BT"/>
              </a:rPr>
              <a:t> dessa circul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rot="21584400">
            <a:off x="914040" y="86796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Águas Minerais II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24382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pouca conexão com os recursos hídricos superficiais ou de longo prazo de renov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1905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Característ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7339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ocorrência localizada às condicionantes hidrogeológ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4724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geralmente com alta rigidez locac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729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alloon XBd BT"/>
              </a:rPr>
              <a:t>SIMILAR AOS RECURSOS MINERAIS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rot="21584400">
            <a:off x="912600" y="863640"/>
            <a:ext cx="82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Águas Minerais e Recursos Hídr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24382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recursos minerais são bens de domínio da União (C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905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Situação Constitucion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33973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Águas subterrâneas são bens de domínio dos estados (C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53784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alloon XBd BT"/>
              </a:rPr>
              <a:t>POTENCIAL DE CONFLITOS DE COMPETÊNCIAS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0320" y="43117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Cabe à União instituir um Sistema Nacional de Recursos Hídricos (C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7:20:20Z</dcterms:created>
  <dc:creator>Claudio</dc:creator>
  <dc:description/>
  <dc:language>en-US</dc:language>
  <cp:lastModifiedBy>Marcelo Taylor de Lima</cp:lastModifiedBy>
  <dcterms:modified xsi:type="dcterms:W3CDTF">2004-08-11T13:57:56Z</dcterms:modified>
  <cp:revision>65</cp:revision>
  <dc:subject/>
  <dc:title>A Gestão de Recursos Hídricos e o Desenvolvimento Industrial no Estado do Rio de Janeiro</dc:title>
</cp:coreProperties>
</file>