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BB96-79D4-4F01-A5F8-FD8A19531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3855-DEDB-40C4-87BF-D1628549C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3356-98DD-4648-9500-EDD1833A2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AF44-2CE1-49B2-97AD-EF332E00E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873F1-70B6-4018-9116-257964254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9CC9A-6F28-43A9-BEE0-4D3288C25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144B6-CC6B-43B1-8EAC-E28A80525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CBA79-C35D-4DC0-9FF5-89BF2893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9B4D9-CF91-4D1A-A772-5C1B0163E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8967A-7027-4CAB-8ED9-DAC01D4D4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DCE9C-D83B-4367-97C7-9936724B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7882-EF19-4D02-8CD2-E7C658339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5E560-263B-4D43-A5B9-4B3E8D81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03DFF-D1C6-4E63-95B5-6226FAB6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A1E63-E6BB-47CA-886D-3DB9EDF9A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ACD35-23A5-45BF-9EEB-560AC65F6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E30BB-7014-46F0-BA71-A25C90591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60A4-C694-47DB-877B-839AF36FC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CCC2-0038-4C29-84F5-1B7142688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C4A0-665F-4D41-BDFC-15627BBA4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6012-529A-45E9-9695-F1554B011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3802-962E-46E7-9D34-6EC7B36B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1263-3C9E-45E4-848F-B88C4F57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52FF-9EB5-4B3C-938B-CAE22CFA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0E6B0-9A7C-4814-9FEF-28F343316CA5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B2013-B7D8-4FDB-9770-F6D44DD3D9C4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838080" y="685800"/>
          <a:ext cx="2514600" cy="99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685800"/>
                    <a:ext cx="2514600" cy="99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447920" y="18284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5b5249"/>
                </a:solidFill>
                <a:latin typeface="Arial"/>
              </a:rPr>
              <a:t>SEMINÁRIO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5b5249"/>
                </a:solidFill>
                <a:latin typeface="Arial"/>
              </a:rPr>
              <a:t>ÁGUAS MINERAIS E POTÁVEIS DE MESA E SUA INSERÇÃO NO CICLO HIDROLÓGIC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5b5249"/>
                </a:solidFill>
                <a:latin typeface="Arial"/>
              </a:rPr>
              <a:t>Sebastião Peixoto Filh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5b5249"/>
                </a:solidFill>
                <a:latin typeface="Arial"/>
              </a:rPr>
              <a:t>Geólogo-Hidrogeólogo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0" y="2033640"/>
          <a:ext cx="9144000" cy="414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33640"/>
                    <a:ext cx="9144000" cy="41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6600"/>
            </a:b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2400" cy="54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2a3d7a"/>
                </a:solidFill>
                <a:latin typeface="Arial"/>
              </a:rPr>
              <a:t>Tipos de águas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5b5249"/>
                </a:solidFill>
                <a:latin typeface="Arial"/>
              </a:rPr>
              <a:t>ÁGUA CONATA (Connate Water): água contida em um sedimento no momento de sua deposição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5b5249"/>
                </a:solidFill>
                <a:latin typeface="Arial"/>
              </a:rPr>
              <a:t>ÁGUA DIAGENÉTICA (Water of Diagenesis) : água expulsa das litologias em função de compressão, por processos litogenéticos ou metamórficos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5b5249"/>
                </a:solidFill>
                <a:latin typeface="Arial"/>
              </a:rPr>
              <a:t>ÁGUA FÓSSIL (Fossile Water) : água contida em um aqüífero, que infiltrada em época geológica cujas condições climáticas e morfológicas eram diferentes das atuais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5b5249"/>
                </a:solidFill>
                <a:latin typeface="Arial"/>
              </a:rPr>
              <a:t>ÁGUA JUVENIL (Juvenile Water) : água derivada diretamente do magma e que entra pela primeira vez no ciclo hídrico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5b5249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5b5249"/>
                </a:solidFill>
                <a:latin typeface="Arial"/>
              </a:rPr>
              <a:t>ÁGUA METEÓRICA : água de origem atmosférica.</a:t>
            </a:r>
            <a:br>
              <a:rPr sz="2000"/>
            </a:br>
            <a:r>
              <a:rPr b="1" lang="pt-BR" sz="2000" spc="-1" strike="noStrike">
                <a:solidFill>
                  <a:srgbClr val="5b524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Arial"/>
              </a:rPr>
              <a:t>Aproveitamento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5b5249"/>
                </a:solidFill>
                <a:latin typeface="Arial"/>
              </a:rPr>
              <a:t>Envasamento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5b5249"/>
                </a:solidFill>
                <a:latin typeface="Arial"/>
              </a:rPr>
              <a:t>Balneabilidade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Arial"/>
              </a:rPr>
              <a:t>Conclusõe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5b5249"/>
                </a:solidFill>
                <a:latin typeface="Arial"/>
              </a:rPr>
              <a:t>As águas Minerais possuem em sua composição valor agregados como: sais minerais, calor, minerais raros, gases dissolvidos que as tornam diferenciadas das denominadas águas comuns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5b5249"/>
                </a:solidFill>
                <a:latin typeface="Arial"/>
              </a:rPr>
              <a:t>No Mundo todo as minerais tem um tratamento diferenciado ( legislação específica)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5b5249"/>
                </a:solidFill>
                <a:latin typeface="Arial"/>
              </a:rPr>
              <a:t>As águas de Caldas Novas são termominerais, a cidade de Caldas Novas está quase coberta por áreas com alvará de pesquisa ou concessões de Lavras e encontra-se em equilíbrio porque o DNPM a 25 anos está exercendo o gerenciamento e monitoramento do sistema aquífero</a:t>
            </a:r>
            <a:r>
              <a:rPr b="0" lang="pt-BR" sz="1800" spc="-1" strike="noStrike">
                <a:solidFill>
                  <a:srgbClr val="5b524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5b5249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Gestão das Águas Minerais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5b5249"/>
                </a:solidFill>
                <a:latin typeface="Arial"/>
              </a:rPr>
              <a:t>O total de uma fonte captada: o consumo em algumas fontes  consumo de águas e gestão desde a captação, a forma de captação, a higiene na  desse bem mineral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5b5249"/>
                </a:solidFill>
                <a:latin typeface="Arial"/>
              </a:rPr>
              <a:t>Águas Minerais dão origem a industrias que geram empregos e movimenta a economia local, em alguns locais permitiram o surgimento de novos municípios, como ex:Caldas Novas, Rio Quente, Lagoa Santa etc., ou transformando cidades pequenas em pólos turisticos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Arial"/>
              </a:rPr>
              <a:t>Origem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5b5249"/>
                </a:solidFill>
                <a:latin typeface="Arial"/>
              </a:rPr>
              <a:t>Água Juvenil (Juvenile Water):  água  derivada diretamente do magma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5b524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5b5249"/>
                </a:solidFill>
                <a:latin typeface="Arial"/>
              </a:rPr>
              <a:t>Águas Meteóricas : oriundas das precipitações atmosféricas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2a3d7a"/>
                </a:solidFill>
                <a:latin typeface="Arial"/>
              </a:rPr>
              <a:t>Meteoric Water Line (Craig, 1961</a:t>
            </a:r>
            <a:r>
              <a:rPr b="1" lang="de-DE" sz="4400" spc="-1" strike="noStrike">
                <a:solidFill>
                  <a:srgbClr val="2a3d7a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066680" y="2692440"/>
            <a:ext cx="3814920" cy="29336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024520" y="2725560"/>
            <a:ext cx="381456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</a:rPr>
              <a:t>Circulação das Água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9480" indent="-42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5b5249"/>
                </a:solidFill>
                <a:latin typeface="Arial"/>
              </a:rPr>
              <a:t>Zonas de Cargas : áreas em que as águas circulam de pontos de maior energia potencial em direção aos pontos de menor energia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29480" indent="-42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5b5249"/>
                </a:solidFill>
                <a:latin typeface="Arial"/>
              </a:rPr>
              <a:t>Fluxo e Potencialidades dos aqüíferos dependem do esqueleto sólido (litologia)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29480" indent="-42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5b5249"/>
                </a:solidFill>
                <a:latin typeface="Arial"/>
              </a:rPr>
              <a:t>Seguem pelas descontinuidades dos maciços rochosos ou pelos interstícios dos grãos das rochas porosas até os pontos de descargas 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2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772400" cy="54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5b5249"/>
                </a:solidFill>
                <a:latin typeface="Arial"/>
              </a:rPr>
              <a:t>Tipos de Aquíferos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5b5249"/>
                </a:solidFill>
                <a:latin typeface="Arial"/>
              </a:rPr>
              <a:t>Fissurais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5b5249"/>
                </a:solidFill>
                <a:latin typeface="Arial"/>
              </a:rPr>
              <a:t>Granular;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5b5249"/>
                </a:solidFill>
                <a:latin typeface="Arial"/>
              </a:rPr>
              <a:t>Cárstico; 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5b5249"/>
                </a:solidFill>
                <a:latin typeface="Arial"/>
              </a:rPr>
              <a:t>Misto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2a3d7a"/>
                </a:solidFill>
                <a:latin typeface="Arial"/>
              </a:rPr>
              <a:t>Mineralização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5b5249"/>
                </a:solidFill>
                <a:latin typeface="Arial"/>
              </a:rPr>
              <a:t>As Águas Minerais comportam-se como verdadeiros corpos mineralizados, ocorrem em espaços delimitados e apresentam características definidas, (</a:t>
            </a:r>
            <a:r>
              <a:rPr b="0" lang="pt-BR" sz="2800" spc="-1" strike="noStrike">
                <a:solidFill>
                  <a:srgbClr val="5b5249"/>
                </a:solidFill>
                <a:latin typeface="Arial"/>
              </a:rPr>
              <a:t>ex: Poços Caldas, Águas de Lindoia, Araxá, Caldas da Imperatriz, Barra do Garças, vários outras localidades)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5b5249"/>
                </a:solidFill>
                <a:latin typeface="Arial"/>
              </a:rPr>
              <a:t>As mineralização das águas dependem da interação entre </a:t>
            </a:r>
            <a:r>
              <a:rPr b="1" lang="pt-BR" sz="4000" spc="-1" strike="noStrike">
                <a:solidFill>
                  <a:srgbClr val="2a3d7a"/>
                </a:solidFill>
                <a:latin typeface="Arial"/>
              </a:rPr>
              <a:t>água / rocha</a:t>
            </a:r>
            <a:r>
              <a:rPr b="1" lang="pt-BR" sz="2800" spc="-1" strike="noStrike">
                <a:solidFill>
                  <a:srgbClr val="5b5249"/>
                </a:solidFill>
                <a:latin typeface="Arial"/>
              </a:rPr>
              <a:t> ( maior o tempo de trânsito, maior a interação, maior a mineralização).</a:t>
            </a:r>
            <a:r>
              <a:rPr b="1" lang="pt-BR" sz="1800" spc="-1" strike="noStrike">
                <a:solidFill>
                  <a:srgbClr val="5b524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835280" y="476280"/>
            <a:ext cx="53784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2a3d7a"/>
                </a:solidFill>
                <a:latin typeface="Arial"/>
              </a:rPr>
              <a:t>Sistema Hidrotermal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93800" y="2101680"/>
            <a:ext cx="6518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ff"/>
          </a:solidFill>
          <a:ln cap="sq"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28600" y="811080"/>
          <a:ext cx="8610480" cy="538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811080"/>
                    <a:ext cx="8610480" cy="538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1T18:20:49Z</dcterms:created>
  <dc:creator>USUARIO</dc:creator>
  <dc:description/>
  <dc:language>en-US</dc:language>
  <cp:lastModifiedBy>DNPM</cp:lastModifiedBy>
  <dcterms:modified xsi:type="dcterms:W3CDTF">2004-08-11T13:22:04Z</dcterms:modified>
  <cp:revision>17</cp:revision>
  <dc:subject/>
  <dc:title>ÁGUAS MINERAIS E POTAVEIS DE MESA E SUA INSERÇÃO NO CICLO HIDROLÓGICO</dc:title>
</cp:coreProperties>
</file>