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F9C-3A10-4F9B-AC75-1C518152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4676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030-E5E4-42F2-B919-760D884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A87-C7A7-41FC-A557-E5CD346A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3B6-D57E-498E-BB46-8B3B89EE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573-2876-4DFE-8795-12CE299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629-EBE6-42A9-8D9D-CD129944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ABA-AD37-482E-8439-2059D5A0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E54-D45A-49EF-BF1F-340F437E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9192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1BA-5F40-4029-8A85-9DF42A89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491-41D3-4EA0-8527-9EFEF65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A5D-3B14-4962-AEA7-D2B8E5D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240-8C4A-4864-914D-E7DF7C1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197160" cy="623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38c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3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38c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38c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26C-DFA0-490D-BAED-647C6E88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29b"/>
              </a:gs>
              <a:gs pos="100000">
                <a:srgbClr val="6cae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CONSELHO NACIONAL DE RECURSOS HÍDRICOS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- </a:t>
            </a:r>
            <a:r>
              <a:rPr b="1" lang="en-US" sz="2000" spc="-1" strike="noStrike">
                <a:solidFill>
                  <a:srgbClr val="ff9900"/>
                </a:solidFill>
                <a:latin typeface="Franklin Gothic Medium"/>
              </a:rPr>
              <a:t>74</a:t>
            </a:r>
            <a:r>
              <a:rPr b="1" lang="en-US" sz="2000" spc="-1" strike="noStrike" baseline="30000">
                <a:solidFill>
                  <a:srgbClr val="ff9900"/>
                </a:solidFill>
                <a:latin typeface="Franklin Gothic Medium"/>
              </a:rPr>
              <a:t>a</a:t>
            </a:r>
            <a:r>
              <a:rPr b="1" lang="en-US" sz="2000" spc="-1" strike="noStrike">
                <a:solidFill>
                  <a:srgbClr val="ff9900"/>
                </a:solidFill>
                <a:latin typeface="Franklin Gothic Medium"/>
              </a:rPr>
              <a:t> REUNIÃO DA CÂMARA TÉCNICA DE ANÁLISE DE PROJETO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64500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cd3"/>
                </a:solidFill>
                <a:latin typeface="Arial"/>
              </a:rPr>
              <a:t>Diretrizes Gerais para a Definição de Vazões Mínimas Reman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cd3"/>
                </a:solidFill>
                <a:latin typeface="Arial"/>
              </a:rPr>
              <a:t>Abril d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DIFICULDADES ATUAIS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Perda de energia firme em função da expansão do uso da água para irrigação de cultur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s reflexos do planejamento setorial no período 1960 a 1990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concessão da energia pela União e a outorga para a obra hidráulica pelos Estado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renovação das concessões ou a outorga dos aproveitamentos em operaçã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Franklin Gothic Medium"/>
              </a:rPr>
              <a:t>CASOS RECENTES DE CONFLITOS </a:t>
            </a: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dificuldade de planejamento do setor produtiv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eterno conflito entre os usos prioritários e os usos industri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discriminação com os usos industri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s limites de uso nos estados produtores de água: o caso de Minas Ger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falta de informações nas pequenas bacias e as distorções das metodologias de regionalização hidrológic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RELAÇÃO ENTRE HIDROLOGIA &amp; ECOLOGIA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238cd3"/>
                </a:solidFill>
                <a:uFillTx/>
                <a:latin typeface="Arial"/>
              </a:rPr>
              <a:t>Integração entre o regime hidrológico e o equilíbrio da biota aquática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de cheias que transborda para a planície de inundaçã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dominante que define a geometria da calha fluvial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que sustenta a funcionalidade ecológica do curso de água e a qualidade mínima das águ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que sustenta a sobrevivência das espécies superiores da ictiofaun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CONCEITO DO EQUILÍBRIO MORFODINÂMICO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0263" t="0" r="7770" b="0"/>
          <a:stretch/>
        </p:blipFill>
        <p:spPr>
          <a:xfrm>
            <a:off x="468360" y="1557360"/>
            <a:ext cx="8218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OS MÚLTIPLOS USOS DA ÁGUA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 utilização da água pelo homem, em escala maior que a de manutenção das necessidades básicas da vida, é feita por meio da implantação de OBRAS HIDRÁULIC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obras hidráulicas causam impactos nas relações de equilíbrio </a:t>
            </a:r>
            <a:r>
              <a:rPr b="1" i="1" lang="pt-BR" sz="2400" spc="-1" strike="noStrike">
                <a:solidFill>
                  <a:srgbClr val="238cd3"/>
                </a:solidFill>
                <a:latin typeface="Arial"/>
              </a:rPr>
              <a:t>Hidrologia x Ecologia Aquática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 e no </a:t>
            </a:r>
            <a:r>
              <a:rPr b="1" i="1" lang="pt-BR" sz="2400" spc="-1" strike="noStrike">
                <a:solidFill>
                  <a:srgbClr val="238cd3"/>
                </a:solidFill>
                <a:latin typeface="Arial"/>
              </a:rPr>
              <a:t>Equilíbrio Morfodinâmico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usos da água podem ser (i) conservativos, (ii) consuntivos ou (iii) restritivo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Normalmente, os múltiplos usos são conflitantes entre si (citar exemplos)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GESTÃO DE RECURSOS HÍDRICOS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água é um recurso renovável, porém finit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aumento da demanda pelos diversos usos da água cria pressões no meio ambiente que precisam ser GERENCIAD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legislação brasileira aplicada aos recursos hídricos reconhece e prevê os usos múltiplos e não apresenta preceitos de apropriação prioritári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instrumento de outorga funciona como regulador do uso da água, buscando compatibilizar as ofertas hídricas com as demandas definidas pelos diversos uso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UTORGA PARA IMPLANTAÇÃO DE OBRAS HIDRÁULICAS</a:t>
            </a:r>
            <a:endParaRPr b="0" lang="en-US" sz="24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obras hidráulicas de derivação de fluxo do curso de água (para uso conservativo ou consuntivo) devem atender a limites de fluxo remanescente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critérios de fixação de fluxo remanescente devem ser diferenciados entre obras para uso conservativo e obras para uso consuntiv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Planos Diretores de Bacias Hidrográficas devem fixar preceitos mínimos para os termos de alocação da água, com base nas vocações regionai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termos de alocação não podem ser modificados sem uma discussão ampla com a sociedade de usuários, mostrando não somente os impactos ambientais, mas também os impactos financeiros.        </a:t>
            </a:r>
            <a:r>
              <a:rPr b="1" lang="pt-BR" sz="2400" spc="-1" strike="noStrike" baseline="-25000">
                <a:solidFill>
                  <a:srgbClr val="238cd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A EVOLUÇÃO DOS CRITÉRIOS DE FIXAÇÃO DE FLUXO REMANESCENTE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primeiros decretos do DNAEE e respectivos prazos de validade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Portarias do DNAEE para a fixação de fluxo remanescente a jusante de barragens de usinas hidrelétric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 caso do estado de Minas Gerais com a vazão de referência Q</a:t>
            </a:r>
            <a:r>
              <a:rPr b="1" lang="pt-BR" sz="2400" spc="-1" strike="noStrike" baseline="-25000">
                <a:solidFill>
                  <a:srgbClr val="238cd3"/>
                </a:solidFill>
                <a:latin typeface="Arial"/>
              </a:rPr>
              <a:t>7,10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métodos mais modernos de análise (metodologias hidrológicas, metodologias hidráulicas, holísticas metodologias de preferência de habitat, metodologias )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IMPACTOS NEGATIVOS DO DESVIO DE FLUXO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conceito de TVR – Trecho de Vazão Reduzida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Usos consuntivos no TVR: abastecimento público, dessedentação de anim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Divisas de propriedad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Qualidade das águas com lançamento de efluentes ou aumento de temperatura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ormação de poças de água estagnada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Mortandade de peix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Dessedentação de animais silvestr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Rebaixamento do lençol freátic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Beleza cênica de cachoeir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ESTUDO DE CASOS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Paulo Afons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Salto Grande (CEMIG)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Gafanhoto (CEMIG)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s nas Niagara Fall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Aimorés (CEMIG/VALE)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08:26Z</dcterms:created>
  <dc:creator>malu</dc:creator>
  <dc:description/>
  <dc:language>en-US</dc:language>
  <cp:lastModifiedBy>Mário</cp:lastModifiedBy>
  <dcterms:modified xsi:type="dcterms:W3CDTF">2010-04-29T14:57:06Z</dcterms:modified>
  <cp:revision>155</cp:revision>
  <dc:subject/>
  <dc:title>Ferramentas Educacionais</dc:title>
</cp:coreProperties>
</file>