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103-8BCE-4CE4-85BD-32D533DD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46760"/>
            <a:ext cx="8218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2C2-EC37-43DD-B066-34306FDF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77300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4676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404676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0E1-14CC-46BE-8F13-F0D80EB7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26460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773000"/>
            <a:ext cx="26460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160" y="1773000"/>
            <a:ext cx="26460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46760"/>
            <a:ext cx="26460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4046760"/>
            <a:ext cx="26460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160" y="4046760"/>
            <a:ext cx="26460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3AE-43BA-4456-98EA-F083EE22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BAF-796B-49F0-A270-0F331DDA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DB8-3AF0-481C-BF3B-BA3D1A60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0104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773000"/>
            <a:ext cx="40104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F3D-10ED-45DA-B414-67BECB22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FEB-35C2-413E-846C-F4388F6E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69192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CE4-C5CF-447D-AF6E-AA982B54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773000"/>
            <a:ext cx="40104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4676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F33-D1ED-45D4-A22A-78C7296B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0104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77300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404676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5E0-006C-435A-AFB8-9ABA5A78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773000"/>
            <a:ext cx="40104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46760"/>
            <a:ext cx="8218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CF0-ECD1-404E-8260-90D43844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197160" cy="623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38c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38c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38c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38c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38c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4A74-9FA1-4C85-8F3D-E48C661A3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29b"/>
              </a:gs>
              <a:gs pos="100000">
                <a:srgbClr val="6cae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Franklin Gothic Medium"/>
              </a:rPr>
              <a:t>CONSELHO NACIONAL DE RECURSOS HÍDRICOS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Franklin Gothic Medium"/>
              </a:rPr>
              <a:t>- </a:t>
            </a:r>
            <a:r>
              <a:rPr b="1" lang="en-US" sz="2000" spc="-1" strike="noStrike">
                <a:solidFill>
                  <a:srgbClr val="ff9900"/>
                </a:solidFill>
                <a:latin typeface="Franklin Gothic Medium"/>
              </a:rPr>
              <a:t>74</a:t>
            </a:r>
            <a:r>
              <a:rPr b="1" lang="en-US" sz="2000" spc="-1" strike="noStrike" baseline="30000">
                <a:solidFill>
                  <a:srgbClr val="ff9900"/>
                </a:solidFill>
                <a:latin typeface="Franklin Gothic Medium"/>
              </a:rPr>
              <a:t>a</a:t>
            </a:r>
            <a:r>
              <a:rPr b="1" lang="en-US" sz="2000" spc="-1" strike="noStrike">
                <a:solidFill>
                  <a:srgbClr val="ff9900"/>
                </a:solidFill>
                <a:latin typeface="Franklin Gothic Medium"/>
              </a:rPr>
              <a:t> REUNIÃO DA CÂMARA TÉCNICA DE ANÁLISE DE PROJETO -</a:t>
            </a:r>
            <a:endParaRPr b="0" lang="en-US" sz="20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3645000"/>
            <a:ext cx="8280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cd3"/>
                </a:solidFill>
                <a:latin typeface="Arial"/>
              </a:rPr>
              <a:t>Diretrizes Gerais para a Definição de Vazões Mínimas Remanes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cd3"/>
                </a:solidFill>
                <a:latin typeface="Arial"/>
              </a:rPr>
              <a:t>Abril d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"/>
              </a:rPr>
              <a:t>O CASO ESPECIAL DOS APROVEITAMENTOS HIDRELÉTRICOS</a:t>
            </a:r>
            <a:br>
              <a:rPr sz="2400"/>
            </a:br>
            <a:r>
              <a:rPr b="0" lang="en-US" sz="2000" spc="-1" strike="noStrike">
                <a:solidFill>
                  <a:srgbClr val="ff9900"/>
                </a:solidFill>
                <a:latin typeface="Franklin Gothic Medium"/>
              </a:rPr>
              <a:t>- DIFICULDADES ATUAIS -</a:t>
            </a:r>
            <a:endParaRPr b="0" lang="en-US" sz="20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Perda de energia firme em função da expansão do uso da água para irrigação de cultura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Os reflexos do planejamento setorial no período 1960 a 1990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concessão da energia pela União e a outorga para a obra hidráulica pelos Estado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renovação das concessões ou a outorga dos aproveitamentos em operação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Franklin Gothic Medium"/>
              </a:rPr>
              <a:t>CASOS RECENTES DE CONFLITOS </a:t>
            </a: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dificuldade de planejamento do setor produtivo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O eterno conflito entre os usos prioritários e os usos industriai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discriminação com os usos industriai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Os limites de uso nos estados produtores de água: o caso de Minas Gerai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falta de informações nas pequenas bacias e as distorções das metodologias de regionalização hidrológica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RELAÇÃO ENTRE HIDROLOGIA &amp; ECOLOGIA</a:t>
            </a:r>
            <a:endParaRPr b="0" lang="en-US" sz="28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238cd3"/>
                </a:solidFill>
                <a:uFillTx/>
                <a:latin typeface="Arial"/>
              </a:rPr>
              <a:t>Integração entre o regime hidrológico e o equilíbrio da biota aquática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Vazão de cheias que transborda para a planície de inundação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Vazão dominante que define a geometria da calha fluvial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Vazão que sustenta a funcionalidade ecológica do curso de água e a qualidade mínima das água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Vazão que sustenta a sobrevivência das espécies superiores da ictiofauna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CONCEITO DO EQUILÍBRIO MORFODINÂMICO</a:t>
            </a:r>
            <a:endParaRPr b="0" lang="en-US" sz="2800" spc="-1" strike="noStrike">
              <a:solidFill>
                <a:srgbClr val="ff9900"/>
              </a:solidFill>
              <a:latin typeface="Franklin Gothic Medium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0263" t="0" r="7770" b="0"/>
          <a:stretch/>
        </p:blipFill>
        <p:spPr>
          <a:xfrm>
            <a:off x="468360" y="1557360"/>
            <a:ext cx="8218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OS MÚLTIPLOS USOS DA ÁGUA</a:t>
            </a:r>
            <a:endParaRPr b="0" lang="en-US" sz="28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18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A utilização da água pelo homem, em escala maior que a de manutenção das necessidades básicas da vida, é feita por meio da implantação de OBRAS HIDRÁULICAS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As obras hidráulicas causam impactos nas relações de equilíbrio </a:t>
            </a:r>
            <a:r>
              <a:rPr b="1" i="1" lang="pt-BR" sz="2400" spc="-1" strike="noStrike">
                <a:solidFill>
                  <a:srgbClr val="238cd3"/>
                </a:solidFill>
                <a:latin typeface="Arial"/>
              </a:rPr>
              <a:t>Hidrologia x Ecologia Aquática</a:t>
            </a: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 e no </a:t>
            </a:r>
            <a:r>
              <a:rPr b="1" i="1" lang="pt-BR" sz="2400" spc="-1" strike="noStrike">
                <a:solidFill>
                  <a:srgbClr val="238cd3"/>
                </a:solidFill>
                <a:latin typeface="Arial"/>
              </a:rPr>
              <a:t>Equilíbrio Morfodinâmico</a:t>
            </a: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s usos da água podem ser (i) conservativos, (ii) consuntivos ou (iii) restritivos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Normalmente, os múltiplos usos são conflitantes entre si (citar exemplos)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GESTÃO DE RECURSOS HÍDRICOS</a:t>
            </a:r>
            <a:endParaRPr b="0" lang="en-US" sz="28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água é um recurso renovável, porém finito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O aumento da demanda pelos diversos usos da água cria pressões no meio ambiente que precisam ser GERENCIADAS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A legislação brasileira aplicada aos recursos hídricos reconhece e prevê os usos múltiplos e não apresenta preceitos de apropriação prioritária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O instrumento de outorga funciona como regulador do uso da água, buscando compatibilizar as ofertas hídricas com as demandas definidas pelos diversos usos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"/>
              </a:rPr>
              <a:t>OUTORGA PARA IMPLANTAÇÃO DE OBRAS HIDRÁULICAS</a:t>
            </a:r>
            <a:endParaRPr b="0" lang="en-US" sz="24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As obras hidráulicas de derivação de fluxo do curso de água (para uso conservativo ou consuntivo) devem atender a limites de fluxo remanescente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s critérios de fixação de fluxo remanescente devem ser diferenciados entre obras para uso conservativo e obras para uso consuntivo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s Planos Diretores de Bacias Hidrográficas devem fixar preceitos mínimos para os termos de alocação da água, com base nas vocações regionais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s termos de alocação não podem ser modificados sem uma discussão ampla com a sociedade de usuários, mostrando não somente os impactos ambientais, mas também os impactos financeiros.        </a:t>
            </a:r>
            <a:r>
              <a:rPr b="1" lang="pt-BR" sz="2400" spc="-1" strike="noStrike" baseline="-25000">
                <a:solidFill>
                  <a:srgbClr val="238cd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A EVOLUÇÃO DOS CRITÉRIOS DE FIXAÇÃO DE FLUXO REMANESCENTE</a:t>
            </a:r>
            <a:endParaRPr b="0" lang="en-US" sz="28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s primeiros decretos do DNAEE e respectivos prazos de validade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As Portarias do DNAEE para a fixação de fluxo remanescente a jusante de barragens de usinas hidrelétrica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 caso do estado de Minas Gerais com a vazão de referência Q</a:t>
            </a:r>
            <a:r>
              <a:rPr b="1" lang="pt-BR" sz="2400" spc="-1" strike="noStrike" baseline="-25000">
                <a:solidFill>
                  <a:srgbClr val="238cd3"/>
                </a:solidFill>
                <a:latin typeface="Arial"/>
              </a:rPr>
              <a:t>7,10</a:t>
            </a: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Os métodos mais modernos de análise (metodologias hidrológicas, metodologias hidráulicas, holísticas metodologias de preferência de habitat, metodologias )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"/>
              </a:rPr>
              <a:t>O CASO ESPECIAL DOS APROVEITAMENTOS HIDRELÉTRICOS</a:t>
            </a:r>
            <a:br>
              <a:rPr sz="2400"/>
            </a:br>
            <a:r>
              <a:rPr b="0" lang="en-US" sz="2000" spc="-1" strike="noStrike">
                <a:solidFill>
                  <a:srgbClr val="ff9900"/>
                </a:solidFill>
                <a:latin typeface="Franklin Gothic Medium"/>
              </a:rPr>
              <a:t>- IMPACTOS NEGATIVOS DO DESVIO DE FLUXO -</a:t>
            </a:r>
            <a:endParaRPr b="0" lang="en-US" sz="20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O conceito de TVR – Trecho de Vazão Reduzida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Usos consuntivos no TVR: abastecimento público, dessedentação de animai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Divisas de propriedade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Qualidade das águas com lançamento de efluentes ou aumento de temperatura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Formação de poças de água estagnada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Mortandade de peixe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Dessedentação de animais silvestre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Rebaixamento do lençol freático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8cd3"/>
                </a:solidFill>
                <a:latin typeface="Arial"/>
              </a:rPr>
              <a:t>Beleza cênica de cachoeiras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"/>
              </a:rPr>
              <a:t>O CASO ESPECIAL DOS APROVEITAMENTOS HIDRELÉTRICOS</a:t>
            </a:r>
            <a:br>
              <a:rPr sz="2400"/>
            </a:br>
            <a:r>
              <a:rPr b="0" lang="en-US" sz="2000" spc="-1" strike="noStrike">
                <a:solidFill>
                  <a:srgbClr val="ff9900"/>
                </a:solidFill>
                <a:latin typeface="Franklin Gothic Medium"/>
              </a:rPr>
              <a:t>- ESTUDO DE CASOS -</a:t>
            </a:r>
            <a:endParaRPr b="0" lang="en-US" sz="2000" spc="-1" strike="noStrike">
              <a:solidFill>
                <a:srgbClr val="ff99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UHE Paulo Afonso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UHE Salto Grande (CEMIG)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UHE Gafanhoto (CEMIG)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UHEs nas Niagara Falls;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8cd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38cd3"/>
                </a:solidFill>
                <a:latin typeface="Arial"/>
              </a:rPr>
              <a:t>UHE Aimorés (CEMIG/VALE).</a:t>
            </a:r>
            <a:endParaRPr b="1" lang="en-US" sz="2400" spc="-1" strike="noStrike">
              <a:solidFill>
                <a:srgbClr val="238c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8:08:26Z</dcterms:created>
  <dc:creator>malu</dc:creator>
  <dc:description/>
  <dc:language>en-US</dc:language>
  <cp:lastModifiedBy>Mário</cp:lastModifiedBy>
  <dcterms:modified xsi:type="dcterms:W3CDTF">2010-04-29T14:57:06Z</dcterms:modified>
  <cp:revision>155</cp:revision>
  <dc:subject/>
  <dc:title>Ferramentas Educacionais</dc:title>
</cp:coreProperties>
</file>