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27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jpeg" ContentType="image/jpeg"/>
  <Override PartName="/ppt/media/image25.png" ContentType="image/png"/>
  <Override PartName="/ppt/media/image9.wmf" ContentType="image/x-wmf"/>
  <Override PartName="/ppt/media/image14.png" ContentType="image/png"/>
  <Override PartName="/ppt/media/image5.wmf" ContentType="image/x-wmf"/>
  <Override PartName="/ppt/media/image33.jpeg" ContentType="image/jpeg"/>
  <Override PartName="/ppt/media/image28.wmf" ContentType="image/x-wmf"/>
  <Override PartName="/ppt/media/image30.png" ContentType="image/png"/>
  <Override PartName="/ppt/media/image10.png" ContentType="image/png"/>
  <Override PartName="/ppt/media/image35.jpeg" ContentType="image/jpeg"/>
  <Override PartName="/ppt/media/image13.wmf" ContentType="image/x-wmf"/>
  <Override PartName="/ppt/media/image29.jpeg" ContentType="image/jpeg"/>
  <Override PartName="/ppt/media/image3.png" ContentType="image/png"/>
  <Override PartName="/ppt/media/image11.wmf" ContentType="image/x-wmf"/>
  <Override PartName="/ppt/media/image31.jpeg" ContentType="image/jpeg"/>
  <Override PartName="/ppt/media/image2.png" ContentType="image/png"/>
  <Override PartName="/ppt/media/image34.jpeg" ContentType="image/jpeg"/>
  <Override PartName="/ppt/media/image8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6.png" ContentType="image/png"/>
  <Override PartName="/ppt/media/image1.wmf" ContentType="image/x-wmf"/>
  <Override PartName="/ppt/media/image24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32.jpeg" ContentType="image/jpeg"/>
  <Override PartName="/ppt/media/image18.wmf" ContentType="image/x-wmf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A7C4-3DA8-4124-A3DF-BEFF22F328A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 txBox="1"/>
          <p:nvPr/>
        </p:nvSpPr>
        <p:spPr>
          <a:xfrm>
            <a:off x="388584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4FA7-51DE-404B-94B3-9AF100D51E2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-360" y="8478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388584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214280" y="701640"/>
            <a:ext cx="4427640" cy="3321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2960" y="4245120"/>
            <a:ext cx="5032080" cy="40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98440" y="669960"/>
            <a:ext cx="4462560" cy="33465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238280"/>
            <a:ext cx="5029200" cy="40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ARÊNCIA DE APOIO (OCUL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5A0-9FA4-450C-AE5B-65F61F77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6EC-FEE8-4261-A326-2F0C3C4D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D04C-E436-4002-AE5E-2E78AEA7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E048-9681-4F25-9467-BAD3014BF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E15C-BF3D-4981-8CC0-8B37D011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08C-50A2-4E3B-B6C8-3E554B37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E97D-245A-4117-BA86-39414F2F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9DE-22AD-41FA-B39B-8F16609D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09D-876B-4B9A-BD12-9256C765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BFE0-446D-4E67-A6CF-DA3649F7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7D3B-7BC0-43B2-BF53-6B64D2B2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65F-CE78-4E7B-93CB-8175E27F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5AF6-ADB5-4E19-A3F0-562C30731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685800" y="2666880"/>
            <a:ext cx="7797960" cy="1619280"/>
            <a:chOff x="685800" y="2666880"/>
            <a:chExt cx="7797960" cy="1619280"/>
          </a:xfrm>
        </p:grpSpPr>
        <p:sp>
          <p:nvSpPr>
            <p:cNvPr id="49" name=""/>
            <p:cNvSpPr/>
            <p:nvPr/>
          </p:nvSpPr>
          <p:spPr>
            <a:xfrm>
              <a:off x="703440" y="2666880"/>
              <a:ext cx="7780320" cy="1447920"/>
            </a:xfrm>
            <a:prstGeom prst="rect">
              <a:avLst/>
            </a:prstGeom>
            <a:gradFill rotWithShape="0">
              <a:gsLst>
                <a:gs pos="0">
                  <a:srgbClr val="0000cb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5120" y="2798640"/>
              <a:ext cx="76485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7fe"/>
                  </a:solidFill>
                  <a:latin typeface="Arial MT Black"/>
                </a:rPr>
                <a:t>A ENGENHARIA DE CONSTRUÇÃO D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7fe"/>
                  </a:solidFill>
                  <a:latin typeface="Arial MT Black"/>
                </a:rPr>
                <a:t>EXÉRCITO BRASILEIRO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4038480"/>
              <a:ext cx="7780320" cy="120600"/>
            </a:xfrm>
            <a:prstGeom prst="rect">
              <a:avLst/>
            </a:prstGeom>
            <a:gradFill rotWithShape="0">
              <a:gsLst>
                <a:gs pos="0">
                  <a:srgbClr val="00795b"/>
                </a:gs>
                <a:gs pos="50000">
                  <a:srgbClr val="00cc99"/>
                </a:gs>
                <a:gs pos="100000">
                  <a:srgbClr val="00795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4219560"/>
              <a:ext cx="7780320" cy="66600"/>
            </a:xfrm>
            <a:prstGeom prst="rect">
              <a:avLst/>
            </a:prstGeom>
            <a:gradFill rotWithShape="0">
              <a:gsLst>
                <a:gs pos="0">
                  <a:srgbClr val="b1468d"/>
                </a:gs>
                <a:gs pos="50000">
                  <a:srgbClr val="ff66cc"/>
                </a:gs>
                <a:gs pos="100000">
                  <a:srgbClr val="b146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9A5590C8-6AEB-4440-B85F-1E94BDDD17B5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238880" y="152280"/>
          <a:ext cx="190512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8880" y="152280"/>
                    <a:ext cx="1905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207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209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25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6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7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8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29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0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1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2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33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234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35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36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91A07990-D37C-4EC8-B660-9B5EE473709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240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242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5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58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59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0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1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2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3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4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5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66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267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68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9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7BCB50A7-6718-4FBA-A810-9DB8A5719A1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273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291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2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3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4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5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6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7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8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9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00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01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2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97E7219-E8C1-442B-9A41-F0F1996986F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306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308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309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324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5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6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7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8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29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0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1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32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33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34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35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6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DAB7F7E5-08CD-479B-9CE1-266D40F9111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339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340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342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4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357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8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59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0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1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2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3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4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65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66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67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68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14B3F1E6-F425-4BAD-9A06-1E4AE3874FE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372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374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390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1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4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5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399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00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01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F6CDEB1-28E8-409B-82F4-40B28993C68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7543800" y="278280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278280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19E883A2-B60C-42A9-A81C-487F7E70FF9E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1600200" y="1600200"/>
            <a:ext cx="6172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00"/>
                </a:solidFill>
                <a:latin typeface="Arial Black"/>
              </a:rPr>
              <a:t>2. Realizações da Engenharia Militar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1680" y="5578200"/>
            <a:ext cx="790596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VIADUTO DO EXÉRCITO (EF 491 - PASSO FUNDO - ROCA SALES - 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COM 509 m DE EXTENSÃO E 143 m DE ALTURA NO PILAR CENTR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É O MAIOR VIADUTO FERROVIÁRIO DAS AMÉ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 O SEGUNDO MAIS ALTO DO MUN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95492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492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CB63068-B6A6-4D73-A39A-36F7FD1CFC2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0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3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5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4480" y="5561640"/>
            <a:ext cx="8915400" cy="10994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TÚNEL Nº 21 -TRONCO SU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COM 2.832 m DE EXTENSÃO, É O MAIOR TÚNEL FERROVIÁRIO DO BRASIL E O SEGUNDO DA AMÉRICA DO SU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763120" y="670572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0F76EE3D-0CC4-4B60-AA18-B197C59E99BC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EC8483A9-07A2-431C-9EC7-75A0C266899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33720" y="2362320"/>
            <a:ext cx="4876560" cy="7185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echo  CASCAVEL  -  GUARAPUA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anos de trabalho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4743360"/>
            <a:ext cx="4800600" cy="1131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48 Km de ferrov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200 m de pontes (6)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iadutos (7) e  1 túnel de 400 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1058760" y="1655640"/>
            <a:ext cx="6967800" cy="630360"/>
            <a:chOff x="1058760" y="1655640"/>
            <a:chExt cx="6967800" cy="630360"/>
          </a:xfrm>
        </p:grpSpPr>
        <p:pic>
          <p:nvPicPr>
            <p:cNvPr id="441" name="" descr=""/>
            <p:cNvPicPr/>
            <p:nvPr/>
          </p:nvPicPr>
          <p:blipFill>
            <a:blip r:embed="rId7"/>
            <a:stretch/>
          </p:blipFill>
          <p:spPr>
            <a:xfrm>
              <a:off x="1058760" y="1655640"/>
              <a:ext cx="6967800" cy="6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1058760" y="1655640"/>
              <a:ext cx="6956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Futura XBlk BT"/>
                </a:rPr>
                <a:t>FERROES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76320" y="6058080"/>
            <a:ext cx="4647960" cy="769680"/>
          </a:xfrm>
          <a:prstGeom prst="rect">
            <a:avLst/>
          </a:prstGeom>
          <a:solidFill>
            <a:srgbClr val="0066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</a:rPr>
              <a:t>Prêmio  Revista  Ferroviá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 Black"/>
              </a:rPr>
              <a:t>Destaque Setorial - Ano 199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133720"/>
            <a:ext cx="9144000" cy="34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ossibilidades da Engenharia Mili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visando a sua possí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participação em obras de Segurança de Barragens.</a:t>
            </a: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304920"/>
          <a:ext cx="123372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7734240" y="638280"/>
          <a:ext cx="1069920" cy="134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34240" y="638280"/>
                    <a:ext cx="106992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A857602-B592-4EEF-97B5-BB99B48BD98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65520" y="3156120"/>
            <a:ext cx="1586160" cy="1112760"/>
          </a:xfrm>
          <a:custGeom>
            <a:avLst/>
            <a:gdLst/>
            <a:ahLst/>
            <a:rect l="l" t="t" r="r" b="b"/>
            <a:pathLst>
              <a:path w="1111" h="674">
                <a:moveTo>
                  <a:pt x="174" y="673"/>
                </a:moveTo>
                <a:lnTo>
                  <a:pt x="167" y="651"/>
                </a:lnTo>
                <a:lnTo>
                  <a:pt x="181" y="636"/>
                </a:lnTo>
                <a:lnTo>
                  <a:pt x="195" y="620"/>
                </a:lnTo>
                <a:lnTo>
                  <a:pt x="216" y="609"/>
                </a:lnTo>
                <a:lnTo>
                  <a:pt x="230" y="594"/>
                </a:lnTo>
                <a:lnTo>
                  <a:pt x="230" y="578"/>
                </a:lnTo>
                <a:lnTo>
                  <a:pt x="230" y="562"/>
                </a:lnTo>
                <a:lnTo>
                  <a:pt x="230" y="546"/>
                </a:lnTo>
                <a:lnTo>
                  <a:pt x="237" y="531"/>
                </a:lnTo>
                <a:lnTo>
                  <a:pt x="251" y="515"/>
                </a:lnTo>
                <a:lnTo>
                  <a:pt x="258" y="499"/>
                </a:lnTo>
                <a:lnTo>
                  <a:pt x="279" y="488"/>
                </a:lnTo>
                <a:lnTo>
                  <a:pt x="300" y="483"/>
                </a:lnTo>
                <a:lnTo>
                  <a:pt x="307" y="467"/>
                </a:lnTo>
                <a:lnTo>
                  <a:pt x="314" y="452"/>
                </a:lnTo>
                <a:lnTo>
                  <a:pt x="328" y="436"/>
                </a:lnTo>
                <a:lnTo>
                  <a:pt x="349" y="436"/>
                </a:lnTo>
                <a:lnTo>
                  <a:pt x="370" y="436"/>
                </a:lnTo>
                <a:lnTo>
                  <a:pt x="390" y="431"/>
                </a:lnTo>
                <a:lnTo>
                  <a:pt x="411" y="420"/>
                </a:lnTo>
                <a:lnTo>
                  <a:pt x="432" y="399"/>
                </a:lnTo>
                <a:lnTo>
                  <a:pt x="446" y="378"/>
                </a:lnTo>
                <a:lnTo>
                  <a:pt x="467" y="368"/>
                </a:lnTo>
                <a:lnTo>
                  <a:pt x="488" y="368"/>
                </a:lnTo>
                <a:lnTo>
                  <a:pt x="509" y="368"/>
                </a:lnTo>
                <a:lnTo>
                  <a:pt x="530" y="357"/>
                </a:lnTo>
                <a:lnTo>
                  <a:pt x="558" y="341"/>
                </a:lnTo>
                <a:lnTo>
                  <a:pt x="572" y="325"/>
                </a:lnTo>
                <a:lnTo>
                  <a:pt x="593" y="304"/>
                </a:lnTo>
                <a:lnTo>
                  <a:pt x="614" y="294"/>
                </a:lnTo>
                <a:lnTo>
                  <a:pt x="635" y="289"/>
                </a:lnTo>
                <a:lnTo>
                  <a:pt x="656" y="283"/>
                </a:lnTo>
                <a:lnTo>
                  <a:pt x="684" y="289"/>
                </a:lnTo>
                <a:lnTo>
                  <a:pt x="712" y="289"/>
                </a:lnTo>
                <a:lnTo>
                  <a:pt x="733" y="289"/>
                </a:lnTo>
                <a:lnTo>
                  <a:pt x="753" y="289"/>
                </a:lnTo>
                <a:lnTo>
                  <a:pt x="774" y="289"/>
                </a:lnTo>
                <a:lnTo>
                  <a:pt x="795" y="283"/>
                </a:lnTo>
                <a:lnTo>
                  <a:pt x="816" y="278"/>
                </a:lnTo>
                <a:lnTo>
                  <a:pt x="837" y="273"/>
                </a:lnTo>
                <a:lnTo>
                  <a:pt x="851" y="257"/>
                </a:lnTo>
                <a:lnTo>
                  <a:pt x="865" y="241"/>
                </a:lnTo>
                <a:lnTo>
                  <a:pt x="893" y="226"/>
                </a:lnTo>
                <a:lnTo>
                  <a:pt x="914" y="215"/>
                </a:lnTo>
                <a:lnTo>
                  <a:pt x="935" y="205"/>
                </a:lnTo>
                <a:lnTo>
                  <a:pt x="956" y="199"/>
                </a:lnTo>
                <a:lnTo>
                  <a:pt x="977" y="194"/>
                </a:lnTo>
                <a:lnTo>
                  <a:pt x="998" y="194"/>
                </a:lnTo>
                <a:lnTo>
                  <a:pt x="1019" y="194"/>
                </a:lnTo>
                <a:lnTo>
                  <a:pt x="1019" y="178"/>
                </a:lnTo>
                <a:lnTo>
                  <a:pt x="1033" y="162"/>
                </a:lnTo>
                <a:lnTo>
                  <a:pt x="1040" y="147"/>
                </a:lnTo>
                <a:lnTo>
                  <a:pt x="1040" y="131"/>
                </a:lnTo>
                <a:lnTo>
                  <a:pt x="1047" y="115"/>
                </a:lnTo>
                <a:lnTo>
                  <a:pt x="1068" y="105"/>
                </a:lnTo>
                <a:lnTo>
                  <a:pt x="1075" y="89"/>
                </a:lnTo>
                <a:lnTo>
                  <a:pt x="1089" y="73"/>
                </a:lnTo>
                <a:lnTo>
                  <a:pt x="1089" y="57"/>
                </a:lnTo>
                <a:lnTo>
                  <a:pt x="1110" y="52"/>
                </a:lnTo>
                <a:lnTo>
                  <a:pt x="788" y="42"/>
                </a:lnTo>
                <a:lnTo>
                  <a:pt x="767" y="0"/>
                </a:lnTo>
                <a:lnTo>
                  <a:pt x="740" y="5"/>
                </a:lnTo>
                <a:lnTo>
                  <a:pt x="698" y="10"/>
                </a:lnTo>
                <a:lnTo>
                  <a:pt x="670" y="26"/>
                </a:lnTo>
                <a:lnTo>
                  <a:pt x="649" y="36"/>
                </a:lnTo>
                <a:lnTo>
                  <a:pt x="628" y="47"/>
                </a:lnTo>
                <a:lnTo>
                  <a:pt x="607" y="63"/>
                </a:lnTo>
                <a:lnTo>
                  <a:pt x="586" y="73"/>
                </a:lnTo>
                <a:lnTo>
                  <a:pt x="544" y="84"/>
                </a:lnTo>
                <a:lnTo>
                  <a:pt x="516" y="94"/>
                </a:lnTo>
                <a:lnTo>
                  <a:pt x="474" y="105"/>
                </a:lnTo>
                <a:lnTo>
                  <a:pt x="446" y="115"/>
                </a:lnTo>
                <a:lnTo>
                  <a:pt x="404" y="120"/>
                </a:lnTo>
                <a:lnTo>
                  <a:pt x="376" y="136"/>
                </a:lnTo>
                <a:lnTo>
                  <a:pt x="356" y="152"/>
                </a:lnTo>
                <a:lnTo>
                  <a:pt x="342" y="173"/>
                </a:lnTo>
                <a:lnTo>
                  <a:pt x="314" y="194"/>
                </a:lnTo>
                <a:lnTo>
                  <a:pt x="300" y="226"/>
                </a:lnTo>
                <a:lnTo>
                  <a:pt x="258" y="257"/>
                </a:lnTo>
                <a:lnTo>
                  <a:pt x="216" y="268"/>
                </a:lnTo>
                <a:lnTo>
                  <a:pt x="202" y="299"/>
                </a:lnTo>
                <a:lnTo>
                  <a:pt x="160" y="310"/>
                </a:lnTo>
                <a:lnTo>
                  <a:pt x="132" y="331"/>
                </a:lnTo>
                <a:lnTo>
                  <a:pt x="111" y="341"/>
                </a:lnTo>
                <a:lnTo>
                  <a:pt x="90" y="362"/>
                </a:lnTo>
                <a:lnTo>
                  <a:pt x="69" y="399"/>
                </a:lnTo>
                <a:lnTo>
                  <a:pt x="55" y="441"/>
                </a:lnTo>
                <a:lnTo>
                  <a:pt x="48" y="462"/>
                </a:lnTo>
                <a:lnTo>
                  <a:pt x="41" y="478"/>
                </a:lnTo>
                <a:lnTo>
                  <a:pt x="34" y="494"/>
                </a:lnTo>
                <a:lnTo>
                  <a:pt x="27" y="510"/>
                </a:lnTo>
                <a:lnTo>
                  <a:pt x="20" y="525"/>
                </a:lnTo>
                <a:lnTo>
                  <a:pt x="6" y="541"/>
                </a:lnTo>
                <a:lnTo>
                  <a:pt x="0" y="557"/>
                </a:lnTo>
                <a:lnTo>
                  <a:pt x="174" y="673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06680" y="2043000"/>
            <a:ext cx="2462400" cy="1774800"/>
          </a:xfrm>
          <a:custGeom>
            <a:avLst/>
            <a:gdLst/>
            <a:ahLst/>
            <a:rect l="l" t="t" r="r" b="b"/>
            <a:pathLst>
              <a:path w="1724" h="1075">
                <a:moveTo>
                  <a:pt x="497" y="53"/>
                </a:moveTo>
                <a:lnTo>
                  <a:pt x="497" y="107"/>
                </a:lnTo>
                <a:lnTo>
                  <a:pt x="458" y="100"/>
                </a:lnTo>
                <a:lnTo>
                  <a:pt x="442" y="120"/>
                </a:lnTo>
                <a:lnTo>
                  <a:pt x="418" y="134"/>
                </a:lnTo>
                <a:lnTo>
                  <a:pt x="403" y="154"/>
                </a:lnTo>
                <a:lnTo>
                  <a:pt x="387" y="181"/>
                </a:lnTo>
                <a:lnTo>
                  <a:pt x="387" y="201"/>
                </a:lnTo>
                <a:lnTo>
                  <a:pt x="387" y="221"/>
                </a:lnTo>
                <a:lnTo>
                  <a:pt x="363" y="228"/>
                </a:lnTo>
                <a:lnTo>
                  <a:pt x="339" y="234"/>
                </a:lnTo>
                <a:lnTo>
                  <a:pt x="331" y="261"/>
                </a:lnTo>
                <a:lnTo>
                  <a:pt x="316" y="288"/>
                </a:lnTo>
                <a:lnTo>
                  <a:pt x="292" y="308"/>
                </a:lnTo>
                <a:lnTo>
                  <a:pt x="268" y="328"/>
                </a:lnTo>
                <a:lnTo>
                  <a:pt x="260" y="349"/>
                </a:lnTo>
                <a:lnTo>
                  <a:pt x="245" y="369"/>
                </a:lnTo>
                <a:lnTo>
                  <a:pt x="229" y="396"/>
                </a:lnTo>
                <a:lnTo>
                  <a:pt x="205" y="402"/>
                </a:lnTo>
                <a:lnTo>
                  <a:pt x="181" y="422"/>
                </a:lnTo>
                <a:lnTo>
                  <a:pt x="165" y="443"/>
                </a:lnTo>
                <a:lnTo>
                  <a:pt x="150" y="463"/>
                </a:lnTo>
                <a:lnTo>
                  <a:pt x="134" y="483"/>
                </a:lnTo>
                <a:lnTo>
                  <a:pt x="110" y="490"/>
                </a:lnTo>
                <a:lnTo>
                  <a:pt x="86" y="510"/>
                </a:lnTo>
                <a:lnTo>
                  <a:pt x="63" y="530"/>
                </a:lnTo>
                <a:lnTo>
                  <a:pt x="47" y="550"/>
                </a:lnTo>
                <a:lnTo>
                  <a:pt x="23" y="563"/>
                </a:lnTo>
                <a:lnTo>
                  <a:pt x="0" y="583"/>
                </a:lnTo>
                <a:lnTo>
                  <a:pt x="181" y="912"/>
                </a:lnTo>
                <a:lnTo>
                  <a:pt x="814" y="1074"/>
                </a:lnTo>
                <a:lnTo>
                  <a:pt x="1003" y="1020"/>
                </a:lnTo>
                <a:lnTo>
                  <a:pt x="980" y="1013"/>
                </a:lnTo>
                <a:lnTo>
                  <a:pt x="1003" y="1000"/>
                </a:lnTo>
                <a:lnTo>
                  <a:pt x="1027" y="980"/>
                </a:lnTo>
                <a:lnTo>
                  <a:pt x="1051" y="966"/>
                </a:lnTo>
                <a:lnTo>
                  <a:pt x="1074" y="966"/>
                </a:lnTo>
                <a:lnTo>
                  <a:pt x="1098" y="959"/>
                </a:lnTo>
                <a:lnTo>
                  <a:pt x="1106" y="939"/>
                </a:lnTo>
                <a:lnTo>
                  <a:pt x="1122" y="919"/>
                </a:lnTo>
                <a:lnTo>
                  <a:pt x="1146" y="912"/>
                </a:lnTo>
                <a:lnTo>
                  <a:pt x="1169" y="906"/>
                </a:lnTo>
                <a:lnTo>
                  <a:pt x="1193" y="886"/>
                </a:lnTo>
                <a:lnTo>
                  <a:pt x="1217" y="865"/>
                </a:lnTo>
                <a:lnTo>
                  <a:pt x="1232" y="845"/>
                </a:lnTo>
                <a:lnTo>
                  <a:pt x="1256" y="839"/>
                </a:lnTo>
                <a:lnTo>
                  <a:pt x="1288" y="832"/>
                </a:lnTo>
                <a:lnTo>
                  <a:pt x="1319" y="825"/>
                </a:lnTo>
                <a:lnTo>
                  <a:pt x="1343" y="825"/>
                </a:lnTo>
                <a:lnTo>
                  <a:pt x="1367" y="825"/>
                </a:lnTo>
                <a:lnTo>
                  <a:pt x="1391" y="825"/>
                </a:lnTo>
                <a:lnTo>
                  <a:pt x="1414" y="818"/>
                </a:lnTo>
                <a:lnTo>
                  <a:pt x="1438" y="812"/>
                </a:lnTo>
                <a:lnTo>
                  <a:pt x="1462" y="812"/>
                </a:lnTo>
                <a:lnTo>
                  <a:pt x="1485" y="812"/>
                </a:lnTo>
                <a:lnTo>
                  <a:pt x="1509" y="798"/>
                </a:lnTo>
                <a:lnTo>
                  <a:pt x="1525" y="778"/>
                </a:lnTo>
                <a:lnTo>
                  <a:pt x="1549" y="765"/>
                </a:lnTo>
                <a:lnTo>
                  <a:pt x="1572" y="758"/>
                </a:lnTo>
                <a:lnTo>
                  <a:pt x="1604" y="758"/>
                </a:lnTo>
                <a:lnTo>
                  <a:pt x="1620" y="738"/>
                </a:lnTo>
                <a:lnTo>
                  <a:pt x="1636" y="691"/>
                </a:lnTo>
                <a:lnTo>
                  <a:pt x="1651" y="671"/>
                </a:lnTo>
                <a:lnTo>
                  <a:pt x="1659" y="651"/>
                </a:lnTo>
                <a:lnTo>
                  <a:pt x="1659" y="630"/>
                </a:lnTo>
                <a:lnTo>
                  <a:pt x="1659" y="610"/>
                </a:lnTo>
                <a:lnTo>
                  <a:pt x="1683" y="597"/>
                </a:lnTo>
                <a:lnTo>
                  <a:pt x="1707" y="583"/>
                </a:lnTo>
                <a:lnTo>
                  <a:pt x="1715" y="563"/>
                </a:lnTo>
                <a:lnTo>
                  <a:pt x="1723" y="543"/>
                </a:lnTo>
                <a:lnTo>
                  <a:pt x="1723" y="516"/>
                </a:lnTo>
                <a:lnTo>
                  <a:pt x="1572" y="322"/>
                </a:lnTo>
                <a:lnTo>
                  <a:pt x="1130" y="0"/>
                </a:lnTo>
                <a:lnTo>
                  <a:pt x="1098" y="6"/>
                </a:lnTo>
                <a:lnTo>
                  <a:pt x="497" y="107"/>
                </a:lnTo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efefe"/>
              </a:gs>
            </a:gsLst>
            <a:lin ang="5400000"/>
          </a:gra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8120" y="2984400"/>
            <a:ext cx="1805040" cy="1165320"/>
          </a:xfrm>
          <a:custGeom>
            <a:avLst/>
            <a:gdLst/>
            <a:ahLst/>
            <a:rect l="l" t="t" r="r" b="b"/>
            <a:pathLst>
              <a:path w="1264" h="706">
                <a:moveTo>
                  <a:pt x="1263" y="443"/>
                </a:moveTo>
                <a:lnTo>
                  <a:pt x="1239" y="416"/>
                </a:lnTo>
                <a:lnTo>
                  <a:pt x="1215" y="416"/>
                </a:lnTo>
                <a:lnTo>
                  <a:pt x="1199" y="443"/>
                </a:lnTo>
                <a:lnTo>
                  <a:pt x="1176" y="456"/>
                </a:lnTo>
                <a:lnTo>
                  <a:pt x="1152" y="463"/>
                </a:lnTo>
                <a:lnTo>
                  <a:pt x="1136" y="443"/>
                </a:lnTo>
                <a:lnTo>
                  <a:pt x="1120" y="423"/>
                </a:lnTo>
                <a:lnTo>
                  <a:pt x="1113" y="402"/>
                </a:lnTo>
                <a:lnTo>
                  <a:pt x="1105" y="382"/>
                </a:lnTo>
                <a:lnTo>
                  <a:pt x="1097" y="362"/>
                </a:lnTo>
                <a:lnTo>
                  <a:pt x="1073" y="362"/>
                </a:lnTo>
                <a:lnTo>
                  <a:pt x="1049" y="362"/>
                </a:lnTo>
                <a:lnTo>
                  <a:pt x="1026" y="362"/>
                </a:lnTo>
                <a:lnTo>
                  <a:pt x="1002" y="362"/>
                </a:lnTo>
                <a:lnTo>
                  <a:pt x="978" y="362"/>
                </a:lnTo>
                <a:lnTo>
                  <a:pt x="955" y="335"/>
                </a:lnTo>
                <a:lnTo>
                  <a:pt x="939" y="308"/>
                </a:lnTo>
                <a:lnTo>
                  <a:pt x="939" y="288"/>
                </a:lnTo>
                <a:lnTo>
                  <a:pt x="931" y="268"/>
                </a:lnTo>
                <a:lnTo>
                  <a:pt x="931" y="248"/>
                </a:lnTo>
                <a:lnTo>
                  <a:pt x="931" y="228"/>
                </a:lnTo>
                <a:lnTo>
                  <a:pt x="931" y="201"/>
                </a:lnTo>
                <a:lnTo>
                  <a:pt x="915" y="174"/>
                </a:lnTo>
                <a:lnTo>
                  <a:pt x="899" y="147"/>
                </a:lnTo>
                <a:lnTo>
                  <a:pt x="876" y="134"/>
                </a:lnTo>
                <a:lnTo>
                  <a:pt x="852" y="120"/>
                </a:lnTo>
                <a:lnTo>
                  <a:pt x="828" y="120"/>
                </a:lnTo>
                <a:lnTo>
                  <a:pt x="805" y="120"/>
                </a:lnTo>
                <a:lnTo>
                  <a:pt x="781" y="120"/>
                </a:lnTo>
                <a:lnTo>
                  <a:pt x="773" y="147"/>
                </a:lnTo>
                <a:lnTo>
                  <a:pt x="749" y="147"/>
                </a:lnTo>
                <a:lnTo>
                  <a:pt x="734" y="127"/>
                </a:lnTo>
                <a:lnTo>
                  <a:pt x="718" y="107"/>
                </a:lnTo>
                <a:lnTo>
                  <a:pt x="694" y="80"/>
                </a:lnTo>
                <a:lnTo>
                  <a:pt x="670" y="67"/>
                </a:lnTo>
                <a:lnTo>
                  <a:pt x="647" y="67"/>
                </a:lnTo>
                <a:lnTo>
                  <a:pt x="615" y="67"/>
                </a:lnTo>
                <a:lnTo>
                  <a:pt x="592" y="80"/>
                </a:lnTo>
                <a:lnTo>
                  <a:pt x="568" y="67"/>
                </a:lnTo>
                <a:lnTo>
                  <a:pt x="544" y="67"/>
                </a:lnTo>
                <a:lnTo>
                  <a:pt x="528" y="47"/>
                </a:lnTo>
                <a:lnTo>
                  <a:pt x="505" y="26"/>
                </a:lnTo>
                <a:lnTo>
                  <a:pt x="481" y="20"/>
                </a:lnTo>
                <a:lnTo>
                  <a:pt x="457" y="20"/>
                </a:lnTo>
                <a:lnTo>
                  <a:pt x="434" y="13"/>
                </a:lnTo>
                <a:lnTo>
                  <a:pt x="410" y="6"/>
                </a:lnTo>
                <a:lnTo>
                  <a:pt x="363" y="0"/>
                </a:lnTo>
                <a:lnTo>
                  <a:pt x="339" y="0"/>
                </a:lnTo>
                <a:lnTo>
                  <a:pt x="284" y="0"/>
                </a:lnTo>
                <a:lnTo>
                  <a:pt x="236" y="6"/>
                </a:lnTo>
                <a:lnTo>
                  <a:pt x="205" y="13"/>
                </a:lnTo>
                <a:lnTo>
                  <a:pt x="189" y="33"/>
                </a:lnTo>
                <a:lnTo>
                  <a:pt x="173" y="53"/>
                </a:lnTo>
                <a:lnTo>
                  <a:pt x="157" y="73"/>
                </a:lnTo>
                <a:lnTo>
                  <a:pt x="134" y="94"/>
                </a:lnTo>
                <a:lnTo>
                  <a:pt x="126" y="114"/>
                </a:lnTo>
                <a:lnTo>
                  <a:pt x="110" y="134"/>
                </a:lnTo>
                <a:lnTo>
                  <a:pt x="86" y="147"/>
                </a:lnTo>
                <a:lnTo>
                  <a:pt x="63" y="161"/>
                </a:lnTo>
                <a:lnTo>
                  <a:pt x="39" y="167"/>
                </a:lnTo>
                <a:lnTo>
                  <a:pt x="23" y="188"/>
                </a:lnTo>
                <a:lnTo>
                  <a:pt x="23" y="208"/>
                </a:lnTo>
                <a:lnTo>
                  <a:pt x="15" y="228"/>
                </a:lnTo>
                <a:lnTo>
                  <a:pt x="15" y="248"/>
                </a:lnTo>
                <a:lnTo>
                  <a:pt x="15" y="275"/>
                </a:lnTo>
                <a:lnTo>
                  <a:pt x="0" y="295"/>
                </a:lnTo>
                <a:lnTo>
                  <a:pt x="0" y="315"/>
                </a:lnTo>
                <a:lnTo>
                  <a:pt x="0" y="335"/>
                </a:lnTo>
                <a:lnTo>
                  <a:pt x="0" y="355"/>
                </a:lnTo>
                <a:lnTo>
                  <a:pt x="23" y="369"/>
                </a:lnTo>
                <a:lnTo>
                  <a:pt x="55" y="376"/>
                </a:lnTo>
                <a:lnTo>
                  <a:pt x="78" y="376"/>
                </a:lnTo>
                <a:lnTo>
                  <a:pt x="102" y="389"/>
                </a:lnTo>
                <a:lnTo>
                  <a:pt x="94" y="409"/>
                </a:lnTo>
                <a:lnTo>
                  <a:pt x="78" y="429"/>
                </a:lnTo>
                <a:lnTo>
                  <a:pt x="78" y="449"/>
                </a:lnTo>
                <a:lnTo>
                  <a:pt x="71" y="470"/>
                </a:lnTo>
                <a:lnTo>
                  <a:pt x="71" y="490"/>
                </a:lnTo>
                <a:lnTo>
                  <a:pt x="94" y="503"/>
                </a:lnTo>
                <a:lnTo>
                  <a:pt x="118" y="510"/>
                </a:lnTo>
                <a:lnTo>
                  <a:pt x="118" y="530"/>
                </a:lnTo>
                <a:lnTo>
                  <a:pt x="118" y="550"/>
                </a:lnTo>
                <a:lnTo>
                  <a:pt x="118" y="570"/>
                </a:lnTo>
                <a:lnTo>
                  <a:pt x="126" y="590"/>
                </a:lnTo>
                <a:lnTo>
                  <a:pt x="149" y="604"/>
                </a:lnTo>
                <a:lnTo>
                  <a:pt x="181" y="604"/>
                </a:lnTo>
                <a:lnTo>
                  <a:pt x="213" y="604"/>
                </a:lnTo>
                <a:lnTo>
                  <a:pt x="236" y="611"/>
                </a:lnTo>
                <a:lnTo>
                  <a:pt x="268" y="611"/>
                </a:lnTo>
                <a:lnTo>
                  <a:pt x="299" y="617"/>
                </a:lnTo>
                <a:lnTo>
                  <a:pt x="347" y="624"/>
                </a:lnTo>
                <a:lnTo>
                  <a:pt x="394" y="631"/>
                </a:lnTo>
                <a:lnTo>
                  <a:pt x="426" y="644"/>
                </a:lnTo>
                <a:lnTo>
                  <a:pt x="449" y="658"/>
                </a:lnTo>
                <a:lnTo>
                  <a:pt x="497" y="671"/>
                </a:lnTo>
                <a:lnTo>
                  <a:pt x="520" y="678"/>
                </a:lnTo>
                <a:lnTo>
                  <a:pt x="544" y="684"/>
                </a:lnTo>
                <a:lnTo>
                  <a:pt x="568" y="698"/>
                </a:lnTo>
                <a:lnTo>
                  <a:pt x="592" y="705"/>
                </a:lnTo>
                <a:lnTo>
                  <a:pt x="615" y="705"/>
                </a:lnTo>
                <a:lnTo>
                  <a:pt x="639" y="684"/>
                </a:lnTo>
                <a:lnTo>
                  <a:pt x="663" y="671"/>
                </a:lnTo>
                <a:lnTo>
                  <a:pt x="686" y="658"/>
                </a:lnTo>
                <a:lnTo>
                  <a:pt x="710" y="631"/>
                </a:lnTo>
                <a:lnTo>
                  <a:pt x="734" y="617"/>
                </a:lnTo>
                <a:lnTo>
                  <a:pt x="765" y="617"/>
                </a:lnTo>
                <a:lnTo>
                  <a:pt x="789" y="617"/>
                </a:lnTo>
                <a:lnTo>
                  <a:pt x="813" y="617"/>
                </a:lnTo>
                <a:lnTo>
                  <a:pt x="836" y="631"/>
                </a:lnTo>
                <a:lnTo>
                  <a:pt x="860" y="631"/>
                </a:lnTo>
                <a:lnTo>
                  <a:pt x="884" y="631"/>
                </a:lnTo>
                <a:lnTo>
                  <a:pt x="907" y="624"/>
                </a:lnTo>
                <a:lnTo>
                  <a:pt x="931" y="611"/>
                </a:lnTo>
                <a:lnTo>
                  <a:pt x="955" y="604"/>
                </a:lnTo>
                <a:lnTo>
                  <a:pt x="1002" y="604"/>
                </a:lnTo>
                <a:lnTo>
                  <a:pt x="1034" y="631"/>
                </a:lnTo>
                <a:lnTo>
                  <a:pt x="1057" y="644"/>
                </a:lnTo>
                <a:lnTo>
                  <a:pt x="1081" y="637"/>
                </a:lnTo>
                <a:lnTo>
                  <a:pt x="1105" y="624"/>
                </a:lnTo>
                <a:lnTo>
                  <a:pt x="1120" y="604"/>
                </a:lnTo>
                <a:lnTo>
                  <a:pt x="1144" y="590"/>
                </a:lnTo>
                <a:lnTo>
                  <a:pt x="1152" y="564"/>
                </a:lnTo>
                <a:lnTo>
                  <a:pt x="1160" y="537"/>
                </a:lnTo>
                <a:lnTo>
                  <a:pt x="1184" y="517"/>
                </a:lnTo>
                <a:lnTo>
                  <a:pt x="1184" y="496"/>
                </a:lnTo>
                <a:lnTo>
                  <a:pt x="1199" y="470"/>
                </a:lnTo>
                <a:lnTo>
                  <a:pt x="1215" y="449"/>
                </a:lnTo>
                <a:lnTo>
                  <a:pt x="1199" y="443"/>
                </a:lnTo>
              </a:path>
            </a:pathLst>
          </a:custGeom>
          <a:gradFill rotWithShape="0">
            <a:gsLst>
              <a:gs pos="0">
                <a:srgbClr val="ffcc99"/>
              </a:gs>
              <a:gs pos="100000">
                <a:srgbClr val="fefefe"/>
              </a:gs>
            </a:gsLst>
            <a:lin ang="5400000"/>
          </a:gra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933720" y="1119240"/>
            <a:ext cx="3251160" cy="1984320"/>
          </a:xfrm>
          <a:custGeom>
            <a:avLst/>
            <a:gdLst/>
            <a:ahLst/>
            <a:rect l="l" t="t" r="r" b="b"/>
            <a:pathLst>
              <a:path w="2275" h="1202">
                <a:moveTo>
                  <a:pt x="64" y="684"/>
                </a:moveTo>
                <a:lnTo>
                  <a:pt x="72" y="711"/>
                </a:lnTo>
                <a:lnTo>
                  <a:pt x="96" y="711"/>
                </a:lnTo>
                <a:lnTo>
                  <a:pt x="120" y="711"/>
                </a:lnTo>
                <a:lnTo>
                  <a:pt x="144" y="711"/>
                </a:lnTo>
                <a:lnTo>
                  <a:pt x="168" y="711"/>
                </a:lnTo>
                <a:lnTo>
                  <a:pt x="192" y="711"/>
                </a:lnTo>
                <a:lnTo>
                  <a:pt x="216" y="724"/>
                </a:lnTo>
                <a:lnTo>
                  <a:pt x="233" y="744"/>
                </a:lnTo>
                <a:lnTo>
                  <a:pt x="265" y="744"/>
                </a:lnTo>
                <a:lnTo>
                  <a:pt x="297" y="738"/>
                </a:lnTo>
                <a:lnTo>
                  <a:pt x="321" y="738"/>
                </a:lnTo>
                <a:lnTo>
                  <a:pt x="353" y="751"/>
                </a:lnTo>
                <a:lnTo>
                  <a:pt x="377" y="764"/>
                </a:lnTo>
                <a:lnTo>
                  <a:pt x="401" y="771"/>
                </a:lnTo>
                <a:lnTo>
                  <a:pt x="449" y="778"/>
                </a:lnTo>
                <a:lnTo>
                  <a:pt x="474" y="778"/>
                </a:lnTo>
                <a:lnTo>
                  <a:pt x="498" y="764"/>
                </a:lnTo>
                <a:lnTo>
                  <a:pt x="522" y="751"/>
                </a:lnTo>
                <a:lnTo>
                  <a:pt x="546" y="751"/>
                </a:lnTo>
                <a:lnTo>
                  <a:pt x="570" y="738"/>
                </a:lnTo>
                <a:lnTo>
                  <a:pt x="594" y="738"/>
                </a:lnTo>
                <a:lnTo>
                  <a:pt x="618" y="744"/>
                </a:lnTo>
                <a:lnTo>
                  <a:pt x="642" y="744"/>
                </a:lnTo>
                <a:lnTo>
                  <a:pt x="666" y="744"/>
                </a:lnTo>
                <a:lnTo>
                  <a:pt x="691" y="738"/>
                </a:lnTo>
                <a:lnTo>
                  <a:pt x="755" y="751"/>
                </a:lnTo>
                <a:lnTo>
                  <a:pt x="779" y="751"/>
                </a:lnTo>
                <a:lnTo>
                  <a:pt x="843" y="771"/>
                </a:lnTo>
                <a:lnTo>
                  <a:pt x="859" y="791"/>
                </a:lnTo>
                <a:lnTo>
                  <a:pt x="867" y="811"/>
                </a:lnTo>
                <a:lnTo>
                  <a:pt x="867" y="831"/>
                </a:lnTo>
                <a:lnTo>
                  <a:pt x="867" y="852"/>
                </a:lnTo>
                <a:lnTo>
                  <a:pt x="851" y="872"/>
                </a:lnTo>
                <a:lnTo>
                  <a:pt x="867" y="892"/>
                </a:lnTo>
                <a:lnTo>
                  <a:pt x="875" y="912"/>
                </a:lnTo>
                <a:lnTo>
                  <a:pt x="891" y="932"/>
                </a:lnTo>
                <a:lnTo>
                  <a:pt x="924" y="946"/>
                </a:lnTo>
                <a:lnTo>
                  <a:pt x="948" y="952"/>
                </a:lnTo>
                <a:lnTo>
                  <a:pt x="972" y="966"/>
                </a:lnTo>
                <a:lnTo>
                  <a:pt x="996" y="979"/>
                </a:lnTo>
                <a:lnTo>
                  <a:pt x="1004" y="999"/>
                </a:lnTo>
                <a:lnTo>
                  <a:pt x="1012" y="1019"/>
                </a:lnTo>
                <a:lnTo>
                  <a:pt x="1012" y="1039"/>
                </a:lnTo>
                <a:lnTo>
                  <a:pt x="996" y="1060"/>
                </a:lnTo>
                <a:lnTo>
                  <a:pt x="980" y="1080"/>
                </a:lnTo>
                <a:lnTo>
                  <a:pt x="980" y="1100"/>
                </a:lnTo>
                <a:lnTo>
                  <a:pt x="980" y="1120"/>
                </a:lnTo>
                <a:lnTo>
                  <a:pt x="972" y="1140"/>
                </a:lnTo>
                <a:lnTo>
                  <a:pt x="956" y="1160"/>
                </a:lnTo>
                <a:lnTo>
                  <a:pt x="964" y="1180"/>
                </a:lnTo>
                <a:lnTo>
                  <a:pt x="988" y="1194"/>
                </a:lnTo>
                <a:lnTo>
                  <a:pt x="1012" y="1194"/>
                </a:lnTo>
                <a:lnTo>
                  <a:pt x="1036" y="1194"/>
                </a:lnTo>
                <a:lnTo>
                  <a:pt x="1068" y="1201"/>
                </a:lnTo>
                <a:lnTo>
                  <a:pt x="1092" y="1201"/>
                </a:lnTo>
                <a:lnTo>
                  <a:pt x="1124" y="1201"/>
                </a:lnTo>
                <a:lnTo>
                  <a:pt x="1149" y="1187"/>
                </a:lnTo>
                <a:lnTo>
                  <a:pt x="1165" y="1167"/>
                </a:lnTo>
                <a:lnTo>
                  <a:pt x="1181" y="1147"/>
                </a:lnTo>
                <a:lnTo>
                  <a:pt x="1189" y="1127"/>
                </a:lnTo>
                <a:lnTo>
                  <a:pt x="1213" y="1113"/>
                </a:lnTo>
                <a:lnTo>
                  <a:pt x="1237" y="1113"/>
                </a:lnTo>
                <a:lnTo>
                  <a:pt x="1221" y="1113"/>
                </a:lnTo>
                <a:lnTo>
                  <a:pt x="1245" y="1113"/>
                </a:lnTo>
                <a:lnTo>
                  <a:pt x="1253" y="1093"/>
                </a:lnTo>
                <a:lnTo>
                  <a:pt x="1261" y="1073"/>
                </a:lnTo>
                <a:lnTo>
                  <a:pt x="1285" y="1073"/>
                </a:lnTo>
                <a:lnTo>
                  <a:pt x="1309" y="1073"/>
                </a:lnTo>
                <a:lnTo>
                  <a:pt x="1333" y="1080"/>
                </a:lnTo>
                <a:lnTo>
                  <a:pt x="1357" y="1086"/>
                </a:lnTo>
                <a:lnTo>
                  <a:pt x="1382" y="1086"/>
                </a:lnTo>
                <a:lnTo>
                  <a:pt x="1406" y="1093"/>
                </a:lnTo>
                <a:lnTo>
                  <a:pt x="1430" y="1100"/>
                </a:lnTo>
                <a:lnTo>
                  <a:pt x="1454" y="1107"/>
                </a:lnTo>
                <a:lnTo>
                  <a:pt x="1478" y="1107"/>
                </a:lnTo>
                <a:lnTo>
                  <a:pt x="1502" y="1100"/>
                </a:lnTo>
                <a:lnTo>
                  <a:pt x="1526" y="1100"/>
                </a:lnTo>
                <a:lnTo>
                  <a:pt x="1550" y="1093"/>
                </a:lnTo>
                <a:lnTo>
                  <a:pt x="1574" y="1093"/>
                </a:lnTo>
                <a:lnTo>
                  <a:pt x="1599" y="1086"/>
                </a:lnTo>
                <a:lnTo>
                  <a:pt x="1623" y="1073"/>
                </a:lnTo>
                <a:lnTo>
                  <a:pt x="1647" y="1073"/>
                </a:lnTo>
                <a:lnTo>
                  <a:pt x="1671" y="1060"/>
                </a:lnTo>
                <a:lnTo>
                  <a:pt x="1695" y="1053"/>
                </a:lnTo>
                <a:lnTo>
                  <a:pt x="1719" y="1046"/>
                </a:lnTo>
                <a:lnTo>
                  <a:pt x="1743" y="1046"/>
                </a:lnTo>
                <a:lnTo>
                  <a:pt x="1767" y="1039"/>
                </a:lnTo>
                <a:lnTo>
                  <a:pt x="1791" y="1039"/>
                </a:lnTo>
                <a:lnTo>
                  <a:pt x="1807" y="1019"/>
                </a:lnTo>
                <a:lnTo>
                  <a:pt x="1824" y="999"/>
                </a:lnTo>
                <a:lnTo>
                  <a:pt x="1832" y="979"/>
                </a:lnTo>
                <a:lnTo>
                  <a:pt x="1840" y="959"/>
                </a:lnTo>
                <a:lnTo>
                  <a:pt x="1840" y="939"/>
                </a:lnTo>
                <a:lnTo>
                  <a:pt x="1848" y="919"/>
                </a:lnTo>
                <a:lnTo>
                  <a:pt x="1872" y="912"/>
                </a:lnTo>
                <a:lnTo>
                  <a:pt x="1896" y="905"/>
                </a:lnTo>
                <a:lnTo>
                  <a:pt x="1904" y="885"/>
                </a:lnTo>
                <a:lnTo>
                  <a:pt x="1912" y="865"/>
                </a:lnTo>
                <a:lnTo>
                  <a:pt x="1936" y="852"/>
                </a:lnTo>
                <a:lnTo>
                  <a:pt x="1952" y="831"/>
                </a:lnTo>
                <a:lnTo>
                  <a:pt x="1976" y="818"/>
                </a:lnTo>
                <a:lnTo>
                  <a:pt x="1992" y="798"/>
                </a:lnTo>
                <a:lnTo>
                  <a:pt x="2000" y="778"/>
                </a:lnTo>
                <a:lnTo>
                  <a:pt x="2000" y="758"/>
                </a:lnTo>
                <a:lnTo>
                  <a:pt x="2008" y="738"/>
                </a:lnTo>
                <a:lnTo>
                  <a:pt x="2057" y="684"/>
                </a:lnTo>
                <a:lnTo>
                  <a:pt x="2081" y="664"/>
                </a:lnTo>
                <a:lnTo>
                  <a:pt x="2089" y="644"/>
                </a:lnTo>
                <a:lnTo>
                  <a:pt x="2089" y="623"/>
                </a:lnTo>
                <a:lnTo>
                  <a:pt x="2097" y="603"/>
                </a:lnTo>
                <a:lnTo>
                  <a:pt x="2097" y="583"/>
                </a:lnTo>
                <a:lnTo>
                  <a:pt x="2121" y="570"/>
                </a:lnTo>
                <a:lnTo>
                  <a:pt x="2145" y="556"/>
                </a:lnTo>
                <a:lnTo>
                  <a:pt x="2153" y="536"/>
                </a:lnTo>
                <a:lnTo>
                  <a:pt x="2153" y="516"/>
                </a:lnTo>
                <a:lnTo>
                  <a:pt x="2153" y="496"/>
                </a:lnTo>
                <a:lnTo>
                  <a:pt x="2145" y="476"/>
                </a:lnTo>
                <a:lnTo>
                  <a:pt x="2121" y="462"/>
                </a:lnTo>
                <a:lnTo>
                  <a:pt x="2113" y="442"/>
                </a:lnTo>
                <a:lnTo>
                  <a:pt x="2113" y="422"/>
                </a:lnTo>
                <a:lnTo>
                  <a:pt x="2137" y="409"/>
                </a:lnTo>
                <a:lnTo>
                  <a:pt x="2161" y="395"/>
                </a:lnTo>
                <a:lnTo>
                  <a:pt x="2185" y="395"/>
                </a:lnTo>
                <a:lnTo>
                  <a:pt x="2209" y="382"/>
                </a:lnTo>
                <a:lnTo>
                  <a:pt x="2233" y="362"/>
                </a:lnTo>
                <a:lnTo>
                  <a:pt x="2241" y="342"/>
                </a:lnTo>
                <a:lnTo>
                  <a:pt x="2257" y="322"/>
                </a:lnTo>
                <a:lnTo>
                  <a:pt x="2257" y="301"/>
                </a:lnTo>
                <a:lnTo>
                  <a:pt x="2265" y="281"/>
                </a:lnTo>
                <a:lnTo>
                  <a:pt x="2274" y="261"/>
                </a:lnTo>
                <a:lnTo>
                  <a:pt x="2265" y="234"/>
                </a:lnTo>
                <a:lnTo>
                  <a:pt x="2257" y="214"/>
                </a:lnTo>
                <a:lnTo>
                  <a:pt x="2225" y="194"/>
                </a:lnTo>
                <a:lnTo>
                  <a:pt x="2201" y="194"/>
                </a:lnTo>
                <a:lnTo>
                  <a:pt x="2177" y="194"/>
                </a:lnTo>
                <a:lnTo>
                  <a:pt x="2121" y="147"/>
                </a:lnTo>
                <a:lnTo>
                  <a:pt x="2113" y="167"/>
                </a:lnTo>
                <a:lnTo>
                  <a:pt x="2089" y="167"/>
                </a:lnTo>
                <a:lnTo>
                  <a:pt x="2065" y="154"/>
                </a:lnTo>
                <a:lnTo>
                  <a:pt x="2040" y="134"/>
                </a:lnTo>
                <a:lnTo>
                  <a:pt x="2024" y="107"/>
                </a:lnTo>
                <a:lnTo>
                  <a:pt x="2000" y="107"/>
                </a:lnTo>
                <a:lnTo>
                  <a:pt x="1976" y="107"/>
                </a:lnTo>
                <a:lnTo>
                  <a:pt x="1952" y="107"/>
                </a:lnTo>
                <a:lnTo>
                  <a:pt x="1928" y="107"/>
                </a:lnTo>
                <a:lnTo>
                  <a:pt x="1904" y="87"/>
                </a:lnTo>
                <a:lnTo>
                  <a:pt x="1896" y="67"/>
                </a:lnTo>
                <a:lnTo>
                  <a:pt x="1872" y="53"/>
                </a:lnTo>
                <a:lnTo>
                  <a:pt x="1848" y="40"/>
                </a:lnTo>
                <a:lnTo>
                  <a:pt x="1824" y="13"/>
                </a:lnTo>
                <a:lnTo>
                  <a:pt x="1799" y="0"/>
                </a:lnTo>
                <a:lnTo>
                  <a:pt x="1775" y="0"/>
                </a:lnTo>
                <a:lnTo>
                  <a:pt x="1751" y="0"/>
                </a:lnTo>
                <a:lnTo>
                  <a:pt x="1727" y="0"/>
                </a:lnTo>
                <a:lnTo>
                  <a:pt x="1703" y="20"/>
                </a:lnTo>
                <a:lnTo>
                  <a:pt x="1679" y="20"/>
                </a:lnTo>
                <a:lnTo>
                  <a:pt x="1655" y="13"/>
                </a:lnTo>
                <a:lnTo>
                  <a:pt x="1607" y="20"/>
                </a:lnTo>
                <a:lnTo>
                  <a:pt x="1582" y="40"/>
                </a:lnTo>
                <a:lnTo>
                  <a:pt x="1566" y="60"/>
                </a:lnTo>
                <a:lnTo>
                  <a:pt x="1542" y="73"/>
                </a:lnTo>
                <a:lnTo>
                  <a:pt x="1518" y="80"/>
                </a:lnTo>
                <a:lnTo>
                  <a:pt x="1494" y="73"/>
                </a:lnTo>
                <a:lnTo>
                  <a:pt x="1478" y="53"/>
                </a:lnTo>
                <a:lnTo>
                  <a:pt x="1454" y="40"/>
                </a:lnTo>
                <a:lnTo>
                  <a:pt x="1406" y="26"/>
                </a:lnTo>
                <a:lnTo>
                  <a:pt x="1357" y="13"/>
                </a:lnTo>
                <a:lnTo>
                  <a:pt x="1325" y="13"/>
                </a:lnTo>
                <a:lnTo>
                  <a:pt x="1293" y="20"/>
                </a:lnTo>
                <a:lnTo>
                  <a:pt x="1261" y="33"/>
                </a:lnTo>
                <a:lnTo>
                  <a:pt x="1237" y="40"/>
                </a:lnTo>
                <a:lnTo>
                  <a:pt x="1213" y="40"/>
                </a:lnTo>
                <a:lnTo>
                  <a:pt x="1181" y="40"/>
                </a:lnTo>
                <a:lnTo>
                  <a:pt x="1157" y="40"/>
                </a:lnTo>
                <a:lnTo>
                  <a:pt x="1132" y="26"/>
                </a:lnTo>
                <a:lnTo>
                  <a:pt x="1108" y="6"/>
                </a:lnTo>
                <a:lnTo>
                  <a:pt x="0" y="469"/>
                </a:lnTo>
                <a:lnTo>
                  <a:pt x="64" y="684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efefe"/>
              </a:gs>
            </a:gsLst>
            <a:lin ang="5400000"/>
          </a:gra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75160" y="533520"/>
            <a:ext cx="2004840" cy="1719000"/>
          </a:xfrm>
          <a:custGeom>
            <a:avLst/>
            <a:gdLst/>
            <a:ahLst/>
            <a:rect l="l" t="t" r="r" b="b"/>
            <a:pathLst>
              <a:path w="1263" h="1083">
                <a:moveTo>
                  <a:pt x="348" y="144"/>
                </a:moveTo>
                <a:lnTo>
                  <a:pt x="1263" y="139"/>
                </a:lnTo>
                <a:lnTo>
                  <a:pt x="1256" y="160"/>
                </a:lnTo>
                <a:lnTo>
                  <a:pt x="1242" y="181"/>
                </a:lnTo>
                <a:lnTo>
                  <a:pt x="1242" y="202"/>
                </a:lnTo>
                <a:lnTo>
                  <a:pt x="1234" y="223"/>
                </a:lnTo>
                <a:lnTo>
                  <a:pt x="1227" y="244"/>
                </a:lnTo>
                <a:lnTo>
                  <a:pt x="1227" y="265"/>
                </a:lnTo>
                <a:lnTo>
                  <a:pt x="1227" y="293"/>
                </a:lnTo>
                <a:lnTo>
                  <a:pt x="1227" y="320"/>
                </a:lnTo>
                <a:lnTo>
                  <a:pt x="1220" y="342"/>
                </a:lnTo>
                <a:lnTo>
                  <a:pt x="1213" y="363"/>
                </a:lnTo>
                <a:lnTo>
                  <a:pt x="1206" y="384"/>
                </a:lnTo>
                <a:lnTo>
                  <a:pt x="1206" y="405"/>
                </a:lnTo>
                <a:lnTo>
                  <a:pt x="1199" y="425"/>
                </a:lnTo>
                <a:lnTo>
                  <a:pt x="1178" y="425"/>
                </a:lnTo>
                <a:lnTo>
                  <a:pt x="1156" y="412"/>
                </a:lnTo>
                <a:lnTo>
                  <a:pt x="1135" y="412"/>
                </a:lnTo>
                <a:lnTo>
                  <a:pt x="1121" y="461"/>
                </a:lnTo>
                <a:lnTo>
                  <a:pt x="1114" y="502"/>
                </a:lnTo>
                <a:lnTo>
                  <a:pt x="1107" y="531"/>
                </a:lnTo>
                <a:lnTo>
                  <a:pt x="1078" y="531"/>
                </a:lnTo>
                <a:lnTo>
                  <a:pt x="1057" y="531"/>
                </a:lnTo>
                <a:lnTo>
                  <a:pt x="1028" y="538"/>
                </a:lnTo>
                <a:lnTo>
                  <a:pt x="1000" y="559"/>
                </a:lnTo>
                <a:lnTo>
                  <a:pt x="979" y="572"/>
                </a:lnTo>
                <a:lnTo>
                  <a:pt x="964" y="600"/>
                </a:lnTo>
                <a:lnTo>
                  <a:pt x="957" y="621"/>
                </a:lnTo>
                <a:lnTo>
                  <a:pt x="957" y="642"/>
                </a:lnTo>
                <a:lnTo>
                  <a:pt x="957" y="670"/>
                </a:lnTo>
                <a:lnTo>
                  <a:pt x="957" y="698"/>
                </a:lnTo>
                <a:lnTo>
                  <a:pt x="950" y="719"/>
                </a:lnTo>
                <a:lnTo>
                  <a:pt x="944" y="740"/>
                </a:lnTo>
                <a:lnTo>
                  <a:pt x="922" y="754"/>
                </a:lnTo>
                <a:lnTo>
                  <a:pt x="901" y="768"/>
                </a:lnTo>
                <a:lnTo>
                  <a:pt x="893" y="796"/>
                </a:lnTo>
                <a:lnTo>
                  <a:pt x="880" y="817"/>
                </a:lnTo>
                <a:lnTo>
                  <a:pt x="873" y="837"/>
                </a:lnTo>
                <a:lnTo>
                  <a:pt x="858" y="859"/>
                </a:lnTo>
                <a:lnTo>
                  <a:pt x="844" y="880"/>
                </a:lnTo>
                <a:lnTo>
                  <a:pt x="816" y="894"/>
                </a:lnTo>
                <a:lnTo>
                  <a:pt x="787" y="908"/>
                </a:lnTo>
                <a:lnTo>
                  <a:pt x="758" y="914"/>
                </a:lnTo>
                <a:lnTo>
                  <a:pt x="738" y="914"/>
                </a:lnTo>
                <a:lnTo>
                  <a:pt x="674" y="908"/>
                </a:lnTo>
                <a:lnTo>
                  <a:pt x="617" y="901"/>
                </a:lnTo>
                <a:lnTo>
                  <a:pt x="596" y="894"/>
                </a:lnTo>
                <a:lnTo>
                  <a:pt x="574" y="894"/>
                </a:lnTo>
                <a:lnTo>
                  <a:pt x="553" y="908"/>
                </a:lnTo>
                <a:lnTo>
                  <a:pt x="497" y="908"/>
                </a:lnTo>
                <a:lnTo>
                  <a:pt x="475" y="908"/>
                </a:lnTo>
                <a:lnTo>
                  <a:pt x="453" y="908"/>
                </a:lnTo>
                <a:lnTo>
                  <a:pt x="426" y="929"/>
                </a:lnTo>
                <a:lnTo>
                  <a:pt x="369" y="935"/>
                </a:lnTo>
                <a:lnTo>
                  <a:pt x="347" y="935"/>
                </a:lnTo>
                <a:lnTo>
                  <a:pt x="326" y="950"/>
                </a:lnTo>
                <a:lnTo>
                  <a:pt x="312" y="971"/>
                </a:lnTo>
                <a:lnTo>
                  <a:pt x="312" y="991"/>
                </a:lnTo>
                <a:lnTo>
                  <a:pt x="291" y="1012"/>
                </a:lnTo>
                <a:lnTo>
                  <a:pt x="283" y="1033"/>
                </a:lnTo>
                <a:lnTo>
                  <a:pt x="262" y="1055"/>
                </a:lnTo>
                <a:lnTo>
                  <a:pt x="255" y="1083"/>
                </a:lnTo>
                <a:lnTo>
                  <a:pt x="255" y="1061"/>
                </a:lnTo>
                <a:lnTo>
                  <a:pt x="248" y="1040"/>
                </a:lnTo>
                <a:lnTo>
                  <a:pt x="227" y="1020"/>
                </a:lnTo>
                <a:lnTo>
                  <a:pt x="227" y="999"/>
                </a:lnTo>
                <a:lnTo>
                  <a:pt x="227" y="978"/>
                </a:lnTo>
                <a:lnTo>
                  <a:pt x="205" y="963"/>
                </a:lnTo>
                <a:lnTo>
                  <a:pt x="184" y="957"/>
                </a:lnTo>
                <a:lnTo>
                  <a:pt x="163" y="935"/>
                </a:lnTo>
                <a:lnTo>
                  <a:pt x="141" y="914"/>
                </a:lnTo>
                <a:lnTo>
                  <a:pt x="70" y="901"/>
                </a:lnTo>
                <a:lnTo>
                  <a:pt x="49" y="894"/>
                </a:lnTo>
                <a:lnTo>
                  <a:pt x="35" y="873"/>
                </a:lnTo>
                <a:lnTo>
                  <a:pt x="28" y="852"/>
                </a:lnTo>
                <a:lnTo>
                  <a:pt x="28" y="824"/>
                </a:lnTo>
                <a:lnTo>
                  <a:pt x="28" y="796"/>
                </a:lnTo>
                <a:lnTo>
                  <a:pt x="28" y="775"/>
                </a:lnTo>
                <a:lnTo>
                  <a:pt x="13" y="754"/>
                </a:lnTo>
                <a:lnTo>
                  <a:pt x="6" y="733"/>
                </a:lnTo>
                <a:lnTo>
                  <a:pt x="0" y="713"/>
                </a:lnTo>
                <a:lnTo>
                  <a:pt x="0" y="691"/>
                </a:lnTo>
                <a:lnTo>
                  <a:pt x="0" y="670"/>
                </a:lnTo>
                <a:lnTo>
                  <a:pt x="21" y="656"/>
                </a:lnTo>
                <a:lnTo>
                  <a:pt x="42" y="642"/>
                </a:lnTo>
                <a:lnTo>
                  <a:pt x="63" y="636"/>
                </a:lnTo>
                <a:lnTo>
                  <a:pt x="85" y="628"/>
                </a:lnTo>
                <a:lnTo>
                  <a:pt x="106" y="615"/>
                </a:lnTo>
                <a:lnTo>
                  <a:pt x="113" y="593"/>
                </a:lnTo>
                <a:lnTo>
                  <a:pt x="113" y="572"/>
                </a:lnTo>
                <a:lnTo>
                  <a:pt x="113" y="544"/>
                </a:lnTo>
                <a:lnTo>
                  <a:pt x="127" y="523"/>
                </a:lnTo>
                <a:lnTo>
                  <a:pt x="148" y="516"/>
                </a:lnTo>
                <a:lnTo>
                  <a:pt x="170" y="516"/>
                </a:lnTo>
                <a:lnTo>
                  <a:pt x="198" y="495"/>
                </a:lnTo>
                <a:lnTo>
                  <a:pt x="212" y="474"/>
                </a:lnTo>
                <a:lnTo>
                  <a:pt x="212" y="454"/>
                </a:lnTo>
                <a:lnTo>
                  <a:pt x="220" y="433"/>
                </a:lnTo>
                <a:lnTo>
                  <a:pt x="241" y="425"/>
                </a:lnTo>
                <a:lnTo>
                  <a:pt x="248" y="405"/>
                </a:lnTo>
                <a:lnTo>
                  <a:pt x="248" y="384"/>
                </a:lnTo>
                <a:lnTo>
                  <a:pt x="269" y="363"/>
                </a:lnTo>
                <a:lnTo>
                  <a:pt x="291" y="349"/>
                </a:lnTo>
                <a:lnTo>
                  <a:pt x="298" y="328"/>
                </a:lnTo>
                <a:lnTo>
                  <a:pt x="298" y="307"/>
                </a:lnTo>
                <a:lnTo>
                  <a:pt x="298" y="286"/>
                </a:lnTo>
                <a:lnTo>
                  <a:pt x="305" y="265"/>
                </a:lnTo>
                <a:lnTo>
                  <a:pt x="318" y="237"/>
                </a:lnTo>
                <a:lnTo>
                  <a:pt x="453" y="0"/>
                </a:lnTo>
                <a:lnTo>
                  <a:pt x="1078" y="0"/>
                </a:lnTo>
                <a:cubicBezTo>
                  <a:pt x="1078" y="0"/>
                  <a:pt x="1163" y="55"/>
                  <a:pt x="1249" y="111"/>
                </a:cubicBezTo>
              </a:path>
            </a:pathLst>
          </a:custGeom>
          <a:solidFill>
            <a:srgbClr val="00cc99"/>
          </a:solidFill>
          <a:ln cap="rnd" w="507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778280" y="1436760"/>
            <a:ext cx="292320" cy="1620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351240" y="1962000"/>
            <a:ext cx="493560" cy="2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91040" y="3316320"/>
            <a:ext cx="8542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. PAU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048200" y="1468440"/>
            <a:ext cx="71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94280" y="2023920"/>
            <a:ext cx="71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82920" y="3200400"/>
            <a:ext cx="716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78240" y="2689200"/>
            <a:ext cx="717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08600" y="3305160"/>
            <a:ext cx="181080" cy="16524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525920" y="1231920"/>
            <a:ext cx="9302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SÍL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11840" y="2081160"/>
            <a:ext cx="81000" cy="76320"/>
          </a:xfrm>
          <a:custGeom>
            <a:avLst/>
            <a:gdLst>
              <a:gd name="textAreaLeft" fmla="*/ 18360 w 81000"/>
              <a:gd name="textAreaRight" fmla="*/ 62640 w 81000"/>
              <a:gd name="textAreaTop" fmla="*/ 17280 h 76320"/>
              <a:gd name="textAreaBottom" fmla="*/ 5904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36960" y="1434960"/>
            <a:ext cx="187560" cy="149400"/>
          </a:xfrm>
          <a:prstGeom prst="star5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73320" y="-2381400"/>
            <a:ext cx="4087800" cy="6508800"/>
          </a:xfrm>
          <a:custGeom>
            <a:avLst/>
            <a:gdLst/>
            <a:ahLst/>
            <a:rect l="l" t="t" r="r" b="b"/>
            <a:pathLst>
              <a:path w="2575" h="4100">
                <a:moveTo>
                  <a:pt x="946" y="4034"/>
                </a:moveTo>
                <a:lnTo>
                  <a:pt x="917" y="4024"/>
                </a:lnTo>
                <a:lnTo>
                  <a:pt x="894" y="4008"/>
                </a:lnTo>
                <a:lnTo>
                  <a:pt x="877" y="3997"/>
                </a:lnTo>
                <a:lnTo>
                  <a:pt x="860" y="3992"/>
                </a:lnTo>
                <a:lnTo>
                  <a:pt x="843" y="3992"/>
                </a:lnTo>
                <a:lnTo>
                  <a:pt x="825" y="3992"/>
                </a:lnTo>
                <a:lnTo>
                  <a:pt x="808" y="4002"/>
                </a:lnTo>
                <a:lnTo>
                  <a:pt x="791" y="4014"/>
                </a:lnTo>
                <a:lnTo>
                  <a:pt x="774" y="4014"/>
                </a:lnTo>
                <a:lnTo>
                  <a:pt x="757" y="4019"/>
                </a:lnTo>
                <a:lnTo>
                  <a:pt x="740" y="4024"/>
                </a:lnTo>
                <a:lnTo>
                  <a:pt x="723" y="4019"/>
                </a:lnTo>
                <a:lnTo>
                  <a:pt x="705" y="4014"/>
                </a:lnTo>
                <a:lnTo>
                  <a:pt x="687" y="4014"/>
                </a:lnTo>
                <a:lnTo>
                  <a:pt x="670" y="4008"/>
                </a:lnTo>
                <a:lnTo>
                  <a:pt x="648" y="4008"/>
                </a:lnTo>
                <a:lnTo>
                  <a:pt x="624" y="4014"/>
                </a:lnTo>
                <a:lnTo>
                  <a:pt x="607" y="4024"/>
                </a:lnTo>
                <a:lnTo>
                  <a:pt x="585" y="4034"/>
                </a:lnTo>
                <a:lnTo>
                  <a:pt x="573" y="4051"/>
                </a:lnTo>
                <a:lnTo>
                  <a:pt x="556" y="4067"/>
                </a:lnTo>
                <a:lnTo>
                  <a:pt x="544" y="4083"/>
                </a:lnTo>
                <a:lnTo>
                  <a:pt x="527" y="4100"/>
                </a:lnTo>
                <a:lnTo>
                  <a:pt x="510" y="4100"/>
                </a:lnTo>
                <a:lnTo>
                  <a:pt x="493" y="4094"/>
                </a:lnTo>
                <a:lnTo>
                  <a:pt x="476" y="4089"/>
                </a:lnTo>
                <a:lnTo>
                  <a:pt x="447" y="4078"/>
                </a:lnTo>
                <a:lnTo>
                  <a:pt x="430" y="4067"/>
                </a:lnTo>
                <a:lnTo>
                  <a:pt x="412" y="4067"/>
                </a:lnTo>
                <a:lnTo>
                  <a:pt x="395" y="4056"/>
                </a:lnTo>
                <a:lnTo>
                  <a:pt x="378" y="4051"/>
                </a:lnTo>
                <a:lnTo>
                  <a:pt x="361" y="4041"/>
                </a:lnTo>
                <a:lnTo>
                  <a:pt x="344" y="4029"/>
                </a:lnTo>
                <a:lnTo>
                  <a:pt x="327" y="4024"/>
                </a:lnTo>
                <a:lnTo>
                  <a:pt x="310" y="4014"/>
                </a:lnTo>
                <a:lnTo>
                  <a:pt x="292" y="4014"/>
                </a:lnTo>
                <a:lnTo>
                  <a:pt x="274" y="4014"/>
                </a:lnTo>
                <a:lnTo>
                  <a:pt x="257" y="4008"/>
                </a:lnTo>
                <a:lnTo>
                  <a:pt x="240" y="4002"/>
                </a:lnTo>
                <a:lnTo>
                  <a:pt x="223" y="3997"/>
                </a:lnTo>
                <a:lnTo>
                  <a:pt x="206" y="3992"/>
                </a:lnTo>
                <a:lnTo>
                  <a:pt x="189" y="3992"/>
                </a:lnTo>
                <a:lnTo>
                  <a:pt x="172" y="3992"/>
                </a:lnTo>
                <a:lnTo>
                  <a:pt x="155" y="3992"/>
                </a:lnTo>
                <a:lnTo>
                  <a:pt x="137" y="3992"/>
                </a:lnTo>
                <a:lnTo>
                  <a:pt x="120" y="3992"/>
                </a:lnTo>
                <a:lnTo>
                  <a:pt x="103" y="3992"/>
                </a:lnTo>
                <a:lnTo>
                  <a:pt x="91" y="3976"/>
                </a:lnTo>
                <a:lnTo>
                  <a:pt x="91" y="3960"/>
                </a:lnTo>
                <a:lnTo>
                  <a:pt x="97" y="3944"/>
                </a:lnTo>
                <a:lnTo>
                  <a:pt x="97" y="3927"/>
                </a:lnTo>
                <a:lnTo>
                  <a:pt x="97" y="3905"/>
                </a:lnTo>
                <a:lnTo>
                  <a:pt x="85" y="3890"/>
                </a:lnTo>
                <a:lnTo>
                  <a:pt x="68" y="3873"/>
                </a:lnTo>
                <a:lnTo>
                  <a:pt x="57" y="3852"/>
                </a:lnTo>
                <a:lnTo>
                  <a:pt x="57" y="3836"/>
                </a:lnTo>
                <a:lnTo>
                  <a:pt x="63" y="3820"/>
                </a:lnTo>
                <a:lnTo>
                  <a:pt x="68" y="3803"/>
                </a:lnTo>
                <a:lnTo>
                  <a:pt x="74" y="3788"/>
                </a:lnTo>
                <a:lnTo>
                  <a:pt x="57" y="3766"/>
                </a:lnTo>
                <a:lnTo>
                  <a:pt x="51" y="3749"/>
                </a:lnTo>
                <a:lnTo>
                  <a:pt x="34" y="3744"/>
                </a:lnTo>
                <a:lnTo>
                  <a:pt x="17" y="3744"/>
                </a:lnTo>
                <a:lnTo>
                  <a:pt x="0" y="3744"/>
                </a:lnTo>
                <a:lnTo>
                  <a:pt x="0" y="3729"/>
                </a:lnTo>
                <a:lnTo>
                  <a:pt x="0" y="3712"/>
                </a:lnTo>
                <a:lnTo>
                  <a:pt x="0" y="3696"/>
                </a:lnTo>
                <a:lnTo>
                  <a:pt x="0" y="3680"/>
                </a:lnTo>
                <a:lnTo>
                  <a:pt x="5" y="3664"/>
                </a:lnTo>
                <a:lnTo>
                  <a:pt x="11" y="3647"/>
                </a:lnTo>
                <a:lnTo>
                  <a:pt x="17" y="3626"/>
                </a:lnTo>
                <a:lnTo>
                  <a:pt x="11" y="3605"/>
                </a:lnTo>
                <a:lnTo>
                  <a:pt x="11" y="3588"/>
                </a:lnTo>
                <a:lnTo>
                  <a:pt x="30" y="3568"/>
                </a:lnTo>
                <a:lnTo>
                  <a:pt x="53" y="3560"/>
                </a:lnTo>
                <a:lnTo>
                  <a:pt x="63" y="3553"/>
                </a:lnTo>
                <a:lnTo>
                  <a:pt x="74" y="3545"/>
                </a:lnTo>
                <a:lnTo>
                  <a:pt x="80" y="3529"/>
                </a:lnTo>
                <a:lnTo>
                  <a:pt x="91" y="3513"/>
                </a:lnTo>
                <a:lnTo>
                  <a:pt x="109" y="3508"/>
                </a:lnTo>
                <a:lnTo>
                  <a:pt x="114" y="3496"/>
                </a:lnTo>
                <a:lnTo>
                  <a:pt x="124" y="3479"/>
                </a:lnTo>
                <a:lnTo>
                  <a:pt x="135" y="3468"/>
                </a:lnTo>
                <a:lnTo>
                  <a:pt x="148" y="3449"/>
                </a:lnTo>
                <a:lnTo>
                  <a:pt x="160" y="3432"/>
                </a:lnTo>
                <a:lnTo>
                  <a:pt x="170" y="3420"/>
                </a:lnTo>
                <a:lnTo>
                  <a:pt x="179" y="3404"/>
                </a:lnTo>
                <a:lnTo>
                  <a:pt x="210" y="3400"/>
                </a:lnTo>
                <a:lnTo>
                  <a:pt x="229" y="3405"/>
                </a:lnTo>
                <a:lnTo>
                  <a:pt x="240" y="3389"/>
                </a:lnTo>
                <a:lnTo>
                  <a:pt x="257" y="3378"/>
                </a:lnTo>
                <a:lnTo>
                  <a:pt x="269" y="3362"/>
                </a:lnTo>
                <a:lnTo>
                  <a:pt x="320" y="3307"/>
                </a:lnTo>
                <a:lnTo>
                  <a:pt x="342" y="3294"/>
                </a:lnTo>
                <a:lnTo>
                  <a:pt x="349" y="3283"/>
                </a:lnTo>
                <a:lnTo>
                  <a:pt x="357" y="3274"/>
                </a:lnTo>
                <a:lnTo>
                  <a:pt x="372" y="3266"/>
                </a:lnTo>
                <a:lnTo>
                  <a:pt x="384" y="3249"/>
                </a:lnTo>
                <a:lnTo>
                  <a:pt x="395" y="3233"/>
                </a:lnTo>
                <a:lnTo>
                  <a:pt x="407" y="3217"/>
                </a:lnTo>
                <a:lnTo>
                  <a:pt x="424" y="3206"/>
                </a:lnTo>
                <a:lnTo>
                  <a:pt x="441" y="3190"/>
                </a:lnTo>
                <a:lnTo>
                  <a:pt x="441" y="3174"/>
                </a:lnTo>
                <a:lnTo>
                  <a:pt x="453" y="3157"/>
                </a:lnTo>
                <a:lnTo>
                  <a:pt x="458" y="3142"/>
                </a:lnTo>
                <a:lnTo>
                  <a:pt x="470" y="3125"/>
                </a:lnTo>
                <a:lnTo>
                  <a:pt x="487" y="3120"/>
                </a:lnTo>
                <a:lnTo>
                  <a:pt x="498" y="3104"/>
                </a:lnTo>
                <a:lnTo>
                  <a:pt x="510" y="3088"/>
                </a:lnTo>
                <a:lnTo>
                  <a:pt x="516" y="3072"/>
                </a:lnTo>
                <a:lnTo>
                  <a:pt x="522" y="3055"/>
                </a:lnTo>
                <a:lnTo>
                  <a:pt x="533" y="3040"/>
                </a:lnTo>
                <a:lnTo>
                  <a:pt x="550" y="3034"/>
                </a:lnTo>
                <a:lnTo>
                  <a:pt x="568" y="3028"/>
                </a:lnTo>
                <a:lnTo>
                  <a:pt x="579" y="3008"/>
                </a:lnTo>
                <a:lnTo>
                  <a:pt x="585" y="2991"/>
                </a:lnTo>
                <a:lnTo>
                  <a:pt x="585" y="2975"/>
                </a:lnTo>
                <a:lnTo>
                  <a:pt x="590" y="2959"/>
                </a:lnTo>
                <a:lnTo>
                  <a:pt x="602" y="2943"/>
                </a:lnTo>
                <a:lnTo>
                  <a:pt x="614" y="2926"/>
                </a:lnTo>
                <a:lnTo>
                  <a:pt x="614" y="2905"/>
                </a:lnTo>
                <a:lnTo>
                  <a:pt x="602" y="2889"/>
                </a:lnTo>
                <a:lnTo>
                  <a:pt x="590" y="2867"/>
                </a:lnTo>
                <a:lnTo>
                  <a:pt x="585" y="2852"/>
                </a:lnTo>
                <a:lnTo>
                  <a:pt x="579" y="2835"/>
                </a:lnTo>
                <a:lnTo>
                  <a:pt x="573" y="2813"/>
                </a:lnTo>
                <a:lnTo>
                  <a:pt x="568" y="2797"/>
                </a:lnTo>
                <a:lnTo>
                  <a:pt x="550" y="2776"/>
                </a:lnTo>
                <a:lnTo>
                  <a:pt x="533" y="2760"/>
                </a:lnTo>
                <a:lnTo>
                  <a:pt x="516" y="2755"/>
                </a:lnTo>
                <a:lnTo>
                  <a:pt x="498" y="2749"/>
                </a:lnTo>
                <a:lnTo>
                  <a:pt x="481" y="2738"/>
                </a:lnTo>
                <a:lnTo>
                  <a:pt x="464" y="2728"/>
                </a:lnTo>
                <a:lnTo>
                  <a:pt x="447" y="2722"/>
                </a:lnTo>
                <a:lnTo>
                  <a:pt x="430" y="2716"/>
                </a:lnTo>
                <a:lnTo>
                  <a:pt x="412" y="2716"/>
                </a:lnTo>
                <a:lnTo>
                  <a:pt x="390" y="2711"/>
                </a:lnTo>
                <a:lnTo>
                  <a:pt x="372" y="2679"/>
                </a:lnTo>
                <a:lnTo>
                  <a:pt x="366" y="2663"/>
                </a:lnTo>
                <a:lnTo>
                  <a:pt x="355" y="2647"/>
                </a:lnTo>
                <a:lnTo>
                  <a:pt x="355" y="2631"/>
                </a:lnTo>
                <a:lnTo>
                  <a:pt x="363" y="2614"/>
                </a:lnTo>
                <a:lnTo>
                  <a:pt x="355" y="2593"/>
                </a:lnTo>
                <a:lnTo>
                  <a:pt x="338" y="2582"/>
                </a:lnTo>
                <a:lnTo>
                  <a:pt x="338" y="2567"/>
                </a:lnTo>
                <a:lnTo>
                  <a:pt x="338" y="2550"/>
                </a:lnTo>
                <a:lnTo>
                  <a:pt x="332" y="2533"/>
                </a:lnTo>
                <a:lnTo>
                  <a:pt x="327" y="2518"/>
                </a:lnTo>
                <a:lnTo>
                  <a:pt x="327" y="2501"/>
                </a:lnTo>
                <a:lnTo>
                  <a:pt x="359" y="2493"/>
                </a:lnTo>
                <a:lnTo>
                  <a:pt x="369" y="2481"/>
                </a:lnTo>
                <a:lnTo>
                  <a:pt x="374" y="2480"/>
                </a:lnTo>
                <a:lnTo>
                  <a:pt x="399" y="2478"/>
                </a:lnTo>
                <a:lnTo>
                  <a:pt x="418" y="2468"/>
                </a:lnTo>
                <a:lnTo>
                  <a:pt x="435" y="2453"/>
                </a:lnTo>
                <a:lnTo>
                  <a:pt x="453" y="2439"/>
                </a:lnTo>
                <a:lnTo>
                  <a:pt x="456" y="2421"/>
                </a:lnTo>
                <a:lnTo>
                  <a:pt x="451" y="2404"/>
                </a:lnTo>
                <a:lnTo>
                  <a:pt x="453" y="2392"/>
                </a:lnTo>
                <a:lnTo>
                  <a:pt x="458" y="2371"/>
                </a:lnTo>
                <a:lnTo>
                  <a:pt x="476" y="2358"/>
                </a:lnTo>
                <a:lnTo>
                  <a:pt x="498" y="2367"/>
                </a:lnTo>
                <a:lnTo>
                  <a:pt x="516" y="2362"/>
                </a:lnTo>
                <a:lnTo>
                  <a:pt x="522" y="2345"/>
                </a:lnTo>
                <a:lnTo>
                  <a:pt x="527" y="2329"/>
                </a:lnTo>
                <a:lnTo>
                  <a:pt x="533" y="2313"/>
                </a:lnTo>
                <a:lnTo>
                  <a:pt x="539" y="2297"/>
                </a:lnTo>
                <a:lnTo>
                  <a:pt x="556" y="2287"/>
                </a:lnTo>
                <a:lnTo>
                  <a:pt x="560" y="2272"/>
                </a:lnTo>
                <a:lnTo>
                  <a:pt x="577" y="2258"/>
                </a:lnTo>
                <a:lnTo>
                  <a:pt x="585" y="2247"/>
                </a:lnTo>
                <a:lnTo>
                  <a:pt x="590" y="2243"/>
                </a:lnTo>
                <a:lnTo>
                  <a:pt x="596" y="2222"/>
                </a:lnTo>
                <a:lnTo>
                  <a:pt x="596" y="2206"/>
                </a:lnTo>
                <a:lnTo>
                  <a:pt x="607" y="2189"/>
                </a:lnTo>
                <a:lnTo>
                  <a:pt x="624" y="2178"/>
                </a:lnTo>
                <a:lnTo>
                  <a:pt x="631" y="2163"/>
                </a:lnTo>
                <a:lnTo>
                  <a:pt x="636" y="2146"/>
                </a:lnTo>
                <a:lnTo>
                  <a:pt x="636" y="2131"/>
                </a:lnTo>
                <a:lnTo>
                  <a:pt x="642" y="2114"/>
                </a:lnTo>
                <a:lnTo>
                  <a:pt x="653" y="2098"/>
                </a:lnTo>
                <a:lnTo>
                  <a:pt x="665" y="2082"/>
                </a:lnTo>
                <a:lnTo>
                  <a:pt x="670" y="2060"/>
                </a:lnTo>
                <a:lnTo>
                  <a:pt x="677" y="2039"/>
                </a:lnTo>
                <a:lnTo>
                  <a:pt x="642" y="2028"/>
                </a:lnTo>
                <a:lnTo>
                  <a:pt x="648" y="2012"/>
                </a:lnTo>
                <a:lnTo>
                  <a:pt x="653" y="1995"/>
                </a:lnTo>
                <a:lnTo>
                  <a:pt x="1556" y="1984"/>
                </a:lnTo>
                <a:lnTo>
                  <a:pt x="653" y="1963"/>
                </a:lnTo>
                <a:lnTo>
                  <a:pt x="653" y="1948"/>
                </a:lnTo>
                <a:lnTo>
                  <a:pt x="665" y="1931"/>
                </a:lnTo>
                <a:lnTo>
                  <a:pt x="670" y="1915"/>
                </a:lnTo>
                <a:lnTo>
                  <a:pt x="677" y="1899"/>
                </a:lnTo>
                <a:lnTo>
                  <a:pt x="677" y="1883"/>
                </a:lnTo>
                <a:lnTo>
                  <a:pt x="665" y="1866"/>
                </a:lnTo>
                <a:lnTo>
                  <a:pt x="648" y="1845"/>
                </a:lnTo>
                <a:lnTo>
                  <a:pt x="648" y="1829"/>
                </a:lnTo>
                <a:lnTo>
                  <a:pt x="648" y="1807"/>
                </a:lnTo>
                <a:lnTo>
                  <a:pt x="648" y="1791"/>
                </a:lnTo>
                <a:lnTo>
                  <a:pt x="648" y="1775"/>
                </a:lnTo>
                <a:lnTo>
                  <a:pt x="648" y="1759"/>
                </a:lnTo>
                <a:lnTo>
                  <a:pt x="660" y="1743"/>
                </a:lnTo>
                <a:lnTo>
                  <a:pt x="670" y="1727"/>
                </a:lnTo>
                <a:lnTo>
                  <a:pt x="670" y="1710"/>
                </a:lnTo>
                <a:lnTo>
                  <a:pt x="670" y="1695"/>
                </a:lnTo>
                <a:lnTo>
                  <a:pt x="660" y="1673"/>
                </a:lnTo>
                <a:lnTo>
                  <a:pt x="653" y="1656"/>
                </a:lnTo>
                <a:lnTo>
                  <a:pt x="642" y="1635"/>
                </a:lnTo>
                <a:lnTo>
                  <a:pt x="636" y="1619"/>
                </a:lnTo>
                <a:lnTo>
                  <a:pt x="636" y="1603"/>
                </a:lnTo>
                <a:lnTo>
                  <a:pt x="631" y="1587"/>
                </a:lnTo>
                <a:lnTo>
                  <a:pt x="631" y="1571"/>
                </a:lnTo>
                <a:lnTo>
                  <a:pt x="631" y="1549"/>
                </a:lnTo>
                <a:lnTo>
                  <a:pt x="636" y="1532"/>
                </a:lnTo>
                <a:lnTo>
                  <a:pt x="636" y="1517"/>
                </a:lnTo>
                <a:lnTo>
                  <a:pt x="670" y="1436"/>
                </a:lnTo>
                <a:lnTo>
                  <a:pt x="687" y="1425"/>
                </a:lnTo>
                <a:lnTo>
                  <a:pt x="705" y="1415"/>
                </a:lnTo>
                <a:lnTo>
                  <a:pt x="723" y="1398"/>
                </a:lnTo>
                <a:lnTo>
                  <a:pt x="728" y="1383"/>
                </a:lnTo>
                <a:lnTo>
                  <a:pt x="728" y="1366"/>
                </a:lnTo>
                <a:lnTo>
                  <a:pt x="733" y="1350"/>
                </a:lnTo>
                <a:lnTo>
                  <a:pt x="751" y="1350"/>
                </a:lnTo>
                <a:lnTo>
                  <a:pt x="768" y="1339"/>
                </a:lnTo>
                <a:lnTo>
                  <a:pt x="774" y="1323"/>
                </a:lnTo>
                <a:lnTo>
                  <a:pt x="779" y="1307"/>
                </a:lnTo>
                <a:lnTo>
                  <a:pt x="797" y="1301"/>
                </a:lnTo>
                <a:lnTo>
                  <a:pt x="814" y="1296"/>
                </a:lnTo>
                <a:lnTo>
                  <a:pt x="831" y="1286"/>
                </a:lnTo>
                <a:lnTo>
                  <a:pt x="837" y="1269"/>
                </a:lnTo>
                <a:lnTo>
                  <a:pt x="843" y="1254"/>
                </a:lnTo>
                <a:lnTo>
                  <a:pt x="843" y="1237"/>
                </a:lnTo>
                <a:lnTo>
                  <a:pt x="848" y="1221"/>
                </a:lnTo>
                <a:lnTo>
                  <a:pt x="848" y="1027"/>
                </a:lnTo>
                <a:lnTo>
                  <a:pt x="866" y="1022"/>
                </a:lnTo>
                <a:lnTo>
                  <a:pt x="883" y="1006"/>
                </a:lnTo>
                <a:lnTo>
                  <a:pt x="888" y="989"/>
                </a:lnTo>
                <a:lnTo>
                  <a:pt x="888" y="974"/>
                </a:lnTo>
                <a:lnTo>
                  <a:pt x="894" y="952"/>
                </a:lnTo>
                <a:lnTo>
                  <a:pt x="894" y="935"/>
                </a:lnTo>
                <a:lnTo>
                  <a:pt x="906" y="920"/>
                </a:lnTo>
                <a:lnTo>
                  <a:pt x="917" y="903"/>
                </a:lnTo>
                <a:lnTo>
                  <a:pt x="923" y="887"/>
                </a:lnTo>
                <a:lnTo>
                  <a:pt x="944" y="867"/>
                </a:lnTo>
                <a:lnTo>
                  <a:pt x="967" y="866"/>
                </a:lnTo>
                <a:lnTo>
                  <a:pt x="977" y="867"/>
                </a:lnTo>
                <a:lnTo>
                  <a:pt x="986" y="866"/>
                </a:lnTo>
                <a:lnTo>
                  <a:pt x="1003" y="860"/>
                </a:lnTo>
                <a:lnTo>
                  <a:pt x="1020" y="850"/>
                </a:lnTo>
                <a:lnTo>
                  <a:pt x="1037" y="833"/>
                </a:lnTo>
                <a:lnTo>
                  <a:pt x="1055" y="823"/>
                </a:lnTo>
                <a:lnTo>
                  <a:pt x="1061" y="806"/>
                </a:lnTo>
                <a:lnTo>
                  <a:pt x="1078" y="791"/>
                </a:lnTo>
                <a:lnTo>
                  <a:pt x="1083" y="769"/>
                </a:lnTo>
                <a:lnTo>
                  <a:pt x="1083" y="747"/>
                </a:lnTo>
                <a:lnTo>
                  <a:pt x="1083" y="731"/>
                </a:lnTo>
                <a:lnTo>
                  <a:pt x="1083" y="715"/>
                </a:lnTo>
                <a:lnTo>
                  <a:pt x="1095" y="699"/>
                </a:lnTo>
                <a:lnTo>
                  <a:pt x="1100" y="682"/>
                </a:lnTo>
                <a:lnTo>
                  <a:pt x="1107" y="667"/>
                </a:lnTo>
                <a:lnTo>
                  <a:pt x="1117" y="650"/>
                </a:lnTo>
                <a:lnTo>
                  <a:pt x="1117" y="635"/>
                </a:lnTo>
                <a:lnTo>
                  <a:pt x="1112" y="618"/>
                </a:lnTo>
                <a:lnTo>
                  <a:pt x="1100" y="597"/>
                </a:lnTo>
                <a:lnTo>
                  <a:pt x="1090" y="575"/>
                </a:lnTo>
                <a:lnTo>
                  <a:pt x="1100" y="559"/>
                </a:lnTo>
                <a:lnTo>
                  <a:pt x="1112" y="543"/>
                </a:lnTo>
                <a:lnTo>
                  <a:pt x="1129" y="533"/>
                </a:lnTo>
                <a:lnTo>
                  <a:pt x="1146" y="521"/>
                </a:lnTo>
                <a:lnTo>
                  <a:pt x="1163" y="516"/>
                </a:lnTo>
                <a:lnTo>
                  <a:pt x="1181" y="499"/>
                </a:lnTo>
                <a:lnTo>
                  <a:pt x="1198" y="494"/>
                </a:lnTo>
                <a:lnTo>
                  <a:pt x="1216" y="494"/>
                </a:lnTo>
                <a:lnTo>
                  <a:pt x="1233" y="489"/>
                </a:lnTo>
                <a:lnTo>
                  <a:pt x="1250" y="484"/>
                </a:lnTo>
                <a:lnTo>
                  <a:pt x="1267" y="473"/>
                </a:lnTo>
                <a:lnTo>
                  <a:pt x="1284" y="462"/>
                </a:lnTo>
                <a:lnTo>
                  <a:pt x="1296" y="446"/>
                </a:lnTo>
                <a:lnTo>
                  <a:pt x="1313" y="430"/>
                </a:lnTo>
                <a:lnTo>
                  <a:pt x="1324" y="414"/>
                </a:lnTo>
                <a:lnTo>
                  <a:pt x="1330" y="397"/>
                </a:lnTo>
                <a:lnTo>
                  <a:pt x="1336" y="382"/>
                </a:lnTo>
                <a:lnTo>
                  <a:pt x="1336" y="365"/>
                </a:lnTo>
                <a:lnTo>
                  <a:pt x="1347" y="350"/>
                </a:lnTo>
                <a:lnTo>
                  <a:pt x="1353" y="333"/>
                </a:lnTo>
                <a:lnTo>
                  <a:pt x="1370" y="317"/>
                </a:lnTo>
                <a:lnTo>
                  <a:pt x="1387" y="301"/>
                </a:lnTo>
                <a:lnTo>
                  <a:pt x="1393" y="285"/>
                </a:lnTo>
                <a:lnTo>
                  <a:pt x="1399" y="268"/>
                </a:lnTo>
                <a:lnTo>
                  <a:pt x="1399" y="253"/>
                </a:lnTo>
                <a:lnTo>
                  <a:pt x="1411" y="236"/>
                </a:lnTo>
                <a:lnTo>
                  <a:pt x="1416" y="221"/>
                </a:lnTo>
                <a:lnTo>
                  <a:pt x="1428" y="204"/>
                </a:lnTo>
                <a:lnTo>
                  <a:pt x="1439" y="188"/>
                </a:lnTo>
                <a:lnTo>
                  <a:pt x="1450" y="172"/>
                </a:lnTo>
                <a:lnTo>
                  <a:pt x="1457" y="123"/>
                </a:lnTo>
                <a:lnTo>
                  <a:pt x="1457" y="107"/>
                </a:lnTo>
                <a:lnTo>
                  <a:pt x="1462" y="91"/>
                </a:lnTo>
                <a:lnTo>
                  <a:pt x="1468" y="75"/>
                </a:lnTo>
                <a:lnTo>
                  <a:pt x="1474" y="58"/>
                </a:lnTo>
                <a:lnTo>
                  <a:pt x="1479" y="43"/>
                </a:lnTo>
                <a:lnTo>
                  <a:pt x="1491" y="26"/>
                </a:lnTo>
                <a:lnTo>
                  <a:pt x="1491" y="10"/>
                </a:lnTo>
                <a:lnTo>
                  <a:pt x="1508" y="0"/>
                </a:lnTo>
                <a:lnTo>
                  <a:pt x="1520" y="16"/>
                </a:lnTo>
                <a:lnTo>
                  <a:pt x="1525" y="32"/>
                </a:lnTo>
                <a:lnTo>
                  <a:pt x="1530" y="48"/>
                </a:lnTo>
                <a:lnTo>
                  <a:pt x="1537" y="65"/>
                </a:lnTo>
                <a:lnTo>
                  <a:pt x="1554" y="75"/>
                </a:lnTo>
                <a:lnTo>
                  <a:pt x="1571" y="75"/>
                </a:lnTo>
                <a:lnTo>
                  <a:pt x="1588" y="75"/>
                </a:lnTo>
                <a:lnTo>
                  <a:pt x="1600" y="58"/>
                </a:lnTo>
                <a:lnTo>
                  <a:pt x="1611" y="43"/>
                </a:lnTo>
                <a:lnTo>
                  <a:pt x="1616" y="12"/>
                </a:lnTo>
                <a:lnTo>
                  <a:pt x="1640" y="58"/>
                </a:lnTo>
                <a:lnTo>
                  <a:pt x="1640" y="75"/>
                </a:lnTo>
                <a:lnTo>
                  <a:pt x="1640" y="91"/>
                </a:lnTo>
                <a:lnTo>
                  <a:pt x="1651" y="112"/>
                </a:lnTo>
                <a:lnTo>
                  <a:pt x="1668" y="112"/>
                </a:lnTo>
                <a:lnTo>
                  <a:pt x="1686" y="112"/>
                </a:lnTo>
                <a:lnTo>
                  <a:pt x="1703" y="112"/>
                </a:lnTo>
                <a:lnTo>
                  <a:pt x="1720" y="118"/>
                </a:lnTo>
                <a:lnTo>
                  <a:pt x="1737" y="118"/>
                </a:lnTo>
                <a:lnTo>
                  <a:pt x="1755" y="118"/>
                </a:lnTo>
                <a:lnTo>
                  <a:pt x="1772" y="118"/>
                </a:lnTo>
                <a:lnTo>
                  <a:pt x="1795" y="129"/>
                </a:lnTo>
                <a:lnTo>
                  <a:pt x="1800" y="145"/>
                </a:lnTo>
                <a:lnTo>
                  <a:pt x="1800" y="161"/>
                </a:lnTo>
                <a:lnTo>
                  <a:pt x="1800" y="177"/>
                </a:lnTo>
                <a:lnTo>
                  <a:pt x="1806" y="194"/>
                </a:lnTo>
                <a:lnTo>
                  <a:pt x="1818" y="214"/>
                </a:lnTo>
                <a:lnTo>
                  <a:pt x="1818" y="231"/>
                </a:lnTo>
                <a:lnTo>
                  <a:pt x="1818" y="247"/>
                </a:lnTo>
                <a:lnTo>
                  <a:pt x="1818" y="263"/>
                </a:lnTo>
                <a:lnTo>
                  <a:pt x="1829" y="279"/>
                </a:lnTo>
                <a:lnTo>
                  <a:pt x="1846" y="285"/>
                </a:lnTo>
                <a:lnTo>
                  <a:pt x="1863" y="285"/>
                </a:lnTo>
                <a:lnTo>
                  <a:pt x="1880" y="285"/>
                </a:lnTo>
                <a:lnTo>
                  <a:pt x="1898" y="268"/>
                </a:lnTo>
                <a:lnTo>
                  <a:pt x="1898" y="253"/>
                </a:lnTo>
                <a:lnTo>
                  <a:pt x="1898" y="236"/>
                </a:lnTo>
                <a:lnTo>
                  <a:pt x="1915" y="226"/>
                </a:lnTo>
                <a:lnTo>
                  <a:pt x="1933" y="231"/>
                </a:lnTo>
                <a:lnTo>
                  <a:pt x="1955" y="247"/>
                </a:lnTo>
                <a:lnTo>
                  <a:pt x="1972" y="253"/>
                </a:lnTo>
                <a:lnTo>
                  <a:pt x="1989" y="258"/>
                </a:lnTo>
                <a:lnTo>
                  <a:pt x="2006" y="253"/>
                </a:lnTo>
                <a:lnTo>
                  <a:pt x="2024" y="247"/>
                </a:lnTo>
                <a:lnTo>
                  <a:pt x="2042" y="247"/>
                </a:lnTo>
                <a:lnTo>
                  <a:pt x="2059" y="247"/>
                </a:lnTo>
                <a:lnTo>
                  <a:pt x="2076" y="247"/>
                </a:lnTo>
                <a:lnTo>
                  <a:pt x="2093" y="247"/>
                </a:lnTo>
                <a:lnTo>
                  <a:pt x="2110" y="247"/>
                </a:lnTo>
                <a:lnTo>
                  <a:pt x="2127" y="247"/>
                </a:lnTo>
                <a:lnTo>
                  <a:pt x="2144" y="241"/>
                </a:lnTo>
                <a:lnTo>
                  <a:pt x="2162" y="241"/>
                </a:lnTo>
                <a:lnTo>
                  <a:pt x="2179" y="241"/>
                </a:lnTo>
                <a:lnTo>
                  <a:pt x="2202" y="247"/>
                </a:lnTo>
                <a:lnTo>
                  <a:pt x="2225" y="258"/>
                </a:lnTo>
                <a:lnTo>
                  <a:pt x="2242" y="258"/>
                </a:lnTo>
                <a:lnTo>
                  <a:pt x="2259" y="258"/>
                </a:lnTo>
                <a:lnTo>
                  <a:pt x="2276" y="263"/>
                </a:lnTo>
                <a:lnTo>
                  <a:pt x="2271" y="279"/>
                </a:lnTo>
                <a:lnTo>
                  <a:pt x="2259" y="295"/>
                </a:lnTo>
                <a:lnTo>
                  <a:pt x="2254" y="311"/>
                </a:lnTo>
                <a:lnTo>
                  <a:pt x="2248" y="328"/>
                </a:lnTo>
                <a:lnTo>
                  <a:pt x="2230" y="333"/>
                </a:lnTo>
                <a:lnTo>
                  <a:pt x="2213" y="333"/>
                </a:lnTo>
                <a:lnTo>
                  <a:pt x="2196" y="344"/>
                </a:lnTo>
                <a:lnTo>
                  <a:pt x="2190" y="365"/>
                </a:lnTo>
                <a:lnTo>
                  <a:pt x="2185" y="382"/>
                </a:lnTo>
                <a:lnTo>
                  <a:pt x="2168" y="392"/>
                </a:lnTo>
                <a:lnTo>
                  <a:pt x="2150" y="397"/>
                </a:lnTo>
                <a:lnTo>
                  <a:pt x="2133" y="414"/>
                </a:lnTo>
                <a:lnTo>
                  <a:pt x="2122" y="430"/>
                </a:lnTo>
                <a:lnTo>
                  <a:pt x="2116" y="446"/>
                </a:lnTo>
                <a:lnTo>
                  <a:pt x="2105" y="462"/>
                </a:lnTo>
                <a:lnTo>
                  <a:pt x="2093" y="479"/>
                </a:lnTo>
                <a:lnTo>
                  <a:pt x="2087" y="494"/>
                </a:lnTo>
                <a:lnTo>
                  <a:pt x="2076" y="511"/>
                </a:lnTo>
                <a:lnTo>
                  <a:pt x="2064" y="526"/>
                </a:lnTo>
                <a:lnTo>
                  <a:pt x="2059" y="543"/>
                </a:lnTo>
                <a:lnTo>
                  <a:pt x="2052" y="559"/>
                </a:lnTo>
                <a:lnTo>
                  <a:pt x="2047" y="575"/>
                </a:lnTo>
                <a:lnTo>
                  <a:pt x="2047" y="591"/>
                </a:lnTo>
                <a:lnTo>
                  <a:pt x="2047" y="608"/>
                </a:lnTo>
                <a:lnTo>
                  <a:pt x="2042" y="623"/>
                </a:lnTo>
                <a:lnTo>
                  <a:pt x="2042" y="640"/>
                </a:lnTo>
                <a:lnTo>
                  <a:pt x="2042" y="655"/>
                </a:lnTo>
                <a:lnTo>
                  <a:pt x="2042" y="672"/>
                </a:lnTo>
                <a:lnTo>
                  <a:pt x="2042" y="689"/>
                </a:lnTo>
                <a:lnTo>
                  <a:pt x="2047" y="704"/>
                </a:lnTo>
                <a:lnTo>
                  <a:pt x="2047" y="721"/>
                </a:lnTo>
                <a:lnTo>
                  <a:pt x="2047" y="737"/>
                </a:lnTo>
                <a:lnTo>
                  <a:pt x="2047" y="753"/>
                </a:lnTo>
                <a:lnTo>
                  <a:pt x="2042" y="769"/>
                </a:lnTo>
                <a:lnTo>
                  <a:pt x="2035" y="785"/>
                </a:lnTo>
                <a:lnTo>
                  <a:pt x="2024" y="801"/>
                </a:lnTo>
                <a:lnTo>
                  <a:pt x="2013" y="818"/>
                </a:lnTo>
                <a:lnTo>
                  <a:pt x="2001" y="833"/>
                </a:lnTo>
                <a:lnTo>
                  <a:pt x="1996" y="850"/>
                </a:lnTo>
                <a:lnTo>
                  <a:pt x="1955" y="893"/>
                </a:lnTo>
                <a:lnTo>
                  <a:pt x="1938" y="898"/>
                </a:lnTo>
                <a:lnTo>
                  <a:pt x="1921" y="909"/>
                </a:lnTo>
                <a:lnTo>
                  <a:pt x="1898" y="914"/>
                </a:lnTo>
                <a:lnTo>
                  <a:pt x="1880" y="920"/>
                </a:lnTo>
                <a:lnTo>
                  <a:pt x="1863" y="925"/>
                </a:lnTo>
                <a:lnTo>
                  <a:pt x="1846" y="930"/>
                </a:lnTo>
                <a:lnTo>
                  <a:pt x="1829" y="935"/>
                </a:lnTo>
                <a:lnTo>
                  <a:pt x="1812" y="952"/>
                </a:lnTo>
                <a:lnTo>
                  <a:pt x="1795" y="952"/>
                </a:lnTo>
                <a:lnTo>
                  <a:pt x="1777" y="947"/>
                </a:lnTo>
                <a:lnTo>
                  <a:pt x="1755" y="957"/>
                </a:lnTo>
                <a:lnTo>
                  <a:pt x="1737" y="968"/>
                </a:lnTo>
                <a:lnTo>
                  <a:pt x="1726" y="984"/>
                </a:lnTo>
                <a:lnTo>
                  <a:pt x="1714" y="1000"/>
                </a:lnTo>
                <a:lnTo>
                  <a:pt x="1697" y="1006"/>
                </a:lnTo>
                <a:lnTo>
                  <a:pt x="1680" y="1016"/>
                </a:lnTo>
                <a:lnTo>
                  <a:pt x="1663" y="1027"/>
                </a:lnTo>
                <a:lnTo>
                  <a:pt x="1651" y="1043"/>
                </a:lnTo>
                <a:lnTo>
                  <a:pt x="1640" y="1059"/>
                </a:lnTo>
                <a:lnTo>
                  <a:pt x="1629" y="1081"/>
                </a:lnTo>
                <a:lnTo>
                  <a:pt x="1617" y="1098"/>
                </a:lnTo>
                <a:lnTo>
                  <a:pt x="1605" y="1113"/>
                </a:lnTo>
                <a:lnTo>
                  <a:pt x="1594" y="1130"/>
                </a:lnTo>
                <a:lnTo>
                  <a:pt x="1588" y="1145"/>
                </a:lnTo>
                <a:lnTo>
                  <a:pt x="1576" y="1162"/>
                </a:lnTo>
                <a:lnTo>
                  <a:pt x="1571" y="1178"/>
                </a:lnTo>
                <a:lnTo>
                  <a:pt x="1559" y="1194"/>
                </a:lnTo>
                <a:lnTo>
                  <a:pt x="1554" y="1210"/>
                </a:lnTo>
                <a:lnTo>
                  <a:pt x="1548" y="1232"/>
                </a:lnTo>
                <a:lnTo>
                  <a:pt x="1542" y="1247"/>
                </a:lnTo>
                <a:lnTo>
                  <a:pt x="1537" y="1264"/>
                </a:lnTo>
                <a:lnTo>
                  <a:pt x="1537" y="1280"/>
                </a:lnTo>
                <a:lnTo>
                  <a:pt x="1537" y="1296"/>
                </a:lnTo>
                <a:lnTo>
                  <a:pt x="1537" y="1318"/>
                </a:lnTo>
                <a:lnTo>
                  <a:pt x="1530" y="1339"/>
                </a:lnTo>
                <a:lnTo>
                  <a:pt x="1537" y="1356"/>
                </a:lnTo>
                <a:lnTo>
                  <a:pt x="1554" y="1371"/>
                </a:lnTo>
                <a:lnTo>
                  <a:pt x="1571" y="1377"/>
                </a:lnTo>
                <a:lnTo>
                  <a:pt x="1566" y="1393"/>
                </a:lnTo>
                <a:lnTo>
                  <a:pt x="1548" y="1410"/>
                </a:lnTo>
                <a:lnTo>
                  <a:pt x="1542" y="1425"/>
                </a:lnTo>
                <a:lnTo>
                  <a:pt x="1537" y="1442"/>
                </a:lnTo>
                <a:lnTo>
                  <a:pt x="1530" y="1458"/>
                </a:lnTo>
                <a:lnTo>
                  <a:pt x="1530" y="1474"/>
                </a:lnTo>
                <a:lnTo>
                  <a:pt x="1530" y="1490"/>
                </a:lnTo>
                <a:lnTo>
                  <a:pt x="1525" y="1506"/>
                </a:lnTo>
                <a:lnTo>
                  <a:pt x="1508" y="1512"/>
                </a:lnTo>
                <a:lnTo>
                  <a:pt x="1491" y="1522"/>
                </a:lnTo>
                <a:lnTo>
                  <a:pt x="1485" y="1544"/>
                </a:lnTo>
                <a:lnTo>
                  <a:pt x="1485" y="1559"/>
                </a:lnTo>
                <a:lnTo>
                  <a:pt x="1491" y="1587"/>
                </a:lnTo>
                <a:lnTo>
                  <a:pt x="1491" y="1603"/>
                </a:lnTo>
                <a:lnTo>
                  <a:pt x="1496" y="1619"/>
                </a:lnTo>
                <a:lnTo>
                  <a:pt x="1508" y="1635"/>
                </a:lnTo>
                <a:lnTo>
                  <a:pt x="1508" y="1656"/>
                </a:lnTo>
                <a:lnTo>
                  <a:pt x="1513" y="1673"/>
                </a:lnTo>
                <a:lnTo>
                  <a:pt x="1513" y="1688"/>
                </a:lnTo>
                <a:lnTo>
                  <a:pt x="1520" y="1705"/>
                </a:lnTo>
                <a:lnTo>
                  <a:pt x="1537" y="1716"/>
                </a:lnTo>
                <a:lnTo>
                  <a:pt x="1548" y="1732"/>
                </a:lnTo>
                <a:lnTo>
                  <a:pt x="1554" y="1748"/>
                </a:lnTo>
                <a:lnTo>
                  <a:pt x="1554" y="1764"/>
                </a:lnTo>
                <a:lnTo>
                  <a:pt x="1554" y="1780"/>
                </a:lnTo>
                <a:lnTo>
                  <a:pt x="1554" y="1797"/>
                </a:lnTo>
                <a:lnTo>
                  <a:pt x="1561" y="1807"/>
                </a:lnTo>
                <a:lnTo>
                  <a:pt x="1564" y="1812"/>
                </a:lnTo>
                <a:lnTo>
                  <a:pt x="1567" y="1826"/>
                </a:lnTo>
                <a:lnTo>
                  <a:pt x="1575" y="1839"/>
                </a:lnTo>
                <a:lnTo>
                  <a:pt x="1584" y="1861"/>
                </a:lnTo>
                <a:lnTo>
                  <a:pt x="1584" y="1899"/>
                </a:lnTo>
                <a:lnTo>
                  <a:pt x="1571" y="1910"/>
                </a:lnTo>
                <a:lnTo>
                  <a:pt x="1571" y="1926"/>
                </a:lnTo>
                <a:lnTo>
                  <a:pt x="1571" y="1942"/>
                </a:lnTo>
                <a:lnTo>
                  <a:pt x="1559" y="1958"/>
                </a:lnTo>
                <a:lnTo>
                  <a:pt x="1554" y="1980"/>
                </a:lnTo>
                <a:lnTo>
                  <a:pt x="1548" y="1995"/>
                </a:lnTo>
                <a:lnTo>
                  <a:pt x="1548" y="2012"/>
                </a:lnTo>
                <a:lnTo>
                  <a:pt x="1542" y="2028"/>
                </a:lnTo>
                <a:lnTo>
                  <a:pt x="1537" y="2044"/>
                </a:lnTo>
                <a:lnTo>
                  <a:pt x="1537" y="2060"/>
                </a:lnTo>
                <a:lnTo>
                  <a:pt x="1537" y="2077"/>
                </a:lnTo>
                <a:lnTo>
                  <a:pt x="1530" y="2092"/>
                </a:lnTo>
                <a:lnTo>
                  <a:pt x="1530" y="2109"/>
                </a:lnTo>
                <a:lnTo>
                  <a:pt x="1530" y="2124"/>
                </a:lnTo>
                <a:lnTo>
                  <a:pt x="1530" y="2141"/>
                </a:lnTo>
                <a:lnTo>
                  <a:pt x="1530" y="2157"/>
                </a:lnTo>
                <a:lnTo>
                  <a:pt x="1530" y="2173"/>
                </a:lnTo>
                <a:lnTo>
                  <a:pt x="1530" y="2189"/>
                </a:lnTo>
                <a:lnTo>
                  <a:pt x="1525" y="2206"/>
                </a:lnTo>
                <a:lnTo>
                  <a:pt x="1542" y="2216"/>
                </a:lnTo>
                <a:lnTo>
                  <a:pt x="1559" y="2222"/>
                </a:lnTo>
                <a:lnTo>
                  <a:pt x="1583" y="2233"/>
                </a:lnTo>
                <a:lnTo>
                  <a:pt x="1600" y="2238"/>
                </a:lnTo>
                <a:lnTo>
                  <a:pt x="1617" y="2238"/>
                </a:lnTo>
                <a:lnTo>
                  <a:pt x="1640" y="2238"/>
                </a:lnTo>
                <a:lnTo>
                  <a:pt x="1657" y="2233"/>
                </a:lnTo>
                <a:lnTo>
                  <a:pt x="1674" y="2233"/>
                </a:lnTo>
                <a:lnTo>
                  <a:pt x="1692" y="2233"/>
                </a:lnTo>
                <a:lnTo>
                  <a:pt x="1709" y="2227"/>
                </a:lnTo>
                <a:lnTo>
                  <a:pt x="1726" y="2222"/>
                </a:lnTo>
                <a:lnTo>
                  <a:pt x="1743" y="2216"/>
                </a:lnTo>
                <a:lnTo>
                  <a:pt x="1760" y="2206"/>
                </a:lnTo>
                <a:lnTo>
                  <a:pt x="1777" y="2206"/>
                </a:lnTo>
                <a:lnTo>
                  <a:pt x="1795" y="2206"/>
                </a:lnTo>
                <a:lnTo>
                  <a:pt x="1823" y="2216"/>
                </a:lnTo>
                <a:lnTo>
                  <a:pt x="1841" y="2222"/>
                </a:lnTo>
                <a:lnTo>
                  <a:pt x="1858" y="2233"/>
                </a:lnTo>
                <a:lnTo>
                  <a:pt x="1875" y="2254"/>
                </a:lnTo>
                <a:lnTo>
                  <a:pt x="1898" y="2270"/>
                </a:lnTo>
                <a:lnTo>
                  <a:pt x="1915" y="2270"/>
                </a:lnTo>
                <a:lnTo>
                  <a:pt x="1933" y="2275"/>
                </a:lnTo>
                <a:lnTo>
                  <a:pt x="1950" y="2270"/>
                </a:lnTo>
                <a:lnTo>
                  <a:pt x="1963" y="2265"/>
                </a:lnTo>
                <a:lnTo>
                  <a:pt x="1972" y="2250"/>
                </a:lnTo>
                <a:lnTo>
                  <a:pt x="1989" y="2235"/>
                </a:lnTo>
                <a:lnTo>
                  <a:pt x="2003" y="2216"/>
                </a:lnTo>
                <a:lnTo>
                  <a:pt x="2030" y="2211"/>
                </a:lnTo>
                <a:lnTo>
                  <a:pt x="2047" y="2206"/>
                </a:lnTo>
                <a:lnTo>
                  <a:pt x="2064" y="2211"/>
                </a:lnTo>
                <a:lnTo>
                  <a:pt x="2081" y="2211"/>
                </a:lnTo>
                <a:lnTo>
                  <a:pt x="2098" y="2206"/>
                </a:lnTo>
                <a:lnTo>
                  <a:pt x="2116" y="2200"/>
                </a:lnTo>
                <a:lnTo>
                  <a:pt x="2133" y="2195"/>
                </a:lnTo>
                <a:lnTo>
                  <a:pt x="2150" y="2195"/>
                </a:lnTo>
                <a:lnTo>
                  <a:pt x="2168" y="2200"/>
                </a:lnTo>
                <a:lnTo>
                  <a:pt x="2185" y="2211"/>
                </a:lnTo>
                <a:lnTo>
                  <a:pt x="2202" y="2227"/>
                </a:lnTo>
                <a:lnTo>
                  <a:pt x="2219" y="2243"/>
                </a:lnTo>
                <a:lnTo>
                  <a:pt x="2230" y="2260"/>
                </a:lnTo>
                <a:lnTo>
                  <a:pt x="2242" y="2275"/>
                </a:lnTo>
                <a:lnTo>
                  <a:pt x="2254" y="2292"/>
                </a:lnTo>
                <a:lnTo>
                  <a:pt x="2271" y="2302"/>
                </a:lnTo>
                <a:lnTo>
                  <a:pt x="2288" y="2302"/>
                </a:lnTo>
                <a:lnTo>
                  <a:pt x="2305" y="2302"/>
                </a:lnTo>
                <a:lnTo>
                  <a:pt x="2322" y="2302"/>
                </a:lnTo>
                <a:lnTo>
                  <a:pt x="2339" y="2307"/>
                </a:lnTo>
                <a:lnTo>
                  <a:pt x="2356" y="2313"/>
                </a:lnTo>
                <a:lnTo>
                  <a:pt x="2380" y="2329"/>
                </a:lnTo>
                <a:lnTo>
                  <a:pt x="2392" y="2345"/>
                </a:lnTo>
                <a:lnTo>
                  <a:pt x="2414" y="2362"/>
                </a:lnTo>
                <a:lnTo>
                  <a:pt x="2431" y="2362"/>
                </a:lnTo>
                <a:lnTo>
                  <a:pt x="2448" y="2362"/>
                </a:lnTo>
                <a:lnTo>
                  <a:pt x="2465" y="2362"/>
                </a:lnTo>
                <a:lnTo>
                  <a:pt x="2483" y="2383"/>
                </a:lnTo>
                <a:lnTo>
                  <a:pt x="2511" y="2394"/>
                </a:lnTo>
                <a:lnTo>
                  <a:pt x="2529" y="2394"/>
                </a:lnTo>
                <a:lnTo>
                  <a:pt x="2546" y="2394"/>
                </a:lnTo>
                <a:lnTo>
                  <a:pt x="2557" y="2410"/>
                </a:lnTo>
                <a:lnTo>
                  <a:pt x="2575" y="2421"/>
                </a:lnTo>
                <a:lnTo>
                  <a:pt x="2575" y="2436"/>
                </a:lnTo>
                <a:lnTo>
                  <a:pt x="2575" y="2453"/>
                </a:lnTo>
                <a:lnTo>
                  <a:pt x="2575" y="2469"/>
                </a:lnTo>
                <a:lnTo>
                  <a:pt x="2575" y="2485"/>
                </a:lnTo>
                <a:lnTo>
                  <a:pt x="2563" y="2507"/>
                </a:lnTo>
                <a:lnTo>
                  <a:pt x="2557" y="2523"/>
                </a:lnTo>
                <a:lnTo>
                  <a:pt x="2546" y="2539"/>
                </a:lnTo>
                <a:lnTo>
                  <a:pt x="2529" y="2555"/>
                </a:lnTo>
                <a:lnTo>
                  <a:pt x="2511" y="2560"/>
                </a:lnTo>
                <a:lnTo>
                  <a:pt x="2494" y="2560"/>
                </a:lnTo>
                <a:lnTo>
                  <a:pt x="2477" y="2567"/>
                </a:lnTo>
                <a:lnTo>
                  <a:pt x="2460" y="2582"/>
                </a:lnTo>
                <a:lnTo>
                  <a:pt x="2448" y="2599"/>
                </a:lnTo>
                <a:lnTo>
                  <a:pt x="2437" y="2620"/>
                </a:lnTo>
                <a:lnTo>
                  <a:pt x="2437" y="2636"/>
                </a:lnTo>
                <a:lnTo>
                  <a:pt x="2437" y="2652"/>
                </a:lnTo>
                <a:lnTo>
                  <a:pt x="2437" y="2668"/>
                </a:lnTo>
                <a:lnTo>
                  <a:pt x="2448" y="2684"/>
                </a:lnTo>
                <a:lnTo>
                  <a:pt x="2465" y="2706"/>
                </a:lnTo>
                <a:lnTo>
                  <a:pt x="2465" y="2722"/>
                </a:lnTo>
                <a:lnTo>
                  <a:pt x="2465" y="2738"/>
                </a:lnTo>
                <a:lnTo>
                  <a:pt x="2448" y="2749"/>
                </a:lnTo>
                <a:lnTo>
                  <a:pt x="2431" y="2765"/>
                </a:lnTo>
                <a:lnTo>
                  <a:pt x="2431" y="2781"/>
                </a:lnTo>
                <a:lnTo>
                  <a:pt x="2426" y="2797"/>
                </a:lnTo>
                <a:lnTo>
                  <a:pt x="2419" y="2813"/>
                </a:lnTo>
                <a:lnTo>
                  <a:pt x="2414" y="2830"/>
                </a:lnTo>
                <a:lnTo>
                  <a:pt x="2409" y="2845"/>
                </a:lnTo>
                <a:lnTo>
                  <a:pt x="2402" y="2867"/>
                </a:lnTo>
                <a:lnTo>
                  <a:pt x="2385" y="2884"/>
                </a:lnTo>
                <a:lnTo>
                  <a:pt x="2380" y="2899"/>
                </a:lnTo>
                <a:lnTo>
                  <a:pt x="2363" y="2916"/>
                </a:lnTo>
                <a:lnTo>
                  <a:pt x="2351" y="2937"/>
                </a:lnTo>
                <a:lnTo>
                  <a:pt x="2346" y="2954"/>
                </a:lnTo>
                <a:lnTo>
                  <a:pt x="2346" y="2969"/>
                </a:lnTo>
                <a:lnTo>
                  <a:pt x="2339" y="2991"/>
                </a:lnTo>
                <a:lnTo>
                  <a:pt x="2322" y="3001"/>
                </a:lnTo>
                <a:lnTo>
                  <a:pt x="2311" y="3018"/>
                </a:lnTo>
                <a:lnTo>
                  <a:pt x="2293" y="3034"/>
                </a:lnTo>
                <a:lnTo>
                  <a:pt x="2288" y="3050"/>
                </a:lnTo>
                <a:lnTo>
                  <a:pt x="2271" y="3061"/>
                </a:lnTo>
                <a:lnTo>
                  <a:pt x="2254" y="3066"/>
                </a:lnTo>
                <a:lnTo>
                  <a:pt x="2248" y="3083"/>
                </a:lnTo>
                <a:lnTo>
                  <a:pt x="2236" y="3104"/>
                </a:lnTo>
                <a:lnTo>
                  <a:pt x="2230" y="3120"/>
                </a:lnTo>
                <a:lnTo>
                  <a:pt x="2213" y="3125"/>
                </a:lnTo>
                <a:lnTo>
                  <a:pt x="2202" y="3142"/>
                </a:lnTo>
                <a:lnTo>
                  <a:pt x="2202" y="3157"/>
                </a:lnTo>
                <a:lnTo>
                  <a:pt x="2196" y="3179"/>
                </a:lnTo>
                <a:lnTo>
                  <a:pt x="2190" y="3196"/>
                </a:lnTo>
                <a:lnTo>
                  <a:pt x="2179" y="3212"/>
                </a:lnTo>
                <a:lnTo>
                  <a:pt x="2168" y="3228"/>
                </a:lnTo>
                <a:lnTo>
                  <a:pt x="2156" y="3244"/>
                </a:lnTo>
                <a:lnTo>
                  <a:pt x="2139" y="3249"/>
                </a:lnTo>
                <a:lnTo>
                  <a:pt x="2122" y="3249"/>
                </a:lnTo>
                <a:lnTo>
                  <a:pt x="2105" y="3249"/>
                </a:lnTo>
                <a:lnTo>
                  <a:pt x="2087" y="3249"/>
                </a:lnTo>
                <a:lnTo>
                  <a:pt x="2064" y="3255"/>
                </a:lnTo>
                <a:lnTo>
                  <a:pt x="2047" y="3266"/>
                </a:lnTo>
                <a:lnTo>
                  <a:pt x="2030" y="3276"/>
                </a:lnTo>
                <a:lnTo>
                  <a:pt x="2013" y="3287"/>
                </a:lnTo>
                <a:lnTo>
                  <a:pt x="1996" y="3287"/>
                </a:lnTo>
                <a:lnTo>
                  <a:pt x="1979" y="3287"/>
                </a:lnTo>
                <a:lnTo>
                  <a:pt x="1961" y="3293"/>
                </a:lnTo>
                <a:lnTo>
                  <a:pt x="1943" y="3308"/>
                </a:lnTo>
                <a:lnTo>
                  <a:pt x="1926" y="3313"/>
                </a:lnTo>
                <a:lnTo>
                  <a:pt x="1909" y="3320"/>
                </a:lnTo>
                <a:lnTo>
                  <a:pt x="1892" y="3325"/>
                </a:lnTo>
                <a:lnTo>
                  <a:pt x="1863" y="3320"/>
                </a:lnTo>
                <a:lnTo>
                  <a:pt x="1846" y="3308"/>
                </a:lnTo>
                <a:lnTo>
                  <a:pt x="1829" y="3303"/>
                </a:lnTo>
                <a:lnTo>
                  <a:pt x="1806" y="3303"/>
                </a:lnTo>
                <a:lnTo>
                  <a:pt x="1789" y="3303"/>
                </a:lnTo>
                <a:lnTo>
                  <a:pt x="1772" y="3308"/>
                </a:lnTo>
                <a:lnTo>
                  <a:pt x="1755" y="3325"/>
                </a:lnTo>
                <a:lnTo>
                  <a:pt x="1743" y="3341"/>
                </a:lnTo>
                <a:lnTo>
                  <a:pt x="1726" y="3368"/>
                </a:lnTo>
                <a:lnTo>
                  <a:pt x="1720" y="3384"/>
                </a:lnTo>
                <a:lnTo>
                  <a:pt x="1703" y="3400"/>
                </a:lnTo>
                <a:lnTo>
                  <a:pt x="1697" y="3416"/>
                </a:lnTo>
                <a:lnTo>
                  <a:pt x="1692" y="3432"/>
                </a:lnTo>
                <a:lnTo>
                  <a:pt x="1686" y="3449"/>
                </a:lnTo>
                <a:lnTo>
                  <a:pt x="1686" y="3454"/>
                </a:lnTo>
                <a:lnTo>
                  <a:pt x="1691" y="3451"/>
                </a:lnTo>
                <a:lnTo>
                  <a:pt x="1688" y="3451"/>
                </a:lnTo>
                <a:lnTo>
                  <a:pt x="1686" y="3449"/>
                </a:lnTo>
                <a:lnTo>
                  <a:pt x="1686" y="3450"/>
                </a:lnTo>
                <a:lnTo>
                  <a:pt x="1686" y="34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61240" y="2421000"/>
            <a:ext cx="82440" cy="74520"/>
          </a:xfrm>
          <a:custGeom>
            <a:avLst/>
            <a:gdLst>
              <a:gd name="textAreaLeft" fmla="*/ 18720 w 82440"/>
              <a:gd name="textAreaRight" fmla="*/ 63720 w 82440"/>
              <a:gd name="textAreaTop" fmla="*/ 16920 h 74520"/>
              <a:gd name="textAreaBottom" fmla="*/ 57600 h 74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892840" y="2335320"/>
            <a:ext cx="9288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BELO HORIZON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95480" y="3048120"/>
            <a:ext cx="1865520" cy="1199880"/>
          </a:xfrm>
          <a:custGeom>
            <a:avLst/>
            <a:gdLst/>
            <a:ahLst/>
            <a:rect l="l" t="t" r="r" b="b"/>
            <a:pathLst>
              <a:path w="2181" h="1457">
                <a:moveTo>
                  <a:pt x="212" y="432"/>
                </a:moveTo>
                <a:lnTo>
                  <a:pt x="224" y="416"/>
                </a:lnTo>
                <a:lnTo>
                  <a:pt x="212" y="432"/>
                </a:lnTo>
                <a:lnTo>
                  <a:pt x="240" y="392"/>
                </a:lnTo>
                <a:lnTo>
                  <a:pt x="252" y="384"/>
                </a:lnTo>
                <a:lnTo>
                  <a:pt x="260" y="372"/>
                </a:lnTo>
                <a:lnTo>
                  <a:pt x="268" y="360"/>
                </a:lnTo>
                <a:lnTo>
                  <a:pt x="276" y="348"/>
                </a:lnTo>
                <a:lnTo>
                  <a:pt x="284" y="336"/>
                </a:lnTo>
                <a:lnTo>
                  <a:pt x="296" y="328"/>
                </a:lnTo>
                <a:lnTo>
                  <a:pt x="308" y="324"/>
                </a:lnTo>
                <a:lnTo>
                  <a:pt x="320" y="312"/>
                </a:lnTo>
                <a:lnTo>
                  <a:pt x="328" y="296"/>
                </a:lnTo>
                <a:lnTo>
                  <a:pt x="332" y="284"/>
                </a:lnTo>
                <a:lnTo>
                  <a:pt x="336" y="272"/>
                </a:lnTo>
                <a:lnTo>
                  <a:pt x="340" y="260"/>
                </a:lnTo>
                <a:lnTo>
                  <a:pt x="344" y="248"/>
                </a:lnTo>
                <a:lnTo>
                  <a:pt x="348" y="236"/>
                </a:lnTo>
                <a:lnTo>
                  <a:pt x="352" y="224"/>
                </a:lnTo>
                <a:lnTo>
                  <a:pt x="356" y="212"/>
                </a:lnTo>
                <a:lnTo>
                  <a:pt x="360" y="200"/>
                </a:lnTo>
                <a:lnTo>
                  <a:pt x="364" y="188"/>
                </a:lnTo>
                <a:lnTo>
                  <a:pt x="364" y="176"/>
                </a:lnTo>
                <a:lnTo>
                  <a:pt x="364" y="164"/>
                </a:lnTo>
                <a:lnTo>
                  <a:pt x="368" y="152"/>
                </a:lnTo>
                <a:lnTo>
                  <a:pt x="380" y="148"/>
                </a:lnTo>
                <a:lnTo>
                  <a:pt x="384" y="136"/>
                </a:lnTo>
                <a:lnTo>
                  <a:pt x="396" y="132"/>
                </a:lnTo>
                <a:lnTo>
                  <a:pt x="408" y="128"/>
                </a:lnTo>
                <a:lnTo>
                  <a:pt x="424" y="120"/>
                </a:lnTo>
                <a:lnTo>
                  <a:pt x="440" y="120"/>
                </a:lnTo>
                <a:lnTo>
                  <a:pt x="456" y="112"/>
                </a:lnTo>
                <a:lnTo>
                  <a:pt x="468" y="112"/>
                </a:lnTo>
                <a:lnTo>
                  <a:pt x="480" y="112"/>
                </a:lnTo>
                <a:lnTo>
                  <a:pt x="492" y="108"/>
                </a:lnTo>
                <a:lnTo>
                  <a:pt x="500" y="96"/>
                </a:lnTo>
                <a:lnTo>
                  <a:pt x="504" y="84"/>
                </a:lnTo>
                <a:lnTo>
                  <a:pt x="512" y="72"/>
                </a:lnTo>
                <a:lnTo>
                  <a:pt x="520" y="60"/>
                </a:lnTo>
                <a:lnTo>
                  <a:pt x="528" y="48"/>
                </a:lnTo>
                <a:lnTo>
                  <a:pt x="536" y="36"/>
                </a:lnTo>
                <a:lnTo>
                  <a:pt x="536" y="24"/>
                </a:lnTo>
                <a:lnTo>
                  <a:pt x="536" y="12"/>
                </a:lnTo>
                <a:lnTo>
                  <a:pt x="536" y="0"/>
                </a:lnTo>
                <a:lnTo>
                  <a:pt x="548" y="0"/>
                </a:lnTo>
                <a:lnTo>
                  <a:pt x="560" y="0"/>
                </a:lnTo>
                <a:lnTo>
                  <a:pt x="572" y="12"/>
                </a:lnTo>
                <a:lnTo>
                  <a:pt x="584" y="20"/>
                </a:lnTo>
                <a:lnTo>
                  <a:pt x="596" y="24"/>
                </a:lnTo>
                <a:lnTo>
                  <a:pt x="608" y="32"/>
                </a:lnTo>
                <a:lnTo>
                  <a:pt x="620" y="36"/>
                </a:lnTo>
                <a:lnTo>
                  <a:pt x="632" y="40"/>
                </a:lnTo>
                <a:lnTo>
                  <a:pt x="644" y="32"/>
                </a:lnTo>
                <a:lnTo>
                  <a:pt x="676" y="32"/>
                </a:lnTo>
                <a:lnTo>
                  <a:pt x="688" y="32"/>
                </a:lnTo>
                <a:lnTo>
                  <a:pt x="700" y="40"/>
                </a:lnTo>
                <a:lnTo>
                  <a:pt x="724" y="44"/>
                </a:lnTo>
                <a:lnTo>
                  <a:pt x="756" y="40"/>
                </a:lnTo>
                <a:lnTo>
                  <a:pt x="760" y="28"/>
                </a:lnTo>
                <a:lnTo>
                  <a:pt x="772" y="24"/>
                </a:lnTo>
                <a:lnTo>
                  <a:pt x="772" y="36"/>
                </a:lnTo>
                <a:lnTo>
                  <a:pt x="784" y="44"/>
                </a:lnTo>
                <a:lnTo>
                  <a:pt x="796" y="44"/>
                </a:lnTo>
                <a:lnTo>
                  <a:pt x="812" y="52"/>
                </a:lnTo>
                <a:lnTo>
                  <a:pt x="824" y="56"/>
                </a:lnTo>
                <a:lnTo>
                  <a:pt x="836" y="56"/>
                </a:lnTo>
                <a:lnTo>
                  <a:pt x="840" y="44"/>
                </a:lnTo>
                <a:lnTo>
                  <a:pt x="852" y="36"/>
                </a:lnTo>
                <a:lnTo>
                  <a:pt x="856" y="24"/>
                </a:lnTo>
                <a:lnTo>
                  <a:pt x="872" y="16"/>
                </a:lnTo>
                <a:lnTo>
                  <a:pt x="884" y="16"/>
                </a:lnTo>
                <a:lnTo>
                  <a:pt x="896" y="24"/>
                </a:lnTo>
                <a:lnTo>
                  <a:pt x="904" y="36"/>
                </a:lnTo>
                <a:lnTo>
                  <a:pt x="916" y="36"/>
                </a:lnTo>
                <a:lnTo>
                  <a:pt x="932" y="36"/>
                </a:lnTo>
                <a:lnTo>
                  <a:pt x="944" y="44"/>
                </a:lnTo>
                <a:lnTo>
                  <a:pt x="956" y="44"/>
                </a:lnTo>
                <a:lnTo>
                  <a:pt x="968" y="56"/>
                </a:lnTo>
                <a:lnTo>
                  <a:pt x="980" y="64"/>
                </a:lnTo>
                <a:lnTo>
                  <a:pt x="984" y="76"/>
                </a:lnTo>
                <a:lnTo>
                  <a:pt x="996" y="80"/>
                </a:lnTo>
                <a:lnTo>
                  <a:pt x="1008" y="84"/>
                </a:lnTo>
                <a:lnTo>
                  <a:pt x="1020" y="84"/>
                </a:lnTo>
                <a:lnTo>
                  <a:pt x="1028" y="72"/>
                </a:lnTo>
                <a:lnTo>
                  <a:pt x="1036" y="60"/>
                </a:lnTo>
                <a:lnTo>
                  <a:pt x="1048" y="60"/>
                </a:lnTo>
                <a:lnTo>
                  <a:pt x="1060" y="60"/>
                </a:lnTo>
                <a:lnTo>
                  <a:pt x="1060" y="72"/>
                </a:lnTo>
                <a:lnTo>
                  <a:pt x="1076" y="72"/>
                </a:lnTo>
                <a:lnTo>
                  <a:pt x="1084" y="84"/>
                </a:lnTo>
                <a:lnTo>
                  <a:pt x="1096" y="84"/>
                </a:lnTo>
                <a:lnTo>
                  <a:pt x="1108" y="84"/>
                </a:lnTo>
                <a:lnTo>
                  <a:pt x="1120" y="84"/>
                </a:lnTo>
                <a:lnTo>
                  <a:pt x="1132" y="84"/>
                </a:lnTo>
                <a:lnTo>
                  <a:pt x="1144" y="84"/>
                </a:lnTo>
                <a:lnTo>
                  <a:pt x="1156" y="84"/>
                </a:lnTo>
                <a:lnTo>
                  <a:pt x="1168" y="92"/>
                </a:lnTo>
                <a:lnTo>
                  <a:pt x="1172" y="104"/>
                </a:lnTo>
                <a:lnTo>
                  <a:pt x="1184" y="112"/>
                </a:lnTo>
                <a:lnTo>
                  <a:pt x="1196" y="120"/>
                </a:lnTo>
                <a:lnTo>
                  <a:pt x="1208" y="128"/>
                </a:lnTo>
                <a:lnTo>
                  <a:pt x="1208" y="140"/>
                </a:lnTo>
                <a:lnTo>
                  <a:pt x="1220" y="144"/>
                </a:lnTo>
                <a:lnTo>
                  <a:pt x="1220" y="156"/>
                </a:lnTo>
                <a:lnTo>
                  <a:pt x="1232" y="168"/>
                </a:lnTo>
                <a:lnTo>
                  <a:pt x="1244" y="176"/>
                </a:lnTo>
                <a:lnTo>
                  <a:pt x="1256" y="184"/>
                </a:lnTo>
                <a:lnTo>
                  <a:pt x="1268" y="188"/>
                </a:lnTo>
                <a:lnTo>
                  <a:pt x="1280" y="192"/>
                </a:lnTo>
                <a:lnTo>
                  <a:pt x="1292" y="196"/>
                </a:lnTo>
                <a:lnTo>
                  <a:pt x="1304" y="196"/>
                </a:lnTo>
                <a:lnTo>
                  <a:pt x="1316" y="196"/>
                </a:lnTo>
                <a:lnTo>
                  <a:pt x="1332" y="196"/>
                </a:lnTo>
                <a:lnTo>
                  <a:pt x="1348" y="196"/>
                </a:lnTo>
                <a:lnTo>
                  <a:pt x="1364" y="196"/>
                </a:lnTo>
                <a:lnTo>
                  <a:pt x="1376" y="196"/>
                </a:lnTo>
                <a:lnTo>
                  <a:pt x="1388" y="196"/>
                </a:lnTo>
                <a:lnTo>
                  <a:pt x="1400" y="196"/>
                </a:lnTo>
                <a:lnTo>
                  <a:pt x="1412" y="196"/>
                </a:lnTo>
                <a:lnTo>
                  <a:pt x="1424" y="196"/>
                </a:lnTo>
                <a:lnTo>
                  <a:pt x="1436" y="196"/>
                </a:lnTo>
                <a:lnTo>
                  <a:pt x="1448" y="200"/>
                </a:lnTo>
                <a:lnTo>
                  <a:pt x="1460" y="200"/>
                </a:lnTo>
                <a:lnTo>
                  <a:pt x="1472" y="200"/>
                </a:lnTo>
                <a:lnTo>
                  <a:pt x="1484" y="192"/>
                </a:lnTo>
                <a:lnTo>
                  <a:pt x="1496" y="184"/>
                </a:lnTo>
                <a:lnTo>
                  <a:pt x="1508" y="180"/>
                </a:lnTo>
                <a:lnTo>
                  <a:pt x="1508" y="168"/>
                </a:lnTo>
                <a:lnTo>
                  <a:pt x="1520" y="160"/>
                </a:lnTo>
                <a:lnTo>
                  <a:pt x="1532" y="160"/>
                </a:lnTo>
                <a:lnTo>
                  <a:pt x="1540" y="172"/>
                </a:lnTo>
                <a:lnTo>
                  <a:pt x="1552" y="180"/>
                </a:lnTo>
                <a:lnTo>
                  <a:pt x="1564" y="188"/>
                </a:lnTo>
                <a:lnTo>
                  <a:pt x="1572" y="200"/>
                </a:lnTo>
                <a:lnTo>
                  <a:pt x="1584" y="208"/>
                </a:lnTo>
                <a:lnTo>
                  <a:pt x="1596" y="220"/>
                </a:lnTo>
                <a:lnTo>
                  <a:pt x="1608" y="228"/>
                </a:lnTo>
                <a:lnTo>
                  <a:pt x="1620" y="236"/>
                </a:lnTo>
                <a:lnTo>
                  <a:pt x="1632" y="244"/>
                </a:lnTo>
                <a:lnTo>
                  <a:pt x="1644" y="248"/>
                </a:lnTo>
                <a:lnTo>
                  <a:pt x="1656" y="252"/>
                </a:lnTo>
                <a:lnTo>
                  <a:pt x="1668" y="264"/>
                </a:lnTo>
                <a:lnTo>
                  <a:pt x="1668" y="276"/>
                </a:lnTo>
                <a:lnTo>
                  <a:pt x="1680" y="280"/>
                </a:lnTo>
                <a:lnTo>
                  <a:pt x="1684" y="292"/>
                </a:lnTo>
                <a:lnTo>
                  <a:pt x="1684" y="304"/>
                </a:lnTo>
                <a:lnTo>
                  <a:pt x="1688" y="320"/>
                </a:lnTo>
                <a:lnTo>
                  <a:pt x="1696" y="336"/>
                </a:lnTo>
                <a:lnTo>
                  <a:pt x="1700" y="348"/>
                </a:lnTo>
                <a:lnTo>
                  <a:pt x="1704" y="360"/>
                </a:lnTo>
                <a:lnTo>
                  <a:pt x="1712" y="372"/>
                </a:lnTo>
                <a:lnTo>
                  <a:pt x="1716" y="384"/>
                </a:lnTo>
                <a:lnTo>
                  <a:pt x="1720" y="396"/>
                </a:lnTo>
                <a:lnTo>
                  <a:pt x="1724" y="408"/>
                </a:lnTo>
                <a:lnTo>
                  <a:pt x="1724" y="424"/>
                </a:lnTo>
                <a:lnTo>
                  <a:pt x="1724" y="436"/>
                </a:lnTo>
                <a:lnTo>
                  <a:pt x="1728" y="448"/>
                </a:lnTo>
                <a:lnTo>
                  <a:pt x="1732" y="460"/>
                </a:lnTo>
                <a:lnTo>
                  <a:pt x="1736" y="472"/>
                </a:lnTo>
                <a:lnTo>
                  <a:pt x="1744" y="484"/>
                </a:lnTo>
                <a:lnTo>
                  <a:pt x="1744" y="496"/>
                </a:lnTo>
                <a:lnTo>
                  <a:pt x="1744" y="508"/>
                </a:lnTo>
                <a:lnTo>
                  <a:pt x="1744" y="520"/>
                </a:lnTo>
                <a:lnTo>
                  <a:pt x="1744" y="532"/>
                </a:lnTo>
                <a:lnTo>
                  <a:pt x="1744" y="544"/>
                </a:lnTo>
                <a:lnTo>
                  <a:pt x="1744" y="556"/>
                </a:lnTo>
                <a:lnTo>
                  <a:pt x="1756" y="560"/>
                </a:lnTo>
                <a:lnTo>
                  <a:pt x="1764" y="572"/>
                </a:lnTo>
                <a:lnTo>
                  <a:pt x="1768" y="584"/>
                </a:lnTo>
                <a:lnTo>
                  <a:pt x="1780" y="592"/>
                </a:lnTo>
                <a:lnTo>
                  <a:pt x="1780" y="604"/>
                </a:lnTo>
                <a:lnTo>
                  <a:pt x="1780" y="616"/>
                </a:lnTo>
                <a:lnTo>
                  <a:pt x="1784" y="628"/>
                </a:lnTo>
                <a:lnTo>
                  <a:pt x="1796" y="640"/>
                </a:lnTo>
                <a:lnTo>
                  <a:pt x="1796" y="652"/>
                </a:lnTo>
                <a:lnTo>
                  <a:pt x="1796" y="664"/>
                </a:lnTo>
                <a:lnTo>
                  <a:pt x="1792" y="676"/>
                </a:lnTo>
                <a:lnTo>
                  <a:pt x="1788" y="688"/>
                </a:lnTo>
                <a:lnTo>
                  <a:pt x="1780" y="700"/>
                </a:lnTo>
                <a:lnTo>
                  <a:pt x="1776" y="712"/>
                </a:lnTo>
                <a:lnTo>
                  <a:pt x="1772" y="724"/>
                </a:lnTo>
                <a:lnTo>
                  <a:pt x="1772" y="736"/>
                </a:lnTo>
                <a:lnTo>
                  <a:pt x="1772" y="748"/>
                </a:lnTo>
                <a:lnTo>
                  <a:pt x="1780" y="760"/>
                </a:lnTo>
                <a:lnTo>
                  <a:pt x="1788" y="772"/>
                </a:lnTo>
                <a:lnTo>
                  <a:pt x="1800" y="780"/>
                </a:lnTo>
                <a:lnTo>
                  <a:pt x="1812" y="784"/>
                </a:lnTo>
                <a:lnTo>
                  <a:pt x="1824" y="784"/>
                </a:lnTo>
                <a:lnTo>
                  <a:pt x="1840" y="784"/>
                </a:lnTo>
                <a:lnTo>
                  <a:pt x="1872" y="784"/>
                </a:lnTo>
                <a:lnTo>
                  <a:pt x="1884" y="784"/>
                </a:lnTo>
                <a:lnTo>
                  <a:pt x="1892" y="768"/>
                </a:lnTo>
                <a:lnTo>
                  <a:pt x="1896" y="784"/>
                </a:lnTo>
                <a:lnTo>
                  <a:pt x="1908" y="784"/>
                </a:lnTo>
                <a:lnTo>
                  <a:pt x="1916" y="796"/>
                </a:lnTo>
                <a:lnTo>
                  <a:pt x="1928" y="800"/>
                </a:lnTo>
                <a:lnTo>
                  <a:pt x="1940" y="800"/>
                </a:lnTo>
                <a:lnTo>
                  <a:pt x="1952" y="796"/>
                </a:lnTo>
                <a:lnTo>
                  <a:pt x="1956" y="784"/>
                </a:lnTo>
                <a:lnTo>
                  <a:pt x="1968" y="780"/>
                </a:lnTo>
                <a:lnTo>
                  <a:pt x="1992" y="780"/>
                </a:lnTo>
                <a:lnTo>
                  <a:pt x="2004" y="780"/>
                </a:lnTo>
                <a:lnTo>
                  <a:pt x="2004" y="792"/>
                </a:lnTo>
                <a:lnTo>
                  <a:pt x="1988" y="768"/>
                </a:lnTo>
                <a:lnTo>
                  <a:pt x="1992" y="788"/>
                </a:lnTo>
                <a:lnTo>
                  <a:pt x="1992" y="800"/>
                </a:lnTo>
                <a:lnTo>
                  <a:pt x="2004" y="800"/>
                </a:lnTo>
                <a:lnTo>
                  <a:pt x="2016" y="800"/>
                </a:lnTo>
                <a:lnTo>
                  <a:pt x="2028" y="792"/>
                </a:lnTo>
                <a:lnTo>
                  <a:pt x="2040" y="800"/>
                </a:lnTo>
                <a:lnTo>
                  <a:pt x="2040" y="812"/>
                </a:lnTo>
                <a:lnTo>
                  <a:pt x="2044" y="824"/>
                </a:lnTo>
                <a:lnTo>
                  <a:pt x="2044" y="836"/>
                </a:lnTo>
                <a:lnTo>
                  <a:pt x="2044" y="848"/>
                </a:lnTo>
                <a:lnTo>
                  <a:pt x="2040" y="860"/>
                </a:lnTo>
                <a:lnTo>
                  <a:pt x="2040" y="872"/>
                </a:lnTo>
                <a:lnTo>
                  <a:pt x="2032" y="884"/>
                </a:lnTo>
                <a:lnTo>
                  <a:pt x="2036" y="896"/>
                </a:lnTo>
                <a:lnTo>
                  <a:pt x="2048" y="896"/>
                </a:lnTo>
                <a:lnTo>
                  <a:pt x="2060" y="900"/>
                </a:lnTo>
                <a:lnTo>
                  <a:pt x="2072" y="900"/>
                </a:lnTo>
                <a:lnTo>
                  <a:pt x="2084" y="900"/>
                </a:lnTo>
                <a:lnTo>
                  <a:pt x="2096" y="900"/>
                </a:lnTo>
                <a:lnTo>
                  <a:pt x="2108" y="900"/>
                </a:lnTo>
                <a:lnTo>
                  <a:pt x="2116" y="912"/>
                </a:lnTo>
                <a:lnTo>
                  <a:pt x="2128" y="920"/>
                </a:lnTo>
                <a:lnTo>
                  <a:pt x="2136" y="936"/>
                </a:lnTo>
                <a:lnTo>
                  <a:pt x="2140" y="948"/>
                </a:lnTo>
                <a:lnTo>
                  <a:pt x="2144" y="960"/>
                </a:lnTo>
                <a:lnTo>
                  <a:pt x="2148" y="972"/>
                </a:lnTo>
                <a:lnTo>
                  <a:pt x="2156" y="984"/>
                </a:lnTo>
                <a:lnTo>
                  <a:pt x="2164" y="996"/>
                </a:lnTo>
                <a:lnTo>
                  <a:pt x="2176" y="1004"/>
                </a:lnTo>
                <a:lnTo>
                  <a:pt x="2180" y="1016"/>
                </a:lnTo>
                <a:lnTo>
                  <a:pt x="2180" y="1028"/>
                </a:lnTo>
                <a:lnTo>
                  <a:pt x="2180" y="1040"/>
                </a:lnTo>
                <a:lnTo>
                  <a:pt x="2168" y="1040"/>
                </a:lnTo>
                <a:lnTo>
                  <a:pt x="2152" y="1048"/>
                </a:lnTo>
                <a:lnTo>
                  <a:pt x="2124" y="1048"/>
                </a:lnTo>
                <a:lnTo>
                  <a:pt x="2112" y="1056"/>
                </a:lnTo>
                <a:lnTo>
                  <a:pt x="2108" y="1040"/>
                </a:lnTo>
                <a:lnTo>
                  <a:pt x="2104" y="1028"/>
                </a:lnTo>
                <a:lnTo>
                  <a:pt x="2100" y="1016"/>
                </a:lnTo>
                <a:lnTo>
                  <a:pt x="2092" y="1004"/>
                </a:lnTo>
                <a:lnTo>
                  <a:pt x="2080" y="1000"/>
                </a:lnTo>
                <a:lnTo>
                  <a:pt x="2080" y="1012"/>
                </a:lnTo>
                <a:lnTo>
                  <a:pt x="2076" y="1024"/>
                </a:lnTo>
                <a:lnTo>
                  <a:pt x="2064" y="1036"/>
                </a:lnTo>
                <a:lnTo>
                  <a:pt x="2060" y="1048"/>
                </a:lnTo>
                <a:lnTo>
                  <a:pt x="2048" y="1056"/>
                </a:lnTo>
                <a:lnTo>
                  <a:pt x="2036" y="1056"/>
                </a:lnTo>
                <a:lnTo>
                  <a:pt x="2024" y="1056"/>
                </a:lnTo>
                <a:lnTo>
                  <a:pt x="2012" y="1052"/>
                </a:lnTo>
                <a:lnTo>
                  <a:pt x="2008" y="1040"/>
                </a:lnTo>
                <a:lnTo>
                  <a:pt x="1996" y="1032"/>
                </a:lnTo>
                <a:lnTo>
                  <a:pt x="1984" y="1028"/>
                </a:lnTo>
                <a:lnTo>
                  <a:pt x="1980" y="1040"/>
                </a:lnTo>
                <a:lnTo>
                  <a:pt x="1980" y="1052"/>
                </a:lnTo>
                <a:lnTo>
                  <a:pt x="1980" y="1064"/>
                </a:lnTo>
                <a:lnTo>
                  <a:pt x="1968" y="1076"/>
                </a:lnTo>
                <a:lnTo>
                  <a:pt x="1980" y="1084"/>
                </a:lnTo>
                <a:lnTo>
                  <a:pt x="1992" y="1084"/>
                </a:lnTo>
                <a:lnTo>
                  <a:pt x="2016" y="1088"/>
                </a:lnTo>
                <a:lnTo>
                  <a:pt x="2020" y="1100"/>
                </a:lnTo>
                <a:lnTo>
                  <a:pt x="2032" y="1104"/>
                </a:lnTo>
                <a:lnTo>
                  <a:pt x="2056" y="1104"/>
                </a:lnTo>
                <a:lnTo>
                  <a:pt x="2068" y="1104"/>
                </a:lnTo>
                <a:lnTo>
                  <a:pt x="2072" y="1116"/>
                </a:lnTo>
                <a:lnTo>
                  <a:pt x="2072" y="1128"/>
                </a:lnTo>
                <a:lnTo>
                  <a:pt x="2060" y="1136"/>
                </a:lnTo>
                <a:lnTo>
                  <a:pt x="2048" y="1144"/>
                </a:lnTo>
                <a:lnTo>
                  <a:pt x="2040" y="1156"/>
                </a:lnTo>
                <a:lnTo>
                  <a:pt x="2032" y="1168"/>
                </a:lnTo>
                <a:lnTo>
                  <a:pt x="2020" y="1176"/>
                </a:lnTo>
                <a:lnTo>
                  <a:pt x="2016" y="1188"/>
                </a:lnTo>
                <a:lnTo>
                  <a:pt x="2008" y="1200"/>
                </a:lnTo>
                <a:lnTo>
                  <a:pt x="2004" y="1212"/>
                </a:lnTo>
                <a:lnTo>
                  <a:pt x="2004" y="1224"/>
                </a:lnTo>
                <a:lnTo>
                  <a:pt x="1992" y="1232"/>
                </a:lnTo>
                <a:lnTo>
                  <a:pt x="1988" y="1244"/>
                </a:lnTo>
                <a:lnTo>
                  <a:pt x="1988" y="1256"/>
                </a:lnTo>
                <a:lnTo>
                  <a:pt x="1988" y="1268"/>
                </a:lnTo>
                <a:lnTo>
                  <a:pt x="1988" y="1248"/>
                </a:lnTo>
                <a:lnTo>
                  <a:pt x="1976" y="1256"/>
                </a:lnTo>
                <a:lnTo>
                  <a:pt x="1964" y="1248"/>
                </a:lnTo>
                <a:lnTo>
                  <a:pt x="1928" y="1248"/>
                </a:lnTo>
                <a:lnTo>
                  <a:pt x="1904" y="1248"/>
                </a:lnTo>
                <a:lnTo>
                  <a:pt x="1892" y="1240"/>
                </a:lnTo>
                <a:lnTo>
                  <a:pt x="1880" y="1240"/>
                </a:lnTo>
                <a:lnTo>
                  <a:pt x="1868" y="1248"/>
                </a:lnTo>
                <a:lnTo>
                  <a:pt x="1856" y="1248"/>
                </a:lnTo>
                <a:lnTo>
                  <a:pt x="1844" y="1248"/>
                </a:lnTo>
                <a:lnTo>
                  <a:pt x="1832" y="1248"/>
                </a:lnTo>
                <a:lnTo>
                  <a:pt x="1820" y="1248"/>
                </a:lnTo>
                <a:lnTo>
                  <a:pt x="1808" y="1248"/>
                </a:lnTo>
                <a:lnTo>
                  <a:pt x="1796" y="1248"/>
                </a:lnTo>
                <a:lnTo>
                  <a:pt x="1788" y="1260"/>
                </a:lnTo>
                <a:lnTo>
                  <a:pt x="1776" y="1264"/>
                </a:lnTo>
                <a:lnTo>
                  <a:pt x="1764" y="1264"/>
                </a:lnTo>
                <a:lnTo>
                  <a:pt x="1748" y="1264"/>
                </a:lnTo>
                <a:lnTo>
                  <a:pt x="1736" y="1272"/>
                </a:lnTo>
                <a:lnTo>
                  <a:pt x="1724" y="1272"/>
                </a:lnTo>
                <a:lnTo>
                  <a:pt x="1712" y="1276"/>
                </a:lnTo>
                <a:lnTo>
                  <a:pt x="1700" y="1284"/>
                </a:lnTo>
                <a:lnTo>
                  <a:pt x="1692" y="1296"/>
                </a:lnTo>
                <a:lnTo>
                  <a:pt x="1680" y="1296"/>
                </a:lnTo>
                <a:lnTo>
                  <a:pt x="1664" y="1296"/>
                </a:lnTo>
                <a:lnTo>
                  <a:pt x="1640" y="1296"/>
                </a:lnTo>
                <a:lnTo>
                  <a:pt x="1628" y="1296"/>
                </a:lnTo>
                <a:lnTo>
                  <a:pt x="1624" y="1284"/>
                </a:lnTo>
                <a:lnTo>
                  <a:pt x="1612" y="1276"/>
                </a:lnTo>
                <a:lnTo>
                  <a:pt x="1600" y="1272"/>
                </a:lnTo>
                <a:lnTo>
                  <a:pt x="1588" y="1272"/>
                </a:lnTo>
                <a:lnTo>
                  <a:pt x="1576" y="1264"/>
                </a:lnTo>
                <a:lnTo>
                  <a:pt x="1540" y="1256"/>
                </a:lnTo>
                <a:lnTo>
                  <a:pt x="1528" y="1256"/>
                </a:lnTo>
                <a:lnTo>
                  <a:pt x="1516" y="1252"/>
                </a:lnTo>
                <a:lnTo>
                  <a:pt x="1504" y="1252"/>
                </a:lnTo>
                <a:lnTo>
                  <a:pt x="1492" y="1252"/>
                </a:lnTo>
                <a:lnTo>
                  <a:pt x="1464" y="1256"/>
                </a:lnTo>
                <a:lnTo>
                  <a:pt x="1452" y="1260"/>
                </a:lnTo>
                <a:lnTo>
                  <a:pt x="1404" y="1268"/>
                </a:lnTo>
                <a:lnTo>
                  <a:pt x="1372" y="1268"/>
                </a:lnTo>
                <a:lnTo>
                  <a:pt x="1364" y="1248"/>
                </a:lnTo>
                <a:lnTo>
                  <a:pt x="1372" y="1264"/>
                </a:lnTo>
                <a:lnTo>
                  <a:pt x="1360" y="1264"/>
                </a:lnTo>
                <a:lnTo>
                  <a:pt x="1328" y="1264"/>
                </a:lnTo>
                <a:lnTo>
                  <a:pt x="1316" y="1264"/>
                </a:lnTo>
                <a:lnTo>
                  <a:pt x="1304" y="1256"/>
                </a:lnTo>
                <a:lnTo>
                  <a:pt x="1292" y="1256"/>
                </a:lnTo>
                <a:lnTo>
                  <a:pt x="1280" y="1264"/>
                </a:lnTo>
                <a:lnTo>
                  <a:pt x="1272" y="1276"/>
                </a:lnTo>
                <a:lnTo>
                  <a:pt x="1264" y="1288"/>
                </a:lnTo>
                <a:lnTo>
                  <a:pt x="1252" y="1292"/>
                </a:lnTo>
                <a:lnTo>
                  <a:pt x="1244" y="1304"/>
                </a:lnTo>
                <a:lnTo>
                  <a:pt x="1232" y="1312"/>
                </a:lnTo>
                <a:lnTo>
                  <a:pt x="1220" y="1320"/>
                </a:lnTo>
                <a:lnTo>
                  <a:pt x="1208" y="1320"/>
                </a:lnTo>
                <a:lnTo>
                  <a:pt x="1196" y="1328"/>
                </a:lnTo>
                <a:lnTo>
                  <a:pt x="1184" y="1328"/>
                </a:lnTo>
                <a:lnTo>
                  <a:pt x="1172" y="1328"/>
                </a:lnTo>
                <a:lnTo>
                  <a:pt x="1160" y="1328"/>
                </a:lnTo>
                <a:lnTo>
                  <a:pt x="1148" y="1328"/>
                </a:lnTo>
                <a:lnTo>
                  <a:pt x="1136" y="1328"/>
                </a:lnTo>
                <a:lnTo>
                  <a:pt x="1124" y="1328"/>
                </a:lnTo>
                <a:lnTo>
                  <a:pt x="1116" y="1340"/>
                </a:lnTo>
                <a:lnTo>
                  <a:pt x="1112" y="1352"/>
                </a:lnTo>
                <a:lnTo>
                  <a:pt x="1104" y="1364"/>
                </a:lnTo>
                <a:lnTo>
                  <a:pt x="1096" y="1376"/>
                </a:lnTo>
                <a:lnTo>
                  <a:pt x="1084" y="1384"/>
                </a:lnTo>
                <a:lnTo>
                  <a:pt x="1076" y="1396"/>
                </a:lnTo>
                <a:lnTo>
                  <a:pt x="1088" y="1404"/>
                </a:lnTo>
                <a:lnTo>
                  <a:pt x="1096" y="1416"/>
                </a:lnTo>
                <a:lnTo>
                  <a:pt x="1096" y="1428"/>
                </a:lnTo>
                <a:lnTo>
                  <a:pt x="1096" y="1440"/>
                </a:lnTo>
                <a:lnTo>
                  <a:pt x="1096" y="1452"/>
                </a:lnTo>
                <a:lnTo>
                  <a:pt x="1084" y="1456"/>
                </a:lnTo>
                <a:lnTo>
                  <a:pt x="1072" y="1456"/>
                </a:lnTo>
                <a:lnTo>
                  <a:pt x="1060" y="1456"/>
                </a:lnTo>
                <a:lnTo>
                  <a:pt x="1048" y="1456"/>
                </a:lnTo>
                <a:lnTo>
                  <a:pt x="1036" y="1456"/>
                </a:lnTo>
                <a:lnTo>
                  <a:pt x="1024" y="1456"/>
                </a:lnTo>
                <a:lnTo>
                  <a:pt x="1012" y="1456"/>
                </a:lnTo>
                <a:lnTo>
                  <a:pt x="1000" y="1456"/>
                </a:lnTo>
                <a:lnTo>
                  <a:pt x="988" y="1456"/>
                </a:lnTo>
                <a:lnTo>
                  <a:pt x="984" y="1444"/>
                </a:lnTo>
                <a:lnTo>
                  <a:pt x="972" y="1444"/>
                </a:lnTo>
                <a:lnTo>
                  <a:pt x="960" y="1444"/>
                </a:lnTo>
                <a:lnTo>
                  <a:pt x="948" y="1444"/>
                </a:lnTo>
                <a:lnTo>
                  <a:pt x="936" y="1440"/>
                </a:lnTo>
                <a:lnTo>
                  <a:pt x="924" y="1432"/>
                </a:lnTo>
                <a:lnTo>
                  <a:pt x="912" y="1432"/>
                </a:lnTo>
                <a:lnTo>
                  <a:pt x="900" y="1428"/>
                </a:lnTo>
                <a:lnTo>
                  <a:pt x="896" y="1416"/>
                </a:lnTo>
                <a:lnTo>
                  <a:pt x="884" y="1416"/>
                </a:lnTo>
                <a:lnTo>
                  <a:pt x="872" y="1416"/>
                </a:lnTo>
                <a:lnTo>
                  <a:pt x="860" y="1416"/>
                </a:lnTo>
                <a:lnTo>
                  <a:pt x="848" y="1416"/>
                </a:lnTo>
                <a:lnTo>
                  <a:pt x="836" y="1416"/>
                </a:lnTo>
                <a:lnTo>
                  <a:pt x="824" y="1408"/>
                </a:lnTo>
                <a:lnTo>
                  <a:pt x="820" y="1396"/>
                </a:lnTo>
                <a:lnTo>
                  <a:pt x="808" y="1392"/>
                </a:lnTo>
                <a:lnTo>
                  <a:pt x="796" y="1392"/>
                </a:lnTo>
                <a:lnTo>
                  <a:pt x="784" y="1392"/>
                </a:lnTo>
                <a:lnTo>
                  <a:pt x="772" y="1392"/>
                </a:lnTo>
                <a:lnTo>
                  <a:pt x="760" y="1384"/>
                </a:lnTo>
                <a:lnTo>
                  <a:pt x="748" y="1380"/>
                </a:lnTo>
                <a:lnTo>
                  <a:pt x="736" y="1380"/>
                </a:lnTo>
                <a:lnTo>
                  <a:pt x="724" y="1376"/>
                </a:lnTo>
                <a:lnTo>
                  <a:pt x="712" y="1376"/>
                </a:lnTo>
                <a:lnTo>
                  <a:pt x="696" y="1368"/>
                </a:lnTo>
                <a:lnTo>
                  <a:pt x="680" y="1356"/>
                </a:lnTo>
                <a:lnTo>
                  <a:pt x="668" y="1352"/>
                </a:lnTo>
                <a:lnTo>
                  <a:pt x="656" y="1352"/>
                </a:lnTo>
                <a:lnTo>
                  <a:pt x="644" y="1352"/>
                </a:lnTo>
                <a:lnTo>
                  <a:pt x="632" y="1352"/>
                </a:lnTo>
                <a:lnTo>
                  <a:pt x="620" y="1352"/>
                </a:lnTo>
                <a:lnTo>
                  <a:pt x="612" y="1340"/>
                </a:lnTo>
                <a:lnTo>
                  <a:pt x="624" y="1336"/>
                </a:lnTo>
                <a:lnTo>
                  <a:pt x="636" y="1340"/>
                </a:lnTo>
                <a:lnTo>
                  <a:pt x="648" y="1348"/>
                </a:lnTo>
                <a:lnTo>
                  <a:pt x="660" y="1352"/>
                </a:lnTo>
                <a:lnTo>
                  <a:pt x="648" y="1356"/>
                </a:lnTo>
                <a:lnTo>
                  <a:pt x="640" y="1344"/>
                </a:lnTo>
                <a:lnTo>
                  <a:pt x="628" y="1340"/>
                </a:lnTo>
                <a:lnTo>
                  <a:pt x="616" y="1336"/>
                </a:lnTo>
                <a:lnTo>
                  <a:pt x="604" y="1336"/>
                </a:lnTo>
                <a:lnTo>
                  <a:pt x="592" y="1336"/>
                </a:lnTo>
                <a:lnTo>
                  <a:pt x="580" y="1336"/>
                </a:lnTo>
                <a:lnTo>
                  <a:pt x="568" y="1336"/>
                </a:lnTo>
                <a:lnTo>
                  <a:pt x="552" y="1336"/>
                </a:lnTo>
                <a:lnTo>
                  <a:pt x="536" y="1336"/>
                </a:lnTo>
                <a:lnTo>
                  <a:pt x="524" y="1336"/>
                </a:lnTo>
                <a:lnTo>
                  <a:pt x="512" y="1340"/>
                </a:lnTo>
                <a:lnTo>
                  <a:pt x="496" y="1340"/>
                </a:lnTo>
                <a:lnTo>
                  <a:pt x="484" y="1340"/>
                </a:lnTo>
                <a:lnTo>
                  <a:pt x="472" y="1340"/>
                </a:lnTo>
                <a:lnTo>
                  <a:pt x="460" y="1340"/>
                </a:lnTo>
                <a:lnTo>
                  <a:pt x="404" y="1344"/>
                </a:lnTo>
                <a:lnTo>
                  <a:pt x="356" y="1344"/>
                </a:lnTo>
                <a:lnTo>
                  <a:pt x="432" y="1348"/>
                </a:lnTo>
                <a:lnTo>
                  <a:pt x="500" y="1344"/>
                </a:lnTo>
                <a:lnTo>
                  <a:pt x="408" y="1340"/>
                </a:lnTo>
                <a:lnTo>
                  <a:pt x="396" y="1332"/>
                </a:lnTo>
                <a:lnTo>
                  <a:pt x="384" y="1332"/>
                </a:lnTo>
                <a:lnTo>
                  <a:pt x="372" y="1332"/>
                </a:lnTo>
                <a:lnTo>
                  <a:pt x="356" y="1332"/>
                </a:lnTo>
                <a:lnTo>
                  <a:pt x="340" y="1332"/>
                </a:lnTo>
                <a:lnTo>
                  <a:pt x="328" y="1332"/>
                </a:lnTo>
                <a:lnTo>
                  <a:pt x="308" y="1344"/>
                </a:lnTo>
                <a:lnTo>
                  <a:pt x="316" y="1320"/>
                </a:lnTo>
                <a:lnTo>
                  <a:pt x="316" y="1308"/>
                </a:lnTo>
                <a:lnTo>
                  <a:pt x="316" y="1296"/>
                </a:lnTo>
                <a:lnTo>
                  <a:pt x="316" y="1284"/>
                </a:lnTo>
                <a:lnTo>
                  <a:pt x="316" y="1272"/>
                </a:lnTo>
                <a:lnTo>
                  <a:pt x="312" y="1260"/>
                </a:lnTo>
                <a:lnTo>
                  <a:pt x="304" y="1248"/>
                </a:lnTo>
                <a:lnTo>
                  <a:pt x="296" y="1236"/>
                </a:lnTo>
                <a:lnTo>
                  <a:pt x="284" y="1228"/>
                </a:lnTo>
                <a:lnTo>
                  <a:pt x="272" y="1220"/>
                </a:lnTo>
                <a:lnTo>
                  <a:pt x="264" y="1208"/>
                </a:lnTo>
                <a:lnTo>
                  <a:pt x="256" y="1196"/>
                </a:lnTo>
                <a:lnTo>
                  <a:pt x="252" y="1184"/>
                </a:lnTo>
                <a:lnTo>
                  <a:pt x="252" y="1172"/>
                </a:lnTo>
                <a:lnTo>
                  <a:pt x="240" y="1164"/>
                </a:lnTo>
                <a:lnTo>
                  <a:pt x="236" y="1152"/>
                </a:lnTo>
                <a:lnTo>
                  <a:pt x="232" y="1140"/>
                </a:lnTo>
                <a:lnTo>
                  <a:pt x="228" y="1128"/>
                </a:lnTo>
                <a:lnTo>
                  <a:pt x="216" y="1116"/>
                </a:lnTo>
                <a:lnTo>
                  <a:pt x="204" y="1116"/>
                </a:lnTo>
                <a:lnTo>
                  <a:pt x="192" y="1108"/>
                </a:lnTo>
                <a:lnTo>
                  <a:pt x="180" y="1100"/>
                </a:lnTo>
                <a:lnTo>
                  <a:pt x="168" y="1096"/>
                </a:lnTo>
                <a:lnTo>
                  <a:pt x="156" y="1092"/>
                </a:lnTo>
                <a:lnTo>
                  <a:pt x="144" y="1092"/>
                </a:lnTo>
                <a:lnTo>
                  <a:pt x="132" y="1092"/>
                </a:lnTo>
                <a:lnTo>
                  <a:pt x="120" y="1092"/>
                </a:lnTo>
                <a:lnTo>
                  <a:pt x="108" y="1092"/>
                </a:lnTo>
                <a:lnTo>
                  <a:pt x="96" y="1092"/>
                </a:lnTo>
                <a:lnTo>
                  <a:pt x="84" y="1092"/>
                </a:lnTo>
                <a:lnTo>
                  <a:pt x="72" y="1092"/>
                </a:lnTo>
                <a:lnTo>
                  <a:pt x="60" y="1088"/>
                </a:lnTo>
                <a:lnTo>
                  <a:pt x="48" y="1084"/>
                </a:lnTo>
                <a:lnTo>
                  <a:pt x="36" y="1084"/>
                </a:lnTo>
                <a:lnTo>
                  <a:pt x="24" y="1084"/>
                </a:lnTo>
                <a:lnTo>
                  <a:pt x="12" y="1084"/>
                </a:lnTo>
                <a:lnTo>
                  <a:pt x="0" y="1084"/>
                </a:lnTo>
                <a:lnTo>
                  <a:pt x="4" y="1072"/>
                </a:lnTo>
                <a:lnTo>
                  <a:pt x="4" y="1060"/>
                </a:lnTo>
                <a:lnTo>
                  <a:pt x="4" y="1048"/>
                </a:lnTo>
                <a:lnTo>
                  <a:pt x="8" y="1036"/>
                </a:lnTo>
                <a:lnTo>
                  <a:pt x="20" y="1028"/>
                </a:lnTo>
                <a:lnTo>
                  <a:pt x="32" y="1020"/>
                </a:lnTo>
                <a:lnTo>
                  <a:pt x="44" y="1012"/>
                </a:lnTo>
                <a:lnTo>
                  <a:pt x="56" y="1004"/>
                </a:lnTo>
                <a:lnTo>
                  <a:pt x="56" y="992"/>
                </a:lnTo>
                <a:lnTo>
                  <a:pt x="56" y="980"/>
                </a:lnTo>
                <a:lnTo>
                  <a:pt x="64" y="968"/>
                </a:lnTo>
                <a:lnTo>
                  <a:pt x="76" y="964"/>
                </a:lnTo>
                <a:lnTo>
                  <a:pt x="88" y="956"/>
                </a:lnTo>
                <a:lnTo>
                  <a:pt x="96" y="944"/>
                </a:lnTo>
                <a:lnTo>
                  <a:pt x="96" y="932"/>
                </a:lnTo>
                <a:lnTo>
                  <a:pt x="96" y="920"/>
                </a:lnTo>
                <a:lnTo>
                  <a:pt x="96" y="908"/>
                </a:lnTo>
                <a:lnTo>
                  <a:pt x="96" y="896"/>
                </a:lnTo>
                <a:lnTo>
                  <a:pt x="100" y="884"/>
                </a:lnTo>
                <a:lnTo>
                  <a:pt x="108" y="856"/>
                </a:lnTo>
                <a:lnTo>
                  <a:pt x="116" y="844"/>
                </a:lnTo>
                <a:lnTo>
                  <a:pt x="120" y="832"/>
                </a:lnTo>
                <a:lnTo>
                  <a:pt x="128" y="820"/>
                </a:lnTo>
                <a:lnTo>
                  <a:pt x="124" y="808"/>
                </a:lnTo>
                <a:lnTo>
                  <a:pt x="116" y="792"/>
                </a:lnTo>
                <a:lnTo>
                  <a:pt x="144" y="784"/>
                </a:lnTo>
                <a:lnTo>
                  <a:pt x="148" y="772"/>
                </a:lnTo>
                <a:lnTo>
                  <a:pt x="148" y="760"/>
                </a:lnTo>
                <a:lnTo>
                  <a:pt x="148" y="748"/>
                </a:lnTo>
                <a:lnTo>
                  <a:pt x="148" y="736"/>
                </a:lnTo>
                <a:lnTo>
                  <a:pt x="136" y="728"/>
                </a:lnTo>
                <a:lnTo>
                  <a:pt x="128" y="716"/>
                </a:lnTo>
                <a:lnTo>
                  <a:pt x="128" y="704"/>
                </a:lnTo>
                <a:lnTo>
                  <a:pt x="132" y="692"/>
                </a:lnTo>
                <a:lnTo>
                  <a:pt x="144" y="692"/>
                </a:lnTo>
                <a:lnTo>
                  <a:pt x="116" y="672"/>
                </a:lnTo>
                <a:lnTo>
                  <a:pt x="160" y="676"/>
                </a:lnTo>
                <a:lnTo>
                  <a:pt x="160" y="664"/>
                </a:lnTo>
                <a:lnTo>
                  <a:pt x="164" y="672"/>
                </a:lnTo>
                <a:lnTo>
                  <a:pt x="116" y="624"/>
                </a:lnTo>
                <a:lnTo>
                  <a:pt x="212" y="432"/>
                </a:lnTo>
                <a:lnTo>
                  <a:pt x="116" y="624"/>
                </a:lnTo>
                <a:lnTo>
                  <a:pt x="116" y="624"/>
                </a:lnTo>
                <a:lnTo>
                  <a:pt x="116" y="624"/>
                </a:lnTo>
                <a:lnTo>
                  <a:pt x="164" y="528"/>
                </a:lnTo>
              </a:path>
            </a:pathLst>
          </a:custGeom>
          <a:gradFill rotWithShape="0">
            <a:gsLst>
              <a:gs pos="0">
                <a:srgbClr val="feeec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00600" y="4635360"/>
            <a:ext cx="46080" cy="60480"/>
          </a:xfrm>
          <a:custGeom>
            <a:avLst/>
            <a:gdLst/>
            <a:ahLst/>
            <a:rect l="l" t="t" r="r" b="b"/>
            <a:pathLst>
              <a:path w="53" h="73">
                <a:moveTo>
                  <a:pt x="28" y="64"/>
                </a:moveTo>
                <a:lnTo>
                  <a:pt x="32" y="48"/>
                </a:lnTo>
                <a:lnTo>
                  <a:pt x="28" y="36"/>
                </a:lnTo>
                <a:lnTo>
                  <a:pt x="16" y="24"/>
                </a:lnTo>
                <a:lnTo>
                  <a:pt x="8" y="12"/>
                </a:lnTo>
                <a:lnTo>
                  <a:pt x="0" y="0"/>
                </a:lnTo>
                <a:lnTo>
                  <a:pt x="4" y="12"/>
                </a:lnTo>
                <a:lnTo>
                  <a:pt x="8" y="24"/>
                </a:lnTo>
                <a:lnTo>
                  <a:pt x="12" y="36"/>
                </a:lnTo>
                <a:lnTo>
                  <a:pt x="20" y="48"/>
                </a:lnTo>
                <a:lnTo>
                  <a:pt x="28" y="64"/>
                </a:lnTo>
                <a:lnTo>
                  <a:pt x="32" y="48"/>
                </a:lnTo>
                <a:lnTo>
                  <a:pt x="20" y="36"/>
                </a:lnTo>
                <a:lnTo>
                  <a:pt x="8" y="24"/>
                </a:lnTo>
                <a:lnTo>
                  <a:pt x="20" y="32"/>
                </a:lnTo>
                <a:lnTo>
                  <a:pt x="32" y="48"/>
                </a:lnTo>
                <a:lnTo>
                  <a:pt x="28" y="64"/>
                </a:lnTo>
                <a:lnTo>
                  <a:pt x="32" y="48"/>
                </a:lnTo>
                <a:lnTo>
                  <a:pt x="20" y="36"/>
                </a:lnTo>
                <a:lnTo>
                  <a:pt x="12" y="24"/>
                </a:lnTo>
                <a:lnTo>
                  <a:pt x="24" y="32"/>
                </a:lnTo>
                <a:lnTo>
                  <a:pt x="24" y="44"/>
                </a:lnTo>
                <a:lnTo>
                  <a:pt x="52" y="72"/>
                </a:lnTo>
                <a:lnTo>
                  <a:pt x="44" y="60"/>
                </a:lnTo>
                <a:lnTo>
                  <a:pt x="40" y="48"/>
                </a:lnTo>
                <a:lnTo>
                  <a:pt x="32" y="36"/>
                </a:lnTo>
                <a:lnTo>
                  <a:pt x="24" y="24"/>
                </a:lnTo>
                <a:lnTo>
                  <a:pt x="24" y="36"/>
                </a:lnTo>
                <a:lnTo>
                  <a:pt x="24" y="48"/>
                </a:lnTo>
                <a:lnTo>
                  <a:pt x="12" y="40"/>
                </a:lnTo>
                <a:lnTo>
                  <a:pt x="28" y="16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124080" y="4038480"/>
            <a:ext cx="1527120" cy="949320"/>
          </a:xfrm>
          <a:custGeom>
            <a:avLst/>
            <a:gdLst/>
            <a:ahLst/>
            <a:rect l="l" t="t" r="r" b="b"/>
            <a:pathLst>
              <a:path w="1785" h="1153">
                <a:moveTo>
                  <a:pt x="0" y="396"/>
                </a:moveTo>
                <a:lnTo>
                  <a:pt x="4" y="380"/>
                </a:lnTo>
                <a:lnTo>
                  <a:pt x="16" y="368"/>
                </a:lnTo>
                <a:lnTo>
                  <a:pt x="20" y="356"/>
                </a:lnTo>
                <a:lnTo>
                  <a:pt x="24" y="344"/>
                </a:lnTo>
                <a:lnTo>
                  <a:pt x="32" y="328"/>
                </a:lnTo>
                <a:lnTo>
                  <a:pt x="32" y="316"/>
                </a:lnTo>
                <a:lnTo>
                  <a:pt x="32" y="304"/>
                </a:lnTo>
                <a:lnTo>
                  <a:pt x="36" y="292"/>
                </a:lnTo>
                <a:lnTo>
                  <a:pt x="36" y="280"/>
                </a:lnTo>
                <a:lnTo>
                  <a:pt x="40" y="268"/>
                </a:lnTo>
                <a:lnTo>
                  <a:pt x="44" y="256"/>
                </a:lnTo>
                <a:lnTo>
                  <a:pt x="44" y="244"/>
                </a:lnTo>
                <a:lnTo>
                  <a:pt x="44" y="232"/>
                </a:lnTo>
                <a:lnTo>
                  <a:pt x="44" y="220"/>
                </a:lnTo>
                <a:lnTo>
                  <a:pt x="44" y="208"/>
                </a:lnTo>
                <a:lnTo>
                  <a:pt x="48" y="196"/>
                </a:lnTo>
                <a:lnTo>
                  <a:pt x="52" y="184"/>
                </a:lnTo>
                <a:lnTo>
                  <a:pt x="52" y="172"/>
                </a:lnTo>
                <a:lnTo>
                  <a:pt x="52" y="160"/>
                </a:lnTo>
                <a:lnTo>
                  <a:pt x="52" y="148"/>
                </a:lnTo>
                <a:lnTo>
                  <a:pt x="52" y="136"/>
                </a:lnTo>
                <a:lnTo>
                  <a:pt x="52" y="124"/>
                </a:lnTo>
                <a:lnTo>
                  <a:pt x="60" y="112"/>
                </a:lnTo>
                <a:lnTo>
                  <a:pt x="76" y="104"/>
                </a:lnTo>
                <a:lnTo>
                  <a:pt x="88" y="100"/>
                </a:lnTo>
                <a:lnTo>
                  <a:pt x="100" y="96"/>
                </a:lnTo>
                <a:lnTo>
                  <a:pt x="144" y="108"/>
                </a:lnTo>
                <a:lnTo>
                  <a:pt x="96" y="108"/>
                </a:lnTo>
                <a:lnTo>
                  <a:pt x="240" y="108"/>
                </a:lnTo>
                <a:lnTo>
                  <a:pt x="240" y="108"/>
                </a:lnTo>
                <a:lnTo>
                  <a:pt x="200" y="104"/>
                </a:lnTo>
                <a:lnTo>
                  <a:pt x="212" y="104"/>
                </a:lnTo>
                <a:lnTo>
                  <a:pt x="224" y="104"/>
                </a:lnTo>
                <a:lnTo>
                  <a:pt x="236" y="104"/>
                </a:lnTo>
                <a:lnTo>
                  <a:pt x="248" y="104"/>
                </a:lnTo>
                <a:lnTo>
                  <a:pt x="260" y="104"/>
                </a:lnTo>
                <a:lnTo>
                  <a:pt x="272" y="100"/>
                </a:lnTo>
                <a:lnTo>
                  <a:pt x="284" y="92"/>
                </a:lnTo>
                <a:lnTo>
                  <a:pt x="316" y="88"/>
                </a:lnTo>
                <a:lnTo>
                  <a:pt x="340" y="88"/>
                </a:lnTo>
                <a:lnTo>
                  <a:pt x="384" y="108"/>
                </a:lnTo>
                <a:lnTo>
                  <a:pt x="384" y="108"/>
                </a:lnTo>
                <a:lnTo>
                  <a:pt x="376" y="100"/>
                </a:lnTo>
                <a:lnTo>
                  <a:pt x="388" y="108"/>
                </a:lnTo>
                <a:lnTo>
                  <a:pt x="404" y="116"/>
                </a:lnTo>
                <a:lnTo>
                  <a:pt x="416" y="120"/>
                </a:lnTo>
                <a:lnTo>
                  <a:pt x="428" y="120"/>
                </a:lnTo>
                <a:lnTo>
                  <a:pt x="440" y="128"/>
                </a:lnTo>
                <a:lnTo>
                  <a:pt x="452" y="132"/>
                </a:lnTo>
                <a:lnTo>
                  <a:pt x="464" y="140"/>
                </a:lnTo>
                <a:lnTo>
                  <a:pt x="480" y="144"/>
                </a:lnTo>
                <a:lnTo>
                  <a:pt x="492" y="144"/>
                </a:lnTo>
                <a:lnTo>
                  <a:pt x="504" y="144"/>
                </a:lnTo>
                <a:lnTo>
                  <a:pt x="516" y="148"/>
                </a:lnTo>
                <a:lnTo>
                  <a:pt x="524" y="160"/>
                </a:lnTo>
                <a:lnTo>
                  <a:pt x="540" y="164"/>
                </a:lnTo>
                <a:lnTo>
                  <a:pt x="572" y="164"/>
                </a:lnTo>
                <a:lnTo>
                  <a:pt x="584" y="176"/>
                </a:lnTo>
                <a:lnTo>
                  <a:pt x="596" y="176"/>
                </a:lnTo>
                <a:lnTo>
                  <a:pt x="608" y="176"/>
                </a:lnTo>
                <a:lnTo>
                  <a:pt x="620" y="180"/>
                </a:lnTo>
                <a:lnTo>
                  <a:pt x="636" y="192"/>
                </a:lnTo>
                <a:lnTo>
                  <a:pt x="648" y="192"/>
                </a:lnTo>
                <a:lnTo>
                  <a:pt x="660" y="196"/>
                </a:lnTo>
                <a:lnTo>
                  <a:pt x="672" y="204"/>
                </a:lnTo>
                <a:lnTo>
                  <a:pt x="684" y="208"/>
                </a:lnTo>
                <a:lnTo>
                  <a:pt x="700" y="208"/>
                </a:lnTo>
                <a:lnTo>
                  <a:pt x="712" y="212"/>
                </a:lnTo>
                <a:lnTo>
                  <a:pt x="724" y="216"/>
                </a:lnTo>
                <a:lnTo>
                  <a:pt x="736" y="220"/>
                </a:lnTo>
                <a:lnTo>
                  <a:pt x="748" y="220"/>
                </a:lnTo>
                <a:lnTo>
                  <a:pt x="760" y="220"/>
                </a:lnTo>
                <a:lnTo>
                  <a:pt x="772" y="220"/>
                </a:lnTo>
                <a:lnTo>
                  <a:pt x="788" y="220"/>
                </a:lnTo>
                <a:lnTo>
                  <a:pt x="800" y="220"/>
                </a:lnTo>
                <a:lnTo>
                  <a:pt x="812" y="220"/>
                </a:lnTo>
                <a:lnTo>
                  <a:pt x="824" y="220"/>
                </a:lnTo>
                <a:lnTo>
                  <a:pt x="836" y="212"/>
                </a:lnTo>
                <a:lnTo>
                  <a:pt x="836" y="200"/>
                </a:lnTo>
                <a:lnTo>
                  <a:pt x="836" y="188"/>
                </a:lnTo>
                <a:lnTo>
                  <a:pt x="836" y="176"/>
                </a:lnTo>
                <a:lnTo>
                  <a:pt x="824" y="168"/>
                </a:lnTo>
                <a:lnTo>
                  <a:pt x="824" y="156"/>
                </a:lnTo>
                <a:lnTo>
                  <a:pt x="824" y="144"/>
                </a:lnTo>
                <a:lnTo>
                  <a:pt x="832" y="132"/>
                </a:lnTo>
                <a:lnTo>
                  <a:pt x="844" y="132"/>
                </a:lnTo>
                <a:lnTo>
                  <a:pt x="848" y="120"/>
                </a:lnTo>
                <a:lnTo>
                  <a:pt x="856" y="108"/>
                </a:lnTo>
                <a:lnTo>
                  <a:pt x="864" y="96"/>
                </a:lnTo>
                <a:lnTo>
                  <a:pt x="896" y="92"/>
                </a:lnTo>
                <a:lnTo>
                  <a:pt x="908" y="92"/>
                </a:lnTo>
                <a:lnTo>
                  <a:pt x="920" y="92"/>
                </a:lnTo>
                <a:lnTo>
                  <a:pt x="932" y="92"/>
                </a:lnTo>
                <a:lnTo>
                  <a:pt x="944" y="88"/>
                </a:lnTo>
                <a:lnTo>
                  <a:pt x="956" y="80"/>
                </a:lnTo>
                <a:lnTo>
                  <a:pt x="972" y="72"/>
                </a:lnTo>
                <a:lnTo>
                  <a:pt x="984" y="68"/>
                </a:lnTo>
                <a:lnTo>
                  <a:pt x="996" y="60"/>
                </a:lnTo>
                <a:lnTo>
                  <a:pt x="1008" y="52"/>
                </a:lnTo>
                <a:lnTo>
                  <a:pt x="1020" y="44"/>
                </a:lnTo>
                <a:lnTo>
                  <a:pt x="1032" y="36"/>
                </a:lnTo>
                <a:lnTo>
                  <a:pt x="1040" y="24"/>
                </a:lnTo>
                <a:lnTo>
                  <a:pt x="1052" y="16"/>
                </a:lnTo>
                <a:lnTo>
                  <a:pt x="1064" y="16"/>
                </a:lnTo>
                <a:lnTo>
                  <a:pt x="1080" y="16"/>
                </a:lnTo>
                <a:lnTo>
                  <a:pt x="1092" y="16"/>
                </a:lnTo>
                <a:lnTo>
                  <a:pt x="1104" y="16"/>
                </a:lnTo>
                <a:lnTo>
                  <a:pt x="1116" y="16"/>
                </a:lnTo>
                <a:lnTo>
                  <a:pt x="1128" y="24"/>
                </a:lnTo>
                <a:lnTo>
                  <a:pt x="1140" y="24"/>
                </a:lnTo>
                <a:lnTo>
                  <a:pt x="1156" y="28"/>
                </a:lnTo>
                <a:lnTo>
                  <a:pt x="1172" y="32"/>
                </a:lnTo>
                <a:lnTo>
                  <a:pt x="1184" y="32"/>
                </a:lnTo>
                <a:lnTo>
                  <a:pt x="1196" y="32"/>
                </a:lnTo>
                <a:lnTo>
                  <a:pt x="1208" y="32"/>
                </a:lnTo>
                <a:lnTo>
                  <a:pt x="1220" y="32"/>
                </a:lnTo>
                <a:lnTo>
                  <a:pt x="1232" y="32"/>
                </a:lnTo>
                <a:lnTo>
                  <a:pt x="1244" y="24"/>
                </a:lnTo>
                <a:lnTo>
                  <a:pt x="1260" y="16"/>
                </a:lnTo>
                <a:lnTo>
                  <a:pt x="1272" y="8"/>
                </a:lnTo>
                <a:lnTo>
                  <a:pt x="1284" y="8"/>
                </a:lnTo>
                <a:lnTo>
                  <a:pt x="1296" y="8"/>
                </a:lnTo>
                <a:lnTo>
                  <a:pt x="1304" y="20"/>
                </a:lnTo>
                <a:lnTo>
                  <a:pt x="1316" y="32"/>
                </a:lnTo>
                <a:lnTo>
                  <a:pt x="1328" y="36"/>
                </a:lnTo>
                <a:lnTo>
                  <a:pt x="1340" y="40"/>
                </a:lnTo>
                <a:lnTo>
                  <a:pt x="1352" y="44"/>
                </a:lnTo>
                <a:lnTo>
                  <a:pt x="1364" y="48"/>
                </a:lnTo>
                <a:lnTo>
                  <a:pt x="1376" y="56"/>
                </a:lnTo>
                <a:lnTo>
                  <a:pt x="1388" y="60"/>
                </a:lnTo>
                <a:lnTo>
                  <a:pt x="1400" y="60"/>
                </a:lnTo>
                <a:lnTo>
                  <a:pt x="1412" y="60"/>
                </a:lnTo>
                <a:lnTo>
                  <a:pt x="1424" y="60"/>
                </a:lnTo>
                <a:lnTo>
                  <a:pt x="1436" y="60"/>
                </a:lnTo>
                <a:lnTo>
                  <a:pt x="1448" y="60"/>
                </a:lnTo>
                <a:lnTo>
                  <a:pt x="1452" y="48"/>
                </a:lnTo>
                <a:lnTo>
                  <a:pt x="1468" y="36"/>
                </a:lnTo>
                <a:lnTo>
                  <a:pt x="1480" y="28"/>
                </a:lnTo>
                <a:lnTo>
                  <a:pt x="1492" y="28"/>
                </a:lnTo>
                <a:lnTo>
                  <a:pt x="1504" y="28"/>
                </a:lnTo>
                <a:lnTo>
                  <a:pt x="1516" y="28"/>
                </a:lnTo>
                <a:lnTo>
                  <a:pt x="1528" y="28"/>
                </a:lnTo>
                <a:lnTo>
                  <a:pt x="1536" y="12"/>
                </a:lnTo>
                <a:lnTo>
                  <a:pt x="1552" y="12"/>
                </a:lnTo>
                <a:lnTo>
                  <a:pt x="1564" y="12"/>
                </a:lnTo>
                <a:lnTo>
                  <a:pt x="1580" y="12"/>
                </a:lnTo>
                <a:lnTo>
                  <a:pt x="1592" y="12"/>
                </a:lnTo>
                <a:lnTo>
                  <a:pt x="1604" y="12"/>
                </a:lnTo>
                <a:lnTo>
                  <a:pt x="1616" y="12"/>
                </a:lnTo>
                <a:lnTo>
                  <a:pt x="1628" y="12"/>
                </a:lnTo>
                <a:lnTo>
                  <a:pt x="1640" y="4"/>
                </a:lnTo>
                <a:lnTo>
                  <a:pt x="1652" y="0"/>
                </a:lnTo>
                <a:lnTo>
                  <a:pt x="1664" y="0"/>
                </a:lnTo>
                <a:lnTo>
                  <a:pt x="1676" y="0"/>
                </a:lnTo>
                <a:lnTo>
                  <a:pt x="1688" y="8"/>
                </a:lnTo>
                <a:lnTo>
                  <a:pt x="1700" y="16"/>
                </a:lnTo>
                <a:lnTo>
                  <a:pt x="1712" y="16"/>
                </a:lnTo>
                <a:lnTo>
                  <a:pt x="1724" y="24"/>
                </a:lnTo>
                <a:lnTo>
                  <a:pt x="1728" y="36"/>
                </a:lnTo>
                <a:lnTo>
                  <a:pt x="1732" y="48"/>
                </a:lnTo>
                <a:lnTo>
                  <a:pt x="1744" y="56"/>
                </a:lnTo>
                <a:lnTo>
                  <a:pt x="1744" y="68"/>
                </a:lnTo>
                <a:lnTo>
                  <a:pt x="1748" y="80"/>
                </a:lnTo>
                <a:lnTo>
                  <a:pt x="1752" y="92"/>
                </a:lnTo>
                <a:lnTo>
                  <a:pt x="1752" y="104"/>
                </a:lnTo>
                <a:lnTo>
                  <a:pt x="1752" y="116"/>
                </a:lnTo>
                <a:lnTo>
                  <a:pt x="1752" y="128"/>
                </a:lnTo>
                <a:lnTo>
                  <a:pt x="1740" y="140"/>
                </a:lnTo>
                <a:lnTo>
                  <a:pt x="1728" y="144"/>
                </a:lnTo>
                <a:lnTo>
                  <a:pt x="1724" y="156"/>
                </a:lnTo>
                <a:lnTo>
                  <a:pt x="1712" y="160"/>
                </a:lnTo>
                <a:lnTo>
                  <a:pt x="1708" y="172"/>
                </a:lnTo>
                <a:lnTo>
                  <a:pt x="1704" y="184"/>
                </a:lnTo>
                <a:lnTo>
                  <a:pt x="1700" y="196"/>
                </a:lnTo>
                <a:lnTo>
                  <a:pt x="1696" y="208"/>
                </a:lnTo>
                <a:lnTo>
                  <a:pt x="1696" y="220"/>
                </a:lnTo>
                <a:lnTo>
                  <a:pt x="1692" y="232"/>
                </a:lnTo>
                <a:lnTo>
                  <a:pt x="1688" y="244"/>
                </a:lnTo>
                <a:lnTo>
                  <a:pt x="1688" y="256"/>
                </a:lnTo>
                <a:lnTo>
                  <a:pt x="1688" y="268"/>
                </a:lnTo>
                <a:lnTo>
                  <a:pt x="1700" y="276"/>
                </a:lnTo>
                <a:lnTo>
                  <a:pt x="1708" y="288"/>
                </a:lnTo>
                <a:lnTo>
                  <a:pt x="1712" y="300"/>
                </a:lnTo>
                <a:lnTo>
                  <a:pt x="1716" y="312"/>
                </a:lnTo>
                <a:lnTo>
                  <a:pt x="1716" y="324"/>
                </a:lnTo>
                <a:lnTo>
                  <a:pt x="1716" y="336"/>
                </a:lnTo>
                <a:lnTo>
                  <a:pt x="1716" y="348"/>
                </a:lnTo>
                <a:lnTo>
                  <a:pt x="1716" y="360"/>
                </a:lnTo>
                <a:lnTo>
                  <a:pt x="1716" y="372"/>
                </a:lnTo>
                <a:lnTo>
                  <a:pt x="1712" y="384"/>
                </a:lnTo>
                <a:lnTo>
                  <a:pt x="1708" y="396"/>
                </a:lnTo>
                <a:lnTo>
                  <a:pt x="1720" y="40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32" y="432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444"/>
                </a:lnTo>
                <a:lnTo>
                  <a:pt x="1728" y="396"/>
                </a:lnTo>
                <a:lnTo>
                  <a:pt x="1740" y="440"/>
                </a:lnTo>
                <a:lnTo>
                  <a:pt x="1732" y="428"/>
                </a:lnTo>
                <a:lnTo>
                  <a:pt x="1728" y="416"/>
                </a:lnTo>
                <a:lnTo>
                  <a:pt x="1720" y="404"/>
                </a:lnTo>
                <a:lnTo>
                  <a:pt x="1708" y="400"/>
                </a:lnTo>
                <a:lnTo>
                  <a:pt x="1720" y="400"/>
                </a:lnTo>
                <a:lnTo>
                  <a:pt x="1728" y="412"/>
                </a:lnTo>
                <a:lnTo>
                  <a:pt x="1728" y="424"/>
                </a:lnTo>
                <a:lnTo>
                  <a:pt x="1728" y="436"/>
                </a:lnTo>
                <a:lnTo>
                  <a:pt x="1728" y="448"/>
                </a:lnTo>
                <a:lnTo>
                  <a:pt x="1724" y="460"/>
                </a:lnTo>
                <a:lnTo>
                  <a:pt x="1712" y="464"/>
                </a:lnTo>
                <a:lnTo>
                  <a:pt x="1708" y="476"/>
                </a:lnTo>
                <a:lnTo>
                  <a:pt x="1696" y="484"/>
                </a:lnTo>
                <a:lnTo>
                  <a:pt x="1696" y="496"/>
                </a:lnTo>
                <a:lnTo>
                  <a:pt x="1696" y="508"/>
                </a:lnTo>
                <a:lnTo>
                  <a:pt x="1692" y="520"/>
                </a:lnTo>
                <a:lnTo>
                  <a:pt x="1692" y="532"/>
                </a:lnTo>
                <a:lnTo>
                  <a:pt x="1692" y="544"/>
                </a:lnTo>
                <a:lnTo>
                  <a:pt x="1692" y="556"/>
                </a:lnTo>
                <a:lnTo>
                  <a:pt x="1692" y="568"/>
                </a:lnTo>
                <a:lnTo>
                  <a:pt x="1692" y="580"/>
                </a:lnTo>
                <a:lnTo>
                  <a:pt x="1688" y="568"/>
                </a:lnTo>
                <a:lnTo>
                  <a:pt x="1700" y="568"/>
                </a:lnTo>
                <a:lnTo>
                  <a:pt x="1724" y="568"/>
                </a:lnTo>
                <a:lnTo>
                  <a:pt x="1724" y="556"/>
                </a:lnTo>
                <a:lnTo>
                  <a:pt x="1724" y="544"/>
                </a:lnTo>
                <a:lnTo>
                  <a:pt x="1724" y="532"/>
                </a:lnTo>
                <a:lnTo>
                  <a:pt x="1728" y="520"/>
                </a:lnTo>
                <a:lnTo>
                  <a:pt x="1744" y="512"/>
                </a:lnTo>
                <a:lnTo>
                  <a:pt x="1744" y="500"/>
                </a:lnTo>
                <a:lnTo>
                  <a:pt x="1744" y="488"/>
                </a:lnTo>
                <a:lnTo>
                  <a:pt x="1756" y="488"/>
                </a:lnTo>
                <a:lnTo>
                  <a:pt x="1768" y="488"/>
                </a:lnTo>
                <a:lnTo>
                  <a:pt x="1780" y="488"/>
                </a:lnTo>
                <a:lnTo>
                  <a:pt x="1780" y="500"/>
                </a:lnTo>
                <a:lnTo>
                  <a:pt x="1780" y="512"/>
                </a:lnTo>
                <a:lnTo>
                  <a:pt x="1772" y="524"/>
                </a:lnTo>
                <a:lnTo>
                  <a:pt x="1776" y="536"/>
                </a:lnTo>
                <a:lnTo>
                  <a:pt x="1784" y="548"/>
                </a:lnTo>
                <a:lnTo>
                  <a:pt x="1772" y="560"/>
                </a:lnTo>
                <a:lnTo>
                  <a:pt x="1760" y="568"/>
                </a:lnTo>
                <a:lnTo>
                  <a:pt x="1760" y="580"/>
                </a:lnTo>
                <a:lnTo>
                  <a:pt x="1760" y="592"/>
                </a:lnTo>
                <a:lnTo>
                  <a:pt x="1752" y="604"/>
                </a:lnTo>
                <a:lnTo>
                  <a:pt x="1740" y="616"/>
                </a:lnTo>
                <a:lnTo>
                  <a:pt x="1736" y="628"/>
                </a:lnTo>
                <a:lnTo>
                  <a:pt x="1732" y="640"/>
                </a:lnTo>
                <a:lnTo>
                  <a:pt x="1724" y="652"/>
                </a:lnTo>
                <a:lnTo>
                  <a:pt x="1712" y="660"/>
                </a:lnTo>
                <a:lnTo>
                  <a:pt x="1708" y="648"/>
                </a:lnTo>
                <a:lnTo>
                  <a:pt x="1708" y="636"/>
                </a:lnTo>
                <a:lnTo>
                  <a:pt x="1708" y="624"/>
                </a:lnTo>
                <a:lnTo>
                  <a:pt x="1716" y="612"/>
                </a:lnTo>
                <a:lnTo>
                  <a:pt x="1716" y="600"/>
                </a:lnTo>
                <a:lnTo>
                  <a:pt x="1712" y="584"/>
                </a:lnTo>
                <a:lnTo>
                  <a:pt x="1708" y="572"/>
                </a:lnTo>
                <a:lnTo>
                  <a:pt x="1696" y="568"/>
                </a:lnTo>
                <a:lnTo>
                  <a:pt x="1684" y="576"/>
                </a:lnTo>
                <a:lnTo>
                  <a:pt x="1672" y="580"/>
                </a:lnTo>
                <a:lnTo>
                  <a:pt x="1672" y="592"/>
                </a:lnTo>
                <a:lnTo>
                  <a:pt x="1672" y="604"/>
                </a:lnTo>
                <a:lnTo>
                  <a:pt x="1672" y="616"/>
                </a:lnTo>
                <a:lnTo>
                  <a:pt x="1668" y="628"/>
                </a:lnTo>
                <a:lnTo>
                  <a:pt x="1668" y="640"/>
                </a:lnTo>
                <a:lnTo>
                  <a:pt x="1668" y="652"/>
                </a:lnTo>
                <a:lnTo>
                  <a:pt x="1668" y="664"/>
                </a:lnTo>
                <a:lnTo>
                  <a:pt x="1680" y="672"/>
                </a:lnTo>
                <a:lnTo>
                  <a:pt x="1688" y="684"/>
                </a:lnTo>
                <a:lnTo>
                  <a:pt x="1688" y="696"/>
                </a:lnTo>
                <a:lnTo>
                  <a:pt x="1684" y="712"/>
                </a:lnTo>
                <a:lnTo>
                  <a:pt x="1676" y="724"/>
                </a:lnTo>
                <a:lnTo>
                  <a:pt x="1676" y="736"/>
                </a:lnTo>
                <a:lnTo>
                  <a:pt x="1676" y="748"/>
                </a:lnTo>
                <a:lnTo>
                  <a:pt x="1672" y="760"/>
                </a:lnTo>
                <a:lnTo>
                  <a:pt x="1668" y="772"/>
                </a:lnTo>
                <a:lnTo>
                  <a:pt x="1668" y="784"/>
                </a:lnTo>
                <a:lnTo>
                  <a:pt x="1656" y="792"/>
                </a:lnTo>
                <a:lnTo>
                  <a:pt x="1652" y="804"/>
                </a:lnTo>
                <a:lnTo>
                  <a:pt x="1640" y="816"/>
                </a:lnTo>
                <a:lnTo>
                  <a:pt x="1636" y="828"/>
                </a:lnTo>
                <a:lnTo>
                  <a:pt x="1628" y="840"/>
                </a:lnTo>
                <a:lnTo>
                  <a:pt x="1628" y="852"/>
                </a:lnTo>
                <a:lnTo>
                  <a:pt x="1624" y="864"/>
                </a:lnTo>
                <a:lnTo>
                  <a:pt x="1616" y="876"/>
                </a:lnTo>
                <a:lnTo>
                  <a:pt x="1616" y="888"/>
                </a:lnTo>
                <a:lnTo>
                  <a:pt x="1632" y="876"/>
                </a:lnTo>
                <a:lnTo>
                  <a:pt x="1616" y="892"/>
                </a:lnTo>
                <a:lnTo>
                  <a:pt x="1604" y="892"/>
                </a:lnTo>
                <a:lnTo>
                  <a:pt x="1596" y="904"/>
                </a:lnTo>
                <a:lnTo>
                  <a:pt x="1596" y="916"/>
                </a:lnTo>
                <a:lnTo>
                  <a:pt x="1584" y="920"/>
                </a:lnTo>
                <a:lnTo>
                  <a:pt x="1572" y="924"/>
                </a:lnTo>
                <a:lnTo>
                  <a:pt x="1564" y="936"/>
                </a:lnTo>
                <a:lnTo>
                  <a:pt x="1552" y="936"/>
                </a:lnTo>
                <a:lnTo>
                  <a:pt x="1540" y="940"/>
                </a:lnTo>
                <a:lnTo>
                  <a:pt x="1528" y="948"/>
                </a:lnTo>
                <a:lnTo>
                  <a:pt x="1516" y="952"/>
                </a:lnTo>
                <a:lnTo>
                  <a:pt x="1504" y="956"/>
                </a:lnTo>
                <a:lnTo>
                  <a:pt x="1492" y="964"/>
                </a:lnTo>
                <a:lnTo>
                  <a:pt x="1480" y="972"/>
                </a:lnTo>
                <a:lnTo>
                  <a:pt x="1468" y="980"/>
                </a:lnTo>
                <a:lnTo>
                  <a:pt x="1456" y="988"/>
                </a:lnTo>
                <a:lnTo>
                  <a:pt x="1444" y="988"/>
                </a:lnTo>
                <a:lnTo>
                  <a:pt x="1432" y="992"/>
                </a:lnTo>
                <a:lnTo>
                  <a:pt x="1428" y="1004"/>
                </a:lnTo>
                <a:lnTo>
                  <a:pt x="1424" y="1016"/>
                </a:lnTo>
                <a:lnTo>
                  <a:pt x="1412" y="1020"/>
                </a:lnTo>
                <a:lnTo>
                  <a:pt x="1400" y="1028"/>
                </a:lnTo>
                <a:lnTo>
                  <a:pt x="1388" y="1028"/>
                </a:lnTo>
                <a:lnTo>
                  <a:pt x="1376" y="1028"/>
                </a:lnTo>
                <a:lnTo>
                  <a:pt x="1364" y="1032"/>
                </a:lnTo>
                <a:lnTo>
                  <a:pt x="1364" y="1044"/>
                </a:lnTo>
                <a:lnTo>
                  <a:pt x="1352" y="1052"/>
                </a:lnTo>
                <a:lnTo>
                  <a:pt x="1348" y="1064"/>
                </a:lnTo>
                <a:lnTo>
                  <a:pt x="1340" y="1080"/>
                </a:lnTo>
                <a:lnTo>
                  <a:pt x="1332" y="1096"/>
                </a:lnTo>
                <a:lnTo>
                  <a:pt x="1320" y="1096"/>
                </a:lnTo>
                <a:lnTo>
                  <a:pt x="1308" y="1096"/>
                </a:lnTo>
                <a:lnTo>
                  <a:pt x="1296" y="1096"/>
                </a:lnTo>
                <a:lnTo>
                  <a:pt x="1284" y="1096"/>
                </a:lnTo>
                <a:lnTo>
                  <a:pt x="1280" y="1108"/>
                </a:lnTo>
                <a:lnTo>
                  <a:pt x="1284" y="1120"/>
                </a:lnTo>
                <a:lnTo>
                  <a:pt x="1292" y="1092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344" y="1068"/>
                </a:lnTo>
                <a:lnTo>
                  <a:pt x="1296" y="1116"/>
                </a:lnTo>
                <a:lnTo>
                  <a:pt x="1344" y="1068"/>
                </a:lnTo>
                <a:lnTo>
                  <a:pt x="1344" y="1068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48" y="1116"/>
                </a:lnTo>
                <a:lnTo>
                  <a:pt x="1296" y="1116"/>
                </a:lnTo>
                <a:lnTo>
                  <a:pt x="1200" y="1116"/>
                </a:lnTo>
                <a:lnTo>
                  <a:pt x="1296" y="1116"/>
                </a:lnTo>
                <a:lnTo>
                  <a:pt x="1296" y="1116"/>
                </a:lnTo>
                <a:lnTo>
                  <a:pt x="1272" y="1096"/>
                </a:lnTo>
                <a:lnTo>
                  <a:pt x="1272" y="1108"/>
                </a:lnTo>
                <a:lnTo>
                  <a:pt x="1260" y="1108"/>
                </a:lnTo>
                <a:lnTo>
                  <a:pt x="1248" y="1108"/>
                </a:lnTo>
                <a:lnTo>
                  <a:pt x="1236" y="1108"/>
                </a:lnTo>
                <a:lnTo>
                  <a:pt x="1224" y="1108"/>
                </a:lnTo>
                <a:lnTo>
                  <a:pt x="1212" y="1108"/>
                </a:lnTo>
                <a:lnTo>
                  <a:pt x="1208" y="1120"/>
                </a:lnTo>
                <a:lnTo>
                  <a:pt x="1196" y="1124"/>
                </a:lnTo>
                <a:lnTo>
                  <a:pt x="1184" y="1124"/>
                </a:lnTo>
                <a:lnTo>
                  <a:pt x="1172" y="1124"/>
                </a:lnTo>
                <a:lnTo>
                  <a:pt x="1160" y="1124"/>
                </a:lnTo>
                <a:lnTo>
                  <a:pt x="1152" y="1136"/>
                </a:lnTo>
                <a:lnTo>
                  <a:pt x="1144" y="1148"/>
                </a:lnTo>
                <a:lnTo>
                  <a:pt x="1132" y="1152"/>
                </a:lnTo>
                <a:lnTo>
                  <a:pt x="1116" y="1144"/>
                </a:lnTo>
                <a:lnTo>
                  <a:pt x="1112" y="1132"/>
                </a:lnTo>
                <a:lnTo>
                  <a:pt x="1112" y="1120"/>
                </a:lnTo>
                <a:lnTo>
                  <a:pt x="1124" y="1112"/>
                </a:lnTo>
                <a:lnTo>
                  <a:pt x="1136" y="1108"/>
                </a:lnTo>
                <a:lnTo>
                  <a:pt x="1148" y="1104"/>
                </a:lnTo>
                <a:lnTo>
                  <a:pt x="1148" y="1092"/>
                </a:lnTo>
                <a:lnTo>
                  <a:pt x="1148" y="1080"/>
                </a:lnTo>
                <a:lnTo>
                  <a:pt x="1148" y="1068"/>
                </a:lnTo>
                <a:lnTo>
                  <a:pt x="1160" y="1064"/>
                </a:lnTo>
                <a:lnTo>
                  <a:pt x="1164" y="1052"/>
                </a:lnTo>
                <a:lnTo>
                  <a:pt x="1176" y="1044"/>
                </a:lnTo>
                <a:lnTo>
                  <a:pt x="1184" y="1032"/>
                </a:lnTo>
                <a:lnTo>
                  <a:pt x="1192" y="1020"/>
                </a:lnTo>
                <a:lnTo>
                  <a:pt x="1196" y="1008"/>
                </a:lnTo>
                <a:lnTo>
                  <a:pt x="1196" y="996"/>
                </a:lnTo>
                <a:lnTo>
                  <a:pt x="1196" y="984"/>
                </a:lnTo>
                <a:lnTo>
                  <a:pt x="1196" y="972"/>
                </a:lnTo>
                <a:lnTo>
                  <a:pt x="1196" y="960"/>
                </a:lnTo>
                <a:lnTo>
                  <a:pt x="1200" y="948"/>
                </a:lnTo>
                <a:lnTo>
                  <a:pt x="1208" y="936"/>
                </a:lnTo>
                <a:lnTo>
                  <a:pt x="1208" y="924"/>
                </a:lnTo>
                <a:lnTo>
                  <a:pt x="1208" y="912"/>
                </a:lnTo>
                <a:lnTo>
                  <a:pt x="1208" y="900"/>
                </a:lnTo>
                <a:lnTo>
                  <a:pt x="1200" y="888"/>
                </a:lnTo>
                <a:lnTo>
                  <a:pt x="1188" y="876"/>
                </a:lnTo>
                <a:lnTo>
                  <a:pt x="1172" y="864"/>
                </a:lnTo>
                <a:lnTo>
                  <a:pt x="1160" y="864"/>
                </a:lnTo>
                <a:lnTo>
                  <a:pt x="1148" y="864"/>
                </a:lnTo>
                <a:lnTo>
                  <a:pt x="1136" y="856"/>
                </a:lnTo>
                <a:lnTo>
                  <a:pt x="1124" y="852"/>
                </a:lnTo>
                <a:lnTo>
                  <a:pt x="1112" y="848"/>
                </a:lnTo>
                <a:lnTo>
                  <a:pt x="1100" y="844"/>
                </a:lnTo>
                <a:lnTo>
                  <a:pt x="1088" y="840"/>
                </a:lnTo>
                <a:lnTo>
                  <a:pt x="1076" y="832"/>
                </a:lnTo>
                <a:lnTo>
                  <a:pt x="1064" y="828"/>
                </a:lnTo>
                <a:lnTo>
                  <a:pt x="1048" y="828"/>
                </a:lnTo>
                <a:lnTo>
                  <a:pt x="1032" y="828"/>
                </a:lnTo>
                <a:lnTo>
                  <a:pt x="1024" y="816"/>
                </a:lnTo>
                <a:lnTo>
                  <a:pt x="1012" y="812"/>
                </a:lnTo>
                <a:lnTo>
                  <a:pt x="1000" y="808"/>
                </a:lnTo>
                <a:lnTo>
                  <a:pt x="992" y="796"/>
                </a:lnTo>
                <a:lnTo>
                  <a:pt x="984" y="784"/>
                </a:lnTo>
                <a:lnTo>
                  <a:pt x="980" y="772"/>
                </a:lnTo>
                <a:lnTo>
                  <a:pt x="960" y="732"/>
                </a:lnTo>
                <a:lnTo>
                  <a:pt x="964" y="752"/>
                </a:lnTo>
                <a:lnTo>
                  <a:pt x="956" y="740"/>
                </a:lnTo>
                <a:lnTo>
                  <a:pt x="948" y="728"/>
                </a:lnTo>
                <a:lnTo>
                  <a:pt x="936" y="716"/>
                </a:lnTo>
                <a:lnTo>
                  <a:pt x="960" y="780"/>
                </a:lnTo>
                <a:lnTo>
                  <a:pt x="936" y="720"/>
                </a:lnTo>
                <a:lnTo>
                  <a:pt x="960" y="732"/>
                </a:lnTo>
                <a:lnTo>
                  <a:pt x="960" y="732"/>
                </a:lnTo>
                <a:lnTo>
                  <a:pt x="960" y="732"/>
                </a:lnTo>
                <a:lnTo>
                  <a:pt x="960" y="732"/>
                </a:lnTo>
                <a:lnTo>
                  <a:pt x="960" y="732"/>
                </a:lnTo>
                <a:lnTo>
                  <a:pt x="948" y="732"/>
                </a:lnTo>
                <a:lnTo>
                  <a:pt x="960" y="732"/>
                </a:lnTo>
                <a:lnTo>
                  <a:pt x="960" y="780"/>
                </a:lnTo>
                <a:lnTo>
                  <a:pt x="960" y="716"/>
                </a:lnTo>
                <a:lnTo>
                  <a:pt x="948" y="716"/>
                </a:lnTo>
                <a:lnTo>
                  <a:pt x="936" y="712"/>
                </a:lnTo>
                <a:lnTo>
                  <a:pt x="936" y="700"/>
                </a:lnTo>
                <a:lnTo>
                  <a:pt x="924" y="696"/>
                </a:lnTo>
                <a:lnTo>
                  <a:pt x="920" y="684"/>
                </a:lnTo>
                <a:lnTo>
                  <a:pt x="912" y="672"/>
                </a:lnTo>
                <a:lnTo>
                  <a:pt x="900" y="660"/>
                </a:lnTo>
                <a:lnTo>
                  <a:pt x="888" y="652"/>
                </a:lnTo>
                <a:lnTo>
                  <a:pt x="876" y="640"/>
                </a:lnTo>
                <a:lnTo>
                  <a:pt x="864" y="628"/>
                </a:lnTo>
                <a:lnTo>
                  <a:pt x="848" y="620"/>
                </a:lnTo>
                <a:lnTo>
                  <a:pt x="840" y="608"/>
                </a:lnTo>
                <a:lnTo>
                  <a:pt x="828" y="604"/>
                </a:lnTo>
                <a:lnTo>
                  <a:pt x="820" y="592"/>
                </a:lnTo>
                <a:lnTo>
                  <a:pt x="808" y="580"/>
                </a:lnTo>
                <a:lnTo>
                  <a:pt x="796" y="572"/>
                </a:lnTo>
                <a:lnTo>
                  <a:pt x="784" y="564"/>
                </a:lnTo>
                <a:lnTo>
                  <a:pt x="772" y="556"/>
                </a:lnTo>
                <a:lnTo>
                  <a:pt x="760" y="544"/>
                </a:lnTo>
                <a:lnTo>
                  <a:pt x="748" y="540"/>
                </a:lnTo>
                <a:lnTo>
                  <a:pt x="732" y="532"/>
                </a:lnTo>
                <a:lnTo>
                  <a:pt x="720" y="532"/>
                </a:lnTo>
                <a:lnTo>
                  <a:pt x="708" y="532"/>
                </a:lnTo>
                <a:lnTo>
                  <a:pt x="696" y="532"/>
                </a:lnTo>
                <a:lnTo>
                  <a:pt x="684" y="532"/>
                </a:lnTo>
                <a:lnTo>
                  <a:pt x="672" y="532"/>
                </a:lnTo>
                <a:lnTo>
                  <a:pt x="660" y="532"/>
                </a:lnTo>
                <a:lnTo>
                  <a:pt x="648" y="524"/>
                </a:lnTo>
                <a:lnTo>
                  <a:pt x="636" y="520"/>
                </a:lnTo>
                <a:lnTo>
                  <a:pt x="620" y="508"/>
                </a:lnTo>
                <a:lnTo>
                  <a:pt x="608" y="504"/>
                </a:lnTo>
                <a:lnTo>
                  <a:pt x="596" y="504"/>
                </a:lnTo>
                <a:lnTo>
                  <a:pt x="584" y="496"/>
                </a:lnTo>
                <a:lnTo>
                  <a:pt x="572" y="484"/>
                </a:lnTo>
                <a:lnTo>
                  <a:pt x="560" y="476"/>
                </a:lnTo>
                <a:lnTo>
                  <a:pt x="548" y="468"/>
                </a:lnTo>
                <a:lnTo>
                  <a:pt x="536" y="460"/>
                </a:lnTo>
                <a:lnTo>
                  <a:pt x="524" y="456"/>
                </a:lnTo>
                <a:lnTo>
                  <a:pt x="508" y="448"/>
                </a:lnTo>
                <a:lnTo>
                  <a:pt x="496" y="440"/>
                </a:lnTo>
                <a:lnTo>
                  <a:pt x="484" y="432"/>
                </a:lnTo>
                <a:lnTo>
                  <a:pt x="472" y="428"/>
                </a:lnTo>
                <a:lnTo>
                  <a:pt x="460" y="428"/>
                </a:lnTo>
                <a:lnTo>
                  <a:pt x="432" y="424"/>
                </a:lnTo>
                <a:lnTo>
                  <a:pt x="420" y="420"/>
                </a:lnTo>
                <a:lnTo>
                  <a:pt x="408" y="420"/>
                </a:lnTo>
                <a:lnTo>
                  <a:pt x="396" y="412"/>
                </a:lnTo>
                <a:lnTo>
                  <a:pt x="384" y="408"/>
                </a:lnTo>
                <a:lnTo>
                  <a:pt x="368" y="400"/>
                </a:lnTo>
                <a:lnTo>
                  <a:pt x="340" y="396"/>
                </a:lnTo>
                <a:lnTo>
                  <a:pt x="324" y="392"/>
                </a:lnTo>
                <a:lnTo>
                  <a:pt x="308" y="388"/>
                </a:lnTo>
                <a:lnTo>
                  <a:pt x="296" y="384"/>
                </a:lnTo>
                <a:lnTo>
                  <a:pt x="284" y="380"/>
                </a:lnTo>
                <a:lnTo>
                  <a:pt x="272" y="376"/>
                </a:lnTo>
                <a:lnTo>
                  <a:pt x="260" y="372"/>
                </a:lnTo>
                <a:lnTo>
                  <a:pt x="248" y="364"/>
                </a:lnTo>
                <a:lnTo>
                  <a:pt x="236" y="364"/>
                </a:lnTo>
                <a:lnTo>
                  <a:pt x="212" y="360"/>
                </a:lnTo>
                <a:lnTo>
                  <a:pt x="200" y="356"/>
                </a:lnTo>
                <a:lnTo>
                  <a:pt x="184" y="356"/>
                </a:lnTo>
                <a:lnTo>
                  <a:pt x="172" y="356"/>
                </a:lnTo>
                <a:lnTo>
                  <a:pt x="160" y="356"/>
                </a:lnTo>
                <a:lnTo>
                  <a:pt x="148" y="356"/>
                </a:lnTo>
                <a:lnTo>
                  <a:pt x="156" y="368"/>
                </a:lnTo>
                <a:lnTo>
                  <a:pt x="168" y="372"/>
                </a:lnTo>
                <a:lnTo>
                  <a:pt x="180" y="372"/>
                </a:lnTo>
                <a:lnTo>
                  <a:pt x="192" y="372"/>
                </a:lnTo>
                <a:lnTo>
                  <a:pt x="204" y="372"/>
                </a:lnTo>
                <a:lnTo>
                  <a:pt x="216" y="372"/>
                </a:lnTo>
                <a:lnTo>
                  <a:pt x="220" y="360"/>
                </a:lnTo>
                <a:lnTo>
                  <a:pt x="208" y="356"/>
                </a:lnTo>
                <a:lnTo>
                  <a:pt x="196" y="356"/>
                </a:lnTo>
                <a:lnTo>
                  <a:pt x="184" y="356"/>
                </a:lnTo>
                <a:lnTo>
                  <a:pt x="172" y="356"/>
                </a:lnTo>
                <a:lnTo>
                  <a:pt x="168" y="368"/>
                </a:lnTo>
                <a:lnTo>
                  <a:pt x="156" y="372"/>
                </a:lnTo>
                <a:lnTo>
                  <a:pt x="152" y="384"/>
                </a:lnTo>
                <a:lnTo>
                  <a:pt x="152" y="396"/>
                </a:lnTo>
                <a:lnTo>
                  <a:pt x="156" y="408"/>
                </a:lnTo>
                <a:lnTo>
                  <a:pt x="144" y="404"/>
                </a:lnTo>
                <a:lnTo>
                  <a:pt x="132" y="396"/>
                </a:lnTo>
                <a:lnTo>
                  <a:pt x="120" y="388"/>
                </a:lnTo>
                <a:lnTo>
                  <a:pt x="108" y="380"/>
                </a:lnTo>
                <a:lnTo>
                  <a:pt x="96" y="380"/>
                </a:lnTo>
                <a:lnTo>
                  <a:pt x="108" y="388"/>
                </a:lnTo>
                <a:lnTo>
                  <a:pt x="140" y="388"/>
                </a:lnTo>
                <a:lnTo>
                  <a:pt x="164" y="388"/>
                </a:lnTo>
                <a:lnTo>
                  <a:pt x="152" y="388"/>
                </a:lnTo>
                <a:lnTo>
                  <a:pt x="140" y="388"/>
                </a:lnTo>
                <a:lnTo>
                  <a:pt x="124" y="388"/>
                </a:lnTo>
                <a:lnTo>
                  <a:pt x="108" y="388"/>
                </a:lnTo>
                <a:lnTo>
                  <a:pt x="96" y="388"/>
                </a:lnTo>
                <a:lnTo>
                  <a:pt x="92" y="400"/>
                </a:lnTo>
                <a:lnTo>
                  <a:pt x="80" y="408"/>
                </a:lnTo>
                <a:lnTo>
                  <a:pt x="48" y="396"/>
                </a:lnTo>
                <a:lnTo>
                  <a:pt x="0" y="396"/>
                </a:lnTo>
                <a:lnTo>
                  <a:pt x="60" y="416"/>
                </a:lnTo>
                <a:lnTo>
                  <a:pt x="48" y="412"/>
                </a:lnTo>
                <a:lnTo>
                  <a:pt x="36" y="412"/>
                </a:lnTo>
                <a:lnTo>
                  <a:pt x="24" y="408"/>
                </a:lnTo>
                <a:lnTo>
                  <a:pt x="0" y="396"/>
                </a:lnTo>
                <a:lnTo>
                  <a:pt x="8" y="380"/>
                </a:lnTo>
                <a:lnTo>
                  <a:pt x="8" y="368"/>
                </a:lnTo>
                <a:lnTo>
                  <a:pt x="48" y="252"/>
                </a:lnTo>
                <a:lnTo>
                  <a:pt x="48" y="252"/>
                </a:lnTo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92520" y="4494240"/>
            <a:ext cx="34920" cy="3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8484d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21080" y="381780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72000" y="4191120"/>
            <a:ext cx="1643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FLORIANÓPOL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31520" y="3733920"/>
            <a:ext cx="1038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CURITI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38120" y="4122720"/>
            <a:ext cx="44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637800" y="3313080"/>
            <a:ext cx="657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06640" y="3882960"/>
            <a:ext cx="34920" cy="33480"/>
          </a:xfrm>
          <a:prstGeom prst="ellipse">
            <a:avLst/>
          </a:prstGeom>
          <a:gradFill rotWithShape="0">
            <a:gsLst>
              <a:gs pos="0">
                <a:srgbClr val="3333cc"/>
              </a:gs>
              <a:gs pos="100000">
                <a:srgbClr val="8484d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971800" y="-2514600"/>
            <a:ext cx="4343400" cy="350532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4800" y="990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267080" y="472428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809880" y="381312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124080" y="3809880"/>
            <a:ext cx="74880" cy="73080"/>
          </a:xfrm>
          <a:prstGeom prst="ellipse">
            <a:avLst/>
          </a:prstGeom>
          <a:gradFill rotWithShape="0">
            <a:gsLst>
              <a:gs pos="0">
                <a:srgbClr val="5b5bd5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38098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572000" y="434304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33680" y="4114800"/>
            <a:ext cx="1707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GUARAPUAVA-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0920" y="3429000"/>
            <a:ext cx="1361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man Old Style"/>
              </a:rPr>
              <a:t>CASCAVEL-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514600" y="38098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57400" y="3581280"/>
            <a:ext cx="1066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248520" y="4572000"/>
            <a:ext cx="1981080" cy="2182680"/>
          </a:xfrm>
          <a:prstGeom prst="wedgeRectCallout">
            <a:avLst>
              <a:gd name="adj1" fmla="val -147037"/>
              <a:gd name="adj2" fmla="val -409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º BATALH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ENGENH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CO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AGES-S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152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STÂ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 rot="2820000">
            <a:off x="3646080" y="1626120"/>
            <a:ext cx="436680" cy="2446200"/>
          </a:xfrm>
          <a:custGeom>
            <a:avLst/>
            <a:gdLst>
              <a:gd name="textAreaLeft" fmla="*/ 279000 w 436680"/>
              <a:gd name="textAreaRight" fmla="*/ 437040 w 436680"/>
              <a:gd name="textAreaTop" fmla="*/ 63720 h 2446200"/>
              <a:gd name="textAreaBottom" fmla="*/ 2382480 h 24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29"/>
                </a:lnTo>
                <a:cubicBezTo>
                  <a:pt x="10800" y="10229"/>
                  <a:pt x="5400" y="11129"/>
                  <a:pt x="0" y="11129"/>
                </a:cubicBezTo>
                <a:cubicBezTo>
                  <a:pt x="5400" y="11129"/>
                  <a:pt x="10800" y="12029"/>
                  <a:pt x="10800" y="129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19020000">
            <a:off x="2894760" y="2285640"/>
            <a:ext cx="1143000" cy="42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92 k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6320" y="76320"/>
            <a:ext cx="2209680" cy="2182680"/>
          </a:xfrm>
          <a:prstGeom prst="wedgeRectCallout">
            <a:avLst>
              <a:gd name="adj1" fmla="val 172412"/>
              <a:gd name="adj2" fmla="val 449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º BATALH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ENGENH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 CONSTRU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RAGUARI-M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 rot="19980000">
            <a:off x="3602160" y="3966480"/>
            <a:ext cx="436320" cy="1009800"/>
          </a:xfrm>
          <a:custGeom>
            <a:avLst/>
            <a:gdLst>
              <a:gd name="textAreaLeft" fmla="*/ 278640 w 436320"/>
              <a:gd name="textAreaRight" fmla="*/ 436680 w 43632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329"/>
                </a:lnTo>
                <a:cubicBezTo>
                  <a:pt x="10800" y="10229"/>
                  <a:pt x="5400" y="11129"/>
                  <a:pt x="0" y="11129"/>
                </a:cubicBezTo>
                <a:cubicBezTo>
                  <a:pt x="5400" y="11129"/>
                  <a:pt x="10800" y="12029"/>
                  <a:pt x="10800" y="1292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19980000">
            <a:off x="2585160" y="4573080"/>
            <a:ext cx="1143000" cy="427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76 k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5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87D2DF95-02BC-4C51-9EDF-FCE5430A922F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635280" y="5408280"/>
            <a:ext cx="499428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STRUÇÃO DO 6º PELO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SPECIAL DE FRONT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RI-CACHOEIRA -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LOCALIZACAO%20DE%20PARI-CACHOEIRA" descr=""/>
          <p:cNvPicPr/>
          <p:nvPr/>
        </p:nvPicPr>
        <p:blipFill>
          <a:blip r:embed="rId5"/>
          <a:stretch/>
        </p:blipFill>
        <p:spPr>
          <a:xfrm>
            <a:off x="57240" y="4052880"/>
            <a:ext cx="2881080" cy="280512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 flipH="1" flipV="1">
            <a:off x="1065960" y="5028480"/>
            <a:ext cx="2590920" cy="1066680"/>
          </a:xfrm>
          <a:prstGeom prst="line">
            <a:avLst/>
          </a:pr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6E8BB460-06F0-4814-9C1A-CFAB9AD6512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586520" y="5909040"/>
            <a:ext cx="5931000" cy="8305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AÇUDE  BOCAINA - P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CAPACIDADE: 160 MILHÕES m</a:t>
            </a:r>
            <a:r>
              <a:rPr b="0" lang="en-US" sz="30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9D656469-83CA-4BA8-BBF0-7A3143BE4F4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" y="4834800"/>
            <a:ext cx="8077320" cy="176292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AÇUDE  PRAZERES  - BARRO - 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CAPACIDADE 32,5 MILHÕES DE m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BARRAGEM COM 255 m DE EXTENSÃ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E 51 m DE ALTURA MÁXIMA.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6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165922D8-6525-48D1-816B-91E380325BE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5638680"/>
            <a:ext cx="7543800" cy="10670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474747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NSTRUÇÃO DE CANAIS EM  ITAIPU-PR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ARA COMPETIÇÕES DE CANOAGEM (400m) E 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IRACEMA (3.900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" spc="-1" strike="noStrike">
                <a:solidFill>
                  <a:srgbClr val="000000"/>
                </a:solidFill>
                <a:latin typeface="Times New Roman"/>
              </a:rPr>
              <a:t>Reserv. Itaparica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08400" y="6191280"/>
            <a:ext cx="449604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servatório de compens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etrolândia - 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5753160" y="6172200"/>
            <a:ext cx="35053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dutora Manoel Tor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icó -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4" name="" descr=""/>
          <p:cNvPicPr/>
          <p:nvPr/>
        </p:nvPicPr>
        <p:blipFill>
          <a:blip r:embed="rId5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5638680" y="6172200"/>
            <a:ext cx="35053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dutora Manoel Tor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icó -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1" name="" descr=""/>
          <p:cNvPicPr/>
          <p:nvPr/>
        </p:nvPicPr>
        <p:blipFill>
          <a:blip r:embed="rId5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4572000" y="6072120"/>
            <a:ext cx="33526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dutora Manoel Tor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aicó -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1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6553080" y="6556320"/>
            <a:ext cx="2590920" cy="2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utora do O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676520"/>
            <a:ext cx="88390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1. INTROD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. REALIZAÇÕES DA ENGENHARIA MILI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3. DESDOBRAMENTO DA ENGENHARI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ONSTRUÇÃO E SUA UNIDADE DE COMAN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4. POTENCIALIDADE EM PESSOAL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QUIP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5. VANTAGENS DA EXECUÇÃO DE O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ELO EXÉRC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6. PERSPECTIVAS DE ATU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7. CONCLU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4480" y="0"/>
            <a:ext cx="777420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4120" y="289080"/>
            <a:ext cx="3466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Arial Black"/>
              </a:rPr>
              <a:t>SUMÁRI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06600" y="763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6600" y="763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A6E3E237-6981-47AA-ADEB-7A6BC68BE5F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5197320" y="6222960"/>
            <a:ext cx="39625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çude Santa Cruz do Inhar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anta Cruz - 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1042920" y="6308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UPERAÇÃO DA BARRAGEM DE PACARAIMA-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5111640" y="63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QUE EM TERESINA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5111640" y="63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QUE EM TERESINA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5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5111640" y="630864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QUE EM TERESINA-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0" y="0"/>
          <a:ext cx="1233360" cy="19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233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1" name="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REALIZAÇÕES DA </a:t>
            </a:r>
            <a:br>
              <a:rPr sz="3600"/>
            </a:br>
            <a:r>
              <a:rPr b="0" lang="en-US" sz="3600" spc="-1" strike="noStrike">
                <a:solidFill>
                  <a:srgbClr val="ff3300"/>
                </a:solidFill>
                <a:latin typeface="Lucida Handwriting"/>
              </a:rPr>
              <a:t>ENGENHARIA MILITAR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7974000" y="380880"/>
          <a:ext cx="111276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4000" y="38088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762120" y="781200"/>
          <a:ext cx="7162560" cy="492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81200"/>
                    <a:ext cx="716256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6" name=""/>
          <p:cNvGrpSpPr/>
          <p:nvPr/>
        </p:nvGrpSpPr>
        <p:grpSpPr>
          <a:xfrm>
            <a:off x="0" y="2819520"/>
            <a:ext cx="9144000" cy="3614400"/>
            <a:chOff x="0" y="2819520"/>
            <a:chExt cx="9144000" cy="3614400"/>
          </a:xfrm>
        </p:grpSpPr>
        <p:sp>
          <p:nvSpPr>
            <p:cNvPr id="597" name=""/>
            <p:cNvSpPr/>
            <p:nvPr/>
          </p:nvSpPr>
          <p:spPr>
            <a:xfrm>
              <a:off x="0" y="2971800"/>
              <a:ext cx="9144000" cy="3240720"/>
            </a:xfrm>
            <a:prstGeom prst="rect">
              <a:avLst/>
            </a:prstGeom>
            <a:gradFill rotWithShape="0">
              <a:gsLst>
                <a:gs pos="0">
                  <a:srgbClr val="063de8"/>
                </a:gs>
                <a:gs pos="50000">
                  <a:srgbClr val="021c6a"/>
                </a:gs>
                <a:gs pos="100000">
                  <a:srgbClr val="063d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1400" y="3048120"/>
              <a:ext cx="5352840" cy="3385800"/>
            </a:xfrm>
            <a:prstGeom prst="borderCallout1">
              <a:avLst>
                <a:gd name="adj1" fmla="val 18750"/>
                <a:gd name="adj2" fmla="val -8333"/>
                <a:gd name="adj3" fmla="val -15787"/>
                <a:gd name="adj4" fmla="val 126092"/>
              </a:avLst>
            </a:prstGeom>
            <a:gradFill rotWithShape="0">
              <a:gsLst>
                <a:gs pos="0">
                  <a:srgbClr val="063de8"/>
                </a:gs>
                <a:gs pos="50000">
                  <a:srgbClr val="021c6a"/>
                </a:gs>
                <a:gs pos="100000">
                  <a:srgbClr val="063de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9" name="ACERVO%20RODOVIARIO%20DA%20ENG%20MIL%20CONST%20NA%20REDE%20EUROPEIA" descr=""/>
            <p:cNvPicPr/>
            <p:nvPr/>
          </p:nvPicPr>
          <p:blipFill>
            <a:blip r:embed="rId3"/>
            <a:stretch/>
          </p:blipFill>
          <p:spPr>
            <a:xfrm>
              <a:off x="239760" y="3105000"/>
              <a:ext cx="4987800" cy="33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 flipV="1">
              <a:off x="5410080" y="281952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3862440"/>
              <a:ext cx="3581280" cy="180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cervo rodoviário da Engenharia Militar 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(13.511 km),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se aplicado na rede rodoviária européi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9E884513-DB9E-4CAA-BCEA-E4F7C582F95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"/>
          <p:cNvGraphicFramePr/>
          <p:nvPr/>
        </p:nvGraphicFramePr>
        <p:xfrm>
          <a:off x="1114560" y="685800"/>
          <a:ext cx="691488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4560" y="685800"/>
                    <a:ext cx="69148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16CC23E8-C990-459D-9F46-DC1E8E3A429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" y="1371600"/>
            <a:ext cx="4343400" cy="2865960"/>
          </a:xfrm>
          <a:prstGeom prst="borderCallout1">
            <a:avLst>
              <a:gd name="adj1" fmla="val 18750"/>
              <a:gd name="adj2" fmla="val -8333"/>
              <a:gd name="adj3" fmla="val -4481"/>
              <a:gd name="adj4" fmla="val 164138"/>
            </a:avLst>
          </a:prstGeom>
          <a:gradFill rotWithShape="0">
            <a:gsLst>
              <a:gs pos="0">
                <a:srgbClr val="063de8"/>
              </a:gs>
              <a:gs pos="50000">
                <a:srgbClr val="021c6a"/>
              </a:gs>
              <a:gs pos="100000">
                <a:srgbClr val="063de8"/>
              </a:gs>
            </a:gsLst>
            <a:lin ang="5400000"/>
          </a:gra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29200" y="1628640"/>
            <a:ext cx="38941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ervo ferroviário da Engenharia Militar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(3.630 km)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 aplicado na rede ferroviária europé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ACERVO%20FERROVIARIO%20DA%20ENG%20MIL%20CONST%20NA%20REDE%20EUROPEIA" descr=""/>
          <p:cNvPicPr/>
          <p:nvPr/>
        </p:nvPicPr>
        <p:blipFill>
          <a:blip r:embed="rId3"/>
          <a:stretch/>
        </p:blipFill>
        <p:spPr>
          <a:xfrm>
            <a:off x="533520" y="1523880"/>
            <a:ext cx="4038480" cy="2608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"/>
          <p:cNvGraphicFramePr/>
          <p:nvPr/>
        </p:nvGraphicFramePr>
        <p:xfrm>
          <a:off x="533520" y="858960"/>
          <a:ext cx="7924680" cy="485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58960"/>
                    <a:ext cx="792468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80378CC5-B077-450B-BCE6-D1F9031D62C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1295280"/>
            <a:ext cx="9144000" cy="2324160"/>
          </a:xfrm>
          <a:prstGeom prst="rect">
            <a:avLst/>
          </a:prstGeom>
          <a:gradFill rotWithShape="0">
            <a:gsLst>
              <a:gs pos="0">
                <a:srgbClr val="063de8"/>
              </a:gs>
              <a:gs pos="50000">
                <a:srgbClr val="021c6a"/>
              </a:gs>
              <a:gs pos="100000">
                <a:srgbClr val="063de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"/>
          <p:cNvGraphicFramePr/>
          <p:nvPr/>
        </p:nvGraphicFramePr>
        <p:xfrm>
          <a:off x="533520" y="905040"/>
          <a:ext cx="8076960" cy="50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05040"/>
                    <a:ext cx="8076960" cy="50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6FED8B5-8D5B-44C9-B517-96D104C7CF9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0" name=""/>
          <p:cNvGraphicFramePr/>
          <p:nvPr/>
        </p:nvGraphicFramePr>
        <p:xfrm>
          <a:off x="857160" y="4724280"/>
          <a:ext cx="7429680" cy="213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4724280"/>
                    <a:ext cx="74296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2824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ervo de Realizações da Engenharia Militar em nú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8774280" y="668340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375827DA-8CA6-4CBE-8391-B37812166E5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124080"/>
            <a:ext cx="4705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d00"/>
                </a:solidFill>
                <a:latin typeface="Arial Black"/>
              </a:rPr>
              <a:t>1. INTRODUÇ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1E0EE225-1DD0-47F8-A8D7-A5AA5F3D806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6AE7B53F-90B6-44D7-92B9-EA4277DE78B6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>
            <a:off x="1447920" y="1371600"/>
            <a:ext cx="632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3. Desdobramento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da Engenharia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de Construção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e sua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Unidade de</a:t>
            </a:r>
            <a:br>
              <a:rPr sz="4600"/>
            </a:br>
            <a:r>
              <a:rPr b="0" lang="en-US" sz="4600" spc="-1" strike="noStrike">
                <a:solidFill>
                  <a:srgbClr val="ffff00"/>
                </a:solidFill>
                <a:latin typeface="Arial Black"/>
              </a:rPr>
              <a:t> Comando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295280" y="1143000"/>
            <a:ext cx="6146640" cy="5664240"/>
            <a:chOff x="1295280" y="1143000"/>
            <a:chExt cx="6146640" cy="5664240"/>
          </a:xfrm>
        </p:grpSpPr>
        <p:grpSp>
          <p:nvGrpSpPr>
            <p:cNvPr id="635" name=""/>
            <p:cNvGrpSpPr/>
            <p:nvPr/>
          </p:nvGrpSpPr>
          <p:grpSpPr>
            <a:xfrm>
              <a:off x="1523880" y="4952880"/>
              <a:ext cx="5918040" cy="1854360"/>
              <a:chOff x="1523880" y="4952880"/>
              <a:chExt cx="5918040" cy="1854360"/>
            </a:xfrm>
          </p:grpSpPr>
          <p:sp>
            <p:nvSpPr>
              <p:cNvPr id="636" name=""/>
              <p:cNvSpPr/>
              <p:nvPr/>
            </p:nvSpPr>
            <p:spPr>
              <a:xfrm>
                <a:off x="6114960" y="6477120"/>
                <a:ext cx="1326960" cy="3301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21ª C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3936960" y="496584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841720" y="499104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968480" y="495288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3752640" y="539748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973160" y="5943600"/>
                <a:ext cx="1278000" cy="29196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1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744560" y="5638680"/>
                <a:ext cx="1278000" cy="2923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0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523880" y="5346720"/>
                <a:ext cx="1278000" cy="29196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9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904920" y="568008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2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57560" y="5985000"/>
                <a:ext cx="1022400" cy="2887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3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209840" y="627696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4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505120" y="539748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5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657760" y="5667480"/>
                <a:ext cx="1022400" cy="2887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6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810040" y="5946840"/>
                <a:ext cx="1022400" cy="28872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7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962320" y="6226200"/>
                <a:ext cx="1022400" cy="28908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8° B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1582560" y="1143000"/>
              <a:ext cx="4848480" cy="2671920"/>
              <a:chOff x="1582560" y="1143000"/>
              <a:chExt cx="4848480" cy="2671920"/>
            </a:xfrm>
          </p:grpSpPr>
          <p:sp>
            <p:nvSpPr>
              <p:cNvPr id="652" name=""/>
              <p:cNvSpPr/>
              <p:nvPr/>
            </p:nvSpPr>
            <p:spPr>
              <a:xfrm>
                <a:off x="5689440" y="2951280"/>
                <a:ext cx="0" cy="439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936960" y="1828800"/>
                <a:ext cx="25560" cy="14479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260440" y="2971800"/>
                <a:ext cx="342900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251160" y="3276720"/>
                <a:ext cx="1427040" cy="538200"/>
              </a:xfrm>
              <a:prstGeom prst="rect">
                <a:avLst/>
              </a:prstGeom>
              <a:gradFill rotWithShape="0">
                <a:gsLst>
                  <a:gs pos="0">
                    <a:srgbClr val="7e6500"/>
                  </a:gs>
                  <a:gs pos="50000">
                    <a:srgbClr val="ffcc00"/>
                  </a:gs>
                  <a:gs pos="100000">
                    <a:srgbClr val="7e6500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66ffff"/>
                    </a:solidFill>
                    <a:latin typeface="Arial Black"/>
                  </a:rPr>
                  <a:t>D O 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174840" y="2133720"/>
                <a:ext cx="1495440" cy="533160"/>
              </a:xfrm>
              <a:prstGeom prst="rect">
                <a:avLst/>
              </a:prstGeom>
              <a:solidFill>
                <a:srgbClr val="063de8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afd00"/>
                    </a:solidFill>
                    <a:latin typeface="Arial Black"/>
                  </a:rPr>
                  <a:t>D E C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2286000" y="2959200"/>
                <a:ext cx="0" cy="30456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717640" y="1143000"/>
                <a:ext cx="2438640" cy="685800"/>
              </a:xfrm>
              <a:prstGeom prst="rect">
                <a:avLst/>
              </a:prstGeom>
              <a:solidFill>
                <a:srgbClr val="063de8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3200" spc="-1" strike="noStrike">
                    <a:solidFill>
                      <a:srgbClr val="fafd00"/>
                    </a:solidFill>
                    <a:latin typeface="Arial Black"/>
                  </a:rPr>
                  <a:t>Cmdo Ex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003640" y="3276720"/>
                <a:ext cx="1427400" cy="538200"/>
              </a:xfrm>
              <a:prstGeom prst="rect">
                <a:avLst/>
              </a:prstGeom>
              <a:gradFill rotWithShape="0">
                <a:gsLst>
                  <a:gs pos="0">
                    <a:srgbClr val="7e6500"/>
                  </a:gs>
                  <a:gs pos="50000">
                    <a:srgbClr val="ffcc00"/>
                  </a:gs>
                  <a:gs pos="100000">
                    <a:srgbClr val="7e6500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800" spc="-1" strike="noStrike">
                    <a:solidFill>
                      <a:srgbClr val="66ffff"/>
                    </a:solidFill>
                    <a:latin typeface="Arial Black"/>
                  </a:rPr>
                  <a:t>D Ptr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582560" y="3276720"/>
                <a:ext cx="1427400" cy="512640"/>
              </a:xfrm>
              <a:prstGeom prst="rect">
                <a:avLst/>
              </a:prstGeom>
              <a:gradFill rotWithShape="0">
                <a:gsLst>
                  <a:gs pos="0">
                    <a:srgbClr val="7e6500"/>
                  </a:gs>
                  <a:gs pos="50000">
                    <a:srgbClr val="ffcc00"/>
                  </a:gs>
                  <a:gs pos="100000">
                    <a:srgbClr val="7e6500"/>
                  </a:gs>
                </a:gsLst>
                <a:lin ang="108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66ffff"/>
                    </a:solidFill>
                    <a:latin typeface="Arial Black"/>
                  </a:rPr>
                  <a:t>D O M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1295280" y="3809880"/>
              <a:ext cx="5387760" cy="1266840"/>
              <a:chOff x="1295280" y="3809880"/>
              <a:chExt cx="5387760" cy="1266840"/>
            </a:xfrm>
          </p:grpSpPr>
          <p:sp>
            <p:nvSpPr>
              <p:cNvPr id="662" name=""/>
              <p:cNvSpPr/>
              <p:nvPr/>
            </p:nvSpPr>
            <p:spPr>
              <a:xfrm>
                <a:off x="5854680" y="4254480"/>
                <a:ext cx="0" cy="53352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936960" y="380988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1928520" y="4267080"/>
                <a:ext cx="39387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936960" y="4267080"/>
                <a:ext cx="0" cy="38124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159000" y="4584600"/>
                <a:ext cx="1539720" cy="4795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1° G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955520" y="4254480"/>
                <a:ext cx="0" cy="45720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1295280" y="4572000"/>
                <a:ext cx="1278000" cy="47952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63de8"/>
                    </a:solidFill>
                    <a:latin typeface="Arial Black"/>
                  </a:rPr>
                  <a:t>OMD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143320" y="4597560"/>
                <a:ext cx="1539720" cy="479160"/>
              </a:xfrm>
              <a:prstGeom prst="rect">
                <a:avLst/>
              </a:prstGeom>
              <a:solidFill>
                <a:srgbClr val="fe9b03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63de8"/>
                    </a:solidFill>
                    <a:latin typeface="Arial Black"/>
                  </a:rPr>
                  <a:t>2° GE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0" name=""/>
          <p:cNvSpPr/>
          <p:nvPr/>
        </p:nvSpPr>
        <p:spPr>
          <a:xfrm>
            <a:off x="787320" y="0"/>
            <a:ext cx="7728120" cy="10288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23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072440" y="128520"/>
            <a:ext cx="73036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Futura XBlk BT"/>
              </a:rPr>
              <a:t>ESTRUTURA  ORGANIZACIONAL 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Futura XBlk BT"/>
              </a:rPr>
              <a:t>SISTEMA DE  CONSTRUÇÃO  DO  EXÉRC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A1695E1C-2C91-402B-A99A-9312E38C94A8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3" name="ENG%20MIL%20NO%20BRASIL%20COM%20FOTOS%20OM%201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981840" cy="559116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 EXÉRCITO E AS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 CONSTRUÇÃO DA ENGENH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2FF48DC8-D673-4B5F-9A2A-CDDAF7EC1B0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ENG%20MIL%20NO%20BRASIL%20COM%20FOTOS%20OM%201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6981840" cy="5591160"/>
          </a:xfrm>
          <a:prstGeom prst="rect">
            <a:avLst/>
          </a:prstGeom>
          <a:ln w="0">
            <a:noFill/>
          </a:ln>
        </p:spPr>
      </p:pic>
      <p:sp>
        <p:nvSpPr>
          <p:cNvPr id="677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 EXÉRCITO E AS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 CONSTRUÇÃO DA ENGENH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CE4A3D28-35C4-42E7-8EED-958595F7A92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gradFill rotWithShape="0">
            <a:gsLst>
              <a:gs pos="0">
                <a:srgbClr val="000075"/>
              </a:gs>
              <a:gs pos="50000">
                <a:srgbClr val="0000ff"/>
              </a:gs>
              <a:gs pos="100000">
                <a:srgbClr val="00007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O EXÉRCITO E AS 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 CONSTRUÇÃO DA ENGENH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429F87D-10F7-41E2-919A-363C23F9736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1160" y="685800"/>
            <a:ext cx="9037440" cy="6129720"/>
            <a:chOff x="11160" y="685800"/>
            <a:chExt cx="9037440" cy="6129720"/>
          </a:xfrm>
        </p:grpSpPr>
        <p:pic>
          <p:nvPicPr>
            <p:cNvPr id="682" name="ENG%20MIL%20NO%20BRASIL%20COM%20FOTOS%20OM%201" descr=""/>
            <p:cNvPicPr/>
            <p:nvPr/>
          </p:nvPicPr>
          <p:blipFill>
            <a:blip r:embed="rId1"/>
            <a:stretch/>
          </p:blipFill>
          <p:spPr>
            <a:xfrm>
              <a:off x="1066680" y="685800"/>
              <a:ext cx="6981840" cy="559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3" name=""/>
            <p:cNvGrpSpPr/>
            <p:nvPr/>
          </p:nvGrpSpPr>
          <p:grpSpPr>
            <a:xfrm>
              <a:off x="11160" y="1117440"/>
              <a:ext cx="9037440" cy="5698080"/>
              <a:chOff x="11160" y="1117440"/>
              <a:chExt cx="9037440" cy="569808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7238880" y="1117440"/>
                <a:ext cx="1791000" cy="1798920"/>
                <a:chOff x="7238880" y="1117440"/>
                <a:chExt cx="1791000" cy="179892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7238880" y="1117440"/>
                  <a:ext cx="1791000" cy="1798920"/>
                </a:xfrm>
                <a:prstGeom prst="borderCallout2">
                  <a:avLst>
                    <a:gd name="adj1" fmla="val 18750"/>
                    <a:gd name="adj2" fmla="val -8333"/>
                    <a:gd name="adj3" fmla="val 6337"/>
                    <a:gd name="adj4" fmla="val -97162"/>
                    <a:gd name="adj5" fmla="val 57819"/>
                    <a:gd name="adj6" fmla="val -2053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º GRUPAMENT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MANAUS-A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86" name="2GEC_FOT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353360" y="1200240"/>
                  <a:ext cx="1600200" cy="79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87" name=""/>
              <p:cNvGrpSpPr/>
              <p:nvPr/>
            </p:nvGrpSpPr>
            <p:grpSpPr>
              <a:xfrm>
                <a:off x="7315200" y="3116160"/>
                <a:ext cx="1733400" cy="1798920"/>
                <a:chOff x="7315200" y="3116160"/>
                <a:chExt cx="1733400" cy="179892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7315200" y="3116160"/>
                  <a:ext cx="1733400" cy="1798920"/>
                </a:xfrm>
                <a:prstGeom prst="borderCallout2">
                  <a:avLst>
                    <a:gd name="adj1" fmla="val 18750"/>
                    <a:gd name="adj2" fmla="val -8333"/>
                    <a:gd name="adj3" fmla="val 6337"/>
                    <a:gd name="adj4" fmla="val -82694"/>
                    <a:gd name="adj5" fmla="val -50976"/>
                    <a:gd name="adj6" fmla="val -17360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8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SANTARÉM-PA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89" name="8BEC_FOT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486560" y="3200400"/>
                  <a:ext cx="1486080" cy="727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0" name=""/>
              <p:cNvGrpSpPr/>
              <p:nvPr/>
            </p:nvGrpSpPr>
            <p:grpSpPr>
              <a:xfrm>
                <a:off x="4896000" y="5016600"/>
                <a:ext cx="1885680" cy="1798920"/>
                <a:chOff x="4896000" y="5016600"/>
                <a:chExt cx="1885680" cy="17989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4896000" y="5016600"/>
                  <a:ext cx="1885680" cy="1798920"/>
                </a:xfrm>
                <a:prstGeom prst="borderCallout1">
                  <a:avLst>
                    <a:gd name="adj1" fmla="val 18750"/>
                    <a:gd name="adj2" fmla="val -8333"/>
                    <a:gd name="adj3" fmla="val -108439"/>
                    <a:gd name="adj4" fmla="val -10908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5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PORTO VELHO-RO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92" name="5BEC_FOT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991040" y="5105520"/>
                  <a:ext cx="1676520" cy="772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3" name=""/>
              <p:cNvGrpSpPr/>
              <p:nvPr/>
            </p:nvGrpSpPr>
            <p:grpSpPr>
              <a:xfrm>
                <a:off x="2819520" y="5016600"/>
                <a:ext cx="1771560" cy="1798920"/>
                <a:chOff x="2819520" y="5016600"/>
                <a:chExt cx="1771560" cy="17989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2819520" y="5016600"/>
                  <a:ext cx="1771560" cy="1798920"/>
                </a:xfrm>
                <a:prstGeom prst="borderCallout1">
                  <a:avLst>
                    <a:gd name="adj1" fmla="val 18750"/>
                    <a:gd name="adj2" fmla="val -8333"/>
                    <a:gd name="adj3" fmla="val -105259"/>
                    <a:gd name="adj4" fmla="val -31162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7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RIO BRANCO-AC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95" name="7BEC_FOT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876400" y="5029200"/>
                  <a:ext cx="1676520" cy="878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6" name=""/>
              <p:cNvGrpSpPr/>
              <p:nvPr/>
            </p:nvGrpSpPr>
            <p:grpSpPr>
              <a:xfrm>
                <a:off x="11160" y="4091040"/>
                <a:ext cx="1801800" cy="2098440"/>
                <a:chOff x="11160" y="4091040"/>
                <a:chExt cx="1801800" cy="2098440"/>
              </a:xfrm>
            </p:grpSpPr>
            <p:sp>
              <p:nvSpPr>
                <p:cNvPr id="697" name=""/>
                <p:cNvSpPr/>
                <p:nvPr/>
              </p:nvSpPr>
              <p:spPr>
                <a:xfrm rot="16200000">
                  <a:off x="-136800" y="4239360"/>
                  <a:ext cx="2098440" cy="1801800"/>
                </a:xfrm>
                <a:prstGeom prst="borderCallout2">
                  <a:avLst>
                    <a:gd name="adj1" fmla="val 18750"/>
                    <a:gd name="adj2" fmla="val -8333"/>
                    <a:gd name="adj3" fmla="val 92129"/>
                    <a:gd name="adj4" fmla="val 108009"/>
                    <a:gd name="adj5" fmla="val 133777"/>
                    <a:gd name="adj6" fmla="val 194611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21ª COMPANHIA D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S. GABRIEL D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CACHOEIRA-AM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698" name="1ª_1º%20BEC%20%20vista%20aérea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14480" y="4152960"/>
                  <a:ext cx="1600200" cy="807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699" name=""/>
              <p:cNvGrpSpPr/>
              <p:nvPr/>
            </p:nvGrpSpPr>
            <p:grpSpPr>
              <a:xfrm>
                <a:off x="38160" y="1143000"/>
                <a:ext cx="1790640" cy="1798920"/>
                <a:chOff x="38160" y="1143000"/>
                <a:chExt cx="1790640" cy="179892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38160" y="1143000"/>
                  <a:ext cx="1790640" cy="1798920"/>
                </a:xfrm>
                <a:prstGeom prst="borderCallout2">
                  <a:avLst>
                    <a:gd name="adj1" fmla="val 18750"/>
                    <a:gd name="adj2" fmla="val -8333"/>
                    <a:gd name="adj3" fmla="val 6337"/>
                    <a:gd name="adj4" fmla="val 138208"/>
                    <a:gd name="adj5" fmla="val 25666"/>
                    <a:gd name="adj6" fmla="val 177648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6º BATALH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ENGENHARI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E CONSTRUÇÃ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BOA VISTA-RR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701" name="6BEC_FOT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3200" y="1214280"/>
                  <a:ext cx="1619280" cy="722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3159000" y="2635200"/>
            <a:ext cx="1552680" cy="2270160"/>
          </a:xfrm>
          <a:custGeom>
            <a:avLst/>
            <a:gdLst/>
            <a:ahLst/>
            <a:rect l="l" t="t" r="r" b="b"/>
            <a:pathLst>
              <a:path w="978" h="1430">
                <a:moveTo>
                  <a:pt x="306" y="0"/>
                </a:moveTo>
                <a:lnTo>
                  <a:pt x="398" y="196"/>
                </a:lnTo>
                <a:lnTo>
                  <a:pt x="978" y="250"/>
                </a:lnTo>
                <a:lnTo>
                  <a:pt x="974" y="290"/>
                </a:lnTo>
                <a:lnTo>
                  <a:pt x="970" y="548"/>
                </a:lnTo>
                <a:lnTo>
                  <a:pt x="868" y="602"/>
                </a:lnTo>
                <a:lnTo>
                  <a:pt x="868" y="762"/>
                </a:lnTo>
                <a:lnTo>
                  <a:pt x="776" y="802"/>
                </a:lnTo>
                <a:lnTo>
                  <a:pt x="760" y="918"/>
                </a:lnTo>
                <a:lnTo>
                  <a:pt x="766" y="944"/>
                </a:lnTo>
                <a:lnTo>
                  <a:pt x="874" y="1086"/>
                </a:lnTo>
                <a:lnTo>
                  <a:pt x="868" y="1132"/>
                </a:lnTo>
                <a:lnTo>
                  <a:pt x="848" y="1182"/>
                </a:lnTo>
                <a:lnTo>
                  <a:pt x="818" y="1282"/>
                </a:lnTo>
                <a:lnTo>
                  <a:pt x="716" y="1280"/>
                </a:lnTo>
                <a:lnTo>
                  <a:pt x="620" y="1430"/>
                </a:lnTo>
                <a:lnTo>
                  <a:pt x="610" y="1386"/>
                </a:lnTo>
                <a:lnTo>
                  <a:pt x="518" y="1342"/>
                </a:lnTo>
                <a:lnTo>
                  <a:pt x="432" y="1342"/>
                </a:lnTo>
                <a:lnTo>
                  <a:pt x="430" y="1294"/>
                </a:lnTo>
                <a:lnTo>
                  <a:pt x="382" y="1150"/>
                </a:lnTo>
                <a:lnTo>
                  <a:pt x="380" y="1142"/>
                </a:lnTo>
                <a:lnTo>
                  <a:pt x="488" y="978"/>
                </a:lnTo>
                <a:lnTo>
                  <a:pt x="374" y="872"/>
                </a:lnTo>
                <a:lnTo>
                  <a:pt x="378" y="812"/>
                </a:lnTo>
                <a:lnTo>
                  <a:pt x="272" y="814"/>
                </a:lnTo>
                <a:lnTo>
                  <a:pt x="262" y="804"/>
                </a:lnTo>
                <a:lnTo>
                  <a:pt x="218" y="760"/>
                </a:lnTo>
                <a:lnTo>
                  <a:pt x="176" y="758"/>
                </a:lnTo>
                <a:lnTo>
                  <a:pt x="214" y="664"/>
                </a:lnTo>
                <a:lnTo>
                  <a:pt x="210" y="602"/>
                </a:lnTo>
                <a:lnTo>
                  <a:pt x="158" y="600"/>
                </a:lnTo>
                <a:lnTo>
                  <a:pt x="105" y="580"/>
                </a:lnTo>
                <a:lnTo>
                  <a:pt x="151" y="524"/>
                </a:lnTo>
                <a:lnTo>
                  <a:pt x="148" y="337"/>
                </a:lnTo>
                <a:lnTo>
                  <a:pt x="49" y="333"/>
                </a:lnTo>
                <a:lnTo>
                  <a:pt x="53" y="293"/>
                </a:lnTo>
                <a:lnTo>
                  <a:pt x="0" y="217"/>
                </a:lnTo>
                <a:lnTo>
                  <a:pt x="0" y="156"/>
                </a:lnTo>
                <a:lnTo>
                  <a:pt x="150" y="156"/>
                </a:lnTo>
                <a:lnTo>
                  <a:pt x="254" y="104"/>
                </a:lnTo>
                <a:lnTo>
                  <a:pt x="306" y="102"/>
                </a:lnTo>
                <a:lnTo>
                  <a:pt x="30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23960" y="114480"/>
            <a:ext cx="7696080" cy="66294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2004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051440" y="2514600"/>
            <a:ext cx="3165480" cy="3973680"/>
          </a:xfrm>
          <a:custGeom>
            <a:avLst/>
            <a:gdLst/>
            <a:ahLst/>
            <a:rect l="l" t="t" r="r" b="b"/>
            <a:pathLst>
              <a:path w="1849" h="2263">
                <a:moveTo>
                  <a:pt x="1644" y="0"/>
                </a:moveTo>
                <a:lnTo>
                  <a:pt x="1704" y="12"/>
                </a:lnTo>
                <a:lnTo>
                  <a:pt x="1704" y="30"/>
                </a:lnTo>
                <a:lnTo>
                  <a:pt x="1848" y="174"/>
                </a:lnTo>
                <a:lnTo>
                  <a:pt x="1848" y="300"/>
                </a:lnTo>
                <a:lnTo>
                  <a:pt x="1692" y="456"/>
                </a:lnTo>
                <a:lnTo>
                  <a:pt x="1632" y="456"/>
                </a:lnTo>
                <a:lnTo>
                  <a:pt x="1632" y="498"/>
                </a:lnTo>
                <a:lnTo>
                  <a:pt x="1632" y="546"/>
                </a:lnTo>
                <a:lnTo>
                  <a:pt x="1548" y="654"/>
                </a:lnTo>
                <a:lnTo>
                  <a:pt x="1512" y="642"/>
                </a:lnTo>
                <a:lnTo>
                  <a:pt x="1452" y="696"/>
                </a:lnTo>
                <a:lnTo>
                  <a:pt x="1458" y="1002"/>
                </a:lnTo>
                <a:lnTo>
                  <a:pt x="1362" y="1122"/>
                </a:lnTo>
                <a:lnTo>
                  <a:pt x="1350" y="1200"/>
                </a:lnTo>
                <a:lnTo>
                  <a:pt x="1308" y="1200"/>
                </a:lnTo>
                <a:lnTo>
                  <a:pt x="1314" y="1272"/>
                </a:lnTo>
                <a:lnTo>
                  <a:pt x="1266" y="1272"/>
                </a:lnTo>
                <a:lnTo>
                  <a:pt x="1254" y="1350"/>
                </a:lnTo>
                <a:lnTo>
                  <a:pt x="1224" y="1350"/>
                </a:lnTo>
                <a:lnTo>
                  <a:pt x="1182" y="1404"/>
                </a:lnTo>
                <a:lnTo>
                  <a:pt x="1032" y="1404"/>
                </a:lnTo>
                <a:lnTo>
                  <a:pt x="972" y="1470"/>
                </a:lnTo>
                <a:lnTo>
                  <a:pt x="936" y="1464"/>
                </a:lnTo>
                <a:lnTo>
                  <a:pt x="840" y="1560"/>
                </a:lnTo>
                <a:lnTo>
                  <a:pt x="780" y="1542"/>
                </a:lnTo>
                <a:lnTo>
                  <a:pt x="732" y="1596"/>
                </a:lnTo>
                <a:lnTo>
                  <a:pt x="756" y="1644"/>
                </a:lnTo>
                <a:lnTo>
                  <a:pt x="696" y="1650"/>
                </a:lnTo>
                <a:lnTo>
                  <a:pt x="696" y="1902"/>
                </a:lnTo>
                <a:lnTo>
                  <a:pt x="660" y="1992"/>
                </a:lnTo>
                <a:lnTo>
                  <a:pt x="570" y="2022"/>
                </a:lnTo>
                <a:lnTo>
                  <a:pt x="450" y="2124"/>
                </a:lnTo>
                <a:lnTo>
                  <a:pt x="432" y="2118"/>
                </a:lnTo>
                <a:lnTo>
                  <a:pt x="486" y="2058"/>
                </a:lnTo>
                <a:lnTo>
                  <a:pt x="474" y="2046"/>
                </a:lnTo>
                <a:lnTo>
                  <a:pt x="438" y="2094"/>
                </a:lnTo>
                <a:lnTo>
                  <a:pt x="402" y="2082"/>
                </a:lnTo>
                <a:lnTo>
                  <a:pt x="402" y="2172"/>
                </a:lnTo>
                <a:lnTo>
                  <a:pt x="354" y="2262"/>
                </a:lnTo>
                <a:lnTo>
                  <a:pt x="288" y="2250"/>
                </a:lnTo>
                <a:lnTo>
                  <a:pt x="288" y="2190"/>
                </a:lnTo>
                <a:lnTo>
                  <a:pt x="228" y="2076"/>
                </a:lnTo>
                <a:lnTo>
                  <a:pt x="108" y="1950"/>
                </a:lnTo>
                <a:lnTo>
                  <a:pt x="66" y="2052"/>
                </a:lnTo>
                <a:lnTo>
                  <a:pt x="6" y="2028"/>
                </a:lnTo>
                <a:lnTo>
                  <a:pt x="12" y="2010"/>
                </a:lnTo>
                <a:lnTo>
                  <a:pt x="0" y="1866"/>
                </a:lnTo>
                <a:lnTo>
                  <a:pt x="810" y="1050"/>
                </a:lnTo>
                <a:lnTo>
                  <a:pt x="1356" y="192"/>
                </a:lnTo>
                <a:lnTo>
                  <a:pt x="1644" y="0"/>
                </a:lnTo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23880" y="990720"/>
            <a:ext cx="3948120" cy="4047840"/>
          </a:xfrm>
          <a:custGeom>
            <a:avLst/>
            <a:gdLst/>
            <a:ahLst/>
            <a:rect l="l" t="t" r="r" b="b"/>
            <a:pathLst>
              <a:path w="2305" h="2305">
                <a:moveTo>
                  <a:pt x="2304" y="480"/>
                </a:moveTo>
                <a:lnTo>
                  <a:pt x="2256" y="432"/>
                </a:lnTo>
                <a:lnTo>
                  <a:pt x="2160" y="480"/>
                </a:lnTo>
                <a:lnTo>
                  <a:pt x="2112" y="480"/>
                </a:lnTo>
                <a:lnTo>
                  <a:pt x="2064" y="576"/>
                </a:lnTo>
                <a:lnTo>
                  <a:pt x="2016" y="576"/>
                </a:lnTo>
                <a:lnTo>
                  <a:pt x="1872" y="528"/>
                </a:lnTo>
                <a:lnTo>
                  <a:pt x="1872" y="480"/>
                </a:lnTo>
                <a:lnTo>
                  <a:pt x="1872" y="384"/>
                </a:lnTo>
                <a:lnTo>
                  <a:pt x="1968" y="288"/>
                </a:lnTo>
                <a:lnTo>
                  <a:pt x="1920" y="192"/>
                </a:lnTo>
                <a:lnTo>
                  <a:pt x="1824" y="144"/>
                </a:lnTo>
                <a:lnTo>
                  <a:pt x="1824" y="96"/>
                </a:lnTo>
                <a:lnTo>
                  <a:pt x="1776" y="96"/>
                </a:lnTo>
                <a:lnTo>
                  <a:pt x="1776" y="144"/>
                </a:lnTo>
                <a:lnTo>
                  <a:pt x="1728" y="192"/>
                </a:lnTo>
                <a:lnTo>
                  <a:pt x="1632" y="240"/>
                </a:lnTo>
                <a:lnTo>
                  <a:pt x="1584" y="240"/>
                </a:lnTo>
                <a:lnTo>
                  <a:pt x="1536" y="192"/>
                </a:lnTo>
                <a:lnTo>
                  <a:pt x="1488" y="192"/>
                </a:lnTo>
                <a:lnTo>
                  <a:pt x="1440" y="240"/>
                </a:lnTo>
                <a:lnTo>
                  <a:pt x="1248" y="240"/>
                </a:lnTo>
                <a:lnTo>
                  <a:pt x="1200" y="288"/>
                </a:lnTo>
                <a:lnTo>
                  <a:pt x="1104" y="288"/>
                </a:lnTo>
                <a:lnTo>
                  <a:pt x="1104" y="240"/>
                </a:lnTo>
                <a:lnTo>
                  <a:pt x="1152" y="192"/>
                </a:lnTo>
                <a:lnTo>
                  <a:pt x="1152" y="144"/>
                </a:lnTo>
                <a:lnTo>
                  <a:pt x="1104" y="48"/>
                </a:lnTo>
                <a:lnTo>
                  <a:pt x="1104" y="0"/>
                </a:lnTo>
                <a:lnTo>
                  <a:pt x="1056" y="0"/>
                </a:lnTo>
                <a:lnTo>
                  <a:pt x="1056" y="48"/>
                </a:lnTo>
                <a:lnTo>
                  <a:pt x="960" y="48"/>
                </a:lnTo>
                <a:lnTo>
                  <a:pt x="960" y="96"/>
                </a:lnTo>
                <a:lnTo>
                  <a:pt x="816" y="96"/>
                </a:lnTo>
                <a:lnTo>
                  <a:pt x="720" y="48"/>
                </a:lnTo>
                <a:lnTo>
                  <a:pt x="720" y="96"/>
                </a:lnTo>
                <a:lnTo>
                  <a:pt x="768" y="96"/>
                </a:lnTo>
                <a:lnTo>
                  <a:pt x="720" y="144"/>
                </a:lnTo>
                <a:lnTo>
                  <a:pt x="768" y="192"/>
                </a:lnTo>
                <a:lnTo>
                  <a:pt x="816" y="192"/>
                </a:lnTo>
                <a:lnTo>
                  <a:pt x="816" y="288"/>
                </a:lnTo>
                <a:lnTo>
                  <a:pt x="672" y="336"/>
                </a:lnTo>
                <a:lnTo>
                  <a:pt x="576" y="336"/>
                </a:lnTo>
                <a:lnTo>
                  <a:pt x="528" y="240"/>
                </a:lnTo>
                <a:lnTo>
                  <a:pt x="480" y="240"/>
                </a:lnTo>
                <a:lnTo>
                  <a:pt x="432" y="288"/>
                </a:lnTo>
                <a:lnTo>
                  <a:pt x="384" y="240"/>
                </a:lnTo>
                <a:lnTo>
                  <a:pt x="288" y="240"/>
                </a:lnTo>
                <a:lnTo>
                  <a:pt x="288" y="288"/>
                </a:lnTo>
                <a:lnTo>
                  <a:pt x="336" y="288"/>
                </a:lnTo>
                <a:lnTo>
                  <a:pt x="336" y="336"/>
                </a:lnTo>
                <a:lnTo>
                  <a:pt x="288" y="336"/>
                </a:lnTo>
                <a:lnTo>
                  <a:pt x="288" y="432"/>
                </a:lnTo>
                <a:lnTo>
                  <a:pt x="336" y="480"/>
                </a:lnTo>
                <a:lnTo>
                  <a:pt x="288" y="768"/>
                </a:lnTo>
                <a:lnTo>
                  <a:pt x="144" y="768"/>
                </a:lnTo>
                <a:lnTo>
                  <a:pt x="96" y="864"/>
                </a:lnTo>
                <a:lnTo>
                  <a:pt x="0" y="960"/>
                </a:lnTo>
                <a:lnTo>
                  <a:pt x="0" y="1008"/>
                </a:lnTo>
                <a:lnTo>
                  <a:pt x="0" y="1056"/>
                </a:lnTo>
                <a:lnTo>
                  <a:pt x="48" y="1104"/>
                </a:lnTo>
                <a:lnTo>
                  <a:pt x="48" y="1200"/>
                </a:lnTo>
                <a:lnTo>
                  <a:pt x="144" y="1200"/>
                </a:lnTo>
                <a:lnTo>
                  <a:pt x="192" y="1248"/>
                </a:lnTo>
                <a:lnTo>
                  <a:pt x="240" y="1248"/>
                </a:lnTo>
                <a:lnTo>
                  <a:pt x="288" y="1200"/>
                </a:lnTo>
                <a:lnTo>
                  <a:pt x="384" y="1296"/>
                </a:lnTo>
                <a:lnTo>
                  <a:pt x="480" y="1248"/>
                </a:lnTo>
                <a:lnTo>
                  <a:pt x="576" y="1200"/>
                </a:lnTo>
                <a:lnTo>
                  <a:pt x="672" y="1200"/>
                </a:lnTo>
                <a:lnTo>
                  <a:pt x="720" y="1344"/>
                </a:lnTo>
                <a:lnTo>
                  <a:pt x="816" y="1392"/>
                </a:lnTo>
                <a:lnTo>
                  <a:pt x="864" y="1440"/>
                </a:lnTo>
                <a:lnTo>
                  <a:pt x="960" y="1440"/>
                </a:lnTo>
                <a:lnTo>
                  <a:pt x="1104" y="1488"/>
                </a:lnTo>
                <a:lnTo>
                  <a:pt x="1152" y="1488"/>
                </a:lnTo>
                <a:lnTo>
                  <a:pt x="1152" y="1536"/>
                </a:lnTo>
                <a:lnTo>
                  <a:pt x="1104" y="1632"/>
                </a:lnTo>
                <a:lnTo>
                  <a:pt x="1152" y="1632"/>
                </a:lnTo>
                <a:lnTo>
                  <a:pt x="1200" y="1680"/>
                </a:lnTo>
                <a:lnTo>
                  <a:pt x="1296" y="1680"/>
                </a:lnTo>
                <a:lnTo>
                  <a:pt x="1296" y="1728"/>
                </a:lnTo>
                <a:lnTo>
                  <a:pt x="1392" y="1824"/>
                </a:lnTo>
                <a:lnTo>
                  <a:pt x="1296" y="1968"/>
                </a:lnTo>
                <a:lnTo>
                  <a:pt x="1344" y="2112"/>
                </a:lnTo>
                <a:lnTo>
                  <a:pt x="1344" y="2160"/>
                </a:lnTo>
                <a:lnTo>
                  <a:pt x="1440" y="2160"/>
                </a:lnTo>
                <a:lnTo>
                  <a:pt x="1536" y="2208"/>
                </a:lnTo>
                <a:lnTo>
                  <a:pt x="1536" y="2304"/>
                </a:lnTo>
                <a:lnTo>
                  <a:pt x="1632" y="2160"/>
                </a:lnTo>
                <a:lnTo>
                  <a:pt x="1728" y="2160"/>
                </a:lnTo>
                <a:lnTo>
                  <a:pt x="1776" y="2016"/>
                </a:lnTo>
                <a:lnTo>
                  <a:pt x="1776" y="1968"/>
                </a:lnTo>
                <a:lnTo>
                  <a:pt x="1776" y="1920"/>
                </a:lnTo>
                <a:lnTo>
                  <a:pt x="1680" y="1824"/>
                </a:lnTo>
                <a:lnTo>
                  <a:pt x="1680" y="1776"/>
                </a:lnTo>
                <a:lnTo>
                  <a:pt x="1776" y="1680"/>
                </a:lnTo>
                <a:lnTo>
                  <a:pt x="1776" y="1632"/>
                </a:lnTo>
                <a:lnTo>
                  <a:pt x="1776" y="1536"/>
                </a:lnTo>
                <a:lnTo>
                  <a:pt x="1872" y="1488"/>
                </a:lnTo>
                <a:lnTo>
                  <a:pt x="1872" y="1440"/>
                </a:lnTo>
                <a:lnTo>
                  <a:pt x="1872" y="1200"/>
                </a:lnTo>
                <a:lnTo>
                  <a:pt x="1968" y="1152"/>
                </a:lnTo>
                <a:lnTo>
                  <a:pt x="1968" y="1056"/>
                </a:lnTo>
                <a:lnTo>
                  <a:pt x="2064" y="960"/>
                </a:lnTo>
                <a:lnTo>
                  <a:pt x="2112" y="912"/>
                </a:lnTo>
                <a:lnTo>
                  <a:pt x="2112" y="816"/>
                </a:lnTo>
                <a:lnTo>
                  <a:pt x="2112" y="816"/>
                </a:lnTo>
                <a:lnTo>
                  <a:pt x="2160" y="768"/>
                </a:lnTo>
                <a:lnTo>
                  <a:pt x="2160" y="768"/>
                </a:lnTo>
                <a:lnTo>
                  <a:pt x="2208" y="672"/>
                </a:lnTo>
                <a:lnTo>
                  <a:pt x="2256" y="576"/>
                </a:lnTo>
                <a:lnTo>
                  <a:pt x="2304" y="480"/>
                </a:lnTo>
              </a:path>
            </a:pathLst>
          </a:custGeom>
          <a:solidFill>
            <a:srgbClr val="66ff33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308400" y="2597040"/>
            <a:ext cx="16488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n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792680" y="1604880"/>
            <a:ext cx="249120" cy="254160"/>
          </a:xfrm>
          <a:custGeom>
            <a:avLst/>
            <a:gdLst/>
            <a:ahLst/>
            <a:rect l="l" t="t" r="r" b="b"/>
            <a:pathLst>
              <a:path w="145" h="145">
                <a:moveTo>
                  <a:pt x="48" y="0"/>
                </a:moveTo>
                <a:lnTo>
                  <a:pt x="0" y="48"/>
                </a:lnTo>
                <a:lnTo>
                  <a:pt x="0" y="96"/>
                </a:lnTo>
                <a:lnTo>
                  <a:pt x="48" y="144"/>
                </a:lnTo>
                <a:lnTo>
                  <a:pt x="144" y="144"/>
                </a:lnTo>
                <a:lnTo>
                  <a:pt x="144" y="96"/>
                </a:lnTo>
                <a:lnTo>
                  <a:pt x="144" y="48"/>
                </a:lnTo>
                <a:lnTo>
                  <a:pt x="48" y="0"/>
                </a:lnTo>
              </a:path>
            </a:pathLst>
          </a:custGeom>
          <a:solidFill>
            <a:srgbClr val="66ff33"/>
          </a:solidFill>
          <a:ln cap="rnd" w="25560">
            <a:solidFill>
              <a:srgbClr val="ffffff"/>
            </a:solidFill>
            <a:round/>
          </a:ln>
          <a:effectLst>
            <a:outerShdw dist="53966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419720" y="1752480"/>
            <a:ext cx="2630520" cy="2530440"/>
          </a:xfrm>
          <a:custGeom>
            <a:avLst/>
            <a:gdLst/>
            <a:ahLst/>
            <a:rect l="l" t="t" r="r" b="b"/>
            <a:pathLst>
              <a:path w="1537" h="1441">
                <a:moveTo>
                  <a:pt x="624" y="0"/>
                </a:moveTo>
                <a:lnTo>
                  <a:pt x="480" y="288"/>
                </a:lnTo>
                <a:lnTo>
                  <a:pt x="480" y="288"/>
                </a:lnTo>
                <a:lnTo>
                  <a:pt x="480" y="288"/>
                </a:lnTo>
                <a:lnTo>
                  <a:pt x="432" y="336"/>
                </a:lnTo>
                <a:lnTo>
                  <a:pt x="432" y="432"/>
                </a:lnTo>
                <a:lnTo>
                  <a:pt x="288" y="576"/>
                </a:lnTo>
                <a:lnTo>
                  <a:pt x="288" y="672"/>
                </a:lnTo>
                <a:lnTo>
                  <a:pt x="192" y="720"/>
                </a:lnTo>
                <a:lnTo>
                  <a:pt x="192" y="1008"/>
                </a:lnTo>
                <a:lnTo>
                  <a:pt x="96" y="1056"/>
                </a:lnTo>
                <a:lnTo>
                  <a:pt x="96" y="1200"/>
                </a:lnTo>
                <a:lnTo>
                  <a:pt x="0" y="1248"/>
                </a:lnTo>
                <a:lnTo>
                  <a:pt x="0" y="1344"/>
                </a:lnTo>
                <a:lnTo>
                  <a:pt x="96" y="1440"/>
                </a:lnTo>
                <a:lnTo>
                  <a:pt x="144" y="1392"/>
                </a:lnTo>
                <a:lnTo>
                  <a:pt x="240" y="1392"/>
                </a:lnTo>
                <a:lnTo>
                  <a:pt x="336" y="1344"/>
                </a:lnTo>
                <a:lnTo>
                  <a:pt x="432" y="1392"/>
                </a:lnTo>
                <a:lnTo>
                  <a:pt x="480" y="1296"/>
                </a:lnTo>
                <a:lnTo>
                  <a:pt x="480" y="1200"/>
                </a:lnTo>
                <a:lnTo>
                  <a:pt x="528" y="1152"/>
                </a:lnTo>
                <a:lnTo>
                  <a:pt x="528" y="1104"/>
                </a:lnTo>
                <a:lnTo>
                  <a:pt x="576" y="1152"/>
                </a:lnTo>
                <a:lnTo>
                  <a:pt x="672" y="1104"/>
                </a:lnTo>
                <a:lnTo>
                  <a:pt x="768" y="1104"/>
                </a:lnTo>
                <a:lnTo>
                  <a:pt x="864" y="1152"/>
                </a:lnTo>
                <a:lnTo>
                  <a:pt x="912" y="1152"/>
                </a:lnTo>
                <a:lnTo>
                  <a:pt x="912" y="1200"/>
                </a:lnTo>
                <a:lnTo>
                  <a:pt x="1008" y="1200"/>
                </a:lnTo>
                <a:lnTo>
                  <a:pt x="1056" y="1248"/>
                </a:lnTo>
                <a:lnTo>
                  <a:pt x="1008" y="1296"/>
                </a:lnTo>
                <a:lnTo>
                  <a:pt x="1008" y="1392"/>
                </a:lnTo>
                <a:lnTo>
                  <a:pt x="1056" y="1440"/>
                </a:lnTo>
                <a:lnTo>
                  <a:pt x="1152" y="1296"/>
                </a:lnTo>
                <a:lnTo>
                  <a:pt x="1152" y="1008"/>
                </a:lnTo>
                <a:lnTo>
                  <a:pt x="1200" y="960"/>
                </a:lnTo>
                <a:lnTo>
                  <a:pt x="1248" y="960"/>
                </a:lnTo>
                <a:lnTo>
                  <a:pt x="1344" y="816"/>
                </a:lnTo>
                <a:lnTo>
                  <a:pt x="1344" y="768"/>
                </a:lnTo>
                <a:lnTo>
                  <a:pt x="1392" y="768"/>
                </a:lnTo>
                <a:lnTo>
                  <a:pt x="1536" y="624"/>
                </a:lnTo>
                <a:lnTo>
                  <a:pt x="1536" y="480"/>
                </a:lnTo>
                <a:lnTo>
                  <a:pt x="1392" y="336"/>
                </a:lnTo>
                <a:lnTo>
                  <a:pt x="1296" y="336"/>
                </a:lnTo>
                <a:lnTo>
                  <a:pt x="1248" y="240"/>
                </a:lnTo>
                <a:lnTo>
                  <a:pt x="1152" y="192"/>
                </a:lnTo>
                <a:lnTo>
                  <a:pt x="1008" y="192"/>
                </a:lnTo>
                <a:lnTo>
                  <a:pt x="960" y="192"/>
                </a:lnTo>
                <a:lnTo>
                  <a:pt x="960" y="144"/>
                </a:lnTo>
                <a:lnTo>
                  <a:pt x="912" y="96"/>
                </a:lnTo>
                <a:lnTo>
                  <a:pt x="816" y="96"/>
                </a:lnTo>
                <a:lnTo>
                  <a:pt x="768" y="144"/>
                </a:lnTo>
                <a:lnTo>
                  <a:pt x="768" y="192"/>
                </a:lnTo>
                <a:lnTo>
                  <a:pt x="720" y="192"/>
                </a:lnTo>
                <a:lnTo>
                  <a:pt x="720" y="96"/>
                </a:lnTo>
                <a:lnTo>
                  <a:pt x="720" y="48"/>
                </a:lnTo>
                <a:lnTo>
                  <a:pt x="624" y="0"/>
                </a:lnTo>
              </a:path>
            </a:pathLst>
          </a:custGeom>
          <a:solidFill>
            <a:srgbClr val="ff33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501920" y="2712960"/>
            <a:ext cx="1890720" cy="844560"/>
          </a:xfrm>
          <a:custGeom>
            <a:avLst/>
            <a:gdLst/>
            <a:ahLst/>
            <a:rect l="l" t="t" r="r" b="b"/>
            <a:pathLst>
              <a:path w="1105" h="481">
                <a:moveTo>
                  <a:pt x="0" y="0"/>
                </a:moveTo>
                <a:lnTo>
                  <a:pt x="192" y="0"/>
                </a:lnTo>
                <a:lnTo>
                  <a:pt x="576" y="213"/>
                </a:lnTo>
                <a:lnTo>
                  <a:pt x="528" y="160"/>
                </a:lnTo>
                <a:lnTo>
                  <a:pt x="720" y="107"/>
                </a:lnTo>
                <a:lnTo>
                  <a:pt x="816" y="0"/>
                </a:lnTo>
                <a:lnTo>
                  <a:pt x="864" y="0"/>
                </a:lnTo>
                <a:lnTo>
                  <a:pt x="912" y="53"/>
                </a:lnTo>
                <a:lnTo>
                  <a:pt x="960" y="107"/>
                </a:lnTo>
                <a:lnTo>
                  <a:pt x="960" y="160"/>
                </a:lnTo>
                <a:lnTo>
                  <a:pt x="1008" y="213"/>
                </a:lnTo>
                <a:lnTo>
                  <a:pt x="1008" y="267"/>
                </a:lnTo>
                <a:lnTo>
                  <a:pt x="1104" y="267"/>
                </a:lnTo>
                <a:lnTo>
                  <a:pt x="1104" y="373"/>
                </a:lnTo>
                <a:lnTo>
                  <a:pt x="1104" y="427"/>
                </a:lnTo>
                <a:lnTo>
                  <a:pt x="1056" y="48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92680" y="3673440"/>
            <a:ext cx="2303280" cy="2614680"/>
          </a:xfrm>
          <a:custGeom>
            <a:avLst/>
            <a:gdLst/>
            <a:ahLst/>
            <a:rect l="l" t="t" r="r" b="b"/>
            <a:pathLst>
              <a:path w="1345" h="1489">
                <a:moveTo>
                  <a:pt x="144" y="720"/>
                </a:moveTo>
                <a:lnTo>
                  <a:pt x="240" y="576"/>
                </a:lnTo>
                <a:lnTo>
                  <a:pt x="336" y="576"/>
                </a:lnTo>
                <a:lnTo>
                  <a:pt x="384" y="432"/>
                </a:lnTo>
                <a:lnTo>
                  <a:pt x="384" y="336"/>
                </a:lnTo>
                <a:lnTo>
                  <a:pt x="432" y="288"/>
                </a:lnTo>
                <a:lnTo>
                  <a:pt x="576" y="288"/>
                </a:lnTo>
                <a:lnTo>
                  <a:pt x="624" y="240"/>
                </a:lnTo>
                <a:lnTo>
                  <a:pt x="720" y="288"/>
                </a:lnTo>
                <a:lnTo>
                  <a:pt x="768" y="192"/>
                </a:lnTo>
                <a:lnTo>
                  <a:pt x="768" y="96"/>
                </a:lnTo>
                <a:lnTo>
                  <a:pt x="816" y="48"/>
                </a:lnTo>
                <a:lnTo>
                  <a:pt x="816" y="0"/>
                </a:lnTo>
                <a:lnTo>
                  <a:pt x="864" y="48"/>
                </a:lnTo>
                <a:lnTo>
                  <a:pt x="960" y="0"/>
                </a:lnTo>
                <a:lnTo>
                  <a:pt x="1008" y="0"/>
                </a:lnTo>
                <a:lnTo>
                  <a:pt x="1104" y="0"/>
                </a:lnTo>
                <a:lnTo>
                  <a:pt x="1152" y="48"/>
                </a:lnTo>
                <a:lnTo>
                  <a:pt x="1200" y="48"/>
                </a:lnTo>
                <a:lnTo>
                  <a:pt x="1200" y="96"/>
                </a:lnTo>
                <a:lnTo>
                  <a:pt x="1296" y="96"/>
                </a:lnTo>
                <a:lnTo>
                  <a:pt x="1344" y="144"/>
                </a:lnTo>
                <a:lnTo>
                  <a:pt x="1296" y="192"/>
                </a:lnTo>
                <a:lnTo>
                  <a:pt x="1296" y="240"/>
                </a:lnTo>
                <a:lnTo>
                  <a:pt x="1296" y="288"/>
                </a:lnTo>
                <a:lnTo>
                  <a:pt x="1344" y="336"/>
                </a:lnTo>
                <a:lnTo>
                  <a:pt x="1344" y="432"/>
                </a:lnTo>
                <a:lnTo>
                  <a:pt x="1296" y="432"/>
                </a:lnTo>
                <a:lnTo>
                  <a:pt x="1296" y="480"/>
                </a:lnTo>
                <a:lnTo>
                  <a:pt x="1248" y="480"/>
                </a:lnTo>
                <a:lnTo>
                  <a:pt x="1248" y="576"/>
                </a:lnTo>
                <a:lnTo>
                  <a:pt x="1200" y="576"/>
                </a:lnTo>
                <a:lnTo>
                  <a:pt x="1152" y="624"/>
                </a:lnTo>
                <a:lnTo>
                  <a:pt x="1008" y="624"/>
                </a:lnTo>
                <a:lnTo>
                  <a:pt x="960" y="672"/>
                </a:lnTo>
                <a:lnTo>
                  <a:pt x="912" y="672"/>
                </a:lnTo>
                <a:lnTo>
                  <a:pt x="864" y="720"/>
                </a:lnTo>
                <a:lnTo>
                  <a:pt x="816" y="768"/>
                </a:lnTo>
                <a:lnTo>
                  <a:pt x="768" y="768"/>
                </a:lnTo>
                <a:lnTo>
                  <a:pt x="720" y="816"/>
                </a:lnTo>
                <a:lnTo>
                  <a:pt x="720" y="864"/>
                </a:lnTo>
                <a:lnTo>
                  <a:pt x="672" y="864"/>
                </a:lnTo>
                <a:lnTo>
                  <a:pt x="672" y="1104"/>
                </a:lnTo>
                <a:lnTo>
                  <a:pt x="624" y="1200"/>
                </a:lnTo>
                <a:lnTo>
                  <a:pt x="528" y="1248"/>
                </a:lnTo>
                <a:lnTo>
                  <a:pt x="432" y="1344"/>
                </a:lnTo>
                <a:lnTo>
                  <a:pt x="480" y="1296"/>
                </a:lnTo>
                <a:lnTo>
                  <a:pt x="480" y="1248"/>
                </a:lnTo>
                <a:lnTo>
                  <a:pt x="432" y="1296"/>
                </a:lnTo>
                <a:lnTo>
                  <a:pt x="384" y="1296"/>
                </a:lnTo>
                <a:lnTo>
                  <a:pt x="384" y="1392"/>
                </a:lnTo>
                <a:lnTo>
                  <a:pt x="336" y="1488"/>
                </a:lnTo>
                <a:lnTo>
                  <a:pt x="288" y="1488"/>
                </a:lnTo>
                <a:lnTo>
                  <a:pt x="288" y="1392"/>
                </a:lnTo>
                <a:lnTo>
                  <a:pt x="336" y="1392"/>
                </a:lnTo>
                <a:lnTo>
                  <a:pt x="336" y="1344"/>
                </a:lnTo>
                <a:lnTo>
                  <a:pt x="288" y="1344"/>
                </a:lnTo>
                <a:lnTo>
                  <a:pt x="288" y="1392"/>
                </a:lnTo>
                <a:lnTo>
                  <a:pt x="240" y="1344"/>
                </a:lnTo>
                <a:lnTo>
                  <a:pt x="192" y="1296"/>
                </a:lnTo>
                <a:lnTo>
                  <a:pt x="144" y="1296"/>
                </a:lnTo>
                <a:lnTo>
                  <a:pt x="96" y="1200"/>
                </a:lnTo>
                <a:lnTo>
                  <a:pt x="48" y="1248"/>
                </a:lnTo>
                <a:lnTo>
                  <a:pt x="0" y="1248"/>
                </a:lnTo>
                <a:lnTo>
                  <a:pt x="0" y="1152"/>
                </a:lnTo>
                <a:lnTo>
                  <a:pt x="48" y="1104"/>
                </a:lnTo>
                <a:lnTo>
                  <a:pt x="96" y="1104"/>
                </a:lnTo>
                <a:lnTo>
                  <a:pt x="192" y="1008"/>
                </a:lnTo>
                <a:lnTo>
                  <a:pt x="288" y="1008"/>
                </a:lnTo>
                <a:lnTo>
                  <a:pt x="288" y="864"/>
                </a:lnTo>
                <a:lnTo>
                  <a:pt x="240" y="864"/>
                </a:lnTo>
                <a:lnTo>
                  <a:pt x="240" y="768"/>
                </a:lnTo>
                <a:lnTo>
                  <a:pt x="240" y="720"/>
                </a:lnTo>
                <a:lnTo>
                  <a:pt x="144" y="720"/>
                </a:lnTo>
              </a:path>
            </a:pathLst>
          </a:custGeom>
          <a:solidFill>
            <a:srgbClr val="ff99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524400" y="1504800"/>
            <a:ext cx="80640" cy="255600"/>
          </a:xfrm>
          <a:custGeom>
            <a:avLst/>
            <a:gdLst/>
            <a:ahLst/>
            <a:rect l="l" t="t" r="r" b="b"/>
            <a:pathLst>
              <a:path w="1" h="145">
                <a:moveTo>
                  <a:pt x="0" y="144"/>
                </a:moveTo>
                <a:lnTo>
                  <a:pt x="0" y="96"/>
                </a:lnTo>
                <a:lnTo>
                  <a:pt x="0" y="0"/>
                </a:lnTo>
                <a:lnTo>
                  <a:pt x="0" y="144"/>
                </a:lnTo>
              </a:path>
            </a:pathLst>
          </a:custGeom>
          <a:solidFill>
            <a:srgbClr val="00cc99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98720" y="1355760"/>
            <a:ext cx="658800" cy="50796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384" y="144"/>
                </a:moveTo>
                <a:lnTo>
                  <a:pt x="288" y="144"/>
                </a:lnTo>
                <a:lnTo>
                  <a:pt x="240" y="240"/>
                </a:lnTo>
                <a:lnTo>
                  <a:pt x="192" y="240"/>
                </a:lnTo>
                <a:lnTo>
                  <a:pt x="144" y="288"/>
                </a:lnTo>
                <a:lnTo>
                  <a:pt x="96" y="240"/>
                </a:lnTo>
                <a:lnTo>
                  <a:pt x="48" y="144"/>
                </a:lnTo>
                <a:lnTo>
                  <a:pt x="48" y="96"/>
                </a:lnTo>
                <a:lnTo>
                  <a:pt x="48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35320" y="1312920"/>
            <a:ext cx="576360" cy="592200"/>
          </a:xfrm>
          <a:custGeom>
            <a:avLst/>
            <a:gdLst/>
            <a:ahLst/>
            <a:rect l="l" t="t" r="r" b="b"/>
            <a:pathLst>
              <a:path w="337" h="337">
                <a:moveTo>
                  <a:pt x="336" y="288"/>
                </a:moveTo>
                <a:lnTo>
                  <a:pt x="288" y="336"/>
                </a:lnTo>
                <a:lnTo>
                  <a:pt x="240" y="288"/>
                </a:lnTo>
                <a:lnTo>
                  <a:pt x="240" y="288"/>
                </a:lnTo>
                <a:lnTo>
                  <a:pt x="192" y="240"/>
                </a:lnTo>
                <a:lnTo>
                  <a:pt x="144" y="192"/>
                </a:lnTo>
                <a:lnTo>
                  <a:pt x="96" y="192"/>
                </a:lnTo>
                <a:lnTo>
                  <a:pt x="96" y="96"/>
                </a:lnTo>
                <a:lnTo>
                  <a:pt x="48" y="96"/>
                </a:lnTo>
                <a:lnTo>
                  <a:pt x="0" y="9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22800" y="2349360"/>
            <a:ext cx="249480" cy="1435320"/>
          </a:xfrm>
          <a:custGeom>
            <a:avLst/>
            <a:gdLst/>
            <a:ahLst/>
            <a:rect l="l" t="t" r="r" b="b"/>
            <a:pathLst>
              <a:path w="145" h="817">
                <a:moveTo>
                  <a:pt x="0" y="0"/>
                </a:moveTo>
                <a:lnTo>
                  <a:pt x="48" y="51"/>
                </a:lnTo>
                <a:lnTo>
                  <a:pt x="48" y="153"/>
                </a:lnTo>
                <a:lnTo>
                  <a:pt x="96" y="204"/>
                </a:lnTo>
                <a:lnTo>
                  <a:pt x="96" y="306"/>
                </a:lnTo>
                <a:lnTo>
                  <a:pt x="96" y="408"/>
                </a:lnTo>
                <a:lnTo>
                  <a:pt x="144" y="459"/>
                </a:lnTo>
                <a:lnTo>
                  <a:pt x="144" y="510"/>
                </a:lnTo>
                <a:lnTo>
                  <a:pt x="144" y="612"/>
                </a:lnTo>
                <a:lnTo>
                  <a:pt x="144" y="663"/>
                </a:lnTo>
                <a:lnTo>
                  <a:pt x="144" y="714"/>
                </a:lnTo>
                <a:lnTo>
                  <a:pt x="144" y="816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3720" y="2100240"/>
            <a:ext cx="904680" cy="1096920"/>
          </a:xfrm>
          <a:custGeom>
            <a:avLst/>
            <a:gdLst/>
            <a:ahLst/>
            <a:rect l="l" t="t" r="r" b="b"/>
            <a:pathLst>
              <a:path w="529" h="625">
                <a:moveTo>
                  <a:pt x="0" y="624"/>
                </a:moveTo>
                <a:lnTo>
                  <a:pt x="48" y="572"/>
                </a:lnTo>
                <a:lnTo>
                  <a:pt x="96" y="572"/>
                </a:lnTo>
                <a:lnTo>
                  <a:pt x="192" y="572"/>
                </a:lnTo>
                <a:lnTo>
                  <a:pt x="240" y="520"/>
                </a:lnTo>
                <a:lnTo>
                  <a:pt x="288" y="468"/>
                </a:lnTo>
                <a:lnTo>
                  <a:pt x="336" y="468"/>
                </a:lnTo>
                <a:lnTo>
                  <a:pt x="432" y="468"/>
                </a:lnTo>
                <a:lnTo>
                  <a:pt x="432" y="416"/>
                </a:lnTo>
                <a:lnTo>
                  <a:pt x="480" y="364"/>
                </a:lnTo>
                <a:lnTo>
                  <a:pt x="528" y="312"/>
                </a:lnTo>
                <a:lnTo>
                  <a:pt x="480" y="208"/>
                </a:lnTo>
                <a:lnTo>
                  <a:pt x="432" y="208"/>
                </a:lnTo>
                <a:lnTo>
                  <a:pt x="432" y="156"/>
                </a:lnTo>
                <a:lnTo>
                  <a:pt x="432" y="52"/>
                </a:lnTo>
                <a:lnTo>
                  <a:pt x="432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289480" y="1935000"/>
            <a:ext cx="658800" cy="846360"/>
          </a:xfrm>
          <a:custGeom>
            <a:avLst/>
            <a:gdLst/>
            <a:ahLst/>
            <a:rect l="l" t="t" r="r" b="b"/>
            <a:pathLst>
              <a:path w="385" h="481">
                <a:moveTo>
                  <a:pt x="384" y="0"/>
                </a:moveTo>
                <a:lnTo>
                  <a:pt x="384" y="107"/>
                </a:lnTo>
                <a:lnTo>
                  <a:pt x="336" y="160"/>
                </a:lnTo>
                <a:lnTo>
                  <a:pt x="336" y="267"/>
                </a:lnTo>
                <a:lnTo>
                  <a:pt x="288" y="267"/>
                </a:lnTo>
                <a:lnTo>
                  <a:pt x="336" y="373"/>
                </a:lnTo>
                <a:lnTo>
                  <a:pt x="288" y="373"/>
                </a:lnTo>
                <a:lnTo>
                  <a:pt x="240" y="373"/>
                </a:lnTo>
                <a:lnTo>
                  <a:pt x="192" y="427"/>
                </a:lnTo>
                <a:lnTo>
                  <a:pt x="144" y="427"/>
                </a:lnTo>
                <a:lnTo>
                  <a:pt x="96" y="480"/>
                </a:lnTo>
                <a:lnTo>
                  <a:pt x="48" y="480"/>
                </a:lnTo>
                <a:lnTo>
                  <a:pt x="0" y="48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43640" y="2681280"/>
            <a:ext cx="576360" cy="169920"/>
          </a:xfrm>
          <a:custGeom>
            <a:avLst/>
            <a:gdLst/>
            <a:ahLst/>
            <a:rect l="l" t="t" r="r" b="b"/>
            <a:pathLst>
              <a:path w="337" h="97">
                <a:moveTo>
                  <a:pt x="0" y="48"/>
                </a:moveTo>
                <a:lnTo>
                  <a:pt x="96" y="48"/>
                </a:lnTo>
                <a:lnTo>
                  <a:pt x="144" y="0"/>
                </a:lnTo>
                <a:lnTo>
                  <a:pt x="144" y="96"/>
                </a:lnTo>
                <a:lnTo>
                  <a:pt x="192" y="48"/>
                </a:lnTo>
                <a:lnTo>
                  <a:pt x="240" y="48"/>
                </a:lnTo>
                <a:lnTo>
                  <a:pt x="240" y="0"/>
                </a:lnTo>
                <a:lnTo>
                  <a:pt x="336" y="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867280" y="2846520"/>
            <a:ext cx="824040" cy="255600"/>
          </a:xfrm>
          <a:custGeom>
            <a:avLst/>
            <a:gdLst/>
            <a:ahLst/>
            <a:rect l="l" t="t" r="r" b="b"/>
            <a:pathLst>
              <a:path w="481" h="145">
                <a:moveTo>
                  <a:pt x="0" y="48"/>
                </a:moveTo>
                <a:lnTo>
                  <a:pt x="120" y="96"/>
                </a:lnTo>
                <a:lnTo>
                  <a:pt x="180" y="48"/>
                </a:lnTo>
                <a:lnTo>
                  <a:pt x="180" y="0"/>
                </a:lnTo>
                <a:lnTo>
                  <a:pt x="300" y="48"/>
                </a:lnTo>
                <a:lnTo>
                  <a:pt x="300" y="96"/>
                </a:lnTo>
                <a:lnTo>
                  <a:pt x="360" y="48"/>
                </a:lnTo>
                <a:lnTo>
                  <a:pt x="420" y="96"/>
                </a:lnTo>
                <a:lnTo>
                  <a:pt x="480" y="144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42200" y="2928960"/>
            <a:ext cx="166680" cy="506520"/>
          </a:xfrm>
          <a:custGeom>
            <a:avLst/>
            <a:gdLst/>
            <a:ahLst/>
            <a:rect l="l" t="t" r="r" b="b"/>
            <a:pathLst>
              <a:path w="97" h="289">
                <a:moveTo>
                  <a:pt x="0" y="0"/>
                </a:moveTo>
                <a:lnTo>
                  <a:pt x="48" y="144"/>
                </a:lnTo>
                <a:lnTo>
                  <a:pt x="96" y="144"/>
                </a:lnTo>
                <a:lnTo>
                  <a:pt x="48" y="216"/>
                </a:lnTo>
                <a:lnTo>
                  <a:pt x="48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111720" y="2928960"/>
            <a:ext cx="16524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 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864400" y="3094200"/>
            <a:ext cx="16488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359400" y="3094200"/>
            <a:ext cx="16524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132600" y="3343320"/>
            <a:ext cx="16488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n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381560" y="5246640"/>
            <a:ext cx="660240" cy="85680"/>
          </a:xfrm>
          <a:custGeom>
            <a:avLst/>
            <a:gdLst/>
            <a:ahLst/>
            <a:rect l="l" t="t" r="r" b="b"/>
            <a:pathLst>
              <a:path w="385" h="49">
                <a:moveTo>
                  <a:pt x="0" y="0"/>
                </a:moveTo>
                <a:lnTo>
                  <a:pt x="96" y="0"/>
                </a:lnTo>
                <a:lnTo>
                  <a:pt x="144" y="48"/>
                </a:lnTo>
                <a:lnTo>
                  <a:pt x="240" y="0"/>
                </a:lnTo>
                <a:lnTo>
                  <a:pt x="384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381560" y="5411880"/>
            <a:ext cx="577800" cy="338040"/>
          </a:xfrm>
          <a:custGeom>
            <a:avLst/>
            <a:gdLst/>
            <a:ahLst/>
            <a:rect l="l" t="t" r="r" b="b"/>
            <a:pathLst>
              <a:path w="337" h="193">
                <a:moveTo>
                  <a:pt x="0" y="0"/>
                </a:moveTo>
                <a:lnTo>
                  <a:pt x="112" y="0"/>
                </a:lnTo>
                <a:lnTo>
                  <a:pt x="168" y="64"/>
                </a:lnTo>
                <a:lnTo>
                  <a:pt x="224" y="128"/>
                </a:lnTo>
                <a:lnTo>
                  <a:pt x="280" y="128"/>
                </a:lnTo>
                <a:lnTo>
                  <a:pt x="336" y="192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464000" y="4667400"/>
            <a:ext cx="660600" cy="506160"/>
          </a:xfrm>
          <a:custGeom>
            <a:avLst/>
            <a:gdLst/>
            <a:ahLst/>
            <a:rect l="l" t="t" r="r" b="b"/>
            <a:pathLst>
              <a:path w="385" h="289">
                <a:moveTo>
                  <a:pt x="0" y="0"/>
                </a:moveTo>
                <a:lnTo>
                  <a:pt x="96" y="0"/>
                </a:lnTo>
                <a:lnTo>
                  <a:pt x="144" y="0"/>
                </a:lnTo>
                <a:lnTo>
                  <a:pt x="192" y="0"/>
                </a:lnTo>
                <a:lnTo>
                  <a:pt x="240" y="96"/>
                </a:lnTo>
                <a:lnTo>
                  <a:pt x="240" y="144"/>
                </a:lnTo>
                <a:lnTo>
                  <a:pt x="240" y="192"/>
                </a:lnTo>
                <a:lnTo>
                  <a:pt x="336" y="192"/>
                </a:lnTo>
                <a:lnTo>
                  <a:pt x="336" y="240"/>
                </a:lnTo>
                <a:lnTo>
                  <a:pt x="384" y="28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591080" y="4087800"/>
            <a:ext cx="1563480" cy="676440"/>
          </a:xfrm>
          <a:custGeom>
            <a:avLst/>
            <a:gdLst/>
            <a:ahLst/>
            <a:rect l="l" t="t" r="r" b="b"/>
            <a:pathLst>
              <a:path w="913" h="385">
                <a:moveTo>
                  <a:pt x="0" y="144"/>
                </a:moveTo>
                <a:lnTo>
                  <a:pt x="48" y="192"/>
                </a:lnTo>
                <a:lnTo>
                  <a:pt x="144" y="192"/>
                </a:lnTo>
                <a:lnTo>
                  <a:pt x="192" y="192"/>
                </a:lnTo>
                <a:lnTo>
                  <a:pt x="240" y="192"/>
                </a:lnTo>
                <a:lnTo>
                  <a:pt x="288" y="192"/>
                </a:lnTo>
                <a:lnTo>
                  <a:pt x="336" y="240"/>
                </a:lnTo>
                <a:lnTo>
                  <a:pt x="432" y="288"/>
                </a:lnTo>
                <a:lnTo>
                  <a:pt x="384" y="336"/>
                </a:lnTo>
                <a:lnTo>
                  <a:pt x="432" y="384"/>
                </a:lnTo>
                <a:lnTo>
                  <a:pt x="528" y="336"/>
                </a:lnTo>
                <a:lnTo>
                  <a:pt x="576" y="336"/>
                </a:lnTo>
                <a:lnTo>
                  <a:pt x="672" y="336"/>
                </a:lnTo>
                <a:lnTo>
                  <a:pt x="768" y="288"/>
                </a:lnTo>
                <a:lnTo>
                  <a:pt x="816" y="240"/>
                </a:lnTo>
                <a:lnTo>
                  <a:pt x="864" y="144"/>
                </a:lnTo>
                <a:lnTo>
                  <a:pt x="912" y="144"/>
                </a:lnTo>
                <a:lnTo>
                  <a:pt x="912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415120" y="4667400"/>
            <a:ext cx="80640" cy="171360"/>
          </a:xfrm>
          <a:custGeom>
            <a:avLst/>
            <a:gdLst/>
            <a:ahLst/>
            <a:rect l="l" t="t" r="r" b="b"/>
            <a:pathLst>
              <a:path w="25" h="97">
                <a:moveTo>
                  <a:pt x="0" y="0"/>
                </a:moveTo>
                <a:lnTo>
                  <a:pt x="24" y="48"/>
                </a:lnTo>
                <a:lnTo>
                  <a:pt x="24" y="96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905440" y="4584600"/>
            <a:ext cx="84240" cy="85680"/>
          </a:xfrm>
          <a:custGeom>
            <a:avLst/>
            <a:gdLst/>
            <a:ahLst/>
            <a:rect l="l" t="t" r="r" b="b"/>
            <a:pathLst>
              <a:path w="49" h="49">
                <a:moveTo>
                  <a:pt x="0" y="0"/>
                </a:moveTo>
                <a:lnTo>
                  <a:pt x="48" y="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54560" y="1900080"/>
            <a:ext cx="80640" cy="82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179880" y="12794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51240" y="1943280"/>
            <a:ext cx="81000" cy="80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818320" y="23558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983200" y="260496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642000" y="243828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889680" y="264636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570640" y="3225960"/>
            <a:ext cx="81000" cy="80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994280" y="4219560"/>
            <a:ext cx="792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746600" y="54608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278400" y="2266920"/>
            <a:ext cx="330480" cy="506520"/>
          </a:xfrm>
          <a:custGeom>
            <a:avLst/>
            <a:gdLst/>
            <a:ahLst/>
            <a:rect l="l" t="t" r="r" b="b"/>
            <a:pathLst>
              <a:path w="193" h="289">
                <a:moveTo>
                  <a:pt x="0" y="230"/>
                </a:moveTo>
                <a:lnTo>
                  <a:pt x="96" y="288"/>
                </a:lnTo>
                <a:lnTo>
                  <a:pt x="96" y="115"/>
                </a:lnTo>
                <a:lnTo>
                  <a:pt x="144" y="58"/>
                </a:lnTo>
                <a:lnTo>
                  <a:pt x="192" y="58"/>
                </a:lnTo>
                <a:lnTo>
                  <a:pt x="192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149560" y="296388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662120" y="3094200"/>
            <a:ext cx="65736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I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N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64000" y="5329080"/>
            <a:ext cx="658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124600" y="2349360"/>
            <a:ext cx="657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ERESIN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618160" y="2681280"/>
            <a:ext cx="6588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691320" y="2349360"/>
            <a:ext cx="657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AICÓ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70440" y="2017800"/>
            <a:ext cx="65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TARÉ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733840" y="1355760"/>
            <a:ext cx="65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OA VIS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379760" y="4087800"/>
            <a:ext cx="166680" cy="171360"/>
          </a:xfrm>
          <a:custGeom>
            <a:avLst/>
            <a:gdLst/>
            <a:ahLst/>
            <a:rect l="l" t="t" r="r" b="b"/>
            <a:pathLst>
              <a:path w="97" h="97">
                <a:moveTo>
                  <a:pt x="0" y="0"/>
                </a:moveTo>
                <a:lnTo>
                  <a:pt x="96" y="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3640" y="2514600"/>
            <a:ext cx="493560" cy="87480"/>
          </a:xfrm>
          <a:custGeom>
            <a:avLst/>
            <a:gdLst/>
            <a:ahLst/>
            <a:rect l="l" t="t" r="r" b="b"/>
            <a:pathLst>
              <a:path w="289" h="49">
                <a:moveTo>
                  <a:pt x="0" y="48"/>
                </a:moveTo>
                <a:lnTo>
                  <a:pt x="48" y="0"/>
                </a:lnTo>
                <a:lnTo>
                  <a:pt x="96" y="0"/>
                </a:lnTo>
                <a:lnTo>
                  <a:pt x="96" y="48"/>
                </a:lnTo>
                <a:lnTo>
                  <a:pt x="192" y="48"/>
                </a:lnTo>
                <a:lnTo>
                  <a:pt x="288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144960" y="1687680"/>
            <a:ext cx="742680" cy="1180800"/>
          </a:xfrm>
          <a:custGeom>
            <a:avLst/>
            <a:gdLst/>
            <a:ahLst/>
            <a:rect l="l" t="t" r="r" b="b"/>
            <a:pathLst>
              <a:path w="433" h="673">
                <a:moveTo>
                  <a:pt x="0" y="672"/>
                </a:moveTo>
                <a:lnTo>
                  <a:pt x="96" y="672"/>
                </a:lnTo>
                <a:lnTo>
                  <a:pt x="144" y="672"/>
                </a:lnTo>
                <a:lnTo>
                  <a:pt x="240" y="624"/>
                </a:lnTo>
                <a:lnTo>
                  <a:pt x="288" y="624"/>
                </a:lnTo>
                <a:lnTo>
                  <a:pt x="288" y="528"/>
                </a:lnTo>
                <a:lnTo>
                  <a:pt x="432" y="192"/>
                </a:lnTo>
                <a:lnTo>
                  <a:pt x="432" y="144"/>
                </a:lnTo>
                <a:lnTo>
                  <a:pt x="432" y="96"/>
                </a:lnTo>
                <a:lnTo>
                  <a:pt x="336" y="96"/>
                </a:lnTo>
                <a:lnTo>
                  <a:pt x="288" y="96"/>
                </a:lnTo>
                <a:lnTo>
                  <a:pt x="240" y="48"/>
                </a:lnTo>
                <a:lnTo>
                  <a:pt x="240" y="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766960" y="2894040"/>
            <a:ext cx="81000" cy="81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641760" y="2597040"/>
            <a:ext cx="1069920" cy="424080"/>
          </a:xfrm>
          <a:custGeom>
            <a:avLst/>
            <a:gdLst/>
            <a:ahLst/>
            <a:rect l="l" t="t" r="r" b="b"/>
            <a:pathLst>
              <a:path w="625" h="241">
                <a:moveTo>
                  <a:pt x="0" y="0"/>
                </a:moveTo>
                <a:lnTo>
                  <a:pt x="96" y="192"/>
                </a:lnTo>
                <a:lnTo>
                  <a:pt x="624" y="240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10240" y="4087800"/>
            <a:ext cx="249120" cy="85680"/>
          </a:xfrm>
          <a:custGeom>
            <a:avLst/>
            <a:gdLst/>
            <a:ahLst/>
            <a:rect l="l" t="t" r="r" b="b"/>
            <a:pathLst>
              <a:path w="145" h="49">
                <a:moveTo>
                  <a:pt x="0" y="48"/>
                </a:moveTo>
                <a:lnTo>
                  <a:pt x="96" y="48"/>
                </a:lnTo>
                <a:lnTo>
                  <a:pt x="144" y="0"/>
                </a:lnTo>
                <a:lnTo>
                  <a:pt x="96" y="0"/>
                </a:lnTo>
                <a:lnTo>
                  <a:pt x="0" y="48"/>
                </a:ln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384800" y="3429000"/>
            <a:ext cx="987480" cy="844560"/>
          </a:xfrm>
          <a:custGeom>
            <a:avLst/>
            <a:gdLst/>
            <a:ahLst/>
            <a:rect l="l" t="t" r="r" b="b"/>
            <a:pathLst>
              <a:path w="577" h="481">
                <a:moveTo>
                  <a:pt x="576" y="0"/>
                </a:moveTo>
                <a:lnTo>
                  <a:pt x="432" y="0"/>
                </a:lnTo>
                <a:lnTo>
                  <a:pt x="336" y="48"/>
                </a:lnTo>
                <a:lnTo>
                  <a:pt x="288" y="0"/>
                </a:lnTo>
                <a:lnTo>
                  <a:pt x="192" y="0"/>
                </a:lnTo>
                <a:lnTo>
                  <a:pt x="192" y="48"/>
                </a:lnTo>
                <a:lnTo>
                  <a:pt x="96" y="96"/>
                </a:lnTo>
                <a:lnTo>
                  <a:pt x="96" y="240"/>
                </a:lnTo>
                <a:lnTo>
                  <a:pt x="0" y="288"/>
                </a:lnTo>
                <a:lnTo>
                  <a:pt x="0" y="384"/>
                </a:lnTo>
                <a:lnTo>
                  <a:pt x="96" y="480"/>
                </a:lnTo>
                <a:lnTo>
                  <a:pt x="144" y="432"/>
                </a:lnTo>
                <a:lnTo>
                  <a:pt x="288" y="432"/>
                </a:lnTo>
                <a:lnTo>
                  <a:pt x="336" y="384"/>
                </a:lnTo>
                <a:lnTo>
                  <a:pt x="432" y="432"/>
                </a:lnTo>
                <a:lnTo>
                  <a:pt x="480" y="336"/>
                </a:lnTo>
                <a:lnTo>
                  <a:pt x="480" y="240"/>
                </a:lnTo>
                <a:lnTo>
                  <a:pt x="528" y="192"/>
                </a:lnTo>
                <a:lnTo>
                  <a:pt x="528" y="144"/>
                </a:lnTo>
                <a:lnTo>
                  <a:pt x="576" y="192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  <a:lnTo>
                  <a:pt x="576" y="0"/>
                </a:lnTo>
              </a:path>
            </a:pathLst>
          </a:custGeom>
          <a:solidFill>
            <a:srgbClr val="ff9900"/>
          </a:solidFill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711680" y="3425760"/>
            <a:ext cx="660600" cy="85680"/>
          </a:xfrm>
          <a:custGeom>
            <a:avLst/>
            <a:gdLst/>
            <a:ahLst/>
            <a:rect l="l" t="t" r="r" b="b"/>
            <a:pathLst>
              <a:path w="385" h="49">
                <a:moveTo>
                  <a:pt x="0" y="0"/>
                </a:moveTo>
                <a:lnTo>
                  <a:pt x="48" y="0"/>
                </a:lnTo>
                <a:lnTo>
                  <a:pt x="96" y="0"/>
                </a:lnTo>
                <a:lnTo>
                  <a:pt x="144" y="48"/>
                </a:lnTo>
                <a:lnTo>
                  <a:pt x="240" y="0"/>
                </a:lnTo>
                <a:lnTo>
                  <a:pt x="384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041800" y="3011400"/>
            <a:ext cx="657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RREI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11680" y="3508200"/>
            <a:ext cx="658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SÍL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800600" y="3657600"/>
            <a:ext cx="396720" cy="181080"/>
          </a:xfrm>
          <a:prstGeom prst="rect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Futura XBlk BT"/>
              </a:rPr>
              <a:t>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861840" y="5000760"/>
            <a:ext cx="2872080" cy="1019160"/>
          </a:xfrm>
          <a:prstGeom prst="roundRect">
            <a:avLst>
              <a:gd name="adj" fmla="val 12495"/>
            </a:avLst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  <a:effectLst>
            <a:outerShdw dist="125751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Zurich Ex BT"/>
              </a:rPr>
              <a:t>ÁREAS DE INFLUÊ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Zurich Ex BT"/>
              </a:rPr>
              <a:t>DOS BATALH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Zurich Ex BT"/>
              </a:rPr>
              <a:t>(Raio de 800 K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144960" y="1687680"/>
            <a:ext cx="6588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NA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93080" y="2763720"/>
            <a:ext cx="636480" cy="189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97600" y="2773440"/>
            <a:ext cx="1233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. PESSO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162240" y="2629080"/>
            <a:ext cx="1552680" cy="2269800"/>
          </a:xfrm>
          <a:custGeom>
            <a:avLst/>
            <a:gdLst/>
            <a:ahLst/>
            <a:rect l="l" t="t" r="r" b="b"/>
            <a:pathLst>
              <a:path w="978" h="1430">
                <a:moveTo>
                  <a:pt x="306" y="0"/>
                </a:moveTo>
                <a:lnTo>
                  <a:pt x="398" y="196"/>
                </a:lnTo>
                <a:lnTo>
                  <a:pt x="978" y="250"/>
                </a:lnTo>
                <a:lnTo>
                  <a:pt x="974" y="290"/>
                </a:lnTo>
                <a:lnTo>
                  <a:pt x="970" y="548"/>
                </a:lnTo>
                <a:lnTo>
                  <a:pt x="868" y="602"/>
                </a:lnTo>
                <a:lnTo>
                  <a:pt x="868" y="762"/>
                </a:lnTo>
                <a:lnTo>
                  <a:pt x="776" y="802"/>
                </a:lnTo>
                <a:lnTo>
                  <a:pt x="760" y="918"/>
                </a:lnTo>
                <a:lnTo>
                  <a:pt x="766" y="944"/>
                </a:lnTo>
                <a:lnTo>
                  <a:pt x="874" y="1086"/>
                </a:lnTo>
                <a:lnTo>
                  <a:pt x="868" y="1132"/>
                </a:lnTo>
                <a:lnTo>
                  <a:pt x="848" y="1182"/>
                </a:lnTo>
                <a:lnTo>
                  <a:pt x="818" y="1282"/>
                </a:lnTo>
                <a:lnTo>
                  <a:pt x="716" y="1280"/>
                </a:lnTo>
                <a:lnTo>
                  <a:pt x="620" y="1430"/>
                </a:lnTo>
                <a:lnTo>
                  <a:pt x="610" y="1386"/>
                </a:lnTo>
                <a:lnTo>
                  <a:pt x="518" y="1342"/>
                </a:lnTo>
                <a:lnTo>
                  <a:pt x="432" y="1342"/>
                </a:lnTo>
                <a:lnTo>
                  <a:pt x="430" y="1294"/>
                </a:lnTo>
                <a:lnTo>
                  <a:pt x="382" y="1150"/>
                </a:lnTo>
                <a:lnTo>
                  <a:pt x="380" y="1142"/>
                </a:lnTo>
                <a:lnTo>
                  <a:pt x="488" y="978"/>
                </a:lnTo>
                <a:lnTo>
                  <a:pt x="374" y="872"/>
                </a:lnTo>
                <a:lnTo>
                  <a:pt x="378" y="812"/>
                </a:lnTo>
                <a:lnTo>
                  <a:pt x="272" y="814"/>
                </a:lnTo>
                <a:lnTo>
                  <a:pt x="262" y="804"/>
                </a:lnTo>
                <a:lnTo>
                  <a:pt x="218" y="760"/>
                </a:lnTo>
                <a:lnTo>
                  <a:pt x="176" y="758"/>
                </a:lnTo>
                <a:lnTo>
                  <a:pt x="214" y="664"/>
                </a:lnTo>
                <a:lnTo>
                  <a:pt x="210" y="602"/>
                </a:lnTo>
                <a:lnTo>
                  <a:pt x="158" y="600"/>
                </a:lnTo>
                <a:lnTo>
                  <a:pt x="105" y="580"/>
                </a:lnTo>
                <a:lnTo>
                  <a:pt x="151" y="524"/>
                </a:lnTo>
                <a:lnTo>
                  <a:pt x="148" y="337"/>
                </a:lnTo>
                <a:lnTo>
                  <a:pt x="49" y="333"/>
                </a:lnTo>
                <a:lnTo>
                  <a:pt x="53" y="293"/>
                </a:lnTo>
                <a:lnTo>
                  <a:pt x="0" y="217"/>
                </a:lnTo>
                <a:lnTo>
                  <a:pt x="0" y="156"/>
                </a:lnTo>
                <a:lnTo>
                  <a:pt x="150" y="156"/>
                </a:lnTo>
                <a:lnTo>
                  <a:pt x="254" y="104"/>
                </a:lnTo>
                <a:lnTo>
                  <a:pt x="306" y="102"/>
                </a:lnTo>
                <a:lnTo>
                  <a:pt x="306" y="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905280" y="4081320"/>
            <a:ext cx="533520" cy="214560"/>
          </a:xfrm>
          <a:custGeom>
            <a:avLst/>
            <a:gdLst/>
            <a:ahLst/>
            <a:rect l="l" t="t" r="r" b="b"/>
            <a:pathLst>
              <a:path w="289" h="97">
                <a:moveTo>
                  <a:pt x="0" y="48"/>
                </a:moveTo>
                <a:lnTo>
                  <a:pt x="96" y="0"/>
                </a:lnTo>
                <a:lnTo>
                  <a:pt x="192" y="48"/>
                </a:lnTo>
                <a:lnTo>
                  <a:pt x="240" y="48"/>
                </a:lnTo>
                <a:lnTo>
                  <a:pt x="240" y="96"/>
                </a:lnTo>
                <a:lnTo>
                  <a:pt x="288" y="48"/>
                </a:lnTo>
              </a:path>
            </a:pathLst>
          </a:custGeom>
          <a:noFill/>
          <a:ln cap="rnd"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044960" y="3753000"/>
            <a:ext cx="79200" cy="75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800520" y="3830760"/>
            <a:ext cx="6573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IAB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816280" y="3011400"/>
            <a:ext cx="6570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O VEL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4300560" y="4253040"/>
            <a:ext cx="65736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RAGUAR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724280" y="243828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114800" y="342900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796000" y="162252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952880" y="158904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86200" y="4648320"/>
            <a:ext cx="1824120" cy="15951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2895480"/>
            <a:ext cx="1824120" cy="17049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352680" y="1143000"/>
            <a:ext cx="2008440" cy="17557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219320" y="2214720"/>
            <a:ext cx="1823760" cy="159516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833480" y="213840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110200" y="183348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09680" y="609480"/>
            <a:ext cx="1824120" cy="1595520"/>
          </a:xfrm>
          <a:prstGeom prst="ellipse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6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E428B9D7-D168-47FC-BB25-0930F81FEA1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7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9" name=""/>
          <p:cNvSpPr/>
          <p:nvPr/>
        </p:nvSpPr>
        <p:spPr>
          <a:xfrm>
            <a:off x="1981080" y="1752480"/>
            <a:ext cx="5334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4. Potencialidade em Pessoal e Equipamen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762120" y="7524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OTENCIALIDADE 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90F55B9-F617-4DB4-B984-D67C2D2B72B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2971800" y="838080"/>
            <a:ext cx="3276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ESSOAL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914400" y="2362320"/>
          <a:ext cx="7696080" cy="178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69608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1981080" y="3200400"/>
            <a:ext cx="5010120" cy="1962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Arial Black"/>
              </a:rPr>
              <a:t>BRASIL......... 82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efefe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efefe"/>
                    </a:gs>
                  </a:gsLst>
                  <a:lin ang="5400000"/>
                </a:gradFill>
                <a:latin typeface="Arial Black"/>
              </a:rPr>
              <a:t>NORDESTE... 35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efefe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96" name=""/>
          <p:cNvSpPr/>
          <p:nvPr/>
        </p:nvSpPr>
        <p:spPr>
          <a:xfrm>
            <a:off x="762120" y="604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OTENCIALIDADE 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 Black"/>
              </a:rPr>
              <a:t>VIATUR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DE168B5A-98E6-427D-A559-F01E9A14D65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62080" y="6248520"/>
            <a:ext cx="16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30720" y="6248520"/>
            <a:ext cx="25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71640" y="666720"/>
            <a:ext cx="691668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dfca"/>
                </a:solidFill>
                <a:latin typeface="Zurich Ex BT"/>
              </a:rPr>
              <a:t>             </a:t>
            </a:r>
            <a:br>
              <a:rPr sz="4400"/>
            </a:br>
            <a:r>
              <a:rPr b="1" lang="pt-BR" sz="4400" spc="-1" strike="noStrike">
                <a:solidFill>
                  <a:srgbClr val="00dfca"/>
                </a:solidFill>
                <a:latin typeface="Zurich Ex BT"/>
              </a:rPr>
              <a:t>  </a:t>
            </a:r>
            <a:br>
              <a:rPr sz="1200"/>
            </a:br>
            <a:r>
              <a:rPr b="1" lang="pt-BR" sz="4400" spc="-1" strike="noStrike">
                <a:solidFill>
                  <a:srgbClr val="00dfca"/>
                </a:solidFill>
                <a:latin typeface="Zurich Ex BT"/>
              </a:rPr>
              <a:t>              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295280"/>
            <a:ext cx="3305160" cy="825480"/>
          </a:xfrm>
          <a:prstGeom prst="rect">
            <a:avLst/>
          </a:prstGeom>
          <a:gradFill rotWithShape="0">
            <a:gsLst>
              <a:gs pos="0">
                <a:srgbClr val="7c7d00"/>
              </a:gs>
              <a:gs pos="50000">
                <a:srgbClr val="fafd00"/>
              </a:gs>
              <a:gs pos="100000">
                <a:srgbClr val="7c7d00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ÇÕES  ESSEN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76920" y="1295280"/>
            <a:ext cx="3471840" cy="825480"/>
          </a:xfrm>
          <a:prstGeom prst="rect">
            <a:avLst/>
          </a:prstGeom>
          <a:gradFill rotWithShape="0">
            <a:gsLst>
              <a:gs pos="0">
                <a:srgbClr val="457974"/>
              </a:gs>
              <a:gs pos="50000">
                <a:srgbClr val="8cf4ea"/>
              </a:gs>
              <a:gs pos="100000">
                <a:srgbClr val="457974"/>
              </a:gs>
            </a:gsLst>
            <a:lin ang="108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ÇÕES  SUBSIDIÁ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3720000">
            <a:off x="2384280" y="2450880"/>
            <a:ext cx="927000" cy="362160"/>
          </a:xfrm>
          <a:prstGeom prst="rightArrow">
            <a:avLst>
              <a:gd name="adj1" fmla="val 50000"/>
              <a:gd name="adj2" fmla="val 127994"/>
            </a:avLst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2240" y="204840"/>
            <a:ext cx="864180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afd00"/>
                </a:solidFill>
                <a:latin typeface="Arial MT Black"/>
              </a:rPr>
              <a:t>MISSÃO  DA ENGENHARIA DE CONSTRUÇÃ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7320" y="762120"/>
            <a:ext cx="7728120" cy="120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7320" y="990720"/>
            <a:ext cx="7728120" cy="66600"/>
          </a:xfrm>
          <a:prstGeom prst="rect">
            <a:avLst/>
          </a:prstGeom>
          <a:gradFill rotWithShape="0">
            <a:gsLst>
              <a:gs pos="0">
                <a:srgbClr val="965f7f"/>
              </a:gs>
              <a:gs pos="50000">
                <a:srgbClr val="d989b8"/>
              </a:gs>
              <a:gs pos="100000">
                <a:srgbClr val="965f7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3200400"/>
            <a:ext cx="7467480" cy="3200400"/>
          </a:xfrm>
          <a:prstGeom prst="rect">
            <a:avLst/>
          </a:prstGeom>
          <a:solidFill>
            <a:srgbClr val="00009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 algn="ct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Conduzir o seu adestramento - o preparo é decorrente do planejamento de emprego da Força Terrestre -  objetivando o cumprimento de Ações Essenciais.  Esse preparo possibilita a sua atuação em prol do desenvolvimento nacional, através de Obras de Cooperação. ”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rot="17880000">
            <a:off x="6194880" y="2463120"/>
            <a:ext cx="927000" cy="363240"/>
          </a:xfrm>
          <a:prstGeom prst="rightArrow">
            <a:avLst>
              <a:gd name="adj1" fmla="val 50000"/>
              <a:gd name="adj2" fmla="val 127613"/>
            </a:avLst>
          </a:prstGeom>
          <a:solidFill>
            <a:srgbClr val="ff33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1247760"/>
            <a:ext cx="5752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86B03B1E-7781-4A2B-8EF3-5D7CEBF5C617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 txBox="1"/>
          <p:nvPr/>
        </p:nvSpPr>
        <p:spPr>
          <a:xfrm>
            <a:off x="2057400" y="2362320"/>
            <a:ext cx="5029200" cy="3352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13500000"/>
                </a:gradFill>
                <a:latin typeface="Arial Black"/>
              </a:rPr>
              <a:t>BRASIL......... 1.017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135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7575"/>
                    </a:gs>
                    <a:gs pos="50000">
                      <a:srgbClr val="00ffff"/>
                    </a:gs>
                    <a:gs pos="100000">
                      <a:srgbClr val="007575"/>
                    </a:gs>
                  </a:gsLst>
                  <a:lin ang="13500000"/>
                </a:gradFill>
                <a:latin typeface="Arial Black"/>
              </a:rPr>
              <a:t>NORDESTE..... 363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007575"/>
                  </a:gs>
                  <a:gs pos="50000">
                    <a:srgbClr val="00ffff"/>
                  </a:gs>
                  <a:gs pos="100000">
                    <a:srgbClr val="007575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799" name=""/>
          <p:cNvSpPr/>
          <p:nvPr/>
        </p:nvSpPr>
        <p:spPr>
          <a:xfrm>
            <a:off x="609480" y="120240"/>
            <a:ext cx="79250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imes New Roman"/>
              </a:rPr>
              <a:t>POTENCIALIDADE EM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EQUIPAMENTOS E USIN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381880" y="6686640"/>
            <a:ext cx="37008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A2A39C9F-9806-4CAA-9087-88A9FE2BDE6B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3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7D5CBC71-C019-4C66-A023-0BBD5BCD9BDD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8" name=""/>
          <p:cNvSpPr/>
          <p:nvPr/>
        </p:nvSpPr>
        <p:spPr>
          <a:xfrm>
            <a:off x="2438280" y="1752480"/>
            <a:ext cx="44197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5. Vantagens da execução de obras pelo Exérci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9F92C72D-4427-49D0-B781-D4457E5A02C2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VANTAG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0" y="74304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onfiabilidade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 obediência às especificações estabelecidas previ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conomia:</a:t>
            </a: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sência de lucro/ despesas administrativas pagas pelo Exército (parcia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arâmetro para obras federai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ferencial de gastos com material e equip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enefícios sociai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ícios indiretos à população (Ações Cívico-Sociais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Cumprimento de prazos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 observância aos cronogramas estabelec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Estrutura de fiscalização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scalização sobre os gastos e trabalhos realizados em todos os escalões de execu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obilização pouco onero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96E8F273-FD22-4124-8843-B71825C14A2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1" name=""/>
          <p:cNvSpPr/>
          <p:nvPr/>
        </p:nvSpPr>
        <p:spPr>
          <a:xfrm>
            <a:off x="1905120" y="1828800"/>
            <a:ext cx="5486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6. </a:t>
            </a:r>
            <a:r>
              <a:rPr b="0" lang="en-US" sz="3600" spc="-1" strike="noStrike">
                <a:solidFill>
                  <a:srgbClr val="ffff00"/>
                </a:solidFill>
                <a:latin typeface="Arial Black"/>
              </a:rPr>
              <a:t>PERSPECTIVAS DE ATUAÇÃ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05DEE088-4FD5-4D85-A3E9-C33E63672443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Times New Roman"/>
              </a:rPr>
              <a:t>PERSPECTI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arragens de interess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ferencialmente localizadas na região Nordes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Vistoria Técnic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liação preliminar das condições de segurança (manutenção, conserva,.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Diagnóstico da barragem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udo técnico detalhado empregando o Corpo Técnico do DEC e/ou da Fundação Ricardo Franco (I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Serviços de Engenharia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dos em Plano de Trabalh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Uso de instrumentos jurídicos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ênios, portarias interministeriais (N0 956/MD/MI, de 06Out03)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9" name=""/>
          <p:cNvGraphicFramePr/>
          <p:nvPr/>
        </p:nvGraphicFramePr>
        <p:xfrm>
          <a:off x="7620120" y="2819520"/>
          <a:ext cx="1112760" cy="12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2819520"/>
                    <a:ext cx="111276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1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C4189552-547D-4DD2-A0F0-96FA2A66D620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380880" y="2514600"/>
          <a:ext cx="123372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123372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"/>
          <p:cNvSpPr/>
          <p:nvPr/>
        </p:nvSpPr>
        <p:spPr>
          <a:xfrm>
            <a:off x="2438280" y="1752480"/>
            <a:ext cx="44197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Black"/>
              </a:rPr>
              <a:t>7. Conclusã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762120" y="1066680"/>
            <a:ext cx="7618320" cy="5212440"/>
            <a:chOff x="762120" y="1066680"/>
            <a:chExt cx="7618320" cy="5212440"/>
          </a:xfrm>
        </p:grpSpPr>
        <p:sp>
          <p:nvSpPr>
            <p:cNvPr id="838" name=""/>
            <p:cNvSpPr/>
            <p:nvPr/>
          </p:nvSpPr>
          <p:spPr>
            <a:xfrm>
              <a:off x="762120" y="1066680"/>
              <a:ext cx="7551360" cy="40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Lucida Handwriting"/>
                </a:rPr>
                <a:t>_ </a:t>
              </a:r>
              <a:r>
                <a:rPr b="0" lang="pt-BR" sz="2800" spc="-1" strike="noStrike">
                  <a:solidFill>
                    <a:srgbClr val="000000"/>
                  </a:solidFill>
                  <a:latin typeface="Lucida Handwriting"/>
                </a:rPr>
                <a:t>“</a:t>
              </a:r>
              <a:r>
                <a:rPr b="1" lang="pt-BR" sz="2800" spc="-1" strike="noStrike">
                  <a:solidFill>
                    <a:srgbClr val="000000"/>
                  </a:solidFill>
                  <a:latin typeface="Lucida Handwriting"/>
                </a:rPr>
                <a:t>Sabemos  que  há  algo  muito importante  a ser feito,  algo sólido   e  que   influirá no futuro  do  Brasil,  mas  será  alguma  coisa  que,  uma  vez concluída,  nos  dará  a  cada  um,  no  fim  da  vida,  o  direito  de  dizer  com  o  mais  justo,  o  mais  puro  e  mais  tranqüilo  orgulho:</a:t>
              </a:r>
              <a:r>
                <a:rPr b="0" lang="pt-BR" sz="4000" spc="-1" strike="noStrike">
                  <a:solidFill>
                    <a:srgbClr val="ffff00"/>
                  </a:solidFill>
                  <a:latin typeface="Brush Script MT"/>
                </a:rPr>
                <a:t> </a:t>
              </a:r>
              <a:r>
                <a:rPr b="0" lang="pt-BR" sz="3600" spc="-1" strike="noStrike">
                  <a:solidFill>
                    <a:srgbClr val="ffff00"/>
                  </a:solidFill>
                  <a:latin typeface="Brush Script MT"/>
                </a:rPr>
                <a:t>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EU </a:t>
              </a:r>
              <a:r>
                <a:rPr b="1" i="1" lang="pt-BR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NÃO</a:t>
              </a:r>
              <a:r>
                <a:rPr b="1" i="1" lang="pt-BR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VIVI</a:t>
              </a:r>
              <a:r>
                <a:rPr b="1" i="1" lang="pt-BR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EM </a:t>
              </a:r>
              <a:r>
                <a:rPr b="1" i="1" lang="pt-BR" sz="20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i="1" lang="pt-BR" sz="2800" spc="-1" strike="noStrike">
                  <a:solidFill>
                    <a:srgbClr val="ff3300"/>
                  </a:solidFill>
                  <a:latin typeface="Arial"/>
                </a:rPr>
                <a:t>VÃO !</a:t>
              </a: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pt-BR" sz="3200" spc="-1" strike="noStrike">
                  <a:solidFill>
                    <a:srgbClr val="000000"/>
                  </a:solidFill>
                  <a:latin typeface="Freehand575 BT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716000" y="5576760"/>
              <a:ext cx="36644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(CARLOS ALOYSIO  WEBER -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ff3300"/>
                  </a:solidFill>
                  <a:latin typeface="Times New Roman"/>
                </a:rPr>
                <a:t>CORONEL DE ENGENHARI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F78D7655-C992-4352-87B5-26F8B164C1A4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57240" y="1752480"/>
            <a:ext cx="766116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 Black"/>
              </a:rPr>
              <a:t>CONSTITUIÇÃO  FEDERAL  -  Art 14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2320" y="2895480"/>
            <a:ext cx="651024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GARANTIR   OS   PODERES  CONSTITUCIONA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22320" y="3429000"/>
            <a:ext cx="651024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GARANTIR  A  LEI  E  A  ORD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2320" y="2362320"/>
            <a:ext cx="3797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DEFENDER  A  PÁTRI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58760" y="2209680"/>
            <a:ext cx="678024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1200" y="281160"/>
            <a:ext cx="70995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MT Black"/>
              </a:rPr>
              <a:t>MISSÃO  DO  EXÉRCI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648320"/>
            <a:ext cx="6508800" cy="533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Arial Black"/>
              </a:rPr>
              <a:t>LEI  COMPLEMENTAR Nr  97,  DE  09 JUN 9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334120"/>
            <a:ext cx="6510240" cy="533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COOPERAR COM O DESENVOLVIMENTO NACIONA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943600"/>
            <a:ext cx="6510240" cy="5335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COOPERAR  COM  A  DEFESA  CIVI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43680"/>
            <a:ext cx="723888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200" y="1295280"/>
            <a:ext cx="7772400" cy="120600"/>
          </a:xfrm>
          <a:prstGeom prst="rect">
            <a:avLst/>
          </a:prstGeom>
          <a:gradFill rotWithShape="0">
            <a:gsLst>
              <a:gs pos="0">
                <a:srgbClr val="00a279"/>
              </a:gs>
              <a:gs pos="50000">
                <a:srgbClr val="00cc99"/>
              </a:gs>
              <a:gs pos="100000">
                <a:srgbClr val="00a27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200" y="1476360"/>
            <a:ext cx="7772400" cy="66600"/>
          </a:xfrm>
          <a:prstGeom prst="rect">
            <a:avLst/>
          </a:prstGeom>
          <a:gradFill rotWithShape="0">
            <a:gsLst>
              <a:gs pos="0">
                <a:srgbClr val="b18db1"/>
              </a:gs>
              <a:gs pos="50000">
                <a:srgbClr val="ffccff"/>
              </a:gs>
              <a:gs pos="100000">
                <a:srgbClr val="b18d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22320" y="3962520"/>
            <a:ext cx="6510240" cy="5331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 Black"/>
              </a:rPr>
              <a:t>- PARTICIPAR  DE  OPERAÇÕES  INTERNACIONAI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59B4F851-0FC0-4422-AC6B-1B899FA7F349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1c6a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84280" y="88920"/>
            <a:ext cx="8001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FORMA DE TRABALHO</a:t>
            </a:r>
            <a:br>
              <a:rPr sz="4000"/>
            </a:b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CONVÊN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9360" y="1752480"/>
            <a:ext cx="8051760" cy="5067360"/>
            <a:chOff x="279360" y="1752480"/>
            <a:chExt cx="8051760" cy="5067360"/>
          </a:xfrm>
        </p:grpSpPr>
        <p:sp>
          <p:nvSpPr>
            <p:cNvPr id="109" name=""/>
            <p:cNvSpPr/>
            <p:nvPr/>
          </p:nvSpPr>
          <p:spPr>
            <a:xfrm>
              <a:off x="3467160" y="6210360"/>
              <a:ext cx="2209680" cy="609480"/>
            </a:xfrm>
            <a:custGeom>
              <a:avLst/>
              <a:gdLst/>
              <a:ahLst/>
              <a:rect l="l" t="t" r="r" b="b"/>
              <a:pathLst>
                <a:path w="633" h="173">
                  <a:moveTo>
                    <a:pt x="28" y="0"/>
                  </a:moveTo>
                  <a:lnTo>
                    <a:pt x="17" y="2"/>
                  </a:lnTo>
                  <a:lnTo>
                    <a:pt x="9" y="10"/>
                  </a:lnTo>
                  <a:lnTo>
                    <a:pt x="2" y="18"/>
                  </a:lnTo>
                  <a:lnTo>
                    <a:pt x="0" y="29"/>
                  </a:lnTo>
                  <a:lnTo>
                    <a:pt x="0" y="144"/>
                  </a:lnTo>
                  <a:lnTo>
                    <a:pt x="2" y="156"/>
                  </a:lnTo>
                  <a:lnTo>
                    <a:pt x="9" y="166"/>
                  </a:lnTo>
                  <a:lnTo>
                    <a:pt x="17" y="171"/>
                  </a:lnTo>
                  <a:lnTo>
                    <a:pt x="28" y="173"/>
                  </a:lnTo>
                  <a:lnTo>
                    <a:pt x="605" y="173"/>
                  </a:lnTo>
                  <a:lnTo>
                    <a:pt x="616" y="171"/>
                  </a:lnTo>
                  <a:lnTo>
                    <a:pt x="626" y="166"/>
                  </a:lnTo>
                  <a:lnTo>
                    <a:pt x="632" y="156"/>
                  </a:lnTo>
                  <a:lnTo>
                    <a:pt x="633" y="144"/>
                  </a:lnTo>
                  <a:lnTo>
                    <a:pt x="633" y="29"/>
                  </a:lnTo>
                  <a:lnTo>
                    <a:pt x="632" y="18"/>
                  </a:lnTo>
                  <a:lnTo>
                    <a:pt x="626" y="10"/>
                  </a:lnTo>
                  <a:lnTo>
                    <a:pt x="616" y="2"/>
                  </a:lnTo>
                  <a:lnTo>
                    <a:pt x="605" y="0"/>
                  </a:lnTo>
                  <a:lnTo>
                    <a:pt x="28" y="0"/>
                  </a:lnTo>
                  <a:close/>
                </a:path>
              </a:pathLst>
            </a:custGeom>
            <a:noFill/>
            <a:ln w="270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803920" y="5105520"/>
              <a:ext cx="2425680" cy="761760"/>
              <a:chOff x="5803920" y="5105520"/>
              <a:chExt cx="2425680" cy="761760"/>
            </a:xfrm>
          </p:grpSpPr>
          <p:sp>
            <p:nvSpPr>
              <p:cNvPr id="111" name=""/>
              <p:cNvSpPr/>
              <p:nvPr/>
            </p:nvSpPr>
            <p:spPr>
              <a:xfrm>
                <a:off x="6123240" y="5211720"/>
                <a:ext cx="17928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REALIZA 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ADESTRAMEN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03920" y="5105520"/>
                <a:ext cx="2425680" cy="761760"/>
              </a:xfrm>
              <a:custGeom>
                <a:avLst/>
                <a:gdLst/>
                <a:ahLst/>
                <a:rect l="l" t="t" r="r" b="b"/>
                <a:pathLst>
                  <a:path w="922" h="288">
                    <a:moveTo>
                      <a:pt x="48" y="0"/>
                    </a:moveTo>
                    <a:lnTo>
                      <a:pt x="38" y="2"/>
                    </a:lnTo>
                    <a:lnTo>
                      <a:pt x="29" y="4"/>
                    </a:lnTo>
                    <a:lnTo>
                      <a:pt x="13" y="15"/>
                    </a:lnTo>
                    <a:lnTo>
                      <a:pt x="4" y="31"/>
                    </a:lnTo>
                    <a:lnTo>
                      <a:pt x="2" y="38"/>
                    </a:lnTo>
                    <a:lnTo>
                      <a:pt x="0" y="48"/>
                    </a:lnTo>
                    <a:lnTo>
                      <a:pt x="0" y="240"/>
                    </a:lnTo>
                    <a:lnTo>
                      <a:pt x="2" y="249"/>
                    </a:lnTo>
                    <a:lnTo>
                      <a:pt x="4" y="259"/>
                    </a:lnTo>
                    <a:lnTo>
                      <a:pt x="13" y="274"/>
                    </a:lnTo>
                    <a:lnTo>
                      <a:pt x="29" y="284"/>
                    </a:lnTo>
                    <a:lnTo>
                      <a:pt x="38" y="288"/>
                    </a:lnTo>
                    <a:lnTo>
                      <a:pt x="48" y="288"/>
                    </a:lnTo>
                    <a:lnTo>
                      <a:pt x="874" y="288"/>
                    </a:lnTo>
                    <a:lnTo>
                      <a:pt x="884" y="288"/>
                    </a:lnTo>
                    <a:lnTo>
                      <a:pt x="891" y="284"/>
                    </a:lnTo>
                    <a:lnTo>
                      <a:pt x="907" y="274"/>
                    </a:lnTo>
                    <a:lnTo>
                      <a:pt x="918" y="259"/>
                    </a:lnTo>
                    <a:lnTo>
                      <a:pt x="920" y="249"/>
                    </a:lnTo>
                    <a:lnTo>
                      <a:pt x="922" y="240"/>
                    </a:lnTo>
                    <a:lnTo>
                      <a:pt x="922" y="48"/>
                    </a:lnTo>
                    <a:lnTo>
                      <a:pt x="920" y="38"/>
                    </a:lnTo>
                    <a:lnTo>
                      <a:pt x="918" y="31"/>
                    </a:lnTo>
                    <a:lnTo>
                      <a:pt x="907" y="15"/>
                    </a:lnTo>
                    <a:lnTo>
                      <a:pt x="891" y="4"/>
                    </a:lnTo>
                    <a:lnTo>
                      <a:pt x="884" y="2"/>
                    </a:lnTo>
                    <a:lnTo>
                      <a:pt x="874" y="0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723960" y="5168880"/>
              <a:ext cx="2286000" cy="685800"/>
              <a:chOff x="723960" y="5168880"/>
              <a:chExt cx="2286000" cy="685800"/>
            </a:xfrm>
          </p:grpSpPr>
          <p:sp>
            <p:nvSpPr>
              <p:cNvPr id="114" name=""/>
              <p:cNvSpPr/>
              <p:nvPr/>
            </p:nvSpPr>
            <p:spPr>
              <a:xfrm>
                <a:off x="723960" y="5168880"/>
                <a:ext cx="2286000" cy="685800"/>
              </a:xfrm>
              <a:custGeom>
                <a:avLst/>
                <a:gdLst/>
                <a:ahLst/>
                <a:rect l="l" t="t" r="r" b="b"/>
                <a:pathLst>
                  <a:path w="864" h="346">
                    <a:moveTo>
                      <a:pt x="57" y="0"/>
                    </a:moveTo>
                    <a:lnTo>
                      <a:pt x="46" y="2"/>
                    </a:lnTo>
                    <a:lnTo>
                      <a:pt x="34" y="4"/>
                    </a:lnTo>
                    <a:lnTo>
                      <a:pt x="24" y="9"/>
                    </a:lnTo>
                    <a:lnTo>
                      <a:pt x="17" y="17"/>
                    </a:lnTo>
                    <a:lnTo>
                      <a:pt x="9" y="25"/>
                    </a:lnTo>
                    <a:lnTo>
                      <a:pt x="3" y="34"/>
                    </a:lnTo>
                    <a:lnTo>
                      <a:pt x="1" y="46"/>
                    </a:lnTo>
                    <a:lnTo>
                      <a:pt x="0" y="57"/>
                    </a:lnTo>
                    <a:lnTo>
                      <a:pt x="0" y="288"/>
                    </a:lnTo>
                    <a:lnTo>
                      <a:pt x="1" y="299"/>
                    </a:lnTo>
                    <a:lnTo>
                      <a:pt x="3" y="311"/>
                    </a:lnTo>
                    <a:lnTo>
                      <a:pt x="9" y="321"/>
                    </a:lnTo>
                    <a:lnTo>
                      <a:pt x="17" y="328"/>
                    </a:lnTo>
                    <a:lnTo>
                      <a:pt x="24" y="336"/>
                    </a:lnTo>
                    <a:lnTo>
                      <a:pt x="34" y="342"/>
                    </a:lnTo>
                    <a:lnTo>
                      <a:pt x="46" y="344"/>
                    </a:lnTo>
                    <a:lnTo>
                      <a:pt x="57" y="346"/>
                    </a:lnTo>
                    <a:lnTo>
                      <a:pt x="806" y="346"/>
                    </a:lnTo>
                    <a:lnTo>
                      <a:pt x="818" y="344"/>
                    </a:lnTo>
                    <a:lnTo>
                      <a:pt x="829" y="342"/>
                    </a:lnTo>
                    <a:lnTo>
                      <a:pt x="839" y="336"/>
                    </a:lnTo>
                    <a:lnTo>
                      <a:pt x="847" y="328"/>
                    </a:lnTo>
                    <a:lnTo>
                      <a:pt x="854" y="321"/>
                    </a:lnTo>
                    <a:lnTo>
                      <a:pt x="860" y="311"/>
                    </a:lnTo>
                    <a:lnTo>
                      <a:pt x="862" y="299"/>
                    </a:lnTo>
                    <a:lnTo>
                      <a:pt x="864" y="288"/>
                    </a:lnTo>
                    <a:lnTo>
                      <a:pt x="864" y="57"/>
                    </a:lnTo>
                    <a:lnTo>
                      <a:pt x="862" y="46"/>
                    </a:lnTo>
                    <a:lnTo>
                      <a:pt x="860" y="34"/>
                    </a:lnTo>
                    <a:lnTo>
                      <a:pt x="854" y="25"/>
                    </a:lnTo>
                    <a:lnTo>
                      <a:pt x="847" y="17"/>
                    </a:lnTo>
                    <a:lnTo>
                      <a:pt x="839" y="9"/>
                    </a:lnTo>
                    <a:lnTo>
                      <a:pt x="829" y="4"/>
                    </a:lnTo>
                    <a:lnTo>
                      <a:pt x="818" y="2"/>
                    </a:lnTo>
                    <a:lnTo>
                      <a:pt x="806" y="0"/>
                    </a:lnTo>
                    <a:lnTo>
                      <a:pt x="57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022400" y="5227560"/>
                <a:ext cx="16696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OBTÉM OBRA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BAIXO CUS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3754080" y="6324480"/>
              <a:ext cx="1635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 Black"/>
                </a:rPr>
                <a:t>BENEFÍC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58800" y="1803240"/>
              <a:ext cx="2438280" cy="457200"/>
              <a:chOff x="658800" y="1803240"/>
              <a:chExt cx="243828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947160" y="1893600"/>
                <a:ext cx="184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ÓRGÃO PÚBL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58800" y="1803240"/>
                <a:ext cx="2438280" cy="457200"/>
              </a:xfrm>
              <a:custGeom>
                <a:avLst/>
                <a:gdLst/>
                <a:ahLst/>
                <a:rect l="l" t="t" r="r" b="b"/>
                <a:pathLst>
                  <a:path w="921" h="173">
                    <a:moveTo>
                      <a:pt x="28" y="0"/>
                    </a:moveTo>
                    <a:lnTo>
                      <a:pt x="17" y="2"/>
                    </a:lnTo>
                    <a:lnTo>
                      <a:pt x="9" y="10"/>
                    </a:lnTo>
                    <a:lnTo>
                      <a:pt x="1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1" y="156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8" y="173"/>
                    </a:lnTo>
                    <a:lnTo>
                      <a:pt x="893" y="173"/>
                    </a:lnTo>
                    <a:lnTo>
                      <a:pt x="904" y="171"/>
                    </a:lnTo>
                    <a:lnTo>
                      <a:pt x="914" y="165"/>
                    </a:lnTo>
                    <a:lnTo>
                      <a:pt x="920" y="156"/>
                    </a:lnTo>
                    <a:lnTo>
                      <a:pt x="921" y="144"/>
                    </a:lnTo>
                    <a:lnTo>
                      <a:pt x="921" y="29"/>
                    </a:lnTo>
                    <a:lnTo>
                      <a:pt x="920" y="17"/>
                    </a:lnTo>
                    <a:lnTo>
                      <a:pt x="914" y="10"/>
                    </a:lnTo>
                    <a:lnTo>
                      <a:pt x="904" y="2"/>
                    </a:lnTo>
                    <a:lnTo>
                      <a:pt x="893" y="0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113520" y="1752480"/>
              <a:ext cx="1785960" cy="457200"/>
              <a:chOff x="6113520" y="1752480"/>
              <a:chExt cx="1785960" cy="457200"/>
            </a:xfrm>
          </p:grpSpPr>
          <p:sp>
            <p:nvSpPr>
              <p:cNvPr id="121" name=""/>
              <p:cNvSpPr/>
              <p:nvPr/>
            </p:nvSpPr>
            <p:spPr>
              <a:xfrm>
                <a:off x="6477120" y="1836720"/>
                <a:ext cx="1056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EXÉRCIT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113520" y="1752480"/>
                <a:ext cx="1785960" cy="457200"/>
              </a:xfrm>
              <a:custGeom>
                <a:avLst/>
                <a:gdLst/>
                <a:ahLst/>
                <a:rect l="l" t="t" r="r" b="b"/>
                <a:pathLst>
                  <a:path w="634" h="173">
                    <a:moveTo>
                      <a:pt x="29" y="0"/>
                    </a:moveTo>
                    <a:lnTo>
                      <a:pt x="17" y="2"/>
                    </a:lnTo>
                    <a:lnTo>
                      <a:pt x="9" y="10"/>
                    </a:lnTo>
                    <a:lnTo>
                      <a:pt x="2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2" y="156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9" y="173"/>
                    </a:lnTo>
                    <a:lnTo>
                      <a:pt x="605" y="173"/>
                    </a:lnTo>
                    <a:lnTo>
                      <a:pt x="616" y="171"/>
                    </a:lnTo>
                    <a:lnTo>
                      <a:pt x="626" y="165"/>
                    </a:lnTo>
                    <a:lnTo>
                      <a:pt x="632" y="156"/>
                    </a:lnTo>
                    <a:lnTo>
                      <a:pt x="634" y="144"/>
                    </a:lnTo>
                    <a:lnTo>
                      <a:pt x="634" y="29"/>
                    </a:lnTo>
                    <a:lnTo>
                      <a:pt x="632" y="17"/>
                    </a:lnTo>
                    <a:lnTo>
                      <a:pt x="626" y="10"/>
                    </a:lnTo>
                    <a:lnTo>
                      <a:pt x="616" y="2"/>
                    </a:lnTo>
                    <a:lnTo>
                      <a:pt x="605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3162240" y="1870200"/>
              <a:ext cx="2819520" cy="263520"/>
            </a:xfrm>
            <a:custGeom>
              <a:avLst/>
              <a:gdLst/>
              <a:ahLst/>
              <a:rect l="l" t="t" r="r" b="b"/>
              <a:pathLst>
                <a:path w="749" h="115">
                  <a:moveTo>
                    <a:pt x="0" y="58"/>
                  </a:moveTo>
                  <a:lnTo>
                    <a:pt x="149" y="115"/>
                  </a:lnTo>
                  <a:lnTo>
                    <a:pt x="149" y="87"/>
                  </a:lnTo>
                  <a:lnTo>
                    <a:pt x="599" y="87"/>
                  </a:lnTo>
                  <a:lnTo>
                    <a:pt x="599" y="115"/>
                  </a:lnTo>
                  <a:lnTo>
                    <a:pt x="749" y="58"/>
                  </a:lnTo>
                  <a:lnTo>
                    <a:pt x="599" y="0"/>
                  </a:lnTo>
                  <a:lnTo>
                    <a:pt x="599" y="29"/>
                  </a:lnTo>
                  <a:lnTo>
                    <a:pt x="149" y="29"/>
                  </a:lnTo>
                  <a:lnTo>
                    <a:pt x="149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46360" y="2286000"/>
              <a:ext cx="260280" cy="571680"/>
            </a:xfrm>
            <a:custGeom>
              <a:avLst/>
              <a:gdLst/>
              <a:ahLst/>
              <a:rect l="l" t="t" r="r" b="b"/>
              <a:pathLst>
                <a:path w="115" h="288">
                  <a:moveTo>
                    <a:pt x="0" y="215"/>
                  </a:moveTo>
                  <a:lnTo>
                    <a:pt x="29" y="215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215"/>
                  </a:lnTo>
                  <a:lnTo>
                    <a:pt x="115" y="215"/>
                  </a:lnTo>
                  <a:lnTo>
                    <a:pt x="57" y="288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83560" y="2247840"/>
              <a:ext cx="258480" cy="571680"/>
            </a:xfrm>
            <a:custGeom>
              <a:avLst/>
              <a:gdLst/>
              <a:ahLst/>
              <a:rect l="l" t="t" r="r" b="b"/>
              <a:pathLst>
                <a:path w="115" h="288">
                  <a:moveTo>
                    <a:pt x="0" y="215"/>
                  </a:moveTo>
                  <a:lnTo>
                    <a:pt x="29" y="215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215"/>
                  </a:lnTo>
                  <a:lnTo>
                    <a:pt x="115" y="215"/>
                  </a:lnTo>
                  <a:lnTo>
                    <a:pt x="58" y="288"/>
                  </a:lnTo>
                  <a:lnTo>
                    <a:pt x="0" y="215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79360" y="2943360"/>
              <a:ext cx="3200400" cy="333360"/>
              <a:chOff x="279360" y="2943360"/>
              <a:chExt cx="3200400" cy="333360"/>
            </a:xfrm>
          </p:grpSpPr>
          <p:sp>
            <p:nvSpPr>
              <p:cNvPr id="127" name=""/>
              <p:cNvSpPr/>
              <p:nvPr/>
            </p:nvSpPr>
            <p:spPr>
              <a:xfrm>
                <a:off x="718920" y="2990880"/>
                <a:ext cx="2333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FORNECE O RECURS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9360" y="2943360"/>
                <a:ext cx="3200400" cy="333360"/>
              </a:xfrm>
              <a:custGeom>
                <a:avLst/>
                <a:gdLst/>
                <a:ahLst/>
                <a:rect l="l" t="t" r="r" b="b"/>
                <a:pathLst>
                  <a:path w="1152" h="173">
                    <a:moveTo>
                      <a:pt x="28" y="0"/>
                    </a:moveTo>
                    <a:lnTo>
                      <a:pt x="17" y="2"/>
                    </a:lnTo>
                    <a:lnTo>
                      <a:pt x="9" y="9"/>
                    </a:lnTo>
                    <a:lnTo>
                      <a:pt x="1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1" y="155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8" y="173"/>
                    </a:lnTo>
                    <a:lnTo>
                      <a:pt x="1123" y="173"/>
                    </a:lnTo>
                    <a:lnTo>
                      <a:pt x="1135" y="171"/>
                    </a:lnTo>
                    <a:lnTo>
                      <a:pt x="1144" y="165"/>
                    </a:lnTo>
                    <a:lnTo>
                      <a:pt x="1150" y="155"/>
                    </a:lnTo>
                    <a:lnTo>
                      <a:pt x="1152" y="144"/>
                    </a:lnTo>
                    <a:lnTo>
                      <a:pt x="1152" y="29"/>
                    </a:lnTo>
                    <a:lnTo>
                      <a:pt x="1150" y="17"/>
                    </a:lnTo>
                    <a:lnTo>
                      <a:pt x="1144" y="9"/>
                    </a:lnTo>
                    <a:lnTo>
                      <a:pt x="1135" y="2"/>
                    </a:lnTo>
                    <a:lnTo>
                      <a:pt x="1123" y="0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773680" y="2933640"/>
              <a:ext cx="2557440" cy="343080"/>
              <a:chOff x="5773680" y="2933640"/>
              <a:chExt cx="2557440" cy="343080"/>
            </a:xfrm>
          </p:grpSpPr>
          <p:sp>
            <p:nvSpPr>
              <p:cNvPr id="130" name=""/>
              <p:cNvSpPr/>
              <p:nvPr/>
            </p:nvSpPr>
            <p:spPr>
              <a:xfrm>
                <a:off x="6085440" y="2971800"/>
                <a:ext cx="19134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EXECUTA A OBR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773680" y="2933640"/>
                <a:ext cx="2557440" cy="343080"/>
              </a:xfrm>
              <a:custGeom>
                <a:avLst/>
                <a:gdLst/>
                <a:ahLst/>
                <a:rect l="l" t="t" r="r" b="b"/>
                <a:pathLst>
                  <a:path w="922" h="173">
                    <a:moveTo>
                      <a:pt x="29" y="0"/>
                    </a:moveTo>
                    <a:lnTo>
                      <a:pt x="17" y="2"/>
                    </a:lnTo>
                    <a:lnTo>
                      <a:pt x="10" y="10"/>
                    </a:lnTo>
                    <a:lnTo>
                      <a:pt x="2" y="18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2" y="156"/>
                    </a:lnTo>
                    <a:lnTo>
                      <a:pt x="10" y="165"/>
                    </a:lnTo>
                    <a:lnTo>
                      <a:pt x="17" y="171"/>
                    </a:lnTo>
                    <a:lnTo>
                      <a:pt x="29" y="173"/>
                    </a:lnTo>
                    <a:lnTo>
                      <a:pt x="893" y="173"/>
                    </a:lnTo>
                    <a:lnTo>
                      <a:pt x="905" y="171"/>
                    </a:lnTo>
                    <a:lnTo>
                      <a:pt x="914" y="165"/>
                    </a:lnTo>
                    <a:lnTo>
                      <a:pt x="920" y="156"/>
                    </a:lnTo>
                    <a:lnTo>
                      <a:pt x="922" y="144"/>
                    </a:lnTo>
                    <a:lnTo>
                      <a:pt x="922" y="29"/>
                    </a:lnTo>
                    <a:lnTo>
                      <a:pt x="920" y="18"/>
                    </a:lnTo>
                    <a:lnTo>
                      <a:pt x="914" y="10"/>
                    </a:lnTo>
                    <a:lnTo>
                      <a:pt x="905" y="2"/>
                    </a:lnTo>
                    <a:lnTo>
                      <a:pt x="893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933640" y="3581280"/>
              <a:ext cx="3264120" cy="1218960"/>
              <a:chOff x="2933640" y="3581280"/>
              <a:chExt cx="3264120" cy="1218960"/>
            </a:xfrm>
          </p:grpSpPr>
          <p:sp>
            <p:nvSpPr>
              <p:cNvPr id="133" name=""/>
              <p:cNvSpPr/>
              <p:nvPr/>
            </p:nvSpPr>
            <p:spPr>
              <a:xfrm>
                <a:off x="3380400" y="4151160"/>
                <a:ext cx="23734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CONTROLES INTER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 </a:t>
                </a: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E EXTERN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46240" y="3581280"/>
                <a:ext cx="3225960" cy="382320"/>
              </a:xfrm>
              <a:custGeom>
                <a:avLst/>
                <a:gdLst/>
                <a:ahLst/>
                <a:rect l="l" t="t" r="r" b="b"/>
                <a:pathLst>
                  <a:path w="1152" h="172">
                    <a:moveTo>
                      <a:pt x="28" y="0"/>
                    </a:moveTo>
                    <a:lnTo>
                      <a:pt x="17" y="1"/>
                    </a:lnTo>
                    <a:lnTo>
                      <a:pt x="9" y="9"/>
                    </a:lnTo>
                    <a:lnTo>
                      <a:pt x="2" y="17"/>
                    </a:lnTo>
                    <a:lnTo>
                      <a:pt x="0" y="28"/>
                    </a:lnTo>
                    <a:lnTo>
                      <a:pt x="0" y="144"/>
                    </a:lnTo>
                    <a:lnTo>
                      <a:pt x="2" y="155"/>
                    </a:lnTo>
                    <a:lnTo>
                      <a:pt x="9" y="165"/>
                    </a:lnTo>
                    <a:lnTo>
                      <a:pt x="17" y="171"/>
                    </a:lnTo>
                    <a:lnTo>
                      <a:pt x="28" y="172"/>
                    </a:lnTo>
                    <a:lnTo>
                      <a:pt x="1123" y="172"/>
                    </a:lnTo>
                    <a:lnTo>
                      <a:pt x="1135" y="171"/>
                    </a:lnTo>
                    <a:lnTo>
                      <a:pt x="1144" y="165"/>
                    </a:lnTo>
                    <a:lnTo>
                      <a:pt x="1150" y="155"/>
                    </a:lnTo>
                    <a:lnTo>
                      <a:pt x="1152" y="144"/>
                    </a:lnTo>
                    <a:lnTo>
                      <a:pt x="1152" y="28"/>
                    </a:lnTo>
                    <a:lnTo>
                      <a:pt x="1150" y="17"/>
                    </a:lnTo>
                    <a:lnTo>
                      <a:pt x="1144" y="9"/>
                    </a:lnTo>
                    <a:lnTo>
                      <a:pt x="1135" y="1"/>
                    </a:lnTo>
                    <a:lnTo>
                      <a:pt x="1123" y="0"/>
                    </a:lnTo>
                    <a:lnTo>
                      <a:pt x="28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76440" y="3657240"/>
                <a:ext cx="23810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3300"/>
                    </a:solidFill>
                    <a:latin typeface="Arial Black"/>
                  </a:rPr>
                  <a:t>PUBLICAÇÃO EM DO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933640" y="4073400"/>
                <a:ext cx="3264120" cy="726840"/>
              </a:xfrm>
              <a:custGeom>
                <a:avLst/>
                <a:gdLst/>
                <a:ahLst/>
                <a:rect l="l" t="t" r="r" b="b"/>
                <a:pathLst>
                  <a:path w="1614" h="173">
                    <a:moveTo>
                      <a:pt x="29" y="0"/>
                    </a:moveTo>
                    <a:lnTo>
                      <a:pt x="17" y="2"/>
                    </a:lnTo>
                    <a:lnTo>
                      <a:pt x="10" y="10"/>
                    </a:lnTo>
                    <a:lnTo>
                      <a:pt x="2" y="17"/>
                    </a:lnTo>
                    <a:lnTo>
                      <a:pt x="0" y="29"/>
                    </a:lnTo>
                    <a:lnTo>
                      <a:pt x="0" y="144"/>
                    </a:lnTo>
                    <a:lnTo>
                      <a:pt x="2" y="156"/>
                    </a:lnTo>
                    <a:lnTo>
                      <a:pt x="10" y="165"/>
                    </a:lnTo>
                    <a:lnTo>
                      <a:pt x="17" y="171"/>
                    </a:lnTo>
                    <a:lnTo>
                      <a:pt x="29" y="173"/>
                    </a:lnTo>
                    <a:lnTo>
                      <a:pt x="1585" y="173"/>
                    </a:lnTo>
                    <a:lnTo>
                      <a:pt x="1596" y="171"/>
                    </a:lnTo>
                    <a:lnTo>
                      <a:pt x="1606" y="165"/>
                    </a:lnTo>
                    <a:lnTo>
                      <a:pt x="1612" y="156"/>
                    </a:lnTo>
                    <a:lnTo>
                      <a:pt x="1614" y="144"/>
                    </a:lnTo>
                    <a:lnTo>
                      <a:pt x="1614" y="29"/>
                    </a:lnTo>
                    <a:lnTo>
                      <a:pt x="1612" y="17"/>
                    </a:lnTo>
                    <a:lnTo>
                      <a:pt x="1606" y="10"/>
                    </a:lnTo>
                    <a:lnTo>
                      <a:pt x="1596" y="2"/>
                    </a:lnTo>
                    <a:lnTo>
                      <a:pt x="1585" y="0"/>
                    </a:lnTo>
                    <a:lnTo>
                      <a:pt x="29" y="0"/>
                    </a:lnTo>
                    <a:close/>
                  </a:path>
                </a:pathLst>
              </a:custGeom>
              <a:noFill/>
              <a:ln w="2700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6904080" y="3301920"/>
              <a:ext cx="258840" cy="1727280"/>
            </a:xfrm>
            <a:custGeom>
              <a:avLst/>
              <a:gdLst/>
              <a:ahLst/>
              <a:rect l="l" t="t" r="r" b="b"/>
              <a:pathLst>
                <a:path w="115" h="922">
                  <a:moveTo>
                    <a:pt x="0" y="691"/>
                  </a:moveTo>
                  <a:lnTo>
                    <a:pt x="29" y="691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691"/>
                  </a:lnTo>
                  <a:lnTo>
                    <a:pt x="115" y="691"/>
                  </a:lnTo>
                  <a:lnTo>
                    <a:pt x="58" y="922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39880" y="3314880"/>
              <a:ext cx="258840" cy="1726920"/>
            </a:xfrm>
            <a:custGeom>
              <a:avLst/>
              <a:gdLst/>
              <a:ahLst/>
              <a:rect l="l" t="t" r="r" b="b"/>
              <a:pathLst>
                <a:path w="115" h="922">
                  <a:moveTo>
                    <a:pt x="0" y="691"/>
                  </a:moveTo>
                  <a:lnTo>
                    <a:pt x="29" y="691"/>
                  </a:lnTo>
                  <a:lnTo>
                    <a:pt x="29" y="0"/>
                  </a:lnTo>
                  <a:lnTo>
                    <a:pt x="86" y="0"/>
                  </a:lnTo>
                  <a:lnTo>
                    <a:pt x="86" y="691"/>
                  </a:lnTo>
                  <a:lnTo>
                    <a:pt x="115" y="691"/>
                  </a:lnTo>
                  <a:lnTo>
                    <a:pt x="58" y="922"/>
                  </a:lnTo>
                  <a:lnTo>
                    <a:pt x="0" y="691"/>
                  </a:lnTo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5486400" y="4826160"/>
              <a:ext cx="1295280" cy="22096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04" y="10785"/>
                  </a:moveTo>
                  <a:arcTo wR="-8296" hR="-8296" stAng="-10793784" swAng="-5163609"/>
                  <a:lnTo>
                    <a:pt x="11562" y="27"/>
                  </a:lnTo>
                  <a:arcTo wR="10800" hR="10800" stAng="-5157393" swAng="5163609"/>
                  <a:lnTo>
                    <a:pt x="24300" y="10824"/>
                  </a:lnTo>
                  <a:lnTo>
                    <a:pt x="20341" y="14769"/>
                  </a:lnTo>
                  <a:lnTo>
                    <a:pt x="16396" y="1081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rot="16200000">
              <a:off x="2286000" y="4838760"/>
              <a:ext cx="1295280" cy="2209680"/>
            </a:xfrm>
            <a:custGeom>
              <a:avLst/>
              <a:gdLst>
                <a:gd name="textAreaLeft" fmla="*/ 360 w 1295280"/>
                <a:gd name="textAreaRight" fmla="*/ 1296000 w 1295280"/>
                <a:gd name="textAreaTop" fmla="*/ 0 h 2209680"/>
                <a:gd name="textAreaBottom" fmla="*/ 221004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504" y="10785"/>
                  </a:moveTo>
                  <a:arcTo wR="-8296" hR="-8296" stAng="-10793784" swAng="-5163609"/>
                  <a:lnTo>
                    <a:pt x="11562" y="27"/>
                  </a:lnTo>
                  <a:arcTo wR="10800" hR="10800" stAng="-5157393" swAng="5163609"/>
                  <a:lnTo>
                    <a:pt x="24300" y="10824"/>
                  </a:lnTo>
                  <a:lnTo>
                    <a:pt x="20341" y="14769"/>
                  </a:lnTo>
                  <a:lnTo>
                    <a:pt x="16396" y="1081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" spc="-1" strike="noStrike">
                <a:solidFill>
                  <a:srgbClr val="000000"/>
                </a:solidFill>
                <a:latin typeface="Times New Roman"/>
              </a:rPr>
              <a:t>Forma Trab. Convênio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0" y="868320"/>
            <a:ext cx="9372600" cy="5989320"/>
            <a:chOff x="0" y="868320"/>
            <a:chExt cx="9372600" cy="5989320"/>
          </a:xfrm>
        </p:grpSpPr>
        <p:grpSp>
          <p:nvGrpSpPr>
            <p:cNvPr id="143" name=""/>
            <p:cNvGrpSpPr/>
            <p:nvPr/>
          </p:nvGrpSpPr>
          <p:grpSpPr>
            <a:xfrm>
              <a:off x="552960" y="868320"/>
              <a:ext cx="8819640" cy="5989320"/>
              <a:chOff x="552960" y="868320"/>
              <a:chExt cx="8819640" cy="598932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552960" y="868320"/>
                <a:ext cx="7962480" cy="5989320"/>
                <a:chOff x="552960" y="868320"/>
                <a:chExt cx="7962480" cy="598932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552960" y="1249560"/>
                  <a:ext cx="6190920" cy="5181120"/>
                  <a:chOff x="552960" y="1249560"/>
                  <a:chExt cx="6190920" cy="518112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1103040" y="3543120"/>
                    <a:ext cx="3642480" cy="187668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055880" y="1249560"/>
                    <a:ext cx="1422360" cy="1523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960">
                        <a:moveTo>
                          <a:pt x="0" y="960"/>
                        </a:moveTo>
                        <a:lnTo>
                          <a:pt x="0" y="0"/>
                        </a:lnTo>
                        <a:lnTo>
                          <a:pt x="768" y="0"/>
                        </a:lnTo>
                      </a:path>
                    </a:pathLst>
                  </a:custGeom>
                  <a:noFill/>
                  <a:ln w="114480">
                    <a:solidFill>
                      <a:srgbClr val="0000cc"/>
                    </a:solidFill>
                    <a:round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V="1">
                    <a:off x="1055880" y="4906440"/>
                    <a:ext cx="1511280" cy="1523880"/>
                  </a:xfrm>
                  <a:custGeom>
                    <a:avLst/>
                    <a:gdLst/>
                    <a:ahLst/>
                    <a:rect l="l" t="t" r="r" b="b"/>
                    <a:pathLst>
                      <a:path w="768" h="960">
                        <a:moveTo>
                          <a:pt x="0" y="960"/>
                        </a:moveTo>
                        <a:lnTo>
                          <a:pt x="0" y="0"/>
                        </a:lnTo>
                        <a:lnTo>
                          <a:pt x="768" y="0"/>
                        </a:lnTo>
                      </a:path>
                    </a:pathLst>
                  </a:custGeom>
                  <a:noFill/>
                  <a:ln w="114480">
                    <a:solidFill>
                      <a:srgbClr val="0000cc"/>
                    </a:solidFill>
                    <a:round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>
                    <a:off x="664200" y="1980720"/>
                    <a:ext cx="3337560" cy="169200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V="1">
                    <a:off x="636840" y="2220840"/>
                    <a:ext cx="4749480" cy="135288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636840" y="2384640"/>
                    <a:ext cx="5913360" cy="120312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V="1">
                    <a:off x="731880" y="2954160"/>
                    <a:ext cx="6012000" cy="60012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731880" y="3554640"/>
                    <a:ext cx="6012000" cy="144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552960" y="3474360"/>
                    <a:ext cx="6080760" cy="90324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667080" y="3462120"/>
                    <a:ext cx="4981320" cy="143244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93440" y="3211920"/>
                    <a:ext cx="3223440" cy="2529360"/>
                  </a:xfrm>
                  <a:prstGeom prst="line">
                    <a:avLst/>
                  </a:prstGeom>
                  <a:ln w="101520">
                    <a:solidFill>
                      <a:srgbClr val="0000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2752920" y="868320"/>
                  <a:ext cx="5762520" cy="5989320"/>
                  <a:chOff x="2752920" y="868320"/>
                  <a:chExt cx="5762520" cy="59893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2770560" y="6276960"/>
                    <a:ext cx="1515600" cy="580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00"/>
                      </a:gs>
                      <a:gs pos="50000">
                        <a:srgbClr val="00ff00"/>
                      </a:gs>
                      <a:gs pos="100000">
                        <a:srgbClr val="007500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PREFEITURA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 </a:t>
                    </a: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MUNICIPA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544200" y="5764320"/>
                    <a:ext cx="1357200" cy="580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007575"/>
                      </a:gs>
                      <a:gs pos="50000">
                        <a:srgbClr val="00ffff"/>
                      </a:gs>
                      <a:gs pos="100000">
                        <a:srgbClr val="007575"/>
                      </a:gs>
                    </a:gsLst>
                    <a:lin ang="135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GOVERNOS 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Bookman Old Style"/>
                      </a:rPr>
                      <a:t>ESTADUA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60" name="DNER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2752920" y="868320"/>
                    <a:ext cx="8697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1" name="dnocs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0" y="944640"/>
                    <a:ext cx="870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2" name="codevasf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9960" y="1249560"/>
                    <a:ext cx="790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3" name="infraero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16880" y="2468520"/>
                    <a:ext cx="776160" cy="6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4" name="PETROBRAS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05560" y="5288040"/>
                    <a:ext cx="1752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5" name="funai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19960" y="4525920"/>
                    <a:ext cx="688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6" name="INCRA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10320" y="4145040"/>
                    <a:ext cx="12924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7" name="Sudene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91320" y="3078360"/>
                    <a:ext cx="182412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8" name="CHESF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00840" y="1859040"/>
                    <a:ext cx="18288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169" name=""/>
              <p:cNvSpPr/>
              <p:nvPr/>
            </p:nvSpPr>
            <p:spPr>
              <a:xfrm>
                <a:off x="7238880" y="2604960"/>
                <a:ext cx="2133720" cy="4442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0000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300" spc="-1" strike="noStrike">
                    <a:solidFill>
                      <a:srgbClr val="0066ff"/>
                    </a:solidFill>
                    <a:latin typeface="Times New Roman"/>
                  </a:rPr>
                  <a:t>INFRAERO</a:t>
                </a:r>
                <a:endParaRPr b="0" lang="en-US" sz="2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70" name="ESCUDO%20EB3D" descr=""/>
            <p:cNvPicPr/>
            <p:nvPr/>
          </p:nvPicPr>
          <p:blipFill>
            <a:blip r:embed="rId10"/>
            <a:stretch/>
          </p:blipFill>
          <p:spPr>
            <a:xfrm>
              <a:off x="0" y="1981080"/>
              <a:ext cx="2062080" cy="365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37D826E9-EBD4-476A-97CC-202975157E6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d0d0"/>
            </a:gs>
            <a:gs pos="50000">
              <a:srgbClr val="ffffff"/>
            </a:gs>
            <a:gs pos="100000">
              <a:srgbClr val="d0d0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-720"/>
            <a:ext cx="9128160" cy="703440"/>
          </a:xfrm>
          <a:prstGeom prst="rect">
            <a:avLst/>
          </a:prstGeom>
          <a:gradFill rotWithShape="0">
            <a:gsLst>
              <a:gs pos="0">
                <a:srgbClr val="f1f1c0"/>
              </a:gs>
              <a:gs pos="100000">
                <a:srgbClr val="cc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CONVÊNIOS ORGÃOS x 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763120" y="6686640"/>
            <a:ext cx="369720" cy="17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 - </a:t>
            </a:r>
            <a:fld id="{D913A1D3-B04E-441C-968E-112E3375A3CA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844560"/>
            <a:ext cx="9372600" cy="6013080"/>
            <a:chOff x="0" y="844560"/>
            <a:chExt cx="9372600" cy="6013080"/>
          </a:xfrm>
        </p:grpSpPr>
        <p:grpSp>
          <p:nvGrpSpPr>
            <p:cNvPr id="176" name=""/>
            <p:cNvGrpSpPr/>
            <p:nvPr/>
          </p:nvGrpSpPr>
          <p:grpSpPr>
            <a:xfrm>
              <a:off x="0" y="868320"/>
              <a:ext cx="9372600" cy="5989320"/>
              <a:chOff x="0" y="868320"/>
              <a:chExt cx="9372600" cy="59893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552960" y="868320"/>
                <a:ext cx="8819640" cy="5989320"/>
                <a:chOff x="552960" y="868320"/>
                <a:chExt cx="8819640" cy="598932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552960" y="868320"/>
                  <a:ext cx="7962480" cy="5989320"/>
                  <a:chOff x="552960" y="868320"/>
                  <a:chExt cx="7962480" cy="5989320"/>
                </a:xfrm>
              </p:grpSpPr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552960" y="1249560"/>
                    <a:ext cx="6190920" cy="5181120"/>
                    <a:chOff x="552960" y="1249560"/>
                    <a:chExt cx="6190920" cy="518112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1103040" y="3543120"/>
                      <a:ext cx="3642480" cy="18766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1055880" y="1249560"/>
                      <a:ext cx="142236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 flipV="1">
                      <a:off x="1055880" y="4906440"/>
                      <a:ext cx="1511280" cy="152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68" h="960">
                          <a:moveTo>
                            <a:pt x="0" y="960"/>
                          </a:moveTo>
                          <a:lnTo>
                            <a:pt x="0" y="0"/>
                          </a:lnTo>
                          <a:lnTo>
                            <a:pt x="768" y="0"/>
                          </a:lnTo>
                        </a:path>
                      </a:pathLst>
                    </a:custGeom>
                    <a:noFill/>
                    <a:ln w="114480">
                      <a:solidFill>
                        <a:srgbClr val="0000cc"/>
                      </a:solidFill>
                      <a:round/>
                      <a:tailEnd len="med" type="stealth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 flipV="1">
                      <a:off x="664200" y="1980720"/>
                      <a:ext cx="3337560" cy="169200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 flipV="1">
                      <a:off x="636840" y="2220840"/>
                      <a:ext cx="4749480" cy="135288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flipV="1">
                      <a:off x="636840" y="2384640"/>
                      <a:ext cx="5913360" cy="1203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flipV="1">
                      <a:off x="731880" y="2954160"/>
                      <a:ext cx="6012000" cy="60012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731880" y="3554640"/>
                      <a:ext cx="6012000" cy="1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552960" y="3474360"/>
                      <a:ext cx="6080760" cy="9032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667080" y="3462120"/>
                      <a:ext cx="4981320" cy="143244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793440" y="3211920"/>
                      <a:ext cx="3223440" cy="2529360"/>
                    </a:xfrm>
                    <a:prstGeom prst="line">
                      <a:avLst/>
                    </a:prstGeom>
                    <a:ln w="101520">
                      <a:solidFill>
                        <a:srgbClr val="0000cc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2752920" y="868320"/>
                    <a:ext cx="5762520" cy="5989320"/>
                    <a:chOff x="2752920" y="868320"/>
                    <a:chExt cx="5762520" cy="598932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2770560" y="6276960"/>
                      <a:ext cx="15156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00"/>
                        </a:gs>
                        <a:gs pos="50000">
                          <a:srgbClr val="00ff00"/>
                        </a:gs>
                        <a:gs pos="100000">
                          <a:srgbClr val="007500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PREFEI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MUNICIP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>
                      <a:off x="3544200" y="5764320"/>
                      <a:ext cx="1357200" cy="58068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007575"/>
                        </a:gs>
                        <a:gs pos="50000">
                          <a:srgbClr val="00ffff"/>
                        </a:gs>
                        <a:gs pos="100000">
                          <a:srgbClr val="007575"/>
                        </a:gs>
                      </a:gsLst>
                      <a:lin ang="135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GOVERN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ESTADU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194" name="DNER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752920" y="868320"/>
                      <a:ext cx="8697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5" name="dnocs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73600" y="944640"/>
                      <a:ext cx="8701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6" name="codevasf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79960" y="1249560"/>
                      <a:ext cx="7905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7" name="infraero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16880" y="2468520"/>
                      <a:ext cx="776160" cy="68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8" name="PETROBRAS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05560" y="5288040"/>
                      <a:ext cx="17524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99" name="funai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960" y="4525920"/>
                      <a:ext cx="6886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0" name="INCRA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610320" y="4145040"/>
                      <a:ext cx="1292400" cy="58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1" name="Sudene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691320" y="3078360"/>
                      <a:ext cx="182412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2" name="CHESF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000840" y="1859040"/>
                      <a:ext cx="1828800" cy="43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  <p:sp>
              <p:nvSpPr>
                <p:cNvPr id="203" name=""/>
                <p:cNvSpPr/>
                <p:nvPr/>
              </p:nvSpPr>
              <p:spPr>
                <a:xfrm>
                  <a:off x="7238880" y="2604960"/>
                  <a:ext cx="2133720" cy="44424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53753" dir="2700000" blurRad="0" rotWithShape="0">
                    <a:srgbClr val="000098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437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300" spc="-1" strike="noStrike">
                      <a:solidFill>
                        <a:srgbClr val="0066ff"/>
                      </a:solidFill>
                      <a:latin typeface="Times New Roman"/>
                    </a:rPr>
                    <a:t>INFRAERO</a:t>
                  </a:r>
                  <a:endParaRPr b="0" lang="en-US" sz="2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4" name="ESCUDO%20EB3D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1981080"/>
                <a:ext cx="2062080" cy="36576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05" name="" descr=""/>
            <p:cNvPicPr/>
            <p:nvPr/>
          </p:nvPicPr>
          <p:blipFill>
            <a:blip r:embed="rId11"/>
            <a:stretch/>
          </p:blipFill>
          <p:spPr>
            <a:xfrm>
              <a:off x="2631960" y="844560"/>
              <a:ext cx="1177920" cy="971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3T14:20:48Z</dcterms:created>
  <dc:creator>ALEXANDRE</dc:creator>
  <dc:description/>
  <dc:language>en-US</dc:language>
  <cp:lastModifiedBy>SRH</cp:lastModifiedBy>
  <cp:lastPrinted>2000-04-25T12:35:54Z</cp:lastPrinted>
  <dcterms:modified xsi:type="dcterms:W3CDTF">2004-10-15T20:23:37Z</dcterms:modified>
  <cp:revision>234</cp:revision>
  <dc:subject/>
  <dc:title>Slide sem título </dc:title>
</cp:coreProperties>
</file>