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9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9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9.wmf" ContentType="image/x-wmf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3.wmf" ContentType="image/x-wmf"/>
  <Override PartName="/ppt/media/image28.png" ContentType="image/png"/>
  <Override PartName="/ppt/media/image3.jpeg" ContentType="image/jpeg"/>
  <Override PartName="/ppt/media/image30.png" ContentType="image/png"/>
  <Override PartName="/ppt/media/image40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05920" y="76320"/>
            <a:ext cx="761760" cy="355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19640" y="2276640"/>
            <a:ext cx="358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LEXIBILIZAÇÃO DAS CONDIÇÕES DE OPERAÇÃO DO RESERVATÓRIO DE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320"/>
            <a:ext cx="1067040" cy="355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7280" y="5373720"/>
            <a:ext cx="38592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OAQUIM GOND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SUPERINTENDENTE DE USOS MÚLTIP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4608360" cy="32400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556240" y="8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49960" y="838080"/>
            <a:ext cx="49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da Operacional para UHE Cac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1600200"/>
            <a:ext cx="86104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 partir de 01 de novembro de cada ano, a defluência média diária de Caconde deverá ser fixada em 32 m³/s, com possibilidade de variação máxima de até + 5%, visando o replecionamento do reservatório de modo mais rápido, no período chuvoso de novembro a març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este período, a defluência de 32 m³/s deverá perdurar até que o reservatório atinja a cota 843 m. A partir deste ponto, a recuperação do nível deverá ser feita de acordo com as políticas de otimização da operação definidas pelo 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o período de abril a outubro, a operação deverá continuar segundo as políticas de operação do SIN, respeitando as restrições existentes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(defluência mínima de 32 m³/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66680" y="228600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SULTADOS PRELIMINARES DE ESTUDOS EM AND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4360" y="762120"/>
            <a:ext cx="62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SERVATÓRIO DE CA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5080" y="62485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: MAIO ATÉ O DIA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666960" y="1595520"/>
          <a:ext cx="494352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6960" y="1595520"/>
                    <a:ext cx="494352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493920" y="2819520"/>
            <a:ext cx="30045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média afluente = 29 m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3680" y="3809880"/>
            <a:ext cx="3080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média defuente = 46 m</a:t>
            </a:r>
            <a:r>
              <a:rPr b="1" lang="pt-B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609480" y="1547640"/>
          <a:ext cx="7925040" cy="45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47640"/>
                    <a:ext cx="79250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1674360" y="762120"/>
            <a:ext cx="62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SERVATÓRIO DE CA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23960" y="1447920"/>
          <a:ext cx="8343720" cy="43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447920"/>
                    <a:ext cx="8343720" cy="43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1407960" y="1325520"/>
            <a:ext cx="6287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SERVATÓRIO DE CAC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7320" y="1639800"/>
            <a:ext cx="8829360" cy="3578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20600" y="725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: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7320" y="1639800"/>
            <a:ext cx="8829360" cy="3578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720600" y="725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: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7320" y="1639800"/>
            <a:ext cx="8829360" cy="35784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0600" y="725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: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73040"/>
          <a:ext cx="8839080" cy="42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3040"/>
                    <a:ext cx="883908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720600" y="725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: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1219320" y="1911240"/>
          <a:ext cx="7010280" cy="41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11240"/>
                    <a:ext cx="701028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204360" y="121932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ANTIA DE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20600" y="7254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O: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05320" y="685800"/>
            <a:ext cx="0" cy="33526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7938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837720" y="4038480"/>
            <a:ext cx="26672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1430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4956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895480"/>
            <a:ext cx="38124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2480" y="1219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7080" y="26352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CLIDES DA CUN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34640" y="342900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MANDO SALLES DE OLIVEI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LIMOEI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96560" y="2940120"/>
            <a:ext cx="20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O COLÔMB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7760" y="4648320"/>
            <a:ext cx="18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ÁGUA VERM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51440" y="363204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IO PAR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195840" y="17262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IO GRA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828800"/>
            <a:ext cx="30492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40480" y="1752480"/>
            <a:ext cx="225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CH JB FIGUEIRE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ITAIQUA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59092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3429000"/>
            <a:ext cx="38088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52680" y="4670280"/>
            <a:ext cx="5410440" cy="1425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6800" y="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PROVEITAMENTOS DO RIO P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19120" y="457200"/>
            <a:ext cx="7710480" cy="6202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371600" y="3276720"/>
            <a:ext cx="6705720" cy="4572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645320" cy="6064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523880" y="2666880"/>
            <a:ext cx="6782040" cy="3812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495680" y="32004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219320"/>
            <a:ext cx="838188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Restrições Operativas Hidráu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Inventário das restrições operativas hidráulicas dos aproveitamentos hidrelétricos” ONS RE3/331/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Todas as restrições operativas hidráulicas são declaradas formalmente e devidamente justificadas pelo Agente de Geração responsável pelo aproveit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Qualquer modificação de restrição que possa trazer conseqüência aos usos múltiplos é previamente discutida e analisada em conjunto com a 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Restrições Operativas Hidráulicas da UHE Cacon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Vazão máxima – restrição a jusante: 600 m³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(inundação da casa de força da UHE Itaiqua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Vazão mínima – vazão defluente de 32 m³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(Atendimento à vazão turbinada mínima da UHE Itaiqua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utras Informações Operacionais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Taxa de variação máxima das defluências: 10%, em relação ao valor da hora anterior, para ser aplicada em casos de defluências superiores a 250 m</a:t>
            </a:r>
            <a:r>
              <a:rPr b="0" lang="pt-BR" sz="1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99"/>
                </a:solidFill>
                <a:latin typeface="Arial"/>
              </a:rPr>
              <a:t>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4038480"/>
            <a:ext cx="5943600" cy="6098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2004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295280"/>
            <a:ext cx="800100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ras Informações Operaciona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Realização de diversos procedimentos operacionais, quando da iminência da liberação de defluências elevadas (monitoramento e aviso aos proprietários e órgãos envolvid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50 m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/s - inundação em residência localizada entre a usina e a saída do canal de fug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260 m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/s - Possibilidade de ocorrência de inundações na rua André Luiz, em São José do Rio Pardo, dependendo das contribuições da bacia incre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300 m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/s - Propriedades próximas ao canal de fuga são parcialmente inundadas e há possibilidade de danos em dragas existentes entre o canal de fuga e a usina de Itaiqua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400 m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/s - Possibilidade de interferências nas duas captações de água de São José do Rio Pardo, dependendo das contribuições da bacia incre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440" y="777960"/>
            <a:ext cx="8774280" cy="5459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19160" y="777960"/>
            <a:ext cx="8773920" cy="5459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Cac-cheia%2003" descr=""/>
          <p:cNvPicPr/>
          <p:nvPr/>
        </p:nvPicPr>
        <p:blipFill>
          <a:blip r:embed="rId1"/>
          <a:stretch/>
        </p:blipFill>
        <p:spPr>
          <a:xfrm>
            <a:off x="304920" y="496800"/>
            <a:ext cx="8305560" cy="60562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657600" y="3733920"/>
            <a:ext cx="4191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11120" y="2590920"/>
            <a:ext cx="477684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oaquim@ana.gov.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061 44552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53280" cy="5970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066680" y="581040"/>
            <a:ext cx="739620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556240" y="8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26600" cy="3168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5120" y="1143000"/>
            <a:ext cx="59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acterísticas do Aproveitamento de Cac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85800" y="2508120"/>
            <a:ext cx="3784680" cy="3060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315200" cy="5927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" y="6285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15364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229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5364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Atinge parte dos municípios de Caconde em SP, Poços de Caldas e Botelhos em MG; e São José do Rio Pardo/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É a primeira hidrelétrica da cascata do Rio Pa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Perímetro: 344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Área do espelho d’água: 31 km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Nível água máximo operativo: 855,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Nível água mínimo operativo: 825,0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Depleção máxima: 30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Arial"/>
              </a:rPr>
              <a:t>Vazão mínima defluente: 32 m³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6080" y="92160"/>
            <a:ext cx="456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ERVATÓRIO DE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001000" cy="6000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848360" cy="5886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440480" cy="574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78040" y="768240"/>
            <a:ext cx="4340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6080" y="92160"/>
            <a:ext cx="456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ERVATÓRIO DE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302000" y="1200240"/>
            <a:ext cx="1605240" cy="2870280"/>
            <a:chOff x="4302000" y="1200240"/>
            <a:chExt cx="1605240" cy="2870280"/>
          </a:xfrm>
        </p:grpSpPr>
        <p:grpSp>
          <p:nvGrpSpPr>
            <p:cNvPr id="73" name=""/>
            <p:cNvGrpSpPr/>
            <p:nvPr/>
          </p:nvGrpSpPr>
          <p:grpSpPr>
            <a:xfrm>
              <a:off x="4316400" y="1216440"/>
              <a:ext cx="1574640" cy="2850840"/>
              <a:chOff x="4316400" y="1216440"/>
              <a:chExt cx="1574640" cy="2850840"/>
            </a:xfrm>
          </p:grpSpPr>
          <p:sp>
            <p:nvSpPr>
              <p:cNvPr id="74" name=""/>
              <p:cNvSpPr/>
              <p:nvPr/>
            </p:nvSpPr>
            <p:spPr>
              <a:xfrm>
                <a:off x="4316400" y="12164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16400" y="1275120"/>
                <a:ext cx="157464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16400" y="13352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16400" y="1393920"/>
                <a:ext cx="157464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16400" y="1454400"/>
                <a:ext cx="157464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400" y="1513080"/>
                <a:ext cx="157464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16400" y="1571760"/>
                <a:ext cx="157464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316400" y="1632240"/>
                <a:ext cx="157464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316400" y="1690920"/>
                <a:ext cx="157464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316400" y="1751400"/>
                <a:ext cx="157464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316400" y="1810080"/>
                <a:ext cx="157464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16400" y="1868760"/>
                <a:ext cx="157464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16400" y="1929240"/>
                <a:ext cx="157464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16400" y="1987920"/>
                <a:ext cx="157464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16400" y="2048040"/>
                <a:ext cx="157464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16400" y="2106720"/>
                <a:ext cx="157464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316400" y="2165760"/>
                <a:ext cx="157464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16400" y="2225880"/>
                <a:ext cx="157464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316400" y="2284560"/>
                <a:ext cx="157464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316400" y="2345040"/>
                <a:ext cx="157464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16400" y="2403720"/>
                <a:ext cx="157464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316400" y="2462400"/>
                <a:ext cx="157464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16400" y="2522880"/>
                <a:ext cx="157464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16400" y="2581560"/>
                <a:ext cx="157464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6400" y="2642040"/>
                <a:ext cx="157464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316400" y="2702160"/>
                <a:ext cx="157464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16400" y="2760840"/>
                <a:ext cx="157464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16400" y="2819520"/>
                <a:ext cx="157464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16400" y="2880000"/>
                <a:ext cx="157464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16400" y="2938680"/>
                <a:ext cx="157464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16400" y="2999160"/>
                <a:ext cx="157464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16400" y="3057840"/>
                <a:ext cx="157464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16400" y="3116520"/>
                <a:ext cx="157464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16400" y="3177000"/>
                <a:ext cx="157464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16400" y="3235680"/>
                <a:ext cx="157464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16400" y="3295800"/>
                <a:ext cx="157464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316400" y="3354480"/>
                <a:ext cx="157464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316400" y="3414960"/>
                <a:ext cx="157464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316400" y="3473640"/>
                <a:ext cx="157464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16400" y="3532320"/>
                <a:ext cx="157464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16400" y="3592800"/>
                <a:ext cx="157464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16400" y="3651480"/>
                <a:ext cx="157464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316400" y="3711960"/>
                <a:ext cx="157464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316400" y="3770640"/>
                <a:ext cx="157464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16400" y="3829320"/>
                <a:ext cx="157464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316400" y="3889800"/>
                <a:ext cx="157464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6400" y="3948480"/>
                <a:ext cx="157464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16400" y="4008600"/>
                <a:ext cx="157464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16400" y="1216440"/>
                <a:ext cx="157464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472f17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316400" y="1216440"/>
                <a:ext cx="157464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16400" y="12164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16400" y="1275120"/>
                <a:ext cx="157464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16400" y="13352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16400" y="1393920"/>
                <a:ext cx="157464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16400" y="1454400"/>
                <a:ext cx="157464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16400" y="1513080"/>
                <a:ext cx="157464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16400" y="1571760"/>
                <a:ext cx="157464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16400" y="1632240"/>
                <a:ext cx="157464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16400" y="1690920"/>
                <a:ext cx="157464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16400" y="1751400"/>
                <a:ext cx="157464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16400" y="1810080"/>
                <a:ext cx="157464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16400" y="1868760"/>
                <a:ext cx="157464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316400" y="1929240"/>
                <a:ext cx="157464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16400" y="1987920"/>
                <a:ext cx="157464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16400" y="2048040"/>
                <a:ext cx="157464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16400" y="2106720"/>
                <a:ext cx="157464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16400" y="2165760"/>
                <a:ext cx="157464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16400" y="2225880"/>
                <a:ext cx="157464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16400" y="2284560"/>
                <a:ext cx="157464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16400" y="2345040"/>
                <a:ext cx="157464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16400" y="2403720"/>
                <a:ext cx="157464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16400" y="2462400"/>
                <a:ext cx="157464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16400" y="2522880"/>
                <a:ext cx="157464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16400" y="2581560"/>
                <a:ext cx="157464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16400" y="2642040"/>
                <a:ext cx="157464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16400" y="2702160"/>
                <a:ext cx="157464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316400" y="2760840"/>
                <a:ext cx="157464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16400" y="2819520"/>
                <a:ext cx="157464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16400" y="2880000"/>
                <a:ext cx="157464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316400" y="2938680"/>
                <a:ext cx="157464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16400" y="2999160"/>
                <a:ext cx="157464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316400" y="3057840"/>
                <a:ext cx="157464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16400" y="3116520"/>
                <a:ext cx="157464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16400" y="3177000"/>
                <a:ext cx="157464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16400" y="3235680"/>
                <a:ext cx="157464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16400" y="3295800"/>
                <a:ext cx="157464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16400" y="3354480"/>
                <a:ext cx="157464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16400" y="3414960"/>
                <a:ext cx="157464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16400" y="3473640"/>
                <a:ext cx="157464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16400" y="3532320"/>
                <a:ext cx="157464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316400" y="3592800"/>
                <a:ext cx="157464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16400" y="3651480"/>
                <a:ext cx="157464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16400" y="3711960"/>
                <a:ext cx="157464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16400" y="3770640"/>
                <a:ext cx="157464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16400" y="3829320"/>
                <a:ext cx="157464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16400" y="3889800"/>
                <a:ext cx="157464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16400" y="3948480"/>
                <a:ext cx="157464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6400" y="4008600"/>
                <a:ext cx="157464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4302000" y="1200240"/>
              <a:ext cx="1605240" cy="2870280"/>
            </a:xfrm>
            <a:custGeom>
              <a:avLst/>
              <a:gdLst/>
              <a:ahLst/>
              <a:rect l="l" t="t" r="r" b="b"/>
              <a:pathLst>
                <a:path w="2021" h="3615">
                  <a:moveTo>
                    <a:pt x="0" y="3286"/>
                  </a:moveTo>
                  <a:lnTo>
                    <a:pt x="39" y="3294"/>
                  </a:lnTo>
                  <a:lnTo>
                    <a:pt x="662" y="24"/>
                  </a:lnTo>
                  <a:lnTo>
                    <a:pt x="642" y="20"/>
                  </a:lnTo>
                  <a:lnTo>
                    <a:pt x="642" y="40"/>
                  </a:lnTo>
                  <a:lnTo>
                    <a:pt x="649" y="39"/>
                  </a:lnTo>
                  <a:lnTo>
                    <a:pt x="656" y="34"/>
                  </a:lnTo>
                  <a:lnTo>
                    <a:pt x="661" y="28"/>
                  </a:lnTo>
                  <a:lnTo>
                    <a:pt x="642" y="40"/>
                  </a:lnTo>
                  <a:lnTo>
                    <a:pt x="1265" y="40"/>
                  </a:lnTo>
                  <a:lnTo>
                    <a:pt x="1265" y="20"/>
                  </a:lnTo>
                  <a:lnTo>
                    <a:pt x="1246" y="28"/>
                  </a:lnTo>
                  <a:lnTo>
                    <a:pt x="1250" y="34"/>
                  </a:lnTo>
                  <a:lnTo>
                    <a:pt x="1257" y="39"/>
                  </a:lnTo>
                  <a:lnTo>
                    <a:pt x="1246" y="24"/>
                  </a:lnTo>
                  <a:lnTo>
                    <a:pt x="1982" y="3615"/>
                  </a:lnTo>
                  <a:lnTo>
                    <a:pt x="2021" y="3607"/>
                  </a:lnTo>
                  <a:lnTo>
                    <a:pt x="1285" y="16"/>
                  </a:lnTo>
                  <a:lnTo>
                    <a:pt x="1284" y="12"/>
                  </a:lnTo>
                  <a:lnTo>
                    <a:pt x="1279" y="5"/>
                  </a:lnTo>
                  <a:lnTo>
                    <a:pt x="1272" y="2"/>
                  </a:lnTo>
                  <a:lnTo>
                    <a:pt x="1265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34" y="2"/>
                  </a:lnTo>
                  <a:lnTo>
                    <a:pt x="627" y="5"/>
                  </a:lnTo>
                  <a:lnTo>
                    <a:pt x="624" y="12"/>
                  </a:lnTo>
                  <a:lnTo>
                    <a:pt x="622" y="20"/>
                  </a:lnTo>
                  <a:lnTo>
                    <a:pt x="623" y="16"/>
                  </a:lnTo>
                  <a:lnTo>
                    <a:pt x="0" y="3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924200" y="2616120"/>
            <a:ext cx="5132160" cy="1811520"/>
          </a:xfrm>
          <a:custGeom>
            <a:avLst/>
            <a:gdLst/>
            <a:ahLst/>
            <a:rect l="l" t="t" r="r" b="b"/>
            <a:pathLst>
              <a:path w="6466" h="2282">
                <a:moveTo>
                  <a:pt x="6426" y="2282"/>
                </a:moveTo>
                <a:lnTo>
                  <a:pt x="0" y="2282"/>
                </a:lnTo>
                <a:lnTo>
                  <a:pt x="1" y="1998"/>
                </a:lnTo>
                <a:lnTo>
                  <a:pt x="1" y="1714"/>
                </a:lnTo>
                <a:lnTo>
                  <a:pt x="2" y="1146"/>
                </a:lnTo>
                <a:lnTo>
                  <a:pt x="2" y="862"/>
                </a:lnTo>
                <a:lnTo>
                  <a:pt x="5" y="579"/>
                </a:lnTo>
                <a:lnTo>
                  <a:pt x="8" y="295"/>
                </a:lnTo>
                <a:lnTo>
                  <a:pt x="14" y="12"/>
                </a:lnTo>
                <a:lnTo>
                  <a:pt x="15" y="6"/>
                </a:lnTo>
                <a:lnTo>
                  <a:pt x="16" y="3"/>
                </a:lnTo>
                <a:lnTo>
                  <a:pt x="18" y="0"/>
                </a:lnTo>
                <a:lnTo>
                  <a:pt x="21" y="0"/>
                </a:lnTo>
                <a:lnTo>
                  <a:pt x="25" y="1"/>
                </a:lnTo>
                <a:lnTo>
                  <a:pt x="29" y="5"/>
                </a:lnTo>
                <a:lnTo>
                  <a:pt x="39" y="12"/>
                </a:lnTo>
                <a:lnTo>
                  <a:pt x="51" y="22"/>
                </a:lnTo>
                <a:lnTo>
                  <a:pt x="65" y="33"/>
                </a:lnTo>
                <a:lnTo>
                  <a:pt x="79" y="44"/>
                </a:lnTo>
                <a:lnTo>
                  <a:pt x="95" y="52"/>
                </a:lnTo>
                <a:lnTo>
                  <a:pt x="127" y="64"/>
                </a:lnTo>
                <a:lnTo>
                  <a:pt x="161" y="74"/>
                </a:lnTo>
                <a:lnTo>
                  <a:pt x="196" y="83"/>
                </a:lnTo>
                <a:lnTo>
                  <a:pt x="230" y="93"/>
                </a:lnTo>
                <a:lnTo>
                  <a:pt x="284" y="110"/>
                </a:lnTo>
                <a:lnTo>
                  <a:pt x="337" y="124"/>
                </a:lnTo>
                <a:lnTo>
                  <a:pt x="390" y="137"/>
                </a:lnTo>
                <a:lnTo>
                  <a:pt x="442" y="147"/>
                </a:lnTo>
                <a:lnTo>
                  <a:pt x="495" y="154"/>
                </a:lnTo>
                <a:lnTo>
                  <a:pt x="549" y="162"/>
                </a:lnTo>
                <a:lnTo>
                  <a:pt x="604" y="169"/>
                </a:lnTo>
                <a:lnTo>
                  <a:pt x="662" y="176"/>
                </a:lnTo>
                <a:lnTo>
                  <a:pt x="673" y="177"/>
                </a:lnTo>
                <a:lnTo>
                  <a:pt x="684" y="179"/>
                </a:lnTo>
                <a:lnTo>
                  <a:pt x="710" y="185"/>
                </a:lnTo>
                <a:lnTo>
                  <a:pt x="737" y="191"/>
                </a:lnTo>
                <a:lnTo>
                  <a:pt x="764" y="198"/>
                </a:lnTo>
                <a:lnTo>
                  <a:pt x="787" y="205"/>
                </a:lnTo>
                <a:lnTo>
                  <a:pt x="797" y="208"/>
                </a:lnTo>
                <a:lnTo>
                  <a:pt x="806" y="210"/>
                </a:lnTo>
                <a:lnTo>
                  <a:pt x="814" y="213"/>
                </a:lnTo>
                <a:lnTo>
                  <a:pt x="820" y="215"/>
                </a:lnTo>
                <a:lnTo>
                  <a:pt x="823" y="216"/>
                </a:lnTo>
                <a:lnTo>
                  <a:pt x="824" y="216"/>
                </a:lnTo>
                <a:lnTo>
                  <a:pt x="839" y="235"/>
                </a:lnTo>
                <a:lnTo>
                  <a:pt x="854" y="252"/>
                </a:lnTo>
                <a:lnTo>
                  <a:pt x="874" y="266"/>
                </a:lnTo>
                <a:lnTo>
                  <a:pt x="894" y="281"/>
                </a:lnTo>
                <a:lnTo>
                  <a:pt x="918" y="293"/>
                </a:lnTo>
                <a:lnTo>
                  <a:pt x="942" y="304"/>
                </a:lnTo>
                <a:lnTo>
                  <a:pt x="968" y="314"/>
                </a:lnTo>
                <a:lnTo>
                  <a:pt x="994" y="323"/>
                </a:lnTo>
                <a:lnTo>
                  <a:pt x="1048" y="339"/>
                </a:lnTo>
                <a:lnTo>
                  <a:pt x="1102" y="351"/>
                </a:lnTo>
                <a:lnTo>
                  <a:pt x="1129" y="355"/>
                </a:lnTo>
                <a:lnTo>
                  <a:pt x="1154" y="360"/>
                </a:lnTo>
                <a:lnTo>
                  <a:pt x="1179" y="363"/>
                </a:lnTo>
                <a:lnTo>
                  <a:pt x="1201" y="367"/>
                </a:lnTo>
                <a:lnTo>
                  <a:pt x="1219" y="373"/>
                </a:lnTo>
                <a:lnTo>
                  <a:pt x="1236" y="379"/>
                </a:lnTo>
                <a:lnTo>
                  <a:pt x="1250" y="386"/>
                </a:lnTo>
                <a:lnTo>
                  <a:pt x="1263" y="391"/>
                </a:lnTo>
                <a:lnTo>
                  <a:pt x="1275" y="398"/>
                </a:lnTo>
                <a:lnTo>
                  <a:pt x="1286" y="403"/>
                </a:lnTo>
                <a:lnTo>
                  <a:pt x="1306" y="417"/>
                </a:lnTo>
                <a:lnTo>
                  <a:pt x="1325" y="431"/>
                </a:lnTo>
                <a:lnTo>
                  <a:pt x="1348" y="448"/>
                </a:lnTo>
                <a:lnTo>
                  <a:pt x="1360" y="457"/>
                </a:lnTo>
                <a:lnTo>
                  <a:pt x="1373" y="467"/>
                </a:lnTo>
                <a:lnTo>
                  <a:pt x="1388" y="478"/>
                </a:lnTo>
                <a:lnTo>
                  <a:pt x="1405" y="489"/>
                </a:lnTo>
                <a:lnTo>
                  <a:pt x="1408" y="491"/>
                </a:lnTo>
                <a:lnTo>
                  <a:pt x="1412" y="493"/>
                </a:lnTo>
                <a:lnTo>
                  <a:pt x="1424" y="497"/>
                </a:lnTo>
                <a:lnTo>
                  <a:pt x="1438" y="501"/>
                </a:lnTo>
                <a:lnTo>
                  <a:pt x="1454" y="505"/>
                </a:lnTo>
                <a:lnTo>
                  <a:pt x="1468" y="510"/>
                </a:lnTo>
                <a:lnTo>
                  <a:pt x="1483" y="513"/>
                </a:lnTo>
                <a:lnTo>
                  <a:pt x="1488" y="515"/>
                </a:lnTo>
                <a:lnTo>
                  <a:pt x="1493" y="516"/>
                </a:lnTo>
                <a:lnTo>
                  <a:pt x="1496" y="516"/>
                </a:lnTo>
                <a:lnTo>
                  <a:pt x="1498" y="517"/>
                </a:lnTo>
                <a:lnTo>
                  <a:pt x="1518" y="524"/>
                </a:lnTo>
                <a:lnTo>
                  <a:pt x="1539" y="533"/>
                </a:lnTo>
                <a:lnTo>
                  <a:pt x="1559" y="540"/>
                </a:lnTo>
                <a:lnTo>
                  <a:pt x="1570" y="542"/>
                </a:lnTo>
                <a:lnTo>
                  <a:pt x="1580" y="544"/>
                </a:lnTo>
                <a:lnTo>
                  <a:pt x="1595" y="546"/>
                </a:lnTo>
                <a:lnTo>
                  <a:pt x="1613" y="549"/>
                </a:lnTo>
                <a:lnTo>
                  <a:pt x="1632" y="551"/>
                </a:lnTo>
                <a:lnTo>
                  <a:pt x="1651" y="553"/>
                </a:lnTo>
                <a:lnTo>
                  <a:pt x="1691" y="558"/>
                </a:lnTo>
                <a:lnTo>
                  <a:pt x="1732" y="562"/>
                </a:lnTo>
                <a:lnTo>
                  <a:pt x="1750" y="564"/>
                </a:lnTo>
                <a:lnTo>
                  <a:pt x="1766" y="565"/>
                </a:lnTo>
                <a:lnTo>
                  <a:pt x="1782" y="568"/>
                </a:lnTo>
                <a:lnTo>
                  <a:pt x="1795" y="569"/>
                </a:lnTo>
                <a:lnTo>
                  <a:pt x="1806" y="570"/>
                </a:lnTo>
                <a:lnTo>
                  <a:pt x="1815" y="571"/>
                </a:lnTo>
                <a:lnTo>
                  <a:pt x="1820" y="572"/>
                </a:lnTo>
                <a:lnTo>
                  <a:pt x="1822" y="572"/>
                </a:lnTo>
                <a:lnTo>
                  <a:pt x="1834" y="575"/>
                </a:lnTo>
                <a:lnTo>
                  <a:pt x="1846" y="578"/>
                </a:lnTo>
                <a:lnTo>
                  <a:pt x="1864" y="582"/>
                </a:lnTo>
                <a:lnTo>
                  <a:pt x="1880" y="587"/>
                </a:lnTo>
                <a:lnTo>
                  <a:pt x="1892" y="589"/>
                </a:lnTo>
                <a:lnTo>
                  <a:pt x="1904" y="592"/>
                </a:lnTo>
                <a:lnTo>
                  <a:pt x="1911" y="593"/>
                </a:lnTo>
                <a:lnTo>
                  <a:pt x="1918" y="596"/>
                </a:lnTo>
                <a:lnTo>
                  <a:pt x="1925" y="598"/>
                </a:lnTo>
                <a:lnTo>
                  <a:pt x="1937" y="601"/>
                </a:lnTo>
                <a:lnTo>
                  <a:pt x="1944" y="603"/>
                </a:lnTo>
                <a:lnTo>
                  <a:pt x="1953" y="607"/>
                </a:lnTo>
                <a:lnTo>
                  <a:pt x="1963" y="610"/>
                </a:lnTo>
                <a:lnTo>
                  <a:pt x="1976" y="615"/>
                </a:lnTo>
                <a:lnTo>
                  <a:pt x="1992" y="620"/>
                </a:lnTo>
                <a:lnTo>
                  <a:pt x="2012" y="627"/>
                </a:lnTo>
                <a:lnTo>
                  <a:pt x="2023" y="632"/>
                </a:lnTo>
                <a:lnTo>
                  <a:pt x="2032" y="640"/>
                </a:lnTo>
                <a:lnTo>
                  <a:pt x="2042" y="647"/>
                </a:lnTo>
                <a:lnTo>
                  <a:pt x="2052" y="654"/>
                </a:lnTo>
                <a:lnTo>
                  <a:pt x="2062" y="658"/>
                </a:lnTo>
                <a:lnTo>
                  <a:pt x="2072" y="661"/>
                </a:lnTo>
                <a:lnTo>
                  <a:pt x="2093" y="666"/>
                </a:lnTo>
                <a:lnTo>
                  <a:pt x="2115" y="673"/>
                </a:lnTo>
                <a:lnTo>
                  <a:pt x="2125" y="676"/>
                </a:lnTo>
                <a:lnTo>
                  <a:pt x="2134" y="682"/>
                </a:lnTo>
                <a:lnTo>
                  <a:pt x="2174" y="709"/>
                </a:lnTo>
                <a:lnTo>
                  <a:pt x="2214" y="736"/>
                </a:lnTo>
                <a:lnTo>
                  <a:pt x="2219" y="740"/>
                </a:lnTo>
                <a:lnTo>
                  <a:pt x="2226" y="744"/>
                </a:lnTo>
                <a:lnTo>
                  <a:pt x="2240" y="753"/>
                </a:lnTo>
                <a:lnTo>
                  <a:pt x="2245" y="757"/>
                </a:lnTo>
                <a:lnTo>
                  <a:pt x="2250" y="760"/>
                </a:lnTo>
                <a:lnTo>
                  <a:pt x="2253" y="762"/>
                </a:lnTo>
                <a:lnTo>
                  <a:pt x="2254" y="763"/>
                </a:lnTo>
                <a:lnTo>
                  <a:pt x="2257" y="775"/>
                </a:lnTo>
                <a:lnTo>
                  <a:pt x="2261" y="784"/>
                </a:lnTo>
                <a:lnTo>
                  <a:pt x="2263" y="791"/>
                </a:lnTo>
                <a:lnTo>
                  <a:pt x="2264" y="797"/>
                </a:lnTo>
                <a:lnTo>
                  <a:pt x="2265" y="800"/>
                </a:lnTo>
                <a:lnTo>
                  <a:pt x="2266" y="803"/>
                </a:lnTo>
                <a:lnTo>
                  <a:pt x="2269" y="804"/>
                </a:lnTo>
                <a:lnTo>
                  <a:pt x="2272" y="804"/>
                </a:lnTo>
                <a:lnTo>
                  <a:pt x="2274" y="805"/>
                </a:lnTo>
                <a:lnTo>
                  <a:pt x="2279" y="805"/>
                </a:lnTo>
                <a:lnTo>
                  <a:pt x="2284" y="807"/>
                </a:lnTo>
                <a:lnTo>
                  <a:pt x="2291" y="809"/>
                </a:lnTo>
                <a:lnTo>
                  <a:pt x="2299" y="812"/>
                </a:lnTo>
                <a:lnTo>
                  <a:pt x="2309" y="818"/>
                </a:lnTo>
                <a:lnTo>
                  <a:pt x="2329" y="832"/>
                </a:lnTo>
                <a:lnTo>
                  <a:pt x="2348" y="848"/>
                </a:lnTo>
                <a:lnTo>
                  <a:pt x="2368" y="862"/>
                </a:lnTo>
                <a:lnTo>
                  <a:pt x="2378" y="868"/>
                </a:lnTo>
                <a:lnTo>
                  <a:pt x="2389" y="872"/>
                </a:lnTo>
                <a:lnTo>
                  <a:pt x="2426" y="885"/>
                </a:lnTo>
                <a:lnTo>
                  <a:pt x="2462" y="897"/>
                </a:lnTo>
                <a:lnTo>
                  <a:pt x="2495" y="907"/>
                </a:lnTo>
                <a:lnTo>
                  <a:pt x="2529" y="917"/>
                </a:lnTo>
                <a:lnTo>
                  <a:pt x="2562" y="925"/>
                </a:lnTo>
                <a:lnTo>
                  <a:pt x="2597" y="932"/>
                </a:lnTo>
                <a:lnTo>
                  <a:pt x="2634" y="937"/>
                </a:lnTo>
                <a:lnTo>
                  <a:pt x="2673" y="942"/>
                </a:lnTo>
                <a:lnTo>
                  <a:pt x="2734" y="945"/>
                </a:lnTo>
                <a:lnTo>
                  <a:pt x="2794" y="948"/>
                </a:lnTo>
                <a:lnTo>
                  <a:pt x="2855" y="952"/>
                </a:lnTo>
                <a:lnTo>
                  <a:pt x="2916" y="955"/>
                </a:lnTo>
                <a:lnTo>
                  <a:pt x="2983" y="962"/>
                </a:lnTo>
                <a:lnTo>
                  <a:pt x="3051" y="968"/>
                </a:lnTo>
                <a:lnTo>
                  <a:pt x="3078" y="979"/>
                </a:lnTo>
                <a:lnTo>
                  <a:pt x="3105" y="990"/>
                </a:lnTo>
                <a:lnTo>
                  <a:pt x="3154" y="1014"/>
                </a:lnTo>
                <a:lnTo>
                  <a:pt x="3203" y="1040"/>
                </a:lnTo>
                <a:lnTo>
                  <a:pt x="3228" y="1052"/>
                </a:lnTo>
                <a:lnTo>
                  <a:pt x="3253" y="1065"/>
                </a:lnTo>
                <a:lnTo>
                  <a:pt x="3278" y="1073"/>
                </a:lnTo>
                <a:lnTo>
                  <a:pt x="3305" y="1081"/>
                </a:lnTo>
                <a:lnTo>
                  <a:pt x="3333" y="1087"/>
                </a:lnTo>
                <a:lnTo>
                  <a:pt x="3360" y="1091"/>
                </a:lnTo>
                <a:lnTo>
                  <a:pt x="3416" y="1099"/>
                </a:lnTo>
                <a:lnTo>
                  <a:pt x="3444" y="1102"/>
                </a:lnTo>
                <a:lnTo>
                  <a:pt x="3470" y="1106"/>
                </a:lnTo>
                <a:lnTo>
                  <a:pt x="3525" y="1123"/>
                </a:lnTo>
                <a:lnTo>
                  <a:pt x="3579" y="1138"/>
                </a:lnTo>
                <a:lnTo>
                  <a:pt x="3635" y="1153"/>
                </a:lnTo>
                <a:lnTo>
                  <a:pt x="3691" y="1166"/>
                </a:lnTo>
                <a:lnTo>
                  <a:pt x="3804" y="1191"/>
                </a:lnTo>
                <a:lnTo>
                  <a:pt x="3915" y="1215"/>
                </a:lnTo>
                <a:lnTo>
                  <a:pt x="3986" y="1232"/>
                </a:lnTo>
                <a:lnTo>
                  <a:pt x="4056" y="1250"/>
                </a:lnTo>
                <a:lnTo>
                  <a:pt x="4127" y="1268"/>
                </a:lnTo>
                <a:lnTo>
                  <a:pt x="4199" y="1283"/>
                </a:lnTo>
                <a:lnTo>
                  <a:pt x="4200" y="1283"/>
                </a:lnTo>
                <a:lnTo>
                  <a:pt x="4201" y="1283"/>
                </a:lnTo>
                <a:lnTo>
                  <a:pt x="4208" y="1284"/>
                </a:lnTo>
                <a:lnTo>
                  <a:pt x="4218" y="1287"/>
                </a:lnTo>
                <a:lnTo>
                  <a:pt x="4231" y="1289"/>
                </a:lnTo>
                <a:lnTo>
                  <a:pt x="4247" y="1291"/>
                </a:lnTo>
                <a:lnTo>
                  <a:pt x="4265" y="1295"/>
                </a:lnTo>
                <a:lnTo>
                  <a:pt x="4285" y="1298"/>
                </a:lnTo>
                <a:lnTo>
                  <a:pt x="4305" y="1301"/>
                </a:lnTo>
                <a:lnTo>
                  <a:pt x="4347" y="1308"/>
                </a:lnTo>
                <a:lnTo>
                  <a:pt x="4367" y="1311"/>
                </a:lnTo>
                <a:lnTo>
                  <a:pt x="4386" y="1315"/>
                </a:lnTo>
                <a:lnTo>
                  <a:pt x="4404" y="1318"/>
                </a:lnTo>
                <a:lnTo>
                  <a:pt x="4419" y="1320"/>
                </a:lnTo>
                <a:lnTo>
                  <a:pt x="4432" y="1322"/>
                </a:lnTo>
                <a:lnTo>
                  <a:pt x="4441" y="1325"/>
                </a:lnTo>
                <a:lnTo>
                  <a:pt x="4456" y="1327"/>
                </a:lnTo>
                <a:lnTo>
                  <a:pt x="4471" y="1329"/>
                </a:lnTo>
                <a:lnTo>
                  <a:pt x="4506" y="1334"/>
                </a:lnTo>
                <a:lnTo>
                  <a:pt x="4542" y="1338"/>
                </a:lnTo>
                <a:lnTo>
                  <a:pt x="4576" y="1343"/>
                </a:lnTo>
                <a:lnTo>
                  <a:pt x="4593" y="1345"/>
                </a:lnTo>
                <a:lnTo>
                  <a:pt x="4609" y="1346"/>
                </a:lnTo>
                <a:lnTo>
                  <a:pt x="4622" y="1348"/>
                </a:lnTo>
                <a:lnTo>
                  <a:pt x="4634" y="1349"/>
                </a:lnTo>
                <a:lnTo>
                  <a:pt x="4644" y="1350"/>
                </a:lnTo>
                <a:lnTo>
                  <a:pt x="4651" y="1350"/>
                </a:lnTo>
                <a:lnTo>
                  <a:pt x="4657" y="1351"/>
                </a:lnTo>
                <a:lnTo>
                  <a:pt x="4658" y="1351"/>
                </a:lnTo>
                <a:lnTo>
                  <a:pt x="4698" y="1364"/>
                </a:lnTo>
                <a:lnTo>
                  <a:pt x="4739" y="1373"/>
                </a:lnTo>
                <a:lnTo>
                  <a:pt x="4782" y="1381"/>
                </a:lnTo>
                <a:lnTo>
                  <a:pt x="4824" y="1386"/>
                </a:lnTo>
                <a:lnTo>
                  <a:pt x="4911" y="1396"/>
                </a:lnTo>
                <a:lnTo>
                  <a:pt x="4953" y="1401"/>
                </a:lnTo>
                <a:lnTo>
                  <a:pt x="4995" y="1406"/>
                </a:lnTo>
                <a:lnTo>
                  <a:pt x="5035" y="1420"/>
                </a:lnTo>
                <a:lnTo>
                  <a:pt x="5076" y="1434"/>
                </a:lnTo>
                <a:lnTo>
                  <a:pt x="5116" y="1448"/>
                </a:lnTo>
                <a:lnTo>
                  <a:pt x="5127" y="1452"/>
                </a:lnTo>
                <a:lnTo>
                  <a:pt x="5137" y="1456"/>
                </a:lnTo>
                <a:lnTo>
                  <a:pt x="5157" y="1468"/>
                </a:lnTo>
                <a:lnTo>
                  <a:pt x="5177" y="1480"/>
                </a:lnTo>
                <a:lnTo>
                  <a:pt x="5187" y="1484"/>
                </a:lnTo>
                <a:lnTo>
                  <a:pt x="5197" y="1489"/>
                </a:lnTo>
                <a:lnTo>
                  <a:pt x="5217" y="1510"/>
                </a:lnTo>
                <a:lnTo>
                  <a:pt x="5227" y="1520"/>
                </a:lnTo>
                <a:lnTo>
                  <a:pt x="5238" y="1529"/>
                </a:lnTo>
                <a:lnTo>
                  <a:pt x="5249" y="1538"/>
                </a:lnTo>
                <a:lnTo>
                  <a:pt x="5262" y="1547"/>
                </a:lnTo>
                <a:lnTo>
                  <a:pt x="5275" y="1556"/>
                </a:lnTo>
                <a:lnTo>
                  <a:pt x="5288" y="1565"/>
                </a:lnTo>
                <a:lnTo>
                  <a:pt x="5300" y="1573"/>
                </a:lnTo>
                <a:lnTo>
                  <a:pt x="5310" y="1578"/>
                </a:lnTo>
                <a:lnTo>
                  <a:pt x="5316" y="1583"/>
                </a:lnTo>
                <a:lnTo>
                  <a:pt x="5317" y="1584"/>
                </a:lnTo>
                <a:lnTo>
                  <a:pt x="5319" y="1584"/>
                </a:lnTo>
                <a:lnTo>
                  <a:pt x="5345" y="1625"/>
                </a:lnTo>
                <a:lnTo>
                  <a:pt x="5373" y="1666"/>
                </a:lnTo>
                <a:lnTo>
                  <a:pt x="5381" y="1675"/>
                </a:lnTo>
                <a:lnTo>
                  <a:pt x="5390" y="1683"/>
                </a:lnTo>
                <a:lnTo>
                  <a:pt x="5410" y="1697"/>
                </a:lnTo>
                <a:lnTo>
                  <a:pt x="5432" y="1709"/>
                </a:lnTo>
                <a:lnTo>
                  <a:pt x="5454" y="1721"/>
                </a:lnTo>
                <a:lnTo>
                  <a:pt x="5478" y="1736"/>
                </a:lnTo>
                <a:lnTo>
                  <a:pt x="5503" y="1749"/>
                </a:lnTo>
                <a:lnTo>
                  <a:pt x="5530" y="1760"/>
                </a:lnTo>
                <a:lnTo>
                  <a:pt x="5559" y="1769"/>
                </a:lnTo>
                <a:lnTo>
                  <a:pt x="5586" y="1778"/>
                </a:lnTo>
                <a:lnTo>
                  <a:pt x="5617" y="1785"/>
                </a:lnTo>
                <a:lnTo>
                  <a:pt x="5677" y="1796"/>
                </a:lnTo>
                <a:lnTo>
                  <a:pt x="5738" y="1803"/>
                </a:lnTo>
                <a:lnTo>
                  <a:pt x="5800" y="1808"/>
                </a:lnTo>
                <a:lnTo>
                  <a:pt x="5858" y="1813"/>
                </a:lnTo>
                <a:lnTo>
                  <a:pt x="5886" y="1815"/>
                </a:lnTo>
                <a:lnTo>
                  <a:pt x="5912" y="1817"/>
                </a:lnTo>
                <a:lnTo>
                  <a:pt x="5989" y="1843"/>
                </a:lnTo>
                <a:lnTo>
                  <a:pt x="6068" y="1867"/>
                </a:lnTo>
                <a:lnTo>
                  <a:pt x="6145" y="1891"/>
                </a:lnTo>
                <a:lnTo>
                  <a:pt x="6223" y="1912"/>
                </a:lnTo>
                <a:lnTo>
                  <a:pt x="6235" y="1915"/>
                </a:lnTo>
                <a:lnTo>
                  <a:pt x="6248" y="1919"/>
                </a:lnTo>
                <a:lnTo>
                  <a:pt x="6264" y="1922"/>
                </a:lnTo>
                <a:lnTo>
                  <a:pt x="6280" y="1925"/>
                </a:lnTo>
                <a:lnTo>
                  <a:pt x="6314" y="1933"/>
                </a:lnTo>
                <a:lnTo>
                  <a:pt x="6350" y="1942"/>
                </a:lnTo>
                <a:lnTo>
                  <a:pt x="6386" y="1952"/>
                </a:lnTo>
                <a:lnTo>
                  <a:pt x="6403" y="1959"/>
                </a:lnTo>
                <a:lnTo>
                  <a:pt x="6418" y="1964"/>
                </a:lnTo>
                <a:lnTo>
                  <a:pt x="6433" y="1971"/>
                </a:lnTo>
                <a:lnTo>
                  <a:pt x="6445" y="1979"/>
                </a:lnTo>
                <a:lnTo>
                  <a:pt x="6457" y="1987"/>
                </a:lnTo>
                <a:lnTo>
                  <a:pt x="6466" y="1995"/>
                </a:lnTo>
                <a:lnTo>
                  <a:pt x="6426" y="2282"/>
                </a:lnTo>
                <a:close/>
              </a:path>
            </a:pathLst>
          </a:custGeom>
          <a:solidFill>
            <a:srgbClr val="00cc99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05120" y="1295280"/>
            <a:ext cx="2892240" cy="2052720"/>
            <a:chOff x="1905120" y="1295280"/>
            <a:chExt cx="2892240" cy="2052720"/>
          </a:xfrm>
        </p:grpSpPr>
        <p:sp>
          <p:nvSpPr>
            <p:cNvPr id="175" name=""/>
            <p:cNvSpPr/>
            <p:nvPr/>
          </p:nvSpPr>
          <p:spPr>
            <a:xfrm>
              <a:off x="1905120" y="1295280"/>
              <a:ext cx="289224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1295280"/>
              <a:ext cx="289224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1909800" y="1917720"/>
            <a:ext cx="2806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38320" y="1244520"/>
            <a:ext cx="1701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77200" y="1523880"/>
            <a:ext cx="257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Nível d’água (N.A.) máximo :  855,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79720" y="1882800"/>
            <a:ext cx="1830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59200" y="1457280"/>
            <a:ext cx="723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79840" y="2071800"/>
            <a:ext cx="1773360" cy="1820880"/>
          </a:xfrm>
          <a:custGeom>
            <a:avLst/>
            <a:gdLst/>
            <a:ahLst/>
            <a:rect l="l" t="t" r="r" b="b"/>
            <a:pathLst>
              <a:path w="2233" h="2292">
                <a:moveTo>
                  <a:pt x="118" y="18"/>
                </a:moveTo>
                <a:lnTo>
                  <a:pt x="139" y="30"/>
                </a:lnTo>
                <a:lnTo>
                  <a:pt x="162" y="42"/>
                </a:lnTo>
                <a:lnTo>
                  <a:pt x="186" y="57"/>
                </a:lnTo>
                <a:lnTo>
                  <a:pt x="213" y="72"/>
                </a:lnTo>
                <a:lnTo>
                  <a:pt x="241" y="89"/>
                </a:lnTo>
                <a:lnTo>
                  <a:pt x="271" y="109"/>
                </a:lnTo>
                <a:lnTo>
                  <a:pt x="302" y="132"/>
                </a:lnTo>
                <a:lnTo>
                  <a:pt x="336" y="156"/>
                </a:lnTo>
                <a:lnTo>
                  <a:pt x="369" y="184"/>
                </a:lnTo>
                <a:lnTo>
                  <a:pt x="404" y="215"/>
                </a:lnTo>
                <a:lnTo>
                  <a:pt x="441" y="251"/>
                </a:lnTo>
                <a:lnTo>
                  <a:pt x="478" y="290"/>
                </a:lnTo>
                <a:lnTo>
                  <a:pt x="496" y="311"/>
                </a:lnTo>
                <a:lnTo>
                  <a:pt x="515" y="334"/>
                </a:lnTo>
                <a:lnTo>
                  <a:pt x="534" y="357"/>
                </a:lnTo>
                <a:lnTo>
                  <a:pt x="552" y="382"/>
                </a:lnTo>
                <a:lnTo>
                  <a:pt x="573" y="407"/>
                </a:lnTo>
                <a:lnTo>
                  <a:pt x="592" y="435"/>
                </a:lnTo>
                <a:lnTo>
                  <a:pt x="612" y="463"/>
                </a:lnTo>
                <a:lnTo>
                  <a:pt x="631" y="493"/>
                </a:lnTo>
                <a:lnTo>
                  <a:pt x="651" y="526"/>
                </a:lnTo>
                <a:lnTo>
                  <a:pt x="671" y="560"/>
                </a:lnTo>
                <a:lnTo>
                  <a:pt x="691" y="598"/>
                </a:lnTo>
                <a:lnTo>
                  <a:pt x="712" y="638"/>
                </a:lnTo>
                <a:lnTo>
                  <a:pt x="733" y="681"/>
                </a:lnTo>
                <a:lnTo>
                  <a:pt x="755" y="727"/>
                </a:lnTo>
                <a:lnTo>
                  <a:pt x="776" y="774"/>
                </a:lnTo>
                <a:lnTo>
                  <a:pt x="798" y="822"/>
                </a:lnTo>
                <a:lnTo>
                  <a:pt x="820" y="872"/>
                </a:lnTo>
                <a:lnTo>
                  <a:pt x="843" y="923"/>
                </a:lnTo>
                <a:lnTo>
                  <a:pt x="866" y="976"/>
                </a:lnTo>
                <a:lnTo>
                  <a:pt x="889" y="1029"/>
                </a:lnTo>
                <a:lnTo>
                  <a:pt x="935" y="1139"/>
                </a:lnTo>
                <a:lnTo>
                  <a:pt x="982" y="1249"/>
                </a:lnTo>
                <a:lnTo>
                  <a:pt x="1030" y="1359"/>
                </a:lnTo>
                <a:lnTo>
                  <a:pt x="1078" y="1466"/>
                </a:lnTo>
                <a:lnTo>
                  <a:pt x="1103" y="1518"/>
                </a:lnTo>
                <a:lnTo>
                  <a:pt x="1127" y="1570"/>
                </a:lnTo>
                <a:lnTo>
                  <a:pt x="1151" y="1620"/>
                </a:lnTo>
                <a:lnTo>
                  <a:pt x="1175" y="1668"/>
                </a:lnTo>
                <a:lnTo>
                  <a:pt x="1200" y="1714"/>
                </a:lnTo>
                <a:lnTo>
                  <a:pt x="1225" y="1758"/>
                </a:lnTo>
                <a:lnTo>
                  <a:pt x="1249" y="1801"/>
                </a:lnTo>
                <a:lnTo>
                  <a:pt x="1274" y="1841"/>
                </a:lnTo>
                <a:lnTo>
                  <a:pt x="1297" y="1878"/>
                </a:lnTo>
                <a:lnTo>
                  <a:pt x="1322" y="1913"/>
                </a:lnTo>
                <a:lnTo>
                  <a:pt x="1346" y="1944"/>
                </a:lnTo>
                <a:lnTo>
                  <a:pt x="1370" y="1972"/>
                </a:lnTo>
                <a:lnTo>
                  <a:pt x="1394" y="1997"/>
                </a:lnTo>
                <a:lnTo>
                  <a:pt x="1420" y="2020"/>
                </a:lnTo>
                <a:lnTo>
                  <a:pt x="1446" y="2041"/>
                </a:lnTo>
                <a:lnTo>
                  <a:pt x="1472" y="2060"/>
                </a:lnTo>
                <a:lnTo>
                  <a:pt x="1500" y="2077"/>
                </a:lnTo>
                <a:lnTo>
                  <a:pt x="1528" y="2091"/>
                </a:lnTo>
                <a:lnTo>
                  <a:pt x="1556" y="2105"/>
                </a:lnTo>
                <a:lnTo>
                  <a:pt x="1585" y="2116"/>
                </a:lnTo>
                <a:lnTo>
                  <a:pt x="1614" y="2126"/>
                </a:lnTo>
                <a:lnTo>
                  <a:pt x="1643" y="2135"/>
                </a:lnTo>
                <a:lnTo>
                  <a:pt x="1672" y="2143"/>
                </a:lnTo>
                <a:lnTo>
                  <a:pt x="1702" y="2148"/>
                </a:lnTo>
                <a:lnTo>
                  <a:pt x="1760" y="2157"/>
                </a:lnTo>
                <a:lnTo>
                  <a:pt x="1818" y="2163"/>
                </a:lnTo>
                <a:lnTo>
                  <a:pt x="1874" y="2166"/>
                </a:lnTo>
                <a:lnTo>
                  <a:pt x="1928" y="2167"/>
                </a:lnTo>
                <a:lnTo>
                  <a:pt x="1979" y="2167"/>
                </a:lnTo>
                <a:lnTo>
                  <a:pt x="2026" y="2167"/>
                </a:lnTo>
                <a:lnTo>
                  <a:pt x="2048" y="2167"/>
                </a:lnTo>
                <a:lnTo>
                  <a:pt x="2070" y="2168"/>
                </a:lnTo>
                <a:lnTo>
                  <a:pt x="2089" y="2169"/>
                </a:lnTo>
                <a:lnTo>
                  <a:pt x="2108" y="2170"/>
                </a:lnTo>
                <a:lnTo>
                  <a:pt x="2124" y="2173"/>
                </a:lnTo>
                <a:lnTo>
                  <a:pt x="2140" y="2175"/>
                </a:lnTo>
                <a:lnTo>
                  <a:pt x="2154" y="2178"/>
                </a:lnTo>
                <a:lnTo>
                  <a:pt x="2167" y="2183"/>
                </a:lnTo>
                <a:lnTo>
                  <a:pt x="2188" y="2193"/>
                </a:lnTo>
                <a:lnTo>
                  <a:pt x="2205" y="2203"/>
                </a:lnTo>
                <a:lnTo>
                  <a:pt x="2217" y="2212"/>
                </a:lnTo>
                <a:lnTo>
                  <a:pt x="2226" y="2222"/>
                </a:lnTo>
                <a:lnTo>
                  <a:pt x="2230" y="2231"/>
                </a:lnTo>
                <a:lnTo>
                  <a:pt x="2233" y="2239"/>
                </a:lnTo>
                <a:lnTo>
                  <a:pt x="2232" y="2248"/>
                </a:lnTo>
                <a:lnTo>
                  <a:pt x="2227" y="2255"/>
                </a:lnTo>
                <a:lnTo>
                  <a:pt x="2220" y="2262"/>
                </a:lnTo>
                <a:lnTo>
                  <a:pt x="2210" y="2269"/>
                </a:lnTo>
                <a:lnTo>
                  <a:pt x="2198" y="2274"/>
                </a:lnTo>
                <a:lnTo>
                  <a:pt x="2185" y="2279"/>
                </a:lnTo>
                <a:lnTo>
                  <a:pt x="2168" y="2282"/>
                </a:lnTo>
                <a:lnTo>
                  <a:pt x="2150" y="2285"/>
                </a:lnTo>
                <a:lnTo>
                  <a:pt x="2131" y="2287"/>
                </a:lnTo>
                <a:lnTo>
                  <a:pt x="2110" y="2288"/>
                </a:lnTo>
                <a:lnTo>
                  <a:pt x="2099" y="2288"/>
                </a:lnTo>
                <a:lnTo>
                  <a:pt x="2086" y="2288"/>
                </a:lnTo>
                <a:lnTo>
                  <a:pt x="2058" y="2289"/>
                </a:lnTo>
                <a:lnTo>
                  <a:pt x="2027" y="2290"/>
                </a:lnTo>
                <a:lnTo>
                  <a:pt x="1993" y="2291"/>
                </a:lnTo>
                <a:lnTo>
                  <a:pt x="1955" y="2292"/>
                </a:lnTo>
                <a:lnTo>
                  <a:pt x="1914" y="2292"/>
                </a:lnTo>
                <a:lnTo>
                  <a:pt x="1872" y="2290"/>
                </a:lnTo>
                <a:lnTo>
                  <a:pt x="1829" y="2288"/>
                </a:lnTo>
                <a:lnTo>
                  <a:pt x="1785" y="2284"/>
                </a:lnTo>
                <a:lnTo>
                  <a:pt x="1739" y="2278"/>
                </a:lnTo>
                <a:lnTo>
                  <a:pt x="1695" y="2270"/>
                </a:lnTo>
                <a:lnTo>
                  <a:pt x="1650" y="2259"/>
                </a:lnTo>
                <a:lnTo>
                  <a:pt x="1606" y="2244"/>
                </a:lnTo>
                <a:lnTo>
                  <a:pt x="1563" y="2227"/>
                </a:lnTo>
                <a:lnTo>
                  <a:pt x="1523" y="2207"/>
                </a:lnTo>
                <a:lnTo>
                  <a:pt x="1484" y="2183"/>
                </a:lnTo>
                <a:lnTo>
                  <a:pt x="1465" y="2169"/>
                </a:lnTo>
                <a:lnTo>
                  <a:pt x="1447" y="2154"/>
                </a:lnTo>
                <a:lnTo>
                  <a:pt x="1409" y="2121"/>
                </a:lnTo>
                <a:lnTo>
                  <a:pt x="1371" y="2084"/>
                </a:lnTo>
                <a:lnTo>
                  <a:pt x="1334" y="2045"/>
                </a:lnTo>
                <a:lnTo>
                  <a:pt x="1296" y="2002"/>
                </a:lnTo>
                <a:lnTo>
                  <a:pt x="1259" y="1956"/>
                </a:lnTo>
                <a:lnTo>
                  <a:pt x="1222" y="1909"/>
                </a:lnTo>
                <a:lnTo>
                  <a:pt x="1185" y="1859"/>
                </a:lnTo>
                <a:lnTo>
                  <a:pt x="1149" y="1809"/>
                </a:lnTo>
                <a:lnTo>
                  <a:pt x="1113" y="1756"/>
                </a:lnTo>
                <a:lnTo>
                  <a:pt x="1044" y="1650"/>
                </a:lnTo>
                <a:lnTo>
                  <a:pt x="978" y="1545"/>
                </a:lnTo>
                <a:lnTo>
                  <a:pt x="947" y="1494"/>
                </a:lnTo>
                <a:lnTo>
                  <a:pt x="915" y="1444"/>
                </a:lnTo>
                <a:lnTo>
                  <a:pt x="886" y="1392"/>
                </a:lnTo>
                <a:lnTo>
                  <a:pt x="857" y="1339"/>
                </a:lnTo>
                <a:lnTo>
                  <a:pt x="830" y="1283"/>
                </a:lnTo>
                <a:lnTo>
                  <a:pt x="805" y="1226"/>
                </a:lnTo>
                <a:lnTo>
                  <a:pt x="756" y="1109"/>
                </a:lnTo>
                <a:lnTo>
                  <a:pt x="709" y="991"/>
                </a:lnTo>
                <a:lnTo>
                  <a:pt x="685" y="933"/>
                </a:lnTo>
                <a:lnTo>
                  <a:pt x="663" y="877"/>
                </a:lnTo>
                <a:lnTo>
                  <a:pt x="640" y="823"/>
                </a:lnTo>
                <a:lnTo>
                  <a:pt x="616" y="771"/>
                </a:lnTo>
                <a:lnTo>
                  <a:pt x="593" y="722"/>
                </a:lnTo>
                <a:lnTo>
                  <a:pt x="568" y="676"/>
                </a:lnTo>
                <a:lnTo>
                  <a:pt x="542" y="635"/>
                </a:lnTo>
                <a:lnTo>
                  <a:pt x="530" y="616"/>
                </a:lnTo>
                <a:lnTo>
                  <a:pt x="517" y="598"/>
                </a:lnTo>
                <a:lnTo>
                  <a:pt x="489" y="566"/>
                </a:lnTo>
                <a:lnTo>
                  <a:pt x="460" y="537"/>
                </a:lnTo>
                <a:lnTo>
                  <a:pt x="430" y="512"/>
                </a:lnTo>
                <a:lnTo>
                  <a:pt x="398" y="491"/>
                </a:lnTo>
                <a:lnTo>
                  <a:pt x="366" y="471"/>
                </a:lnTo>
                <a:lnTo>
                  <a:pt x="333" y="455"/>
                </a:lnTo>
                <a:lnTo>
                  <a:pt x="300" y="440"/>
                </a:lnTo>
                <a:lnTo>
                  <a:pt x="268" y="427"/>
                </a:lnTo>
                <a:lnTo>
                  <a:pt x="237" y="415"/>
                </a:lnTo>
                <a:lnTo>
                  <a:pt x="205" y="404"/>
                </a:lnTo>
                <a:lnTo>
                  <a:pt x="176" y="394"/>
                </a:lnTo>
                <a:lnTo>
                  <a:pt x="148" y="384"/>
                </a:lnTo>
                <a:lnTo>
                  <a:pt x="123" y="373"/>
                </a:lnTo>
                <a:lnTo>
                  <a:pt x="99" y="362"/>
                </a:lnTo>
                <a:lnTo>
                  <a:pt x="79" y="349"/>
                </a:lnTo>
                <a:lnTo>
                  <a:pt x="61" y="335"/>
                </a:lnTo>
                <a:lnTo>
                  <a:pt x="47" y="320"/>
                </a:lnTo>
                <a:lnTo>
                  <a:pt x="34" y="305"/>
                </a:lnTo>
                <a:lnTo>
                  <a:pt x="24" y="290"/>
                </a:lnTo>
                <a:lnTo>
                  <a:pt x="17" y="276"/>
                </a:lnTo>
                <a:lnTo>
                  <a:pt x="11" y="261"/>
                </a:lnTo>
                <a:lnTo>
                  <a:pt x="5" y="247"/>
                </a:lnTo>
                <a:lnTo>
                  <a:pt x="3" y="233"/>
                </a:lnTo>
                <a:lnTo>
                  <a:pt x="1" y="220"/>
                </a:lnTo>
                <a:lnTo>
                  <a:pt x="0" y="193"/>
                </a:lnTo>
                <a:lnTo>
                  <a:pt x="1" y="167"/>
                </a:lnTo>
                <a:lnTo>
                  <a:pt x="3" y="145"/>
                </a:lnTo>
                <a:lnTo>
                  <a:pt x="4" y="124"/>
                </a:lnTo>
                <a:lnTo>
                  <a:pt x="4" y="113"/>
                </a:lnTo>
                <a:lnTo>
                  <a:pt x="5" y="101"/>
                </a:lnTo>
                <a:lnTo>
                  <a:pt x="8" y="76"/>
                </a:lnTo>
                <a:lnTo>
                  <a:pt x="13" y="50"/>
                </a:lnTo>
                <a:lnTo>
                  <a:pt x="17" y="39"/>
                </a:lnTo>
                <a:lnTo>
                  <a:pt x="22" y="28"/>
                </a:lnTo>
                <a:lnTo>
                  <a:pt x="29" y="18"/>
                </a:lnTo>
                <a:lnTo>
                  <a:pt x="37" y="10"/>
                </a:lnTo>
                <a:lnTo>
                  <a:pt x="46" y="4"/>
                </a:lnTo>
                <a:lnTo>
                  <a:pt x="57" y="1"/>
                </a:lnTo>
                <a:lnTo>
                  <a:pt x="69" y="0"/>
                </a:lnTo>
                <a:lnTo>
                  <a:pt x="84" y="2"/>
                </a:lnTo>
                <a:lnTo>
                  <a:pt x="100" y="9"/>
                </a:lnTo>
                <a:lnTo>
                  <a:pt x="118" y="18"/>
                </a:lnTo>
                <a:close/>
              </a:path>
            </a:pathLst>
          </a:custGeom>
          <a:solidFill>
            <a:srgbClr val="66ffff"/>
          </a:solidFill>
          <a:ln w="46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21440" y="3576600"/>
            <a:ext cx="425520" cy="384120"/>
          </a:xfrm>
          <a:prstGeom prst="rect">
            <a:avLst/>
          </a:prstGeom>
          <a:solidFill>
            <a:srgbClr val="00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232680" y="3787920"/>
            <a:ext cx="788760" cy="379440"/>
            <a:chOff x="6232680" y="3787920"/>
            <a:chExt cx="788760" cy="379440"/>
          </a:xfrm>
        </p:grpSpPr>
        <p:sp>
          <p:nvSpPr>
            <p:cNvPr id="185" name=""/>
            <p:cNvSpPr/>
            <p:nvPr/>
          </p:nvSpPr>
          <p:spPr>
            <a:xfrm>
              <a:off x="6232680" y="3787920"/>
              <a:ext cx="78876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32680" y="3787920"/>
              <a:ext cx="78876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4419720" y="3065400"/>
            <a:ext cx="766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04120" y="3772080"/>
            <a:ext cx="59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83680" y="380376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nal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77280" y="394020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u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78600" y="3576600"/>
            <a:ext cx="511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42680" y="3608280"/>
            <a:ext cx="38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s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90560" y="3745080"/>
            <a:ext cx="28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orç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808600" y="2763720"/>
            <a:ext cx="1046160" cy="674640"/>
            <a:chOff x="5808600" y="2763720"/>
            <a:chExt cx="1046160" cy="674640"/>
          </a:xfrm>
        </p:grpSpPr>
        <p:sp>
          <p:nvSpPr>
            <p:cNvPr id="195" name=""/>
            <p:cNvSpPr/>
            <p:nvPr/>
          </p:nvSpPr>
          <p:spPr>
            <a:xfrm>
              <a:off x="5808600" y="2763720"/>
              <a:ext cx="1046160" cy="674640"/>
            </a:xfrm>
            <a:custGeom>
              <a:avLst/>
              <a:gdLst/>
              <a:ahLst/>
              <a:rect l="l" t="t" r="r" b="b"/>
              <a:pathLst>
                <a:path w="1319" h="849">
                  <a:moveTo>
                    <a:pt x="1122" y="430"/>
                  </a:moveTo>
                  <a:lnTo>
                    <a:pt x="1063" y="535"/>
                  </a:lnTo>
                  <a:lnTo>
                    <a:pt x="119" y="0"/>
                  </a:lnTo>
                  <a:lnTo>
                    <a:pt x="0" y="210"/>
                  </a:lnTo>
                  <a:lnTo>
                    <a:pt x="945" y="745"/>
                  </a:lnTo>
                  <a:lnTo>
                    <a:pt x="884" y="849"/>
                  </a:lnTo>
                  <a:lnTo>
                    <a:pt x="1319" y="817"/>
                  </a:lnTo>
                  <a:lnTo>
                    <a:pt x="1122" y="430"/>
                  </a:lnTo>
                  <a:close/>
                </a:path>
              </a:pathLst>
            </a:custGeom>
            <a:solidFill>
              <a:srgbClr val="3333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40000">
              <a:off x="5869440" y="289080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Vazã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740000">
              <a:off x="6184080" y="310788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333399"/>
                  </a:solidFill>
                  <a:latin typeface="Times New Roman"/>
                </a:rPr>
                <a:t>Deflu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973240" y="2171880"/>
            <a:ext cx="14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25080" y="2575080"/>
            <a:ext cx="12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M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13080" y="1576440"/>
            <a:ext cx="1319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21320" y="1676520"/>
            <a:ext cx="105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Ú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9800" y="1492200"/>
            <a:ext cx="2892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6120" y="2325600"/>
            <a:ext cx="144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VAZÃO DEFL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ÍNIMA : 32 m</a:t>
            </a:r>
            <a:r>
              <a:rPr b="1" lang="en-US" sz="1000" spc="-1" strike="noStrike" baseline="30000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7000" y="4722840"/>
            <a:ext cx="645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TOTAL DO RESERVATÓRIO :   554,89  MILHÕES DE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ÚTIL :                                                504,09  MILHÕES DE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MORTO :                                            50,80  MILHÕES DE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57760" y="1981080"/>
            <a:ext cx="254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Nível d’água (N.A.) mínimo :  825,0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43000" y="1322280"/>
            <a:ext cx="6985080" cy="43927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797120" y="457200"/>
            <a:ext cx="574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ervatório Cac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5280" y="5851440"/>
            <a:ext cx="58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SITUAÇÃO 11/05/2004: 98,17 % 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Qaflu = 53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  e Qdef = 49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     Cota = 854,7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556240" y="8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2040" y="99072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dos Históricos da Op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313840" cy="5173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556240" y="8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2040" y="99072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dos Históricos da Ope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360" y="1523880"/>
            <a:ext cx="48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médios observados nos perío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5080" y="1962000"/>
            <a:ext cx="8756640" cy="2027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44197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dução significativa das afluências no período 1999/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timentos menores e menos freqüentes nos períodos mais re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nores níveis mínimos anuais no último perío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nor geração média no período 1999/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2971800"/>
            <a:ext cx="1143000" cy="121932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556240" y="8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4880" y="914400"/>
            <a:ext cx="49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da Operacional para UHE Cac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13840" cy="51735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1246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46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75440" y="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Operação do reservatório  Cac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23:51:05Z</dcterms:created>
  <dc:creator>joaquim</dc:creator>
  <dc:description/>
  <dc:language>en-US</dc:language>
  <cp:lastModifiedBy>joaquim</cp:lastModifiedBy>
  <dcterms:modified xsi:type="dcterms:W3CDTF">2004-05-13T12:15:11Z</dcterms:modified>
  <cp:revision>82</cp:revision>
  <dc:subject/>
  <dc:title>Slide 1</dc:title>
</cp:coreProperties>
</file>