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7.png" ContentType="image/png"/>
  <Override PartName="/ppt/media/image15.png" ContentType="image/png"/>
  <Override PartName="/ppt/media/image27.png" ContentType="image/png"/>
  <Override PartName="/ppt/media/image4.png" ContentType="image/png"/>
  <Override PartName="/ppt/media/image29.wmf" ContentType="image/x-wmf"/>
  <Override PartName="/ppt/media/image11.png" ContentType="image/png"/>
  <Override PartName="/ppt/media/image6.png" ContentType="image/png"/>
  <Override PartName="/ppt/media/image12.png" ContentType="image/png"/>
  <Override PartName="/ppt/media/image2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30.png" ContentType="image/png"/>
  <Override PartName="/ppt/media/image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76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05920" y="76320"/>
            <a:ext cx="761760" cy="3553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brasil.gov.br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5257800" y="1100160"/>
            <a:ext cx="3429000" cy="14907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4513320" cy="47246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76320"/>
            <a:ext cx="1067040" cy="355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00600" y="2646720"/>
            <a:ext cx="4191120" cy="31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Verdana"/>
              </a:rPr>
              <a:t>SITUAÇÃO ATUAL DOS RESERVATÓRIOS DA BACIA DO RIO SÃO FRANCISC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Verdana"/>
              </a:rPr>
              <a:t>27 JAN 200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sobradinho" descr=""/>
          <p:cNvPicPr/>
          <p:nvPr/>
        </p:nvPicPr>
        <p:blipFill>
          <a:blip r:embed="rId1"/>
          <a:stretch/>
        </p:blipFill>
        <p:spPr>
          <a:xfrm>
            <a:off x="1646280" y="1057320"/>
            <a:ext cx="5851440" cy="4743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itaparica" descr=""/>
          <p:cNvPicPr/>
          <p:nvPr/>
        </p:nvPicPr>
        <p:blipFill>
          <a:blip r:embed="rId1"/>
          <a:stretch/>
        </p:blipFill>
        <p:spPr>
          <a:xfrm>
            <a:off x="1646280" y="1057320"/>
            <a:ext cx="5851440" cy="4743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1206360" y="868320"/>
            <a:ext cx="6732720" cy="5121360"/>
            <a:chOff x="1206360" y="868320"/>
            <a:chExt cx="6732720" cy="5121360"/>
          </a:xfrm>
        </p:grpSpPr>
        <p:sp>
          <p:nvSpPr>
            <p:cNvPr id="599" name=""/>
            <p:cNvSpPr/>
            <p:nvPr/>
          </p:nvSpPr>
          <p:spPr>
            <a:xfrm>
              <a:off x="1206360" y="868320"/>
              <a:ext cx="673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06360" y="868320"/>
              <a:ext cx="5921280" cy="512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pt-BR" sz="30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206360" y="914400"/>
            <a:ext cx="6732720" cy="5030640"/>
            <a:chOff x="1206360" y="914400"/>
            <a:chExt cx="6732720" cy="5030640"/>
          </a:xfrm>
        </p:grpSpPr>
        <p:sp>
          <p:nvSpPr>
            <p:cNvPr id="602" name=""/>
            <p:cNvSpPr/>
            <p:nvPr/>
          </p:nvSpPr>
          <p:spPr>
            <a:xfrm>
              <a:off x="1206360" y="914400"/>
              <a:ext cx="673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06360" y="914400"/>
              <a:ext cx="5921280" cy="50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30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anohidro_SFran" descr=""/>
          <p:cNvPicPr/>
          <p:nvPr/>
        </p:nvPicPr>
        <p:blipFill>
          <a:blip r:embed="rId1"/>
          <a:stretch/>
        </p:blipFill>
        <p:spPr>
          <a:xfrm>
            <a:off x="1362240" y="960480"/>
            <a:ext cx="571500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sub_sf" descr=""/>
          <p:cNvPicPr/>
          <p:nvPr/>
        </p:nvPicPr>
        <p:blipFill>
          <a:blip r:embed="rId1"/>
          <a:stretch/>
        </p:blipFill>
        <p:spPr>
          <a:xfrm>
            <a:off x="3695760" y="1752480"/>
            <a:ext cx="2189160" cy="264024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1397160" y="890640"/>
            <a:ext cx="6732360" cy="1657440"/>
            <a:chOff x="1397160" y="890640"/>
            <a:chExt cx="6732360" cy="1657440"/>
          </a:xfrm>
        </p:grpSpPr>
        <p:sp>
          <p:nvSpPr>
            <p:cNvPr id="607" name=""/>
            <p:cNvSpPr/>
            <p:nvPr/>
          </p:nvSpPr>
          <p:spPr>
            <a:xfrm>
              <a:off x="1397160" y="890640"/>
              <a:ext cx="673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97160" y="890640"/>
              <a:ext cx="67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1397160" y="1712880"/>
              <a:ext cx="6006240" cy="835200"/>
              <a:chOff x="1397160" y="1712880"/>
              <a:chExt cx="6006240" cy="835200"/>
            </a:xfrm>
          </p:grpSpPr>
          <p:sp>
            <p:nvSpPr>
              <p:cNvPr id="610" name=""/>
              <p:cNvSpPr/>
              <p:nvPr/>
            </p:nvSpPr>
            <p:spPr>
              <a:xfrm>
                <a:off x="1397160" y="1712880"/>
                <a:ext cx="326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pt-BR" sz="6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723680" y="1712880"/>
                <a:ext cx="5248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972120" y="1712880"/>
                <a:ext cx="344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pt-BR" sz="6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97160" y="2170080"/>
                <a:ext cx="3265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1723680" y="2170080"/>
                <a:ext cx="5679720" cy="377640"/>
                <a:chOff x="1723680" y="2170080"/>
                <a:chExt cx="5679720" cy="3776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1723680" y="2170080"/>
                  <a:ext cx="5679720" cy="37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723680" y="2170080"/>
                  <a:ext cx="5679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7" name=""/>
          <p:cNvSpPr/>
          <p:nvPr/>
        </p:nvSpPr>
        <p:spPr>
          <a:xfrm flipH="1" flipV="1">
            <a:off x="3238200" y="121932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5524560" y="1905120"/>
            <a:ext cx="647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3314880" y="2286000"/>
            <a:ext cx="1752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915080" y="2590920"/>
            <a:ext cx="2209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64832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rec24sf1" descr=""/>
          <p:cNvPicPr/>
          <p:nvPr/>
        </p:nvPicPr>
        <p:blipFill>
          <a:blip r:embed="rId2"/>
          <a:stretch/>
        </p:blipFill>
        <p:spPr>
          <a:xfrm>
            <a:off x="3733920" y="4648320"/>
            <a:ext cx="2095560" cy="1780920"/>
          </a:xfrm>
          <a:prstGeom prst="rect">
            <a:avLst/>
          </a:prstGeom>
          <a:ln w="0">
            <a:noFill/>
          </a:ln>
        </p:spPr>
      </p:pic>
      <p:pic>
        <p:nvPicPr>
          <p:cNvPr id="623" name="prec24sf10" descr=""/>
          <p:cNvPicPr/>
          <p:nvPr/>
        </p:nvPicPr>
        <p:blipFill>
          <a:blip r:embed="rId3"/>
          <a:stretch/>
        </p:blipFill>
        <p:spPr>
          <a:xfrm>
            <a:off x="6248520" y="584280"/>
            <a:ext cx="2628720" cy="2235240"/>
          </a:xfrm>
          <a:prstGeom prst="rect">
            <a:avLst/>
          </a:prstGeom>
          <a:ln w="0">
            <a:noFill/>
          </a:ln>
        </p:spPr>
      </p:pic>
      <p:pic>
        <p:nvPicPr>
          <p:cNvPr id="624" name="prec24sf9" descr=""/>
          <p:cNvPicPr/>
          <p:nvPr/>
        </p:nvPicPr>
        <p:blipFill>
          <a:blip r:embed="rId4"/>
          <a:stretch/>
        </p:blipFill>
        <p:spPr>
          <a:xfrm>
            <a:off x="533520" y="609480"/>
            <a:ext cx="2628720" cy="2235240"/>
          </a:xfrm>
          <a:prstGeom prst="rect">
            <a:avLst/>
          </a:prstGeom>
          <a:ln w="0">
            <a:noFill/>
          </a:ln>
        </p:spPr>
      </p:pic>
      <p:pic>
        <p:nvPicPr>
          <p:cNvPr id="625" name="prec24sf8" descr=""/>
          <p:cNvPicPr/>
          <p:nvPr/>
        </p:nvPicPr>
        <p:blipFill>
          <a:blip r:embed="rId5"/>
          <a:stretch/>
        </p:blipFill>
        <p:spPr>
          <a:xfrm>
            <a:off x="685800" y="3581280"/>
            <a:ext cx="2552760" cy="2170080"/>
          </a:xfrm>
          <a:prstGeom prst="rect">
            <a:avLst/>
          </a:prstGeom>
          <a:ln w="0">
            <a:noFill/>
          </a:ln>
        </p:spPr>
      </p:pic>
      <p:pic>
        <p:nvPicPr>
          <p:cNvPr id="626" name="prec24sf7" descr=""/>
          <p:cNvPicPr/>
          <p:nvPr/>
        </p:nvPicPr>
        <p:blipFill>
          <a:blip r:embed="rId6"/>
          <a:stretch/>
        </p:blipFill>
        <p:spPr>
          <a:xfrm>
            <a:off x="6248520" y="3429000"/>
            <a:ext cx="2628720" cy="2235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JAN_SFran" descr=""/>
          <p:cNvPicPr/>
          <p:nvPr/>
        </p:nvPicPr>
        <p:blipFill>
          <a:blip r:embed="rId1"/>
          <a:stretch/>
        </p:blipFill>
        <p:spPr>
          <a:xfrm>
            <a:off x="2743200" y="762120"/>
            <a:ext cx="408312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bsf_10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654440" cy="560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228600" y="1949400"/>
            <a:ext cx="8686800" cy="378000"/>
            <a:chOff x="228600" y="1949400"/>
            <a:chExt cx="8686800" cy="378000"/>
          </a:xfrm>
        </p:grpSpPr>
        <p:sp>
          <p:nvSpPr>
            <p:cNvPr id="630" name=""/>
            <p:cNvSpPr/>
            <p:nvPr/>
          </p:nvSpPr>
          <p:spPr>
            <a:xfrm>
              <a:off x="228600" y="1949400"/>
              <a:ext cx="8686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228600" y="1949400"/>
              <a:ext cx="2536920" cy="378000"/>
              <a:chOff x="228600" y="1949400"/>
              <a:chExt cx="2536920" cy="37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228600" y="1949400"/>
                <a:ext cx="2536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8600" y="1949400"/>
                <a:ext cx="24922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34" name="img_atu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706920" cy="48006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355560" y="83808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 DE JANEIRO DE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1752480" y="2133720"/>
          <a:ext cx="5981760" cy="34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98176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"/>
          <p:cNvSpPr/>
          <p:nvPr/>
        </p:nvSpPr>
        <p:spPr>
          <a:xfrm>
            <a:off x="2667600" y="1143000"/>
            <a:ext cx="43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ZÕES AFLUENTES E DEFL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 m3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685800" y="762120"/>
          <a:ext cx="7620120" cy="567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62120"/>
                    <a:ext cx="7620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914400" y="838080"/>
          <a:ext cx="7620120" cy="567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762012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BACIA DO RIO SÃO FRAN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94040" y="609480"/>
            <a:ext cx="4940280" cy="6019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6498360" y="164448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GI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3" name=""/>
          <p:cNvGraphicFramePr/>
          <p:nvPr/>
        </p:nvGraphicFramePr>
        <p:xfrm>
          <a:off x="533520" y="762120"/>
          <a:ext cx="7619760" cy="567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761976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228600" y="947880"/>
            <a:ext cx="8610480" cy="499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reserv_nordeste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4038480" cy="25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7" name=""/>
          <p:cNvGraphicFramePr/>
          <p:nvPr/>
        </p:nvGraphicFramePr>
        <p:xfrm>
          <a:off x="4648320" y="2133720"/>
          <a:ext cx="4267080" cy="294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133720"/>
                    <a:ext cx="42670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84360" y="2060640"/>
            <a:ext cx="77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URVA BIANUAL DE AVERSÃO A RISCO PARA A REGIÃO NORD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IÊNIO 2004/200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1636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NTE: NT 155/2003 do 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568440" y="981000"/>
            <a:ext cx="8107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esolução GCE nº 109, de 24 de janeiro de 2002, atribui ao ONS o papel de definir, em conjunto com MME, ANEEL e ANA, um mecanismo de representação de aversão ao risco de racion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emente, esse mecanismo consiste em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urvas Bianuais de Aversão ao Risco - C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o Sistema Interligado Nacional - SIN, as quais estabelecem níveis de energia armazenada, em base mensal, adotados como referência de segurança para o atendimento do SIN, utilizando os recursos energéticos de custos mais elevados, de forma a preservar a segurança do atendimento à 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380880" y="720720"/>
          <a:ext cx="8153640" cy="57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20720"/>
                    <a:ext cx="815364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2057400" y="4572000"/>
            <a:ext cx="4809960" cy="676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2211120" y="2590920"/>
            <a:ext cx="477684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Times New Roman"/>
              </a:rPr>
              <a:t>joaquim@ana.gov.b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3399"/>
                </a:solidFill>
                <a:latin typeface="Times New Roman"/>
              </a:rPr>
              <a:t>061 44552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30400" y="723960"/>
            <a:ext cx="8102520" cy="5854680"/>
          </a:xfrm>
          <a:custGeom>
            <a:avLst/>
            <a:gdLst/>
            <a:ahLst/>
            <a:rect l="l" t="t" r="r" b="b"/>
            <a:pathLst>
              <a:path w="5104" h="3688">
                <a:moveTo>
                  <a:pt x="344" y="3288"/>
                </a:moveTo>
                <a:cubicBezTo>
                  <a:pt x="120" y="3080"/>
                  <a:pt x="0" y="2752"/>
                  <a:pt x="152" y="2424"/>
                </a:cubicBezTo>
                <a:cubicBezTo>
                  <a:pt x="304" y="2096"/>
                  <a:pt x="1000" y="1688"/>
                  <a:pt x="1256" y="1320"/>
                </a:cubicBezTo>
                <a:cubicBezTo>
                  <a:pt x="1512" y="952"/>
                  <a:pt x="1400" y="416"/>
                  <a:pt x="1688" y="216"/>
                </a:cubicBezTo>
                <a:cubicBezTo>
                  <a:pt x="1976" y="16"/>
                  <a:pt x="2664" y="0"/>
                  <a:pt x="2984" y="120"/>
                </a:cubicBezTo>
                <a:cubicBezTo>
                  <a:pt x="3304" y="240"/>
                  <a:pt x="3296" y="744"/>
                  <a:pt x="3608" y="936"/>
                </a:cubicBezTo>
                <a:cubicBezTo>
                  <a:pt x="3920" y="1128"/>
                  <a:pt x="4672" y="1048"/>
                  <a:pt x="4856" y="1272"/>
                </a:cubicBezTo>
                <a:cubicBezTo>
                  <a:pt x="5040" y="1496"/>
                  <a:pt x="4712" y="1968"/>
                  <a:pt x="4712" y="2280"/>
                </a:cubicBezTo>
                <a:cubicBezTo>
                  <a:pt x="4712" y="2592"/>
                  <a:pt x="5104" y="2992"/>
                  <a:pt x="4856" y="3144"/>
                </a:cubicBezTo>
                <a:cubicBezTo>
                  <a:pt x="4608" y="3296"/>
                  <a:pt x="3784" y="3104"/>
                  <a:pt x="3224" y="3192"/>
                </a:cubicBezTo>
                <a:cubicBezTo>
                  <a:pt x="2664" y="3280"/>
                  <a:pt x="1976" y="3656"/>
                  <a:pt x="1496" y="3672"/>
                </a:cubicBezTo>
                <a:cubicBezTo>
                  <a:pt x="1016" y="3688"/>
                  <a:pt x="568" y="3496"/>
                  <a:pt x="344" y="3288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30240"/>
            <a:ext cx="781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proveitamentos da Bacia do Rio São Francis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43600" y="3833640"/>
            <a:ext cx="469800" cy="190800"/>
          </a:xfrm>
          <a:custGeom>
            <a:avLst/>
            <a:gdLst/>
            <a:ahLst/>
            <a:rect l="l" t="t" r="r" b="b"/>
            <a:pathLst>
              <a:path w="296" h="120">
                <a:moveTo>
                  <a:pt x="36" y="9"/>
                </a:moveTo>
                <a:lnTo>
                  <a:pt x="295" y="33"/>
                </a:lnTo>
                <a:lnTo>
                  <a:pt x="279" y="119"/>
                </a:lnTo>
                <a:lnTo>
                  <a:pt x="0" y="0"/>
                </a:lnTo>
                <a:lnTo>
                  <a:pt x="36" y="9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3600" y="3833640"/>
            <a:ext cx="469800" cy="190800"/>
          </a:xfrm>
          <a:custGeom>
            <a:avLst/>
            <a:gdLst/>
            <a:ahLst/>
            <a:rect l="l" t="t" r="r" b="b"/>
            <a:pathLst>
              <a:path w="296" h="120">
                <a:moveTo>
                  <a:pt x="36" y="9"/>
                </a:moveTo>
                <a:lnTo>
                  <a:pt x="295" y="33"/>
                </a:lnTo>
                <a:lnTo>
                  <a:pt x="279" y="119"/>
                </a:lnTo>
                <a:lnTo>
                  <a:pt x="0" y="0"/>
                </a:lnTo>
                <a:lnTo>
                  <a:pt x="36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65880" y="3841920"/>
            <a:ext cx="190440" cy="299880"/>
          </a:xfrm>
          <a:custGeom>
            <a:avLst/>
            <a:gdLst/>
            <a:ahLst/>
            <a:rect l="l" t="t" r="r" b="b"/>
            <a:pathLst>
              <a:path w="121" h="189">
                <a:moveTo>
                  <a:pt x="36" y="0"/>
                </a:moveTo>
                <a:lnTo>
                  <a:pt x="84" y="0"/>
                </a:lnTo>
                <a:lnTo>
                  <a:pt x="120" y="188"/>
                </a:lnTo>
                <a:lnTo>
                  <a:pt x="0" y="188"/>
                </a:lnTo>
                <a:lnTo>
                  <a:pt x="36" y="0"/>
                </a:lnTo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65880" y="3841920"/>
            <a:ext cx="190440" cy="299880"/>
          </a:xfrm>
          <a:custGeom>
            <a:avLst/>
            <a:gdLst/>
            <a:ahLst/>
            <a:rect l="l" t="t" r="r" b="b"/>
            <a:pathLst>
              <a:path w="121" h="189">
                <a:moveTo>
                  <a:pt x="36" y="0"/>
                </a:moveTo>
                <a:lnTo>
                  <a:pt x="84" y="0"/>
                </a:lnTo>
                <a:lnTo>
                  <a:pt x="120" y="188"/>
                </a:lnTo>
                <a:lnTo>
                  <a:pt x="0" y="188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99080" y="3825720"/>
            <a:ext cx="141480" cy="314640"/>
          </a:xfrm>
          <a:custGeom>
            <a:avLst/>
            <a:gdLst/>
            <a:ahLst/>
            <a:rect l="l" t="t" r="r" b="b"/>
            <a:pathLst>
              <a:path w="90" h="198">
                <a:moveTo>
                  <a:pt x="0" y="11"/>
                </a:moveTo>
                <a:lnTo>
                  <a:pt x="47" y="0"/>
                </a:lnTo>
                <a:lnTo>
                  <a:pt x="89" y="144"/>
                </a:lnTo>
                <a:lnTo>
                  <a:pt x="36" y="197"/>
                </a:lnTo>
                <a:lnTo>
                  <a:pt x="0" y="11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99080" y="3825720"/>
            <a:ext cx="141480" cy="314640"/>
          </a:xfrm>
          <a:custGeom>
            <a:avLst/>
            <a:gdLst/>
            <a:ahLst/>
            <a:rect l="l" t="t" r="r" b="b"/>
            <a:pathLst>
              <a:path w="90" h="198">
                <a:moveTo>
                  <a:pt x="0" y="11"/>
                </a:moveTo>
                <a:lnTo>
                  <a:pt x="47" y="0"/>
                </a:lnTo>
                <a:lnTo>
                  <a:pt x="89" y="144"/>
                </a:lnTo>
                <a:lnTo>
                  <a:pt x="36" y="197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2760" y="3825720"/>
            <a:ext cx="152640" cy="27000"/>
          </a:xfrm>
          <a:custGeom>
            <a:avLst/>
            <a:gdLst/>
            <a:ahLst/>
            <a:rect l="l" t="t" r="r" b="b"/>
            <a:pathLst>
              <a:path w="97" h="17">
                <a:moveTo>
                  <a:pt x="55" y="0"/>
                </a:moveTo>
                <a:lnTo>
                  <a:pt x="0" y="14"/>
                </a:lnTo>
                <a:lnTo>
                  <a:pt x="48" y="16"/>
                </a:lnTo>
                <a:lnTo>
                  <a:pt x="96" y="0"/>
                </a:lnTo>
                <a:lnTo>
                  <a:pt x="55" y="0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22760" y="3825720"/>
            <a:ext cx="152640" cy="27000"/>
          </a:xfrm>
          <a:custGeom>
            <a:avLst/>
            <a:gdLst/>
            <a:ahLst/>
            <a:rect l="l" t="t" r="r" b="b"/>
            <a:pathLst>
              <a:path w="97" h="17">
                <a:moveTo>
                  <a:pt x="55" y="0"/>
                </a:moveTo>
                <a:lnTo>
                  <a:pt x="0" y="14"/>
                </a:lnTo>
                <a:lnTo>
                  <a:pt x="48" y="16"/>
                </a:lnTo>
                <a:lnTo>
                  <a:pt x="96" y="0"/>
                </a:lnTo>
                <a:lnTo>
                  <a:pt x="5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41800" y="3828960"/>
            <a:ext cx="471600" cy="82800"/>
          </a:xfrm>
          <a:custGeom>
            <a:avLst/>
            <a:gdLst/>
            <a:ahLst/>
            <a:rect l="l" t="t" r="r" b="b"/>
            <a:pathLst>
              <a:path w="297" h="52">
                <a:moveTo>
                  <a:pt x="0" y="0"/>
                </a:moveTo>
                <a:lnTo>
                  <a:pt x="296" y="36"/>
                </a:lnTo>
                <a:lnTo>
                  <a:pt x="294" y="51"/>
                </a:lnTo>
                <a:lnTo>
                  <a:pt x="27" y="12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41800" y="3828960"/>
            <a:ext cx="471600" cy="82800"/>
          </a:xfrm>
          <a:custGeom>
            <a:avLst/>
            <a:gdLst/>
            <a:ahLst/>
            <a:rect l="l" t="t" r="r" b="b"/>
            <a:pathLst>
              <a:path w="297" h="52">
                <a:moveTo>
                  <a:pt x="0" y="0"/>
                </a:moveTo>
                <a:lnTo>
                  <a:pt x="296" y="36"/>
                </a:lnTo>
                <a:lnTo>
                  <a:pt x="294" y="51"/>
                </a:lnTo>
                <a:lnTo>
                  <a:pt x="27" y="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46840" y="3833640"/>
            <a:ext cx="441000" cy="308160"/>
          </a:xfrm>
          <a:custGeom>
            <a:avLst/>
            <a:gdLst/>
            <a:ahLst/>
            <a:rect l="l" t="t" r="r" b="b"/>
            <a:pathLst>
              <a:path w="279" h="194">
                <a:moveTo>
                  <a:pt x="265" y="193"/>
                </a:moveTo>
                <a:lnTo>
                  <a:pt x="265" y="192"/>
                </a:lnTo>
                <a:lnTo>
                  <a:pt x="265" y="190"/>
                </a:lnTo>
                <a:lnTo>
                  <a:pt x="264" y="189"/>
                </a:lnTo>
                <a:lnTo>
                  <a:pt x="263" y="188"/>
                </a:lnTo>
                <a:lnTo>
                  <a:pt x="262" y="188"/>
                </a:lnTo>
                <a:lnTo>
                  <a:pt x="262" y="187"/>
                </a:lnTo>
                <a:lnTo>
                  <a:pt x="257" y="187"/>
                </a:lnTo>
                <a:lnTo>
                  <a:pt x="252" y="186"/>
                </a:lnTo>
                <a:lnTo>
                  <a:pt x="246" y="184"/>
                </a:lnTo>
                <a:lnTo>
                  <a:pt x="241" y="183"/>
                </a:lnTo>
                <a:lnTo>
                  <a:pt x="236" y="181"/>
                </a:lnTo>
                <a:lnTo>
                  <a:pt x="230" y="179"/>
                </a:lnTo>
                <a:lnTo>
                  <a:pt x="225" y="178"/>
                </a:lnTo>
                <a:lnTo>
                  <a:pt x="220" y="176"/>
                </a:lnTo>
                <a:lnTo>
                  <a:pt x="218" y="174"/>
                </a:lnTo>
                <a:lnTo>
                  <a:pt x="216" y="173"/>
                </a:lnTo>
                <a:lnTo>
                  <a:pt x="213" y="171"/>
                </a:lnTo>
                <a:lnTo>
                  <a:pt x="209" y="169"/>
                </a:lnTo>
                <a:lnTo>
                  <a:pt x="205" y="167"/>
                </a:lnTo>
                <a:lnTo>
                  <a:pt x="201" y="166"/>
                </a:lnTo>
                <a:lnTo>
                  <a:pt x="198" y="165"/>
                </a:lnTo>
                <a:lnTo>
                  <a:pt x="195" y="163"/>
                </a:lnTo>
                <a:lnTo>
                  <a:pt x="193" y="162"/>
                </a:lnTo>
                <a:lnTo>
                  <a:pt x="192" y="160"/>
                </a:lnTo>
                <a:lnTo>
                  <a:pt x="190" y="159"/>
                </a:lnTo>
                <a:lnTo>
                  <a:pt x="187" y="159"/>
                </a:lnTo>
                <a:lnTo>
                  <a:pt x="187" y="158"/>
                </a:lnTo>
                <a:lnTo>
                  <a:pt x="186" y="158"/>
                </a:lnTo>
                <a:lnTo>
                  <a:pt x="186" y="157"/>
                </a:lnTo>
                <a:lnTo>
                  <a:pt x="186" y="157"/>
                </a:lnTo>
                <a:lnTo>
                  <a:pt x="183" y="157"/>
                </a:lnTo>
                <a:lnTo>
                  <a:pt x="183" y="155"/>
                </a:lnTo>
                <a:lnTo>
                  <a:pt x="182" y="152"/>
                </a:lnTo>
                <a:lnTo>
                  <a:pt x="181" y="147"/>
                </a:lnTo>
                <a:lnTo>
                  <a:pt x="180" y="143"/>
                </a:lnTo>
                <a:lnTo>
                  <a:pt x="179" y="138"/>
                </a:lnTo>
                <a:lnTo>
                  <a:pt x="177" y="134"/>
                </a:lnTo>
                <a:lnTo>
                  <a:pt x="176" y="131"/>
                </a:lnTo>
                <a:lnTo>
                  <a:pt x="173" y="130"/>
                </a:lnTo>
                <a:lnTo>
                  <a:pt x="173" y="129"/>
                </a:lnTo>
                <a:lnTo>
                  <a:pt x="172" y="127"/>
                </a:lnTo>
                <a:lnTo>
                  <a:pt x="172" y="126"/>
                </a:lnTo>
                <a:lnTo>
                  <a:pt x="171" y="125"/>
                </a:lnTo>
                <a:lnTo>
                  <a:pt x="169" y="125"/>
                </a:lnTo>
                <a:lnTo>
                  <a:pt x="168" y="125"/>
                </a:lnTo>
                <a:lnTo>
                  <a:pt x="167" y="124"/>
                </a:lnTo>
                <a:lnTo>
                  <a:pt x="165" y="124"/>
                </a:lnTo>
                <a:lnTo>
                  <a:pt x="164" y="122"/>
                </a:lnTo>
                <a:lnTo>
                  <a:pt x="162" y="120"/>
                </a:lnTo>
                <a:lnTo>
                  <a:pt x="160" y="119"/>
                </a:lnTo>
                <a:lnTo>
                  <a:pt x="158" y="117"/>
                </a:lnTo>
                <a:lnTo>
                  <a:pt x="156" y="116"/>
                </a:lnTo>
                <a:lnTo>
                  <a:pt x="154" y="115"/>
                </a:lnTo>
                <a:lnTo>
                  <a:pt x="152" y="113"/>
                </a:lnTo>
                <a:lnTo>
                  <a:pt x="151" y="112"/>
                </a:lnTo>
                <a:lnTo>
                  <a:pt x="149" y="111"/>
                </a:lnTo>
                <a:lnTo>
                  <a:pt x="147" y="111"/>
                </a:lnTo>
                <a:lnTo>
                  <a:pt x="144" y="110"/>
                </a:lnTo>
                <a:lnTo>
                  <a:pt x="142" y="108"/>
                </a:lnTo>
                <a:lnTo>
                  <a:pt x="139" y="107"/>
                </a:lnTo>
                <a:lnTo>
                  <a:pt x="137" y="105"/>
                </a:lnTo>
                <a:lnTo>
                  <a:pt x="135" y="104"/>
                </a:lnTo>
                <a:lnTo>
                  <a:pt x="134" y="102"/>
                </a:lnTo>
                <a:lnTo>
                  <a:pt x="132" y="102"/>
                </a:lnTo>
                <a:lnTo>
                  <a:pt x="130" y="100"/>
                </a:lnTo>
                <a:lnTo>
                  <a:pt x="129" y="99"/>
                </a:lnTo>
                <a:lnTo>
                  <a:pt x="127" y="97"/>
                </a:lnTo>
                <a:lnTo>
                  <a:pt x="127" y="94"/>
                </a:lnTo>
                <a:lnTo>
                  <a:pt x="125" y="91"/>
                </a:lnTo>
                <a:lnTo>
                  <a:pt x="123" y="88"/>
                </a:lnTo>
                <a:lnTo>
                  <a:pt x="121" y="85"/>
                </a:lnTo>
                <a:lnTo>
                  <a:pt x="118" y="82"/>
                </a:lnTo>
                <a:lnTo>
                  <a:pt x="115" y="79"/>
                </a:lnTo>
                <a:lnTo>
                  <a:pt x="112" y="77"/>
                </a:lnTo>
                <a:lnTo>
                  <a:pt x="110" y="75"/>
                </a:lnTo>
                <a:lnTo>
                  <a:pt x="108" y="75"/>
                </a:lnTo>
                <a:lnTo>
                  <a:pt x="107" y="74"/>
                </a:lnTo>
                <a:lnTo>
                  <a:pt x="107" y="71"/>
                </a:lnTo>
                <a:lnTo>
                  <a:pt x="105" y="68"/>
                </a:lnTo>
                <a:lnTo>
                  <a:pt x="105" y="67"/>
                </a:lnTo>
                <a:lnTo>
                  <a:pt x="105" y="64"/>
                </a:lnTo>
                <a:lnTo>
                  <a:pt x="104" y="62"/>
                </a:lnTo>
                <a:lnTo>
                  <a:pt x="104" y="62"/>
                </a:lnTo>
                <a:lnTo>
                  <a:pt x="103" y="62"/>
                </a:lnTo>
                <a:lnTo>
                  <a:pt x="102" y="63"/>
                </a:lnTo>
                <a:lnTo>
                  <a:pt x="101" y="63"/>
                </a:lnTo>
                <a:lnTo>
                  <a:pt x="99" y="61"/>
                </a:lnTo>
                <a:lnTo>
                  <a:pt x="97" y="58"/>
                </a:lnTo>
                <a:lnTo>
                  <a:pt x="88" y="56"/>
                </a:lnTo>
                <a:lnTo>
                  <a:pt x="85" y="50"/>
                </a:lnTo>
                <a:lnTo>
                  <a:pt x="79" y="45"/>
                </a:lnTo>
                <a:lnTo>
                  <a:pt x="77" y="44"/>
                </a:lnTo>
                <a:lnTo>
                  <a:pt x="75" y="43"/>
                </a:lnTo>
                <a:lnTo>
                  <a:pt x="72" y="42"/>
                </a:lnTo>
                <a:lnTo>
                  <a:pt x="70" y="40"/>
                </a:lnTo>
                <a:lnTo>
                  <a:pt x="69" y="40"/>
                </a:lnTo>
                <a:lnTo>
                  <a:pt x="67" y="39"/>
                </a:lnTo>
                <a:lnTo>
                  <a:pt x="65" y="38"/>
                </a:lnTo>
                <a:lnTo>
                  <a:pt x="63" y="38"/>
                </a:lnTo>
                <a:lnTo>
                  <a:pt x="60" y="37"/>
                </a:lnTo>
                <a:lnTo>
                  <a:pt x="58" y="35"/>
                </a:lnTo>
                <a:lnTo>
                  <a:pt x="57" y="34"/>
                </a:lnTo>
                <a:lnTo>
                  <a:pt x="56" y="33"/>
                </a:lnTo>
                <a:lnTo>
                  <a:pt x="54" y="33"/>
                </a:lnTo>
                <a:lnTo>
                  <a:pt x="51" y="33"/>
                </a:lnTo>
                <a:lnTo>
                  <a:pt x="49" y="31"/>
                </a:lnTo>
                <a:lnTo>
                  <a:pt x="45" y="30"/>
                </a:lnTo>
                <a:lnTo>
                  <a:pt x="43" y="29"/>
                </a:lnTo>
                <a:lnTo>
                  <a:pt x="40" y="28"/>
                </a:lnTo>
                <a:lnTo>
                  <a:pt x="39" y="26"/>
                </a:lnTo>
                <a:lnTo>
                  <a:pt x="38" y="25"/>
                </a:lnTo>
                <a:lnTo>
                  <a:pt x="35" y="32"/>
                </a:lnTo>
                <a:lnTo>
                  <a:pt x="33" y="30"/>
                </a:lnTo>
                <a:lnTo>
                  <a:pt x="29" y="29"/>
                </a:lnTo>
                <a:lnTo>
                  <a:pt x="24" y="27"/>
                </a:lnTo>
                <a:lnTo>
                  <a:pt x="19" y="25"/>
                </a:lnTo>
                <a:lnTo>
                  <a:pt x="14" y="21"/>
                </a:lnTo>
                <a:lnTo>
                  <a:pt x="8" y="16"/>
                </a:lnTo>
                <a:lnTo>
                  <a:pt x="3" y="10"/>
                </a:lnTo>
                <a:lnTo>
                  <a:pt x="0" y="0"/>
                </a:lnTo>
                <a:lnTo>
                  <a:pt x="278" y="119"/>
                </a:lnTo>
                <a:lnTo>
                  <a:pt x="265" y="193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46840" y="3833640"/>
            <a:ext cx="441000" cy="308160"/>
          </a:xfrm>
          <a:custGeom>
            <a:avLst/>
            <a:gdLst/>
            <a:ahLst/>
            <a:rect l="l" t="t" r="r" b="b"/>
            <a:pathLst>
              <a:path w="279" h="194">
                <a:moveTo>
                  <a:pt x="265" y="193"/>
                </a:moveTo>
                <a:lnTo>
                  <a:pt x="265" y="193"/>
                </a:lnTo>
                <a:lnTo>
                  <a:pt x="265" y="192"/>
                </a:lnTo>
                <a:lnTo>
                  <a:pt x="265" y="190"/>
                </a:lnTo>
                <a:lnTo>
                  <a:pt x="264" y="189"/>
                </a:lnTo>
                <a:lnTo>
                  <a:pt x="263" y="188"/>
                </a:lnTo>
                <a:lnTo>
                  <a:pt x="262" y="188"/>
                </a:lnTo>
                <a:lnTo>
                  <a:pt x="262" y="187"/>
                </a:lnTo>
                <a:lnTo>
                  <a:pt x="262" y="187"/>
                </a:lnTo>
                <a:lnTo>
                  <a:pt x="257" y="187"/>
                </a:lnTo>
                <a:lnTo>
                  <a:pt x="252" y="186"/>
                </a:lnTo>
                <a:lnTo>
                  <a:pt x="246" y="184"/>
                </a:lnTo>
                <a:lnTo>
                  <a:pt x="241" y="183"/>
                </a:lnTo>
                <a:lnTo>
                  <a:pt x="236" y="181"/>
                </a:lnTo>
                <a:lnTo>
                  <a:pt x="230" y="179"/>
                </a:lnTo>
                <a:lnTo>
                  <a:pt x="225" y="178"/>
                </a:lnTo>
                <a:lnTo>
                  <a:pt x="220" y="176"/>
                </a:lnTo>
                <a:lnTo>
                  <a:pt x="220" y="176"/>
                </a:lnTo>
                <a:lnTo>
                  <a:pt x="218" y="174"/>
                </a:lnTo>
                <a:lnTo>
                  <a:pt x="216" y="173"/>
                </a:lnTo>
                <a:lnTo>
                  <a:pt x="213" y="171"/>
                </a:lnTo>
                <a:lnTo>
                  <a:pt x="209" y="169"/>
                </a:lnTo>
                <a:lnTo>
                  <a:pt x="205" y="167"/>
                </a:lnTo>
                <a:lnTo>
                  <a:pt x="201" y="166"/>
                </a:lnTo>
                <a:lnTo>
                  <a:pt x="198" y="165"/>
                </a:lnTo>
                <a:lnTo>
                  <a:pt x="195" y="163"/>
                </a:lnTo>
                <a:lnTo>
                  <a:pt x="195" y="163"/>
                </a:lnTo>
                <a:lnTo>
                  <a:pt x="193" y="162"/>
                </a:lnTo>
                <a:lnTo>
                  <a:pt x="192" y="160"/>
                </a:lnTo>
                <a:lnTo>
                  <a:pt x="190" y="159"/>
                </a:lnTo>
                <a:lnTo>
                  <a:pt x="187" y="159"/>
                </a:lnTo>
                <a:lnTo>
                  <a:pt x="187" y="159"/>
                </a:lnTo>
                <a:lnTo>
                  <a:pt x="187" y="158"/>
                </a:lnTo>
                <a:lnTo>
                  <a:pt x="186" y="158"/>
                </a:lnTo>
                <a:lnTo>
                  <a:pt x="186" y="157"/>
                </a:lnTo>
                <a:lnTo>
                  <a:pt x="186" y="157"/>
                </a:lnTo>
                <a:lnTo>
                  <a:pt x="183" y="157"/>
                </a:lnTo>
                <a:lnTo>
                  <a:pt x="183" y="157"/>
                </a:lnTo>
                <a:lnTo>
                  <a:pt x="183" y="155"/>
                </a:lnTo>
                <a:lnTo>
                  <a:pt x="182" y="152"/>
                </a:lnTo>
                <a:lnTo>
                  <a:pt x="181" y="147"/>
                </a:lnTo>
                <a:lnTo>
                  <a:pt x="180" y="143"/>
                </a:lnTo>
                <a:lnTo>
                  <a:pt x="179" y="138"/>
                </a:lnTo>
                <a:lnTo>
                  <a:pt x="177" y="134"/>
                </a:lnTo>
                <a:lnTo>
                  <a:pt x="176" y="131"/>
                </a:lnTo>
                <a:lnTo>
                  <a:pt x="173" y="130"/>
                </a:lnTo>
                <a:lnTo>
                  <a:pt x="173" y="130"/>
                </a:lnTo>
                <a:lnTo>
                  <a:pt x="173" y="129"/>
                </a:lnTo>
                <a:lnTo>
                  <a:pt x="172" y="127"/>
                </a:lnTo>
                <a:lnTo>
                  <a:pt x="172" y="126"/>
                </a:lnTo>
                <a:lnTo>
                  <a:pt x="171" y="125"/>
                </a:lnTo>
                <a:lnTo>
                  <a:pt x="171" y="125"/>
                </a:lnTo>
                <a:lnTo>
                  <a:pt x="169" y="125"/>
                </a:lnTo>
                <a:lnTo>
                  <a:pt x="168" y="125"/>
                </a:lnTo>
                <a:lnTo>
                  <a:pt x="167" y="124"/>
                </a:lnTo>
                <a:lnTo>
                  <a:pt x="165" y="124"/>
                </a:lnTo>
                <a:lnTo>
                  <a:pt x="165" y="124"/>
                </a:lnTo>
                <a:lnTo>
                  <a:pt x="164" y="122"/>
                </a:lnTo>
                <a:lnTo>
                  <a:pt x="162" y="120"/>
                </a:lnTo>
                <a:lnTo>
                  <a:pt x="160" y="119"/>
                </a:lnTo>
                <a:lnTo>
                  <a:pt x="158" y="117"/>
                </a:lnTo>
                <a:lnTo>
                  <a:pt x="156" y="116"/>
                </a:lnTo>
                <a:lnTo>
                  <a:pt x="154" y="115"/>
                </a:lnTo>
                <a:lnTo>
                  <a:pt x="152" y="113"/>
                </a:lnTo>
                <a:lnTo>
                  <a:pt x="151" y="112"/>
                </a:lnTo>
                <a:lnTo>
                  <a:pt x="151" y="112"/>
                </a:lnTo>
                <a:lnTo>
                  <a:pt x="149" y="111"/>
                </a:lnTo>
                <a:lnTo>
                  <a:pt x="147" y="111"/>
                </a:lnTo>
                <a:lnTo>
                  <a:pt x="144" y="110"/>
                </a:lnTo>
                <a:lnTo>
                  <a:pt x="142" y="108"/>
                </a:lnTo>
                <a:lnTo>
                  <a:pt x="139" y="107"/>
                </a:lnTo>
                <a:lnTo>
                  <a:pt x="137" y="105"/>
                </a:lnTo>
                <a:lnTo>
                  <a:pt x="135" y="104"/>
                </a:lnTo>
                <a:lnTo>
                  <a:pt x="134" y="102"/>
                </a:lnTo>
                <a:lnTo>
                  <a:pt x="134" y="102"/>
                </a:lnTo>
                <a:lnTo>
                  <a:pt x="132" y="102"/>
                </a:lnTo>
                <a:lnTo>
                  <a:pt x="130" y="100"/>
                </a:lnTo>
                <a:lnTo>
                  <a:pt x="129" y="99"/>
                </a:lnTo>
                <a:lnTo>
                  <a:pt x="127" y="97"/>
                </a:lnTo>
                <a:lnTo>
                  <a:pt x="127" y="97"/>
                </a:lnTo>
                <a:lnTo>
                  <a:pt x="127" y="94"/>
                </a:lnTo>
                <a:lnTo>
                  <a:pt x="125" y="91"/>
                </a:lnTo>
                <a:lnTo>
                  <a:pt x="123" y="88"/>
                </a:lnTo>
                <a:lnTo>
                  <a:pt x="121" y="85"/>
                </a:lnTo>
                <a:lnTo>
                  <a:pt x="118" y="82"/>
                </a:lnTo>
                <a:lnTo>
                  <a:pt x="115" y="79"/>
                </a:lnTo>
                <a:lnTo>
                  <a:pt x="112" y="77"/>
                </a:lnTo>
                <a:lnTo>
                  <a:pt x="110" y="75"/>
                </a:lnTo>
                <a:lnTo>
                  <a:pt x="108" y="75"/>
                </a:lnTo>
                <a:lnTo>
                  <a:pt x="108" y="75"/>
                </a:lnTo>
                <a:lnTo>
                  <a:pt x="107" y="74"/>
                </a:lnTo>
                <a:lnTo>
                  <a:pt x="107" y="71"/>
                </a:lnTo>
                <a:lnTo>
                  <a:pt x="105" y="68"/>
                </a:lnTo>
                <a:lnTo>
                  <a:pt x="105" y="67"/>
                </a:lnTo>
                <a:lnTo>
                  <a:pt x="105" y="67"/>
                </a:lnTo>
                <a:lnTo>
                  <a:pt x="105" y="64"/>
                </a:lnTo>
                <a:lnTo>
                  <a:pt x="104" y="62"/>
                </a:lnTo>
                <a:lnTo>
                  <a:pt x="104" y="62"/>
                </a:lnTo>
                <a:lnTo>
                  <a:pt x="103" y="62"/>
                </a:lnTo>
                <a:lnTo>
                  <a:pt x="102" y="63"/>
                </a:lnTo>
                <a:lnTo>
                  <a:pt x="101" y="63"/>
                </a:lnTo>
                <a:lnTo>
                  <a:pt x="99" y="61"/>
                </a:lnTo>
                <a:lnTo>
                  <a:pt x="97" y="58"/>
                </a:lnTo>
                <a:lnTo>
                  <a:pt x="88" y="56"/>
                </a:lnTo>
                <a:lnTo>
                  <a:pt x="85" y="50"/>
                </a:lnTo>
                <a:lnTo>
                  <a:pt x="79" y="45"/>
                </a:lnTo>
                <a:lnTo>
                  <a:pt x="79" y="45"/>
                </a:lnTo>
                <a:lnTo>
                  <a:pt x="77" y="44"/>
                </a:lnTo>
                <a:lnTo>
                  <a:pt x="75" y="43"/>
                </a:lnTo>
                <a:lnTo>
                  <a:pt x="72" y="42"/>
                </a:lnTo>
                <a:lnTo>
                  <a:pt x="70" y="40"/>
                </a:lnTo>
                <a:lnTo>
                  <a:pt x="70" y="40"/>
                </a:lnTo>
                <a:lnTo>
                  <a:pt x="69" y="40"/>
                </a:lnTo>
                <a:lnTo>
                  <a:pt x="67" y="39"/>
                </a:lnTo>
                <a:lnTo>
                  <a:pt x="65" y="38"/>
                </a:lnTo>
                <a:lnTo>
                  <a:pt x="63" y="38"/>
                </a:lnTo>
                <a:lnTo>
                  <a:pt x="60" y="37"/>
                </a:lnTo>
                <a:lnTo>
                  <a:pt x="58" y="35"/>
                </a:lnTo>
                <a:lnTo>
                  <a:pt x="57" y="34"/>
                </a:lnTo>
                <a:lnTo>
                  <a:pt x="56" y="33"/>
                </a:lnTo>
                <a:lnTo>
                  <a:pt x="56" y="33"/>
                </a:lnTo>
                <a:lnTo>
                  <a:pt x="54" y="33"/>
                </a:lnTo>
                <a:lnTo>
                  <a:pt x="51" y="33"/>
                </a:lnTo>
                <a:lnTo>
                  <a:pt x="49" y="31"/>
                </a:lnTo>
                <a:lnTo>
                  <a:pt x="45" y="30"/>
                </a:lnTo>
                <a:lnTo>
                  <a:pt x="43" y="29"/>
                </a:lnTo>
                <a:lnTo>
                  <a:pt x="40" y="28"/>
                </a:lnTo>
                <a:lnTo>
                  <a:pt x="39" y="26"/>
                </a:lnTo>
                <a:lnTo>
                  <a:pt x="38" y="25"/>
                </a:lnTo>
                <a:lnTo>
                  <a:pt x="35" y="32"/>
                </a:lnTo>
                <a:lnTo>
                  <a:pt x="35" y="32"/>
                </a:lnTo>
                <a:lnTo>
                  <a:pt x="33" y="30"/>
                </a:lnTo>
                <a:lnTo>
                  <a:pt x="29" y="29"/>
                </a:lnTo>
                <a:lnTo>
                  <a:pt x="24" y="27"/>
                </a:lnTo>
                <a:lnTo>
                  <a:pt x="19" y="25"/>
                </a:lnTo>
                <a:lnTo>
                  <a:pt x="14" y="21"/>
                </a:lnTo>
                <a:lnTo>
                  <a:pt x="8" y="16"/>
                </a:lnTo>
                <a:lnTo>
                  <a:pt x="3" y="10"/>
                </a:lnTo>
                <a:lnTo>
                  <a:pt x="0" y="0"/>
                </a:lnTo>
                <a:lnTo>
                  <a:pt x="278" y="119"/>
                </a:lnTo>
                <a:lnTo>
                  <a:pt x="265" y="19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76840" y="4124160"/>
            <a:ext cx="420840" cy="158760"/>
          </a:xfrm>
          <a:custGeom>
            <a:avLst/>
            <a:gdLst/>
            <a:ahLst/>
            <a:rect l="l" t="t" r="r" b="b"/>
            <a:pathLst>
              <a:path w="265" h="100">
                <a:moveTo>
                  <a:pt x="0" y="0"/>
                </a:moveTo>
                <a:lnTo>
                  <a:pt x="264" y="19"/>
                </a:lnTo>
                <a:lnTo>
                  <a:pt x="248" y="99"/>
                </a:lnTo>
                <a:lnTo>
                  <a:pt x="13" y="6"/>
                </a:lnTo>
                <a:lnTo>
                  <a:pt x="0" y="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76840" y="4124160"/>
            <a:ext cx="420840" cy="158760"/>
          </a:xfrm>
          <a:custGeom>
            <a:avLst/>
            <a:gdLst/>
            <a:ahLst/>
            <a:rect l="l" t="t" r="r" b="b"/>
            <a:pathLst>
              <a:path w="265" h="100">
                <a:moveTo>
                  <a:pt x="0" y="0"/>
                </a:moveTo>
                <a:lnTo>
                  <a:pt x="264" y="19"/>
                </a:lnTo>
                <a:lnTo>
                  <a:pt x="248" y="99"/>
                </a:lnTo>
                <a:lnTo>
                  <a:pt x="13" y="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49800" y="4111560"/>
            <a:ext cx="190800" cy="279360"/>
          </a:xfrm>
          <a:custGeom>
            <a:avLst/>
            <a:gdLst/>
            <a:ahLst/>
            <a:rect l="l" t="t" r="r" b="b"/>
            <a:pathLst>
              <a:path w="121" h="176">
                <a:moveTo>
                  <a:pt x="36" y="0"/>
                </a:moveTo>
                <a:lnTo>
                  <a:pt x="84" y="0"/>
                </a:lnTo>
                <a:lnTo>
                  <a:pt x="120" y="175"/>
                </a:lnTo>
                <a:lnTo>
                  <a:pt x="0" y="175"/>
                </a:lnTo>
                <a:lnTo>
                  <a:pt x="36" y="0"/>
                </a:lnTo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49800" y="4111560"/>
            <a:ext cx="190800" cy="279360"/>
          </a:xfrm>
          <a:custGeom>
            <a:avLst/>
            <a:gdLst/>
            <a:ahLst/>
            <a:rect l="l" t="t" r="r" b="b"/>
            <a:pathLst>
              <a:path w="121" h="176">
                <a:moveTo>
                  <a:pt x="36" y="0"/>
                </a:moveTo>
                <a:lnTo>
                  <a:pt x="84" y="0"/>
                </a:lnTo>
                <a:lnTo>
                  <a:pt x="120" y="175"/>
                </a:lnTo>
                <a:lnTo>
                  <a:pt x="0" y="175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83360" y="4097160"/>
            <a:ext cx="142920" cy="292320"/>
          </a:xfrm>
          <a:custGeom>
            <a:avLst/>
            <a:gdLst/>
            <a:ahLst/>
            <a:rect l="l" t="t" r="r" b="b"/>
            <a:pathLst>
              <a:path w="90" h="184">
                <a:moveTo>
                  <a:pt x="0" y="10"/>
                </a:moveTo>
                <a:lnTo>
                  <a:pt x="47" y="0"/>
                </a:lnTo>
                <a:lnTo>
                  <a:pt x="89" y="134"/>
                </a:lnTo>
                <a:lnTo>
                  <a:pt x="35" y="183"/>
                </a:lnTo>
                <a:lnTo>
                  <a:pt x="0" y="10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83360" y="4097160"/>
            <a:ext cx="142920" cy="292320"/>
          </a:xfrm>
          <a:custGeom>
            <a:avLst/>
            <a:gdLst/>
            <a:ahLst/>
            <a:rect l="l" t="t" r="r" b="b"/>
            <a:pathLst>
              <a:path w="90" h="184">
                <a:moveTo>
                  <a:pt x="0" y="10"/>
                </a:moveTo>
                <a:lnTo>
                  <a:pt x="47" y="0"/>
                </a:lnTo>
                <a:lnTo>
                  <a:pt x="89" y="134"/>
                </a:lnTo>
                <a:lnTo>
                  <a:pt x="35" y="183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07040" y="4097160"/>
            <a:ext cx="154080" cy="27000"/>
          </a:xfrm>
          <a:custGeom>
            <a:avLst/>
            <a:gdLst/>
            <a:ahLst/>
            <a:rect l="l" t="t" r="r" b="b"/>
            <a:pathLst>
              <a:path w="97" h="17">
                <a:moveTo>
                  <a:pt x="55" y="0"/>
                </a:moveTo>
                <a:lnTo>
                  <a:pt x="0" y="16"/>
                </a:lnTo>
                <a:lnTo>
                  <a:pt x="47" y="16"/>
                </a:lnTo>
                <a:lnTo>
                  <a:pt x="96" y="0"/>
                </a:lnTo>
                <a:lnTo>
                  <a:pt x="55" y="0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07040" y="4097160"/>
            <a:ext cx="154080" cy="27000"/>
          </a:xfrm>
          <a:custGeom>
            <a:avLst/>
            <a:gdLst/>
            <a:ahLst/>
            <a:rect l="l" t="t" r="r" b="b"/>
            <a:pathLst>
              <a:path w="97" h="17">
                <a:moveTo>
                  <a:pt x="55" y="0"/>
                </a:moveTo>
                <a:lnTo>
                  <a:pt x="0" y="16"/>
                </a:lnTo>
                <a:lnTo>
                  <a:pt x="47" y="16"/>
                </a:lnTo>
                <a:lnTo>
                  <a:pt x="96" y="0"/>
                </a:lnTo>
                <a:lnTo>
                  <a:pt x="5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72160" y="4122720"/>
            <a:ext cx="425520" cy="55440"/>
          </a:xfrm>
          <a:custGeom>
            <a:avLst/>
            <a:gdLst/>
            <a:ahLst/>
            <a:rect l="l" t="t" r="r" b="b"/>
            <a:pathLst>
              <a:path w="268" h="35">
                <a:moveTo>
                  <a:pt x="0" y="0"/>
                </a:moveTo>
                <a:lnTo>
                  <a:pt x="267" y="20"/>
                </a:lnTo>
                <a:lnTo>
                  <a:pt x="265" y="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72160" y="4122720"/>
            <a:ext cx="425520" cy="55440"/>
          </a:xfrm>
          <a:custGeom>
            <a:avLst/>
            <a:gdLst/>
            <a:ahLst/>
            <a:rect l="l" t="t" r="r" b="b"/>
            <a:pathLst>
              <a:path w="268" h="35">
                <a:moveTo>
                  <a:pt x="0" y="0"/>
                </a:moveTo>
                <a:lnTo>
                  <a:pt x="267" y="20"/>
                </a:lnTo>
                <a:lnTo>
                  <a:pt x="265" y="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72160" y="4122720"/>
            <a:ext cx="399960" cy="270000"/>
          </a:xfrm>
          <a:custGeom>
            <a:avLst/>
            <a:gdLst/>
            <a:ahLst/>
            <a:rect l="l" t="t" r="r" b="b"/>
            <a:pathLst>
              <a:path w="252" h="170">
                <a:moveTo>
                  <a:pt x="239" y="169"/>
                </a:moveTo>
                <a:lnTo>
                  <a:pt x="238" y="167"/>
                </a:lnTo>
                <a:lnTo>
                  <a:pt x="238" y="166"/>
                </a:lnTo>
                <a:lnTo>
                  <a:pt x="238" y="165"/>
                </a:lnTo>
                <a:lnTo>
                  <a:pt x="237" y="164"/>
                </a:lnTo>
                <a:lnTo>
                  <a:pt x="236" y="164"/>
                </a:lnTo>
                <a:lnTo>
                  <a:pt x="235" y="163"/>
                </a:lnTo>
                <a:lnTo>
                  <a:pt x="230" y="162"/>
                </a:lnTo>
                <a:lnTo>
                  <a:pt x="225" y="162"/>
                </a:lnTo>
                <a:lnTo>
                  <a:pt x="220" y="160"/>
                </a:lnTo>
                <a:lnTo>
                  <a:pt x="214" y="158"/>
                </a:lnTo>
                <a:lnTo>
                  <a:pt x="209" y="157"/>
                </a:lnTo>
                <a:lnTo>
                  <a:pt x="203" y="155"/>
                </a:lnTo>
                <a:lnTo>
                  <a:pt x="198" y="154"/>
                </a:lnTo>
                <a:lnTo>
                  <a:pt x="193" y="153"/>
                </a:lnTo>
                <a:lnTo>
                  <a:pt x="192" y="151"/>
                </a:lnTo>
                <a:lnTo>
                  <a:pt x="189" y="150"/>
                </a:lnTo>
                <a:lnTo>
                  <a:pt x="186" y="148"/>
                </a:lnTo>
                <a:lnTo>
                  <a:pt x="182" y="146"/>
                </a:lnTo>
                <a:lnTo>
                  <a:pt x="179" y="145"/>
                </a:lnTo>
                <a:lnTo>
                  <a:pt x="175" y="143"/>
                </a:lnTo>
                <a:lnTo>
                  <a:pt x="172" y="142"/>
                </a:lnTo>
                <a:lnTo>
                  <a:pt x="169" y="141"/>
                </a:lnTo>
                <a:lnTo>
                  <a:pt x="167" y="139"/>
                </a:lnTo>
                <a:lnTo>
                  <a:pt x="165" y="138"/>
                </a:lnTo>
                <a:lnTo>
                  <a:pt x="163" y="137"/>
                </a:lnTo>
                <a:lnTo>
                  <a:pt x="161" y="136"/>
                </a:lnTo>
                <a:lnTo>
                  <a:pt x="160" y="136"/>
                </a:lnTo>
                <a:lnTo>
                  <a:pt x="160" y="135"/>
                </a:lnTo>
                <a:lnTo>
                  <a:pt x="159" y="135"/>
                </a:lnTo>
                <a:lnTo>
                  <a:pt x="159" y="135"/>
                </a:lnTo>
                <a:lnTo>
                  <a:pt x="156" y="135"/>
                </a:lnTo>
                <a:lnTo>
                  <a:pt x="156" y="133"/>
                </a:lnTo>
                <a:lnTo>
                  <a:pt x="156" y="130"/>
                </a:lnTo>
                <a:lnTo>
                  <a:pt x="154" y="126"/>
                </a:lnTo>
                <a:lnTo>
                  <a:pt x="154" y="121"/>
                </a:lnTo>
                <a:lnTo>
                  <a:pt x="152" y="117"/>
                </a:lnTo>
                <a:lnTo>
                  <a:pt x="151" y="113"/>
                </a:lnTo>
                <a:lnTo>
                  <a:pt x="149" y="111"/>
                </a:lnTo>
                <a:lnTo>
                  <a:pt x="147" y="110"/>
                </a:lnTo>
                <a:lnTo>
                  <a:pt x="146" y="108"/>
                </a:lnTo>
                <a:lnTo>
                  <a:pt x="146" y="107"/>
                </a:lnTo>
                <a:lnTo>
                  <a:pt x="145" y="106"/>
                </a:lnTo>
                <a:lnTo>
                  <a:pt x="144" y="105"/>
                </a:lnTo>
                <a:lnTo>
                  <a:pt x="143" y="105"/>
                </a:lnTo>
                <a:lnTo>
                  <a:pt x="142" y="105"/>
                </a:lnTo>
                <a:lnTo>
                  <a:pt x="140" y="105"/>
                </a:lnTo>
                <a:lnTo>
                  <a:pt x="138" y="105"/>
                </a:lnTo>
                <a:lnTo>
                  <a:pt x="137" y="102"/>
                </a:lnTo>
                <a:lnTo>
                  <a:pt x="136" y="101"/>
                </a:lnTo>
                <a:lnTo>
                  <a:pt x="134" y="99"/>
                </a:lnTo>
                <a:lnTo>
                  <a:pt x="132" y="98"/>
                </a:lnTo>
                <a:lnTo>
                  <a:pt x="130" y="97"/>
                </a:lnTo>
                <a:lnTo>
                  <a:pt x="128" y="96"/>
                </a:lnTo>
                <a:lnTo>
                  <a:pt x="126" y="95"/>
                </a:lnTo>
                <a:lnTo>
                  <a:pt x="124" y="93"/>
                </a:lnTo>
                <a:lnTo>
                  <a:pt x="122" y="92"/>
                </a:lnTo>
                <a:lnTo>
                  <a:pt x="120" y="92"/>
                </a:lnTo>
                <a:lnTo>
                  <a:pt x="117" y="91"/>
                </a:lnTo>
                <a:lnTo>
                  <a:pt x="115" y="90"/>
                </a:lnTo>
                <a:lnTo>
                  <a:pt x="113" y="88"/>
                </a:lnTo>
                <a:lnTo>
                  <a:pt x="110" y="87"/>
                </a:lnTo>
                <a:lnTo>
                  <a:pt x="109" y="85"/>
                </a:lnTo>
                <a:lnTo>
                  <a:pt x="108" y="84"/>
                </a:lnTo>
                <a:lnTo>
                  <a:pt x="106" y="83"/>
                </a:lnTo>
                <a:lnTo>
                  <a:pt x="104" y="82"/>
                </a:lnTo>
                <a:lnTo>
                  <a:pt x="102" y="81"/>
                </a:lnTo>
                <a:lnTo>
                  <a:pt x="101" y="79"/>
                </a:lnTo>
                <a:lnTo>
                  <a:pt x="100" y="76"/>
                </a:lnTo>
                <a:lnTo>
                  <a:pt x="99" y="74"/>
                </a:lnTo>
                <a:lnTo>
                  <a:pt x="97" y="71"/>
                </a:lnTo>
                <a:lnTo>
                  <a:pt x="94" y="67"/>
                </a:lnTo>
                <a:lnTo>
                  <a:pt x="91" y="65"/>
                </a:lnTo>
                <a:lnTo>
                  <a:pt x="89" y="62"/>
                </a:lnTo>
                <a:lnTo>
                  <a:pt x="86" y="60"/>
                </a:lnTo>
                <a:lnTo>
                  <a:pt x="83" y="59"/>
                </a:lnTo>
                <a:lnTo>
                  <a:pt x="82" y="59"/>
                </a:lnTo>
                <a:lnTo>
                  <a:pt x="81" y="59"/>
                </a:lnTo>
                <a:lnTo>
                  <a:pt x="80" y="57"/>
                </a:lnTo>
                <a:lnTo>
                  <a:pt x="79" y="56"/>
                </a:lnTo>
                <a:lnTo>
                  <a:pt x="78" y="55"/>
                </a:lnTo>
                <a:lnTo>
                  <a:pt x="79" y="53"/>
                </a:lnTo>
                <a:lnTo>
                  <a:pt x="79" y="52"/>
                </a:lnTo>
                <a:lnTo>
                  <a:pt x="78" y="52"/>
                </a:lnTo>
                <a:lnTo>
                  <a:pt x="77" y="52"/>
                </a:lnTo>
                <a:lnTo>
                  <a:pt x="75" y="52"/>
                </a:lnTo>
                <a:lnTo>
                  <a:pt x="73" y="49"/>
                </a:lnTo>
                <a:lnTo>
                  <a:pt x="70" y="45"/>
                </a:lnTo>
                <a:lnTo>
                  <a:pt x="68" y="36"/>
                </a:lnTo>
                <a:lnTo>
                  <a:pt x="65" y="36"/>
                </a:lnTo>
                <a:lnTo>
                  <a:pt x="65" y="34"/>
                </a:lnTo>
                <a:lnTo>
                  <a:pt x="60" y="34"/>
                </a:lnTo>
                <a:lnTo>
                  <a:pt x="59" y="33"/>
                </a:lnTo>
                <a:lnTo>
                  <a:pt x="58" y="32"/>
                </a:lnTo>
                <a:lnTo>
                  <a:pt x="57" y="31"/>
                </a:lnTo>
                <a:lnTo>
                  <a:pt x="57" y="29"/>
                </a:lnTo>
                <a:lnTo>
                  <a:pt x="54" y="29"/>
                </a:lnTo>
                <a:lnTo>
                  <a:pt x="52" y="29"/>
                </a:lnTo>
                <a:lnTo>
                  <a:pt x="50" y="28"/>
                </a:lnTo>
                <a:lnTo>
                  <a:pt x="48" y="26"/>
                </a:lnTo>
                <a:lnTo>
                  <a:pt x="46" y="26"/>
                </a:lnTo>
                <a:lnTo>
                  <a:pt x="44" y="25"/>
                </a:lnTo>
                <a:lnTo>
                  <a:pt x="41" y="24"/>
                </a:lnTo>
                <a:lnTo>
                  <a:pt x="38" y="22"/>
                </a:lnTo>
                <a:lnTo>
                  <a:pt x="34" y="20"/>
                </a:lnTo>
                <a:lnTo>
                  <a:pt x="32" y="19"/>
                </a:lnTo>
                <a:lnTo>
                  <a:pt x="31" y="17"/>
                </a:lnTo>
                <a:lnTo>
                  <a:pt x="30" y="16"/>
                </a:lnTo>
                <a:lnTo>
                  <a:pt x="29" y="15"/>
                </a:lnTo>
                <a:lnTo>
                  <a:pt x="26" y="14"/>
                </a:lnTo>
                <a:lnTo>
                  <a:pt x="23" y="13"/>
                </a:lnTo>
                <a:lnTo>
                  <a:pt x="19" y="12"/>
                </a:lnTo>
                <a:lnTo>
                  <a:pt x="14" y="10"/>
                </a:lnTo>
                <a:lnTo>
                  <a:pt x="9" y="9"/>
                </a:lnTo>
                <a:lnTo>
                  <a:pt x="5" y="6"/>
                </a:lnTo>
                <a:lnTo>
                  <a:pt x="2" y="4"/>
                </a:lnTo>
                <a:lnTo>
                  <a:pt x="0" y="0"/>
                </a:lnTo>
                <a:lnTo>
                  <a:pt x="251" y="99"/>
                </a:lnTo>
                <a:lnTo>
                  <a:pt x="239" y="169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72160" y="4122720"/>
            <a:ext cx="399960" cy="270000"/>
          </a:xfrm>
          <a:custGeom>
            <a:avLst/>
            <a:gdLst/>
            <a:ahLst/>
            <a:rect l="l" t="t" r="r" b="b"/>
            <a:pathLst>
              <a:path w="252" h="170">
                <a:moveTo>
                  <a:pt x="239" y="169"/>
                </a:moveTo>
                <a:lnTo>
                  <a:pt x="239" y="169"/>
                </a:lnTo>
                <a:lnTo>
                  <a:pt x="238" y="167"/>
                </a:lnTo>
                <a:lnTo>
                  <a:pt x="238" y="166"/>
                </a:lnTo>
                <a:lnTo>
                  <a:pt x="238" y="165"/>
                </a:lnTo>
                <a:lnTo>
                  <a:pt x="237" y="164"/>
                </a:lnTo>
                <a:lnTo>
                  <a:pt x="236" y="164"/>
                </a:lnTo>
                <a:lnTo>
                  <a:pt x="235" y="163"/>
                </a:lnTo>
                <a:lnTo>
                  <a:pt x="235" y="163"/>
                </a:lnTo>
                <a:lnTo>
                  <a:pt x="230" y="162"/>
                </a:lnTo>
                <a:lnTo>
                  <a:pt x="225" y="162"/>
                </a:lnTo>
                <a:lnTo>
                  <a:pt x="220" y="160"/>
                </a:lnTo>
                <a:lnTo>
                  <a:pt x="214" y="158"/>
                </a:lnTo>
                <a:lnTo>
                  <a:pt x="209" y="157"/>
                </a:lnTo>
                <a:lnTo>
                  <a:pt x="203" y="155"/>
                </a:lnTo>
                <a:lnTo>
                  <a:pt x="198" y="154"/>
                </a:lnTo>
                <a:lnTo>
                  <a:pt x="193" y="153"/>
                </a:lnTo>
                <a:lnTo>
                  <a:pt x="193" y="153"/>
                </a:lnTo>
                <a:lnTo>
                  <a:pt x="192" y="151"/>
                </a:lnTo>
                <a:lnTo>
                  <a:pt x="189" y="150"/>
                </a:lnTo>
                <a:lnTo>
                  <a:pt x="186" y="148"/>
                </a:lnTo>
                <a:lnTo>
                  <a:pt x="182" y="146"/>
                </a:lnTo>
                <a:lnTo>
                  <a:pt x="179" y="145"/>
                </a:lnTo>
                <a:lnTo>
                  <a:pt x="175" y="143"/>
                </a:lnTo>
                <a:lnTo>
                  <a:pt x="172" y="142"/>
                </a:lnTo>
                <a:lnTo>
                  <a:pt x="169" y="141"/>
                </a:lnTo>
                <a:lnTo>
                  <a:pt x="169" y="141"/>
                </a:lnTo>
                <a:lnTo>
                  <a:pt x="167" y="139"/>
                </a:lnTo>
                <a:lnTo>
                  <a:pt x="165" y="138"/>
                </a:lnTo>
                <a:lnTo>
                  <a:pt x="163" y="137"/>
                </a:lnTo>
                <a:lnTo>
                  <a:pt x="161" y="136"/>
                </a:lnTo>
                <a:lnTo>
                  <a:pt x="161" y="136"/>
                </a:lnTo>
                <a:lnTo>
                  <a:pt x="160" y="136"/>
                </a:lnTo>
                <a:lnTo>
                  <a:pt x="160" y="135"/>
                </a:lnTo>
                <a:lnTo>
                  <a:pt x="159" y="135"/>
                </a:lnTo>
                <a:lnTo>
                  <a:pt x="159" y="135"/>
                </a:lnTo>
                <a:lnTo>
                  <a:pt x="156" y="135"/>
                </a:lnTo>
                <a:lnTo>
                  <a:pt x="156" y="135"/>
                </a:lnTo>
                <a:lnTo>
                  <a:pt x="156" y="133"/>
                </a:lnTo>
                <a:lnTo>
                  <a:pt x="156" y="130"/>
                </a:lnTo>
                <a:lnTo>
                  <a:pt x="154" y="126"/>
                </a:lnTo>
                <a:lnTo>
                  <a:pt x="154" y="121"/>
                </a:lnTo>
                <a:lnTo>
                  <a:pt x="152" y="117"/>
                </a:lnTo>
                <a:lnTo>
                  <a:pt x="151" y="113"/>
                </a:lnTo>
                <a:lnTo>
                  <a:pt x="149" y="111"/>
                </a:lnTo>
                <a:lnTo>
                  <a:pt x="147" y="110"/>
                </a:lnTo>
                <a:lnTo>
                  <a:pt x="147" y="110"/>
                </a:lnTo>
                <a:lnTo>
                  <a:pt x="146" y="108"/>
                </a:lnTo>
                <a:lnTo>
                  <a:pt x="146" y="107"/>
                </a:lnTo>
                <a:lnTo>
                  <a:pt x="145" y="106"/>
                </a:lnTo>
                <a:lnTo>
                  <a:pt x="144" y="105"/>
                </a:lnTo>
                <a:lnTo>
                  <a:pt x="144" y="105"/>
                </a:lnTo>
                <a:lnTo>
                  <a:pt x="143" y="105"/>
                </a:lnTo>
                <a:lnTo>
                  <a:pt x="142" y="105"/>
                </a:lnTo>
                <a:lnTo>
                  <a:pt x="140" y="105"/>
                </a:lnTo>
                <a:lnTo>
                  <a:pt x="138" y="105"/>
                </a:lnTo>
                <a:lnTo>
                  <a:pt x="138" y="105"/>
                </a:lnTo>
                <a:lnTo>
                  <a:pt x="137" y="102"/>
                </a:lnTo>
                <a:lnTo>
                  <a:pt x="136" y="101"/>
                </a:lnTo>
                <a:lnTo>
                  <a:pt x="134" y="99"/>
                </a:lnTo>
                <a:lnTo>
                  <a:pt x="132" y="98"/>
                </a:lnTo>
                <a:lnTo>
                  <a:pt x="130" y="97"/>
                </a:lnTo>
                <a:lnTo>
                  <a:pt x="128" y="96"/>
                </a:lnTo>
                <a:lnTo>
                  <a:pt x="126" y="95"/>
                </a:lnTo>
                <a:lnTo>
                  <a:pt x="124" y="93"/>
                </a:lnTo>
                <a:lnTo>
                  <a:pt x="124" y="93"/>
                </a:lnTo>
                <a:lnTo>
                  <a:pt x="122" y="92"/>
                </a:lnTo>
                <a:lnTo>
                  <a:pt x="120" y="92"/>
                </a:lnTo>
                <a:lnTo>
                  <a:pt x="117" y="91"/>
                </a:lnTo>
                <a:lnTo>
                  <a:pt x="115" y="90"/>
                </a:lnTo>
                <a:lnTo>
                  <a:pt x="113" y="88"/>
                </a:lnTo>
                <a:lnTo>
                  <a:pt x="110" y="87"/>
                </a:lnTo>
                <a:lnTo>
                  <a:pt x="109" y="85"/>
                </a:lnTo>
                <a:lnTo>
                  <a:pt x="108" y="84"/>
                </a:lnTo>
                <a:lnTo>
                  <a:pt x="108" y="84"/>
                </a:lnTo>
                <a:lnTo>
                  <a:pt x="106" y="83"/>
                </a:lnTo>
                <a:lnTo>
                  <a:pt x="104" y="82"/>
                </a:lnTo>
                <a:lnTo>
                  <a:pt x="102" y="81"/>
                </a:lnTo>
                <a:lnTo>
                  <a:pt x="101" y="79"/>
                </a:lnTo>
                <a:lnTo>
                  <a:pt x="101" y="79"/>
                </a:lnTo>
                <a:lnTo>
                  <a:pt x="100" y="76"/>
                </a:lnTo>
                <a:lnTo>
                  <a:pt x="99" y="74"/>
                </a:lnTo>
                <a:lnTo>
                  <a:pt x="97" y="71"/>
                </a:lnTo>
                <a:lnTo>
                  <a:pt x="94" y="67"/>
                </a:lnTo>
                <a:lnTo>
                  <a:pt x="91" y="65"/>
                </a:lnTo>
                <a:lnTo>
                  <a:pt x="89" y="62"/>
                </a:lnTo>
                <a:lnTo>
                  <a:pt x="86" y="60"/>
                </a:lnTo>
                <a:lnTo>
                  <a:pt x="83" y="59"/>
                </a:lnTo>
                <a:lnTo>
                  <a:pt x="82" y="59"/>
                </a:lnTo>
                <a:lnTo>
                  <a:pt x="82" y="59"/>
                </a:lnTo>
                <a:lnTo>
                  <a:pt x="81" y="59"/>
                </a:lnTo>
                <a:lnTo>
                  <a:pt x="80" y="57"/>
                </a:lnTo>
                <a:lnTo>
                  <a:pt x="79" y="56"/>
                </a:lnTo>
                <a:lnTo>
                  <a:pt x="78" y="55"/>
                </a:lnTo>
                <a:lnTo>
                  <a:pt x="78" y="55"/>
                </a:lnTo>
                <a:lnTo>
                  <a:pt x="79" y="53"/>
                </a:lnTo>
                <a:lnTo>
                  <a:pt x="79" y="52"/>
                </a:lnTo>
                <a:lnTo>
                  <a:pt x="78" y="52"/>
                </a:lnTo>
                <a:lnTo>
                  <a:pt x="77" y="52"/>
                </a:lnTo>
                <a:lnTo>
                  <a:pt x="75" y="52"/>
                </a:lnTo>
                <a:lnTo>
                  <a:pt x="73" y="49"/>
                </a:lnTo>
                <a:lnTo>
                  <a:pt x="70" y="45"/>
                </a:lnTo>
                <a:lnTo>
                  <a:pt x="68" y="36"/>
                </a:lnTo>
                <a:lnTo>
                  <a:pt x="65" y="36"/>
                </a:lnTo>
                <a:lnTo>
                  <a:pt x="65" y="34"/>
                </a:lnTo>
                <a:lnTo>
                  <a:pt x="60" y="34"/>
                </a:lnTo>
                <a:lnTo>
                  <a:pt x="60" y="34"/>
                </a:lnTo>
                <a:lnTo>
                  <a:pt x="59" y="33"/>
                </a:lnTo>
                <a:lnTo>
                  <a:pt x="58" y="32"/>
                </a:lnTo>
                <a:lnTo>
                  <a:pt x="57" y="31"/>
                </a:lnTo>
                <a:lnTo>
                  <a:pt x="57" y="29"/>
                </a:lnTo>
                <a:lnTo>
                  <a:pt x="57" y="29"/>
                </a:lnTo>
                <a:lnTo>
                  <a:pt x="54" y="29"/>
                </a:lnTo>
                <a:lnTo>
                  <a:pt x="52" y="29"/>
                </a:lnTo>
                <a:lnTo>
                  <a:pt x="50" y="28"/>
                </a:lnTo>
                <a:lnTo>
                  <a:pt x="48" y="26"/>
                </a:lnTo>
                <a:lnTo>
                  <a:pt x="48" y="26"/>
                </a:lnTo>
                <a:lnTo>
                  <a:pt x="46" y="26"/>
                </a:lnTo>
                <a:lnTo>
                  <a:pt x="44" y="25"/>
                </a:lnTo>
                <a:lnTo>
                  <a:pt x="41" y="24"/>
                </a:lnTo>
                <a:lnTo>
                  <a:pt x="38" y="22"/>
                </a:lnTo>
                <a:lnTo>
                  <a:pt x="34" y="20"/>
                </a:lnTo>
                <a:lnTo>
                  <a:pt x="32" y="19"/>
                </a:lnTo>
                <a:lnTo>
                  <a:pt x="31" y="17"/>
                </a:lnTo>
                <a:lnTo>
                  <a:pt x="30" y="16"/>
                </a:lnTo>
                <a:lnTo>
                  <a:pt x="29" y="15"/>
                </a:lnTo>
                <a:lnTo>
                  <a:pt x="29" y="15"/>
                </a:lnTo>
                <a:lnTo>
                  <a:pt x="26" y="14"/>
                </a:lnTo>
                <a:lnTo>
                  <a:pt x="23" y="13"/>
                </a:lnTo>
                <a:lnTo>
                  <a:pt x="19" y="12"/>
                </a:lnTo>
                <a:lnTo>
                  <a:pt x="14" y="10"/>
                </a:lnTo>
                <a:lnTo>
                  <a:pt x="9" y="9"/>
                </a:lnTo>
                <a:lnTo>
                  <a:pt x="5" y="6"/>
                </a:lnTo>
                <a:lnTo>
                  <a:pt x="2" y="4"/>
                </a:lnTo>
                <a:lnTo>
                  <a:pt x="0" y="0"/>
                </a:lnTo>
                <a:lnTo>
                  <a:pt x="251" y="99"/>
                </a:lnTo>
                <a:lnTo>
                  <a:pt x="239" y="1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75000" y="2897280"/>
            <a:ext cx="2670120" cy="960480"/>
          </a:xfrm>
          <a:custGeom>
            <a:avLst/>
            <a:gdLst/>
            <a:ahLst/>
            <a:rect l="l" t="t" r="r" b="b"/>
            <a:pathLst>
              <a:path w="1683" h="605">
                <a:moveTo>
                  <a:pt x="50" y="0"/>
                </a:moveTo>
                <a:lnTo>
                  <a:pt x="60" y="7"/>
                </a:lnTo>
                <a:lnTo>
                  <a:pt x="70" y="16"/>
                </a:lnTo>
                <a:lnTo>
                  <a:pt x="80" y="26"/>
                </a:lnTo>
                <a:lnTo>
                  <a:pt x="89" y="36"/>
                </a:lnTo>
                <a:lnTo>
                  <a:pt x="99" y="47"/>
                </a:lnTo>
                <a:lnTo>
                  <a:pt x="109" y="59"/>
                </a:lnTo>
                <a:lnTo>
                  <a:pt x="118" y="71"/>
                </a:lnTo>
                <a:lnTo>
                  <a:pt x="127" y="84"/>
                </a:lnTo>
                <a:lnTo>
                  <a:pt x="136" y="96"/>
                </a:lnTo>
                <a:lnTo>
                  <a:pt x="145" y="109"/>
                </a:lnTo>
                <a:lnTo>
                  <a:pt x="155" y="122"/>
                </a:lnTo>
                <a:lnTo>
                  <a:pt x="163" y="134"/>
                </a:lnTo>
                <a:lnTo>
                  <a:pt x="172" y="146"/>
                </a:lnTo>
                <a:lnTo>
                  <a:pt x="182" y="158"/>
                </a:lnTo>
                <a:lnTo>
                  <a:pt x="191" y="169"/>
                </a:lnTo>
                <a:lnTo>
                  <a:pt x="200" y="180"/>
                </a:lnTo>
                <a:lnTo>
                  <a:pt x="208" y="187"/>
                </a:lnTo>
                <a:lnTo>
                  <a:pt x="215" y="194"/>
                </a:lnTo>
                <a:lnTo>
                  <a:pt x="223" y="200"/>
                </a:lnTo>
                <a:lnTo>
                  <a:pt x="231" y="206"/>
                </a:lnTo>
                <a:lnTo>
                  <a:pt x="239" y="211"/>
                </a:lnTo>
                <a:lnTo>
                  <a:pt x="247" y="216"/>
                </a:lnTo>
                <a:lnTo>
                  <a:pt x="255" y="221"/>
                </a:lnTo>
                <a:lnTo>
                  <a:pt x="263" y="225"/>
                </a:lnTo>
                <a:lnTo>
                  <a:pt x="271" y="230"/>
                </a:lnTo>
                <a:lnTo>
                  <a:pt x="280" y="234"/>
                </a:lnTo>
                <a:lnTo>
                  <a:pt x="288" y="239"/>
                </a:lnTo>
                <a:lnTo>
                  <a:pt x="297" y="244"/>
                </a:lnTo>
                <a:lnTo>
                  <a:pt x="305" y="250"/>
                </a:lnTo>
                <a:lnTo>
                  <a:pt x="314" y="255"/>
                </a:lnTo>
                <a:lnTo>
                  <a:pt x="322" y="261"/>
                </a:lnTo>
                <a:lnTo>
                  <a:pt x="331" y="268"/>
                </a:lnTo>
                <a:lnTo>
                  <a:pt x="339" y="275"/>
                </a:lnTo>
                <a:lnTo>
                  <a:pt x="349" y="281"/>
                </a:lnTo>
                <a:lnTo>
                  <a:pt x="359" y="288"/>
                </a:lnTo>
                <a:lnTo>
                  <a:pt x="369" y="294"/>
                </a:lnTo>
                <a:lnTo>
                  <a:pt x="379" y="300"/>
                </a:lnTo>
                <a:lnTo>
                  <a:pt x="391" y="306"/>
                </a:lnTo>
                <a:lnTo>
                  <a:pt x="402" y="312"/>
                </a:lnTo>
                <a:lnTo>
                  <a:pt x="413" y="318"/>
                </a:lnTo>
                <a:lnTo>
                  <a:pt x="425" y="324"/>
                </a:lnTo>
                <a:lnTo>
                  <a:pt x="436" y="329"/>
                </a:lnTo>
                <a:lnTo>
                  <a:pt x="447" y="335"/>
                </a:lnTo>
                <a:lnTo>
                  <a:pt x="459" y="340"/>
                </a:lnTo>
                <a:lnTo>
                  <a:pt x="470" y="345"/>
                </a:lnTo>
                <a:lnTo>
                  <a:pt x="480" y="350"/>
                </a:lnTo>
                <a:lnTo>
                  <a:pt x="490" y="355"/>
                </a:lnTo>
                <a:lnTo>
                  <a:pt x="499" y="359"/>
                </a:lnTo>
                <a:lnTo>
                  <a:pt x="512" y="365"/>
                </a:lnTo>
                <a:lnTo>
                  <a:pt x="525" y="370"/>
                </a:lnTo>
                <a:lnTo>
                  <a:pt x="540" y="374"/>
                </a:lnTo>
                <a:lnTo>
                  <a:pt x="554" y="378"/>
                </a:lnTo>
                <a:lnTo>
                  <a:pt x="570" y="381"/>
                </a:lnTo>
                <a:lnTo>
                  <a:pt x="586" y="384"/>
                </a:lnTo>
                <a:lnTo>
                  <a:pt x="602" y="386"/>
                </a:lnTo>
                <a:lnTo>
                  <a:pt x="618" y="388"/>
                </a:lnTo>
                <a:lnTo>
                  <a:pt x="634" y="390"/>
                </a:lnTo>
                <a:lnTo>
                  <a:pt x="649" y="391"/>
                </a:lnTo>
                <a:lnTo>
                  <a:pt x="664" y="393"/>
                </a:lnTo>
                <a:lnTo>
                  <a:pt x="679" y="394"/>
                </a:lnTo>
                <a:lnTo>
                  <a:pt x="693" y="396"/>
                </a:lnTo>
                <a:lnTo>
                  <a:pt x="706" y="397"/>
                </a:lnTo>
                <a:lnTo>
                  <a:pt x="719" y="398"/>
                </a:lnTo>
                <a:lnTo>
                  <a:pt x="730" y="400"/>
                </a:lnTo>
                <a:lnTo>
                  <a:pt x="740" y="402"/>
                </a:lnTo>
                <a:lnTo>
                  <a:pt x="749" y="403"/>
                </a:lnTo>
                <a:lnTo>
                  <a:pt x="759" y="405"/>
                </a:lnTo>
                <a:lnTo>
                  <a:pt x="768" y="407"/>
                </a:lnTo>
                <a:lnTo>
                  <a:pt x="777" y="408"/>
                </a:lnTo>
                <a:lnTo>
                  <a:pt x="787" y="410"/>
                </a:lnTo>
                <a:lnTo>
                  <a:pt x="796" y="412"/>
                </a:lnTo>
                <a:lnTo>
                  <a:pt x="806" y="414"/>
                </a:lnTo>
                <a:lnTo>
                  <a:pt x="815" y="416"/>
                </a:lnTo>
                <a:lnTo>
                  <a:pt x="826" y="417"/>
                </a:lnTo>
                <a:lnTo>
                  <a:pt x="836" y="420"/>
                </a:lnTo>
                <a:lnTo>
                  <a:pt x="847" y="422"/>
                </a:lnTo>
                <a:lnTo>
                  <a:pt x="858" y="424"/>
                </a:lnTo>
                <a:lnTo>
                  <a:pt x="870" y="426"/>
                </a:lnTo>
                <a:lnTo>
                  <a:pt x="883" y="429"/>
                </a:lnTo>
                <a:lnTo>
                  <a:pt x="896" y="431"/>
                </a:lnTo>
                <a:lnTo>
                  <a:pt x="909" y="433"/>
                </a:lnTo>
                <a:lnTo>
                  <a:pt x="922" y="435"/>
                </a:lnTo>
                <a:lnTo>
                  <a:pt x="936" y="436"/>
                </a:lnTo>
                <a:lnTo>
                  <a:pt x="950" y="437"/>
                </a:lnTo>
                <a:lnTo>
                  <a:pt x="963" y="437"/>
                </a:lnTo>
                <a:lnTo>
                  <a:pt x="977" y="437"/>
                </a:lnTo>
                <a:lnTo>
                  <a:pt x="991" y="436"/>
                </a:lnTo>
                <a:lnTo>
                  <a:pt x="1004" y="436"/>
                </a:lnTo>
                <a:lnTo>
                  <a:pt x="1017" y="436"/>
                </a:lnTo>
                <a:lnTo>
                  <a:pt x="1029" y="436"/>
                </a:lnTo>
                <a:lnTo>
                  <a:pt x="1041" y="436"/>
                </a:lnTo>
                <a:lnTo>
                  <a:pt x="1053" y="437"/>
                </a:lnTo>
                <a:lnTo>
                  <a:pt x="1063" y="437"/>
                </a:lnTo>
                <a:lnTo>
                  <a:pt x="1073" y="438"/>
                </a:lnTo>
                <a:lnTo>
                  <a:pt x="1082" y="440"/>
                </a:lnTo>
                <a:lnTo>
                  <a:pt x="1090" y="443"/>
                </a:lnTo>
                <a:lnTo>
                  <a:pt x="1437" y="575"/>
                </a:lnTo>
                <a:lnTo>
                  <a:pt x="1633" y="588"/>
                </a:lnTo>
                <a:lnTo>
                  <a:pt x="1682" y="604"/>
                </a:lnTo>
                <a:lnTo>
                  <a:pt x="1651" y="599"/>
                </a:lnTo>
                <a:lnTo>
                  <a:pt x="1394" y="600"/>
                </a:lnTo>
                <a:lnTo>
                  <a:pt x="1378" y="600"/>
                </a:lnTo>
                <a:lnTo>
                  <a:pt x="1362" y="599"/>
                </a:lnTo>
                <a:lnTo>
                  <a:pt x="1347" y="597"/>
                </a:lnTo>
                <a:lnTo>
                  <a:pt x="1333" y="594"/>
                </a:lnTo>
                <a:lnTo>
                  <a:pt x="1319" y="591"/>
                </a:lnTo>
                <a:lnTo>
                  <a:pt x="1306" y="587"/>
                </a:lnTo>
                <a:lnTo>
                  <a:pt x="1293" y="583"/>
                </a:lnTo>
                <a:lnTo>
                  <a:pt x="1281" y="578"/>
                </a:lnTo>
                <a:lnTo>
                  <a:pt x="1269" y="573"/>
                </a:lnTo>
                <a:lnTo>
                  <a:pt x="1259" y="567"/>
                </a:lnTo>
                <a:lnTo>
                  <a:pt x="1248" y="560"/>
                </a:lnTo>
                <a:lnTo>
                  <a:pt x="1238" y="554"/>
                </a:lnTo>
                <a:lnTo>
                  <a:pt x="1229" y="547"/>
                </a:lnTo>
                <a:lnTo>
                  <a:pt x="1220" y="541"/>
                </a:lnTo>
                <a:lnTo>
                  <a:pt x="1211" y="534"/>
                </a:lnTo>
                <a:lnTo>
                  <a:pt x="1203" y="527"/>
                </a:lnTo>
                <a:lnTo>
                  <a:pt x="1195" y="520"/>
                </a:lnTo>
                <a:lnTo>
                  <a:pt x="1188" y="513"/>
                </a:lnTo>
                <a:lnTo>
                  <a:pt x="1181" y="506"/>
                </a:lnTo>
                <a:lnTo>
                  <a:pt x="1174" y="499"/>
                </a:lnTo>
                <a:lnTo>
                  <a:pt x="1169" y="493"/>
                </a:lnTo>
                <a:lnTo>
                  <a:pt x="1163" y="487"/>
                </a:lnTo>
                <a:lnTo>
                  <a:pt x="1157" y="481"/>
                </a:lnTo>
                <a:lnTo>
                  <a:pt x="1153" y="475"/>
                </a:lnTo>
                <a:lnTo>
                  <a:pt x="1148" y="470"/>
                </a:lnTo>
                <a:lnTo>
                  <a:pt x="1143" y="466"/>
                </a:lnTo>
                <a:lnTo>
                  <a:pt x="1139" y="462"/>
                </a:lnTo>
                <a:lnTo>
                  <a:pt x="1135" y="459"/>
                </a:lnTo>
                <a:lnTo>
                  <a:pt x="1132" y="456"/>
                </a:lnTo>
                <a:lnTo>
                  <a:pt x="1129" y="454"/>
                </a:lnTo>
                <a:lnTo>
                  <a:pt x="1126" y="453"/>
                </a:lnTo>
                <a:lnTo>
                  <a:pt x="1123" y="452"/>
                </a:lnTo>
                <a:lnTo>
                  <a:pt x="981" y="456"/>
                </a:lnTo>
                <a:lnTo>
                  <a:pt x="977" y="456"/>
                </a:lnTo>
                <a:lnTo>
                  <a:pt x="972" y="456"/>
                </a:lnTo>
                <a:lnTo>
                  <a:pt x="967" y="456"/>
                </a:lnTo>
                <a:lnTo>
                  <a:pt x="961" y="455"/>
                </a:lnTo>
                <a:lnTo>
                  <a:pt x="955" y="455"/>
                </a:lnTo>
                <a:lnTo>
                  <a:pt x="948" y="454"/>
                </a:lnTo>
                <a:lnTo>
                  <a:pt x="942" y="454"/>
                </a:lnTo>
                <a:lnTo>
                  <a:pt x="935" y="453"/>
                </a:lnTo>
                <a:lnTo>
                  <a:pt x="928" y="453"/>
                </a:lnTo>
                <a:lnTo>
                  <a:pt x="921" y="452"/>
                </a:lnTo>
                <a:lnTo>
                  <a:pt x="915" y="451"/>
                </a:lnTo>
                <a:lnTo>
                  <a:pt x="909" y="451"/>
                </a:lnTo>
                <a:lnTo>
                  <a:pt x="903" y="450"/>
                </a:lnTo>
                <a:lnTo>
                  <a:pt x="898" y="450"/>
                </a:lnTo>
                <a:lnTo>
                  <a:pt x="894" y="449"/>
                </a:lnTo>
                <a:lnTo>
                  <a:pt x="890" y="449"/>
                </a:lnTo>
                <a:lnTo>
                  <a:pt x="524" y="402"/>
                </a:lnTo>
                <a:lnTo>
                  <a:pt x="519" y="401"/>
                </a:lnTo>
                <a:lnTo>
                  <a:pt x="513" y="400"/>
                </a:lnTo>
                <a:lnTo>
                  <a:pt x="508" y="399"/>
                </a:lnTo>
                <a:lnTo>
                  <a:pt x="502" y="397"/>
                </a:lnTo>
                <a:lnTo>
                  <a:pt x="496" y="395"/>
                </a:lnTo>
                <a:lnTo>
                  <a:pt x="491" y="393"/>
                </a:lnTo>
                <a:lnTo>
                  <a:pt x="485" y="391"/>
                </a:lnTo>
                <a:lnTo>
                  <a:pt x="480" y="389"/>
                </a:lnTo>
                <a:lnTo>
                  <a:pt x="474" y="386"/>
                </a:lnTo>
                <a:lnTo>
                  <a:pt x="469" y="383"/>
                </a:lnTo>
                <a:lnTo>
                  <a:pt x="463" y="380"/>
                </a:lnTo>
                <a:lnTo>
                  <a:pt x="459" y="377"/>
                </a:lnTo>
                <a:lnTo>
                  <a:pt x="454" y="374"/>
                </a:lnTo>
                <a:lnTo>
                  <a:pt x="449" y="370"/>
                </a:lnTo>
                <a:lnTo>
                  <a:pt x="445" y="367"/>
                </a:lnTo>
                <a:lnTo>
                  <a:pt x="441" y="363"/>
                </a:lnTo>
                <a:lnTo>
                  <a:pt x="432" y="355"/>
                </a:lnTo>
                <a:lnTo>
                  <a:pt x="423" y="346"/>
                </a:lnTo>
                <a:lnTo>
                  <a:pt x="414" y="339"/>
                </a:lnTo>
                <a:lnTo>
                  <a:pt x="405" y="331"/>
                </a:lnTo>
                <a:lnTo>
                  <a:pt x="396" y="324"/>
                </a:lnTo>
                <a:lnTo>
                  <a:pt x="388" y="317"/>
                </a:lnTo>
                <a:lnTo>
                  <a:pt x="379" y="311"/>
                </a:lnTo>
                <a:lnTo>
                  <a:pt x="370" y="304"/>
                </a:lnTo>
                <a:lnTo>
                  <a:pt x="362" y="299"/>
                </a:lnTo>
                <a:lnTo>
                  <a:pt x="353" y="293"/>
                </a:lnTo>
                <a:lnTo>
                  <a:pt x="345" y="288"/>
                </a:lnTo>
                <a:lnTo>
                  <a:pt x="336" y="283"/>
                </a:lnTo>
                <a:lnTo>
                  <a:pt x="328" y="278"/>
                </a:lnTo>
                <a:lnTo>
                  <a:pt x="320" y="274"/>
                </a:lnTo>
                <a:lnTo>
                  <a:pt x="312" y="270"/>
                </a:lnTo>
                <a:lnTo>
                  <a:pt x="304" y="267"/>
                </a:lnTo>
                <a:lnTo>
                  <a:pt x="292" y="261"/>
                </a:lnTo>
                <a:lnTo>
                  <a:pt x="281" y="256"/>
                </a:lnTo>
                <a:lnTo>
                  <a:pt x="270" y="251"/>
                </a:lnTo>
                <a:lnTo>
                  <a:pt x="259" y="245"/>
                </a:lnTo>
                <a:lnTo>
                  <a:pt x="249" y="240"/>
                </a:lnTo>
                <a:lnTo>
                  <a:pt x="239" y="234"/>
                </a:lnTo>
                <a:lnTo>
                  <a:pt x="229" y="228"/>
                </a:lnTo>
                <a:lnTo>
                  <a:pt x="219" y="222"/>
                </a:lnTo>
                <a:lnTo>
                  <a:pt x="209" y="215"/>
                </a:lnTo>
                <a:lnTo>
                  <a:pt x="199" y="209"/>
                </a:lnTo>
                <a:lnTo>
                  <a:pt x="189" y="202"/>
                </a:lnTo>
                <a:lnTo>
                  <a:pt x="179" y="194"/>
                </a:lnTo>
                <a:lnTo>
                  <a:pt x="168" y="187"/>
                </a:lnTo>
                <a:lnTo>
                  <a:pt x="158" y="179"/>
                </a:lnTo>
                <a:lnTo>
                  <a:pt x="147" y="170"/>
                </a:lnTo>
                <a:lnTo>
                  <a:pt x="136" y="161"/>
                </a:lnTo>
                <a:lnTo>
                  <a:pt x="129" y="156"/>
                </a:lnTo>
                <a:lnTo>
                  <a:pt x="122" y="150"/>
                </a:lnTo>
                <a:lnTo>
                  <a:pt x="115" y="143"/>
                </a:lnTo>
                <a:lnTo>
                  <a:pt x="108" y="137"/>
                </a:lnTo>
                <a:lnTo>
                  <a:pt x="100" y="130"/>
                </a:lnTo>
                <a:lnTo>
                  <a:pt x="93" y="123"/>
                </a:lnTo>
                <a:lnTo>
                  <a:pt x="85" y="116"/>
                </a:lnTo>
                <a:lnTo>
                  <a:pt x="77" y="109"/>
                </a:lnTo>
                <a:lnTo>
                  <a:pt x="68" y="102"/>
                </a:lnTo>
                <a:lnTo>
                  <a:pt x="59" y="94"/>
                </a:lnTo>
                <a:lnTo>
                  <a:pt x="51" y="87"/>
                </a:lnTo>
                <a:lnTo>
                  <a:pt x="41" y="79"/>
                </a:lnTo>
                <a:lnTo>
                  <a:pt x="31" y="72"/>
                </a:lnTo>
                <a:lnTo>
                  <a:pt x="22" y="65"/>
                </a:lnTo>
                <a:lnTo>
                  <a:pt x="11" y="59"/>
                </a:lnTo>
                <a:lnTo>
                  <a:pt x="0" y="52"/>
                </a:lnTo>
                <a:lnTo>
                  <a:pt x="5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75000" y="2897280"/>
            <a:ext cx="2670120" cy="960480"/>
          </a:xfrm>
          <a:custGeom>
            <a:avLst/>
            <a:gdLst/>
            <a:ahLst/>
            <a:rect l="l" t="t" r="r" b="b"/>
            <a:pathLst>
              <a:path w="1683" h="605">
                <a:moveTo>
                  <a:pt x="50" y="0"/>
                </a:moveTo>
                <a:lnTo>
                  <a:pt x="50" y="0"/>
                </a:lnTo>
                <a:lnTo>
                  <a:pt x="60" y="7"/>
                </a:lnTo>
                <a:lnTo>
                  <a:pt x="70" y="16"/>
                </a:lnTo>
                <a:lnTo>
                  <a:pt x="80" y="26"/>
                </a:lnTo>
                <a:lnTo>
                  <a:pt x="89" y="36"/>
                </a:lnTo>
                <a:lnTo>
                  <a:pt x="99" y="47"/>
                </a:lnTo>
                <a:lnTo>
                  <a:pt x="109" y="59"/>
                </a:lnTo>
                <a:lnTo>
                  <a:pt x="118" y="71"/>
                </a:lnTo>
                <a:lnTo>
                  <a:pt x="127" y="84"/>
                </a:lnTo>
                <a:lnTo>
                  <a:pt x="136" y="96"/>
                </a:lnTo>
                <a:lnTo>
                  <a:pt x="145" y="109"/>
                </a:lnTo>
                <a:lnTo>
                  <a:pt x="155" y="122"/>
                </a:lnTo>
                <a:lnTo>
                  <a:pt x="163" y="134"/>
                </a:lnTo>
                <a:lnTo>
                  <a:pt x="172" y="146"/>
                </a:lnTo>
                <a:lnTo>
                  <a:pt x="182" y="158"/>
                </a:lnTo>
                <a:lnTo>
                  <a:pt x="191" y="169"/>
                </a:lnTo>
                <a:lnTo>
                  <a:pt x="200" y="180"/>
                </a:lnTo>
                <a:lnTo>
                  <a:pt x="200" y="180"/>
                </a:lnTo>
                <a:lnTo>
                  <a:pt x="208" y="187"/>
                </a:lnTo>
                <a:lnTo>
                  <a:pt x="215" y="194"/>
                </a:lnTo>
                <a:lnTo>
                  <a:pt x="223" y="200"/>
                </a:lnTo>
                <a:lnTo>
                  <a:pt x="231" y="206"/>
                </a:lnTo>
                <a:lnTo>
                  <a:pt x="239" y="211"/>
                </a:lnTo>
                <a:lnTo>
                  <a:pt x="247" y="216"/>
                </a:lnTo>
                <a:lnTo>
                  <a:pt x="255" y="221"/>
                </a:lnTo>
                <a:lnTo>
                  <a:pt x="263" y="225"/>
                </a:lnTo>
                <a:lnTo>
                  <a:pt x="271" y="230"/>
                </a:lnTo>
                <a:lnTo>
                  <a:pt x="280" y="234"/>
                </a:lnTo>
                <a:lnTo>
                  <a:pt x="288" y="239"/>
                </a:lnTo>
                <a:lnTo>
                  <a:pt x="297" y="244"/>
                </a:lnTo>
                <a:lnTo>
                  <a:pt x="305" y="250"/>
                </a:lnTo>
                <a:lnTo>
                  <a:pt x="314" y="255"/>
                </a:lnTo>
                <a:lnTo>
                  <a:pt x="322" y="261"/>
                </a:lnTo>
                <a:lnTo>
                  <a:pt x="331" y="268"/>
                </a:lnTo>
                <a:lnTo>
                  <a:pt x="331" y="268"/>
                </a:lnTo>
                <a:lnTo>
                  <a:pt x="339" y="275"/>
                </a:lnTo>
                <a:lnTo>
                  <a:pt x="349" y="281"/>
                </a:lnTo>
                <a:lnTo>
                  <a:pt x="359" y="288"/>
                </a:lnTo>
                <a:lnTo>
                  <a:pt x="369" y="294"/>
                </a:lnTo>
                <a:lnTo>
                  <a:pt x="379" y="300"/>
                </a:lnTo>
                <a:lnTo>
                  <a:pt x="391" y="306"/>
                </a:lnTo>
                <a:lnTo>
                  <a:pt x="402" y="312"/>
                </a:lnTo>
                <a:lnTo>
                  <a:pt x="413" y="318"/>
                </a:lnTo>
                <a:lnTo>
                  <a:pt x="425" y="324"/>
                </a:lnTo>
                <a:lnTo>
                  <a:pt x="436" y="329"/>
                </a:lnTo>
                <a:lnTo>
                  <a:pt x="447" y="335"/>
                </a:lnTo>
                <a:lnTo>
                  <a:pt x="459" y="340"/>
                </a:lnTo>
                <a:lnTo>
                  <a:pt x="470" y="345"/>
                </a:lnTo>
                <a:lnTo>
                  <a:pt x="480" y="350"/>
                </a:lnTo>
                <a:lnTo>
                  <a:pt x="490" y="355"/>
                </a:lnTo>
                <a:lnTo>
                  <a:pt x="499" y="359"/>
                </a:lnTo>
                <a:lnTo>
                  <a:pt x="499" y="359"/>
                </a:lnTo>
                <a:lnTo>
                  <a:pt x="512" y="365"/>
                </a:lnTo>
                <a:lnTo>
                  <a:pt x="525" y="370"/>
                </a:lnTo>
                <a:lnTo>
                  <a:pt x="540" y="374"/>
                </a:lnTo>
                <a:lnTo>
                  <a:pt x="554" y="378"/>
                </a:lnTo>
                <a:lnTo>
                  <a:pt x="570" y="381"/>
                </a:lnTo>
                <a:lnTo>
                  <a:pt x="586" y="384"/>
                </a:lnTo>
                <a:lnTo>
                  <a:pt x="602" y="386"/>
                </a:lnTo>
                <a:lnTo>
                  <a:pt x="618" y="388"/>
                </a:lnTo>
                <a:lnTo>
                  <a:pt x="634" y="390"/>
                </a:lnTo>
                <a:lnTo>
                  <a:pt x="649" y="391"/>
                </a:lnTo>
                <a:lnTo>
                  <a:pt x="664" y="393"/>
                </a:lnTo>
                <a:lnTo>
                  <a:pt x="679" y="394"/>
                </a:lnTo>
                <a:lnTo>
                  <a:pt x="693" y="396"/>
                </a:lnTo>
                <a:lnTo>
                  <a:pt x="706" y="397"/>
                </a:lnTo>
                <a:lnTo>
                  <a:pt x="719" y="398"/>
                </a:lnTo>
                <a:lnTo>
                  <a:pt x="730" y="400"/>
                </a:lnTo>
                <a:lnTo>
                  <a:pt x="730" y="400"/>
                </a:lnTo>
                <a:lnTo>
                  <a:pt x="740" y="402"/>
                </a:lnTo>
                <a:lnTo>
                  <a:pt x="749" y="403"/>
                </a:lnTo>
                <a:lnTo>
                  <a:pt x="759" y="405"/>
                </a:lnTo>
                <a:lnTo>
                  <a:pt x="768" y="407"/>
                </a:lnTo>
                <a:lnTo>
                  <a:pt x="777" y="408"/>
                </a:lnTo>
                <a:lnTo>
                  <a:pt x="787" y="410"/>
                </a:lnTo>
                <a:lnTo>
                  <a:pt x="796" y="412"/>
                </a:lnTo>
                <a:lnTo>
                  <a:pt x="806" y="414"/>
                </a:lnTo>
                <a:lnTo>
                  <a:pt x="815" y="416"/>
                </a:lnTo>
                <a:lnTo>
                  <a:pt x="826" y="417"/>
                </a:lnTo>
                <a:lnTo>
                  <a:pt x="836" y="420"/>
                </a:lnTo>
                <a:lnTo>
                  <a:pt x="847" y="422"/>
                </a:lnTo>
                <a:lnTo>
                  <a:pt x="858" y="424"/>
                </a:lnTo>
                <a:lnTo>
                  <a:pt x="870" y="426"/>
                </a:lnTo>
                <a:lnTo>
                  <a:pt x="883" y="429"/>
                </a:lnTo>
                <a:lnTo>
                  <a:pt x="896" y="431"/>
                </a:lnTo>
                <a:lnTo>
                  <a:pt x="896" y="431"/>
                </a:lnTo>
                <a:lnTo>
                  <a:pt x="909" y="433"/>
                </a:lnTo>
                <a:lnTo>
                  <a:pt x="922" y="435"/>
                </a:lnTo>
                <a:lnTo>
                  <a:pt x="936" y="436"/>
                </a:lnTo>
                <a:lnTo>
                  <a:pt x="950" y="437"/>
                </a:lnTo>
                <a:lnTo>
                  <a:pt x="963" y="437"/>
                </a:lnTo>
                <a:lnTo>
                  <a:pt x="977" y="437"/>
                </a:lnTo>
                <a:lnTo>
                  <a:pt x="991" y="436"/>
                </a:lnTo>
                <a:lnTo>
                  <a:pt x="1004" y="436"/>
                </a:lnTo>
                <a:lnTo>
                  <a:pt x="1017" y="436"/>
                </a:lnTo>
                <a:lnTo>
                  <a:pt x="1029" y="436"/>
                </a:lnTo>
                <a:lnTo>
                  <a:pt x="1041" y="436"/>
                </a:lnTo>
                <a:lnTo>
                  <a:pt x="1053" y="437"/>
                </a:lnTo>
                <a:lnTo>
                  <a:pt x="1063" y="437"/>
                </a:lnTo>
                <a:lnTo>
                  <a:pt x="1073" y="438"/>
                </a:lnTo>
                <a:lnTo>
                  <a:pt x="1082" y="440"/>
                </a:lnTo>
                <a:lnTo>
                  <a:pt x="1090" y="443"/>
                </a:lnTo>
                <a:lnTo>
                  <a:pt x="1437" y="575"/>
                </a:lnTo>
                <a:lnTo>
                  <a:pt x="1633" y="588"/>
                </a:lnTo>
                <a:lnTo>
                  <a:pt x="1682" y="604"/>
                </a:lnTo>
                <a:lnTo>
                  <a:pt x="1651" y="599"/>
                </a:lnTo>
                <a:lnTo>
                  <a:pt x="1394" y="600"/>
                </a:lnTo>
                <a:lnTo>
                  <a:pt x="1394" y="600"/>
                </a:lnTo>
                <a:lnTo>
                  <a:pt x="1378" y="600"/>
                </a:lnTo>
                <a:lnTo>
                  <a:pt x="1362" y="599"/>
                </a:lnTo>
                <a:lnTo>
                  <a:pt x="1347" y="597"/>
                </a:lnTo>
                <a:lnTo>
                  <a:pt x="1333" y="594"/>
                </a:lnTo>
                <a:lnTo>
                  <a:pt x="1319" y="591"/>
                </a:lnTo>
                <a:lnTo>
                  <a:pt x="1306" y="587"/>
                </a:lnTo>
                <a:lnTo>
                  <a:pt x="1293" y="583"/>
                </a:lnTo>
                <a:lnTo>
                  <a:pt x="1281" y="578"/>
                </a:lnTo>
                <a:lnTo>
                  <a:pt x="1269" y="573"/>
                </a:lnTo>
                <a:lnTo>
                  <a:pt x="1259" y="567"/>
                </a:lnTo>
                <a:lnTo>
                  <a:pt x="1248" y="560"/>
                </a:lnTo>
                <a:lnTo>
                  <a:pt x="1238" y="554"/>
                </a:lnTo>
                <a:lnTo>
                  <a:pt x="1229" y="547"/>
                </a:lnTo>
                <a:lnTo>
                  <a:pt x="1220" y="541"/>
                </a:lnTo>
                <a:lnTo>
                  <a:pt x="1211" y="534"/>
                </a:lnTo>
                <a:lnTo>
                  <a:pt x="1203" y="527"/>
                </a:lnTo>
                <a:lnTo>
                  <a:pt x="1195" y="520"/>
                </a:lnTo>
                <a:lnTo>
                  <a:pt x="1188" y="513"/>
                </a:lnTo>
                <a:lnTo>
                  <a:pt x="1181" y="506"/>
                </a:lnTo>
                <a:lnTo>
                  <a:pt x="1174" y="499"/>
                </a:lnTo>
                <a:lnTo>
                  <a:pt x="1169" y="493"/>
                </a:lnTo>
                <a:lnTo>
                  <a:pt x="1163" y="487"/>
                </a:lnTo>
                <a:lnTo>
                  <a:pt x="1157" y="481"/>
                </a:lnTo>
                <a:lnTo>
                  <a:pt x="1153" y="475"/>
                </a:lnTo>
                <a:lnTo>
                  <a:pt x="1148" y="470"/>
                </a:lnTo>
                <a:lnTo>
                  <a:pt x="1143" y="466"/>
                </a:lnTo>
                <a:lnTo>
                  <a:pt x="1139" y="462"/>
                </a:lnTo>
                <a:lnTo>
                  <a:pt x="1135" y="459"/>
                </a:lnTo>
                <a:lnTo>
                  <a:pt x="1132" y="456"/>
                </a:lnTo>
                <a:lnTo>
                  <a:pt x="1129" y="454"/>
                </a:lnTo>
                <a:lnTo>
                  <a:pt x="1126" y="453"/>
                </a:lnTo>
                <a:lnTo>
                  <a:pt x="1123" y="452"/>
                </a:lnTo>
                <a:lnTo>
                  <a:pt x="981" y="456"/>
                </a:lnTo>
                <a:lnTo>
                  <a:pt x="981" y="456"/>
                </a:lnTo>
                <a:lnTo>
                  <a:pt x="977" y="456"/>
                </a:lnTo>
                <a:lnTo>
                  <a:pt x="972" y="456"/>
                </a:lnTo>
                <a:lnTo>
                  <a:pt x="967" y="456"/>
                </a:lnTo>
                <a:lnTo>
                  <a:pt x="961" y="455"/>
                </a:lnTo>
                <a:lnTo>
                  <a:pt x="955" y="455"/>
                </a:lnTo>
                <a:lnTo>
                  <a:pt x="948" y="454"/>
                </a:lnTo>
                <a:lnTo>
                  <a:pt x="942" y="454"/>
                </a:lnTo>
                <a:lnTo>
                  <a:pt x="935" y="453"/>
                </a:lnTo>
                <a:lnTo>
                  <a:pt x="928" y="453"/>
                </a:lnTo>
                <a:lnTo>
                  <a:pt x="921" y="452"/>
                </a:lnTo>
                <a:lnTo>
                  <a:pt x="915" y="451"/>
                </a:lnTo>
                <a:lnTo>
                  <a:pt x="909" y="451"/>
                </a:lnTo>
                <a:lnTo>
                  <a:pt x="903" y="450"/>
                </a:lnTo>
                <a:lnTo>
                  <a:pt x="898" y="450"/>
                </a:lnTo>
                <a:lnTo>
                  <a:pt x="894" y="449"/>
                </a:lnTo>
                <a:lnTo>
                  <a:pt x="890" y="449"/>
                </a:lnTo>
                <a:lnTo>
                  <a:pt x="524" y="402"/>
                </a:lnTo>
                <a:lnTo>
                  <a:pt x="524" y="402"/>
                </a:lnTo>
                <a:lnTo>
                  <a:pt x="519" y="401"/>
                </a:lnTo>
                <a:lnTo>
                  <a:pt x="513" y="400"/>
                </a:lnTo>
                <a:lnTo>
                  <a:pt x="508" y="399"/>
                </a:lnTo>
                <a:lnTo>
                  <a:pt x="502" y="397"/>
                </a:lnTo>
                <a:lnTo>
                  <a:pt x="496" y="395"/>
                </a:lnTo>
                <a:lnTo>
                  <a:pt x="491" y="393"/>
                </a:lnTo>
                <a:lnTo>
                  <a:pt x="485" y="391"/>
                </a:lnTo>
                <a:lnTo>
                  <a:pt x="480" y="389"/>
                </a:lnTo>
                <a:lnTo>
                  <a:pt x="474" y="386"/>
                </a:lnTo>
                <a:lnTo>
                  <a:pt x="469" y="383"/>
                </a:lnTo>
                <a:lnTo>
                  <a:pt x="463" y="380"/>
                </a:lnTo>
                <a:lnTo>
                  <a:pt x="459" y="377"/>
                </a:lnTo>
                <a:lnTo>
                  <a:pt x="454" y="374"/>
                </a:lnTo>
                <a:lnTo>
                  <a:pt x="449" y="370"/>
                </a:lnTo>
                <a:lnTo>
                  <a:pt x="445" y="367"/>
                </a:lnTo>
                <a:lnTo>
                  <a:pt x="441" y="363"/>
                </a:lnTo>
                <a:lnTo>
                  <a:pt x="441" y="363"/>
                </a:lnTo>
                <a:lnTo>
                  <a:pt x="432" y="355"/>
                </a:lnTo>
                <a:lnTo>
                  <a:pt x="423" y="346"/>
                </a:lnTo>
                <a:lnTo>
                  <a:pt x="414" y="339"/>
                </a:lnTo>
                <a:lnTo>
                  <a:pt x="405" y="331"/>
                </a:lnTo>
                <a:lnTo>
                  <a:pt x="396" y="324"/>
                </a:lnTo>
                <a:lnTo>
                  <a:pt x="388" y="317"/>
                </a:lnTo>
                <a:lnTo>
                  <a:pt x="379" y="311"/>
                </a:lnTo>
                <a:lnTo>
                  <a:pt x="370" y="304"/>
                </a:lnTo>
                <a:lnTo>
                  <a:pt x="362" y="299"/>
                </a:lnTo>
                <a:lnTo>
                  <a:pt x="353" y="293"/>
                </a:lnTo>
                <a:lnTo>
                  <a:pt x="345" y="288"/>
                </a:lnTo>
                <a:lnTo>
                  <a:pt x="336" y="283"/>
                </a:lnTo>
                <a:lnTo>
                  <a:pt x="328" y="278"/>
                </a:lnTo>
                <a:lnTo>
                  <a:pt x="320" y="274"/>
                </a:lnTo>
                <a:lnTo>
                  <a:pt x="312" y="270"/>
                </a:lnTo>
                <a:lnTo>
                  <a:pt x="304" y="267"/>
                </a:lnTo>
                <a:lnTo>
                  <a:pt x="304" y="267"/>
                </a:lnTo>
                <a:lnTo>
                  <a:pt x="292" y="261"/>
                </a:lnTo>
                <a:lnTo>
                  <a:pt x="281" y="256"/>
                </a:lnTo>
                <a:lnTo>
                  <a:pt x="270" y="251"/>
                </a:lnTo>
                <a:lnTo>
                  <a:pt x="259" y="245"/>
                </a:lnTo>
                <a:lnTo>
                  <a:pt x="249" y="240"/>
                </a:lnTo>
                <a:lnTo>
                  <a:pt x="239" y="234"/>
                </a:lnTo>
                <a:lnTo>
                  <a:pt x="229" y="228"/>
                </a:lnTo>
                <a:lnTo>
                  <a:pt x="219" y="222"/>
                </a:lnTo>
                <a:lnTo>
                  <a:pt x="209" y="215"/>
                </a:lnTo>
                <a:lnTo>
                  <a:pt x="199" y="209"/>
                </a:lnTo>
                <a:lnTo>
                  <a:pt x="189" y="202"/>
                </a:lnTo>
                <a:lnTo>
                  <a:pt x="179" y="194"/>
                </a:lnTo>
                <a:lnTo>
                  <a:pt x="168" y="187"/>
                </a:lnTo>
                <a:lnTo>
                  <a:pt x="158" y="179"/>
                </a:lnTo>
                <a:lnTo>
                  <a:pt x="147" y="170"/>
                </a:lnTo>
                <a:lnTo>
                  <a:pt x="136" y="161"/>
                </a:lnTo>
                <a:lnTo>
                  <a:pt x="136" y="161"/>
                </a:lnTo>
                <a:lnTo>
                  <a:pt x="129" y="156"/>
                </a:lnTo>
                <a:lnTo>
                  <a:pt x="122" y="150"/>
                </a:lnTo>
                <a:lnTo>
                  <a:pt x="115" y="143"/>
                </a:lnTo>
                <a:lnTo>
                  <a:pt x="108" y="137"/>
                </a:lnTo>
                <a:lnTo>
                  <a:pt x="100" y="130"/>
                </a:lnTo>
                <a:lnTo>
                  <a:pt x="93" y="123"/>
                </a:lnTo>
                <a:lnTo>
                  <a:pt x="85" y="116"/>
                </a:lnTo>
                <a:lnTo>
                  <a:pt x="77" y="109"/>
                </a:lnTo>
                <a:lnTo>
                  <a:pt x="68" y="102"/>
                </a:lnTo>
                <a:lnTo>
                  <a:pt x="59" y="94"/>
                </a:lnTo>
                <a:lnTo>
                  <a:pt x="51" y="87"/>
                </a:lnTo>
                <a:lnTo>
                  <a:pt x="41" y="79"/>
                </a:lnTo>
                <a:lnTo>
                  <a:pt x="31" y="72"/>
                </a:lnTo>
                <a:lnTo>
                  <a:pt x="22" y="65"/>
                </a:lnTo>
                <a:lnTo>
                  <a:pt x="11" y="59"/>
                </a:lnTo>
                <a:lnTo>
                  <a:pt x="0" y="52"/>
                </a:lnTo>
                <a:lnTo>
                  <a:pt x="5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7440" y="4336920"/>
            <a:ext cx="1068480" cy="885960"/>
          </a:xfrm>
          <a:custGeom>
            <a:avLst/>
            <a:gdLst/>
            <a:ahLst/>
            <a:rect l="l" t="t" r="r" b="b"/>
            <a:pathLst>
              <a:path w="673" h="558">
                <a:moveTo>
                  <a:pt x="316" y="0"/>
                </a:moveTo>
                <a:lnTo>
                  <a:pt x="273" y="36"/>
                </a:lnTo>
                <a:lnTo>
                  <a:pt x="260" y="46"/>
                </a:lnTo>
                <a:lnTo>
                  <a:pt x="246" y="57"/>
                </a:lnTo>
                <a:lnTo>
                  <a:pt x="233" y="68"/>
                </a:lnTo>
                <a:lnTo>
                  <a:pt x="219" y="79"/>
                </a:lnTo>
                <a:lnTo>
                  <a:pt x="206" y="91"/>
                </a:lnTo>
                <a:lnTo>
                  <a:pt x="193" y="102"/>
                </a:lnTo>
                <a:lnTo>
                  <a:pt x="179" y="114"/>
                </a:lnTo>
                <a:lnTo>
                  <a:pt x="167" y="126"/>
                </a:lnTo>
                <a:lnTo>
                  <a:pt x="154" y="139"/>
                </a:lnTo>
                <a:lnTo>
                  <a:pt x="141" y="151"/>
                </a:lnTo>
                <a:lnTo>
                  <a:pt x="128" y="164"/>
                </a:lnTo>
                <a:lnTo>
                  <a:pt x="115" y="177"/>
                </a:lnTo>
                <a:lnTo>
                  <a:pt x="103" y="189"/>
                </a:lnTo>
                <a:lnTo>
                  <a:pt x="90" y="202"/>
                </a:lnTo>
                <a:lnTo>
                  <a:pt x="78" y="215"/>
                </a:lnTo>
                <a:lnTo>
                  <a:pt x="66" y="228"/>
                </a:lnTo>
                <a:lnTo>
                  <a:pt x="61" y="232"/>
                </a:lnTo>
                <a:lnTo>
                  <a:pt x="57" y="237"/>
                </a:lnTo>
                <a:lnTo>
                  <a:pt x="53" y="241"/>
                </a:lnTo>
                <a:lnTo>
                  <a:pt x="49" y="245"/>
                </a:lnTo>
                <a:lnTo>
                  <a:pt x="45" y="249"/>
                </a:lnTo>
                <a:lnTo>
                  <a:pt x="41" y="253"/>
                </a:lnTo>
                <a:lnTo>
                  <a:pt x="36" y="258"/>
                </a:lnTo>
                <a:lnTo>
                  <a:pt x="32" y="262"/>
                </a:lnTo>
                <a:lnTo>
                  <a:pt x="28" y="266"/>
                </a:lnTo>
                <a:lnTo>
                  <a:pt x="24" y="270"/>
                </a:lnTo>
                <a:lnTo>
                  <a:pt x="20" y="274"/>
                </a:lnTo>
                <a:lnTo>
                  <a:pt x="16" y="278"/>
                </a:lnTo>
                <a:lnTo>
                  <a:pt x="12" y="283"/>
                </a:lnTo>
                <a:lnTo>
                  <a:pt x="8" y="287"/>
                </a:lnTo>
                <a:lnTo>
                  <a:pt x="4" y="292"/>
                </a:lnTo>
                <a:lnTo>
                  <a:pt x="0" y="296"/>
                </a:lnTo>
                <a:lnTo>
                  <a:pt x="5" y="297"/>
                </a:lnTo>
                <a:lnTo>
                  <a:pt x="9" y="299"/>
                </a:lnTo>
                <a:lnTo>
                  <a:pt x="14" y="300"/>
                </a:lnTo>
                <a:lnTo>
                  <a:pt x="19" y="301"/>
                </a:lnTo>
                <a:lnTo>
                  <a:pt x="23" y="302"/>
                </a:lnTo>
                <a:lnTo>
                  <a:pt x="28" y="302"/>
                </a:lnTo>
                <a:lnTo>
                  <a:pt x="33" y="303"/>
                </a:lnTo>
                <a:lnTo>
                  <a:pt x="38" y="304"/>
                </a:lnTo>
                <a:lnTo>
                  <a:pt x="43" y="304"/>
                </a:lnTo>
                <a:lnTo>
                  <a:pt x="48" y="305"/>
                </a:lnTo>
                <a:lnTo>
                  <a:pt x="52" y="306"/>
                </a:lnTo>
                <a:lnTo>
                  <a:pt x="57" y="306"/>
                </a:lnTo>
                <a:lnTo>
                  <a:pt x="62" y="307"/>
                </a:lnTo>
                <a:lnTo>
                  <a:pt x="67" y="308"/>
                </a:lnTo>
                <a:lnTo>
                  <a:pt x="72" y="309"/>
                </a:lnTo>
                <a:lnTo>
                  <a:pt x="76" y="311"/>
                </a:lnTo>
                <a:lnTo>
                  <a:pt x="94" y="318"/>
                </a:lnTo>
                <a:lnTo>
                  <a:pt x="113" y="325"/>
                </a:lnTo>
                <a:lnTo>
                  <a:pt x="131" y="332"/>
                </a:lnTo>
                <a:lnTo>
                  <a:pt x="150" y="338"/>
                </a:lnTo>
                <a:lnTo>
                  <a:pt x="168" y="345"/>
                </a:lnTo>
                <a:lnTo>
                  <a:pt x="187" y="352"/>
                </a:lnTo>
                <a:lnTo>
                  <a:pt x="205" y="359"/>
                </a:lnTo>
                <a:lnTo>
                  <a:pt x="223" y="366"/>
                </a:lnTo>
                <a:lnTo>
                  <a:pt x="242" y="373"/>
                </a:lnTo>
                <a:lnTo>
                  <a:pt x="260" y="380"/>
                </a:lnTo>
                <a:lnTo>
                  <a:pt x="278" y="387"/>
                </a:lnTo>
                <a:lnTo>
                  <a:pt x="297" y="394"/>
                </a:lnTo>
                <a:lnTo>
                  <a:pt x="315" y="401"/>
                </a:lnTo>
                <a:lnTo>
                  <a:pt x="333" y="408"/>
                </a:lnTo>
                <a:lnTo>
                  <a:pt x="351" y="416"/>
                </a:lnTo>
                <a:lnTo>
                  <a:pt x="369" y="423"/>
                </a:lnTo>
                <a:lnTo>
                  <a:pt x="387" y="430"/>
                </a:lnTo>
                <a:lnTo>
                  <a:pt x="404" y="438"/>
                </a:lnTo>
                <a:lnTo>
                  <a:pt x="422" y="446"/>
                </a:lnTo>
                <a:lnTo>
                  <a:pt x="440" y="454"/>
                </a:lnTo>
                <a:lnTo>
                  <a:pt x="457" y="461"/>
                </a:lnTo>
                <a:lnTo>
                  <a:pt x="475" y="469"/>
                </a:lnTo>
                <a:lnTo>
                  <a:pt x="492" y="477"/>
                </a:lnTo>
                <a:lnTo>
                  <a:pt x="509" y="486"/>
                </a:lnTo>
                <a:lnTo>
                  <a:pt x="526" y="494"/>
                </a:lnTo>
                <a:lnTo>
                  <a:pt x="544" y="503"/>
                </a:lnTo>
                <a:lnTo>
                  <a:pt x="560" y="511"/>
                </a:lnTo>
                <a:lnTo>
                  <a:pt x="577" y="520"/>
                </a:lnTo>
                <a:lnTo>
                  <a:pt x="593" y="529"/>
                </a:lnTo>
                <a:lnTo>
                  <a:pt x="610" y="538"/>
                </a:lnTo>
                <a:lnTo>
                  <a:pt x="626" y="548"/>
                </a:lnTo>
                <a:lnTo>
                  <a:pt x="642" y="557"/>
                </a:lnTo>
                <a:lnTo>
                  <a:pt x="644" y="555"/>
                </a:lnTo>
                <a:lnTo>
                  <a:pt x="647" y="552"/>
                </a:lnTo>
                <a:lnTo>
                  <a:pt x="652" y="550"/>
                </a:lnTo>
                <a:lnTo>
                  <a:pt x="656" y="548"/>
                </a:lnTo>
                <a:lnTo>
                  <a:pt x="661" y="545"/>
                </a:lnTo>
                <a:lnTo>
                  <a:pt x="665" y="543"/>
                </a:lnTo>
                <a:lnTo>
                  <a:pt x="669" y="540"/>
                </a:lnTo>
                <a:lnTo>
                  <a:pt x="672" y="538"/>
                </a:lnTo>
                <a:lnTo>
                  <a:pt x="652" y="528"/>
                </a:lnTo>
                <a:lnTo>
                  <a:pt x="633" y="518"/>
                </a:lnTo>
                <a:lnTo>
                  <a:pt x="613" y="510"/>
                </a:lnTo>
                <a:lnTo>
                  <a:pt x="594" y="501"/>
                </a:lnTo>
                <a:lnTo>
                  <a:pt x="575" y="492"/>
                </a:lnTo>
                <a:lnTo>
                  <a:pt x="555" y="483"/>
                </a:lnTo>
                <a:lnTo>
                  <a:pt x="536" y="475"/>
                </a:lnTo>
                <a:lnTo>
                  <a:pt x="517" y="467"/>
                </a:lnTo>
                <a:lnTo>
                  <a:pt x="498" y="459"/>
                </a:lnTo>
                <a:lnTo>
                  <a:pt x="478" y="450"/>
                </a:lnTo>
                <a:lnTo>
                  <a:pt x="459" y="443"/>
                </a:lnTo>
                <a:lnTo>
                  <a:pt x="440" y="435"/>
                </a:lnTo>
                <a:lnTo>
                  <a:pt x="420" y="428"/>
                </a:lnTo>
                <a:lnTo>
                  <a:pt x="401" y="420"/>
                </a:lnTo>
                <a:lnTo>
                  <a:pt x="382" y="412"/>
                </a:lnTo>
                <a:lnTo>
                  <a:pt x="362" y="405"/>
                </a:lnTo>
                <a:lnTo>
                  <a:pt x="343" y="398"/>
                </a:lnTo>
                <a:lnTo>
                  <a:pt x="323" y="391"/>
                </a:lnTo>
                <a:lnTo>
                  <a:pt x="304" y="383"/>
                </a:lnTo>
                <a:lnTo>
                  <a:pt x="284" y="376"/>
                </a:lnTo>
                <a:lnTo>
                  <a:pt x="265" y="369"/>
                </a:lnTo>
                <a:lnTo>
                  <a:pt x="245" y="362"/>
                </a:lnTo>
                <a:lnTo>
                  <a:pt x="225" y="354"/>
                </a:lnTo>
                <a:lnTo>
                  <a:pt x="206" y="348"/>
                </a:lnTo>
                <a:lnTo>
                  <a:pt x="186" y="340"/>
                </a:lnTo>
                <a:lnTo>
                  <a:pt x="166" y="333"/>
                </a:lnTo>
                <a:lnTo>
                  <a:pt x="146" y="326"/>
                </a:lnTo>
                <a:lnTo>
                  <a:pt x="126" y="319"/>
                </a:lnTo>
                <a:lnTo>
                  <a:pt x="106" y="311"/>
                </a:lnTo>
                <a:lnTo>
                  <a:pt x="86" y="304"/>
                </a:lnTo>
                <a:lnTo>
                  <a:pt x="66" y="296"/>
                </a:lnTo>
                <a:lnTo>
                  <a:pt x="46" y="289"/>
                </a:lnTo>
                <a:lnTo>
                  <a:pt x="324" y="9"/>
                </a:lnTo>
                <a:lnTo>
                  <a:pt x="31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97440" y="4336920"/>
            <a:ext cx="1068480" cy="885960"/>
          </a:xfrm>
          <a:custGeom>
            <a:avLst/>
            <a:gdLst/>
            <a:ahLst/>
            <a:rect l="l" t="t" r="r" b="b"/>
            <a:pathLst>
              <a:path w="673" h="558">
                <a:moveTo>
                  <a:pt x="316" y="0"/>
                </a:moveTo>
                <a:lnTo>
                  <a:pt x="273" y="36"/>
                </a:lnTo>
                <a:lnTo>
                  <a:pt x="273" y="36"/>
                </a:lnTo>
                <a:lnTo>
                  <a:pt x="260" y="46"/>
                </a:lnTo>
                <a:lnTo>
                  <a:pt x="246" y="57"/>
                </a:lnTo>
                <a:lnTo>
                  <a:pt x="233" y="68"/>
                </a:lnTo>
                <a:lnTo>
                  <a:pt x="219" y="79"/>
                </a:lnTo>
                <a:lnTo>
                  <a:pt x="206" y="91"/>
                </a:lnTo>
                <a:lnTo>
                  <a:pt x="193" y="102"/>
                </a:lnTo>
                <a:lnTo>
                  <a:pt x="179" y="114"/>
                </a:lnTo>
                <a:lnTo>
                  <a:pt x="167" y="126"/>
                </a:lnTo>
                <a:lnTo>
                  <a:pt x="154" y="139"/>
                </a:lnTo>
                <a:lnTo>
                  <a:pt x="141" y="151"/>
                </a:lnTo>
                <a:lnTo>
                  <a:pt x="128" y="164"/>
                </a:lnTo>
                <a:lnTo>
                  <a:pt x="115" y="177"/>
                </a:lnTo>
                <a:lnTo>
                  <a:pt x="103" y="189"/>
                </a:lnTo>
                <a:lnTo>
                  <a:pt x="90" y="202"/>
                </a:lnTo>
                <a:lnTo>
                  <a:pt x="78" y="215"/>
                </a:lnTo>
                <a:lnTo>
                  <a:pt x="66" y="228"/>
                </a:lnTo>
                <a:lnTo>
                  <a:pt x="66" y="228"/>
                </a:lnTo>
                <a:lnTo>
                  <a:pt x="61" y="232"/>
                </a:lnTo>
                <a:lnTo>
                  <a:pt x="57" y="237"/>
                </a:lnTo>
                <a:lnTo>
                  <a:pt x="53" y="241"/>
                </a:lnTo>
                <a:lnTo>
                  <a:pt x="49" y="245"/>
                </a:lnTo>
                <a:lnTo>
                  <a:pt x="45" y="249"/>
                </a:lnTo>
                <a:lnTo>
                  <a:pt x="41" y="253"/>
                </a:lnTo>
                <a:lnTo>
                  <a:pt x="36" y="258"/>
                </a:lnTo>
                <a:lnTo>
                  <a:pt x="32" y="262"/>
                </a:lnTo>
                <a:lnTo>
                  <a:pt x="28" y="266"/>
                </a:lnTo>
                <a:lnTo>
                  <a:pt x="24" y="270"/>
                </a:lnTo>
                <a:lnTo>
                  <a:pt x="20" y="274"/>
                </a:lnTo>
                <a:lnTo>
                  <a:pt x="16" y="278"/>
                </a:lnTo>
                <a:lnTo>
                  <a:pt x="12" y="283"/>
                </a:lnTo>
                <a:lnTo>
                  <a:pt x="8" y="287"/>
                </a:lnTo>
                <a:lnTo>
                  <a:pt x="4" y="292"/>
                </a:lnTo>
                <a:lnTo>
                  <a:pt x="0" y="296"/>
                </a:lnTo>
                <a:lnTo>
                  <a:pt x="0" y="296"/>
                </a:lnTo>
                <a:lnTo>
                  <a:pt x="5" y="297"/>
                </a:lnTo>
                <a:lnTo>
                  <a:pt x="9" y="299"/>
                </a:lnTo>
                <a:lnTo>
                  <a:pt x="14" y="300"/>
                </a:lnTo>
                <a:lnTo>
                  <a:pt x="19" y="301"/>
                </a:lnTo>
                <a:lnTo>
                  <a:pt x="23" y="302"/>
                </a:lnTo>
                <a:lnTo>
                  <a:pt x="28" y="302"/>
                </a:lnTo>
                <a:lnTo>
                  <a:pt x="33" y="303"/>
                </a:lnTo>
                <a:lnTo>
                  <a:pt x="38" y="304"/>
                </a:lnTo>
                <a:lnTo>
                  <a:pt x="43" y="304"/>
                </a:lnTo>
                <a:lnTo>
                  <a:pt x="48" y="305"/>
                </a:lnTo>
                <a:lnTo>
                  <a:pt x="52" y="306"/>
                </a:lnTo>
                <a:lnTo>
                  <a:pt x="57" y="306"/>
                </a:lnTo>
                <a:lnTo>
                  <a:pt x="62" y="307"/>
                </a:lnTo>
                <a:lnTo>
                  <a:pt x="67" y="308"/>
                </a:lnTo>
                <a:lnTo>
                  <a:pt x="72" y="309"/>
                </a:lnTo>
                <a:lnTo>
                  <a:pt x="76" y="311"/>
                </a:lnTo>
                <a:lnTo>
                  <a:pt x="76" y="311"/>
                </a:lnTo>
                <a:lnTo>
                  <a:pt x="94" y="318"/>
                </a:lnTo>
                <a:lnTo>
                  <a:pt x="113" y="325"/>
                </a:lnTo>
                <a:lnTo>
                  <a:pt x="131" y="332"/>
                </a:lnTo>
                <a:lnTo>
                  <a:pt x="150" y="338"/>
                </a:lnTo>
                <a:lnTo>
                  <a:pt x="168" y="345"/>
                </a:lnTo>
                <a:lnTo>
                  <a:pt x="187" y="352"/>
                </a:lnTo>
                <a:lnTo>
                  <a:pt x="205" y="359"/>
                </a:lnTo>
                <a:lnTo>
                  <a:pt x="223" y="366"/>
                </a:lnTo>
                <a:lnTo>
                  <a:pt x="242" y="373"/>
                </a:lnTo>
                <a:lnTo>
                  <a:pt x="260" y="380"/>
                </a:lnTo>
                <a:lnTo>
                  <a:pt x="278" y="387"/>
                </a:lnTo>
                <a:lnTo>
                  <a:pt x="297" y="394"/>
                </a:lnTo>
                <a:lnTo>
                  <a:pt x="315" y="401"/>
                </a:lnTo>
                <a:lnTo>
                  <a:pt x="333" y="408"/>
                </a:lnTo>
                <a:lnTo>
                  <a:pt x="351" y="416"/>
                </a:lnTo>
                <a:lnTo>
                  <a:pt x="369" y="423"/>
                </a:lnTo>
                <a:lnTo>
                  <a:pt x="387" y="430"/>
                </a:lnTo>
                <a:lnTo>
                  <a:pt x="404" y="438"/>
                </a:lnTo>
                <a:lnTo>
                  <a:pt x="422" y="446"/>
                </a:lnTo>
                <a:lnTo>
                  <a:pt x="440" y="454"/>
                </a:lnTo>
                <a:lnTo>
                  <a:pt x="457" y="461"/>
                </a:lnTo>
                <a:lnTo>
                  <a:pt x="475" y="469"/>
                </a:lnTo>
                <a:lnTo>
                  <a:pt x="492" y="477"/>
                </a:lnTo>
                <a:lnTo>
                  <a:pt x="509" y="486"/>
                </a:lnTo>
                <a:lnTo>
                  <a:pt x="526" y="494"/>
                </a:lnTo>
                <a:lnTo>
                  <a:pt x="544" y="503"/>
                </a:lnTo>
                <a:lnTo>
                  <a:pt x="560" y="511"/>
                </a:lnTo>
                <a:lnTo>
                  <a:pt x="577" y="520"/>
                </a:lnTo>
                <a:lnTo>
                  <a:pt x="593" y="529"/>
                </a:lnTo>
                <a:lnTo>
                  <a:pt x="610" y="538"/>
                </a:lnTo>
                <a:lnTo>
                  <a:pt x="626" y="548"/>
                </a:lnTo>
                <a:lnTo>
                  <a:pt x="642" y="557"/>
                </a:lnTo>
                <a:lnTo>
                  <a:pt x="642" y="557"/>
                </a:lnTo>
                <a:lnTo>
                  <a:pt x="644" y="555"/>
                </a:lnTo>
                <a:lnTo>
                  <a:pt x="647" y="552"/>
                </a:lnTo>
                <a:lnTo>
                  <a:pt x="652" y="550"/>
                </a:lnTo>
                <a:lnTo>
                  <a:pt x="656" y="548"/>
                </a:lnTo>
                <a:lnTo>
                  <a:pt x="661" y="545"/>
                </a:lnTo>
                <a:lnTo>
                  <a:pt x="665" y="543"/>
                </a:lnTo>
                <a:lnTo>
                  <a:pt x="669" y="540"/>
                </a:lnTo>
                <a:lnTo>
                  <a:pt x="672" y="538"/>
                </a:lnTo>
                <a:lnTo>
                  <a:pt x="672" y="538"/>
                </a:lnTo>
                <a:lnTo>
                  <a:pt x="652" y="528"/>
                </a:lnTo>
                <a:lnTo>
                  <a:pt x="633" y="518"/>
                </a:lnTo>
                <a:lnTo>
                  <a:pt x="613" y="510"/>
                </a:lnTo>
                <a:lnTo>
                  <a:pt x="594" y="501"/>
                </a:lnTo>
                <a:lnTo>
                  <a:pt x="575" y="492"/>
                </a:lnTo>
                <a:lnTo>
                  <a:pt x="555" y="483"/>
                </a:lnTo>
                <a:lnTo>
                  <a:pt x="536" y="475"/>
                </a:lnTo>
                <a:lnTo>
                  <a:pt x="517" y="467"/>
                </a:lnTo>
                <a:lnTo>
                  <a:pt x="498" y="459"/>
                </a:lnTo>
                <a:lnTo>
                  <a:pt x="478" y="450"/>
                </a:lnTo>
                <a:lnTo>
                  <a:pt x="459" y="443"/>
                </a:lnTo>
                <a:lnTo>
                  <a:pt x="440" y="435"/>
                </a:lnTo>
                <a:lnTo>
                  <a:pt x="420" y="428"/>
                </a:lnTo>
                <a:lnTo>
                  <a:pt x="401" y="420"/>
                </a:lnTo>
                <a:lnTo>
                  <a:pt x="382" y="412"/>
                </a:lnTo>
                <a:lnTo>
                  <a:pt x="362" y="405"/>
                </a:lnTo>
                <a:lnTo>
                  <a:pt x="343" y="398"/>
                </a:lnTo>
                <a:lnTo>
                  <a:pt x="323" y="391"/>
                </a:lnTo>
                <a:lnTo>
                  <a:pt x="304" y="383"/>
                </a:lnTo>
                <a:lnTo>
                  <a:pt x="284" y="376"/>
                </a:lnTo>
                <a:lnTo>
                  <a:pt x="265" y="369"/>
                </a:lnTo>
                <a:lnTo>
                  <a:pt x="245" y="362"/>
                </a:lnTo>
                <a:lnTo>
                  <a:pt x="225" y="354"/>
                </a:lnTo>
                <a:lnTo>
                  <a:pt x="206" y="348"/>
                </a:lnTo>
                <a:lnTo>
                  <a:pt x="186" y="340"/>
                </a:lnTo>
                <a:lnTo>
                  <a:pt x="166" y="333"/>
                </a:lnTo>
                <a:lnTo>
                  <a:pt x="146" y="326"/>
                </a:lnTo>
                <a:lnTo>
                  <a:pt x="126" y="319"/>
                </a:lnTo>
                <a:lnTo>
                  <a:pt x="106" y="311"/>
                </a:lnTo>
                <a:lnTo>
                  <a:pt x="86" y="304"/>
                </a:lnTo>
                <a:lnTo>
                  <a:pt x="66" y="296"/>
                </a:lnTo>
                <a:lnTo>
                  <a:pt x="46" y="289"/>
                </a:lnTo>
                <a:lnTo>
                  <a:pt x="324" y="9"/>
                </a:lnTo>
                <a:lnTo>
                  <a:pt x="3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6920" y="2492280"/>
            <a:ext cx="777960" cy="309600"/>
          </a:xfrm>
          <a:custGeom>
            <a:avLst/>
            <a:gdLst/>
            <a:ahLst/>
            <a:rect l="l" t="t" r="r" b="b"/>
            <a:pathLst>
              <a:path w="490" h="195">
                <a:moveTo>
                  <a:pt x="0" y="1"/>
                </a:moveTo>
                <a:lnTo>
                  <a:pt x="489" y="26"/>
                </a:lnTo>
                <a:lnTo>
                  <a:pt x="457" y="194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66920" y="2492280"/>
            <a:ext cx="777960" cy="309600"/>
          </a:xfrm>
          <a:custGeom>
            <a:avLst/>
            <a:gdLst/>
            <a:ahLst/>
            <a:rect l="l" t="t" r="r" b="b"/>
            <a:pathLst>
              <a:path w="490" h="195">
                <a:moveTo>
                  <a:pt x="0" y="1"/>
                </a:moveTo>
                <a:lnTo>
                  <a:pt x="489" y="26"/>
                </a:lnTo>
                <a:lnTo>
                  <a:pt x="457" y="194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2720" y="2446200"/>
            <a:ext cx="372960" cy="582840"/>
          </a:xfrm>
          <a:custGeom>
            <a:avLst/>
            <a:gdLst/>
            <a:ahLst/>
            <a:rect l="l" t="t" r="r" b="b"/>
            <a:pathLst>
              <a:path w="235" h="367">
                <a:moveTo>
                  <a:pt x="69" y="0"/>
                </a:moveTo>
                <a:lnTo>
                  <a:pt x="163" y="0"/>
                </a:lnTo>
                <a:lnTo>
                  <a:pt x="234" y="366"/>
                </a:lnTo>
                <a:lnTo>
                  <a:pt x="0" y="366"/>
                </a:lnTo>
                <a:lnTo>
                  <a:pt x="69" y="0"/>
                </a:lnTo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2720" y="2446200"/>
            <a:ext cx="372960" cy="582840"/>
          </a:xfrm>
          <a:custGeom>
            <a:avLst/>
            <a:gdLst/>
            <a:ahLst/>
            <a:rect l="l" t="t" r="r" b="b"/>
            <a:pathLst>
              <a:path w="235" h="367">
                <a:moveTo>
                  <a:pt x="69" y="0"/>
                </a:moveTo>
                <a:lnTo>
                  <a:pt x="163" y="0"/>
                </a:lnTo>
                <a:lnTo>
                  <a:pt x="234" y="366"/>
                </a:lnTo>
                <a:lnTo>
                  <a:pt x="0" y="366"/>
                </a:lnTo>
                <a:lnTo>
                  <a:pt x="6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13000" y="2414520"/>
            <a:ext cx="276120" cy="612720"/>
          </a:xfrm>
          <a:custGeom>
            <a:avLst/>
            <a:gdLst/>
            <a:ahLst/>
            <a:rect l="l" t="t" r="r" b="b"/>
            <a:pathLst>
              <a:path w="174" h="386">
                <a:moveTo>
                  <a:pt x="0" y="23"/>
                </a:moveTo>
                <a:lnTo>
                  <a:pt x="91" y="0"/>
                </a:lnTo>
                <a:lnTo>
                  <a:pt x="173" y="282"/>
                </a:lnTo>
                <a:lnTo>
                  <a:pt x="70" y="385"/>
                </a:lnTo>
                <a:lnTo>
                  <a:pt x="0" y="23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13000" y="2414520"/>
            <a:ext cx="276120" cy="612720"/>
          </a:xfrm>
          <a:custGeom>
            <a:avLst/>
            <a:gdLst/>
            <a:ahLst/>
            <a:rect l="l" t="t" r="r" b="b"/>
            <a:pathLst>
              <a:path w="174" h="386">
                <a:moveTo>
                  <a:pt x="0" y="23"/>
                </a:moveTo>
                <a:lnTo>
                  <a:pt x="91" y="0"/>
                </a:lnTo>
                <a:lnTo>
                  <a:pt x="173" y="282"/>
                </a:lnTo>
                <a:lnTo>
                  <a:pt x="70" y="385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63600" y="2414520"/>
            <a:ext cx="298440" cy="36720"/>
          </a:xfrm>
          <a:custGeom>
            <a:avLst/>
            <a:gdLst/>
            <a:ahLst/>
            <a:rect l="l" t="t" r="r" b="b"/>
            <a:pathLst>
              <a:path w="188" h="23">
                <a:moveTo>
                  <a:pt x="107" y="0"/>
                </a:moveTo>
                <a:lnTo>
                  <a:pt x="0" y="22"/>
                </a:lnTo>
                <a:lnTo>
                  <a:pt x="93" y="22"/>
                </a:lnTo>
                <a:lnTo>
                  <a:pt x="187" y="0"/>
                </a:lnTo>
                <a:lnTo>
                  <a:pt x="107" y="0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3600" y="2414520"/>
            <a:ext cx="298440" cy="36720"/>
          </a:xfrm>
          <a:custGeom>
            <a:avLst/>
            <a:gdLst/>
            <a:ahLst/>
            <a:rect l="l" t="t" r="r" b="b"/>
            <a:pathLst>
              <a:path w="188" h="23">
                <a:moveTo>
                  <a:pt x="107" y="0"/>
                </a:moveTo>
                <a:lnTo>
                  <a:pt x="0" y="22"/>
                </a:lnTo>
                <a:lnTo>
                  <a:pt x="93" y="22"/>
                </a:lnTo>
                <a:lnTo>
                  <a:pt x="187" y="0"/>
                </a:lnTo>
                <a:lnTo>
                  <a:pt x="10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66920" y="2492280"/>
            <a:ext cx="777960" cy="90720"/>
          </a:xfrm>
          <a:custGeom>
            <a:avLst/>
            <a:gdLst/>
            <a:ahLst/>
            <a:rect l="l" t="t" r="r" b="b"/>
            <a:pathLst>
              <a:path w="490" h="57">
                <a:moveTo>
                  <a:pt x="0" y="1"/>
                </a:moveTo>
                <a:lnTo>
                  <a:pt x="489" y="26"/>
                </a:lnTo>
                <a:lnTo>
                  <a:pt x="485" y="56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6920" y="2492280"/>
            <a:ext cx="777960" cy="90720"/>
          </a:xfrm>
          <a:custGeom>
            <a:avLst/>
            <a:gdLst/>
            <a:ahLst/>
            <a:rect l="l" t="t" r="r" b="b"/>
            <a:pathLst>
              <a:path w="490" h="57">
                <a:moveTo>
                  <a:pt x="0" y="1"/>
                </a:moveTo>
                <a:lnTo>
                  <a:pt x="489" y="26"/>
                </a:lnTo>
                <a:lnTo>
                  <a:pt x="485" y="56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2494080"/>
            <a:ext cx="723960" cy="536400"/>
          </a:xfrm>
          <a:custGeom>
            <a:avLst/>
            <a:gdLst/>
            <a:ahLst/>
            <a:rect l="l" t="t" r="r" b="b"/>
            <a:pathLst>
              <a:path w="456" h="338">
                <a:moveTo>
                  <a:pt x="431" y="337"/>
                </a:moveTo>
                <a:lnTo>
                  <a:pt x="430" y="334"/>
                </a:lnTo>
                <a:lnTo>
                  <a:pt x="429" y="331"/>
                </a:lnTo>
                <a:lnTo>
                  <a:pt x="429" y="329"/>
                </a:lnTo>
                <a:lnTo>
                  <a:pt x="426" y="328"/>
                </a:lnTo>
                <a:lnTo>
                  <a:pt x="426" y="326"/>
                </a:lnTo>
                <a:lnTo>
                  <a:pt x="424" y="324"/>
                </a:lnTo>
                <a:lnTo>
                  <a:pt x="419" y="324"/>
                </a:lnTo>
                <a:lnTo>
                  <a:pt x="414" y="323"/>
                </a:lnTo>
                <a:lnTo>
                  <a:pt x="409" y="322"/>
                </a:lnTo>
                <a:lnTo>
                  <a:pt x="404" y="322"/>
                </a:lnTo>
                <a:lnTo>
                  <a:pt x="399" y="321"/>
                </a:lnTo>
                <a:lnTo>
                  <a:pt x="394" y="319"/>
                </a:lnTo>
                <a:lnTo>
                  <a:pt x="388" y="317"/>
                </a:lnTo>
                <a:lnTo>
                  <a:pt x="383" y="316"/>
                </a:lnTo>
                <a:lnTo>
                  <a:pt x="378" y="314"/>
                </a:lnTo>
                <a:lnTo>
                  <a:pt x="373" y="313"/>
                </a:lnTo>
                <a:lnTo>
                  <a:pt x="368" y="311"/>
                </a:lnTo>
                <a:lnTo>
                  <a:pt x="363" y="309"/>
                </a:lnTo>
                <a:lnTo>
                  <a:pt x="357" y="308"/>
                </a:lnTo>
                <a:lnTo>
                  <a:pt x="352" y="306"/>
                </a:lnTo>
                <a:lnTo>
                  <a:pt x="347" y="305"/>
                </a:lnTo>
                <a:lnTo>
                  <a:pt x="342" y="304"/>
                </a:lnTo>
                <a:lnTo>
                  <a:pt x="340" y="300"/>
                </a:lnTo>
                <a:lnTo>
                  <a:pt x="334" y="297"/>
                </a:lnTo>
                <a:lnTo>
                  <a:pt x="328" y="294"/>
                </a:lnTo>
                <a:lnTo>
                  <a:pt x="321" y="291"/>
                </a:lnTo>
                <a:lnTo>
                  <a:pt x="313" y="287"/>
                </a:lnTo>
                <a:lnTo>
                  <a:pt x="306" y="284"/>
                </a:lnTo>
                <a:lnTo>
                  <a:pt x="299" y="281"/>
                </a:lnTo>
                <a:lnTo>
                  <a:pt x="294" y="279"/>
                </a:lnTo>
                <a:lnTo>
                  <a:pt x="293" y="277"/>
                </a:lnTo>
                <a:lnTo>
                  <a:pt x="291" y="276"/>
                </a:lnTo>
                <a:lnTo>
                  <a:pt x="289" y="275"/>
                </a:lnTo>
                <a:lnTo>
                  <a:pt x="287" y="273"/>
                </a:lnTo>
                <a:lnTo>
                  <a:pt x="285" y="272"/>
                </a:lnTo>
                <a:lnTo>
                  <a:pt x="283" y="271"/>
                </a:lnTo>
                <a:lnTo>
                  <a:pt x="281" y="270"/>
                </a:lnTo>
                <a:lnTo>
                  <a:pt x="278" y="270"/>
                </a:lnTo>
                <a:lnTo>
                  <a:pt x="278" y="269"/>
                </a:lnTo>
                <a:lnTo>
                  <a:pt x="277" y="268"/>
                </a:lnTo>
                <a:lnTo>
                  <a:pt x="276" y="267"/>
                </a:lnTo>
                <a:lnTo>
                  <a:pt x="276" y="265"/>
                </a:lnTo>
                <a:lnTo>
                  <a:pt x="271" y="265"/>
                </a:lnTo>
                <a:lnTo>
                  <a:pt x="270" y="262"/>
                </a:lnTo>
                <a:lnTo>
                  <a:pt x="269" y="256"/>
                </a:lnTo>
                <a:lnTo>
                  <a:pt x="267" y="247"/>
                </a:lnTo>
                <a:lnTo>
                  <a:pt x="265" y="238"/>
                </a:lnTo>
                <a:lnTo>
                  <a:pt x="262" y="229"/>
                </a:lnTo>
                <a:lnTo>
                  <a:pt x="259" y="221"/>
                </a:lnTo>
                <a:lnTo>
                  <a:pt x="255" y="216"/>
                </a:lnTo>
                <a:lnTo>
                  <a:pt x="251" y="214"/>
                </a:lnTo>
                <a:lnTo>
                  <a:pt x="250" y="211"/>
                </a:lnTo>
                <a:lnTo>
                  <a:pt x="250" y="209"/>
                </a:lnTo>
                <a:lnTo>
                  <a:pt x="249" y="207"/>
                </a:lnTo>
                <a:lnTo>
                  <a:pt x="247" y="205"/>
                </a:lnTo>
                <a:lnTo>
                  <a:pt x="244" y="204"/>
                </a:lnTo>
                <a:lnTo>
                  <a:pt x="242" y="204"/>
                </a:lnTo>
                <a:lnTo>
                  <a:pt x="239" y="204"/>
                </a:lnTo>
                <a:lnTo>
                  <a:pt x="236" y="203"/>
                </a:lnTo>
                <a:lnTo>
                  <a:pt x="234" y="199"/>
                </a:lnTo>
                <a:lnTo>
                  <a:pt x="231" y="195"/>
                </a:lnTo>
                <a:lnTo>
                  <a:pt x="227" y="192"/>
                </a:lnTo>
                <a:lnTo>
                  <a:pt x="223" y="189"/>
                </a:lnTo>
                <a:lnTo>
                  <a:pt x="219" y="187"/>
                </a:lnTo>
                <a:lnTo>
                  <a:pt x="215" y="185"/>
                </a:lnTo>
                <a:lnTo>
                  <a:pt x="211" y="182"/>
                </a:lnTo>
                <a:lnTo>
                  <a:pt x="207" y="178"/>
                </a:lnTo>
                <a:lnTo>
                  <a:pt x="204" y="178"/>
                </a:lnTo>
                <a:lnTo>
                  <a:pt x="199" y="176"/>
                </a:lnTo>
                <a:lnTo>
                  <a:pt x="195" y="174"/>
                </a:lnTo>
                <a:lnTo>
                  <a:pt x="190" y="172"/>
                </a:lnTo>
                <a:lnTo>
                  <a:pt x="185" y="169"/>
                </a:lnTo>
                <a:lnTo>
                  <a:pt x="181" y="166"/>
                </a:lnTo>
                <a:lnTo>
                  <a:pt x="178" y="163"/>
                </a:lnTo>
                <a:lnTo>
                  <a:pt x="175" y="161"/>
                </a:lnTo>
                <a:lnTo>
                  <a:pt x="173" y="160"/>
                </a:lnTo>
                <a:lnTo>
                  <a:pt x="171" y="160"/>
                </a:lnTo>
                <a:lnTo>
                  <a:pt x="170" y="158"/>
                </a:lnTo>
                <a:lnTo>
                  <a:pt x="168" y="157"/>
                </a:lnTo>
                <a:lnTo>
                  <a:pt x="166" y="155"/>
                </a:lnTo>
                <a:lnTo>
                  <a:pt x="165" y="153"/>
                </a:lnTo>
                <a:lnTo>
                  <a:pt x="163" y="151"/>
                </a:lnTo>
                <a:lnTo>
                  <a:pt x="162" y="150"/>
                </a:lnTo>
                <a:lnTo>
                  <a:pt x="161" y="145"/>
                </a:lnTo>
                <a:lnTo>
                  <a:pt x="158" y="138"/>
                </a:lnTo>
                <a:lnTo>
                  <a:pt x="154" y="132"/>
                </a:lnTo>
                <a:lnTo>
                  <a:pt x="149" y="126"/>
                </a:lnTo>
                <a:lnTo>
                  <a:pt x="144" y="120"/>
                </a:lnTo>
                <a:lnTo>
                  <a:pt x="138" y="115"/>
                </a:lnTo>
                <a:lnTo>
                  <a:pt x="133" y="110"/>
                </a:lnTo>
                <a:lnTo>
                  <a:pt x="128" y="108"/>
                </a:lnTo>
                <a:lnTo>
                  <a:pt x="125" y="108"/>
                </a:lnTo>
                <a:lnTo>
                  <a:pt x="123" y="106"/>
                </a:lnTo>
                <a:lnTo>
                  <a:pt x="121" y="104"/>
                </a:lnTo>
                <a:lnTo>
                  <a:pt x="119" y="102"/>
                </a:lnTo>
                <a:lnTo>
                  <a:pt x="118" y="100"/>
                </a:lnTo>
                <a:lnTo>
                  <a:pt x="120" y="94"/>
                </a:lnTo>
                <a:lnTo>
                  <a:pt x="119" y="93"/>
                </a:lnTo>
                <a:lnTo>
                  <a:pt x="118" y="93"/>
                </a:lnTo>
                <a:lnTo>
                  <a:pt x="115" y="94"/>
                </a:lnTo>
                <a:lnTo>
                  <a:pt x="112" y="92"/>
                </a:lnTo>
                <a:lnTo>
                  <a:pt x="107" y="88"/>
                </a:lnTo>
                <a:lnTo>
                  <a:pt x="102" y="77"/>
                </a:lnTo>
                <a:lnTo>
                  <a:pt x="97" y="60"/>
                </a:lnTo>
                <a:lnTo>
                  <a:pt x="93" y="60"/>
                </a:lnTo>
                <a:lnTo>
                  <a:pt x="92" y="56"/>
                </a:lnTo>
                <a:lnTo>
                  <a:pt x="83" y="56"/>
                </a:lnTo>
                <a:lnTo>
                  <a:pt x="81" y="53"/>
                </a:lnTo>
                <a:lnTo>
                  <a:pt x="79" y="50"/>
                </a:lnTo>
                <a:lnTo>
                  <a:pt x="77" y="48"/>
                </a:lnTo>
                <a:lnTo>
                  <a:pt x="76" y="45"/>
                </a:lnTo>
                <a:lnTo>
                  <a:pt x="74" y="45"/>
                </a:lnTo>
                <a:lnTo>
                  <a:pt x="71" y="45"/>
                </a:lnTo>
                <a:lnTo>
                  <a:pt x="69" y="45"/>
                </a:lnTo>
                <a:lnTo>
                  <a:pt x="67" y="45"/>
                </a:lnTo>
                <a:lnTo>
                  <a:pt x="65" y="44"/>
                </a:lnTo>
                <a:lnTo>
                  <a:pt x="63" y="43"/>
                </a:lnTo>
                <a:lnTo>
                  <a:pt x="61" y="42"/>
                </a:lnTo>
                <a:lnTo>
                  <a:pt x="59" y="40"/>
                </a:lnTo>
                <a:lnTo>
                  <a:pt x="56" y="39"/>
                </a:lnTo>
                <a:lnTo>
                  <a:pt x="51" y="37"/>
                </a:lnTo>
                <a:lnTo>
                  <a:pt x="45" y="35"/>
                </a:lnTo>
                <a:lnTo>
                  <a:pt x="39" y="31"/>
                </a:lnTo>
                <a:lnTo>
                  <a:pt x="33" y="28"/>
                </a:lnTo>
                <a:lnTo>
                  <a:pt x="28" y="24"/>
                </a:lnTo>
                <a:lnTo>
                  <a:pt x="24" y="21"/>
                </a:lnTo>
                <a:lnTo>
                  <a:pt x="23" y="18"/>
                </a:lnTo>
                <a:lnTo>
                  <a:pt x="22" y="17"/>
                </a:lnTo>
                <a:lnTo>
                  <a:pt x="19" y="14"/>
                </a:lnTo>
                <a:lnTo>
                  <a:pt x="16" y="13"/>
                </a:lnTo>
                <a:lnTo>
                  <a:pt x="12" y="13"/>
                </a:lnTo>
                <a:lnTo>
                  <a:pt x="10" y="13"/>
                </a:lnTo>
                <a:lnTo>
                  <a:pt x="7" y="13"/>
                </a:lnTo>
                <a:lnTo>
                  <a:pt x="4" y="11"/>
                </a:lnTo>
                <a:lnTo>
                  <a:pt x="2" y="7"/>
                </a:lnTo>
                <a:lnTo>
                  <a:pt x="0" y="0"/>
                </a:lnTo>
                <a:lnTo>
                  <a:pt x="455" y="192"/>
                </a:lnTo>
                <a:lnTo>
                  <a:pt x="431" y="337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494080"/>
            <a:ext cx="723960" cy="536400"/>
          </a:xfrm>
          <a:custGeom>
            <a:avLst/>
            <a:gdLst/>
            <a:ahLst/>
            <a:rect l="l" t="t" r="r" b="b"/>
            <a:pathLst>
              <a:path w="456" h="338">
                <a:moveTo>
                  <a:pt x="431" y="337"/>
                </a:moveTo>
                <a:lnTo>
                  <a:pt x="431" y="337"/>
                </a:lnTo>
                <a:lnTo>
                  <a:pt x="430" y="334"/>
                </a:lnTo>
                <a:lnTo>
                  <a:pt x="429" y="331"/>
                </a:lnTo>
                <a:lnTo>
                  <a:pt x="429" y="329"/>
                </a:lnTo>
                <a:lnTo>
                  <a:pt x="426" y="328"/>
                </a:lnTo>
                <a:lnTo>
                  <a:pt x="426" y="326"/>
                </a:lnTo>
                <a:lnTo>
                  <a:pt x="424" y="324"/>
                </a:lnTo>
                <a:lnTo>
                  <a:pt x="424" y="324"/>
                </a:lnTo>
                <a:lnTo>
                  <a:pt x="419" y="324"/>
                </a:lnTo>
                <a:lnTo>
                  <a:pt x="414" y="323"/>
                </a:lnTo>
                <a:lnTo>
                  <a:pt x="409" y="322"/>
                </a:lnTo>
                <a:lnTo>
                  <a:pt x="404" y="322"/>
                </a:lnTo>
                <a:lnTo>
                  <a:pt x="399" y="321"/>
                </a:lnTo>
                <a:lnTo>
                  <a:pt x="394" y="319"/>
                </a:lnTo>
                <a:lnTo>
                  <a:pt x="388" y="317"/>
                </a:lnTo>
                <a:lnTo>
                  <a:pt x="383" y="316"/>
                </a:lnTo>
                <a:lnTo>
                  <a:pt x="378" y="314"/>
                </a:lnTo>
                <a:lnTo>
                  <a:pt x="373" y="313"/>
                </a:lnTo>
                <a:lnTo>
                  <a:pt x="368" y="311"/>
                </a:lnTo>
                <a:lnTo>
                  <a:pt x="363" y="309"/>
                </a:lnTo>
                <a:lnTo>
                  <a:pt x="357" y="308"/>
                </a:lnTo>
                <a:lnTo>
                  <a:pt x="352" y="306"/>
                </a:lnTo>
                <a:lnTo>
                  <a:pt x="347" y="305"/>
                </a:lnTo>
                <a:lnTo>
                  <a:pt x="342" y="304"/>
                </a:lnTo>
                <a:lnTo>
                  <a:pt x="342" y="304"/>
                </a:lnTo>
                <a:lnTo>
                  <a:pt x="340" y="300"/>
                </a:lnTo>
                <a:lnTo>
                  <a:pt x="334" y="297"/>
                </a:lnTo>
                <a:lnTo>
                  <a:pt x="328" y="294"/>
                </a:lnTo>
                <a:lnTo>
                  <a:pt x="321" y="291"/>
                </a:lnTo>
                <a:lnTo>
                  <a:pt x="313" y="287"/>
                </a:lnTo>
                <a:lnTo>
                  <a:pt x="306" y="284"/>
                </a:lnTo>
                <a:lnTo>
                  <a:pt x="299" y="281"/>
                </a:lnTo>
                <a:lnTo>
                  <a:pt x="294" y="279"/>
                </a:lnTo>
                <a:lnTo>
                  <a:pt x="294" y="279"/>
                </a:lnTo>
                <a:lnTo>
                  <a:pt x="293" y="277"/>
                </a:lnTo>
                <a:lnTo>
                  <a:pt x="291" y="276"/>
                </a:lnTo>
                <a:lnTo>
                  <a:pt x="289" y="275"/>
                </a:lnTo>
                <a:lnTo>
                  <a:pt x="287" y="273"/>
                </a:lnTo>
                <a:lnTo>
                  <a:pt x="285" y="272"/>
                </a:lnTo>
                <a:lnTo>
                  <a:pt x="283" y="271"/>
                </a:lnTo>
                <a:lnTo>
                  <a:pt x="281" y="270"/>
                </a:lnTo>
                <a:lnTo>
                  <a:pt x="278" y="270"/>
                </a:lnTo>
                <a:lnTo>
                  <a:pt x="278" y="270"/>
                </a:lnTo>
                <a:lnTo>
                  <a:pt x="278" y="269"/>
                </a:lnTo>
                <a:lnTo>
                  <a:pt x="277" y="268"/>
                </a:lnTo>
                <a:lnTo>
                  <a:pt x="276" y="267"/>
                </a:lnTo>
                <a:lnTo>
                  <a:pt x="276" y="265"/>
                </a:lnTo>
                <a:lnTo>
                  <a:pt x="271" y="265"/>
                </a:lnTo>
                <a:lnTo>
                  <a:pt x="271" y="265"/>
                </a:lnTo>
                <a:lnTo>
                  <a:pt x="270" y="262"/>
                </a:lnTo>
                <a:lnTo>
                  <a:pt x="269" y="256"/>
                </a:lnTo>
                <a:lnTo>
                  <a:pt x="267" y="247"/>
                </a:lnTo>
                <a:lnTo>
                  <a:pt x="265" y="238"/>
                </a:lnTo>
                <a:lnTo>
                  <a:pt x="262" y="229"/>
                </a:lnTo>
                <a:lnTo>
                  <a:pt x="259" y="221"/>
                </a:lnTo>
                <a:lnTo>
                  <a:pt x="255" y="216"/>
                </a:lnTo>
                <a:lnTo>
                  <a:pt x="251" y="214"/>
                </a:lnTo>
                <a:lnTo>
                  <a:pt x="251" y="214"/>
                </a:lnTo>
                <a:lnTo>
                  <a:pt x="250" y="211"/>
                </a:lnTo>
                <a:lnTo>
                  <a:pt x="250" y="209"/>
                </a:lnTo>
                <a:lnTo>
                  <a:pt x="249" y="207"/>
                </a:lnTo>
                <a:lnTo>
                  <a:pt x="247" y="205"/>
                </a:lnTo>
                <a:lnTo>
                  <a:pt x="247" y="205"/>
                </a:lnTo>
                <a:lnTo>
                  <a:pt x="244" y="204"/>
                </a:lnTo>
                <a:lnTo>
                  <a:pt x="242" y="204"/>
                </a:lnTo>
                <a:lnTo>
                  <a:pt x="239" y="204"/>
                </a:lnTo>
                <a:lnTo>
                  <a:pt x="236" y="203"/>
                </a:lnTo>
                <a:lnTo>
                  <a:pt x="236" y="203"/>
                </a:lnTo>
                <a:lnTo>
                  <a:pt x="234" y="199"/>
                </a:lnTo>
                <a:lnTo>
                  <a:pt x="231" y="195"/>
                </a:lnTo>
                <a:lnTo>
                  <a:pt x="227" y="192"/>
                </a:lnTo>
                <a:lnTo>
                  <a:pt x="223" y="189"/>
                </a:lnTo>
                <a:lnTo>
                  <a:pt x="219" y="187"/>
                </a:lnTo>
                <a:lnTo>
                  <a:pt x="215" y="185"/>
                </a:lnTo>
                <a:lnTo>
                  <a:pt x="211" y="182"/>
                </a:lnTo>
                <a:lnTo>
                  <a:pt x="207" y="178"/>
                </a:lnTo>
                <a:lnTo>
                  <a:pt x="207" y="178"/>
                </a:lnTo>
                <a:lnTo>
                  <a:pt x="204" y="178"/>
                </a:lnTo>
                <a:lnTo>
                  <a:pt x="199" y="176"/>
                </a:lnTo>
                <a:lnTo>
                  <a:pt x="195" y="174"/>
                </a:lnTo>
                <a:lnTo>
                  <a:pt x="190" y="172"/>
                </a:lnTo>
                <a:lnTo>
                  <a:pt x="185" y="169"/>
                </a:lnTo>
                <a:lnTo>
                  <a:pt x="181" y="166"/>
                </a:lnTo>
                <a:lnTo>
                  <a:pt x="178" y="163"/>
                </a:lnTo>
                <a:lnTo>
                  <a:pt x="175" y="161"/>
                </a:lnTo>
                <a:lnTo>
                  <a:pt x="175" y="161"/>
                </a:lnTo>
                <a:lnTo>
                  <a:pt x="173" y="160"/>
                </a:lnTo>
                <a:lnTo>
                  <a:pt x="171" y="160"/>
                </a:lnTo>
                <a:lnTo>
                  <a:pt x="170" y="158"/>
                </a:lnTo>
                <a:lnTo>
                  <a:pt x="168" y="157"/>
                </a:lnTo>
                <a:lnTo>
                  <a:pt x="166" y="155"/>
                </a:lnTo>
                <a:lnTo>
                  <a:pt x="165" y="153"/>
                </a:lnTo>
                <a:lnTo>
                  <a:pt x="163" y="151"/>
                </a:lnTo>
                <a:lnTo>
                  <a:pt x="162" y="150"/>
                </a:lnTo>
                <a:lnTo>
                  <a:pt x="162" y="150"/>
                </a:lnTo>
                <a:lnTo>
                  <a:pt x="161" y="145"/>
                </a:lnTo>
                <a:lnTo>
                  <a:pt x="158" y="138"/>
                </a:lnTo>
                <a:lnTo>
                  <a:pt x="154" y="132"/>
                </a:lnTo>
                <a:lnTo>
                  <a:pt x="149" y="126"/>
                </a:lnTo>
                <a:lnTo>
                  <a:pt x="144" y="120"/>
                </a:lnTo>
                <a:lnTo>
                  <a:pt x="138" y="115"/>
                </a:lnTo>
                <a:lnTo>
                  <a:pt x="133" y="110"/>
                </a:lnTo>
                <a:lnTo>
                  <a:pt x="128" y="108"/>
                </a:lnTo>
                <a:lnTo>
                  <a:pt x="125" y="108"/>
                </a:lnTo>
                <a:lnTo>
                  <a:pt x="125" y="108"/>
                </a:lnTo>
                <a:lnTo>
                  <a:pt x="123" y="106"/>
                </a:lnTo>
                <a:lnTo>
                  <a:pt x="121" y="104"/>
                </a:lnTo>
                <a:lnTo>
                  <a:pt x="119" y="102"/>
                </a:lnTo>
                <a:lnTo>
                  <a:pt x="118" y="100"/>
                </a:lnTo>
                <a:lnTo>
                  <a:pt x="118" y="100"/>
                </a:lnTo>
                <a:lnTo>
                  <a:pt x="120" y="94"/>
                </a:lnTo>
                <a:lnTo>
                  <a:pt x="119" y="93"/>
                </a:lnTo>
                <a:lnTo>
                  <a:pt x="118" y="93"/>
                </a:lnTo>
                <a:lnTo>
                  <a:pt x="115" y="94"/>
                </a:lnTo>
                <a:lnTo>
                  <a:pt x="112" y="92"/>
                </a:lnTo>
                <a:lnTo>
                  <a:pt x="107" y="88"/>
                </a:lnTo>
                <a:lnTo>
                  <a:pt x="102" y="77"/>
                </a:lnTo>
                <a:lnTo>
                  <a:pt x="97" y="60"/>
                </a:lnTo>
                <a:lnTo>
                  <a:pt x="93" y="60"/>
                </a:lnTo>
                <a:lnTo>
                  <a:pt x="92" y="56"/>
                </a:lnTo>
                <a:lnTo>
                  <a:pt x="83" y="56"/>
                </a:lnTo>
                <a:lnTo>
                  <a:pt x="83" y="56"/>
                </a:lnTo>
                <a:lnTo>
                  <a:pt x="81" y="53"/>
                </a:lnTo>
                <a:lnTo>
                  <a:pt x="79" y="50"/>
                </a:lnTo>
                <a:lnTo>
                  <a:pt x="77" y="48"/>
                </a:lnTo>
                <a:lnTo>
                  <a:pt x="76" y="45"/>
                </a:lnTo>
                <a:lnTo>
                  <a:pt x="76" y="45"/>
                </a:lnTo>
                <a:lnTo>
                  <a:pt x="74" y="45"/>
                </a:lnTo>
                <a:lnTo>
                  <a:pt x="71" y="45"/>
                </a:lnTo>
                <a:lnTo>
                  <a:pt x="69" y="45"/>
                </a:lnTo>
                <a:lnTo>
                  <a:pt x="67" y="45"/>
                </a:lnTo>
                <a:lnTo>
                  <a:pt x="65" y="44"/>
                </a:lnTo>
                <a:lnTo>
                  <a:pt x="63" y="43"/>
                </a:lnTo>
                <a:lnTo>
                  <a:pt x="61" y="42"/>
                </a:lnTo>
                <a:lnTo>
                  <a:pt x="59" y="40"/>
                </a:lnTo>
                <a:lnTo>
                  <a:pt x="59" y="40"/>
                </a:lnTo>
                <a:lnTo>
                  <a:pt x="56" y="39"/>
                </a:lnTo>
                <a:lnTo>
                  <a:pt x="51" y="37"/>
                </a:lnTo>
                <a:lnTo>
                  <a:pt x="45" y="35"/>
                </a:lnTo>
                <a:lnTo>
                  <a:pt x="39" y="31"/>
                </a:lnTo>
                <a:lnTo>
                  <a:pt x="33" y="28"/>
                </a:lnTo>
                <a:lnTo>
                  <a:pt x="28" y="24"/>
                </a:lnTo>
                <a:lnTo>
                  <a:pt x="24" y="21"/>
                </a:lnTo>
                <a:lnTo>
                  <a:pt x="23" y="18"/>
                </a:lnTo>
                <a:lnTo>
                  <a:pt x="22" y="17"/>
                </a:lnTo>
                <a:lnTo>
                  <a:pt x="22" y="17"/>
                </a:lnTo>
                <a:lnTo>
                  <a:pt x="19" y="14"/>
                </a:lnTo>
                <a:lnTo>
                  <a:pt x="16" y="13"/>
                </a:lnTo>
                <a:lnTo>
                  <a:pt x="12" y="13"/>
                </a:lnTo>
                <a:lnTo>
                  <a:pt x="10" y="13"/>
                </a:lnTo>
                <a:lnTo>
                  <a:pt x="7" y="13"/>
                </a:lnTo>
                <a:lnTo>
                  <a:pt x="4" y="11"/>
                </a:lnTo>
                <a:lnTo>
                  <a:pt x="2" y="7"/>
                </a:lnTo>
                <a:lnTo>
                  <a:pt x="0" y="0"/>
                </a:lnTo>
                <a:lnTo>
                  <a:pt x="455" y="192"/>
                </a:lnTo>
                <a:lnTo>
                  <a:pt x="431" y="33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19440" y="3181320"/>
            <a:ext cx="633240" cy="252360"/>
          </a:xfrm>
          <a:custGeom>
            <a:avLst/>
            <a:gdLst/>
            <a:ahLst/>
            <a:rect l="l" t="t" r="r" b="b"/>
            <a:pathLst>
              <a:path w="399" h="159">
                <a:moveTo>
                  <a:pt x="0" y="0"/>
                </a:moveTo>
                <a:lnTo>
                  <a:pt x="398" y="21"/>
                </a:lnTo>
                <a:lnTo>
                  <a:pt x="372" y="15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19440" y="3181320"/>
            <a:ext cx="633240" cy="252360"/>
          </a:xfrm>
          <a:custGeom>
            <a:avLst/>
            <a:gdLst/>
            <a:ahLst/>
            <a:rect l="l" t="t" r="r" b="b"/>
            <a:pathLst>
              <a:path w="399" h="159">
                <a:moveTo>
                  <a:pt x="0" y="0"/>
                </a:moveTo>
                <a:lnTo>
                  <a:pt x="398" y="21"/>
                </a:lnTo>
                <a:lnTo>
                  <a:pt x="372" y="15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3144960"/>
            <a:ext cx="303120" cy="473040"/>
          </a:xfrm>
          <a:custGeom>
            <a:avLst/>
            <a:gdLst/>
            <a:ahLst/>
            <a:rect l="l" t="t" r="r" b="b"/>
            <a:pathLst>
              <a:path w="191" h="298">
                <a:moveTo>
                  <a:pt x="56" y="0"/>
                </a:moveTo>
                <a:lnTo>
                  <a:pt x="133" y="0"/>
                </a:lnTo>
                <a:lnTo>
                  <a:pt x="190" y="297"/>
                </a:lnTo>
                <a:lnTo>
                  <a:pt x="0" y="297"/>
                </a:lnTo>
                <a:lnTo>
                  <a:pt x="56" y="0"/>
                </a:lnTo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144960"/>
            <a:ext cx="303120" cy="473040"/>
          </a:xfrm>
          <a:custGeom>
            <a:avLst/>
            <a:gdLst/>
            <a:ahLst/>
            <a:rect l="l" t="t" r="r" b="b"/>
            <a:pathLst>
              <a:path w="191" h="298">
                <a:moveTo>
                  <a:pt x="56" y="0"/>
                </a:moveTo>
                <a:lnTo>
                  <a:pt x="133" y="0"/>
                </a:lnTo>
                <a:lnTo>
                  <a:pt x="190" y="297"/>
                </a:lnTo>
                <a:lnTo>
                  <a:pt x="0" y="297"/>
                </a:lnTo>
                <a:lnTo>
                  <a:pt x="5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87680" y="3117960"/>
            <a:ext cx="225360" cy="498240"/>
          </a:xfrm>
          <a:custGeom>
            <a:avLst/>
            <a:gdLst/>
            <a:ahLst/>
            <a:rect l="l" t="t" r="r" b="b"/>
            <a:pathLst>
              <a:path w="142" h="314">
                <a:moveTo>
                  <a:pt x="0" y="18"/>
                </a:moveTo>
                <a:lnTo>
                  <a:pt x="74" y="0"/>
                </a:lnTo>
                <a:lnTo>
                  <a:pt x="141" y="229"/>
                </a:lnTo>
                <a:lnTo>
                  <a:pt x="57" y="313"/>
                </a:lnTo>
                <a:lnTo>
                  <a:pt x="0" y="18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87680" y="3117960"/>
            <a:ext cx="225360" cy="498240"/>
          </a:xfrm>
          <a:custGeom>
            <a:avLst/>
            <a:gdLst/>
            <a:ahLst/>
            <a:rect l="l" t="t" r="r" b="b"/>
            <a:pathLst>
              <a:path w="142" h="314">
                <a:moveTo>
                  <a:pt x="0" y="18"/>
                </a:moveTo>
                <a:lnTo>
                  <a:pt x="74" y="0"/>
                </a:lnTo>
                <a:lnTo>
                  <a:pt x="141" y="229"/>
                </a:lnTo>
                <a:lnTo>
                  <a:pt x="57" y="313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67080" y="3117960"/>
            <a:ext cx="244440" cy="29880"/>
          </a:xfrm>
          <a:custGeom>
            <a:avLst/>
            <a:gdLst/>
            <a:ahLst/>
            <a:rect l="l" t="t" r="r" b="b"/>
            <a:pathLst>
              <a:path w="153" h="19">
                <a:moveTo>
                  <a:pt x="87" y="0"/>
                </a:moveTo>
                <a:lnTo>
                  <a:pt x="0" y="18"/>
                </a:lnTo>
                <a:lnTo>
                  <a:pt x="76" y="18"/>
                </a:lnTo>
                <a:lnTo>
                  <a:pt x="152" y="0"/>
                </a:lnTo>
                <a:lnTo>
                  <a:pt x="87" y="0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67080" y="3117960"/>
            <a:ext cx="244440" cy="29880"/>
          </a:xfrm>
          <a:custGeom>
            <a:avLst/>
            <a:gdLst/>
            <a:ahLst/>
            <a:rect l="l" t="t" r="r" b="b"/>
            <a:pathLst>
              <a:path w="153" h="19">
                <a:moveTo>
                  <a:pt x="87" y="0"/>
                </a:moveTo>
                <a:lnTo>
                  <a:pt x="0" y="18"/>
                </a:lnTo>
                <a:lnTo>
                  <a:pt x="76" y="18"/>
                </a:lnTo>
                <a:lnTo>
                  <a:pt x="152" y="0"/>
                </a:lnTo>
                <a:lnTo>
                  <a:pt x="8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19440" y="3181320"/>
            <a:ext cx="633240" cy="73080"/>
          </a:xfrm>
          <a:custGeom>
            <a:avLst/>
            <a:gdLst/>
            <a:ahLst/>
            <a:rect l="l" t="t" r="r" b="b"/>
            <a:pathLst>
              <a:path w="399" h="46">
                <a:moveTo>
                  <a:pt x="0" y="0"/>
                </a:moveTo>
                <a:lnTo>
                  <a:pt x="398" y="21"/>
                </a:lnTo>
                <a:lnTo>
                  <a:pt x="395" y="4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19440" y="3181320"/>
            <a:ext cx="633240" cy="73080"/>
          </a:xfrm>
          <a:custGeom>
            <a:avLst/>
            <a:gdLst/>
            <a:ahLst/>
            <a:rect l="l" t="t" r="r" b="b"/>
            <a:pathLst>
              <a:path w="399" h="46">
                <a:moveTo>
                  <a:pt x="0" y="0"/>
                </a:moveTo>
                <a:lnTo>
                  <a:pt x="398" y="21"/>
                </a:lnTo>
                <a:lnTo>
                  <a:pt x="395" y="4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22680" y="3181320"/>
            <a:ext cx="590400" cy="438120"/>
          </a:xfrm>
          <a:custGeom>
            <a:avLst/>
            <a:gdLst/>
            <a:ahLst/>
            <a:rect l="l" t="t" r="r" b="b"/>
            <a:pathLst>
              <a:path w="371" h="276">
                <a:moveTo>
                  <a:pt x="350" y="275"/>
                </a:moveTo>
                <a:lnTo>
                  <a:pt x="350" y="273"/>
                </a:lnTo>
                <a:lnTo>
                  <a:pt x="350" y="270"/>
                </a:lnTo>
                <a:lnTo>
                  <a:pt x="349" y="268"/>
                </a:lnTo>
                <a:lnTo>
                  <a:pt x="347" y="268"/>
                </a:lnTo>
                <a:lnTo>
                  <a:pt x="346" y="266"/>
                </a:lnTo>
                <a:lnTo>
                  <a:pt x="345" y="264"/>
                </a:lnTo>
                <a:lnTo>
                  <a:pt x="341" y="264"/>
                </a:lnTo>
                <a:lnTo>
                  <a:pt x="337" y="264"/>
                </a:lnTo>
                <a:lnTo>
                  <a:pt x="333" y="263"/>
                </a:lnTo>
                <a:lnTo>
                  <a:pt x="329" y="262"/>
                </a:lnTo>
                <a:lnTo>
                  <a:pt x="324" y="261"/>
                </a:lnTo>
                <a:lnTo>
                  <a:pt x="320" y="260"/>
                </a:lnTo>
                <a:lnTo>
                  <a:pt x="316" y="259"/>
                </a:lnTo>
                <a:lnTo>
                  <a:pt x="312" y="258"/>
                </a:lnTo>
                <a:lnTo>
                  <a:pt x="308" y="256"/>
                </a:lnTo>
                <a:lnTo>
                  <a:pt x="303" y="255"/>
                </a:lnTo>
                <a:lnTo>
                  <a:pt x="299" y="254"/>
                </a:lnTo>
                <a:lnTo>
                  <a:pt x="295" y="252"/>
                </a:lnTo>
                <a:lnTo>
                  <a:pt x="291" y="251"/>
                </a:lnTo>
                <a:lnTo>
                  <a:pt x="286" y="250"/>
                </a:lnTo>
                <a:lnTo>
                  <a:pt x="282" y="249"/>
                </a:lnTo>
                <a:lnTo>
                  <a:pt x="278" y="248"/>
                </a:lnTo>
                <a:lnTo>
                  <a:pt x="276" y="245"/>
                </a:lnTo>
                <a:lnTo>
                  <a:pt x="272" y="242"/>
                </a:lnTo>
                <a:lnTo>
                  <a:pt x="267" y="240"/>
                </a:lnTo>
                <a:lnTo>
                  <a:pt x="261" y="237"/>
                </a:lnTo>
                <a:lnTo>
                  <a:pt x="255" y="234"/>
                </a:lnTo>
                <a:lnTo>
                  <a:pt x="249" y="232"/>
                </a:lnTo>
                <a:lnTo>
                  <a:pt x="244" y="230"/>
                </a:lnTo>
                <a:lnTo>
                  <a:pt x="240" y="227"/>
                </a:lnTo>
                <a:lnTo>
                  <a:pt x="239" y="226"/>
                </a:lnTo>
                <a:lnTo>
                  <a:pt x="237" y="225"/>
                </a:lnTo>
                <a:lnTo>
                  <a:pt x="235" y="224"/>
                </a:lnTo>
                <a:lnTo>
                  <a:pt x="234" y="223"/>
                </a:lnTo>
                <a:lnTo>
                  <a:pt x="232" y="222"/>
                </a:lnTo>
                <a:lnTo>
                  <a:pt x="231" y="221"/>
                </a:lnTo>
                <a:lnTo>
                  <a:pt x="229" y="220"/>
                </a:lnTo>
                <a:lnTo>
                  <a:pt x="227" y="220"/>
                </a:lnTo>
                <a:lnTo>
                  <a:pt x="227" y="219"/>
                </a:lnTo>
                <a:lnTo>
                  <a:pt x="226" y="219"/>
                </a:lnTo>
                <a:lnTo>
                  <a:pt x="225" y="218"/>
                </a:lnTo>
                <a:lnTo>
                  <a:pt x="225" y="217"/>
                </a:lnTo>
                <a:lnTo>
                  <a:pt x="220" y="217"/>
                </a:lnTo>
                <a:lnTo>
                  <a:pt x="220" y="214"/>
                </a:lnTo>
                <a:lnTo>
                  <a:pt x="219" y="209"/>
                </a:lnTo>
                <a:lnTo>
                  <a:pt x="218" y="202"/>
                </a:lnTo>
                <a:lnTo>
                  <a:pt x="216" y="195"/>
                </a:lnTo>
                <a:lnTo>
                  <a:pt x="214" y="187"/>
                </a:lnTo>
                <a:lnTo>
                  <a:pt x="211" y="181"/>
                </a:lnTo>
                <a:lnTo>
                  <a:pt x="208" y="176"/>
                </a:lnTo>
                <a:lnTo>
                  <a:pt x="204" y="175"/>
                </a:lnTo>
                <a:lnTo>
                  <a:pt x="204" y="172"/>
                </a:lnTo>
                <a:lnTo>
                  <a:pt x="204" y="170"/>
                </a:lnTo>
                <a:lnTo>
                  <a:pt x="202" y="169"/>
                </a:lnTo>
                <a:lnTo>
                  <a:pt x="201" y="167"/>
                </a:lnTo>
                <a:lnTo>
                  <a:pt x="198" y="167"/>
                </a:lnTo>
                <a:lnTo>
                  <a:pt x="197" y="166"/>
                </a:lnTo>
                <a:lnTo>
                  <a:pt x="195" y="166"/>
                </a:lnTo>
                <a:lnTo>
                  <a:pt x="193" y="166"/>
                </a:lnTo>
                <a:lnTo>
                  <a:pt x="191" y="162"/>
                </a:lnTo>
                <a:lnTo>
                  <a:pt x="188" y="159"/>
                </a:lnTo>
                <a:lnTo>
                  <a:pt x="185" y="156"/>
                </a:lnTo>
                <a:lnTo>
                  <a:pt x="181" y="155"/>
                </a:lnTo>
                <a:lnTo>
                  <a:pt x="178" y="153"/>
                </a:lnTo>
                <a:lnTo>
                  <a:pt x="175" y="151"/>
                </a:lnTo>
                <a:lnTo>
                  <a:pt x="172" y="149"/>
                </a:lnTo>
                <a:lnTo>
                  <a:pt x="169" y="146"/>
                </a:lnTo>
                <a:lnTo>
                  <a:pt x="166" y="145"/>
                </a:lnTo>
                <a:lnTo>
                  <a:pt x="163" y="144"/>
                </a:lnTo>
                <a:lnTo>
                  <a:pt x="159" y="142"/>
                </a:lnTo>
                <a:lnTo>
                  <a:pt x="155" y="141"/>
                </a:lnTo>
                <a:lnTo>
                  <a:pt x="151" y="138"/>
                </a:lnTo>
                <a:lnTo>
                  <a:pt x="147" y="136"/>
                </a:lnTo>
                <a:lnTo>
                  <a:pt x="145" y="134"/>
                </a:lnTo>
                <a:lnTo>
                  <a:pt x="143" y="131"/>
                </a:lnTo>
                <a:lnTo>
                  <a:pt x="140" y="130"/>
                </a:lnTo>
                <a:lnTo>
                  <a:pt x="137" y="128"/>
                </a:lnTo>
                <a:lnTo>
                  <a:pt x="134" y="125"/>
                </a:lnTo>
                <a:lnTo>
                  <a:pt x="132" y="123"/>
                </a:lnTo>
                <a:lnTo>
                  <a:pt x="131" y="118"/>
                </a:lnTo>
                <a:lnTo>
                  <a:pt x="129" y="113"/>
                </a:lnTo>
                <a:lnTo>
                  <a:pt x="126" y="108"/>
                </a:lnTo>
                <a:lnTo>
                  <a:pt x="122" y="103"/>
                </a:lnTo>
                <a:lnTo>
                  <a:pt x="117" y="98"/>
                </a:lnTo>
                <a:lnTo>
                  <a:pt x="113" y="94"/>
                </a:lnTo>
                <a:lnTo>
                  <a:pt x="108" y="90"/>
                </a:lnTo>
                <a:lnTo>
                  <a:pt x="104" y="88"/>
                </a:lnTo>
                <a:lnTo>
                  <a:pt x="102" y="88"/>
                </a:lnTo>
                <a:lnTo>
                  <a:pt x="101" y="87"/>
                </a:lnTo>
                <a:lnTo>
                  <a:pt x="99" y="85"/>
                </a:lnTo>
                <a:lnTo>
                  <a:pt x="98" y="83"/>
                </a:lnTo>
                <a:lnTo>
                  <a:pt x="97" y="82"/>
                </a:lnTo>
                <a:lnTo>
                  <a:pt x="98" y="77"/>
                </a:lnTo>
                <a:lnTo>
                  <a:pt x="97" y="76"/>
                </a:lnTo>
                <a:lnTo>
                  <a:pt x="96" y="76"/>
                </a:lnTo>
                <a:lnTo>
                  <a:pt x="94" y="77"/>
                </a:lnTo>
                <a:lnTo>
                  <a:pt x="91" y="76"/>
                </a:lnTo>
                <a:lnTo>
                  <a:pt x="87" y="72"/>
                </a:lnTo>
                <a:lnTo>
                  <a:pt x="84" y="64"/>
                </a:lnTo>
                <a:lnTo>
                  <a:pt x="80" y="49"/>
                </a:lnTo>
                <a:lnTo>
                  <a:pt x="77" y="49"/>
                </a:lnTo>
                <a:lnTo>
                  <a:pt x="75" y="46"/>
                </a:lnTo>
                <a:lnTo>
                  <a:pt x="68" y="46"/>
                </a:lnTo>
                <a:lnTo>
                  <a:pt x="66" y="44"/>
                </a:lnTo>
                <a:lnTo>
                  <a:pt x="65" y="42"/>
                </a:lnTo>
                <a:lnTo>
                  <a:pt x="63" y="40"/>
                </a:lnTo>
                <a:lnTo>
                  <a:pt x="62" y="38"/>
                </a:lnTo>
                <a:lnTo>
                  <a:pt x="60" y="38"/>
                </a:lnTo>
                <a:lnTo>
                  <a:pt x="58" y="38"/>
                </a:lnTo>
                <a:lnTo>
                  <a:pt x="56" y="37"/>
                </a:lnTo>
                <a:lnTo>
                  <a:pt x="55" y="37"/>
                </a:lnTo>
                <a:lnTo>
                  <a:pt x="53" y="36"/>
                </a:lnTo>
                <a:lnTo>
                  <a:pt x="51" y="36"/>
                </a:lnTo>
                <a:lnTo>
                  <a:pt x="50" y="34"/>
                </a:lnTo>
                <a:lnTo>
                  <a:pt x="49" y="33"/>
                </a:lnTo>
                <a:lnTo>
                  <a:pt x="46" y="33"/>
                </a:lnTo>
                <a:lnTo>
                  <a:pt x="42" y="31"/>
                </a:lnTo>
                <a:lnTo>
                  <a:pt x="37" y="29"/>
                </a:lnTo>
                <a:lnTo>
                  <a:pt x="32" y="26"/>
                </a:lnTo>
                <a:lnTo>
                  <a:pt x="27" y="23"/>
                </a:lnTo>
                <a:lnTo>
                  <a:pt x="23" y="20"/>
                </a:lnTo>
                <a:lnTo>
                  <a:pt x="20" y="18"/>
                </a:lnTo>
                <a:lnTo>
                  <a:pt x="19" y="16"/>
                </a:lnTo>
                <a:lnTo>
                  <a:pt x="18" y="15"/>
                </a:lnTo>
                <a:lnTo>
                  <a:pt x="15" y="12"/>
                </a:lnTo>
                <a:lnTo>
                  <a:pt x="13" y="12"/>
                </a:lnTo>
                <a:lnTo>
                  <a:pt x="10" y="12"/>
                </a:lnTo>
                <a:lnTo>
                  <a:pt x="8" y="12"/>
                </a:lnTo>
                <a:lnTo>
                  <a:pt x="6" y="11"/>
                </a:lnTo>
                <a:lnTo>
                  <a:pt x="4" y="10"/>
                </a:lnTo>
                <a:lnTo>
                  <a:pt x="2" y="6"/>
                </a:lnTo>
                <a:lnTo>
                  <a:pt x="0" y="0"/>
                </a:lnTo>
                <a:lnTo>
                  <a:pt x="370" y="157"/>
                </a:lnTo>
                <a:lnTo>
                  <a:pt x="350" y="275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22680" y="3181320"/>
            <a:ext cx="590400" cy="438120"/>
          </a:xfrm>
          <a:custGeom>
            <a:avLst/>
            <a:gdLst/>
            <a:ahLst/>
            <a:rect l="l" t="t" r="r" b="b"/>
            <a:pathLst>
              <a:path w="371" h="276">
                <a:moveTo>
                  <a:pt x="350" y="275"/>
                </a:moveTo>
                <a:lnTo>
                  <a:pt x="350" y="275"/>
                </a:lnTo>
                <a:lnTo>
                  <a:pt x="350" y="273"/>
                </a:lnTo>
                <a:lnTo>
                  <a:pt x="350" y="270"/>
                </a:lnTo>
                <a:lnTo>
                  <a:pt x="349" y="268"/>
                </a:lnTo>
                <a:lnTo>
                  <a:pt x="347" y="268"/>
                </a:lnTo>
                <a:lnTo>
                  <a:pt x="346" y="266"/>
                </a:lnTo>
                <a:lnTo>
                  <a:pt x="345" y="264"/>
                </a:lnTo>
                <a:lnTo>
                  <a:pt x="345" y="264"/>
                </a:lnTo>
                <a:lnTo>
                  <a:pt x="341" y="264"/>
                </a:lnTo>
                <a:lnTo>
                  <a:pt x="337" y="264"/>
                </a:lnTo>
                <a:lnTo>
                  <a:pt x="333" y="263"/>
                </a:lnTo>
                <a:lnTo>
                  <a:pt x="329" y="262"/>
                </a:lnTo>
                <a:lnTo>
                  <a:pt x="324" y="261"/>
                </a:lnTo>
                <a:lnTo>
                  <a:pt x="320" y="260"/>
                </a:lnTo>
                <a:lnTo>
                  <a:pt x="316" y="259"/>
                </a:lnTo>
                <a:lnTo>
                  <a:pt x="312" y="258"/>
                </a:lnTo>
                <a:lnTo>
                  <a:pt x="308" y="256"/>
                </a:lnTo>
                <a:lnTo>
                  <a:pt x="303" y="255"/>
                </a:lnTo>
                <a:lnTo>
                  <a:pt x="299" y="254"/>
                </a:lnTo>
                <a:lnTo>
                  <a:pt x="295" y="252"/>
                </a:lnTo>
                <a:lnTo>
                  <a:pt x="291" y="251"/>
                </a:lnTo>
                <a:lnTo>
                  <a:pt x="286" y="250"/>
                </a:lnTo>
                <a:lnTo>
                  <a:pt x="282" y="249"/>
                </a:lnTo>
                <a:lnTo>
                  <a:pt x="278" y="248"/>
                </a:lnTo>
                <a:lnTo>
                  <a:pt x="278" y="248"/>
                </a:lnTo>
                <a:lnTo>
                  <a:pt x="276" y="245"/>
                </a:lnTo>
                <a:lnTo>
                  <a:pt x="272" y="242"/>
                </a:lnTo>
                <a:lnTo>
                  <a:pt x="267" y="240"/>
                </a:lnTo>
                <a:lnTo>
                  <a:pt x="261" y="237"/>
                </a:lnTo>
                <a:lnTo>
                  <a:pt x="255" y="234"/>
                </a:lnTo>
                <a:lnTo>
                  <a:pt x="249" y="232"/>
                </a:lnTo>
                <a:lnTo>
                  <a:pt x="244" y="230"/>
                </a:lnTo>
                <a:lnTo>
                  <a:pt x="240" y="227"/>
                </a:lnTo>
                <a:lnTo>
                  <a:pt x="240" y="227"/>
                </a:lnTo>
                <a:lnTo>
                  <a:pt x="239" y="226"/>
                </a:lnTo>
                <a:lnTo>
                  <a:pt x="237" y="225"/>
                </a:lnTo>
                <a:lnTo>
                  <a:pt x="235" y="224"/>
                </a:lnTo>
                <a:lnTo>
                  <a:pt x="234" y="223"/>
                </a:lnTo>
                <a:lnTo>
                  <a:pt x="232" y="222"/>
                </a:lnTo>
                <a:lnTo>
                  <a:pt x="231" y="221"/>
                </a:lnTo>
                <a:lnTo>
                  <a:pt x="229" y="220"/>
                </a:lnTo>
                <a:lnTo>
                  <a:pt x="227" y="220"/>
                </a:lnTo>
                <a:lnTo>
                  <a:pt x="227" y="220"/>
                </a:lnTo>
                <a:lnTo>
                  <a:pt x="227" y="219"/>
                </a:lnTo>
                <a:lnTo>
                  <a:pt x="226" y="219"/>
                </a:lnTo>
                <a:lnTo>
                  <a:pt x="225" y="218"/>
                </a:lnTo>
                <a:lnTo>
                  <a:pt x="225" y="217"/>
                </a:lnTo>
                <a:lnTo>
                  <a:pt x="220" y="217"/>
                </a:lnTo>
                <a:lnTo>
                  <a:pt x="220" y="217"/>
                </a:lnTo>
                <a:lnTo>
                  <a:pt x="220" y="214"/>
                </a:lnTo>
                <a:lnTo>
                  <a:pt x="219" y="209"/>
                </a:lnTo>
                <a:lnTo>
                  <a:pt x="218" y="202"/>
                </a:lnTo>
                <a:lnTo>
                  <a:pt x="216" y="195"/>
                </a:lnTo>
                <a:lnTo>
                  <a:pt x="214" y="187"/>
                </a:lnTo>
                <a:lnTo>
                  <a:pt x="211" y="181"/>
                </a:lnTo>
                <a:lnTo>
                  <a:pt x="208" y="176"/>
                </a:lnTo>
                <a:lnTo>
                  <a:pt x="204" y="175"/>
                </a:lnTo>
                <a:lnTo>
                  <a:pt x="204" y="175"/>
                </a:lnTo>
                <a:lnTo>
                  <a:pt x="204" y="172"/>
                </a:lnTo>
                <a:lnTo>
                  <a:pt x="204" y="170"/>
                </a:lnTo>
                <a:lnTo>
                  <a:pt x="202" y="169"/>
                </a:lnTo>
                <a:lnTo>
                  <a:pt x="201" y="167"/>
                </a:lnTo>
                <a:lnTo>
                  <a:pt x="201" y="167"/>
                </a:lnTo>
                <a:lnTo>
                  <a:pt x="198" y="167"/>
                </a:lnTo>
                <a:lnTo>
                  <a:pt x="197" y="166"/>
                </a:lnTo>
                <a:lnTo>
                  <a:pt x="195" y="166"/>
                </a:lnTo>
                <a:lnTo>
                  <a:pt x="193" y="166"/>
                </a:lnTo>
                <a:lnTo>
                  <a:pt x="193" y="166"/>
                </a:lnTo>
                <a:lnTo>
                  <a:pt x="191" y="162"/>
                </a:lnTo>
                <a:lnTo>
                  <a:pt x="188" y="159"/>
                </a:lnTo>
                <a:lnTo>
                  <a:pt x="185" y="156"/>
                </a:lnTo>
                <a:lnTo>
                  <a:pt x="181" y="155"/>
                </a:lnTo>
                <a:lnTo>
                  <a:pt x="178" y="153"/>
                </a:lnTo>
                <a:lnTo>
                  <a:pt x="175" y="151"/>
                </a:lnTo>
                <a:lnTo>
                  <a:pt x="172" y="149"/>
                </a:lnTo>
                <a:lnTo>
                  <a:pt x="169" y="146"/>
                </a:lnTo>
                <a:lnTo>
                  <a:pt x="169" y="146"/>
                </a:lnTo>
                <a:lnTo>
                  <a:pt x="166" y="145"/>
                </a:lnTo>
                <a:lnTo>
                  <a:pt x="163" y="144"/>
                </a:lnTo>
                <a:lnTo>
                  <a:pt x="159" y="142"/>
                </a:lnTo>
                <a:lnTo>
                  <a:pt x="155" y="141"/>
                </a:lnTo>
                <a:lnTo>
                  <a:pt x="151" y="138"/>
                </a:lnTo>
                <a:lnTo>
                  <a:pt x="147" y="136"/>
                </a:lnTo>
                <a:lnTo>
                  <a:pt x="145" y="134"/>
                </a:lnTo>
                <a:lnTo>
                  <a:pt x="143" y="131"/>
                </a:lnTo>
                <a:lnTo>
                  <a:pt x="143" y="131"/>
                </a:lnTo>
                <a:lnTo>
                  <a:pt x="140" y="130"/>
                </a:lnTo>
                <a:lnTo>
                  <a:pt x="137" y="128"/>
                </a:lnTo>
                <a:lnTo>
                  <a:pt x="134" y="125"/>
                </a:lnTo>
                <a:lnTo>
                  <a:pt x="132" y="123"/>
                </a:lnTo>
                <a:lnTo>
                  <a:pt x="132" y="123"/>
                </a:lnTo>
                <a:lnTo>
                  <a:pt x="131" y="118"/>
                </a:lnTo>
                <a:lnTo>
                  <a:pt x="129" y="113"/>
                </a:lnTo>
                <a:lnTo>
                  <a:pt x="126" y="108"/>
                </a:lnTo>
                <a:lnTo>
                  <a:pt x="122" y="103"/>
                </a:lnTo>
                <a:lnTo>
                  <a:pt x="117" y="98"/>
                </a:lnTo>
                <a:lnTo>
                  <a:pt x="113" y="94"/>
                </a:lnTo>
                <a:lnTo>
                  <a:pt x="108" y="90"/>
                </a:lnTo>
                <a:lnTo>
                  <a:pt x="104" y="88"/>
                </a:lnTo>
                <a:lnTo>
                  <a:pt x="102" y="88"/>
                </a:lnTo>
                <a:lnTo>
                  <a:pt x="102" y="88"/>
                </a:lnTo>
                <a:lnTo>
                  <a:pt x="101" y="87"/>
                </a:lnTo>
                <a:lnTo>
                  <a:pt x="99" y="85"/>
                </a:lnTo>
                <a:lnTo>
                  <a:pt x="98" y="83"/>
                </a:lnTo>
                <a:lnTo>
                  <a:pt x="97" y="82"/>
                </a:lnTo>
                <a:lnTo>
                  <a:pt x="97" y="82"/>
                </a:lnTo>
                <a:lnTo>
                  <a:pt x="98" y="77"/>
                </a:lnTo>
                <a:lnTo>
                  <a:pt x="97" y="76"/>
                </a:lnTo>
                <a:lnTo>
                  <a:pt x="96" y="76"/>
                </a:lnTo>
                <a:lnTo>
                  <a:pt x="94" y="77"/>
                </a:lnTo>
                <a:lnTo>
                  <a:pt x="91" y="76"/>
                </a:lnTo>
                <a:lnTo>
                  <a:pt x="87" y="72"/>
                </a:lnTo>
                <a:lnTo>
                  <a:pt x="84" y="64"/>
                </a:lnTo>
                <a:lnTo>
                  <a:pt x="80" y="49"/>
                </a:lnTo>
                <a:lnTo>
                  <a:pt x="77" y="49"/>
                </a:lnTo>
                <a:lnTo>
                  <a:pt x="75" y="46"/>
                </a:lnTo>
                <a:lnTo>
                  <a:pt x="68" y="46"/>
                </a:lnTo>
                <a:lnTo>
                  <a:pt x="68" y="46"/>
                </a:lnTo>
                <a:lnTo>
                  <a:pt x="66" y="44"/>
                </a:lnTo>
                <a:lnTo>
                  <a:pt x="65" y="42"/>
                </a:lnTo>
                <a:lnTo>
                  <a:pt x="63" y="40"/>
                </a:lnTo>
                <a:lnTo>
                  <a:pt x="62" y="38"/>
                </a:lnTo>
                <a:lnTo>
                  <a:pt x="62" y="38"/>
                </a:lnTo>
                <a:lnTo>
                  <a:pt x="60" y="38"/>
                </a:lnTo>
                <a:lnTo>
                  <a:pt x="58" y="38"/>
                </a:lnTo>
                <a:lnTo>
                  <a:pt x="56" y="37"/>
                </a:lnTo>
                <a:lnTo>
                  <a:pt x="55" y="37"/>
                </a:lnTo>
                <a:lnTo>
                  <a:pt x="53" y="36"/>
                </a:lnTo>
                <a:lnTo>
                  <a:pt x="51" y="36"/>
                </a:lnTo>
                <a:lnTo>
                  <a:pt x="50" y="34"/>
                </a:lnTo>
                <a:lnTo>
                  <a:pt x="49" y="33"/>
                </a:lnTo>
                <a:lnTo>
                  <a:pt x="49" y="33"/>
                </a:lnTo>
                <a:lnTo>
                  <a:pt x="46" y="33"/>
                </a:lnTo>
                <a:lnTo>
                  <a:pt x="42" y="31"/>
                </a:lnTo>
                <a:lnTo>
                  <a:pt x="37" y="29"/>
                </a:lnTo>
                <a:lnTo>
                  <a:pt x="32" y="26"/>
                </a:lnTo>
                <a:lnTo>
                  <a:pt x="27" y="23"/>
                </a:lnTo>
                <a:lnTo>
                  <a:pt x="23" y="20"/>
                </a:lnTo>
                <a:lnTo>
                  <a:pt x="20" y="18"/>
                </a:lnTo>
                <a:lnTo>
                  <a:pt x="19" y="16"/>
                </a:lnTo>
                <a:lnTo>
                  <a:pt x="18" y="15"/>
                </a:lnTo>
                <a:lnTo>
                  <a:pt x="18" y="15"/>
                </a:lnTo>
                <a:lnTo>
                  <a:pt x="15" y="12"/>
                </a:lnTo>
                <a:lnTo>
                  <a:pt x="13" y="12"/>
                </a:lnTo>
                <a:lnTo>
                  <a:pt x="10" y="12"/>
                </a:lnTo>
                <a:lnTo>
                  <a:pt x="8" y="12"/>
                </a:lnTo>
                <a:lnTo>
                  <a:pt x="6" y="11"/>
                </a:lnTo>
                <a:lnTo>
                  <a:pt x="4" y="10"/>
                </a:lnTo>
                <a:lnTo>
                  <a:pt x="2" y="6"/>
                </a:lnTo>
                <a:lnTo>
                  <a:pt x="0" y="0"/>
                </a:lnTo>
                <a:lnTo>
                  <a:pt x="370" y="157"/>
                </a:lnTo>
                <a:lnTo>
                  <a:pt x="350" y="2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1880" y="4465800"/>
            <a:ext cx="450720" cy="230040"/>
          </a:xfrm>
          <a:custGeom>
            <a:avLst/>
            <a:gdLst/>
            <a:ahLst/>
            <a:rect l="l" t="t" r="r" b="b"/>
            <a:pathLst>
              <a:path w="285" h="145">
                <a:moveTo>
                  <a:pt x="0" y="0"/>
                </a:moveTo>
                <a:lnTo>
                  <a:pt x="284" y="40"/>
                </a:lnTo>
                <a:lnTo>
                  <a:pt x="264" y="144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1880" y="4465800"/>
            <a:ext cx="450720" cy="230040"/>
          </a:xfrm>
          <a:custGeom>
            <a:avLst/>
            <a:gdLst/>
            <a:ahLst/>
            <a:rect l="l" t="t" r="r" b="b"/>
            <a:pathLst>
              <a:path w="285" h="145">
                <a:moveTo>
                  <a:pt x="0" y="0"/>
                </a:moveTo>
                <a:lnTo>
                  <a:pt x="284" y="40"/>
                </a:lnTo>
                <a:lnTo>
                  <a:pt x="264" y="144"/>
                </a:lnTo>
                <a:lnTo>
                  <a:pt x="3" y="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32480" y="4473720"/>
            <a:ext cx="235080" cy="365040"/>
          </a:xfrm>
          <a:custGeom>
            <a:avLst/>
            <a:gdLst/>
            <a:ahLst/>
            <a:rect l="l" t="t" r="r" b="b"/>
            <a:pathLst>
              <a:path w="148" h="230">
                <a:moveTo>
                  <a:pt x="44" y="0"/>
                </a:moveTo>
                <a:lnTo>
                  <a:pt x="103" y="0"/>
                </a:lnTo>
                <a:lnTo>
                  <a:pt x="147" y="229"/>
                </a:lnTo>
                <a:lnTo>
                  <a:pt x="0" y="229"/>
                </a:lnTo>
                <a:lnTo>
                  <a:pt x="44" y="0"/>
                </a:lnTo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32480" y="4473720"/>
            <a:ext cx="235080" cy="365040"/>
          </a:xfrm>
          <a:custGeom>
            <a:avLst/>
            <a:gdLst/>
            <a:ahLst/>
            <a:rect l="l" t="t" r="r" b="b"/>
            <a:pathLst>
              <a:path w="148" h="230">
                <a:moveTo>
                  <a:pt x="44" y="0"/>
                </a:moveTo>
                <a:lnTo>
                  <a:pt x="103" y="0"/>
                </a:lnTo>
                <a:lnTo>
                  <a:pt x="147" y="229"/>
                </a:lnTo>
                <a:lnTo>
                  <a:pt x="0" y="229"/>
                </a:lnTo>
                <a:lnTo>
                  <a:pt x="4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95920" y="4454640"/>
            <a:ext cx="173160" cy="382320"/>
          </a:xfrm>
          <a:custGeom>
            <a:avLst/>
            <a:gdLst/>
            <a:ahLst/>
            <a:rect l="l" t="t" r="r" b="b"/>
            <a:pathLst>
              <a:path w="109" h="241">
                <a:moveTo>
                  <a:pt x="0" y="14"/>
                </a:moveTo>
                <a:lnTo>
                  <a:pt x="57" y="0"/>
                </a:lnTo>
                <a:lnTo>
                  <a:pt x="108" y="176"/>
                </a:lnTo>
                <a:lnTo>
                  <a:pt x="44" y="240"/>
                </a:lnTo>
                <a:lnTo>
                  <a:pt x="0" y="14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95920" y="4454640"/>
            <a:ext cx="173160" cy="382320"/>
          </a:xfrm>
          <a:custGeom>
            <a:avLst/>
            <a:gdLst/>
            <a:ahLst/>
            <a:rect l="l" t="t" r="r" b="b"/>
            <a:pathLst>
              <a:path w="109" h="241">
                <a:moveTo>
                  <a:pt x="0" y="14"/>
                </a:moveTo>
                <a:lnTo>
                  <a:pt x="57" y="0"/>
                </a:lnTo>
                <a:lnTo>
                  <a:pt x="108" y="176"/>
                </a:lnTo>
                <a:lnTo>
                  <a:pt x="44" y="240"/>
                </a:lnTo>
                <a:lnTo>
                  <a:pt x="0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5560" y="4454640"/>
            <a:ext cx="1839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66" y="0"/>
                </a:moveTo>
                <a:lnTo>
                  <a:pt x="0" y="14"/>
                </a:lnTo>
                <a:lnTo>
                  <a:pt x="58" y="16"/>
                </a:lnTo>
                <a:lnTo>
                  <a:pt x="116" y="0"/>
                </a:lnTo>
                <a:lnTo>
                  <a:pt x="66" y="0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05560" y="4454640"/>
            <a:ext cx="183960" cy="27000"/>
          </a:xfrm>
          <a:custGeom>
            <a:avLst/>
            <a:gdLst/>
            <a:ahLst/>
            <a:rect l="l" t="t" r="r" b="b"/>
            <a:pathLst>
              <a:path w="117" h="17">
                <a:moveTo>
                  <a:pt x="66" y="0"/>
                </a:moveTo>
                <a:lnTo>
                  <a:pt x="0" y="14"/>
                </a:lnTo>
                <a:lnTo>
                  <a:pt x="58" y="16"/>
                </a:lnTo>
                <a:lnTo>
                  <a:pt x="116" y="0"/>
                </a:lnTo>
                <a:lnTo>
                  <a:pt x="6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1880" y="4464000"/>
            <a:ext cx="450720" cy="95400"/>
          </a:xfrm>
          <a:custGeom>
            <a:avLst/>
            <a:gdLst/>
            <a:ahLst/>
            <a:rect l="l" t="t" r="r" b="b"/>
            <a:pathLst>
              <a:path w="284" h="60">
                <a:moveTo>
                  <a:pt x="0" y="0"/>
                </a:moveTo>
                <a:lnTo>
                  <a:pt x="283" y="41"/>
                </a:lnTo>
                <a:lnTo>
                  <a:pt x="280" y="59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1880" y="4464000"/>
            <a:ext cx="450720" cy="95400"/>
          </a:xfrm>
          <a:custGeom>
            <a:avLst/>
            <a:gdLst/>
            <a:ahLst/>
            <a:rect l="l" t="t" r="r" b="b"/>
            <a:pathLst>
              <a:path w="284" h="60">
                <a:moveTo>
                  <a:pt x="0" y="0"/>
                </a:moveTo>
                <a:lnTo>
                  <a:pt x="283" y="41"/>
                </a:lnTo>
                <a:lnTo>
                  <a:pt x="280" y="59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467240"/>
            <a:ext cx="412560" cy="371520"/>
          </a:xfrm>
          <a:custGeom>
            <a:avLst/>
            <a:gdLst/>
            <a:ahLst/>
            <a:rect l="l" t="t" r="r" b="b"/>
            <a:pathLst>
              <a:path w="261" h="234">
                <a:moveTo>
                  <a:pt x="245" y="233"/>
                </a:moveTo>
                <a:lnTo>
                  <a:pt x="244" y="232"/>
                </a:lnTo>
                <a:lnTo>
                  <a:pt x="244" y="230"/>
                </a:lnTo>
                <a:lnTo>
                  <a:pt x="244" y="229"/>
                </a:lnTo>
                <a:lnTo>
                  <a:pt x="242" y="228"/>
                </a:lnTo>
                <a:lnTo>
                  <a:pt x="242" y="227"/>
                </a:lnTo>
                <a:lnTo>
                  <a:pt x="240" y="226"/>
                </a:lnTo>
                <a:lnTo>
                  <a:pt x="234" y="225"/>
                </a:lnTo>
                <a:lnTo>
                  <a:pt x="228" y="224"/>
                </a:lnTo>
                <a:lnTo>
                  <a:pt x="221" y="223"/>
                </a:lnTo>
                <a:lnTo>
                  <a:pt x="215" y="220"/>
                </a:lnTo>
                <a:lnTo>
                  <a:pt x="209" y="218"/>
                </a:lnTo>
                <a:lnTo>
                  <a:pt x="202" y="217"/>
                </a:lnTo>
                <a:lnTo>
                  <a:pt x="195" y="215"/>
                </a:lnTo>
                <a:lnTo>
                  <a:pt x="189" y="213"/>
                </a:lnTo>
                <a:lnTo>
                  <a:pt x="188" y="211"/>
                </a:lnTo>
                <a:lnTo>
                  <a:pt x="184" y="209"/>
                </a:lnTo>
                <a:lnTo>
                  <a:pt x="180" y="206"/>
                </a:lnTo>
                <a:lnTo>
                  <a:pt x="176" y="204"/>
                </a:lnTo>
                <a:lnTo>
                  <a:pt x="171" y="203"/>
                </a:lnTo>
                <a:lnTo>
                  <a:pt x="167" y="201"/>
                </a:lnTo>
                <a:lnTo>
                  <a:pt x="163" y="199"/>
                </a:lnTo>
                <a:lnTo>
                  <a:pt x="160" y="197"/>
                </a:lnTo>
                <a:lnTo>
                  <a:pt x="158" y="196"/>
                </a:lnTo>
                <a:lnTo>
                  <a:pt x="156" y="194"/>
                </a:lnTo>
                <a:lnTo>
                  <a:pt x="153" y="192"/>
                </a:lnTo>
                <a:lnTo>
                  <a:pt x="150" y="191"/>
                </a:lnTo>
                <a:lnTo>
                  <a:pt x="149" y="191"/>
                </a:lnTo>
                <a:lnTo>
                  <a:pt x="149" y="191"/>
                </a:lnTo>
                <a:lnTo>
                  <a:pt x="149" y="190"/>
                </a:lnTo>
                <a:lnTo>
                  <a:pt x="148" y="189"/>
                </a:lnTo>
                <a:lnTo>
                  <a:pt x="144" y="189"/>
                </a:lnTo>
                <a:lnTo>
                  <a:pt x="144" y="187"/>
                </a:lnTo>
                <a:lnTo>
                  <a:pt x="143" y="183"/>
                </a:lnTo>
                <a:lnTo>
                  <a:pt x="142" y="178"/>
                </a:lnTo>
                <a:lnTo>
                  <a:pt x="141" y="172"/>
                </a:lnTo>
                <a:lnTo>
                  <a:pt x="140" y="166"/>
                </a:lnTo>
                <a:lnTo>
                  <a:pt x="138" y="161"/>
                </a:lnTo>
                <a:lnTo>
                  <a:pt x="135" y="157"/>
                </a:lnTo>
                <a:lnTo>
                  <a:pt x="133" y="156"/>
                </a:lnTo>
                <a:lnTo>
                  <a:pt x="132" y="155"/>
                </a:lnTo>
                <a:lnTo>
                  <a:pt x="132" y="153"/>
                </a:lnTo>
                <a:lnTo>
                  <a:pt x="131" y="152"/>
                </a:lnTo>
                <a:lnTo>
                  <a:pt x="130" y="150"/>
                </a:lnTo>
                <a:lnTo>
                  <a:pt x="128" y="150"/>
                </a:lnTo>
                <a:lnTo>
                  <a:pt x="127" y="150"/>
                </a:lnTo>
                <a:lnTo>
                  <a:pt x="125" y="150"/>
                </a:lnTo>
                <a:lnTo>
                  <a:pt x="123" y="150"/>
                </a:lnTo>
                <a:lnTo>
                  <a:pt x="121" y="147"/>
                </a:lnTo>
                <a:lnTo>
                  <a:pt x="119" y="144"/>
                </a:lnTo>
                <a:lnTo>
                  <a:pt x="117" y="143"/>
                </a:lnTo>
                <a:lnTo>
                  <a:pt x="115" y="141"/>
                </a:lnTo>
                <a:lnTo>
                  <a:pt x="112" y="140"/>
                </a:lnTo>
                <a:lnTo>
                  <a:pt x="110" y="138"/>
                </a:lnTo>
                <a:lnTo>
                  <a:pt x="107" y="136"/>
                </a:lnTo>
                <a:lnTo>
                  <a:pt x="105" y="134"/>
                </a:lnTo>
                <a:lnTo>
                  <a:pt x="103" y="134"/>
                </a:lnTo>
                <a:lnTo>
                  <a:pt x="100" y="133"/>
                </a:lnTo>
                <a:lnTo>
                  <a:pt x="98" y="132"/>
                </a:lnTo>
                <a:lnTo>
                  <a:pt x="94" y="130"/>
                </a:lnTo>
                <a:lnTo>
                  <a:pt x="91" y="128"/>
                </a:lnTo>
                <a:lnTo>
                  <a:pt x="89" y="126"/>
                </a:lnTo>
                <a:lnTo>
                  <a:pt x="87" y="124"/>
                </a:lnTo>
                <a:lnTo>
                  <a:pt x="85" y="123"/>
                </a:lnTo>
                <a:lnTo>
                  <a:pt x="83" y="122"/>
                </a:lnTo>
                <a:lnTo>
                  <a:pt x="80" y="120"/>
                </a:lnTo>
                <a:lnTo>
                  <a:pt x="78" y="118"/>
                </a:lnTo>
                <a:lnTo>
                  <a:pt x="77" y="117"/>
                </a:lnTo>
                <a:lnTo>
                  <a:pt x="76" y="113"/>
                </a:lnTo>
                <a:lnTo>
                  <a:pt x="75" y="110"/>
                </a:lnTo>
                <a:lnTo>
                  <a:pt x="72" y="105"/>
                </a:lnTo>
                <a:lnTo>
                  <a:pt x="69" y="102"/>
                </a:lnTo>
                <a:lnTo>
                  <a:pt x="66" y="98"/>
                </a:lnTo>
                <a:lnTo>
                  <a:pt x="62" y="95"/>
                </a:lnTo>
                <a:lnTo>
                  <a:pt x="59" y="92"/>
                </a:lnTo>
                <a:lnTo>
                  <a:pt x="55" y="90"/>
                </a:lnTo>
                <a:lnTo>
                  <a:pt x="54" y="90"/>
                </a:lnTo>
                <a:lnTo>
                  <a:pt x="54" y="90"/>
                </a:lnTo>
                <a:lnTo>
                  <a:pt x="55" y="89"/>
                </a:lnTo>
                <a:lnTo>
                  <a:pt x="57" y="89"/>
                </a:lnTo>
                <a:lnTo>
                  <a:pt x="59" y="89"/>
                </a:lnTo>
                <a:lnTo>
                  <a:pt x="61" y="88"/>
                </a:lnTo>
                <a:lnTo>
                  <a:pt x="63" y="88"/>
                </a:lnTo>
                <a:lnTo>
                  <a:pt x="64" y="88"/>
                </a:lnTo>
                <a:lnTo>
                  <a:pt x="65" y="87"/>
                </a:lnTo>
                <a:lnTo>
                  <a:pt x="66" y="84"/>
                </a:lnTo>
                <a:lnTo>
                  <a:pt x="66" y="84"/>
                </a:lnTo>
                <a:lnTo>
                  <a:pt x="66" y="87"/>
                </a:lnTo>
                <a:lnTo>
                  <a:pt x="65" y="89"/>
                </a:lnTo>
                <a:lnTo>
                  <a:pt x="64" y="91"/>
                </a:lnTo>
                <a:lnTo>
                  <a:pt x="62" y="90"/>
                </a:lnTo>
                <a:lnTo>
                  <a:pt x="59" y="85"/>
                </a:lnTo>
                <a:lnTo>
                  <a:pt x="56" y="74"/>
                </a:lnTo>
                <a:lnTo>
                  <a:pt x="34" y="60"/>
                </a:lnTo>
                <a:lnTo>
                  <a:pt x="38" y="63"/>
                </a:lnTo>
                <a:lnTo>
                  <a:pt x="40" y="62"/>
                </a:lnTo>
                <a:lnTo>
                  <a:pt x="39" y="60"/>
                </a:lnTo>
                <a:lnTo>
                  <a:pt x="38" y="58"/>
                </a:lnTo>
                <a:lnTo>
                  <a:pt x="38" y="55"/>
                </a:lnTo>
                <a:lnTo>
                  <a:pt x="37" y="51"/>
                </a:lnTo>
                <a:lnTo>
                  <a:pt x="36" y="48"/>
                </a:lnTo>
                <a:lnTo>
                  <a:pt x="35" y="45"/>
                </a:lnTo>
                <a:lnTo>
                  <a:pt x="34" y="42"/>
                </a:lnTo>
                <a:lnTo>
                  <a:pt x="34" y="41"/>
                </a:lnTo>
                <a:lnTo>
                  <a:pt x="30" y="47"/>
                </a:lnTo>
                <a:lnTo>
                  <a:pt x="29" y="51"/>
                </a:lnTo>
                <a:lnTo>
                  <a:pt x="30" y="53"/>
                </a:lnTo>
                <a:lnTo>
                  <a:pt x="31" y="53"/>
                </a:lnTo>
                <a:lnTo>
                  <a:pt x="33" y="51"/>
                </a:lnTo>
                <a:lnTo>
                  <a:pt x="34" y="49"/>
                </a:lnTo>
                <a:lnTo>
                  <a:pt x="33" y="48"/>
                </a:lnTo>
                <a:lnTo>
                  <a:pt x="29" y="47"/>
                </a:lnTo>
                <a:lnTo>
                  <a:pt x="34" y="50"/>
                </a:lnTo>
                <a:lnTo>
                  <a:pt x="36" y="52"/>
                </a:lnTo>
                <a:lnTo>
                  <a:pt x="36" y="52"/>
                </a:lnTo>
                <a:lnTo>
                  <a:pt x="34" y="50"/>
                </a:lnTo>
                <a:lnTo>
                  <a:pt x="32" y="47"/>
                </a:lnTo>
                <a:lnTo>
                  <a:pt x="29" y="41"/>
                </a:lnTo>
                <a:lnTo>
                  <a:pt x="26" y="34"/>
                </a:lnTo>
                <a:lnTo>
                  <a:pt x="23" y="25"/>
                </a:lnTo>
                <a:lnTo>
                  <a:pt x="0" y="0"/>
                </a:lnTo>
                <a:lnTo>
                  <a:pt x="9" y="8"/>
                </a:lnTo>
                <a:lnTo>
                  <a:pt x="15" y="15"/>
                </a:lnTo>
                <a:lnTo>
                  <a:pt x="20" y="21"/>
                </a:lnTo>
                <a:lnTo>
                  <a:pt x="21" y="25"/>
                </a:lnTo>
                <a:lnTo>
                  <a:pt x="20" y="26"/>
                </a:lnTo>
                <a:lnTo>
                  <a:pt x="16" y="24"/>
                </a:lnTo>
                <a:lnTo>
                  <a:pt x="10" y="16"/>
                </a:lnTo>
                <a:lnTo>
                  <a:pt x="0" y="4"/>
                </a:lnTo>
                <a:lnTo>
                  <a:pt x="260" y="143"/>
                </a:lnTo>
                <a:lnTo>
                  <a:pt x="245" y="233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4467240"/>
            <a:ext cx="412560" cy="371520"/>
          </a:xfrm>
          <a:custGeom>
            <a:avLst/>
            <a:gdLst/>
            <a:ahLst/>
            <a:rect l="l" t="t" r="r" b="b"/>
            <a:pathLst>
              <a:path w="261" h="234">
                <a:moveTo>
                  <a:pt x="245" y="233"/>
                </a:moveTo>
                <a:lnTo>
                  <a:pt x="245" y="233"/>
                </a:lnTo>
                <a:lnTo>
                  <a:pt x="244" y="232"/>
                </a:lnTo>
                <a:lnTo>
                  <a:pt x="244" y="230"/>
                </a:lnTo>
                <a:lnTo>
                  <a:pt x="244" y="229"/>
                </a:lnTo>
                <a:lnTo>
                  <a:pt x="242" y="228"/>
                </a:lnTo>
                <a:lnTo>
                  <a:pt x="242" y="227"/>
                </a:lnTo>
                <a:lnTo>
                  <a:pt x="240" y="226"/>
                </a:lnTo>
                <a:lnTo>
                  <a:pt x="240" y="226"/>
                </a:lnTo>
                <a:lnTo>
                  <a:pt x="234" y="225"/>
                </a:lnTo>
                <a:lnTo>
                  <a:pt x="228" y="224"/>
                </a:lnTo>
                <a:lnTo>
                  <a:pt x="221" y="223"/>
                </a:lnTo>
                <a:lnTo>
                  <a:pt x="215" y="220"/>
                </a:lnTo>
                <a:lnTo>
                  <a:pt x="209" y="218"/>
                </a:lnTo>
                <a:lnTo>
                  <a:pt x="202" y="217"/>
                </a:lnTo>
                <a:lnTo>
                  <a:pt x="195" y="215"/>
                </a:lnTo>
                <a:lnTo>
                  <a:pt x="189" y="213"/>
                </a:lnTo>
                <a:lnTo>
                  <a:pt x="189" y="213"/>
                </a:lnTo>
                <a:lnTo>
                  <a:pt x="188" y="211"/>
                </a:lnTo>
                <a:lnTo>
                  <a:pt x="184" y="209"/>
                </a:lnTo>
                <a:lnTo>
                  <a:pt x="180" y="206"/>
                </a:lnTo>
                <a:lnTo>
                  <a:pt x="176" y="204"/>
                </a:lnTo>
                <a:lnTo>
                  <a:pt x="171" y="203"/>
                </a:lnTo>
                <a:lnTo>
                  <a:pt x="167" y="201"/>
                </a:lnTo>
                <a:lnTo>
                  <a:pt x="163" y="199"/>
                </a:lnTo>
                <a:lnTo>
                  <a:pt x="160" y="197"/>
                </a:lnTo>
                <a:lnTo>
                  <a:pt x="160" y="197"/>
                </a:lnTo>
                <a:lnTo>
                  <a:pt x="158" y="196"/>
                </a:lnTo>
                <a:lnTo>
                  <a:pt x="156" y="194"/>
                </a:lnTo>
                <a:lnTo>
                  <a:pt x="153" y="192"/>
                </a:lnTo>
                <a:lnTo>
                  <a:pt x="150" y="191"/>
                </a:lnTo>
                <a:lnTo>
                  <a:pt x="150" y="191"/>
                </a:lnTo>
                <a:lnTo>
                  <a:pt x="149" y="191"/>
                </a:lnTo>
                <a:lnTo>
                  <a:pt x="149" y="191"/>
                </a:lnTo>
                <a:lnTo>
                  <a:pt x="149" y="190"/>
                </a:lnTo>
                <a:lnTo>
                  <a:pt x="148" y="189"/>
                </a:lnTo>
                <a:lnTo>
                  <a:pt x="144" y="189"/>
                </a:lnTo>
                <a:lnTo>
                  <a:pt x="144" y="189"/>
                </a:lnTo>
                <a:lnTo>
                  <a:pt x="144" y="187"/>
                </a:lnTo>
                <a:lnTo>
                  <a:pt x="143" y="183"/>
                </a:lnTo>
                <a:lnTo>
                  <a:pt x="142" y="178"/>
                </a:lnTo>
                <a:lnTo>
                  <a:pt x="141" y="172"/>
                </a:lnTo>
                <a:lnTo>
                  <a:pt x="140" y="166"/>
                </a:lnTo>
                <a:lnTo>
                  <a:pt x="138" y="161"/>
                </a:lnTo>
                <a:lnTo>
                  <a:pt x="135" y="157"/>
                </a:lnTo>
                <a:lnTo>
                  <a:pt x="133" y="156"/>
                </a:lnTo>
                <a:lnTo>
                  <a:pt x="133" y="156"/>
                </a:lnTo>
                <a:lnTo>
                  <a:pt x="132" y="155"/>
                </a:lnTo>
                <a:lnTo>
                  <a:pt x="132" y="153"/>
                </a:lnTo>
                <a:lnTo>
                  <a:pt x="131" y="152"/>
                </a:lnTo>
                <a:lnTo>
                  <a:pt x="130" y="150"/>
                </a:lnTo>
                <a:lnTo>
                  <a:pt x="130" y="150"/>
                </a:lnTo>
                <a:lnTo>
                  <a:pt x="128" y="150"/>
                </a:lnTo>
                <a:lnTo>
                  <a:pt x="127" y="150"/>
                </a:lnTo>
                <a:lnTo>
                  <a:pt x="125" y="150"/>
                </a:lnTo>
                <a:lnTo>
                  <a:pt x="123" y="150"/>
                </a:lnTo>
                <a:lnTo>
                  <a:pt x="123" y="150"/>
                </a:lnTo>
                <a:lnTo>
                  <a:pt x="121" y="147"/>
                </a:lnTo>
                <a:lnTo>
                  <a:pt x="119" y="144"/>
                </a:lnTo>
                <a:lnTo>
                  <a:pt x="117" y="143"/>
                </a:lnTo>
                <a:lnTo>
                  <a:pt x="115" y="141"/>
                </a:lnTo>
                <a:lnTo>
                  <a:pt x="112" y="140"/>
                </a:lnTo>
                <a:lnTo>
                  <a:pt x="110" y="138"/>
                </a:lnTo>
                <a:lnTo>
                  <a:pt x="107" y="136"/>
                </a:lnTo>
                <a:lnTo>
                  <a:pt x="105" y="134"/>
                </a:lnTo>
                <a:lnTo>
                  <a:pt x="105" y="134"/>
                </a:lnTo>
                <a:lnTo>
                  <a:pt x="103" y="134"/>
                </a:lnTo>
                <a:lnTo>
                  <a:pt x="100" y="133"/>
                </a:lnTo>
                <a:lnTo>
                  <a:pt x="98" y="132"/>
                </a:lnTo>
                <a:lnTo>
                  <a:pt x="94" y="130"/>
                </a:lnTo>
                <a:lnTo>
                  <a:pt x="91" y="128"/>
                </a:lnTo>
                <a:lnTo>
                  <a:pt x="89" y="126"/>
                </a:lnTo>
                <a:lnTo>
                  <a:pt x="87" y="124"/>
                </a:lnTo>
                <a:lnTo>
                  <a:pt x="85" y="123"/>
                </a:lnTo>
                <a:lnTo>
                  <a:pt x="85" y="123"/>
                </a:lnTo>
                <a:lnTo>
                  <a:pt x="83" y="122"/>
                </a:lnTo>
                <a:lnTo>
                  <a:pt x="80" y="120"/>
                </a:lnTo>
                <a:lnTo>
                  <a:pt x="78" y="118"/>
                </a:lnTo>
                <a:lnTo>
                  <a:pt x="77" y="117"/>
                </a:lnTo>
                <a:lnTo>
                  <a:pt x="77" y="117"/>
                </a:lnTo>
                <a:lnTo>
                  <a:pt x="76" y="113"/>
                </a:lnTo>
                <a:lnTo>
                  <a:pt x="75" y="110"/>
                </a:lnTo>
                <a:lnTo>
                  <a:pt x="72" y="105"/>
                </a:lnTo>
                <a:lnTo>
                  <a:pt x="69" y="102"/>
                </a:lnTo>
                <a:lnTo>
                  <a:pt x="66" y="98"/>
                </a:lnTo>
                <a:lnTo>
                  <a:pt x="62" y="95"/>
                </a:lnTo>
                <a:lnTo>
                  <a:pt x="59" y="92"/>
                </a:lnTo>
                <a:lnTo>
                  <a:pt x="55" y="90"/>
                </a:lnTo>
                <a:lnTo>
                  <a:pt x="54" y="90"/>
                </a:lnTo>
                <a:lnTo>
                  <a:pt x="54" y="90"/>
                </a:lnTo>
                <a:lnTo>
                  <a:pt x="54" y="90"/>
                </a:lnTo>
                <a:lnTo>
                  <a:pt x="55" y="89"/>
                </a:lnTo>
                <a:lnTo>
                  <a:pt x="57" y="89"/>
                </a:lnTo>
                <a:lnTo>
                  <a:pt x="59" y="89"/>
                </a:lnTo>
                <a:lnTo>
                  <a:pt x="61" y="88"/>
                </a:lnTo>
                <a:lnTo>
                  <a:pt x="63" y="88"/>
                </a:lnTo>
                <a:lnTo>
                  <a:pt x="64" y="88"/>
                </a:lnTo>
                <a:lnTo>
                  <a:pt x="65" y="87"/>
                </a:lnTo>
                <a:lnTo>
                  <a:pt x="65" y="87"/>
                </a:lnTo>
                <a:lnTo>
                  <a:pt x="66" y="84"/>
                </a:lnTo>
                <a:lnTo>
                  <a:pt x="66" y="84"/>
                </a:lnTo>
                <a:lnTo>
                  <a:pt x="66" y="87"/>
                </a:lnTo>
                <a:lnTo>
                  <a:pt x="65" y="89"/>
                </a:lnTo>
                <a:lnTo>
                  <a:pt x="64" y="91"/>
                </a:lnTo>
                <a:lnTo>
                  <a:pt x="62" y="90"/>
                </a:lnTo>
                <a:lnTo>
                  <a:pt x="59" y="85"/>
                </a:lnTo>
                <a:lnTo>
                  <a:pt x="56" y="74"/>
                </a:lnTo>
                <a:lnTo>
                  <a:pt x="34" y="60"/>
                </a:lnTo>
                <a:lnTo>
                  <a:pt x="38" y="63"/>
                </a:lnTo>
                <a:lnTo>
                  <a:pt x="40" y="62"/>
                </a:lnTo>
                <a:lnTo>
                  <a:pt x="40" y="62"/>
                </a:lnTo>
                <a:lnTo>
                  <a:pt x="39" y="60"/>
                </a:lnTo>
                <a:lnTo>
                  <a:pt x="38" y="58"/>
                </a:lnTo>
                <a:lnTo>
                  <a:pt x="38" y="55"/>
                </a:lnTo>
                <a:lnTo>
                  <a:pt x="37" y="51"/>
                </a:lnTo>
                <a:lnTo>
                  <a:pt x="36" y="48"/>
                </a:lnTo>
                <a:lnTo>
                  <a:pt x="35" y="45"/>
                </a:lnTo>
                <a:lnTo>
                  <a:pt x="34" y="42"/>
                </a:lnTo>
                <a:lnTo>
                  <a:pt x="34" y="41"/>
                </a:lnTo>
                <a:lnTo>
                  <a:pt x="34" y="41"/>
                </a:lnTo>
                <a:lnTo>
                  <a:pt x="30" y="47"/>
                </a:lnTo>
                <a:lnTo>
                  <a:pt x="29" y="51"/>
                </a:lnTo>
                <a:lnTo>
                  <a:pt x="30" y="53"/>
                </a:lnTo>
                <a:lnTo>
                  <a:pt x="31" y="53"/>
                </a:lnTo>
                <a:lnTo>
                  <a:pt x="33" y="51"/>
                </a:lnTo>
                <a:lnTo>
                  <a:pt x="34" y="49"/>
                </a:lnTo>
                <a:lnTo>
                  <a:pt x="33" y="48"/>
                </a:lnTo>
                <a:lnTo>
                  <a:pt x="29" y="47"/>
                </a:lnTo>
                <a:lnTo>
                  <a:pt x="29" y="47"/>
                </a:lnTo>
                <a:lnTo>
                  <a:pt x="34" y="50"/>
                </a:lnTo>
                <a:lnTo>
                  <a:pt x="36" y="52"/>
                </a:lnTo>
                <a:lnTo>
                  <a:pt x="36" y="52"/>
                </a:lnTo>
                <a:lnTo>
                  <a:pt x="34" y="50"/>
                </a:lnTo>
                <a:lnTo>
                  <a:pt x="32" y="47"/>
                </a:lnTo>
                <a:lnTo>
                  <a:pt x="29" y="41"/>
                </a:lnTo>
                <a:lnTo>
                  <a:pt x="26" y="34"/>
                </a:lnTo>
                <a:lnTo>
                  <a:pt x="23" y="25"/>
                </a:lnTo>
                <a:lnTo>
                  <a:pt x="0" y="0"/>
                </a:lnTo>
                <a:lnTo>
                  <a:pt x="0" y="0"/>
                </a:lnTo>
                <a:lnTo>
                  <a:pt x="9" y="8"/>
                </a:lnTo>
                <a:lnTo>
                  <a:pt x="15" y="15"/>
                </a:lnTo>
                <a:lnTo>
                  <a:pt x="20" y="21"/>
                </a:lnTo>
                <a:lnTo>
                  <a:pt x="21" y="25"/>
                </a:lnTo>
                <a:lnTo>
                  <a:pt x="20" y="26"/>
                </a:lnTo>
                <a:lnTo>
                  <a:pt x="16" y="24"/>
                </a:lnTo>
                <a:lnTo>
                  <a:pt x="10" y="16"/>
                </a:lnTo>
                <a:lnTo>
                  <a:pt x="0" y="4"/>
                </a:lnTo>
                <a:lnTo>
                  <a:pt x="260" y="143"/>
                </a:lnTo>
                <a:lnTo>
                  <a:pt x="245" y="2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1880" y="3859200"/>
            <a:ext cx="130320" cy="615960"/>
          </a:xfrm>
          <a:custGeom>
            <a:avLst/>
            <a:gdLst/>
            <a:ahLst/>
            <a:rect l="l" t="t" r="r" b="b"/>
            <a:pathLst>
              <a:path w="83" h="388">
                <a:moveTo>
                  <a:pt x="82" y="7"/>
                </a:moveTo>
                <a:lnTo>
                  <a:pt x="40" y="0"/>
                </a:lnTo>
                <a:lnTo>
                  <a:pt x="0" y="382"/>
                </a:lnTo>
                <a:lnTo>
                  <a:pt x="28" y="387"/>
                </a:lnTo>
                <a:lnTo>
                  <a:pt x="82" y="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1880" y="3859200"/>
            <a:ext cx="130320" cy="615960"/>
          </a:xfrm>
          <a:custGeom>
            <a:avLst/>
            <a:gdLst/>
            <a:ahLst/>
            <a:rect l="l" t="t" r="r" b="b"/>
            <a:pathLst>
              <a:path w="83" h="388">
                <a:moveTo>
                  <a:pt x="82" y="7"/>
                </a:moveTo>
                <a:lnTo>
                  <a:pt x="40" y="0"/>
                </a:lnTo>
                <a:lnTo>
                  <a:pt x="0" y="382"/>
                </a:lnTo>
                <a:lnTo>
                  <a:pt x="28" y="387"/>
                </a:lnTo>
                <a:lnTo>
                  <a:pt x="82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99120" y="3852720"/>
            <a:ext cx="73080" cy="27000"/>
          </a:xfrm>
          <a:custGeom>
            <a:avLst/>
            <a:gdLst/>
            <a:ahLst/>
            <a:rect l="l" t="t" r="r" b="b"/>
            <a:pathLst>
              <a:path w="47" h="17">
                <a:moveTo>
                  <a:pt x="6" y="0"/>
                </a:moveTo>
                <a:lnTo>
                  <a:pt x="44" y="4"/>
                </a:lnTo>
                <a:lnTo>
                  <a:pt x="45" y="4"/>
                </a:lnTo>
                <a:lnTo>
                  <a:pt x="45" y="2"/>
                </a:lnTo>
                <a:lnTo>
                  <a:pt x="45" y="1"/>
                </a:lnTo>
                <a:lnTo>
                  <a:pt x="46" y="1"/>
                </a:lnTo>
                <a:lnTo>
                  <a:pt x="46" y="14"/>
                </a:lnTo>
                <a:lnTo>
                  <a:pt x="46" y="16"/>
                </a:lnTo>
                <a:lnTo>
                  <a:pt x="46" y="16"/>
                </a:lnTo>
                <a:lnTo>
                  <a:pt x="45" y="16"/>
                </a:lnTo>
                <a:lnTo>
                  <a:pt x="45" y="16"/>
                </a:lnTo>
                <a:lnTo>
                  <a:pt x="2" y="8"/>
                </a:lnTo>
                <a:lnTo>
                  <a:pt x="2" y="9"/>
                </a:lnTo>
                <a:lnTo>
                  <a:pt x="3" y="11"/>
                </a:lnTo>
                <a:lnTo>
                  <a:pt x="4" y="13"/>
                </a:lnTo>
                <a:lnTo>
                  <a:pt x="4" y="14"/>
                </a:lnTo>
                <a:lnTo>
                  <a:pt x="0" y="6"/>
                </a:lnTo>
                <a:lnTo>
                  <a:pt x="1" y="5"/>
                </a:lnTo>
                <a:lnTo>
                  <a:pt x="3" y="3"/>
                </a:lnTo>
                <a:lnTo>
                  <a:pt x="5" y="1"/>
                </a:lnTo>
                <a:lnTo>
                  <a:pt x="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19440" y="3565440"/>
            <a:ext cx="204840" cy="328680"/>
          </a:xfrm>
          <a:custGeom>
            <a:avLst/>
            <a:gdLst/>
            <a:ahLst/>
            <a:rect l="l" t="t" r="r" b="b"/>
            <a:pathLst>
              <a:path w="129" h="207">
                <a:moveTo>
                  <a:pt x="38" y="0"/>
                </a:moveTo>
                <a:lnTo>
                  <a:pt x="89" y="0"/>
                </a:lnTo>
                <a:lnTo>
                  <a:pt x="128" y="206"/>
                </a:lnTo>
                <a:lnTo>
                  <a:pt x="0" y="206"/>
                </a:lnTo>
                <a:lnTo>
                  <a:pt x="38" y="0"/>
                </a:lnTo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19440" y="3565440"/>
            <a:ext cx="204840" cy="328680"/>
          </a:xfrm>
          <a:custGeom>
            <a:avLst/>
            <a:gdLst/>
            <a:ahLst/>
            <a:rect l="l" t="t" r="r" b="b"/>
            <a:pathLst>
              <a:path w="129" h="207">
                <a:moveTo>
                  <a:pt x="38" y="0"/>
                </a:moveTo>
                <a:lnTo>
                  <a:pt x="89" y="0"/>
                </a:lnTo>
                <a:lnTo>
                  <a:pt x="128" y="206"/>
                </a:lnTo>
                <a:lnTo>
                  <a:pt x="0" y="206"/>
                </a:lnTo>
                <a:lnTo>
                  <a:pt x="3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62360" y="3548160"/>
            <a:ext cx="152640" cy="344520"/>
          </a:xfrm>
          <a:custGeom>
            <a:avLst/>
            <a:gdLst/>
            <a:ahLst/>
            <a:rect l="l" t="t" r="r" b="b"/>
            <a:pathLst>
              <a:path w="96" h="217">
                <a:moveTo>
                  <a:pt x="0" y="13"/>
                </a:moveTo>
                <a:lnTo>
                  <a:pt x="50" y="0"/>
                </a:lnTo>
                <a:lnTo>
                  <a:pt x="95" y="158"/>
                </a:lnTo>
                <a:lnTo>
                  <a:pt x="38" y="216"/>
                </a:lnTo>
                <a:lnTo>
                  <a:pt x="0" y="13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62360" y="3548160"/>
            <a:ext cx="152640" cy="344520"/>
          </a:xfrm>
          <a:custGeom>
            <a:avLst/>
            <a:gdLst/>
            <a:ahLst/>
            <a:rect l="l" t="t" r="r" b="b"/>
            <a:pathLst>
              <a:path w="96" h="217">
                <a:moveTo>
                  <a:pt x="0" y="13"/>
                </a:moveTo>
                <a:lnTo>
                  <a:pt x="50" y="0"/>
                </a:lnTo>
                <a:lnTo>
                  <a:pt x="95" y="158"/>
                </a:lnTo>
                <a:lnTo>
                  <a:pt x="38" y="216"/>
                </a:lnTo>
                <a:lnTo>
                  <a:pt x="0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9920" y="3548160"/>
            <a:ext cx="168120" cy="27000"/>
          </a:xfrm>
          <a:custGeom>
            <a:avLst/>
            <a:gdLst/>
            <a:ahLst/>
            <a:rect l="l" t="t" r="r" b="b"/>
            <a:pathLst>
              <a:path w="105" h="17">
                <a:moveTo>
                  <a:pt x="59" y="0"/>
                </a:moveTo>
                <a:lnTo>
                  <a:pt x="0" y="16"/>
                </a:lnTo>
                <a:lnTo>
                  <a:pt x="51" y="16"/>
                </a:lnTo>
                <a:lnTo>
                  <a:pt x="104" y="0"/>
                </a:lnTo>
                <a:lnTo>
                  <a:pt x="59" y="0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9920" y="3548160"/>
            <a:ext cx="168120" cy="27000"/>
          </a:xfrm>
          <a:custGeom>
            <a:avLst/>
            <a:gdLst/>
            <a:ahLst/>
            <a:rect l="l" t="t" r="r" b="b"/>
            <a:pathLst>
              <a:path w="105" h="17">
                <a:moveTo>
                  <a:pt x="59" y="0"/>
                </a:moveTo>
                <a:lnTo>
                  <a:pt x="0" y="16"/>
                </a:lnTo>
                <a:lnTo>
                  <a:pt x="51" y="16"/>
                </a:lnTo>
                <a:lnTo>
                  <a:pt x="104" y="0"/>
                </a:lnTo>
                <a:lnTo>
                  <a:pt x="5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60880" y="3832200"/>
            <a:ext cx="87480" cy="27000"/>
          </a:xfrm>
          <a:custGeom>
            <a:avLst/>
            <a:gdLst/>
            <a:ahLst/>
            <a:rect l="l" t="t" r="r" b="b"/>
            <a:pathLst>
              <a:path w="55" h="17">
                <a:moveTo>
                  <a:pt x="2" y="0"/>
                </a:moveTo>
                <a:lnTo>
                  <a:pt x="53" y="6"/>
                </a:lnTo>
                <a:lnTo>
                  <a:pt x="54" y="16"/>
                </a:lnTo>
                <a:lnTo>
                  <a:pt x="0" y="8"/>
                </a:lnTo>
                <a:lnTo>
                  <a:pt x="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97520" y="4813200"/>
            <a:ext cx="399960" cy="160560"/>
          </a:xfrm>
          <a:custGeom>
            <a:avLst/>
            <a:gdLst/>
            <a:ahLst/>
            <a:rect l="l" t="t" r="r" b="b"/>
            <a:pathLst>
              <a:path w="252" h="101">
                <a:moveTo>
                  <a:pt x="0" y="0"/>
                </a:moveTo>
                <a:lnTo>
                  <a:pt x="251" y="14"/>
                </a:lnTo>
                <a:lnTo>
                  <a:pt x="235" y="10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97520" y="4813200"/>
            <a:ext cx="399960" cy="160560"/>
          </a:xfrm>
          <a:custGeom>
            <a:avLst/>
            <a:gdLst/>
            <a:ahLst/>
            <a:rect l="l" t="t" r="r" b="b"/>
            <a:pathLst>
              <a:path w="252" h="101">
                <a:moveTo>
                  <a:pt x="0" y="0"/>
                </a:moveTo>
                <a:lnTo>
                  <a:pt x="251" y="14"/>
                </a:lnTo>
                <a:lnTo>
                  <a:pt x="235" y="10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9960" y="4791240"/>
            <a:ext cx="190440" cy="298440"/>
          </a:xfrm>
          <a:custGeom>
            <a:avLst/>
            <a:gdLst/>
            <a:ahLst/>
            <a:rect l="l" t="t" r="r" b="b"/>
            <a:pathLst>
              <a:path w="120" h="188">
                <a:moveTo>
                  <a:pt x="35" y="0"/>
                </a:moveTo>
                <a:lnTo>
                  <a:pt x="84" y="0"/>
                </a:lnTo>
                <a:lnTo>
                  <a:pt x="119" y="187"/>
                </a:lnTo>
                <a:lnTo>
                  <a:pt x="0" y="187"/>
                </a:lnTo>
                <a:lnTo>
                  <a:pt x="35" y="0"/>
                </a:lnTo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9960" y="4791240"/>
            <a:ext cx="190440" cy="298440"/>
          </a:xfrm>
          <a:custGeom>
            <a:avLst/>
            <a:gdLst/>
            <a:ahLst/>
            <a:rect l="l" t="t" r="r" b="b"/>
            <a:pathLst>
              <a:path w="120" h="188">
                <a:moveTo>
                  <a:pt x="35" y="0"/>
                </a:moveTo>
                <a:lnTo>
                  <a:pt x="84" y="0"/>
                </a:lnTo>
                <a:lnTo>
                  <a:pt x="119" y="187"/>
                </a:lnTo>
                <a:lnTo>
                  <a:pt x="0" y="187"/>
                </a:lnTo>
                <a:lnTo>
                  <a:pt x="3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83160" y="4773600"/>
            <a:ext cx="142920" cy="316080"/>
          </a:xfrm>
          <a:custGeom>
            <a:avLst/>
            <a:gdLst/>
            <a:ahLst/>
            <a:rect l="l" t="t" r="r" b="b"/>
            <a:pathLst>
              <a:path w="89" h="199">
                <a:moveTo>
                  <a:pt x="0" y="12"/>
                </a:moveTo>
                <a:lnTo>
                  <a:pt x="47" y="0"/>
                </a:lnTo>
                <a:lnTo>
                  <a:pt x="88" y="145"/>
                </a:lnTo>
                <a:lnTo>
                  <a:pt x="35" y="198"/>
                </a:lnTo>
                <a:lnTo>
                  <a:pt x="0" y="12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3160" y="4773600"/>
            <a:ext cx="142920" cy="316080"/>
          </a:xfrm>
          <a:custGeom>
            <a:avLst/>
            <a:gdLst/>
            <a:ahLst/>
            <a:rect l="l" t="t" r="r" b="b"/>
            <a:pathLst>
              <a:path w="89" h="199">
                <a:moveTo>
                  <a:pt x="0" y="12"/>
                </a:moveTo>
                <a:lnTo>
                  <a:pt x="47" y="0"/>
                </a:lnTo>
                <a:lnTo>
                  <a:pt x="88" y="145"/>
                </a:lnTo>
                <a:lnTo>
                  <a:pt x="35" y="198"/>
                </a:ln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5400" y="4773600"/>
            <a:ext cx="1573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56" y="0"/>
                </a:moveTo>
                <a:lnTo>
                  <a:pt x="0" y="16"/>
                </a:lnTo>
                <a:lnTo>
                  <a:pt x="49" y="16"/>
                </a:lnTo>
                <a:lnTo>
                  <a:pt x="97" y="0"/>
                </a:lnTo>
                <a:lnTo>
                  <a:pt x="56" y="0"/>
                </a:ln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05400" y="4773600"/>
            <a:ext cx="1573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56" y="0"/>
                </a:moveTo>
                <a:lnTo>
                  <a:pt x="0" y="16"/>
                </a:lnTo>
                <a:lnTo>
                  <a:pt x="49" y="16"/>
                </a:lnTo>
                <a:lnTo>
                  <a:pt x="97" y="0"/>
                </a:lnTo>
                <a:lnTo>
                  <a:pt x="5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97520" y="4813200"/>
            <a:ext cx="399960" cy="47880"/>
          </a:xfrm>
          <a:custGeom>
            <a:avLst/>
            <a:gdLst/>
            <a:ahLst/>
            <a:rect l="l" t="t" r="r" b="b"/>
            <a:pathLst>
              <a:path w="252" h="30">
                <a:moveTo>
                  <a:pt x="0" y="0"/>
                </a:moveTo>
                <a:lnTo>
                  <a:pt x="251" y="14"/>
                </a:lnTo>
                <a:lnTo>
                  <a:pt x="250" y="29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97520" y="4813200"/>
            <a:ext cx="399960" cy="47880"/>
          </a:xfrm>
          <a:custGeom>
            <a:avLst/>
            <a:gdLst/>
            <a:ahLst/>
            <a:rect l="l" t="t" r="r" b="b"/>
            <a:pathLst>
              <a:path w="252" h="30">
                <a:moveTo>
                  <a:pt x="0" y="0"/>
                </a:moveTo>
                <a:lnTo>
                  <a:pt x="251" y="14"/>
                </a:lnTo>
                <a:lnTo>
                  <a:pt x="250" y="29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0760" y="4813200"/>
            <a:ext cx="371520" cy="277920"/>
          </a:xfrm>
          <a:custGeom>
            <a:avLst/>
            <a:gdLst/>
            <a:ahLst/>
            <a:rect l="l" t="t" r="r" b="b"/>
            <a:pathLst>
              <a:path w="234" h="175">
                <a:moveTo>
                  <a:pt x="221" y="174"/>
                </a:moveTo>
                <a:lnTo>
                  <a:pt x="220" y="173"/>
                </a:lnTo>
                <a:lnTo>
                  <a:pt x="220" y="171"/>
                </a:lnTo>
                <a:lnTo>
                  <a:pt x="220" y="170"/>
                </a:lnTo>
                <a:lnTo>
                  <a:pt x="219" y="169"/>
                </a:lnTo>
                <a:lnTo>
                  <a:pt x="218" y="169"/>
                </a:lnTo>
                <a:lnTo>
                  <a:pt x="217" y="168"/>
                </a:lnTo>
                <a:lnTo>
                  <a:pt x="212" y="167"/>
                </a:lnTo>
                <a:lnTo>
                  <a:pt x="207" y="166"/>
                </a:lnTo>
                <a:lnTo>
                  <a:pt x="202" y="165"/>
                </a:lnTo>
                <a:lnTo>
                  <a:pt x="196" y="163"/>
                </a:lnTo>
                <a:lnTo>
                  <a:pt x="191" y="161"/>
                </a:lnTo>
                <a:lnTo>
                  <a:pt x="186" y="160"/>
                </a:lnTo>
                <a:lnTo>
                  <a:pt x="180" y="158"/>
                </a:lnTo>
                <a:lnTo>
                  <a:pt x="175" y="157"/>
                </a:lnTo>
                <a:lnTo>
                  <a:pt x="174" y="156"/>
                </a:lnTo>
                <a:lnTo>
                  <a:pt x="171" y="154"/>
                </a:lnTo>
                <a:lnTo>
                  <a:pt x="168" y="152"/>
                </a:lnTo>
                <a:lnTo>
                  <a:pt x="164" y="150"/>
                </a:lnTo>
                <a:lnTo>
                  <a:pt x="160" y="149"/>
                </a:lnTo>
                <a:lnTo>
                  <a:pt x="156" y="147"/>
                </a:lnTo>
                <a:lnTo>
                  <a:pt x="153" y="145"/>
                </a:lnTo>
                <a:lnTo>
                  <a:pt x="151" y="144"/>
                </a:lnTo>
                <a:lnTo>
                  <a:pt x="149" y="142"/>
                </a:lnTo>
                <a:lnTo>
                  <a:pt x="147" y="141"/>
                </a:lnTo>
                <a:lnTo>
                  <a:pt x="145" y="140"/>
                </a:lnTo>
                <a:lnTo>
                  <a:pt x="143" y="139"/>
                </a:lnTo>
                <a:lnTo>
                  <a:pt x="142" y="139"/>
                </a:lnTo>
                <a:lnTo>
                  <a:pt x="142" y="138"/>
                </a:lnTo>
                <a:lnTo>
                  <a:pt x="142" y="138"/>
                </a:lnTo>
                <a:lnTo>
                  <a:pt x="141" y="137"/>
                </a:lnTo>
                <a:lnTo>
                  <a:pt x="139" y="137"/>
                </a:lnTo>
                <a:lnTo>
                  <a:pt x="138" y="136"/>
                </a:lnTo>
                <a:lnTo>
                  <a:pt x="137" y="132"/>
                </a:lnTo>
                <a:lnTo>
                  <a:pt x="137" y="128"/>
                </a:lnTo>
                <a:lnTo>
                  <a:pt x="136" y="123"/>
                </a:lnTo>
                <a:lnTo>
                  <a:pt x="134" y="119"/>
                </a:lnTo>
                <a:lnTo>
                  <a:pt x="133" y="114"/>
                </a:lnTo>
                <a:lnTo>
                  <a:pt x="131" y="112"/>
                </a:lnTo>
                <a:lnTo>
                  <a:pt x="128" y="110"/>
                </a:lnTo>
                <a:lnTo>
                  <a:pt x="128" y="109"/>
                </a:lnTo>
                <a:lnTo>
                  <a:pt x="128" y="108"/>
                </a:lnTo>
                <a:lnTo>
                  <a:pt x="127" y="107"/>
                </a:lnTo>
                <a:lnTo>
                  <a:pt x="126" y="106"/>
                </a:lnTo>
                <a:lnTo>
                  <a:pt x="125" y="106"/>
                </a:lnTo>
                <a:lnTo>
                  <a:pt x="124" y="105"/>
                </a:lnTo>
                <a:lnTo>
                  <a:pt x="122" y="105"/>
                </a:lnTo>
                <a:lnTo>
                  <a:pt x="121" y="105"/>
                </a:lnTo>
                <a:lnTo>
                  <a:pt x="119" y="103"/>
                </a:lnTo>
                <a:lnTo>
                  <a:pt x="118" y="101"/>
                </a:lnTo>
                <a:lnTo>
                  <a:pt x="116" y="99"/>
                </a:lnTo>
                <a:lnTo>
                  <a:pt x="114" y="98"/>
                </a:lnTo>
                <a:lnTo>
                  <a:pt x="112" y="97"/>
                </a:lnTo>
                <a:lnTo>
                  <a:pt x="110" y="96"/>
                </a:lnTo>
                <a:lnTo>
                  <a:pt x="108" y="95"/>
                </a:lnTo>
                <a:lnTo>
                  <a:pt x="106" y="93"/>
                </a:lnTo>
                <a:lnTo>
                  <a:pt x="104" y="92"/>
                </a:lnTo>
                <a:lnTo>
                  <a:pt x="102" y="91"/>
                </a:lnTo>
                <a:lnTo>
                  <a:pt x="100" y="91"/>
                </a:lnTo>
                <a:lnTo>
                  <a:pt x="97" y="89"/>
                </a:lnTo>
                <a:lnTo>
                  <a:pt x="95" y="88"/>
                </a:lnTo>
                <a:lnTo>
                  <a:pt x="93" y="86"/>
                </a:lnTo>
                <a:lnTo>
                  <a:pt x="91" y="84"/>
                </a:lnTo>
                <a:lnTo>
                  <a:pt x="89" y="83"/>
                </a:lnTo>
                <a:lnTo>
                  <a:pt x="88" y="82"/>
                </a:lnTo>
                <a:lnTo>
                  <a:pt x="86" y="81"/>
                </a:lnTo>
                <a:lnTo>
                  <a:pt x="84" y="79"/>
                </a:lnTo>
                <a:lnTo>
                  <a:pt x="83" y="78"/>
                </a:lnTo>
                <a:lnTo>
                  <a:pt x="82" y="75"/>
                </a:lnTo>
                <a:lnTo>
                  <a:pt x="81" y="72"/>
                </a:lnTo>
                <a:lnTo>
                  <a:pt x="79" y="68"/>
                </a:lnTo>
                <a:lnTo>
                  <a:pt x="77" y="65"/>
                </a:lnTo>
                <a:lnTo>
                  <a:pt x="73" y="62"/>
                </a:lnTo>
                <a:lnTo>
                  <a:pt x="71" y="60"/>
                </a:lnTo>
                <a:lnTo>
                  <a:pt x="68" y="58"/>
                </a:lnTo>
                <a:lnTo>
                  <a:pt x="65" y="56"/>
                </a:lnTo>
                <a:lnTo>
                  <a:pt x="64" y="56"/>
                </a:lnTo>
                <a:lnTo>
                  <a:pt x="63" y="56"/>
                </a:lnTo>
                <a:lnTo>
                  <a:pt x="62" y="54"/>
                </a:lnTo>
                <a:lnTo>
                  <a:pt x="61" y="53"/>
                </a:lnTo>
                <a:lnTo>
                  <a:pt x="61" y="52"/>
                </a:lnTo>
                <a:lnTo>
                  <a:pt x="61" y="49"/>
                </a:lnTo>
                <a:lnTo>
                  <a:pt x="61" y="48"/>
                </a:lnTo>
                <a:lnTo>
                  <a:pt x="60" y="49"/>
                </a:lnTo>
                <a:lnTo>
                  <a:pt x="59" y="49"/>
                </a:lnTo>
                <a:lnTo>
                  <a:pt x="57" y="48"/>
                </a:lnTo>
                <a:lnTo>
                  <a:pt x="55" y="46"/>
                </a:lnTo>
                <a:lnTo>
                  <a:pt x="52" y="41"/>
                </a:lnTo>
                <a:lnTo>
                  <a:pt x="50" y="32"/>
                </a:lnTo>
                <a:lnTo>
                  <a:pt x="47" y="32"/>
                </a:lnTo>
                <a:lnTo>
                  <a:pt x="47" y="29"/>
                </a:lnTo>
                <a:lnTo>
                  <a:pt x="42" y="29"/>
                </a:lnTo>
                <a:lnTo>
                  <a:pt x="42" y="28"/>
                </a:lnTo>
                <a:lnTo>
                  <a:pt x="40" y="27"/>
                </a:lnTo>
                <a:lnTo>
                  <a:pt x="40" y="25"/>
                </a:lnTo>
                <a:lnTo>
                  <a:pt x="39" y="24"/>
                </a:lnTo>
                <a:lnTo>
                  <a:pt x="36" y="24"/>
                </a:lnTo>
                <a:lnTo>
                  <a:pt x="34" y="24"/>
                </a:lnTo>
                <a:lnTo>
                  <a:pt x="32" y="23"/>
                </a:lnTo>
                <a:lnTo>
                  <a:pt x="30" y="21"/>
                </a:lnTo>
                <a:lnTo>
                  <a:pt x="28" y="21"/>
                </a:lnTo>
                <a:lnTo>
                  <a:pt x="26" y="20"/>
                </a:lnTo>
                <a:lnTo>
                  <a:pt x="23" y="18"/>
                </a:lnTo>
                <a:lnTo>
                  <a:pt x="20" y="17"/>
                </a:lnTo>
                <a:lnTo>
                  <a:pt x="17" y="15"/>
                </a:lnTo>
                <a:lnTo>
                  <a:pt x="14" y="13"/>
                </a:lnTo>
                <a:lnTo>
                  <a:pt x="13" y="11"/>
                </a:lnTo>
                <a:lnTo>
                  <a:pt x="12" y="10"/>
                </a:lnTo>
                <a:lnTo>
                  <a:pt x="11" y="9"/>
                </a:lnTo>
                <a:lnTo>
                  <a:pt x="9" y="8"/>
                </a:lnTo>
                <a:lnTo>
                  <a:pt x="8" y="8"/>
                </a:lnTo>
                <a:lnTo>
                  <a:pt x="6" y="8"/>
                </a:lnTo>
                <a:lnTo>
                  <a:pt x="5" y="8"/>
                </a:lnTo>
                <a:lnTo>
                  <a:pt x="3" y="7"/>
                </a:lnTo>
                <a:lnTo>
                  <a:pt x="2" y="7"/>
                </a:lnTo>
                <a:lnTo>
                  <a:pt x="1" y="4"/>
                </a:lnTo>
                <a:lnTo>
                  <a:pt x="0" y="0"/>
                </a:lnTo>
                <a:lnTo>
                  <a:pt x="233" y="99"/>
                </a:lnTo>
                <a:lnTo>
                  <a:pt x="221" y="174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00760" y="4813200"/>
            <a:ext cx="371520" cy="277920"/>
          </a:xfrm>
          <a:custGeom>
            <a:avLst/>
            <a:gdLst/>
            <a:ahLst/>
            <a:rect l="l" t="t" r="r" b="b"/>
            <a:pathLst>
              <a:path w="234" h="175">
                <a:moveTo>
                  <a:pt x="221" y="174"/>
                </a:moveTo>
                <a:lnTo>
                  <a:pt x="221" y="174"/>
                </a:lnTo>
                <a:lnTo>
                  <a:pt x="220" y="173"/>
                </a:lnTo>
                <a:lnTo>
                  <a:pt x="220" y="171"/>
                </a:lnTo>
                <a:lnTo>
                  <a:pt x="220" y="170"/>
                </a:lnTo>
                <a:lnTo>
                  <a:pt x="219" y="169"/>
                </a:lnTo>
                <a:lnTo>
                  <a:pt x="218" y="169"/>
                </a:lnTo>
                <a:lnTo>
                  <a:pt x="217" y="168"/>
                </a:lnTo>
                <a:lnTo>
                  <a:pt x="217" y="168"/>
                </a:lnTo>
                <a:lnTo>
                  <a:pt x="212" y="167"/>
                </a:lnTo>
                <a:lnTo>
                  <a:pt x="207" y="166"/>
                </a:lnTo>
                <a:lnTo>
                  <a:pt x="202" y="165"/>
                </a:lnTo>
                <a:lnTo>
                  <a:pt x="196" y="163"/>
                </a:lnTo>
                <a:lnTo>
                  <a:pt x="191" y="161"/>
                </a:lnTo>
                <a:lnTo>
                  <a:pt x="186" y="160"/>
                </a:lnTo>
                <a:lnTo>
                  <a:pt x="180" y="158"/>
                </a:lnTo>
                <a:lnTo>
                  <a:pt x="175" y="157"/>
                </a:lnTo>
                <a:lnTo>
                  <a:pt x="175" y="157"/>
                </a:lnTo>
                <a:lnTo>
                  <a:pt x="174" y="156"/>
                </a:lnTo>
                <a:lnTo>
                  <a:pt x="171" y="154"/>
                </a:lnTo>
                <a:lnTo>
                  <a:pt x="168" y="152"/>
                </a:lnTo>
                <a:lnTo>
                  <a:pt x="164" y="150"/>
                </a:lnTo>
                <a:lnTo>
                  <a:pt x="160" y="149"/>
                </a:lnTo>
                <a:lnTo>
                  <a:pt x="156" y="147"/>
                </a:lnTo>
                <a:lnTo>
                  <a:pt x="153" y="145"/>
                </a:lnTo>
                <a:lnTo>
                  <a:pt x="151" y="144"/>
                </a:lnTo>
                <a:lnTo>
                  <a:pt x="151" y="144"/>
                </a:lnTo>
                <a:lnTo>
                  <a:pt x="149" y="142"/>
                </a:lnTo>
                <a:lnTo>
                  <a:pt x="147" y="141"/>
                </a:lnTo>
                <a:lnTo>
                  <a:pt x="145" y="140"/>
                </a:lnTo>
                <a:lnTo>
                  <a:pt x="143" y="139"/>
                </a:lnTo>
                <a:lnTo>
                  <a:pt x="143" y="139"/>
                </a:lnTo>
                <a:lnTo>
                  <a:pt x="142" y="139"/>
                </a:lnTo>
                <a:lnTo>
                  <a:pt x="142" y="138"/>
                </a:lnTo>
                <a:lnTo>
                  <a:pt x="142" y="138"/>
                </a:lnTo>
                <a:lnTo>
                  <a:pt x="141" y="137"/>
                </a:lnTo>
                <a:lnTo>
                  <a:pt x="139" y="137"/>
                </a:lnTo>
                <a:lnTo>
                  <a:pt x="139" y="137"/>
                </a:lnTo>
                <a:lnTo>
                  <a:pt x="138" y="136"/>
                </a:lnTo>
                <a:lnTo>
                  <a:pt x="137" y="132"/>
                </a:lnTo>
                <a:lnTo>
                  <a:pt x="137" y="128"/>
                </a:lnTo>
                <a:lnTo>
                  <a:pt x="136" y="123"/>
                </a:lnTo>
                <a:lnTo>
                  <a:pt x="134" y="119"/>
                </a:lnTo>
                <a:lnTo>
                  <a:pt x="133" y="114"/>
                </a:lnTo>
                <a:lnTo>
                  <a:pt x="131" y="112"/>
                </a:lnTo>
                <a:lnTo>
                  <a:pt x="128" y="110"/>
                </a:lnTo>
                <a:lnTo>
                  <a:pt x="128" y="110"/>
                </a:lnTo>
                <a:lnTo>
                  <a:pt x="128" y="109"/>
                </a:lnTo>
                <a:lnTo>
                  <a:pt x="128" y="108"/>
                </a:lnTo>
                <a:lnTo>
                  <a:pt x="127" y="107"/>
                </a:lnTo>
                <a:lnTo>
                  <a:pt x="126" y="106"/>
                </a:lnTo>
                <a:lnTo>
                  <a:pt x="126" y="106"/>
                </a:lnTo>
                <a:lnTo>
                  <a:pt x="125" y="106"/>
                </a:lnTo>
                <a:lnTo>
                  <a:pt x="124" y="105"/>
                </a:lnTo>
                <a:lnTo>
                  <a:pt x="122" y="105"/>
                </a:lnTo>
                <a:lnTo>
                  <a:pt x="121" y="105"/>
                </a:lnTo>
                <a:lnTo>
                  <a:pt x="121" y="105"/>
                </a:lnTo>
                <a:lnTo>
                  <a:pt x="119" y="103"/>
                </a:lnTo>
                <a:lnTo>
                  <a:pt x="118" y="101"/>
                </a:lnTo>
                <a:lnTo>
                  <a:pt x="116" y="99"/>
                </a:lnTo>
                <a:lnTo>
                  <a:pt x="114" y="98"/>
                </a:lnTo>
                <a:lnTo>
                  <a:pt x="112" y="97"/>
                </a:lnTo>
                <a:lnTo>
                  <a:pt x="110" y="96"/>
                </a:lnTo>
                <a:lnTo>
                  <a:pt x="108" y="95"/>
                </a:lnTo>
                <a:lnTo>
                  <a:pt x="106" y="93"/>
                </a:lnTo>
                <a:lnTo>
                  <a:pt x="106" y="93"/>
                </a:lnTo>
                <a:lnTo>
                  <a:pt x="104" y="92"/>
                </a:lnTo>
                <a:lnTo>
                  <a:pt x="102" y="91"/>
                </a:lnTo>
                <a:lnTo>
                  <a:pt x="100" y="91"/>
                </a:lnTo>
                <a:lnTo>
                  <a:pt x="97" y="89"/>
                </a:lnTo>
                <a:lnTo>
                  <a:pt x="95" y="88"/>
                </a:lnTo>
                <a:lnTo>
                  <a:pt x="93" y="86"/>
                </a:lnTo>
                <a:lnTo>
                  <a:pt x="91" y="84"/>
                </a:lnTo>
                <a:lnTo>
                  <a:pt x="89" y="83"/>
                </a:lnTo>
                <a:lnTo>
                  <a:pt x="89" y="83"/>
                </a:lnTo>
                <a:lnTo>
                  <a:pt x="88" y="82"/>
                </a:lnTo>
                <a:lnTo>
                  <a:pt x="86" y="81"/>
                </a:lnTo>
                <a:lnTo>
                  <a:pt x="84" y="79"/>
                </a:lnTo>
                <a:lnTo>
                  <a:pt x="83" y="78"/>
                </a:lnTo>
                <a:lnTo>
                  <a:pt x="83" y="78"/>
                </a:lnTo>
                <a:lnTo>
                  <a:pt x="82" y="75"/>
                </a:lnTo>
                <a:lnTo>
                  <a:pt x="81" y="72"/>
                </a:lnTo>
                <a:lnTo>
                  <a:pt x="79" y="68"/>
                </a:lnTo>
                <a:lnTo>
                  <a:pt x="77" y="65"/>
                </a:lnTo>
                <a:lnTo>
                  <a:pt x="73" y="62"/>
                </a:lnTo>
                <a:lnTo>
                  <a:pt x="71" y="60"/>
                </a:lnTo>
                <a:lnTo>
                  <a:pt x="68" y="58"/>
                </a:lnTo>
                <a:lnTo>
                  <a:pt x="65" y="56"/>
                </a:lnTo>
                <a:lnTo>
                  <a:pt x="64" y="56"/>
                </a:lnTo>
                <a:lnTo>
                  <a:pt x="64" y="56"/>
                </a:lnTo>
                <a:lnTo>
                  <a:pt x="63" y="56"/>
                </a:lnTo>
                <a:lnTo>
                  <a:pt x="62" y="54"/>
                </a:lnTo>
                <a:lnTo>
                  <a:pt x="61" y="53"/>
                </a:lnTo>
                <a:lnTo>
                  <a:pt x="61" y="52"/>
                </a:lnTo>
                <a:lnTo>
                  <a:pt x="61" y="52"/>
                </a:lnTo>
                <a:lnTo>
                  <a:pt x="61" y="49"/>
                </a:lnTo>
                <a:lnTo>
                  <a:pt x="61" y="48"/>
                </a:lnTo>
                <a:lnTo>
                  <a:pt x="60" y="49"/>
                </a:lnTo>
                <a:lnTo>
                  <a:pt x="59" y="49"/>
                </a:lnTo>
                <a:lnTo>
                  <a:pt x="57" y="48"/>
                </a:lnTo>
                <a:lnTo>
                  <a:pt x="55" y="46"/>
                </a:lnTo>
                <a:lnTo>
                  <a:pt x="52" y="41"/>
                </a:lnTo>
                <a:lnTo>
                  <a:pt x="50" y="32"/>
                </a:lnTo>
                <a:lnTo>
                  <a:pt x="47" y="32"/>
                </a:lnTo>
                <a:lnTo>
                  <a:pt x="47" y="29"/>
                </a:lnTo>
                <a:lnTo>
                  <a:pt x="42" y="29"/>
                </a:lnTo>
                <a:lnTo>
                  <a:pt x="42" y="29"/>
                </a:lnTo>
                <a:lnTo>
                  <a:pt x="42" y="28"/>
                </a:lnTo>
                <a:lnTo>
                  <a:pt x="40" y="27"/>
                </a:lnTo>
                <a:lnTo>
                  <a:pt x="40" y="25"/>
                </a:lnTo>
                <a:lnTo>
                  <a:pt x="39" y="24"/>
                </a:lnTo>
                <a:lnTo>
                  <a:pt x="39" y="24"/>
                </a:lnTo>
                <a:lnTo>
                  <a:pt x="36" y="24"/>
                </a:lnTo>
                <a:lnTo>
                  <a:pt x="34" y="24"/>
                </a:lnTo>
                <a:lnTo>
                  <a:pt x="32" y="23"/>
                </a:lnTo>
                <a:lnTo>
                  <a:pt x="30" y="21"/>
                </a:lnTo>
                <a:lnTo>
                  <a:pt x="30" y="21"/>
                </a:lnTo>
                <a:lnTo>
                  <a:pt x="28" y="21"/>
                </a:lnTo>
                <a:lnTo>
                  <a:pt x="26" y="20"/>
                </a:lnTo>
                <a:lnTo>
                  <a:pt x="23" y="18"/>
                </a:lnTo>
                <a:lnTo>
                  <a:pt x="20" y="17"/>
                </a:lnTo>
                <a:lnTo>
                  <a:pt x="17" y="15"/>
                </a:lnTo>
                <a:lnTo>
                  <a:pt x="14" y="13"/>
                </a:lnTo>
                <a:lnTo>
                  <a:pt x="13" y="11"/>
                </a:lnTo>
                <a:lnTo>
                  <a:pt x="12" y="10"/>
                </a:lnTo>
                <a:lnTo>
                  <a:pt x="11" y="9"/>
                </a:lnTo>
                <a:lnTo>
                  <a:pt x="11" y="9"/>
                </a:lnTo>
                <a:lnTo>
                  <a:pt x="9" y="8"/>
                </a:lnTo>
                <a:lnTo>
                  <a:pt x="8" y="8"/>
                </a:lnTo>
                <a:lnTo>
                  <a:pt x="6" y="8"/>
                </a:lnTo>
                <a:lnTo>
                  <a:pt x="5" y="8"/>
                </a:lnTo>
                <a:lnTo>
                  <a:pt x="3" y="7"/>
                </a:lnTo>
                <a:lnTo>
                  <a:pt x="2" y="7"/>
                </a:lnTo>
                <a:lnTo>
                  <a:pt x="1" y="4"/>
                </a:lnTo>
                <a:lnTo>
                  <a:pt x="0" y="0"/>
                </a:lnTo>
                <a:lnTo>
                  <a:pt x="233" y="99"/>
                </a:lnTo>
                <a:lnTo>
                  <a:pt x="221" y="1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64160" y="5024520"/>
            <a:ext cx="439920" cy="201600"/>
          </a:xfrm>
          <a:custGeom>
            <a:avLst/>
            <a:gdLst/>
            <a:ahLst/>
            <a:rect l="l" t="t" r="r" b="b"/>
            <a:pathLst>
              <a:path w="277" h="127">
                <a:moveTo>
                  <a:pt x="25" y="0"/>
                </a:moveTo>
                <a:lnTo>
                  <a:pt x="276" y="114"/>
                </a:lnTo>
                <a:lnTo>
                  <a:pt x="265" y="126"/>
                </a:lnTo>
                <a:lnTo>
                  <a:pt x="0" y="23"/>
                </a:lnTo>
                <a:lnTo>
                  <a:pt x="2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64160" y="5024520"/>
            <a:ext cx="439920" cy="201600"/>
          </a:xfrm>
          <a:custGeom>
            <a:avLst/>
            <a:gdLst/>
            <a:ahLst/>
            <a:rect l="l" t="t" r="r" b="b"/>
            <a:pathLst>
              <a:path w="277" h="127">
                <a:moveTo>
                  <a:pt x="25" y="0"/>
                </a:moveTo>
                <a:lnTo>
                  <a:pt x="276" y="114"/>
                </a:lnTo>
                <a:lnTo>
                  <a:pt x="265" y="126"/>
                </a:lnTo>
                <a:lnTo>
                  <a:pt x="0" y="23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51560" y="5062680"/>
            <a:ext cx="433440" cy="180720"/>
          </a:xfrm>
          <a:custGeom>
            <a:avLst/>
            <a:gdLst/>
            <a:ahLst/>
            <a:rect l="l" t="t" r="r" b="b"/>
            <a:pathLst>
              <a:path w="273" h="114">
                <a:moveTo>
                  <a:pt x="8" y="0"/>
                </a:moveTo>
                <a:lnTo>
                  <a:pt x="272" y="101"/>
                </a:lnTo>
                <a:lnTo>
                  <a:pt x="272" y="113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6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51560" y="5062680"/>
            <a:ext cx="433440" cy="180720"/>
          </a:xfrm>
          <a:custGeom>
            <a:avLst/>
            <a:gdLst/>
            <a:ahLst/>
            <a:rect l="l" t="t" r="r" b="b"/>
            <a:pathLst>
              <a:path w="273" h="114">
                <a:moveTo>
                  <a:pt x="8" y="0"/>
                </a:moveTo>
                <a:lnTo>
                  <a:pt x="272" y="101"/>
                </a:lnTo>
                <a:lnTo>
                  <a:pt x="272" y="113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942840"/>
            <a:ext cx="2514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600" spc="-1" strike="noStrike">
                <a:solidFill>
                  <a:srgbClr val="333399"/>
                </a:solidFill>
                <a:latin typeface="Arial"/>
              </a:rPr>
              <a:t>TRÊS MAR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= 19 bilhões 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Úti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= 15 bilhões 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396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1400040"/>
            <a:ext cx="236232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600" spc="-1" strike="noStrike">
                <a:solidFill>
                  <a:srgbClr val="333399"/>
                </a:solidFill>
                <a:latin typeface="Arial"/>
              </a:rPr>
              <a:t>SOBRADIN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= 34 bilhões 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Úti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= 28 bilhões 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.O5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15520" y="4067280"/>
            <a:ext cx="21268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600" spc="-1" strike="noStrike">
                <a:solidFill>
                  <a:srgbClr val="333399"/>
                </a:solidFill>
                <a:latin typeface="Arial"/>
              </a:rPr>
              <a:t>ITAPA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= 10 bilhões 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Úti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= 3 bilhões m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50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7480" y="5591160"/>
            <a:ext cx="2064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AULO AFONSO 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6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4448160"/>
            <a:ext cx="1053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XIN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6280" y="2467080"/>
            <a:ext cx="10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MOXOT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4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3240" y="284796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AULO AFO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  - 18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 - 480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 - 864 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81280" y="2466720"/>
            <a:ext cx="990720" cy="609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657600" y="3914280"/>
            <a:ext cx="762120" cy="30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638680" y="3076560"/>
            <a:ext cx="76320" cy="6858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800600" y="4905360"/>
            <a:ext cx="838080" cy="533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324120" y="3990960"/>
            <a:ext cx="1143000" cy="152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476760" y="4600440"/>
            <a:ext cx="1066680" cy="30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752480" y="1933560"/>
            <a:ext cx="457200" cy="3808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54560" y="595008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cial energético: 10.356 MW = 17% energia d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3780000" cy="6019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2160" y="0"/>
            <a:ext cx="781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proveitamentos da Bacia do Rio São Francis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4480" y="733320"/>
            <a:ext cx="4386240" cy="574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4572000" y="2743200"/>
          <a:ext cx="4343400" cy="1762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743200"/>
                    <a:ext cx="434340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981080" y="593640"/>
            <a:ext cx="692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STEMA INTERLIG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N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1213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Arial"/>
              </a:rPr>
              <a:t>1.860 Mwmed = 667 m</a:t>
            </a:r>
            <a:r>
              <a:rPr b="1" lang="pt-BR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3</a:t>
            </a:r>
            <a:r>
              <a:rPr b="1" lang="pt-BR" sz="2400" spc="-1" strike="noStrike">
                <a:solidFill>
                  <a:srgbClr val="333399"/>
                </a:solidFill>
                <a:latin typeface="Arial"/>
                <a:ea typeface="Arial"/>
              </a:rPr>
              <a:t>/s na cascata da CHES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156360" y="1143000"/>
            <a:ext cx="2521080" cy="2638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804000" y="2655720"/>
            <a:ext cx="503280" cy="43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4880" y="5413320"/>
            <a:ext cx="423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SITUAÇÃO 27/01/2004: 32,07 % 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Qaflu = 960 m</a:t>
            </a:r>
            <a:r>
              <a:rPr b="1" lang="pt-BR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/s  e Qdef = 483 m</a:t>
            </a:r>
            <a:r>
              <a:rPr b="1" lang="pt-BR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VU controle de cheia = 76,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8040" y="768240"/>
            <a:ext cx="4340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9560" y="685800"/>
            <a:ext cx="512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ERVATÓRIO DE TRÊS M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930400" y="1200240"/>
            <a:ext cx="1605240" cy="2870280"/>
            <a:chOff x="2930400" y="1200240"/>
            <a:chExt cx="1605240" cy="2870280"/>
          </a:xfrm>
        </p:grpSpPr>
        <p:grpSp>
          <p:nvGrpSpPr>
            <p:cNvPr id="166" name=""/>
            <p:cNvGrpSpPr/>
            <p:nvPr/>
          </p:nvGrpSpPr>
          <p:grpSpPr>
            <a:xfrm>
              <a:off x="2944800" y="1216440"/>
              <a:ext cx="1574640" cy="2850840"/>
              <a:chOff x="2944800" y="1216440"/>
              <a:chExt cx="1574640" cy="2850840"/>
            </a:xfrm>
          </p:grpSpPr>
          <p:sp>
            <p:nvSpPr>
              <p:cNvPr id="167" name=""/>
              <p:cNvSpPr/>
              <p:nvPr/>
            </p:nvSpPr>
            <p:spPr>
              <a:xfrm>
                <a:off x="2944800" y="1216440"/>
                <a:ext cx="157464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44800" y="1275120"/>
                <a:ext cx="1574640" cy="6012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44800" y="1335240"/>
                <a:ext cx="157464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44800" y="1393920"/>
                <a:ext cx="1574640" cy="60480"/>
              </a:xfrm>
              <a:prstGeom prst="rect">
                <a:avLst/>
              </a:prstGeom>
              <a:solidFill>
                <a:srgbClr val="97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44800" y="1454400"/>
                <a:ext cx="1574640" cy="58680"/>
              </a:xfrm>
              <a:prstGeom prst="rect">
                <a:avLst/>
              </a:prstGeom>
              <a:solidFill>
                <a:srgbClr val="97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944800" y="1513080"/>
                <a:ext cx="1574640" cy="58680"/>
              </a:xfrm>
              <a:prstGeom prst="rect">
                <a:avLst/>
              </a:prstGeom>
              <a:solidFill>
                <a:srgbClr val="96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44800" y="1571760"/>
                <a:ext cx="1574640" cy="604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44800" y="1632240"/>
                <a:ext cx="1574640" cy="586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44800" y="1690920"/>
                <a:ext cx="1574640" cy="60480"/>
              </a:xfrm>
              <a:prstGeom prst="rect">
                <a:avLst/>
              </a:prstGeom>
              <a:solidFill>
                <a:srgbClr val="94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44800" y="1751400"/>
                <a:ext cx="1574640" cy="58680"/>
              </a:xfrm>
              <a:prstGeom prst="rect">
                <a:avLst/>
              </a:prstGeom>
              <a:solidFill>
                <a:srgbClr val="93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44800" y="1810080"/>
                <a:ext cx="1574640" cy="58680"/>
              </a:xfrm>
              <a:prstGeom prst="rect">
                <a:avLst/>
              </a:prstGeom>
              <a:solidFill>
                <a:srgbClr val="926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44800" y="1868760"/>
                <a:ext cx="1574640" cy="60480"/>
              </a:xfrm>
              <a:prstGeom prst="rect">
                <a:avLst/>
              </a:prstGeom>
              <a:solidFill>
                <a:srgbClr val="90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44800" y="1929240"/>
                <a:ext cx="1574640" cy="58680"/>
              </a:xfrm>
              <a:prstGeom prst="rect">
                <a:avLst/>
              </a:prstGeom>
              <a:solidFill>
                <a:srgbClr val="8f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44800" y="1987920"/>
                <a:ext cx="1574640" cy="60120"/>
              </a:xfrm>
              <a:prstGeom prst="rect">
                <a:avLst/>
              </a:prstGeom>
              <a:solidFill>
                <a:srgbClr val="8e5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44800" y="2048040"/>
                <a:ext cx="1574640" cy="58680"/>
              </a:xfrm>
              <a:prstGeom prst="rect">
                <a:avLst/>
              </a:prstGeom>
              <a:solidFill>
                <a:srgbClr val="8c5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4800" y="2106720"/>
                <a:ext cx="1574640" cy="59040"/>
              </a:xfrm>
              <a:prstGeom prst="rect">
                <a:avLst/>
              </a:prstGeom>
              <a:solidFill>
                <a:srgbClr val="8a5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944800" y="2165760"/>
                <a:ext cx="1574640" cy="60120"/>
              </a:xfrm>
              <a:prstGeom prst="rect">
                <a:avLst/>
              </a:prstGeom>
              <a:solidFill>
                <a:srgbClr val="89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44800" y="2225880"/>
                <a:ext cx="1574640" cy="58680"/>
              </a:xfrm>
              <a:prstGeom prst="rect">
                <a:avLst/>
              </a:prstGeom>
              <a:solidFill>
                <a:srgbClr val="865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944800" y="2284560"/>
                <a:ext cx="1574640" cy="60480"/>
              </a:xfrm>
              <a:prstGeom prst="rect">
                <a:avLst/>
              </a:prstGeom>
              <a:solidFill>
                <a:srgbClr val="845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944800" y="2345040"/>
                <a:ext cx="1574640" cy="58680"/>
              </a:xfrm>
              <a:prstGeom prst="rect">
                <a:avLst/>
              </a:prstGeom>
              <a:solidFill>
                <a:srgbClr val="82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944800" y="2403720"/>
                <a:ext cx="1574640" cy="58680"/>
              </a:xfrm>
              <a:prstGeom prst="rect">
                <a:avLst/>
              </a:prstGeom>
              <a:solidFill>
                <a:srgbClr val="805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944800" y="2462400"/>
                <a:ext cx="1574640" cy="60480"/>
              </a:xfrm>
              <a:prstGeom prst="rect">
                <a:avLst/>
              </a:prstGeom>
              <a:solidFill>
                <a:srgbClr val="7d5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944800" y="2522880"/>
                <a:ext cx="1574640" cy="58680"/>
              </a:xfrm>
              <a:prstGeom prst="rect">
                <a:avLst/>
              </a:prstGeom>
              <a:solidFill>
                <a:srgbClr val="7b5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944800" y="2581560"/>
                <a:ext cx="1574640" cy="60480"/>
              </a:xfrm>
              <a:prstGeom prst="rect">
                <a:avLst/>
              </a:prstGeom>
              <a:solidFill>
                <a:srgbClr val="78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44800" y="2642040"/>
                <a:ext cx="1574640" cy="60120"/>
              </a:xfrm>
              <a:prstGeom prst="rect">
                <a:avLst/>
              </a:prstGeom>
              <a:solidFill>
                <a:srgbClr val="764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44800" y="2702160"/>
                <a:ext cx="1574640" cy="58680"/>
              </a:xfrm>
              <a:prstGeom prst="rect">
                <a:avLst/>
              </a:prstGeom>
              <a:solidFill>
                <a:srgbClr val="72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44800" y="2760840"/>
                <a:ext cx="1574640" cy="58680"/>
              </a:xfrm>
              <a:prstGeom prst="rect">
                <a:avLst/>
              </a:prstGeom>
              <a:solidFill>
                <a:srgbClr val="704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44800" y="2819520"/>
                <a:ext cx="1574640" cy="60480"/>
              </a:xfrm>
              <a:prstGeom prst="rect">
                <a:avLst/>
              </a:prstGeom>
              <a:solidFill>
                <a:srgbClr val="6d4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44800" y="2880000"/>
                <a:ext cx="1574640" cy="58680"/>
              </a:xfrm>
              <a:prstGeom prst="rect">
                <a:avLst/>
              </a:prstGeom>
              <a:solidFill>
                <a:srgbClr val="6a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44800" y="2938680"/>
                <a:ext cx="1574640" cy="60480"/>
              </a:xfrm>
              <a:prstGeom prst="rect">
                <a:avLst/>
              </a:prstGeom>
              <a:solidFill>
                <a:srgbClr val="6745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44800" y="2999160"/>
                <a:ext cx="1574640" cy="58680"/>
              </a:xfrm>
              <a:prstGeom prst="rect">
                <a:avLst/>
              </a:prstGeom>
              <a:solidFill>
                <a:srgbClr val="654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44800" y="3057840"/>
                <a:ext cx="1574640" cy="58680"/>
              </a:xfrm>
              <a:prstGeom prst="rect">
                <a:avLst/>
              </a:pr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44800" y="3116520"/>
                <a:ext cx="1574640" cy="60480"/>
              </a:xfrm>
              <a:prstGeom prst="rect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44800" y="3177000"/>
                <a:ext cx="1574640" cy="58680"/>
              </a:xfrm>
              <a:prstGeom prst="rect">
                <a:avLst/>
              </a:prstGeom>
              <a:solidFill>
                <a:srgbClr val="5d3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44800" y="3235680"/>
                <a:ext cx="1574640" cy="60120"/>
              </a:xfrm>
              <a:prstGeom prst="rect">
                <a:avLst/>
              </a:prstGeom>
              <a:solidFill>
                <a:srgbClr val="5a3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44800" y="3295800"/>
                <a:ext cx="1574640" cy="58680"/>
              </a:xfrm>
              <a:prstGeom prst="rect">
                <a:avLst/>
              </a:prstGeom>
              <a:solidFill>
                <a:srgbClr val="583a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44800" y="3354480"/>
                <a:ext cx="1574640" cy="60480"/>
              </a:xfrm>
              <a:prstGeom prst="rect">
                <a:avLst/>
              </a:prstGeom>
              <a:solidFill>
                <a:srgbClr val="563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44800" y="3414960"/>
                <a:ext cx="1574640" cy="58680"/>
              </a:xfrm>
              <a:prstGeom prst="rect">
                <a:avLst/>
              </a:prstGeom>
              <a:solidFill>
                <a:srgbClr val="543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944800" y="3473640"/>
                <a:ext cx="1574640" cy="58680"/>
              </a:xfrm>
              <a:prstGeom prst="rect">
                <a:avLst/>
              </a:prstGeom>
              <a:solidFill>
                <a:srgbClr val="523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944800" y="3532320"/>
                <a:ext cx="1574640" cy="60480"/>
              </a:xfrm>
              <a:prstGeom prst="rect">
                <a:avLst/>
              </a:prstGeom>
              <a:solidFill>
                <a:srgbClr val="503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944800" y="3592800"/>
                <a:ext cx="1574640" cy="58680"/>
              </a:xfrm>
              <a:prstGeom prst="rect">
                <a:avLst/>
              </a:prstGeom>
              <a:solidFill>
                <a:srgbClr val="4e3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44800" y="3651480"/>
                <a:ext cx="1574640" cy="604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44800" y="3711960"/>
                <a:ext cx="1574640" cy="58680"/>
              </a:xfrm>
              <a:prstGeom prst="rect">
                <a:avLst/>
              </a:prstGeom>
              <a:solidFill>
                <a:srgbClr val="4c3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44800" y="3770640"/>
                <a:ext cx="1574640" cy="58680"/>
              </a:xfrm>
              <a:prstGeom prst="rect">
                <a:avLst/>
              </a:prstGeom>
              <a:solidFill>
                <a:srgbClr val="4a31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44800" y="3829320"/>
                <a:ext cx="1574640" cy="60480"/>
              </a:xfrm>
              <a:prstGeom prst="rect">
                <a:avLst/>
              </a:prstGeom>
              <a:solidFill>
                <a:srgbClr val="49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44800" y="3889800"/>
                <a:ext cx="1574640" cy="58680"/>
              </a:xfrm>
              <a:prstGeom prst="rect">
                <a:avLst/>
              </a:prstGeom>
              <a:solidFill>
                <a:srgbClr val="48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44800" y="3948480"/>
                <a:ext cx="1574640" cy="6012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44800" y="4008600"/>
                <a:ext cx="1574640" cy="5868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44800" y="1216440"/>
                <a:ext cx="1574640" cy="2849400"/>
              </a:xfrm>
              <a:custGeom>
                <a:avLst/>
                <a:gdLst/>
                <a:ahLst/>
                <a:rect l="l" t="t" r="r" b="b"/>
                <a:pathLst>
                  <a:path w="1982" h="3591">
                    <a:moveTo>
                      <a:pt x="0" y="3269"/>
                    </a:moveTo>
                    <a:lnTo>
                      <a:pt x="623" y="0"/>
                    </a:lnTo>
                    <a:lnTo>
                      <a:pt x="1246" y="0"/>
                    </a:lnTo>
                    <a:lnTo>
                      <a:pt x="1982" y="3591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472f17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44800" y="1216440"/>
                <a:ext cx="1574640" cy="2849400"/>
              </a:xfrm>
              <a:custGeom>
                <a:avLst/>
                <a:gdLst/>
                <a:ahLst/>
                <a:rect l="l" t="t" r="r" b="b"/>
                <a:pathLst>
                  <a:path w="1982" h="3591">
                    <a:moveTo>
                      <a:pt x="0" y="3269"/>
                    </a:moveTo>
                    <a:lnTo>
                      <a:pt x="623" y="0"/>
                    </a:lnTo>
                    <a:lnTo>
                      <a:pt x="1246" y="0"/>
                    </a:lnTo>
                    <a:lnTo>
                      <a:pt x="1982" y="3591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44800" y="1216440"/>
                <a:ext cx="157464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44800" y="1275120"/>
                <a:ext cx="1574640" cy="6012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44800" y="1335240"/>
                <a:ext cx="157464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44800" y="1393920"/>
                <a:ext cx="1574640" cy="60480"/>
              </a:xfrm>
              <a:prstGeom prst="rect">
                <a:avLst/>
              </a:prstGeom>
              <a:solidFill>
                <a:srgbClr val="97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44800" y="1454400"/>
                <a:ext cx="1574640" cy="58680"/>
              </a:xfrm>
              <a:prstGeom prst="rect">
                <a:avLst/>
              </a:prstGeom>
              <a:solidFill>
                <a:srgbClr val="97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44800" y="1513080"/>
                <a:ext cx="1574640" cy="58680"/>
              </a:xfrm>
              <a:prstGeom prst="rect">
                <a:avLst/>
              </a:prstGeom>
              <a:solidFill>
                <a:srgbClr val="96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44800" y="1571760"/>
                <a:ext cx="1574640" cy="604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44800" y="1632240"/>
                <a:ext cx="1574640" cy="586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44800" y="1690920"/>
                <a:ext cx="1574640" cy="60480"/>
              </a:xfrm>
              <a:prstGeom prst="rect">
                <a:avLst/>
              </a:prstGeom>
              <a:solidFill>
                <a:srgbClr val="94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44800" y="1751400"/>
                <a:ext cx="1574640" cy="58680"/>
              </a:xfrm>
              <a:prstGeom prst="rect">
                <a:avLst/>
              </a:prstGeom>
              <a:solidFill>
                <a:srgbClr val="93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44800" y="1810080"/>
                <a:ext cx="1574640" cy="58680"/>
              </a:xfrm>
              <a:prstGeom prst="rect">
                <a:avLst/>
              </a:prstGeom>
              <a:solidFill>
                <a:srgbClr val="926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44800" y="1868760"/>
                <a:ext cx="1574640" cy="60480"/>
              </a:xfrm>
              <a:prstGeom prst="rect">
                <a:avLst/>
              </a:prstGeom>
              <a:solidFill>
                <a:srgbClr val="90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44800" y="1929240"/>
                <a:ext cx="1574640" cy="58680"/>
              </a:xfrm>
              <a:prstGeom prst="rect">
                <a:avLst/>
              </a:prstGeom>
              <a:solidFill>
                <a:srgbClr val="8f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944800" y="1987920"/>
                <a:ext cx="1574640" cy="60120"/>
              </a:xfrm>
              <a:prstGeom prst="rect">
                <a:avLst/>
              </a:prstGeom>
              <a:solidFill>
                <a:srgbClr val="8e5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44800" y="2048040"/>
                <a:ext cx="1574640" cy="58680"/>
              </a:xfrm>
              <a:prstGeom prst="rect">
                <a:avLst/>
              </a:prstGeom>
              <a:solidFill>
                <a:srgbClr val="8c5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944800" y="2106720"/>
                <a:ext cx="1574640" cy="59040"/>
              </a:xfrm>
              <a:prstGeom prst="rect">
                <a:avLst/>
              </a:prstGeom>
              <a:solidFill>
                <a:srgbClr val="8a5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44800" y="2165760"/>
                <a:ext cx="1574640" cy="60120"/>
              </a:xfrm>
              <a:prstGeom prst="rect">
                <a:avLst/>
              </a:prstGeom>
              <a:solidFill>
                <a:srgbClr val="89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44800" y="2225880"/>
                <a:ext cx="1574640" cy="58680"/>
              </a:xfrm>
              <a:prstGeom prst="rect">
                <a:avLst/>
              </a:prstGeom>
              <a:solidFill>
                <a:srgbClr val="865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44800" y="2284560"/>
                <a:ext cx="1574640" cy="60480"/>
              </a:xfrm>
              <a:prstGeom prst="rect">
                <a:avLst/>
              </a:prstGeom>
              <a:solidFill>
                <a:srgbClr val="845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44800" y="2345040"/>
                <a:ext cx="1574640" cy="58680"/>
              </a:xfrm>
              <a:prstGeom prst="rect">
                <a:avLst/>
              </a:prstGeom>
              <a:solidFill>
                <a:srgbClr val="82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44800" y="2403720"/>
                <a:ext cx="1574640" cy="58680"/>
              </a:xfrm>
              <a:prstGeom prst="rect">
                <a:avLst/>
              </a:prstGeom>
              <a:solidFill>
                <a:srgbClr val="805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44800" y="2462400"/>
                <a:ext cx="1574640" cy="60480"/>
              </a:xfrm>
              <a:prstGeom prst="rect">
                <a:avLst/>
              </a:prstGeom>
              <a:solidFill>
                <a:srgbClr val="7d5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44800" y="2522880"/>
                <a:ext cx="1574640" cy="58680"/>
              </a:xfrm>
              <a:prstGeom prst="rect">
                <a:avLst/>
              </a:prstGeom>
              <a:solidFill>
                <a:srgbClr val="7b5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944800" y="2581560"/>
                <a:ext cx="1574640" cy="60480"/>
              </a:xfrm>
              <a:prstGeom prst="rect">
                <a:avLst/>
              </a:prstGeom>
              <a:solidFill>
                <a:srgbClr val="78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944800" y="2642040"/>
                <a:ext cx="1574640" cy="60120"/>
              </a:xfrm>
              <a:prstGeom prst="rect">
                <a:avLst/>
              </a:prstGeom>
              <a:solidFill>
                <a:srgbClr val="764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44800" y="2702160"/>
                <a:ext cx="1574640" cy="58680"/>
              </a:xfrm>
              <a:prstGeom prst="rect">
                <a:avLst/>
              </a:prstGeom>
              <a:solidFill>
                <a:srgbClr val="72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44800" y="2760840"/>
                <a:ext cx="1574640" cy="58680"/>
              </a:xfrm>
              <a:prstGeom prst="rect">
                <a:avLst/>
              </a:prstGeom>
              <a:solidFill>
                <a:srgbClr val="704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44800" y="2819520"/>
                <a:ext cx="1574640" cy="60480"/>
              </a:xfrm>
              <a:prstGeom prst="rect">
                <a:avLst/>
              </a:prstGeom>
              <a:solidFill>
                <a:srgbClr val="6d4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944800" y="2880000"/>
                <a:ext cx="1574640" cy="58680"/>
              </a:xfrm>
              <a:prstGeom prst="rect">
                <a:avLst/>
              </a:prstGeom>
              <a:solidFill>
                <a:srgbClr val="6a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44800" y="2938680"/>
                <a:ext cx="1574640" cy="60480"/>
              </a:xfrm>
              <a:prstGeom prst="rect">
                <a:avLst/>
              </a:prstGeom>
              <a:solidFill>
                <a:srgbClr val="6745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44800" y="2999160"/>
                <a:ext cx="1574640" cy="58680"/>
              </a:xfrm>
              <a:prstGeom prst="rect">
                <a:avLst/>
              </a:prstGeom>
              <a:solidFill>
                <a:srgbClr val="654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44800" y="3057840"/>
                <a:ext cx="1574640" cy="58680"/>
              </a:xfrm>
              <a:prstGeom prst="rect">
                <a:avLst/>
              </a:pr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44800" y="3116520"/>
                <a:ext cx="1574640" cy="60480"/>
              </a:xfrm>
              <a:prstGeom prst="rect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44800" y="3177000"/>
                <a:ext cx="1574640" cy="58680"/>
              </a:xfrm>
              <a:prstGeom prst="rect">
                <a:avLst/>
              </a:prstGeom>
              <a:solidFill>
                <a:srgbClr val="5d3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44800" y="3235680"/>
                <a:ext cx="1574640" cy="60120"/>
              </a:xfrm>
              <a:prstGeom prst="rect">
                <a:avLst/>
              </a:prstGeom>
              <a:solidFill>
                <a:srgbClr val="5a3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44800" y="3295800"/>
                <a:ext cx="1574640" cy="58680"/>
              </a:xfrm>
              <a:prstGeom prst="rect">
                <a:avLst/>
              </a:prstGeom>
              <a:solidFill>
                <a:srgbClr val="583a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44800" y="3354480"/>
                <a:ext cx="1574640" cy="60480"/>
              </a:xfrm>
              <a:prstGeom prst="rect">
                <a:avLst/>
              </a:prstGeom>
              <a:solidFill>
                <a:srgbClr val="563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44800" y="3414960"/>
                <a:ext cx="1574640" cy="58680"/>
              </a:xfrm>
              <a:prstGeom prst="rect">
                <a:avLst/>
              </a:prstGeom>
              <a:solidFill>
                <a:srgbClr val="543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944800" y="3473640"/>
                <a:ext cx="1574640" cy="58680"/>
              </a:xfrm>
              <a:prstGeom prst="rect">
                <a:avLst/>
              </a:prstGeom>
              <a:solidFill>
                <a:srgbClr val="523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44800" y="3532320"/>
                <a:ext cx="1574640" cy="60480"/>
              </a:xfrm>
              <a:prstGeom prst="rect">
                <a:avLst/>
              </a:prstGeom>
              <a:solidFill>
                <a:srgbClr val="503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44800" y="3592800"/>
                <a:ext cx="1574640" cy="58680"/>
              </a:xfrm>
              <a:prstGeom prst="rect">
                <a:avLst/>
              </a:prstGeom>
              <a:solidFill>
                <a:srgbClr val="4e3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944800" y="3651480"/>
                <a:ext cx="1574640" cy="604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44800" y="3711960"/>
                <a:ext cx="1574640" cy="58680"/>
              </a:xfrm>
              <a:prstGeom prst="rect">
                <a:avLst/>
              </a:prstGeom>
              <a:solidFill>
                <a:srgbClr val="4c3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944800" y="3770640"/>
                <a:ext cx="1574640" cy="58680"/>
              </a:xfrm>
              <a:prstGeom prst="rect">
                <a:avLst/>
              </a:prstGeom>
              <a:solidFill>
                <a:srgbClr val="4a31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944800" y="3829320"/>
                <a:ext cx="1574640" cy="60480"/>
              </a:xfrm>
              <a:prstGeom prst="rect">
                <a:avLst/>
              </a:prstGeom>
              <a:solidFill>
                <a:srgbClr val="49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44800" y="3889800"/>
                <a:ext cx="1574640" cy="58680"/>
              </a:xfrm>
              <a:prstGeom prst="rect">
                <a:avLst/>
              </a:prstGeom>
              <a:solidFill>
                <a:srgbClr val="48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44800" y="3948480"/>
                <a:ext cx="1574640" cy="6012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44800" y="4008600"/>
                <a:ext cx="1574640" cy="5868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930400" y="1200240"/>
              <a:ext cx="1605240" cy="2870280"/>
            </a:xfrm>
            <a:custGeom>
              <a:avLst/>
              <a:gdLst/>
              <a:ahLst/>
              <a:rect l="l" t="t" r="r" b="b"/>
              <a:pathLst>
                <a:path w="2021" h="3615">
                  <a:moveTo>
                    <a:pt x="0" y="3286"/>
                  </a:moveTo>
                  <a:lnTo>
                    <a:pt x="39" y="3294"/>
                  </a:lnTo>
                  <a:lnTo>
                    <a:pt x="662" y="24"/>
                  </a:lnTo>
                  <a:lnTo>
                    <a:pt x="642" y="20"/>
                  </a:lnTo>
                  <a:lnTo>
                    <a:pt x="642" y="40"/>
                  </a:lnTo>
                  <a:lnTo>
                    <a:pt x="649" y="39"/>
                  </a:lnTo>
                  <a:lnTo>
                    <a:pt x="656" y="34"/>
                  </a:lnTo>
                  <a:lnTo>
                    <a:pt x="661" y="28"/>
                  </a:lnTo>
                  <a:lnTo>
                    <a:pt x="642" y="40"/>
                  </a:lnTo>
                  <a:lnTo>
                    <a:pt x="1265" y="40"/>
                  </a:lnTo>
                  <a:lnTo>
                    <a:pt x="1265" y="20"/>
                  </a:lnTo>
                  <a:lnTo>
                    <a:pt x="1246" y="28"/>
                  </a:lnTo>
                  <a:lnTo>
                    <a:pt x="1250" y="34"/>
                  </a:lnTo>
                  <a:lnTo>
                    <a:pt x="1257" y="39"/>
                  </a:lnTo>
                  <a:lnTo>
                    <a:pt x="1246" y="24"/>
                  </a:lnTo>
                  <a:lnTo>
                    <a:pt x="1982" y="3615"/>
                  </a:lnTo>
                  <a:lnTo>
                    <a:pt x="2021" y="3607"/>
                  </a:lnTo>
                  <a:lnTo>
                    <a:pt x="1285" y="16"/>
                  </a:lnTo>
                  <a:lnTo>
                    <a:pt x="1284" y="12"/>
                  </a:lnTo>
                  <a:lnTo>
                    <a:pt x="1279" y="5"/>
                  </a:lnTo>
                  <a:lnTo>
                    <a:pt x="1272" y="2"/>
                  </a:lnTo>
                  <a:lnTo>
                    <a:pt x="1265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34" y="2"/>
                  </a:lnTo>
                  <a:lnTo>
                    <a:pt x="627" y="5"/>
                  </a:lnTo>
                  <a:lnTo>
                    <a:pt x="624" y="12"/>
                  </a:lnTo>
                  <a:lnTo>
                    <a:pt x="622" y="20"/>
                  </a:lnTo>
                  <a:lnTo>
                    <a:pt x="623" y="16"/>
                  </a:lnTo>
                  <a:lnTo>
                    <a:pt x="0" y="3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52600" y="2616120"/>
            <a:ext cx="5132160" cy="1811520"/>
          </a:xfrm>
          <a:custGeom>
            <a:avLst/>
            <a:gdLst/>
            <a:ahLst/>
            <a:rect l="l" t="t" r="r" b="b"/>
            <a:pathLst>
              <a:path w="6466" h="2282">
                <a:moveTo>
                  <a:pt x="6426" y="2282"/>
                </a:moveTo>
                <a:lnTo>
                  <a:pt x="0" y="2282"/>
                </a:lnTo>
                <a:lnTo>
                  <a:pt x="1" y="1998"/>
                </a:lnTo>
                <a:lnTo>
                  <a:pt x="1" y="1714"/>
                </a:lnTo>
                <a:lnTo>
                  <a:pt x="2" y="1146"/>
                </a:lnTo>
                <a:lnTo>
                  <a:pt x="2" y="862"/>
                </a:lnTo>
                <a:lnTo>
                  <a:pt x="5" y="579"/>
                </a:lnTo>
                <a:lnTo>
                  <a:pt x="8" y="295"/>
                </a:lnTo>
                <a:lnTo>
                  <a:pt x="14" y="12"/>
                </a:lnTo>
                <a:lnTo>
                  <a:pt x="15" y="6"/>
                </a:lnTo>
                <a:lnTo>
                  <a:pt x="16" y="3"/>
                </a:lnTo>
                <a:lnTo>
                  <a:pt x="18" y="0"/>
                </a:lnTo>
                <a:lnTo>
                  <a:pt x="21" y="0"/>
                </a:lnTo>
                <a:lnTo>
                  <a:pt x="25" y="1"/>
                </a:lnTo>
                <a:lnTo>
                  <a:pt x="29" y="5"/>
                </a:lnTo>
                <a:lnTo>
                  <a:pt x="39" y="12"/>
                </a:lnTo>
                <a:lnTo>
                  <a:pt x="51" y="22"/>
                </a:lnTo>
                <a:lnTo>
                  <a:pt x="65" y="33"/>
                </a:lnTo>
                <a:lnTo>
                  <a:pt x="79" y="44"/>
                </a:lnTo>
                <a:lnTo>
                  <a:pt x="95" y="52"/>
                </a:lnTo>
                <a:lnTo>
                  <a:pt x="127" y="64"/>
                </a:lnTo>
                <a:lnTo>
                  <a:pt x="161" y="74"/>
                </a:lnTo>
                <a:lnTo>
                  <a:pt x="196" y="83"/>
                </a:lnTo>
                <a:lnTo>
                  <a:pt x="230" y="93"/>
                </a:lnTo>
                <a:lnTo>
                  <a:pt x="284" y="110"/>
                </a:lnTo>
                <a:lnTo>
                  <a:pt x="337" y="124"/>
                </a:lnTo>
                <a:lnTo>
                  <a:pt x="390" y="137"/>
                </a:lnTo>
                <a:lnTo>
                  <a:pt x="442" y="147"/>
                </a:lnTo>
                <a:lnTo>
                  <a:pt x="495" y="154"/>
                </a:lnTo>
                <a:lnTo>
                  <a:pt x="549" y="162"/>
                </a:lnTo>
                <a:lnTo>
                  <a:pt x="604" y="169"/>
                </a:lnTo>
                <a:lnTo>
                  <a:pt x="662" y="176"/>
                </a:lnTo>
                <a:lnTo>
                  <a:pt x="673" y="177"/>
                </a:lnTo>
                <a:lnTo>
                  <a:pt x="684" y="179"/>
                </a:lnTo>
                <a:lnTo>
                  <a:pt x="710" y="185"/>
                </a:lnTo>
                <a:lnTo>
                  <a:pt x="737" y="191"/>
                </a:lnTo>
                <a:lnTo>
                  <a:pt x="764" y="198"/>
                </a:lnTo>
                <a:lnTo>
                  <a:pt x="787" y="205"/>
                </a:lnTo>
                <a:lnTo>
                  <a:pt x="797" y="208"/>
                </a:lnTo>
                <a:lnTo>
                  <a:pt x="806" y="210"/>
                </a:lnTo>
                <a:lnTo>
                  <a:pt x="814" y="213"/>
                </a:lnTo>
                <a:lnTo>
                  <a:pt x="820" y="215"/>
                </a:lnTo>
                <a:lnTo>
                  <a:pt x="823" y="216"/>
                </a:lnTo>
                <a:lnTo>
                  <a:pt x="824" y="216"/>
                </a:lnTo>
                <a:lnTo>
                  <a:pt x="839" y="235"/>
                </a:lnTo>
                <a:lnTo>
                  <a:pt x="854" y="252"/>
                </a:lnTo>
                <a:lnTo>
                  <a:pt x="874" y="266"/>
                </a:lnTo>
                <a:lnTo>
                  <a:pt x="894" y="281"/>
                </a:lnTo>
                <a:lnTo>
                  <a:pt x="918" y="293"/>
                </a:lnTo>
                <a:lnTo>
                  <a:pt x="942" y="304"/>
                </a:lnTo>
                <a:lnTo>
                  <a:pt x="968" y="314"/>
                </a:lnTo>
                <a:lnTo>
                  <a:pt x="994" y="323"/>
                </a:lnTo>
                <a:lnTo>
                  <a:pt x="1048" y="339"/>
                </a:lnTo>
                <a:lnTo>
                  <a:pt x="1102" y="351"/>
                </a:lnTo>
                <a:lnTo>
                  <a:pt x="1129" y="355"/>
                </a:lnTo>
                <a:lnTo>
                  <a:pt x="1154" y="360"/>
                </a:lnTo>
                <a:lnTo>
                  <a:pt x="1179" y="363"/>
                </a:lnTo>
                <a:lnTo>
                  <a:pt x="1201" y="367"/>
                </a:lnTo>
                <a:lnTo>
                  <a:pt x="1219" y="373"/>
                </a:lnTo>
                <a:lnTo>
                  <a:pt x="1236" y="379"/>
                </a:lnTo>
                <a:lnTo>
                  <a:pt x="1250" y="386"/>
                </a:lnTo>
                <a:lnTo>
                  <a:pt x="1263" y="391"/>
                </a:lnTo>
                <a:lnTo>
                  <a:pt x="1275" y="398"/>
                </a:lnTo>
                <a:lnTo>
                  <a:pt x="1286" y="403"/>
                </a:lnTo>
                <a:lnTo>
                  <a:pt x="1306" y="417"/>
                </a:lnTo>
                <a:lnTo>
                  <a:pt x="1325" y="431"/>
                </a:lnTo>
                <a:lnTo>
                  <a:pt x="1348" y="448"/>
                </a:lnTo>
                <a:lnTo>
                  <a:pt x="1360" y="457"/>
                </a:lnTo>
                <a:lnTo>
                  <a:pt x="1373" y="467"/>
                </a:lnTo>
                <a:lnTo>
                  <a:pt x="1388" y="478"/>
                </a:lnTo>
                <a:lnTo>
                  <a:pt x="1405" y="489"/>
                </a:lnTo>
                <a:lnTo>
                  <a:pt x="1408" y="491"/>
                </a:lnTo>
                <a:lnTo>
                  <a:pt x="1412" y="493"/>
                </a:lnTo>
                <a:lnTo>
                  <a:pt x="1424" y="497"/>
                </a:lnTo>
                <a:lnTo>
                  <a:pt x="1438" y="501"/>
                </a:lnTo>
                <a:lnTo>
                  <a:pt x="1454" y="505"/>
                </a:lnTo>
                <a:lnTo>
                  <a:pt x="1468" y="510"/>
                </a:lnTo>
                <a:lnTo>
                  <a:pt x="1483" y="513"/>
                </a:lnTo>
                <a:lnTo>
                  <a:pt x="1488" y="515"/>
                </a:lnTo>
                <a:lnTo>
                  <a:pt x="1493" y="516"/>
                </a:lnTo>
                <a:lnTo>
                  <a:pt x="1496" y="516"/>
                </a:lnTo>
                <a:lnTo>
                  <a:pt x="1498" y="517"/>
                </a:lnTo>
                <a:lnTo>
                  <a:pt x="1518" y="524"/>
                </a:lnTo>
                <a:lnTo>
                  <a:pt x="1539" y="533"/>
                </a:lnTo>
                <a:lnTo>
                  <a:pt x="1559" y="540"/>
                </a:lnTo>
                <a:lnTo>
                  <a:pt x="1570" y="542"/>
                </a:lnTo>
                <a:lnTo>
                  <a:pt x="1580" y="544"/>
                </a:lnTo>
                <a:lnTo>
                  <a:pt x="1595" y="546"/>
                </a:lnTo>
                <a:lnTo>
                  <a:pt x="1613" y="549"/>
                </a:lnTo>
                <a:lnTo>
                  <a:pt x="1632" y="551"/>
                </a:lnTo>
                <a:lnTo>
                  <a:pt x="1651" y="553"/>
                </a:lnTo>
                <a:lnTo>
                  <a:pt x="1691" y="558"/>
                </a:lnTo>
                <a:lnTo>
                  <a:pt x="1732" y="562"/>
                </a:lnTo>
                <a:lnTo>
                  <a:pt x="1750" y="564"/>
                </a:lnTo>
                <a:lnTo>
                  <a:pt x="1766" y="565"/>
                </a:lnTo>
                <a:lnTo>
                  <a:pt x="1782" y="568"/>
                </a:lnTo>
                <a:lnTo>
                  <a:pt x="1795" y="569"/>
                </a:lnTo>
                <a:lnTo>
                  <a:pt x="1806" y="570"/>
                </a:lnTo>
                <a:lnTo>
                  <a:pt x="1815" y="571"/>
                </a:lnTo>
                <a:lnTo>
                  <a:pt x="1820" y="572"/>
                </a:lnTo>
                <a:lnTo>
                  <a:pt x="1822" y="572"/>
                </a:lnTo>
                <a:lnTo>
                  <a:pt x="1834" y="575"/>
                </a:lnTo>
                <a:lnTo>
                  <a:pt x="1846" y="578"/>
                </a:lnTo>
                <a:lnTo>
                  <a:pt x="1864" y="582"/>
                </a:lnTo>
                <a:lnTo>
                  <a:pt x="1880" y="587"/>
                </a:lnTo>
                <a:lnTo>
                  <a:pt x="1892" y="589"/>
                </a:lnTo>
                <a:lnTo>
                  <a:pt x="1904" y="592"/>
                </a:lnTo>
                <a:lnTo>
                  <a:pt x="1911" y="593"/>
                </a:lnTo>
                <a:lnTo>
                  <a:pt x="1918" y="596"/>
                </a:lnTo>
                <a:lnTo>
                  <a:pt x="1925" y="598"/>
                </a:lnTo>
                <a:lnTo>
                  <a:pt x="1937" y="601"/>
                </a:lnTo>
                <a:lnTo>
                  <a:pt x="1944" y="603"/>
                </a:lnTo>
                <a:lnTo>
                  <a:pt x="1953" y="607"/>
                </a:lnTo>
                <a:lnTo>
                  <a:pt x="1963" y="610"/>
                </a:lnTo>
                <a:lnTo>
                  <a:pt x="1976" y="615"/>
                </a:lnTo>
                <a:lnTo>
                  <a:pt x="1992" y="620"/>
                </a:lnTo>
                <a:lnTo>
                  <a:pt x="2012" y="627"/>
                </a:lnTo>
                <a:lnTo>
                  <a:pt x="2023" y="632"/>
                </a:lnTo>
                <a:lnTo>
                  <a:pt x="2032" y="640"/>
                </a:lnTo>
                <a:lnTo>
                  <a:pt x="2042" y="647"/>
                </a:lnTo>
                <a:lnTo>
                  <a:pt x="2052" y="654"/>
                </a:lnTo>
                <a:lnTo>
                  <a:pt x="2062" y="658"/>
                </a:lnTo>
                <a:lnTo>
                  <a:pt x="2072" y="661"/>
                </a:lnTo>
                <a:lnTo>
                  <a:pt x="2093" y="666"/>
                </a:lnTo>
                <a:lnTo>
                  <a:pt x="2115" y="673"/>
                </a:lnTo>
                <a:lnTo>
                  <a:pt x="2125" y="676"/>
                </a:lnTo>
                <a:lnTo>
                  <a:pt x="2134" y="682"/>
                </a:lnTo>
                <a:lnTo>
                  <a:pt x="2174" y="709"/>
                </a:lnTo>
                <a:lnTo>
                  <a:pt x="2214" y="736"/>
                </a:lnTo>
                <a:lnTo>
                  <a:pt x="2219" y="740"/>
                </a:lnTo>
                <a:lnTo>
                  <a:pt x="2226" y="744"/>
                </a:lnTo>
                <a:lnTo>
                  <a:pt x="2240" y="753"/>
                </a:lnTo>
                <a:lnTo>
                  <a:pt x="2245" y="757"/>
                </a:lnTo>
                <a:lnTo>
                  <a:pt x="2250" y="760"/>
                </a:lnTo>
                <a:lnTo>
                  <a:pt x="2253" y="762"/>
                </a:lnTo>
                <a:lnTo>
                  <a:pt x="2254" y="763"/>
                </a:lnTo>
                <a:lnTo>
                  <a:pt x="2257" y="775"/>
                </a:lnTo>
                <a:lnTo>
                  <a:pt x="2261" y="784"/>
                </a:lnTo>
                <a:lnTo>
                  <a:pt x="2263" y="791"/>
                </a:lnTo>
                <a:lnTo>
                  <a:pt x="2264" y="797"/>
                </a:lnTo>
                <a:lnTo>
                  <a:pt x="2265" y="800"/>
                </a:lnTo>
                <a:lnTo>
                  <a:pt x="2266" y="803"/>
                </a:lnTo>
                <a:lnTo>
                  <a:pt x="2269" y="804"/>
                </a:lnTo>
                <a:lnTo>
                  <a:pt x="2272" y="804"/>
                </a:lnTo>
                <a:lnTo>
                  <a:pt x="2274" y="805"/>
                </a:lnTo>
                <a:lnTo>
                  <a:pt x="2279" y="805"/>
                </a:lnTo>
                <a:lnTo>
                  <a:pt x="2284" y="807"/>
                </a:lnTo>
                <a:lnTo>
                  <a:pt x="2291" y="809"/>
                </a:lnTo>
                <a:lnTo>
                  <a:pt x="2299" y="812"/>
                </a:lnTo>
                <a:lnTo>
                  <a:pt x="2309" y="818"/>
                </a:lnTo>
                <a:lnTo>
                  <a:pt x="2329" y="832"/>
                </a:lnTo>
                <a:lnTo>
                  <a:pt x="2348" y="848"/>
                </a:lnTo>
                <a:lnTo>
                  <a:pt x="2368" y="862"/>
                </a:lnTo>
                <a:lnTo>
                  <a:pt x="2378" y="868"/>
                </a:lnTo>
                <a:lnTo>
                  <a:pt x="2389" y="872"/>
                </a:lnTo>
                <a:lnTo>
                  <a:pt x="2426" y="885"/>
                </a:lnTo>
                <a:lnTo>
                  <a:pt x="2462" y="897"/>
                </a:lnTo>
                <a:lnTo>
                  <a:pt x="2495" y="907"/>
                </a:lnTo>
                <a:lnTo>
                  <a:pt x="2529" y="917"/>
                </a:lnTo>
                <a:lnTo>
                  <a:pt x="2562" y="925"/>
                </a:lnTo>
                <a:lnTo>
                  <a:pt x="2597" y="932"/>
                </a:lnTo>
                <a:lnTo>
                  <a:pt x="2634" y="937"/>
                </a:lnTo>
                <a:lnTo>
                  <a:pt x="2673" y="942"/>
                </a:lnTo>
                <a:lnTo>
                  <a:pt x="2734" y="945"/>
                </a:lnTo>
                <a:lnTo>
                  <a:pt x="2794" y="948"/>
                </a:lnTo>
                <a:lnTo>
                  <a:pt x="2855" y="952"/>
                </a:lnTo>
                <a:lnTo>
                  <a:pt x="2916" y="955"/>
                </a:lnTo>
                <a:lnTo>
                  <a:pt x="2983" y="962"/>
                </a:lnTo>
                <a:lnTo>
                  <a:pt x="3051" y="968"/>
                </a:lnTo>
                <a:lnTo>
                  <a:pt x="3078" y="979"/>
                </a:lnTo>
                <a:lnTo>
                  <a:pt x="3105" y="990"/>
                </a:lnTo>
                <a:lnTo>
                  <a:pt x="3154" y="1014"/>
                </a:lnTo>
                <a:lnTo>
                  <a:pt x="3203" y="1040"/>
                </a:lnTo>
                <a:lnTo>
                  <a:pt x="3228" y="1052"/>
                </a:lnTo>
                <a:lnTo>
                  <a:pt x="3253" y="1065"/>
                </a:lnTo>
                <a:lnTo>
                  <a:pt x="3278" y="1073"/>
                </a:lnTo>
                <a:lnTo>
                  <a:pt x="3305" y="1081"/>
                </a:lnTo>
                <a:lnTo>
                  <a:pt x="3333" y="1087"/>
                </a:lnTo>
                <a:lnTo>
                  <a:pt x="3360" y="1091"/>
                </a:lnTo>
                <a:lnTo>
                  <a:pt x="3416" y="1099"/>
                </a:lnTo>
                <a:lnTo>
                  <a:pt x="3444" y="1102"/>
                </a:lnTo>
                <a:lnTo>
                  <a:pt x="3470" y="1106"/>
                </a:lnTo>
                <a:lnTo>
                  <a:pt x="3525" y="1123"/>
                </a:lnTo>
                <a:lnTo>
                  <a:pt x="3579" y="1138"/>
                </a:lnTo>
                <a:lnTo>
                  <a:pt x="3635" y="1153"/>
                </a:lnTo>
                <a:lnTo>
                  <a:pt x="3691" y="1166"/>
                </a:lnTo>
                <a:lnTo>
                  <a:pt x="3804" y="1191"/>
                </a:lnTo>
                <a:lnTo>
                  <a:pt x="3915" y="1215"/>
                </a:lnTo>
                <a:lnTo>
                  <a:pt x="3986" y="1232"/>
                </a:lnTo>
                <a:lnTo>
                  <a:pt x="4056" y="1250"/>
                </a:lnTo>
                <a:lnTo>
                  <a:pt x="4127" y="1268"/>
                </a:lnTo>
                <a:lnTo>
                  <a:pt x="4199" y="1283"/>
                </a:lnTo>
                <a:lnTo>
                  <a:pt x="4200" y="1283"/>
                </a:lnTo>
                <a:lnTo>
                  <a:pt x="4201" y="1283"/>
                </a:lnTo>
                <a:lnTo>
                  <a:pt x="4208" y="1284"/>
                </a:lnTo>
                <a:lnTo>
                  <a:pt x="4218" y="1287"/>
                </a:lnTo>
                <a:lnTo>
                  <a:pt x="4231" y="1289"/>
                </a:lnTo>
                <a:lnTo>
                  <a:pt x="4247" y="1291"/>
                </a:lnTo>
                <a:lnTo>
                  <a:pt x="4265" y="1295"/>
                </a:lnTo>
                <a:lnTo>
                  <a:pt x="4285" y="1298"/>
                </a:lnTo>
                <a:lnTo>
                  <a:pt x="4305" y="1301"/>
                </a:lnTo>
                <a:lnTo>
                  <a:pt x="4347" y="1308"/>
                </a:lnTo>
                <a:lnTo>
                  <a:pt x="4367" y="1311"/>
                </a:lnTo>
                <a:lnTo>
                  <a:pt x="4386" y="1315"/>
                </a:lnTo>
                <a:lnTo>
                  <a:pt x="4404" y="1318"/>
                </a:lnTo>
                <a:lnTo>
                  <a:pt x="4419" y="1320"/>
                </a:lnTo>
                <a:lnTo>
                  <a:pt x="4432" y="1322"/>
                </a:lnTo>
                <a:lnTo>
                  <a:pt x="4441" y="1325"/>
                </a:lnTo>
                <a:lnTo>
                  <a:pt x="4456" y="1327"/>
                </a:lnTo>
                <a:lnTo>
                  <a:pt x="4471" y="1329"/>
                </a:lnTo>
                <a:lnTo>
                  <a:pt x="4506" y="1334"/>
                </a:lnTo>
                <a:lnTo>
                  <a:pt x="4542" y="1338"/>
                </a:lnTo>
                <a:lnTo>
                  <a:pt x="4576" y="1343"/>
                </a:lnTo>
                <a:lnTo>
                  <a:pt x="4593" y="1345"/>
                </a:lnTo>
                <a:lnTo>
                  <a:pt x="4609" y="1346"/>
                </a:lnTo>
                <a:lnTo>
                  <a:pt x="4622" y="1348"/>
                </a:lnTo>
                <a:lnTo>
                  <a:pt x="4634" y="1349"/>
                </a:lnTo>
                <a:lnTo>
                  <a:pt x="4644" y="1350"/>
                </a:lnTo>
                <a:lnTo>
                  <a:pt x="4651" y="1350"/>
                </a:lnTo>
                <a:lnTo>
                  <a:pt x="4657" y="1351"/>
                </a:lnTo>
                <a:lnTo>
                  <a:pt x="4658" y="1351"/>
                </a:lnTo>
                <a:lnTo>
                  <a:pt x="4698" y="1364"/>
                </a:lnTo>
                <a:lnTo>
                  <a:pt x="4739" y="1373"/>
                </a:lnTo>
                <a:lnTo>
                  <a:pt x="4782" y="1381"/>
                </a:lnTo>
                <a:lnTo>
                  <a:pt x="4824" y="1386"/>
                </a:lnTo>
                <a:lnTo>
                  <a:pt x="4911" y="1396"/>
                </a:lnTo>
                <a:lnTo>
                  <a:pt x="4953" y="1401"/>
                </a:lnTo>
                <a:lnTo>
                  <a:pt x="4995" y="1406"/>
                </a:lnTo>
                <a:lnTo>
                  <a:pt x="5035" y="1420"/>
                </a:lnTo>
                <a:lnTo>
                  <a:pt x="5076" y="1434"/>
                </a:lnTo>
                <a:lnTo>
                  <a:pt x="5116" y="1448"/>
                </a:lnTo>
                <a:lnTo>
                  <a:pt x="5127" y="1452"/>
                </a:lnTo>
                <a:lnTo>
                  <a:pt x="5137" y="1456"/>
                </a:lnTo>
                <a:lnTo>
                  <a:pt x="5157" y="1468"/>
                </a:lnTo>
                <a:lnTo>
                  <a:pt x="5177" y="1480"/>
                </a:lnTo>
                <a:lnTo>
                  <a:pt x="5187" y="1484"/>
                </a:lnTo>
                <a:lnTo>
                  <a:pt x="5197" y="1489"/>
                </a:lnTo>
                <a:lnTo>
                  <a:pt x="5217" y="1510"/>
                </a:lnTo>
                <a:lnTo>
                  <a:pt x="5227" y="1520"/>
                </a:lnTo>
                <a:lnTo>
                  <a:pt x="5238" y="1529"/>
                </a:lnTo>
                <a:lnTo>
                  <a:pt x="5249" y="1538"/>
                </a:lnTo>
                <a:lnTo>
                  <a:pt x="5262" y="1547"/>
                </a:lnTo>
                <a:lnTo>
                  <a:pt x="5275" y="1556"/>
                </a:lnTo>
                <a:lnTo>
                  <a:pt x="5288" y="1565"/>
                </a:lnTo>
                <a:lnTo>
                  <a:pt x="5300" y="1573"/>
                </a:lnTo>
                <a:lnTo>
                  <a:pt x="5310" y="1578"/>
                </a:lnTo>
                <a:lnTo>
                  <a:pt x="5316" y="1583"/>
                </a:lnTo>
                <a:lnTo>
                  <a:pt x="5317" y="1584"/>
                </a:lnTo>
                <a:lnTo>
                  <a:pt x="5319" y="1584"/>
                </a:lnTo>
                <a:lnTo>
                  <a:pt x="5345" y="1625"/>
                </a:lnTo>
                <a:lnTo>
                  <a:pt x="5373" y="1666"/>
                </a:lnTo>
                <a:lnTo>
                  <a:pt x="5381" y="1675"/>
                </a:lnTo>
                <a:lnTo>
                  <a:pt x="5390" y="1683"/>
                </a:lnTo>
                <a:lnTo>
                  <a:pt x="5410" y="1697"/>
                </a:lnTo>
                <a:lnTo>
                  <a:pt x="5432" y="1709"/>
                </a:lnTo>
                <a:lnTo>
                  <a:pt x="5454" y="1721"/>
                </a:lnTo>
                <a:lnTo>
                  <a:pt x="5478" y="1736"/>
                </a:lnTo>
                <a:lnTo>
                  <a:pt x="5503" y="1749"/>
                </a:lnTo>
                <a:lnTo>
                  <a:pt x="5530" y="1760"/>
                </a:lnTo>
                <a:lnTo>
                  <a:pt x="5559" y="1769"/>
                </a:lnTo>
                <a:lnTo>
                  <a:pt x="5586" y="1778"/>
                </a:lnTo>
                <a:lnTo>
                  <a:pt x="5617" y="1785"/>
                </a:lnTo>
                <a:lnTo>
                  <a:pt x="5677" y="1796"/>
                </a:lnTo>
                <a:lnTo>
                  <a:pt x="5738" y="1803"/>
                </a:lnTo>
                <a:lnTo>
                  <a:pt x="5800" y="1808"/>
                </a:lnTo>
                <a:lnTo>
                  <a:pt x="5858" y="1813"/>
                </a:lnTo>
                <a:lnTo>
                  <a:pt x="5886" y="1815"/>
                </a:lnTo>
                <a:lnTo>
                  <a:pt x="5912" y="1817"/>
                </a:lnTo>
                <a:lnTo>
                  <a:pt x="5989" y="1843"/>
                </a:lnTo>
                <a:lnTo>
                  <a:pt x="6068" y="1867"/>
                </a:lnTo>
                <a:lnTo>
                  <a:pt x="6145" y="1891"/>
                </a:lnTo>
                <a:lnTo>
                  <a:pt x="6223" y="1912"/>
                </a:lnTo>
                <a:lnTo>
                  <a:pt x="6235" y="1915"/>
                </a:lnTo>
                <a:lnTo>
                  <a:pt x="6248" y="1919"/>
                </a:lnTo>
                <a:lnTo>
                  <a:pt x="6264" y="1922"/>
                </a:lnTo>
                <a:lnTo>
                  <a:pt x="6280" y="1925"/>
                </a:lnTo>
                <a:lnTo>
                  <a:pt x="6314" y="1933"/>
                </a:lnTo>
                <a:lnTo>
                  <a:pt x="6350" y="1942"/>
                </a:lnTo>
                <a:lnTo>
                  <a:pt x="6386" y="1952"/>
                </a:lnTo>
                <a:lnTo>
                  <a:pt x="6403" y="1959"/>
                </a:lnTo>
                <a:lnTo>
                  <a:pt x="6418" y="1964"/>
                </a:lnTo>
                <a:lnTo>
                  <a:pt x="6433" y="1971"/>
                </a:lnTo>
                <a:lnTo>
                  <a:pt x="6445" y="1979"/>
                </a:lnTo>
                <a:lnTo>
                  <a:pt x="6457" y="1987"/>
                </a:lnTo>
                <a:lnTo>
                  <a:pt x="6466" y="1995"/>
                </a:lnTo>
                <a:lnTo>
                  <a:pt x="6426" y="2282"/>
                </a:lnTo>
                <a:close/>
              </a:path>
            </a:pathLst>
          </a:custGeom>
          <a:solidFill>
            <a:srgbClr val="00cc99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54040" y="1271520"/>
            <a:ext cx="2892600" cy="2052720"/>
            <a:chOff x="554040" y="1271520"/>
            <a:chExt cx="2892600" cy="2052720"/>
          </a:xfrm>
        </p:grpSpPr>
        <p:sp>
          <p:nvSpPr>
            <p:cNvPr id="268" name=""/>
            <p:cNvSpPr/>
            <p:nvPr/>
          </p:nvSpPr>
          <p:spPr>
            <a:xfrm>
              <a:off x="554040" y="1271520"/>
              <a:ext cx="2892600" cy="2052720"/>
            </a:xfrm>
            <a:custGeom>
              <a:avLst/>
              <a:gdLst/>
              <a:ahLst/>
              <a:rect l="l" t="t" r="r" b="b"/>
              <a:pathLst>
                <a:path w="3644" h="2676">
                  <a:moveTo>
                    <a:pt x="0" y="1694"/>
                  </a:moveTo>
                  <a:lnTo>
                    <a:pt x="11" y="1689"/>
                  </a:lnTo>
                  <a:lnTo>
                    <a:pt x="23" y="1684"/>
                  </a:lnTo>
                  <a:lnTo>
                    <a:pt x="34" y="1679"/>
                  </a:lnTo>
                  <a:lnTo>
                    <a:pt x="39" y="1678"/>
                  </a:lnTo>
                  <a:lnTo>
                    <a:pt x="45" y="1679"/>
                  </a:lnTo>
                  <a:lnTo>
                    <a:pt x="57" y="1684"/>
                  </a:lnTo>
                  <a:lnTo>
                    <a:pt x="68" y="1690"/>
                  </a:lnTo>
                  <a:lnTo>
                    <a:pt x="91" y="1706"/>
                  </a:lnTo>
                  <a:lnTo>
                    <a:pt x="112" y="1723"/>
                  </a:lnTo>
                  <a:lnTo>
                    <a:pt x="134" y="1738"/>
                  </a:lnTo>
                  <a:lnTo>
                    <a:pt x="144" y="1744"/>
                  </a:lnTo>
                  <a:lnTo>
                    <a:pt x="154" y="1749"/>
                  </a:lnTo>
                  <a:lnTo>
                    <a:pt x="178" y="1756"/>
                  </a:lnTo>
                  <a:lnTo>
                    <a:pt x="200" y="1762"/>
                  </a:lnTo>
                  <a:lnTo>
                    <a:pt x="224" y="1768"/>
                  </a:lnTo>
                  <a:lnTo>
                    <a:pt x="298" y="1791"/>
                  </a:lnTo>
                  <a:lnTo>
                    <a:pt x="374" y="1810"/>
                  </a:lnTo>
                  <a:lnTo>
                    <a:pt x="450" y="1827"/>
                  </a:lnTo>
                  <a:lnTo>
                    <a:pt x="527" y="1842"/>
                  </a:lnTo>
                  <a:lnTo>
                    <a:pt x="681" y="1870"/>
                  </a:lnTo>
                  <a:lnTo>
                    <a:pt x="758" y="1886"/>
                  </a:lnTo>
                  <a:lnTo>
                    <a:pt x="834" y="1902"/>
                  </a:lnTo>
                  <a:lnTo>
                    <a:pt x="851" y="1915"/>
                  </a:lnTo>
                  <a:lnTo>
                    <a:pt x="867" y="1927"/>
                  </a:lnTo>
                  <a:lnTo>
                    <a:pt x="899" y="1953"/>
                  </a:lnTo>
                  <a:lnTo>
                    <a:pt x="915" y="1964"/>
                  </a:lnTo>
                  <a:lnTo>
                    <a:pt x="932" y="1975"/>
                  </a:lnTo>
                  <a:lnTo>
                    <a:pt x="949" y="1984"/>
                  </a:lnTo>
                  <a:lnTo>
                    <a:pt x="968" y="1992"/>
                  </a:lnTo>
                  <a:lnTo>
                    <a:pt x="1024" y="2007"/>
                  </a:lnTo>
                  <a:lnTo>
                    <a:pt x="1080" y="2022"/>
                  </a:lnTo>
                  <a:lnTo>
                    <a:pt x="1136" y="2035"/>
                  </a:lnTo>
                  <a:lnTo>
                    <a:pt x="1191" y="2051"/>
                  </a:lnTo>
                  <a:lnTo>
                    <a:pt x="1195" y="2053"/>
                  </a:lnTo>
                  <a:lnTo>
                    <a:pt x="1201" y="2058"/>
                  </a:lnTo>
                  <a:lnTo>
                    <a:pt x="1209" y="2064"/>
                  </a:lnTo>
                  <a:lnTo>
                    <a:pt x="1220" y="2071"/>
                  </a:lnTo>
                  <a:lnTo>
                    <a:pt x="1232" y="2080"/>
                  </a:lnTo>
                  <a:lnTo>
                    <a:pt x="1246" y="2090"/>
                  </a:lnTo>
                  <a:lnTo>
                    <a:pt x="1275" y="2111"/>
                  </a:lnTo>
                  <a:lnTo>
                    <a:pt x="1305" y="2131"/>
                  </a:lnTo>
                  <a:lnTo>
                    <a:pt x="1320" y="2141"/>
                  </a:lnTo>
                  <a:lnTo>
                    <a:pt x="1333" y="2150"/>
                  </a:lnTo>
                  <a:lnTo>
                    <a:pt x="1344" y="2157"/>
                  </a:lnTo>
                  <a:lnTo>
                    <a:pt x="1356" y="2164"/>
                  </a:lnTo>
                  <a:lnTo>
                    <a:pt x="1364" y="2168"/>
                  </a:lnTo>
                  <a:lnTo>
                    <a:pt x="1370" y="2170"/>
                  </a:lnTo>
                  <a:lnTo>
                    <a:pt x="1549" y="2214"/>
                  </a:lnTo>
                  <a:lnTo>
                    <a:pt x="1638" y="2236"/>
                  </a:lnTo>
                  <a:lnTo>
                    <a:pt x="1727" y="2260"/>
                  </a:lnTo>
                  <a:lnTo>
                    <a:pt x="1744" y="2264"/>
                  </a:lnTo>
                  <a:lnTo>
                    <a:pt x="1762" y="2268"/>
                  </a:lnTo>
                  <a:lnTo>
                    <a:pt x="1781" y="2272"/>
                  </a:lnTo>
                  <a:lnTo>
                    <a:pt x="1802" y="2277"/>
                  </a:lnTo>
                  <a:lnTo>
                    <a:pt x="1843" y="2283"/>
                  </a:lnTo>
                  <a:lnTo>
                    <a:pt x="1885" y="2291"/>
                  </a:lnTo>
                  <a:lnTo>
                    <a:pt x="1904" y="2293"/>
                  </a:lnTo>
                  <a:lnTo>
                    <a:pt x="1922" y="2297"/>
                  </a:lnTo>
                  <a:lnTo>
                    <a:pt x="1938" y="2299"/>
                  </a:lnTo>
                  <a:lnTo>
                    <a:pt x="1952" y="2301"/>
                  </a:lnTo>
                  <a:lnTo>
                    <a:pt x="1964" y="2302"/>
                  </a:lnTo>
                  <a:lnTo>
                    <a:pt x="1972" y="2303"/>
                  </a:lnTo>
                  <a:lnTo>
                    <a:pt x="1977" y="2304"/>
                  </a:lnTo>
                  <a:lnTo>
                    <a:pt x="1980" y="2304"/>
                  </a:lnTo>
                  <a:lnTo>
                    <a:pt x="1993" y="2309"/>
                  </a:lnTo>
                  <a:lnTo>
                    <a:pt x="2004" y="2314"/>
                  </a:lnTo>
                  <a:lnTo>
                    <a:pt x="2014" y="2320"/>
                  </a:lnTo>
                  <a:lnTo>
                    <a:pt x="2022" y="2325"/>
                  </a:lnTo>
                  <a:lnTo>
                    <a:pt x="2028" y="2330"/>
                  </a:lnTo>
                  <a:lnTo>
                    <a:pt x="2033" y="2336"/>
                  </a:lnTo>
                  <a:lnTo>
                    <a:pt x="2043" y="2347"/>
                  </a:lnTo>
                  <a:lnTo>
                    <a:pt x="2051" y="2358"/>
                  </a:lnTo>
                  <a:lnTo>
                    <a:pt x="2062" y="2370"/>
                  </a:lnTo>
                  <a:lnTo>
                    <a:pt x="2069" y="2376"/>
                  </a:lnTo>
                  <a:lnTo>
                    <a:pt x="2078" y="2381"/>
                  </a:lnTo>
                  <a:lnTo>
                    <a:pt x="2087" y="2388"/>
                  </a:lnTo>
                  <a:lnTo>
                    <a:pt x="2099" y="2394"/>
                  </a:lnTo>
                  <a:lnTo>
                    <a:pt x="2121" y="2403"/>
                  </a:lnTo>
                  <a:lnTo>
                    <a:pt x="2144" y="2411"/>
                  </a:lnTo>
                  <a:lnTo>
                    <a:pt x="2166" y="2417"/>
                  </a:lnTo>
                  <a:lnTo>
                    <a:pt x="2188" y="2424"/>
                  </a:lnTo>
                  <a:lnTo>
                    <a:pt x="2194" y="2426"/>
                  </a:lnTo>
                  <a:lnTo>
                    <a:pt x="2202" y="2428"/>
                  </a:lnTo>
                  <a:lnTo>
                    <a:pt x="2216" y="2433"/>
                  </a:lnTo>
                  <a:lnTo>
                    <a:pt x="2223" y="2435"/>
                  </a:lnTo>
                  <a:lnTo>
                    <a:pt x="2229" y="2437"/>
                  </a:lnTo>
                  <a:lnTo>
                    <a:pt x="2232" y="2438"/>
                  </a:lnTo>
                  <a:lnTo>
                    <a:pt x="2233" y="2438"/>
                  </a:lnTo>
                  <a:lnTo>
                    <a:pt x="2244" y="2446"/>
                  </a:lnTo>
                  <a:lnTo>
                    <a:pt x="2256" y="2453"/>
                  </a:lnTo>
                  <a:lnTo>
                    <a:pt x="2268" y="2460"/>
                  </a:lnTo>
                  <a:lnTo>
                    <a:pt x="2278" y="2469"/>
                  </a:lnTo>
                  <a:lnTo>
                    <a:pt x="2285" y="2480"/>
                  </a:lnTo>
                  <a:lnTo>
                    <a:pt x="2291" y="2492"/>
                  </a:lnTo>
                  <a:lnTo>
                    <a:pt x="2298" y="2504"/>
                  </a:lnTo>
                  <a:lnTo>
                    <a:pt x="2302" y="2509"/>
                  </a:lnTo>
                  <a:lnTo>
                    <a:pt x="2308" y="2513"/>
                  </a:lnTo>
                  <a:lnTo>
                    <a:pt x="2319" y="2519"/>
                  </a:lnTo>
                  <a:lnTo>
                    <a:pt x="2334" y="2524"/>
                  </a:lnTo>
                  <a:lnTo>
                    <a:pt x="2348" y="2530"/>
                  </a:lnTo>
                  <a:lnTo>
                    <a:pt x="2363" y="2534"/>
                  </a:lnTo>
                  <a:lnTo>
                    <a:pt x="2376" y="2538"/>
                  </a:lnTo>
                  <a:lnTo>
                    <a:pt x="2387" y="2540"/>
                  </a:lnTo>
                  <a:lnTo>
                    <a:pt x="2392" y="2541"/>
                  </a:lnTo>
                  <a:lnTo>
                    <a:pt x="2395" y="2542"/>
                  </a:lnTo>
                  <a:lnTo>
                    <a:pt x="2396" y="2542"/>
                  </a:lnTo>
                  <a:lnTo>
                    <a:pt x="2397" y="2542"/>
                  </a:lnTo>
                  <a:lnTo>
                    <a:pt x="2428" y="2561"/>
                  </a:lnTo>
                  <a:lnTo>
                    <a:pt x="2460" y="2578"/>
                  </a:lnTo>
                  <a:lnTo>
                    <a:pt x="2492" y="2591"/>
                  </a:lnTo>
                  <a:lnTo>
                    <a:pt x="2526" y="2604"/>
                  </a:lnTo>
                  <a:lnTo>
                    <a:pt x="2559" y="2614"/>
                  </a:lnTo>
                  <a:lnTo>
                    <a:pt x="2594" y="2622"/>
                  </a:lnTo>
                  <a:lnTo>
                    <a:pt x="2628" y="2627"/>
                  </a:lnTo>
                  <a:lnTo>
                    <a:pt x="2663" y="2633"/>
                  </a:lnTo>
                  <a:lnTo>
                    <a:pt x="2699" y="2636"/>
                  </a:lnTo>
                  <a:lnTo>
                    <a:pt x="2734" y="2639"/>
                  </a:lnTo>
                  <a:lnTo>
                    <a:pt x="2806" y="2643"/>
                  </a:lnTo>
                  <a:lnTo>
                    <a:pt x="2877" y="2645"/>
                  </a:lnTo>
                  <a:lnTo>
                    <a:pt x="2948" y="2647"/>
                  </a:lnTo>
                  <a:lnTo>
                    <a:pt x="2992" y="2656"/>
                  </a:lnTo>
                  <a:lnTo>
                    <a:pt x="3037" y="2665"/>
                  </a:lnTo>
                  <a:lnTo>
                    <a:pt x="3059" y="2670"/>
                  </a:lnTo>
                  <a:lnTo>
                    <a:pt x="3081" y="2673"/>
                  </a:lnTo>
                  <a:lnTo>
                    <a:pt x="3104" y="2675"/>
                  </a:lnTo>
                  <a:lnTo>
                    <a:pt x="3126" y="2676"/>
                  </a:lnTo>
                  <a:lnTo>
                    <a:pt x="3644" y="0"/>
                  </a:lnTo>
                  <a:lnTo>
                    <a:pt x="0" y="0"/>
                  </a:lnTo>
                  <a:lnTo>
                    <a:pt x="0" y="169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4040" y="1271520"/>
              <a:ext cx="2892600" cy="2052720"/>
            </a:xfrm>
            <a:custGeom>
              <a:avLst/>
              <a:gdLst/>
              <a:ahLst/>
              <a:rect l="l" t="t" r="r" b="b"/>
              <a:pathLst>
                <a:path w="3644" h="2676">
                  <a:moveTo>
                    <a:pt x="0" y="1694"/>
                  </a:moveTo>
                  <a:lnTo>
                    <a:pt x="11" y="1689"/>
                  </a:lnTo>
                  <a:lnTo>
                    <a:pt x="23" y="1684"/>
                  </a:lnTo>
                  <a:lnTo>
                    <a:pt x="34" y="1679"/>
                  </a:lnTo>
                  <a:lnTo>
                    <a:pt x="39" y="1678"/>
                  </a:lnTo>
                  <a:lnTo>
                    <a:pt x="45" y="1679"/>
                  </a:lnTo>
                  <a:lnTo>
                    <a:pt x="57" y="1684"/>
                  </a:lnTo>
                  <a:lnTo>
                    <a:pt x="68" y="1690"/>
                  </a:lnTo>
                  <a:lnTo>
                    <a:pt x="91" y="1706"/>
                  </a:lnTo>
                  <a:lnTo>
                    <a:pt x="112" y="1723"/>
                  </a:lnTo>
                  <a:lnTo>
                    <a:pt x="134" y="1738"/>
                  </a:lnTo>
                  <a:lnTo>
                    <a:pt x="144" y="1744"/>
                  </a:lnTo>
                  <a:lnTo>
                    <a:pt x="154" y="1749"/>
                  </a:lnTo>
                  <a:lnTo>
                    <a:pt x="178" y="1756"/>
                  </a:lnTo>
                  <a:lnTo>
                    <a:pt x="200" y="1762"/>
                  </a:lnTo>
                  <a:lnTo>
                    <a:pt x="224" y="1768"/>
                  </a:lnTo>
                  <a:lnTo>
                    <a:pt x="298" y="1791"/>
                  </a:lnTo>
                  <a:lnTo>
                    <a:pt x="374" y="1810"/>
                  </a:lnTo>
                  <a:lnTo>
                    <a:pt x="450" y="1827"/>
                  </a:lnTo>
                  <a:lnTo>
                    <a:pt x="527" y="1842"/>
                  </a:lnTo>
                  <a:lnTo>
                    <a:pt x="681" y="1870"/>
                  </a:lnTo>
                  <a:lnTo>
                    <a:pt x="758" y="1886"/>
                  </a:lnTo>
                  <a:lnTo>
                    <a:pt x="834" y="1902"/>
                  </a:lnTo>
                  <a:lnTo>
                    <a:pt x="851" y="1915"/>
                  </a:lnTo>
                  <a:lnTo>
                    <a:pt x="867" y="1927"/>
                  </a:lnTo>
                  <a:lnTo>
                    <a:pt x="899" y="1953"/>
                  </a:lnTo>
                  <a:lnTo>
                    <a:pt x="915" y="1964"/>
                  </a:lnTo>
                  <a:lnTo>
                    <a:pt x="932" y="1975"/>
                  </a:lnTo>
                  <a:lnTo>
                    <a:pt x="949" y="1984"/>
                  </a:lnTo>
                  <a:lnTo>
                    <a:pt x="968" y="1992"/>
                  </a:lnTo>
                  <a:lnTo>
                    <a:pt x="1024" y="2007"/>
                  </a:lnTo>
                  <a:lnTo>
                    <a:pt x="1080" y="2022"/>
                  </a:lnTo>
                  <a:lnTo>
                    <a:pt x="1136" y="2035"/>
                  </a:lnTo>
                  <a:lnTo>
                    <a:pt x="1191" y="2051"/>
                  </a:lnTo>
                  <a:lnTo>
                    <a:pt x="1195" y="2053"/>
                  </a:lnTo>
                  <a:lnTo>
                    <a:pt x="1201" y="2058"/>
                  </a:lnTo>
                  <a:lnTo>
                    <a:pt x="1209" y="2064"/>
                  </a:lnTo>
                  <a:lnTo>
                    <a:pt x="1220" y="2071"/>
                  </a:lnTo>
                  <a:lnTo>
                    <a:pt x="1232" y="2080"/>
                  </a:lnTo>
                  <a:lnTo>
                    <a:pt x="1246" y="2090"/>
                  </a:lnTo>
                  <a:lnTo>
                    <a:pt x="1275" y="2111"/>
                  </a:lnTo>
                  <a:lnTo>
                    <a:pt x="1305" y="2131"/>
                  </a:lnTo>
                  <a:lnTo>
                    <a:pt x="1320" y="2141"/>
                  </a:lnTo>
                  <a:lnTo>
                    <a:pt x="1333" y="2150"/>
                  </a:lnTo>
                  <a:lnTo>
                    <a:pt x="1344" y="2157"/>
                  </a:lnTo>
                  <a:lnTo>
                    <a:pt x="1356" y="2164"/>
                  </a:lnTo>
                  <a:lnTo>
                    <a:pt x="1364" y="2168"/>
                  </a:lnTo>
                  <a:lnTo>
                    <a:pt x="1370" y="2170"/>
                  </a:lnTo>
                  <a:lnTo>
                    <a:pt x="1549" y="2214"/>
                  </a:lnTo>
                  <a:lnTo>
                    <a:pt x="1638" y="2236"/>
                  </a:lnTo>
                  <a:lnTo>
                    <a:pt x="1727" y="2260"/>
                  </a:lnTo>
                  <a:lnTo>
                    <a:pt x="1744" y="2264"/>
                  </a:lnTo>
                  <a:lnTo>
                    <a:pt x="1762" y="2268"/>
                  </a:lnTo>
                  <a:lnTo>
                    <a:pt x="1781" y="2272"/>
                  </a:lnTo>
                  <a:lnTo>
                    <a:pt x="1802" y="2277"/>
                  </a:lnTo>
                  <a:lnTo>
                    <a:pt x="1843" y="2283"/>
                  </a:lnTo>
                  <a:lnTo>
                    <a:pt x="1885" y="2291"/>
                  </a:lnTo>
                  <a:lnTo>
                    <a:pt x="1904" y="2293"/>
                  </a:lnTo>
                  <a:lnTo>
                    <a:pt x="1922" y="2297"/>
                  </a:lnTo>
                  <a:lnTo>
                    <a:pt x="1938" y="2299"/>
                  </a:lnTo>
                  <a:lnTo>
                    <a:pt x="1952" y="2301"/>
                  </a:lnTo>
                  <a:lnTo>
                    <a:pt x="1964" y="2302"/>
                  </a:lnTo>
                  <a:lnTo>
                    <a:pt x="1972" y="2303"/>
                  </a:lnTo>
                  <a:lnTo>
                    <a:pt x="1977" y="2304"/>
                  </a:lnTo>
                  <a:lnTo>
                    <a:pt x="1980" y="2304"/>
                  </a:lnTo>
                  <a:lnTo>
                    <a:pt x="1993" y="2309"/>
                  </a:lnTo>
                  <a:lnTo>
                    <a:pt x="2004" y="2314"/>
                  </a:lnTo>
                  <a:lnTo>
                    <a:pt x="2014" y="2320"/>
                  </a:lnTo>
                  <a:lnTo>
                    <a:pt x="2022" y="2325"/>
                  </a:lnTo>
                  <a:lnTo>
                    <a:pt x="2028" y="2330"/>
                  </a:lnTo>
                  <a:lnTo>
                    <a:pt x="2033" y="2336"/>
                  </a:lnTo>
                  <a:lnTo>
                    <a:pt x="2043" y="2347"/>
                  </a:lnTo>
                  <a:lnTo>
                    <a:pt x="2051" y="2358"/>
                  </a:lnTo>
                  <a:lnTo>
                    <a:pt x="2062" y="2370"/>
                  </a:lnTo>
                  <a:lnTo>
                    <a:pt x="2069" y="2376"/>
                  </a:lnTo>
                  <a:lnTo>
                    <a:pt x="2078" y="2381"/>
                  </a:lnTo>
                  <a:lnTo>
                    <a:pt x="2087" y="2388"/>
                  </a:lnTo>
                  <a:lnTo>
                    <a:pt x="2099" y="2394"/>
                  </a:lnTo>
                  <a:lnTo>
                    <a:pt x="2121" y="2403"/>
                  </a:lnTo>
                  <a:lnTo>
                    <a:pt x="2144" y="2411"/>
                  </a:lnTo>
                  <a:lnTo>
                    <a:pt x="2166" y="2417"/>
                  </a:lnTo>
                  <a:lnTo>
                    <a:pt x="2188" y="2424"/>
                  </a:lnTo>
                  <a:lnTo>
                    <a:pt x="2194" y="2426"/>
                  </a:lnTo>
                  <a:lnTo>
                    <a:pt x="2202" y="2428"/>
                  </a:lnTo>
                  <a:lnTo>
                    <a:pt x="2216" y="2433"/>
                  </a:lnTo>
                  <a:lnTo>
                    <a:pt x="2223" y="2435"/>
                  </a:lnTo>
                  <a:lnTo>
                    <a:pt x="2229" y="2437"/>
                  </a:lnTo>
                  <a:lnTo>
                    <a:pt x="2232" y="2438"/>
                  </a:lnTo>
                  <a:lnTo>
                    <a:pt x="2233" y="2438"/>
                  </a:lnTo>
                  <a:lnTo>
                    <a:pt x="2244" y="2446"/>
                  </a:lnTo>
                  <a:lnTo>
                    <a:pt x="2256" y="2453"/>
                  </a:lnTo>
                  <a:lnTo>
                    <a:pt x="2268" y="2460"/>
                  </a:lnTo>
                  <a:lnTo>
                    <a:pt x="2278" y="2469"/>
                  </a:lnTo>
                  <a:lnTo>
                    <a:pt x="2285" y="2480"/>
                  </a:lnTo>
                  <a:lnTo>
                    <a:pt x="2291" y="2492"/>
                  </a:lnTo>
                  <a:lnTo>
                    <a:pt x="2298" y="2504"/>
                  </a:lnTo>
                  <a:lnTo>
                    <a:pt x="2302" y="2509"/>
                  </a:lnTo>
                  <a:lnTo>
                    <a:pt x="2308" y="2513"/>
                  </a:lnTo>
                  <a:lnTo>
                    <a:pt x="2319" y="2519"/>
                  </a:lnTo>
                  <a:lnTo>
                    <a:pt x="2334" y="2524"/>
                  </a:lnTo>
                  <a:lnTo>
                    <a:pt x="2348" y="2530"/>
                  </a:lnTo>
                  <a:lnTo>
                    <a:pt x="2363" y="2534"/>
                  </a:lnTo>
                  <a:lnTo>
                    <a:pt x="2376" y="2538"/>
                  </a:lnTo>
                  <a:lnTo>
                    <a:pt x="2387" y="2540"/>
                  </a:lnTo>
                  <a:lnTo>
                    <a:pt x="2392" y="2541"/>
                  </a:lnTo>
                  <a:lnTo>
                    <a:pt x="2395" y="2542"/>
                  </a:lnTo>
                  <a:lnTo>
                    <a:pt x="2396" y="2542"/>
                  </a:lnTo>
                  <a:lnTo>
                    <a:pt x="2397" y="2542"/>
                  </a:lnTo>
                  <a:lnTo>
                    <a:pt x="2428" y="2561"/>
                  </a:lnTo>
                  <a:lnTo>
                    <a:pt x="2460" y="2578"/>
                  </a:lnTo>
                  <a:lnTo>
                    <a:pt x="2492" y="2591"/>
                  </a:lnTo>
                  <a:lnTo>
                    <a:pt x="2526" y="2604"/>
                  </a:lnTo>
                  <a:lnTo>
                    <a:pt x="2559" y="2614"/>
                  </a:lnTo>
                  <a:lnTo>
                    <a:pt x="2594" y="2622"/>
                  </a:lnTo>
                  <a:lnTo>
                    <a:pt x="2628" y="2627"/>
                  </a:lnTo>
                  <a:lnTo>
                    <a:pt x="2663" y="2633"/>
                  </a:lnTo>
                  <a:lnTo>
                    <a:pt x="2699" y="2636"/>
                  </a:lnTo>
                  <a:lnTo>
                    <a:pt x="2734" y="2639"/>
                  </a:lnTo>
                  <a:lnTo>
                    <a:pt x="2806" y="2643"/>
                  </a:lnTo>
                  <a:lnTo>
                    <a:pt x="2877" y="2645"/>
                  </a:lnTo>
                  <a:lnTo>
                    <a:pt x="2948" y="2647"/>
                  </a:lnTo>
                  <a:lnTo>
                    <a:pt x="2992" y="2656"/>
                  </a:lnTo>
                  <a:lnTo>
                    <a:pt x="3037" y="2665"/>
                  </a:lnTo>
                  <a:lnTo>
                    <a:pt x="3059" y="2670"/>
                  </a:lnTo>
                  <a:lnTo>
                    <a:pt x="3081" y="2673"/>
                  </a:lnTo>
                  <a:lnTo>
                    <a:pt x="3104" y="2675"/>
                  </a:lnTo>
                  <a:lnTo>
                    <a:pt x="3126" y="2676"/>
                  </a:lnTo>
                  <a:lnTo>
                    <a:pt x="3644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H="1">
            <a:off x="538200" y="1917720"/>
            <a:ext cx="2806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6720" y="1244520"/>
            <a:ext cx="1701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3440" y="1496880"/>
            <a:ext cx="211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ível d’água (N.A.) máximo : 572,50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8120" y="1882800"/>
            <a:ext cx="1830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40" y="1914480"/>
            <a:ext cx="20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ível d’água (N.A.) mínimo : 549,20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87600" y="1457280"/>
            <a:ext cx="723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40880" y="1488960"/>
            <a:ext cx="55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Barra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2071800"/>
            <a:ext cx="1773360" cy="1820880"/>
          </a:xfrm>
          <a:custGeom>
            <a:avLst/>
            <a:gdLst/>
            <a:ahLst/>
            <a:rect l="l" t="t" r="r" b="b"/>
            <a:pathLst>
              <a:path w="2233" h="2292">
                <a:moveTo>
                  <a:pt x="118" y="18"/>
                </a:moveTo>
                <a:lnTo>
                  <a:pt x="139" y="30"/>
                </a:lnTo>
                <a:lnTo>
                  <a:pt x="162" y="42"/>
                </a:lnTo>
                <a:lnTo>
                  <a:pt x="186" y="57"/>
                </a:lnTo>
                <a:lnTo>
                  <a:pt x="213" y="72"/>
                </a:lnTo>
                <a:lnTo>
                  <a:pt x="241" y="89"/>
                </a:lnTo>
                <a:lnTo>
                  <a:pt x="271" y="109"/>
                </a:lnTo>
                <a:lnTo>
                  <a:pt x="302" y="132"/>
                </a:lnTo>
                <a:lnTo>
                  <a:pt x="336" y="156"/>
                </a:lnTo>
                <a:lnTo>
                  <a:pt x="369" y="184"/>
                </a:lnTo>
                <a:lnTo>
                  <a:pt x="404" y="215"/>
                </a:lnTo>
                <a:lnTo>
                  <a:pt x="441" y="251"/>
                </a:lnTo>
                <a:lnTo>
                  <a:pt x="478" y="290"/>
                </a:lnTo>
                <a:lnTo>
                  <a:pt x="496" y="311"/>
                </a:lnTo>
                <a:lnTo>
                  <a:pt x="515" y="334"/>
                </a:lnTo>
                <a:lnTo>
                  <a:pt x="534" y="357"/>
                </a:lnTo>
                <a:lnTo>
                  <a:pt x="552" y="382"/>
                </a:lnTo>
                <a:lnTo>
                  <a:pt x="573" y="407"/>
                </a:lnTo>
                <a:lnTo>
                  <a:pt x="592" y="435"/>
                </a:lnTo>
                <a:lnTo>
                  <a:pt x="612" y="463"/>
                </a:lnTo>
                <a:lnTo>
                  <a:pt x="631" y="493"/>
                </a:lnTo>
                <a:lnTo>
                  <a:pt x="651" y="526"/>
                </a:lnTo>
                <a:lnTo>
                  <a:pt x="671" y="560"/>
                </a:lnTo>
                <a:lnTo>
                  <a:pt x="691" y="598"/>
                </a:lnTo>
                <a:lnTo>
                  <a:pt x="712" y="638"/>
                </a:lnTo>
                <a:lnTo>
                  <a:pt x="733" y="681"/>
                </a:lnTo>
                <a:lnTo>
                  <a:pt x="755" y="727"/>
                </a:lnTo>
                <a:lnTo>
                  <a:pt x="776" y="774"/>
                </a:lnTo>
                <a:lnTo>
                  <a:pt x="798" y="822"/>
                </a:lnTo>
                <a:lnTo>
                  <a:pt x="820" y="872"/>
                </a:lnTo>
                <a:lnTo>
                  <a:pt x="843" y="923"/>
                </a:lnTo>
                <a:lnTo>
                  <a:pt x="866" y="976"/>
                </a:lnTo>
                <a:lnTo>
                  <a:pt x="889" y="1029"/>
                </a:lnTo>
                <a:lnTo>
                  <a:pt x="935" y="1139"/>
                </a:lnTo>
                <a:lnTo>
                  <a:pt x="982" y="1249"/>
                </a:lnTo>
                <a:lnTo>
                  <a:pt x="1030" y="1359"/>
                </a:lnTo>
                <a:lnTo>
                  <a:pt x="1078" y="1466"/>
                </a:lnTo>
                <a:lnTo>
                  <a:pt x="1103" y="1518"/>
                </a:lnTo>
                <a:lnTo>
                  <a:pt x="1127" y="1570"/>
                </a:lnTo>
                <a:lnTo>
                  <a:pt x="1151" y="1620"/>
                </a:lnTo>
                <a:lnTo>
                  <a:pt x="1175" y="1668"/>
                </a:lnTo>
                <a:lnTo>
                  <a:pt x="1200" y="1714"/>
                </a:lnTo>
                <a:lnTo>
                  <a:pt x="1225" y="1758"/>
                </a:lnTo>
                <a:lnTo>
                  <a:pt x="1249" y="1801"/>
                </a:lnTo>
                <a:lnTo>
                  <a:pt x="1274" y="1841"/>
                </a:lnTo>
                <a:lnTo>
                  <a:pt x="1297" y="1878"/>
                </a:lnTo>
                <a:lnTo>
                  <a:pt x="1322" y="1913"/>
                </a:lnTo>
                <a:lnTo>
                  <a:pt x="1346" y="1944"/>
                </a:lnTo>
                <a:lnTo>
                  <a:pt x="1370" y="1972"/>
                </a:lnTo>
                <a:lnTo>
                  <a:pt x="1394" y="1997"/>
                </a:lnTo>
                <a:lnTo>
                  <a:pt x="1420" y="2020"/>
                </a:lnTo>
                <a:lnTo>
                  <a:pt x="1446" y="2041"/>
                </a:lnTo>
                <a:lnTo>
                  <a:pt x="1472" y="2060"/>
                </a:lnTo>
                <a:lnTo>
                  <a:pt x="1500" y="2077"/>
                </a:lnTo>
                <a:lnTo>
                  <a:pt x="1528" y="2091"/>
                </a:lnTo>
                <a:lnTo>
                  <a:pt x="1556" y="2105"/>
                </a:lnTo>
                <a:lnTo>
                  <a:pt x="1585" y="2116"/>
                </a:lnTo>
                <a:lnTo>
                  <a:pt x="1614" y="2126"/>
                </a:lnTo>
                <a:lnTo>
                  <a:pt x="1643" y="2135"/>
                </a:lnTo>
                <a:lnTo>
                  <a:pt x="1672" y="2143"/>
                </a:lnTo>
                <a:lnTo>
                  <a:pt x="1702" y="2148"/>
                </a:lnTo>
                <a:lnTo>
                  <a:pt x="1760" y="2157"/>
                </a:lnTo>
                <a:lnTo>
                  <a:pt x="1818" y="2163"/>
                </a:lnTo>
                <a:lnTo>
                  <a:pt x="1874" y="2166"/>
                </a:lnTo>
                <a:lnTo>
                  <a:pt x="1928" y="2167"/>
                </a:lnTo>
                <a:lnTo>
                  <a:pt x="1979" y="2167"/>
                </a:lnTo>
                <a:lnTo>
                  <a:pt x="2026" y="2167"/>
                </a:lnTo>
                <a:lnTo>
                  <a:pt x="2048" y="2167"/>
                </a:lnTo>
                <a:lnTo>
                  <a:pt x="2070" y="2168"/>
                </a:lnTo>
                <a:lnTo>
                  <a:pt x="2089" y="2169"/>
                </a:lnTo>
                <a:lnTo>
                  <a:pt x="2108" y="2170"/>
                </a:lnTo>
                <a:lnTo>
                  <a:pt x="2124" y="2173"/>
                </a:lnTo>
                <a:lnTo>
                  <a:pt x="2140" y="2175"/>
                </a:lnTo>
                <a:lnTo>
                  <a:pt x="2154" y="2178"/>
                </a:lnTo>
                <a:lnTo>
                  <a:pt x="2167" y="2183"/>
                </a:lnTo>
                <a:lnTo>
                  <a:pt x="2188" y="2193"/>
                </a:lnTo>
                <a:lnTo>
                  <a:pt x="2205" y="2203"/>
                </a:lnTo>
                <a:lnTo>
                  <a:pt x="2217" y="2212"/>
                </a:lnTo>
                <a:lnTo>
                  <a:pt x="2226" y="2222"/>
                </a:lnTo>
                <a:lnTo>
                  <a:pt x="2230" y="2231"/>
                </a:lnTo>
                <a:lnTo>
                  <a:pt x="2233" y="2239"/>
                </a:lnTo>
                <a:lnTo>
                  <a:pt x="2232" y="2248"/>
                </a:lnTo>
                <a:lnTo>
                  <a:pt x="2227" y="2255"/>
                </a:lnTo>
                <a:lnTo>
                  <a:pt x="2220" y="2262"/>
                </a:lnTo>
                <a:lnTo>
                  <a:pt x="2210" y="2269"/>
                </a:lnTo>
                <a:lnTo>
                  <a:pt x="2198" y="2274"/>
                </a:lnTo>
                <a:lnTo>
                  <a:pt x="2185" y="2279"/>
                </a:lnTo>
                <a:lnTo>
                  <a:pt x="2168" y="2282"/>
                </a:lnTo>
                <a:lnTo>
                  <a:pt x="2150" y="2285"/>
                </a:lnTo>
                <a:lnTo>
                  <a:pt x="2131" y="2287"/>
                </a:lnTo>
                <a:lnTo>
                  <a:pt x="2110" y="2288"/>
                </a:lnTo>
                <a:lnTo>
                  <a:pt x="2099" y="2288"/>
                </a:lnTo>
                <a:lnTo>
                  <a:pt x="2086" y="2288"/>
                </a:lnTo>
                <a:lnTo>
                  <a:pt x="2058" y="2289"/>
                </a:lnTo>
                <a:lnTo>
                  <a:pt x="2027" y="2290"/>
                </a:lnTo>
                <a:lnTo>
                  <a:pt x="1993" y="2291"/>
                </a:lnTo>
                <a:lnTo>
                  <a:pt x="1955" y="2292"/>
                </a:lnTo>
                <a:lnTo>
                  <a:pt x="1914" y="2292"/>
                </a:lnTo>
                <a:lnTo>
                  <a:pt x="1872" y="2290"/>
                </a:lnTo>
                <a:lnTo>
                  <a:pt x="1829" y="2288"/>
                </a:lnTo>
                <a:lnTo>
                  <a:pt x="1785" y="2284"/>
                </a:lnTo>
                <a:lnTo>
                  <a:pt x="1739" y="2278"/>
                </a:lnTo>
                <a:lnTo>
                  <a:pt x="1695" y="2270"/>
                </a:lnTo>
                <a:lnTo>
                  <a:pt x="1650" y="2259"/>
                </a:lnTo>
                <a:lnTo>
                  <a:pt x="1606" y="2244"/>
                </a:lnTo>
                <a:lnTo>
                  <a:pt x="1563" y="2227"/>
                </a:lnTo>
                <a:lnTo>
                  <a:pt x="1523" y="2207"/>
                </a:lnTo>
                <a:lnTo>
                  <a:pt x="1484" y="2183"/>
                </a:lnTo>
                <a:lnTo>
                  <a:pt x="1465" y="2169"/>
                </a:lnTo>
                <a:lnTo>
                  <a:pt x="1447" y="2154"/>
                </a:lnTo>
                <a:lnTo>
                  <a:pt x="1409" y="2121"/>
                </a:lnTo>
                <a:lnTo>
                  <a:pt x="1371" y="2084"/>
                </a:lnTo>
                <a:lnTo>
                  <a:pt x="1334" y="2045"/>
                </a:lnTo>
                <a:lnTo>
                  <a:pt x="1296" y="2002"/>
                </a:lnTo>
                <a:lnTo>
                  <a:pt x="1259" y="1956"/>
                </a:lnTo>
                <a:lnTo>
                  <a:pt x="1222" y="1909"/>
                </a:lnTo>
                <a:lnTo>
                  <a:pt x="1185" y="1859"/>
                </a:lnTo>
                <a:lnTo>
                  <a:pt x="1149" y="1809"/>
                </a:lnTo>
                <a:lnTo>
                  <a:pt x="1113" y="1756"/>
                </a:lnTo>
                <a:lnTo>
                  <a:pt x="1044" y="1650"/>
                </a:lnTo>
                <a:lnTo>
                  <a:pt x="978" y="1545"/>
                </a:lnTo>
                <a:lnTo>
                  <a:pt x="947" y="1494"/>
                </a:lnTo>
                <a:lnTo>
                  <a:pt x="915" y="1444"/>
                </a:lnTo>
                <a:lnTo>
                  <a:pt x="886" y="1392"/>
                </a:lnTo>
                <a:lnTo>
                  <a:pt x="857" y="1339"/>
                </a:lnTo>
                <a:lnTo>
                  <a:pt x="830" y="1283"/>
                </a:lnTo>
                <a:lnTo>
                  <a:pt x="805" y="1226"/>
                </a:lnTo>
                <a:lnTo>
                  <a:pt x="756" y="1109"/>
                </a:lnTo>
                <a:lnTo>
                  <a:pt x="709" y="991"/>
                </a:lnTo>
                <a:lnTo>
                  <a:pt x="685" y="933"/>
                </a:lnTo>
                <a:lnTo>
                  <a:pt x="663" y="877"/>
                </a:lnTo>
                <a:lnTo>
                  <a:pt x="640" y="823"/>
                </a:lnTo>
                <a:lnTo>
                  <a:pt x="616" y="771"/>
                </a:lnTo>
                <a:lnTo>
                  <a:pt x="593" y="722"/>
                </a:lnTo>
                <a:lnTo>
                  <a:pt x="568" y="676"/>
                </a:lnTo>
                <a:lnTo>
                  <a:pt x="542" y="635"/>
                </a:lnTo>
                <a:lnTo>
                  <a:pt x="530" y="616"/>
                </a:lnTo>
                <a:lnTo>
                  <a:pt x="517" y="598"/>
                </a:lnTo>
                <a:lnTo>
                  <a:pt x="489" y="566"/>
                </a:lnTo>
                <a:lnTo>
                  <a:pt x="460" y="537"/>
                </a:lnTo>
                <a:lnTo>
                  <a:pt x="430" y="512"/>
                </a:lnTo>
                <a:lnTo>
                  <a:pt x="398" y="491"/>
                </a:lnTo>
                <a:lnTo>
                  <a:pt x="366" y="471"/>
                </a:lnTo>
                <a:lnTo>
                  <a:pt x="333" y="455"/>
                </a:lnTo>
                <a:lnTo>
                  <a:pt x="300" y="440"/>
                </a:lnTo>
                <a:lnTo>
                  <a:pt x="268" y="427"/>
                </a:lnTo>
                <a:lnTo>
                  <a:pt x="237" y="415"/>
                </a:lnTo>
                <a:lnTo>
                  <a:pt x="205" y="404"/>
                </a:lnTo>
                <a:lnTo>
                  <a:pt x="176" y="394"/>
                </a:lnTo>
                <a:lnTo>
                  <a:pt x="148" y="384"/>
                </a:lnTo>
                <a:lnTo>
                  <a:pt x="123" y="373"/>
                </a:lnTo>
                <a:lnTo>
                  <a:pt x="99" y="362"/>
                </a:lnTo>
                <a:lnTo>
                  <a:pt x="79" y="349"/>
                </a:lnTo>
                <a:lnTo>
                  <a:pt x="61" y="335"/>
                </a:lnTo>
                <a:lnTo>
                  <a:pt x="47" y="320"/>
                </a:lnTo>
                <a:lnTo>
                  <a:pt x="34" y="305"/>
                </a:lnTo>
                <a:lnTo>
                  <a:pt x="24" y="290"/>
                </a:lnTo>
                <a:lnTo>
                  <a:pt x="17" y="276"/>
                </a:lnTo>
                <a:lnTo>
                  <a:pt x="11" y="261"/>
                </a:lnTo>
                <a:lnTo>
                  <a:pt x="5" y="247"/>
                </a:lnTo>
                <a:lnTo>
                  <a:pt x="3" y="233"/>
                </a:lnTo>
                <a:lnTo>
                  <a:pt x="1" y="220"/>
                </a:lnTo>
                <a:lnTo>
                  <a:pt x="0" y="193"/>
                </a:lnTo>
                <a:lnTo>
                  <a:pt x="1" y="167"/>
                </a:lnTo>
                <a:lnTo>
                  <a:pt x="3" y="145"/>
                </a:lnTo>
                <a:lnTo>
                  <a:pt x="4" y="124"/>
                </a:lnTo>
                <a:lnTo>
                  <a:pt x="4" y="113"/>
                </a:lnTo>
                <a:lnTo>
                  <a:pt x="5" y="101"/>
                </a:lnTo>
                <a:lnTo>
                  <a:pt x="8" y="76"/>
                </a:lnTo>
                <a:lnTo>
                  <a:pt x="13" y="50"/>
                </a:lnTo>
                <a:lnTo>
                  <a:pt x="17" y="39"/>
                </a:lnTo>
                <a:lnTo>
                  <a:pt x="22" y="28"/>
                </a:lnTo>
                <a:lnTo>
                  <a:pt x="29" y="18"/>
                </a:lnTo>
                <a:lnTo>
                  <a:pt x="37" y="10"/>
                </a:lnTo>
                <a:lnTo>
                  <a:pt x="46" y="4"/>
                </a:lnTo>
                <a:lnTo>
                  <a:pt x="57" y="1"/>
                </a:lnTo>
                <a:lnTo>
                  <a:pt x="69" y="0"/>
                </a:lnTo>
                <a:lnTo>
                  <a:pt x="84" y="2"/>
                </a:lnTo>
                <a:lnTo>
                  <a:pt x="100" y="9"/>
                </a:lnTo>
                <a:lnTo>
                  <a:pt x="118" y="18"/>
                </a:lnTo>
                <a:close/>
              </a:path>
            </a:pathLst>
          </a:custGeom>
          <a:solidFill>
            <a:srgbClr val="66ffff"/>
          </a:solidFill>
          <a:ln w="46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749840" y="3576600"/>
            <a:ext cx="425520" cy="384120"/>
          </a:xfrm>
          <a:prstGeom prst="rect">
            <a:avLst/>
          </a:prstGeom>
          <a:solidFill>
            <a:srgbClr val="00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861080" y="3787920"/>
            <a:ext cx="788760" cy="379440"/>
            <a:chOff x="4861080" y="3787920"/>
            <a:chExt cx="788760" cy="379440"/>
          </a:xfrm>
        </p:grpSpPr>
        <p:sp>
          <p:nvSpPr>
            <p:cNvPr id="280" name=""/>
            <p:cNvSpPr/>
            <p:nvPr/>
          </p:nvSpPr>
          <p:spPr>
            <a:xfrm>
              <a:off x="4861080" y="3787920"/>
              <a:ext cx="788760" cy="379440"/>
            </a:xfrm>
            <a:custGeom>
              <a:avLst/>
              <a:gdLst/>
              <a:ahLst/>
              <a:rect l="l" t="t" r="r" b="b"/>
              <a:pathLst>
                <a:path w="994" h="476">
                  <a:moveTo>
                    <a:pt x="0" y="215"/>
                  </a:moveTo>
                  <a:lnTo>
                    <a:pt x="6" y="225"/>
                  </a:lnTo>
                  <a:lnTo>
                    <a:pt x="14" y="233"/>
                  </a:lnTo>
                  <a:lnTo>
                    <a:pt x="26" y="240"/>
                  </a:lnTo>
                  <a:lnTo>
                    <a:pt x="38" y="244"/>
                  </a:lnTo>
                  <a:lnTo>
                    <a:pt x="64" y="252"/>
                  </a:lnTo>
                  <a:lnTo>
                    <a:pt x="76" y="256"/>
                  </a:lnTo>
                  <a:lnTo>
                    <a:pt x="87" y="262"/>
                  </a:lnTo>
                  <a:lnTo>
                    <a:pt x="91" y="268"/>
                  </a:lnTo>
                  <a:lnTo>
                    <a:pt x="98" y="273"/>
                  </a:lnTo>
                  <a:lnTo>
                    <a:pt x="106" y="279"/>
                  </a:lnTo>
                  <a:lnTo>
                    <a:pt x="115" y="282"/>
                  </a:lnTo>
                  <a:lnTo>
                    <a:pt x="135" y="290"/>
                  </a:lnTo>
                  <a:lnTo>
                    <a:pt x="156" y="295"/>
                  </a:lnTo>
                  <a:lnTo>
                    <a:pt x="180" y="299"/>
                  </a:lnTo>
                  <a:lnTo>
                    <a:pt x="201" y="302"/>
                  </a:lnTo>
                  <a:lnTo>
                    <a:pt x="221" y="304"/>
                  </a:lnTo>
                  <a:lnTo>
                    <a:pt x="230" y="304"/>
                  </a:lnTo>
                  <a:lnTo>
                    <a:pt x="238" y="305"/>
                  </a:lnTo>
                  <a:lnTo>
                    <a:pt x="296" y="314"/>
                  </a:lnTo>
                  <a:lnTo>
                    <a:pt x="355" y="322"/>
                  </a:lnTo>
                  <a:lnTo>
                    <a:pt x="413" y="329"/>
                  </a:lnTo>
                  <a:lnTo>
                    <a:pt x="472" y="332"/>
                  </a:lnTo>
                  <a:lnTo>
                    <a:pt x="492" y="338"/>
                  </a:lnTo>
                  <a:lnTo>
                    <a:pt x="513" y="345"/>
                  </a:lnTo>
                  <a:lnTo>
                    <a:pt x="554" y="358"/>
                  </a:lnTo>
                  <a:lnTo>
                    <a:pt x="595" y="371"/>
                  </a:lnTo>
                  <a:lnTo>
                    <a:pt x="615" y="378"/>
                  </a:lnTo>
                  <a:lnTo>
                    <a:pt x="636" y="383"/>
                  </a:lnTo>
                  <a:lnTo>
                    <a:pt x="666" y="389"/>
                  </a:lnTo>
                  <a:lnTo>
                    <a:pt x="697" y="396"/>
                  </a:lnTo>
                  <a:lnTo>
                    <a:pt x="722" y="405"/>
                  </a:lnTo>
                  <a:lnTo>
                    <a:pt x="749" y="414"/>
                  </a:lnTo>
                  <a:lnTo>
                    <a:pt x="775" y="423"/>
                  </a:lnTo>
                  <a:lnTo>
                    <a:pt x="800" y="429"/>
                  </a:lnTo>
                  <a:lnTo>
                    <a:pt x="829" y="436"/>
                  </a:lnTo>
                  <a:lnTo>
                    <a:pt x="860" y="444"/>
                  </a:lnTo>
                  <a:lnTo>
                    <a:pt x="918" y="460"/>
                  </a:lnTo>
                  <a:lnTo>
                    <a:pt x="924" y="462"/>
                  </a:lnTo>
                  <a:lnTo>
                    <a:pt x="928" y="463"/>
                  </a:lnTo>
                  <a:lnTo>
                    <a:pt x="931" y="463"/>
                  </a:lnTo>
                  <a:lnTo>
                    <a:pt x="933" y="464"/>
                  </a:lnTo>
                  <a:lnTo>
                    <a:pt x="935" y="464"/>
                  </a:lnTo>
                  <a:lnTo>
                    <a:pt x="939" y="465"/>
                  </a:lnTo>
                  <a:lnTo>
                    <a:pt x="943" y="467"/>
                  </a:lnTo>
                  <a:lnTo>
                    <a:pt x="951" y="470"/>
                  </a:lnTo>
                  <a:lnTo>
                    <a:pt x="957" y="472"/>
                  </a:lnTo>
                  <a:lnTo>
                    <a:pt x="963" y="474"/>
                  </a:lnTo>
                  <a:lnTo>
                    <a:pt x="969" y="475"/>
                  </a:lnTo>
                  <a:lnTo>
                    <a:pt x="971" y="476"/>
                  </a:lnTo>
                  <a:lnTo>
                    <a:pt x="971" y="476"/>
                  </a:lnTo>
                  <a:lnTo>
                    <a:pt x="976" y="476"/>
                  </a:lnTo>
                  <a:lnTo>
                    <a:pt x="981" y="476"/>
                  </a:lnTo>
                  <a:lnTo>
                    <a:pt x="986" y="475"/>
                  </a:lnTo>
                  <a:lnTo>
                    <a:pt x="988" y="473"/>
                  </a:lnTo>
                  <a:lnTo>
                    <a:pt x="991" y="462"/>
                  </a:lnTo>
                  <a:lnTo>
                    <a:pt x="992" y="450"/>
                  </a:lnTo>
                  <a:lnTo>
                    <a:pt x="994" y="435"/>
                  </a:lnTo>
                  <a:lnTo>
                    <a:pt x="994" y="419"/>
                  </a:lnTo>
                  <a:lnTo>
                    <a:pt x="992" y="404"/>
                  </a:lnTo>
                  <a:lnTo>
                    <a:pt x="990" y="390"/>
                  </a:lnTo>
                  <a:lnTo>
                    <a:pt x="988" y="377"/>
                  </a:lnTo>
                  <a:lnTo>
                    <a:pt x="985" y="366"/>
                  </a:lnTo>
                  <a:lnTo>
                    <a:pt x="980" y="324"/>
                  </a:lnTo>
                  <a:lnTo>
                    <a:pt x="977" y="283"/>
                  </a:lnTo>
                  <a:lnTo>
                    <a:pt x="977" y="242"/>
                  </a:lnTo>
                  <a:lnTo>
                    <a:pt x="977" y="201"/>
                  </a:lnTo>
                  <a:lnTo>
                    <a:pt x="979" y="159"/>
                  </a:lnTo>
                  <a:lnTo>
                    <a:pt x="981" y="117"/>
                  </a:lnTo>
                  <a:lnTo>
                    <a:pt x="988" y="34"/>
                  </a:lnTo>
                  <a:lnTo>
                    <a:pt x="988" y="25"/>
                  </a:lnTo>
                  <a:lnTo>
                    <a:pt x="990" y="16"/>
                  </a:lnTo>
                  <a:lnTo>
                    <a:pt x="989" y="7"/>
                  </a:lnTo>
                  <a:lnTo>
                    <a:pt x="988" y="5"/>
                  </a:lnTo>
                  <a:lnTo>
                    <a:pt x="985" y="4"/>
                  </a:lnTo>
                  <a:lnTo>
                    <a:pt x="912" y="1"/>
                  </a:lnTo>
                  <a:lnTo>
                    <a:pt x="838" y="0"/>
                  </a:lnTo>
                  <a:lnTo>
                    <a:pt x="765" y="1"/>
                  </a:lnTo>
                  <a:lnTo>
                    <a:pt x="690" y="3"/>
                  </a:lnTo>
                  <a:lnTo>
                    <a:pt x="540" y="8"/>
                  </a:lnTo>
                  <a:lnTo>
                    <a:pt x="465" y="10"/>
                  </a:lnTo>
                  <a:lnTo>
                    <a:pt x="392" y="11"/>
                  </a:lnTo>
                  <a:lnTo>
                    <a:pt x="395" y="215"/>
                  </a:lnTo>
                  <a:lnTo>
                    <a:pt x="2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61080" y="3787920"/>
              <a:ext cx="788760" cy="379440"/>
            </a:xfrm>
            <a:custGeom>
              <a:avLst/>
              <a:gdLst/>
              <a:ahLst/>
              <a:rect l="l" t="t" r="r" b="b"/>
              <a:pathLst>
                <a:path w="994" h="476">
                  <a:moveTo>
                    <a:pt x="0" y="215"/>
                  </a:moveTo>
                  <a:lnTo>
                    <a:pt x="6" y="225"/>
                  </a:lnTo>
                  <a:lnTo>
                    <a:pt x="14" y="233"/>
                  </a:lnTo>
                  <a:lnTo>
                    <a:pt x="26" y="240"/>
                  </a:lnTo>
                  <a:lnTo>
                    <a:pt x="38" y="244"/>
                  </a:lnTo>
                  <a:lnTo>
                    <a:pt x="64" y="252"/>
                  </a:lnTo>
                  <a:lnTo>
                    <a:pt x="76" y="256"/>
                  </a:lnTo>
                  <a:lnTo>
                    <a:pt x="87" y="262"/>
                  </a:lnTo>
                  <a:lnTo>
                    <a:pt x="91" y="268"/>
                  </a:lnTo>
                  <a:lnTo>
                    <a:pt x="98" y="273"/>
                  </a:lnTo>
                  <a:lnTo>
                    <a:pt x="106" y="279"/>
                  </a:lnTo>
                  <a:lnTo>
                    <a:pt x="115" y="282"/>
                  </a:lnTo>
                  <a:lnTo>
                    <a:pt x="135" y="290"/>
                  </a:lnTo>
                  <a:lnTo>
                    <a:pt x="156" y="295"/>
                  </a:lnTo>
                  <a:lnTo>
                    <a:pt x="180" y="299"/>
                  </a:lnTo>
                  <a:lnTo>
                    <a:pt x="201" y="302"/>
                  </a:lnTo>
                  <a:lnTo>
                    <a:pt x="221" y="304"/>
                  </a:lnTo>
                  <a:lnTo>
                    <a:pt x="230" y="304"/>
                  </a:lnTo>
                  <a:lnTo>
                    <a:pt x="238" y="305"/>
                  </a:lnTo>
                  <a:lnTo>
                    <a:pt x="296" y="314"/>
                  </a:lnTo>
                  <a:lnTo>
                    <a:pt x="355" y="322"/>
                  </a:lnTo>
                  <a:lnTo>
                    <a:pt x="413" y="329"/>
                  </a:lnTo>
                  <a:lnTo>
                    <a:pt x="472" y="332"/>
                  </a:lnTo>
                  <a:lnTo>
                    <a:pt x="492" y="338"/>
                  </a:lnTo>
                  <a:lnTo>
                    <a:pt x="513" y="345"/>
                  </a:lnTo>
                  <a:lnTo>
                    <a:pt x="554" y="358"/>
                  </a:lnTo>
                  <a:lnTo>
                    <a:pt x="595" y="371"/>
                  </a:lnTo>
                  <a:lnTo>
                    <a:pt x="615" y="378"/>
                  </a:lnTo>
                  <a:lnTo>
                    <a:pt x="636" y="383"/>
                  </a:lnTo>
                  <a:lnTo>
                    <a:pt x="666" y="389"/>
                  </a:lnTo>
                  <a:lnTo>
                    <a:pt x="697" y="396"/>
                  </a:lnTo>
                  <a:lnTo>
                    <a:pt x="722" y="405"/>
                  </a:lnTo>
                  <a:lnTo>
                    <a:pt x="749" y="414"/>
                  </a:lnTo>
                  <a:lnTo>
                    <a:pt x="775" y="423"/>
                  </a:lnTo>
                  <a:lnTo>
                    <a:pt x="800" y="429"/>
                  </a:lnTo>
                  <a:lnTo>
                    <a:pt x="829" y="436"/>
                  </a:lnTo>
                  <a:lnTo>
                    <a:pt x="860" y="444"/>
                  </a:lnTo>
                  <a:lnTo>
                    <a:pt x="918" y="460"/>
                  </a:lnTo>
                  <a:lnTo>
                    <a:pt x="924" y="462"/>
                  </a:lnTo>
                  <a:lnTo>
                    <a:pt x="928" y="463"/>
                  </a:lnTo>
                  <a:lnTo>
                    <a:pt x="931" y="463"/>
                  </a:lnTo>
                  <a:lnTo>
                    <a:pt x="933" y="464"/>
                  </a:lnTo>
                  <a:lnTo>
                    <a:pt x="935" y="464"/>
                  </a:lnTo>
                  <a:lnTo>
                    <a:pt x="939" y="465"/>
                  </a:lnTo>
                  <a:lnTo>
                    <a:pt x="943" y="467"/>
                  </a:lnTo>
                  <a:lnTo>
                    <a:pt x="951" y="470"/>
                  </a:lnTo>
                  <a:lnTo>
                    <a:pt x="957" y="472"/>
                  </a:lnTo>
                  <a:lnTo>
                    <a:pt x="963" y="474"/>
                  </a:lnTo>
                  <a:lnTo>
                    <a:pt x="969" y="475"/>
                  </a:lnTo>
                  <a:lnTo>
                    <a:pt x="971" y="476"/>
                  </a:lnTo>
                  <a:lnTo>
                    <a:pt x="971" y="476"/>
                  </a:lnTo>
                  <a:lnTo>
                    <a:pt x="976" y="476"/>
                  </a:lnTo>
                  <a:lnTo>
                    <a:pt x="981" y="476"/>
                  </a:lnTo>
                  <a:lnTo>
                    <a:pt x="986" y="475"/>
                  </a:lnTo>
                  <a:lnTo>
                    <a:pt x="988" y="473"/>
                  </a:lnTo>
                  <a:lnTo>
                    <a:pt x="991" y="462"/>
                  </a:lnTo>
                  <a:lnTo>
                    <a:pt x="992" y="450"/>
                  </a:lnTo>
                  <a:lnTo>
                    <a:pt x="994" y="435"/>
                  </a:lnTo>
                  <a:lnTo>
                    <a:pt x="994" y="419"/>
                  </a:lnTo>
                  <a:lnTo>
                    <a:pt x="992" y="404"/>
                  </a:lnTo>
                  <a:lnTo>
                    <a:pt x="990" y="390"/>
                  </a:lnTo>
                  <a:lnTo>
                    <a:pt x="988" y="377"/>
                  </a:lnTo>
                  <a:lnTo>
                    <a:pt x="985" y="366"/>
                  </a:lnTo>
                  <a:lnTo>
                    <a:pt x="980" y="324"/>
                  </a:lnTo>
                  <a:lnTo>
                    <a:pt x="977" y="283"/>
                  </a:lnTo>
                  <a:lnTo>
                    <a:pt x="977" y="242"/>
                  </a:lnTo>
                  <a:lnTo>
                    <a:pt x="977" y="201"/>
                  </a:lnTo>
                  <a:lnTo>
                    <a:pt x="979" y="159"/>
                  </a:lnTo>
                  <a:lnTo>
                    <a:pt x="981" y="117"/>
                  </a:lnTo>
                  <a:lnTo>
                    <a:pt x="988" y="34"/>
                  </a:lnTo>
                  <a:lnTo>
                    <a:pt x="988" y="25"/>
                  </a:lnTo>
                  <a:lnTo>
                    <a:pt x="990" y="16"/>
                  </a:lnTo>
                  <a:lnTo>
                    <a:pt x="989" y="7"/>
                  </a:lnTo>
                  <a:lnTo>
                    <a:pt x="988" y="5"/>
                  </a:lnTo>
                  <a:lnTo>
                    <a:pt x="985" y="4"/>
                  </a:lnTo>
                  <a:lnTo>
                    <a:pt x="912" y="1"/>
                  </a:lnTo>
                  <a:lnTo>
                    <a:pt x="838" y="0"/>
                  </a:lnTo>
                  <a:lnTo>
                    <a:pt x="765" y="1"/>
                  </a:lnTo>
                  <a:lnTo>
                    <a:pt x="690" y="3"/>
                  </a:lnTo>
                  <a:lnTo>
                    <a:pt x="540" y="8"/>
                  </a:lnTo>
                  <a:lnTo>
                    <a:pt x="465" y="10"/>
                  </a:lnTo>
                  <a:lnTo>
                    <a:pt x="392" y="11"/>
                  </a:lnTo>
                  <a:lnTo>
                    <a:pt x="395" y="215"/>
                  </a:lnTo>
                  <a:lnTo>
                    <a:pt x="20" y="2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048120" y="3065400"/>
            <a:ext cx="7668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43880" y="310212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istem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8840" y="309708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istem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27040" y="325584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du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20560" y="325116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du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32520" y="3772080"/>
            <a:ext cx="59508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12080" y="380376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Canal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5680" y="394020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Fu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07000" y="3576600"/>
            <a:ext cx="511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71080" y="3608280"/>
            <a:ext cx="38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Casa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18960" y="3745080"/>
            <a:ext cx="28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Forç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437000" y="2763720"/>
            <a:ext cx="1046160" cy="674640"/>
            <a:chOff x="4437000" y="2763720"/>
            <a:chExt cx="1046160" cy="674640"/>
          </a:xfrm>
        </p:grpSpPr>
        <p:sp>
          <p:nvSpPr>
            <p:cNvPr id="294" name=""/>
            <p:cNvSpPr/>
            <p:nvPr/>
          </p:nvSpPr>
          <p:spPr>
            <a:xfrm>
              <a:off x="4437000" y="2763720"/>
              <a:ext cx="1046160" cy="674640"/>
            </a:xfrm>
            <a:custGeom>
              <a:avLst/>
              <a:gdLst/>
              <a:ahLst/>
              <a:rect l="l" t="t" r="r" b="b"/>
              <a:pathLst>
                <a:path w="1319" h="849">
                  <a:moveTo>
                    <a:pt x="1122" y="430"/>
                  </a:moveTo>
                  <a:lnTo>
                    <a:pt x="1063" y="535"/>
                  </a:lnTo>
                  <a:lnTo>
                    <a:pt x="119" y="0"/>
                  </a:lnTo>
                  <a:lnTo>
                    <a:pt x="0" y="210"/>
                  </a:lnTo>
                  <a:lnTo>
                    <a:pt x="945" y="745"/>
                  </a:lnTo>
                  <a:lnTo>
                    <a:pt x="884" y="849"/>
                  </a:lnTo>
                  <a:lnTo>
                    <a:pt x="1319" y="817"/>
                  </a:lnTo>
                  <a:lnTo>
                    <a:pt x="1122" y="430"/>
                  </a:lnTo>
                  <a:close/>
                </a:path>
              </a:pathLst>
            </a:custGeom>
            <a:solidFill>
              <a:srgbClr val="3333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740000">
              <a:off x="4497840" y="289080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Vazã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740000">
              <a:off x="4812480" y="3107880"/>
              <a:ext cx="52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333399"/>
                  </a:solidFill>
                  <a:latin typeface="Times New Roman"/>
                </a:rPr>
                <a:t>Deflu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601640" y="2171880"/>
            <a:ext cx="1446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53480" y="2209680"/>
            <a:ext cx="12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Mo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41480" y="1576440"/>
            <a:ext cx="1319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95480" y="1614600"/>
            <a:ext cx="105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Ú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38200" y="1492200"/>
            <a:ext cx="2892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66720" y="1457280"/>
            <a:ext cx="1701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4520" y="2325600"/>
            <a:ext cx="144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VAZÃO DEFLU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ÍNIMA : 300 m3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0840" y="4773600"/>
            <a:ext cx="4755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TOTAL DO RESERVATÓRIO :   19,53 BILHÕES DE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ÚTIL :                                                15,28 BILHÕES DE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MORTO :                                            4,25 BILHÕES DE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324480" y="4343400"/>
            <a:ext cx="2438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lume Útil é o estoque de água de um reservatório, que é possível de ser turbinado pelas unidades geradoras da usina correspondente a este reservató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01720" y="828720"/>
            <a:ext cx="4340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60280" y="609480"/>
            <a:ext cx="510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ERVATÓRIO DE SOBRAD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854440" y="1260360"/>
            <a:ext cx="1604880" cy="2870280"/>
            <a:chOff x="2854440" y="1260360"/>
            <a:chExt cx="1604880" cy="2870280"/>
          </a:xfrm>
        </p:grpSpPr>
        <p:grpSp>
          <p:nvGrpSpPr>
            <p:cNvPr id="309" name=""/>
            <p:cNvGrpSpPr/>
            <p:nvPr/>
          </p:nvGrpSpPr>
          <p:grpSpPr>
            <a:xfrm>
              <a:off x="2868480" y="1276560"/>
              <a:ext cx="1574280" cy="2850840"/>
              <a:chOff x="2868480" y="1276560"/>
              <a:chExt cx="1574280" cy="2850840"/>
            </a:xfrm>
          </p:grpSpPr>
          <p:sp>
            <p:nvSpPr>
              <p:cNvPr id="310" name=""/>
              <p:cNvSpPr/>
              <p:nvPr/>
            </p:nvSpPr>
            <p:spPr>
              <a:xfrm>
                <a:off x="2868480" y="1276560"/>
                <a:ext cx="157428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68480" y="1335240"/>
                <a:ext cx="1574280" cy="6012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68480" y="1395360"/>
                <a:ext cx="157428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68480" y="1454040"/>
                <a:ext cx="1574280" cy="60480"/>
              </a:xfrm>
              <a:prstGeom prst="rect">
                <a:avLst/>
              </a:prstGeom>
              <a:solidFill>
                <a:srgbClr val="97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868480" y="1514520"/>
                <a:ext cx="1574280" cy="58680"/>
              </a:xfrm>
              <a:prstGeom prst="rect">
                <a:avLst/>
              </a:prstGeom>
              <a:solidFill>
                <a:srgbClr val="97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868480" y="1573200"/>
                <a:ext cx="1574280" cy="58680"/>
              </a:xfrm>
              <a:prstGeom prst="rect">
                <a:avLst/>
              </a:prstGeom>
              <a:solidFill>
                <a:srgbClr val="96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68480" y="1631880"/>
                <a:ext cx="1574280" cy="604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868480" y="1692360"/>
                <a:ext cx="1574280" cy="586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868480" y="1751040"/>
                <a:ext cx="1574280" cy="60480"/>
              </a:xfrm>
              <a:prstGeom prst="rect">
                <a:avLst/>
              </a:prstGeom>
              <a:solidFill>
                <a:srgbClr val="94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68480" y="1811520"/>
                <a:ext cx="1574280" cy="58680"/>
              </a:xfrm>
              <a:prstGeom prst="rect">
                <a:avLst/>
              </a:prstGeom>
              <a:solidFill>
                <a:srgbClr val="93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868480" y="1870200"/>
                <a:ext cx="1574280" cy="58680"/>
              </a:xfrm>
              <a:prstGeom prst="rect">
                <a:avLst/>
              </a:prstGeom>
              <a:solidFill>
                <a:srgbClr val="926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868480" y="1928880"/>
                <a:ext cx="1574280" cy="60480"/>
              </a:xfrm>
              <a:prstGeom prst="rect">
                <a:avLst/>
              </a:prstGeom>
              <a:solidFill>
                <a:srgbClr val="90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868480" y="1989360"/>
                <a:ext cx="1574280" cy="58680"/>
              </a:xfrm>
              <a:prstGeom prst="rect">
                <a:avLst/>
              </a:prstGeom>
              <a:solidFill>
                <a:srgbClr val="8f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68480" y="2048040"/>
                <a:ext cx="1574280" cy="60120"/>
              </a:xfrm>
              <a:prstGeom prst="rect">
                <a:avLst/>
              </a:prstGeom>
              <a:solidFill>
                <a:srgbClr val="8e5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868480" y="2108160"/>
                <a:ext cx="1574280" cy="58680"/>
              </a:xfrm>
              <a:prstGeom prst="rect">
                <a:avLst/>
              </a:prstGeom>
              <a:solidFill>
                <a:srgbClr val="8c5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68480" y="2166840"/>
                <a:ext cx="1574280" cy="59040"/>
              </a:xfrm>
              <a:prstGeom prst="rect">
                <a:avLst/>
              </a:prstGeom>
              <a:solidFill>
                <a:srgbClr val="8a5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868480" y="2225880"/>
                <a:ext cx="1574280" cy="60120"/>
              </a:xfrm>
              <a:prstGeom prst="rect">
                <a:avLst/>
              </a:prstGeom>
              <a:solidFill>
                <a:srgbClr val="89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868480" y="2286000"/>
                <a:ext cx="1574280" cy="58680"/>
              </a:xfrm>
              <a:prstGeom prst="rect">
                <a:avLst/>
              </a:prstGeom>
              <a:solidFill>
                <a:srgbClr val="865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868480" y="2344680"/>
                <a:ext cx="1574280" cy="60480"/>
              </a:xfrm>
              <a:prstGeom prst="rect">
                <a:avLst/>
              </a:prstGeom>
              <a:solidFill>
                <a:srgbClr val="845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868480" y="2405160"/>
                <a:ext cx="1574280" cy="58680"/>
              </a:xfrm>
              <a:prstGeom prst="rect">
                <a:avLst/>
              </a:prstGeom>
              <a:solidFill>
                <a:srgbClr val="82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868480" y="2463840"/>
                <a:ext cx="1574280" cy="58680"/>
              </a:xfrm>
              <a:prstGeom prst="rect">
                <a:avLst/>
              </a:prstGeom>
              <a:solidFill>
                <a:srgbClr val="805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868480" y="2522520"/>
                <a:ext cx="1574280" cy="60480"/>
              </a:xfrm>
              <a:prstGeom prst="rect">
                <a:avLst/>
              </a:prstGeom>
              <a:solidFill>
                <a:srgbClr val="7d5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868480" y="2583000"/>
                <a:ext cx="1574280" cy="58680"/>
              </a:xfrm>
              <a:prstGeom prst="rect">
                <a:avLst/>
              </a:prstGeom>
              <a:solidFill>
                <a:srgbClr val="7b5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868480" y="2641680"/>
                <a:ext cx="1574280" cy="60480"/>
              </a:xfrm>
              <a:prstGeom prst="rect">
                <a:avLst/>
              </a:prstGeom>
              <a:solidFill>
                <a:srgbClr val="78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868480" y="2702160"/>
                <a:ext cx="1574280" cy="60120"/>
              </a:xfrm>
              <a:prstGeom prst="rect">
                <a:avLst/>
              </a:prstGeom>
              <a:solidFill>
                <a:srgbClr val="764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868480" y="2762280"/>
                <a:ext cx="1574280" cy="58680"/>
              </a:xfrm>
              <a:prstGeom prst="rect">
                <a:avLst/>
              </a:prstGeom>
              <a:solidFill>
                <a:srgbClr val="72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868480" y="2820960"/>
                <a:ext cx="1574280" cy="58680"/>
              </a:xfrm>
              <a:prstGeom prst="rect">
                <a:avLst/>
              </a:prstGeom>
              <a:solidFill>
                <a:srgbClr val="704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868480" y="2879640"/>
                <a:ext cx="1574280" cy="60480"/>
              </a:xfrm>
              <a:prstGeom prst="rect">
                <a:avLst/>
              </a:prstGeom>
              <a:solidFill>
                <a:srgbClr val="6d4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68480" y="2940120"/>
                <a:ext cx="1574280" cy="58680"/>
              </a:xfrm>
              <a:prstGeom prst="rect">
                <a:avLst/>
              </a:prstGeom>
              <a:solidFill>
                <a:srgbClr val="6a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68480" y="2998800"/>
                <a:ext cx="1574280" cy="60480"/>
              </a:xfrm>
              <a:prstGeom prst="rect">
                <a:avLst/>
              </a:prstGeom>
              <a:solidFill>
                <a:srgbClr val="6745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68480" y="3059280"/>
                <a:ext cx="1574280" cy="58680"/>
              </a:xfrm>
              <a:prstGeom prst="rect">
                <a:avLst/>
              </a:prstGeom>
              <a:solidFill>
                <a:srgbClr val="654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868480" y="3117960"/>
                <a:ext cx="1574280" cy="58680"/>
              </a:xfrm>
              <a:prstGeom prst="rect">
                <a:avLst/>
              </a:pr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868480" y="3176640"/>
                <a:ext cx="1574280" cy="60480"/>
              </a:xfrm>
              <a:prstGeom prst="rect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68480" y="3237120"/>
                <a:ext cx="1574280" cy="58680"/>
              </a:xfrm>
              <a:prstGeom prst="rect">
                <a:avLst/>
              </a:prstGeom>
              <a:solidFill>
                <a:srgbClr val="5d3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68480" y="3295800"/>
                <a:ext cx="1574280" cy="60120"/>
              </a:xfrm>
              <a:prstGeom prst="rect">
                <a:avLst/>
              </a:prstGeom>
              <a:solidFill>
                <a:srgbClr val="5a3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68480" y="3355920"/>
                <a:ext cx="1574280" cy="58680"/>
              </a:xfrm>
              <a:prstGeom prst="rect">
                <a:avLst/>
              </a:prstGeom>
              <a:solidFill>
                <a:srgbClr val="583a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68480" y="3414600"/>
                <a:ext cx="1574280" cy="60480"/>
              </a:xfrm>
              <a:prstGeom prst="rect">
                <a:avLst/>
              </a:prstGeom>
              <a:solidFill>
                <a:srgbClr val="563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68480" y="3475080"/>
                <a:ext cx="1574280" cy="58680"/>
              </a:xfrm>
              <a:prstGeom prst="rect">
                <a:avLst/>
              </a:prstGeom>
              <a:solidFill>
                <a:srgbClr val="543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868480" y="3533760"/>
                <a:ext cx="1574280" cy="58680"/>
              </a:xfrm>
              <a:prstGeom prst="rect">
                <a:avLst/>
              </a:prstGeom>
              <a:solidFill>
                <a:srgbClr val="523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68480" y="3592440"/>
                <a:ext cx="1574280" cy="60480"/>
              </a:xfrm>
              <a:prstGeom prst="rect">
                <a:avLst/>
              </a:prstGeom>
              <a:solidFill>
                <a:srgbClr val="503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868480" y="3652920"/>
                <a:ext cx="1574280" cy="58680"/>
              </a:xfrm>
              <a:prstGeom prst="rect">
                <a:avLst/>
              </a:prstGeom>
              <a:solidFill>
                <a:srgbClr val="4e3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68480" y="3711600"/>
                <a:ext cx="1574280" cy="604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8480" y="3772080"/>
                <a:ext cx="1574280" cy="58680"/>
              </a:xfrm>
              <a:prstGeom prst="rect">
                <a:avLst/>
              </a:prstGeom>
              <a:solidFill>
                <a:srgbClr val="4c3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68480" y="3830760"/>
                <a:ext cx="1574280" cy="58680"/>
              </a:xfrm>
              <a:prstGeom prst="rect">
                <a:avLst/>
              </a:prstGeom>
              <a:solidFill>
                <a:srgbClr val="4a31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868480" y="3889440"/>
                <a:ext cx="1574280" cy="60480"/>
              </a:xfrm>
              <a:prstGeom prst="rect">
                <a:avLst/>
              </a:prstGeom>
              <a:solidFill>
                <a:srgbClr val="49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868480" y="3949920"/>
                <a:ext cx="1574280" cy="58680"/>
              </a:xfrm>
              <a:prstGeom prst="rect">
                <a:avLst/>
              </a:prstGeom>
              <a:solidFill>
                <a:srgbClr val="48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68480" y="4008600"/>
                <a:ext cx="1574280" cy="6012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68480" y="4068720"/>
                <a:ext cx="1574280" cy="5868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868480" y="1276560"/>
                <a:ext cx="1574280" cy="2849400"/>
              </a:xfrm>
              <a:custGeom>
                <a:avLst/>
                <a:gdLst/>
                <a:ahLst/>
                <a:rect l="l" t="t" r="r" b="b"/>
                <a:pathLst>
                  <a:path w="1982" h="3591">
                    <a:moveTo>
                      <a:pt x="0" y="3269"/>
                    </a:moveTo>
                    <a:lnTo>
                      <a:pt x="623" y="0"/>
                    </a:lnTo>
                    <a:lnTo>
                      <a:pt x="1246" y="0"/>
                    </a:lnTo>
                    <a:lnTo>
                      <a:pt x="1982" y="3591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472f17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868480" y="1276560"/>
                <a:ext cx="1574280" cy="2849400"/>
              </a:xfrm>
              <a:custGeom>
                <a:avLst/>
                <a:gdLst/>
                <a:ahLst/>
                <a:rect l="l" t="t" r="r" b="b"/>
                <a:pathLst>
                  <a:path w="1982" h="3591">
                    <a:moveTo>
                      <a:pt x="0" y="3269"/>
                    </a:moveTo>
                    <a:lnTo>
                      <a:pt x="623" y="0"/>
                    </a:lnTo>
                    <a:lnTo>
                      <a:pt x="1246" y="0"/>
                    </a:lnTo>
                    <a:lnTo>
                      <a:pt x="1982" y="3591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68480" y="1276560"/>
                <a:ext cx="157428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68480" y="1335240"/>
                <a:ext cx="1574280" cy="6012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68480" y="1395360"/>
                <a:ext cx="157428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68480" y="1454040"/>
                <a:ext cx="1574280" cy="60480"/>
              </a:xfrm>
              <a:prstGeom prst="rect">
                <a:avLst/>
              </a:prstGeom>
              <a:solidFill>
                <a:srgbClr val="97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68480" y="1514520"/>
                <a:ext cx="1574280" cy="58680"/>
              </a:xfrm>
              <a:prstGeom prst="rect">
                <a:avLst/>
              </a:prstGeom>
              <a:solidFill>
                <a:srgbClr val="97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68480" y="1573200"/>
                <a:ext cx="1574280" cy="58680"/>
              </a:xfrm>
              <a:prstGeom prst="rect">
                <a:avLst/>
              </a:prstGeom>
              <a:solidFill>
                <a:srgbClr val="96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868480" y="1631880"/>
                <a:ext cx="1574280" cy="604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868480" y="1692360"/>
                <a:ext cx="1574280" cy="586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68480" y="1751040"/>
                <a:ext cx="1574280" cy="60480"/>
              </a:xfrm>
              <a:prstGeom prst="rect">
                <a:avLst/>
              </a:prstGeom>
              <a:solidFill>
                <a:srgbClr val="94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868480" y="1811520"/>
                <a:ext cx="1574280" cy="58680"/>
              </a:xfrm>
              <a:prstGeom prst="rect">
                <a:avLst/>
              </a:prstGeom>
              <a:solidFill>
                <a:srgbClr val="93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868480" y="1870200"/>
                <a:ext cx="1574280" cy="58680"/>
              </a:xfrm>
              <a:prstGeom prst="rect">
                <a:avLst/>
              </a:prstGeom>
              <a:solidFill>
                <a:srgbClr val="926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68480" y="1928880"/>
                <a:ext cx="1574280" cy="60480"/>
              </a:xfrm>
              <a:prstGeom prst="rect">
                <a:avLst/>
              </a:prstGeom>
              <a:solidFill>
                <a:srgbClr val="90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868480" y="1989360"/>
                <a:ext cx="1574280" cy="58680"/>
              </a:xfrm>
              <a:prstGeom prst="rect">
                <a:avLst/>
              </a:prstGeom>
              <a:solidFill>
                <a:srgbClr val="8f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868480" y="2048040"/>
                <a:ext cx="1574280" cy="60120"/>
              </a:xfrm>
              <a:prstGeom prst="rect">
                <a:avLst/>
              </a:prstGeom>
              <a:solidFill>
                <a:srgbClr val="8e5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868480" y="2108160"/>
                <a:ext cx="1574280" cy="58680"/>
              </a:xfrm>
              <a:prstGeom prst="rect">
                <a:avLst/>
              </a:prstGeom>
              <a:solidFill>
                <a:srgbClr val="8c5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68480" y="2166840"/>
                <a:ext cx="1574280" cy="59040"/>
              </a:xfrm>
              <a:prstGeom prst="rect">
                <a:avLst/>
              </a:prstGeom>
              <a:solidFill>
                <a:srgbClr val="8a5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868480" y="2225880"/>
                <a:ext cx="1574280" cy="60120"/>
              </a:xfrm>
              <a:prstGeom prst="rect">
                <a:avLst/>
              </a:prstGeom>
              <a:solidFill>
                <a:srgbClr val="89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868480" y="2286000"/>
                <a:ext cx="1574280" cy="58680"/>
              </a:xfrm>
              <a:prstGeom prst="rect">
                <a:avLst/>
              </a:prstGeom>
              <a:solidFill>
                <a:srgbClr val="865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868480" y="2344680"/>
                <a:ext cx="1574280" cy="60480"/>
              </a:xfrm>
              <a:prstGeom prst="rect">
                <a:avLst/>
              </a:prstGeom>
              <a:solidFill>
                <a:srgbClr val="845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68480" y="2405160"/>
                <a:ext cx="1574280" cy="58680"/>
              </a:xfrm>
              <a:prstGeom prst="rect">
                <a:avLst/>
              </a:prstGeom>
              <a:solidFill>
                <a:srgbClr val="82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68480" y="2463840"/>
                <a:ext cx="1574280" cy="58680"/>
              </a:xfrm>
              <a:prstGeom prst="rect">
                <a:avLst/>
              </a:prstGeom>
              <a:solidFill>
                <a:srgbClr val="805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868480" y="2522520"/>
                <a:ext cx="1574280" cy="60480"/>
              </a:xfrm>
              <a:prstGeom prst="rect">
                <a:avLst/>
              </a:prstGeom>
              <a:solidFill>
                <a:srgbClr val="7d5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868480" y="2583000"/>
                <a:ext cx="1574280" cy="58680"/>
              </a:xfrm>
              <a:prstGeom prst="rect">
                <a:avLst/>
              </a:prstGeom>
              <a:solidFill>
                <a:srgbClr val="7b5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868480" y="2641680"/>
                <a:ext cx="1574280" cy="60480"/>
              </a:xfrm>
              <a:prstGeom prst="rect">
                <a:avLst/>
              </a:prstGeom>
              <a:solidFill>
                <a:srgbClr val="78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68480" y="2702160"/>
                <a:ext cx="1574280" cy="60120"/>
              </a:xfrm>
              <a:prstGeom prst="rect">
                <a:avLst/>
              </a:prstGeom>
              <a:solidFill>
                <a:srgbClr val="764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868480" y="2762280"/>
                <a:ext cx="1574280" cy="58680"/>
              </a:xfrm>
              <a:prstGeom prst="rect">
                <a:avLst/>
              </a:prstGeom>
              <a:solidFill>
                <a:srgbClr val="72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868480" y="2820960"/>
                <a:ext cx="1574280" cy="58680"/>
              </a:xfrm>
              <a:prstGeom prst="rect">
                <a:avLst/>
              </a:prstGeom>
              <a:solidFill>
                <a:srgbClr val="704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868480" y="2879640"/>
                <a:ext cx="1574280" cy="60480"/>
              </a:xfrm>
              <a:prstGeom prst="rect">
                <a:avLst/>
              </a:prstGeom>
              <a:solidFill>
                <a:srgbClr val="6d4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868480" y="2940120"/>
                <a:ext cx="1574280" cy="58680"/>
              </a:xfrm>
              <a:prstGeom prst="rect">
                <a:avLst/>
              </a:prstGeom>
              <a:solidFill>
                <a:srgbClr val="6a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868480" y="2998800"/>
                <a:ext cx="1574280" cy="60480"/>
              </a:xfrm>
              <a:prstGeom prst="rect">
                <a:avLst/>
              </a:prstGeom>
              <a:solidFill>
                <a:srgbClr val="6745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68480" y="3059280"/>
                <a:ext cx="1574280" cy="58680"/>
              </a:xfrm>
              <a:prstGeom prst="rect">
                <a:avLst/>
              </a:prstGeom>
              <a:solidFill>
                <a:srgbClr val="654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68480" y="3117960"/>
                <a:ext cx="1574280" cy="58680"/>
              </a:xfrm>
              <a:prstGeom prst="rect">
                <a:avLst/>
              </a:pr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68480" y="3176640"/>
                <a:ext cx="1574280" cy="60480"/>
              </a:xfrm>
              <a:prstGeom prst="rect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868480" y="3237120"/>
                <a:ext cx="1574280" cy="58680"/>
              </a:xfrm>
              <a:prstGeom prst="rect">
                <a:avLst/>
              </a:prstGeom>
              <a:solidFill>
                <a:srgbClr val="5d3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68480" y="3295800"/>
                <a:ext cx="1574280" cy="60120"/>
              </a:xfrm>
              <a:prstGeom prst="rect">
                <a:avLst/>
              </a:prstGeom>
              <a:solidFill>
                <a:srgbClr val="5a3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68480" y="3355920"/>
                <a:ext cx="1574280" cy="58680"/>
              </a:xfrm>
              <a:prstGeom prst="rect">
                <a:avLst/>
              </a:prstGeom>
              <a:solidFill>
                <a:srgbClr val="583a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868480" y="3414600"/>
                <a:ext cx="1574280" cy="60480"/>
              </a:xfrm>
              <a:prstGeom prst="rect">
                <a:avLst/>
              </a:prstGeom>
              <a:solidFill>
                <a:srgbClr val="563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868480" y="3475080"/>
                <a:ext cx="1574280" cy="58680"/>
              </a:xfrm>
              <a:prstGeom prst="rect">
                <a:avLst/>
              </a:prstGeom>
              <a:solidFill>
                <a:srgbClr val="543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68480" y="3533760"/>
                <a:ext cx="1574280" cy="58680"/>
              </a:xfrm>
              <a:prstGeom prst="rect">
                <a:avLst/>
              </a:prstGeom>
              <a:solidFill>
                <a:srgbClr val="523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868480" y="3592440"/>
                <a:ext cx="1574280" cy="60480"/>
              </a:xfrm>
              <a:prstGeom prst="rect">
                <a:avLst/>
              </a:prstGeom>
              <a:solidFill>
                <a:srgbClr val="503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68480" y="3652920"/>
                <a:ext cx="1574280" cy="58680"/>
              </a:xfrm>
              <a:prstGeom prst="rect">
                <a:avLst/>
              </a:prstGeom>
              <a:solidFill>
                <a:srgbClr val="4e3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868480" y="3711600"/>
                <a:ext cx="1574280" cy="604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868480" y="3772080"/>
                <a:ext cx="1574280" cy="58680"/>
              </a:xfrm>
              <a:prstGeom prst="rect">
                <a:avLst/>
              </a:prstGeom>
              <a:solidFill>
                <a:srgbClr val="4c3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868480" y="3830760"/>
                <a:ext cx="1574280" cy="58680"/>
              </a:xfrm>
              <a:prstGeom prst="rect">
                <a:avLst/>
              </a:prstGeom>
              <a:solidFill>
                <a:srgbClr val="4a31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868480" y="3889440"/>
                <a:ext cx="1574280" cy="60480"/>
              </a:xfrm>
              <a:prstGeom prst="rect">
                <a:avLst/>
              </a:prstGeom>
              <a:solidFill>
                <a:srgbClr val="49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868480" y="3949920"/>
                <a:ext cx="1574280" cy="58680"/>
              </a:xfrm>
              <a:prstGeom prst="rect">
                <a:avLst/>
              </a:prstGeom>
              <a:solidFill>
                <a:srgbClr val="48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868480" y="4008600"/>
                <a:ext cx="1574280" cy="6012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68480" y="4068720"/>
                <a:ext cx="1574280" cy="5868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854440" y="1260360"/>
              <a:ext cx="1604880" cy="2870280"/>
            </a:xfrm>
            <a:custGeom>
              <a:avLst/>
              <a:gdLst/>
              <a:ahLst/>
              <a:rect l="l" t="t" r="r" b="b"/>
              <a:pathLst>
                <a:path w="2021" h="3615">
                  <a:moveTo>
                    <a:pt x="0" y="3286"/>
                  </a:moveTo>
                  <a:lnTo>
                    <a:pt x="39" y="3294"/>
                  </a:lnTo>
                  <a:lnTo>
                    <a:pt x="662" y="24"/>
                  </a:lnTo>
                  <a:lnTo>
                    <a:pt x="642" y="20"/>
                  </a:lnTo>
                  <a:lnTo>
                    <a:pt x="642" y="40"/>
                  </a:lnTo>
                  <a:lnTo>
                    <a:pt x="649" y="39"/>
                  </a:lnTo>
                  <a:lnTo>
                    <a:pt x="656" y="34"/>
                  </a:lnTo>
                  <a:lnTo>
                    <a:pt x="661" y="28"/>
                  </a:lnTo>
                  <a:lnTo>
                    <a:pt x="642" y="40"/>
                  </a:lnTo>
                  <a:lnTo>
                    <a:pt x="1265" y="40"/>
                  </a:lnTo>
                  <a:lnTo>
                    <a:pt x="1265" y="20"/>
                  </a:lnTo>
                  <a:lnTo>
                    <a:pt x="1246" y="28"/>
                  </a:lnTo>
                  <a:lnTo>
                    <a:pt x="1250" y="34"/>
                  </a:lnTo>
                  <a:lnTo>
                    <a:pt x="1257" y="39"/>
                  </a:lnTo>
                  <a:lnTo>
                    <a:pt x="1246" y="24"/>
                  </a:lnTo>
                  <a:lnTo>
                    <a:pt x="1982" y="3615"/>
                  </a:lnTo>
                  <a:lnTo>
                    <a:pt x="2021" y="3607"/>
                  </a:lnTo>
                  <a:lnTo>
                    <a:pt x="1285" y="16"/>
                  </a:lnTo>
                  <a:lnTo>
                    <a:pt x="1284" y="12"/>
                  </a:lnTo>
                  <a:lnTo>
                    <a:pt x="1279" y="5"/>
                  </a:lnTo>
                  <a:lnTo>
                    <a:pt x="1272" y="2"/>
                  </a:lnTo>
                  <a:lnTo>
                    <a:pt x="1265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34" y="2"/>
                  </a:lnTo>
                  <a:lnTo>
                    <a:pt x="627" y="5"/>
                  </a:lnTo>
                  <a:lnTo>
                    <a:pt x="624" y="12"/>
                  </a:lnTo>
                  <a:lnTo>
                    <a:pt x="622" y="20"/>
                  </a:lnTo>
                  <a:lnTo>
                    <a:pt x="623" y="16"/>
                  </a:lnTo>
                  <a:lnTo>
                    <a:pt x="0" y="3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76280" y="2676600"/>
            <a:ext cx="5132520" cy="1811160"/>
          </a:xfrm>
          <a:custGeom>
            <a:avLst/>
            <a:gdLst/>
            <a:ahLst/>
            <a:rect l="l" t="t" r="r" b="b"/>
            <a:pathLst>
              <a:path w="6466" h="2282">
                <a:moveTo>
                  <a:pt x="6426" y="2282"/>
                </a:moveTo>
                <a:lnTo>
                  <a:pt x="0" y="2282"/>
                </a:lnTo>
                <a:lnTo>
                  <a:pt x="1" y="1998"/>
                </a:lnTo>
                <a:lnTo>
                  <a:pt x="1" y="1714"/>
                </a:lnTo>
                <a:lnTo>
                  <a:pt x="2" y="1146"/>
                </a:lnTo>
                <a:lnTo>
                  <a:pt x="2" y="862"/>
                </a:lnTo>
                <a:lnTo>
                  <a:pt x="5" y="579"/>
                </a:lnTo>
                <a:lnTo>
                  <a:pt x="8" y="295"/>
                </a:lnTo>
                <a:lnTo>
                  <a:pt x="14" y="12"/>
                </a:lnTo>
                <a:lnTo>
                  <a:pt x="15" y="6"/>
                </a:lnTo>
                <a:lnTo>
                  <a:pt x="16" y="3"/>
                </a:lnTo>
                <a:lnTo>
                  <a:pt x="18" y="0"/>
                </a:lnTo>
                <a:lnTo>
                  <a:pt x="21" y="0"/>
                </a:lnTo>
                <a:lnTo>
                  <a:pt x="25" y="1"/>
                </a:lnTo>
                <a:lnTo>
                  <a:pt x="29" y="5"/>
                </a:lnTo>
                <a:lnTo>
                  <a:pt x="39" y="12"/>
                </a:lnTo>
                <a:lnTo>
                  <a:pt x="51" y="22"/>
                </a:lnTo>
                <a:lnTo>
                  <a:pt x="65" y="33"/>
                </a:lnTo>
                <a:lnTo>
                  <a:pt x="79" y="44"/>
                </a:lnTo>
                <a:lnTo>
                  <a:pt x="95" y="52"/>
                </a:lnTo>
                <a:lnTo>
                  <a:pt x="127" y="64"/>
                </a:lnTo>
                <a:lnTo>
                  <a:pt x="161" y="74"/>
                </a:lnTo>
                <a:lnTo>
                  <a:pt x="196" y="83"/>
                </a:lnTo>
                <a:lnTo>
                  <a:pt x="230" y="93"/>
                </a:lnTo>
                <a:lnTo>
                  <a:pt x="284" y="110"/>
                </a:lnTo>
                <a:lnTo>
                  <a:pt x="337" y="124"/>
                </a:lnTo>
                <a:lnTo>
                  <a:pt x="390" y="137"/>
                </a:lnTo>
                <a:lnTo>
                  <a:pt x="442" y="147"/>
                </a:lnTo>
                <a:lnTo>
                  <a:pt x="495" y="154"/>
                </a:lnTo>
                <a:lnTo>
                  <a:pt x="549" y="162"/>
                </a:lnTo>
                <a:lnTo>
                  <a:pt x="604" y="169"/>
                </a:lnTo>
                <a:lnTo>
                  <a:pt x="662" y="176"/>
                </a:lnTo>
                <a:lnTo>
                  <a:pt x="673" y="177"/>
                </a:lnTo>
                <a:lnTo>
                  <a:pt x="684" y="179"/>
                </a:lnTo>
                <a:lnTo>
                  <a:pt x="710" y="185"/>
                </a:lnTo>
                <a:lnTo>
                  <a:pt x="737" y="191"/>
                </a:lnTo>
                <a:lnTo>
                  <a:pt x="764" y="198"/>
                </a:lnTo>
                <a:lnTo>
                  <a:pt x="787" y="205"/>
                </a:lnTo>
                <a:lnTo>
                  <a:pt x="797" y="208"/>
                </a:lnTo>
                <a:lnTo>
                  <a:pt x="806" y="210"/>
                </a:lnTo>
                <a:lnTo>
                  <a:pt x="814" y="213"/>
                </a:lnTo>
                <a:lnTo>
                  <a:pt x="820" y="215"/>
                </a:lnTo>
                <a:lnTo>
                  <a:pt x="823" y="216"/>
                </a:lnTo>
                <a:lnTo>
                  <a:pt x="824" y="216"/>
                </a:lnTo>
                <a:lnTo>
                  <a:pt x="839" y="235"/>
                </a:lnTo>
                <a:lnTo>
                  <a:pt x="854" y="252"/>
                </a:lnTo>
                <a:lnTo>
                  <a:pt x="874" y="266"/>
                </a:lnTo>
                <a:lnTo>
                  <a:pt x="894" y="281"/>
                </a:lnTo>
                <a:lnTo>
                  <a:pt x="918" y="293"/>
                </a:lnTo>
                <a:lnTo>
                  <a:pt x="942" y="304"/>
                </a:lnTo>
                <a:lnTo>
                  <a:pt x="968" y="314"/>
                </a:lnTo>
                <a:lnTo>
                  <a:pt x="994" y="323"/>
                </a:lnTo>
                <a:lnTo>
                  <a:pt x="1048" y="339"/>
                </a:lnTo>
                <a:lnTo>
                  <a:pt x="1102" y="351"/>
                </a:lnTo>
                <a:lnTo>
                  <a:pt x="1129" y="355"/>
                </a:lnTo>
                <a:lnTo>
                  <a:pt x="1154" y="360"/>
                </a:lnTo>
                <a:lnTo>
                  <a:pt x="1179" y="363"/>
                </a:lnTo>
                <a:lnTo>
                  <a:pt x="1201" y="367"/>
                </a:lnTo>
                <a:lnTo>
                  <a:pt x="1219" y="373"/>
                </a:lnTo>
                <a:lnTo>
                  <a:pt x="1236" y="379"/>
                </a:lnTo>
                <a:lnTo>
                  <a:pt x="1250" y="386"/>
                </a:lnTo>
                <a:lnTo>
                  <a:pt x="1263" y="391"/>
                </a:lnTo>
                <a:lnTo>
                  <a:pt x="1275" y="398"/>
                </a:lnTo>
                <a:lnTo>
                  <a:pt x="1286" y="403"/>
                </a:lnTo>
                <a:lnTo>
                  <a:pt x="1306" y="417"/>
                </a:lnTo>
                <a:lnTo>
                  <a:pt x="1325" y="431"/>
                </a:lnTo>
                <a:lnTo>
                  <a:pt x="1348" y="448"/>
                </a:lnTo>
                <a:lnTo>
                  <a:pt x="1360" y="457"/>
                </a:lnTo>
                <a:lnTo>
                  <a:pt x="1373" y="467"/>
                </a:lnTo>
                <a:lnTo>
                  <a:pt x="1388" y="478"/>
                </a:lnTo>
                <a:lnTo>
                  <a:pt x="1405" y="489"/>
                </a:lnTo>
                <a:lnTo>
                  <a:pt x="1408" y="491"/>
                </a:lnTo>
                <a:lnTo>
                  <a:pt x="1412" y="493"/>
                </a:lnTo>
                <a:lnTo>
                  <a:pt x="1424" y="497"/>
                </a:lnTo>
                <a:lnTo>
                  <a:pt x="1438" y="501"/>
                </a:lnTo>
                <a:lnTo>
                  <a:pt x="1454" y="505"/>
                </a:lnTo>
                <a:lnTo>
                  <a:pt x="1468" y="510"/>
                </a:lnTo>
                <a:lnTo>
                  <a:pt x="1483" y="513"/>
                </a:lnTo>
                <a:lnTo>
                  <a:pt x="1488" y="515"/>
                </a:lnTo>
                <a:lnTo>
                  <a:pt x="1493" y="516"/>
                </a:lnTo>
                <a:lnTo>
                  <a:pt x="1496" y="516"/>
                </a:lnTo>
                <a:lnTo>
                  <a:pt x="1498" y="517"/>
                </a:lnTo>
                <a:lnTo>
                  <a:pt x="1518" y="524"/>
                </a:lnTo>
                <a:lnTo>
                  <a:pt x="1539" y="533"/>
                </a:lnTo>
                <a:lnTo>
                  <a:pt x="1559" y="540"/>
                </a:lnTo>
                <a:lnTo>
                  <a:pt x="1570" y="542"/>
                </a:lnTo>
                <a:lnTo>
                  <a:pt x="1580" y="544"/>
                </a:lnTo>
                <a:lnTo>
                  <a:pt x="1595" y="546"/>
                </a:lnTo>
                <a:lnTo>
                  <a:pt x="1613" y="549"/>
                </a:lnTo>
                <a:lnTo>
                  <a:pt x="1632" y="551"/>
                </a:lnTo>
                <a:lnTo>
                  <a:pt x="1651" y="553"/>
                </a:lnTo>
                <a:lnTo>
                  <a:pt x="1691" y="558"/>
                </a:lnTo>
                <a:lnTo>
                  <a:pt x="1732" y="562"/>
                </a:lnTo>
                <a:lnTo>
                  <a:pt x="1750" y="564"/>
                </a:lnTo>
                <a:lnTo>
                  <a:pt x="1766" y="565"/>
                </a:lnTo>
                <a:lnTo>
                  <a:pt x="1782" y="568"/>
                </a:lnTo>
                <a:lnTo>
                  <a:pt x="1795" y="569"/>
                </a:lnTo>
                <a:lnTo>
                  <a:pt x="1806" y="570"/>
                </a:lnTo>
                <a:lnTo>
                  <a:pt x="1815" y="571"/>
                </a:lnTo>
                <a:lnTo>
                  <a:pt x="1820" y="572"/>
                </a:lnTo>
                <a:lnTo>
                  <a:pt x="1822" y="572"/>
                </a:lnTo>
                <a:lnTo>
                  <a:pt x="1834" y="575"/>
                </a:lnTo>
                <a:lnTo>
                  <a:pt x="1846" y="578"/>
                </a:lnTo>
                <a:lnTo>
                  <a:pt x="1864" y="582"/>
                </a:lnTo>
                <a:lnTo>
                  <a:pt x="1880" y="587"/>
                </a:lnTo>
                <a:lnTo>
                  <a:pt x="1892" y="589"/>
                </a:lnTo>
                <a:lnTo>
                  <a:pt x="1904" y="592"/>
                </a:lnTo>
                <a:lnTo>
                  <a:pt x="1911" y="593"/>
                </a:lnTo>
                <a:lnTo>
                  <a:pt x="1918" y="596"/>
                </a:lnTo>
                <a:lnTo>
                  <a:pt x="1925" y="598"/>
                </a:lnTo>
                <a:lnTo>
                  <a:pt x="1937" y="601"/>
                </a:lnTo>
                <a:lnTo>
                  <a:pt x="1944" y="603"/>
                </a:lnTo>
                <a:lnTo>
                  <a:pt x="1953" y="607"/>
                </a:lnTo>
                <a:lnTo>
                  <a:pt x="1963" y="610"/>
                </a:lnTo>
                <a:lnTo>
                  <a:pt x="1976" y="615"/>
                </a:lnTo>
                <a:lnTo>
                  <a:pt x="1992" y="620"/>
                </a:lnTo>
                <a:lnTo>
                  <a:pt x="2012" y="627"/>
                </a:lnTo>
                <a:lnTo>
                  <a:pt x="2023" y="632"/>
                </a:lnTo>
                <a:lnTo>
                  <a:pt x="2032" y="640"/>
                </a:lnTo>
                <a:lnTo>
                  <a:pt x="2042" y="647"/>
                </a:lnTo>
                <a:lnTo>
                  <a:pt x="2052" y="654"/>
                </a:lnTo>
                <a:lnTo>
                  <a:pt x="2062" y="658"/>
                </a:lnTo>
                <a:lnTo>
                  <a:pt x="2072" y="661"/>
                </a:lnTo>
                <a:lnTo>
                  <a:pt x="2093" y="666"/>
                </a:lnTo>
                <a:lnTo>
                  <a:pt x="2115" y="673"/>
                </a:lnTo>
                <a:lnTo>
                  <a:pt x="2125" y="676"/>
                </a:lnTo>
                <a:lnTo>
                  <a:pt x="2134" y="682"/>
                </a:lnTo>
                <a:lnTo>
                  <a:pt x="2174" y="709"/>
                </a:lnTo>
                <a:lnTo>
                  <a:pt x="2214" y="736"/>
                </a:lnTo>
                <a:lnTo>
                  <a:pt x="2219" y="740"/>
                </a:lnTo>
                <a:lnTo>
                  <a:pt x="2226" y="744"/>
                </a:lnTo>
                <a:lnTo>
                  <a:pt x="2240" y="753"/>
                </a:lnTo>
                <a:lnTo>
                  <a:pt x="2245" y="757"/>
                </a:lnTo>
                <a:lnTo>
                  <a:pt x="2250" y="760"/>
                </a:lnTo>
                <a:lnTo>
                  <a:pt x="2253" y="762"/>
                </a:lnTo>
                <a:lnTo>
                  <a:pt x="2254" y="763"/>
                </a:lnTo>
                <a:lnTo>
                  <a:pt x="2257" y="775"/>
                </a:lnTo>
                <a:lnTo>
                  <a:pt x="2261" y="784"/>
                </a:lnTo>
                <a:lnTo>
                  <a:pt x="2263" y="791"/>
                </a:lnTo>
                <a:lnTo>
                  <a:pt x="2264" y="797"/>
                </a:lnTo>
                <a:lnTo>
                  <a:pt x="2265" y="800"/>
                </a:lnTo>
                <a:lnTo>
                  <a:pt x="2266" y="803"/>
                </a:lnTo>
                <a:lnTo>
                  <a:pt x="2269" y="804"/>
                </a:lnTo>
                <a:lnTo>
                  <a:pt x="2272" y="804"/>
                </a:lnTo>
                <a:lnTo>
                  <a:pt x="2274" y="805"/>
                </a:lnTo>
                <a:lnTo>
                  <a:pt x="2279" y="805"/>
                </a:lnTo>
                <a:lnTo>
                  <a:pt x="2284" y="807"/>
                </a:lnTo>
                <a:lnTo>
                  <a:pt x="2291" y="809"/>
                </a:lnTo>
                <a:lnTo>
                  <a:pt x="2299" y="812"/>
                </a:lnTo>
                <a:lnTo>
                  <a:pt x="2309" y="818"/>
                </a:lnTo>
                <a:lnTo>
                  <a:pt x="2329" y="832"/>
                </a:lnTo>
                <a:lnTo>
                  <a:pt x="2348" y="848"/>
                </a:lnTo>
                <a:lnTo>
                  <a:pt x="2368" y="862"/>
                </a:lnTo>
                <a:lnTo>
                  <a:pt x="2378" y="868"/>
                </a:lnTo>
                <a:lnTo>
                  <a:pt x="2389" y="872"/>
                </a:lnTo>
                <a:lnTo>
                  <a:pt x="2426" y="885"/>
                </a:lnTo>
                <a:lnTo>
                  <a:pt x="2462" y="897"/>
                </a:lnTo>
                <a:lnTo>
                  <a:pt x="2495" y="907"/>
                </a:lnTo>
                <a:lnTo>
                  <a:pt x="2529" y="917"/>
                </a:lnTo>
                <a:lnTo>
                  <a:pt x="2562" y="925"/>
                </a:lnTo>
                <a:lnTo>
                  <a:pt x="2597" y="932"/>
                </a:lnTo>
                <a:lnTo>
                  <a:pt x="2634" y="937"/>
                </a:lnTo>
                <a:lnTo>
                  <a:pt x="2673" y="942"/>
                </a:lnTo>
                <a:lnTo>
                  <a:pt x="2734" y="945"/>
                </a:lnTo>
                <a:lnTo>
                  <a:pt x="2794" y="948"/>
                </a:lnTo>
                <a:lnTo>
                  <a:pt x="2855" y="952"/>
                </a:lnTo>
                <a:lnTo>
                  <a:pt x="2916" y="955"/>
                </a:lnTo>
                <a:lnTo>
                  <a:pt x="2983" y="962"/>
                </a:lnTo>
                <a:lnTo>
                  <a:pt x="3051" y="968"/>
                </a:lnTo>
                <a:lnTo>
                  <a:pt x="3078" y="979"/>
                </a:lnTo>
                <a:lnTo>
                  <a:pt x="3105" y="990"/>
                </a:lnTo>
                <a:lnTo>
                  <a:pt x="3154" y="1014"/>
                </a:lnTo>
                <a:lnTo>
                  <a:pt x="3203" y="1040"/>
                </a:lnTo>
                <a:lnTo>
                  <a:pt x="3228" y="1052"/>
                </a:lnTo>
                <a:lnTo>
                  <a:pt x="3253" y="1065"/>
                </a:lnTo>
                <a:lnTo>
                  <a:pt x="3278" y="1073"/>
                </a:lnTo>
                <a:lnTo>
                  <a:pt x="3305" y="1081"/>
                </a:lnTo>
                <a:lnTo>
                  <a:pt x="3333" y="1087"/>
                </a:lnTo>
                <a:lnTo>
                  <a:pt x="3360" y="1091"/>
                </a:lnTo>
                <a:lnTo>
                  <a:pt x="3416" y="1099"/>
                </a:lnTo>
                <a:lnTo>
                  <a:pt x="3444" y="1102"/>
                </a:lnTo>
                <a:lnTo>
                  <a:pt x="3470" y="1106"/>
                </a:lnTo>
                <a:lnTo>
                  <a:pt x="3525" y="1123"/>
                </a:lnTo>
                <a:lnTo>
                  <a:pt x="3579" y="1138"/>
                </a:lnTo>
                <a:lnTo>
                  <a:pt x="3635" y="1153"/>
                </a:lnTo>
                <a:lnTo>
                  <a:pt x="3691" y="1166"/>
                </a:lnTo>
                <a:lnTo>
                  <a:pt x="3804" y="1191"/>
                </a:lnTo>
                <a:lnTo>
                  <a:pt x="3915" y="1215"/>
                </a:lnTo>
                <a:lnTo>
                  <a:pt x="3986" y="1232"/>
                </a:lnTo>
                <a:lnTo>
                  <a:pt x="4056" y="1250"/>
                </a:lnTo>
                <a:lnTo>
                  <a:pt x="4127" y="1268"/>
                </a:lnTo>
                <a:lnTo>
                  <a:pt x="4199" y="1283"/>
                </a:lnTo>
                <a:lnTo>
                  <a:pt x="4200" y="1283"/>
                </a:lnTo>
                <a:lnTo>
                  <a:pt x="4201" y="1283"/>
                </a:lnTo>
                <a:lnTo>
                  <a:pt x="4208" y="1284"/>
                </a:lnTo>
                <a:lnTo>
                  <a:pt x="4218" y="1287"/>
                </a:lnTo>
                <a:lnTo>
                  <a:pt x="4231" y="1289"/>
                </a:lnTo>
                <a:lnTo>
                  <a:pt x="4247" y="1291"/>
                </a:lnTo>
                <a:lnTo>
                  <a:pt x="4265" y="1295"/>
                </a:lnTo>
                <a:lnTo>
                  <a:pt x="4285" y="1298"/>
                </a:lnTo>
                <a:lnTo>
                  <a:pt x="4305" y="1301"/>
                </a:lnTo>
                <a:lnTo>
                  <a:pt x="4347" y="1308"/>
                </a:lnTo>
                <a:lnTo>
                  <a:pt x="4367" y="1311"/>
                </a:lnTo>
                <a:lnTo>
                  <a:pt x="4386" y="1315"/>
                </a:lnTo>
                <a:lnTo>
                  <a:pt x="4404" y="1318"/>
                </a:lnTo>
                <a:lnTo>
                  <a:pt x="4419" y="1320"/>
                </a:lnTo>
                <a:lnTo>
                  <a:pt x="4432" y="1322"/>
                </a:lnTo>
                <a:lnTo>
                  <a:pt x="4441" y="1325"/>
                </a:lnTo>
                <a:lnTo>
                  <a:pt x="4456" y="1327"/>
                </a:lnTo>
                <a:lnTo>
                  <a:pt x="4471" y="1329"/>
                </a:lnTo>
                <a:lnTo>
                  <a:pt x="4506" y="1334"/>
                </a:lnTo>
                <a:lnTo>
                  <a:pt x="4542" y="1338"/>
                </a:lnTo>
                <a:lnTo>
                  <a:pt x="4576" y="1343"/>
                </a:lnTo>
                <a:lnTo>
                  <a:pt x="4593" y="1345"/>
                </a:lnTo>
                <a:lnTo>
                  <a:pt x="4609" y="1346"/>
                </a:lnTo>
                <a:lnTo>
                  <a:pt x="4622" y="1348"/>
                </a:lnTo>
                <a:lnTo>
                  <a:pt x="4634" y="1349"/>
                </a:lnTo>
                <a:lnTo>
                  <a:pt x="4644" y="1350"/>
                </a:lnTo>
                <a:lnTo>
                  <a:pt x="4651" y="1350"/>
                </a:lnTo>
                <a:lnTo>
                  <a:pt x="4657" y="1351"/>
                </a:lnTo>
                <a:lnTo>
                  <a:pt x="4658" y="1351"/>
                </a:lnTo>
                <a:lnTo>
                  <a:pt x="4698" y="1364"/>
                </a:lnTo>
                <a:lnTo>
                  <a:pt x="4739" y="1373"/>
                </a:lnTo>
                <a:lnTo>
                  <a:pt x="4782" y="1381"/>
                </a:lnTo>
                <a:lnTo>
                  <a:pt x="4824" y="1386"/>
                </a:lnTo>
                <a:lnTo>
                  <a:pt x="4911" y="1396"/>
                </a:lnTo>
                <a:lnTo>
                  <a:pt x="4953" y="1401"/>
                </a:lnTo>
                <a:lnTo>
                  <a:pt x="4995" y="1406"/>
                </a:lnTo>
                <a:lnTo>
                  <a:pt x="5035" y="1420"/>
                </a:lnTo>
                <a:lnTo>
                  <a:pt x="5076" y="1434"/>
                </a:lnTo>
                <a:lnTo>
                  <a:pt x="5116" y="1448"/>
                </a:lnTo>
                <a:lnTo>
                  <a:pt x="5127" y="1452"/>
                </a:lnTo>
                <a:lnTo>
                  <a:pt x="5137" y="1456"/>
                </a:lnTo>
                <a:lnTo>
                  <a:pt x="5157" y="1468"/>
                </a:lnTo>
                <a:lnTo>
                  <a:pt x="5177" y="1480"/>
                </a:lnTo>
                <a:lnTo>
                  <a:pt x="5187" y="1484"/>
                </a:lnTo>
                <a:lnTo>
                  <a:pt x="5197" y="1489"/>
                </a:lnTo>
                <a:lnTo>
                  <a:pt x="5217" y="1510"/>
                </a:lnTo>
                <a:lnTo>
                  <a:pt x="5227" y="1520"/>
                </a:lnTo>
                <a:lnTo>
                  <a:pt x="5238" y="1529"/>
                </a:lnTo>
                <a:lnTo>
                  <a:pt x="5249" y="1538"/>
                </a:lnTo>
                <a:lnTo>
                  <a:pt x="5262" y="1547"/>
                </a:lnTo>
                <a:lnTo>
                  <a:pt x="5275" y="1556"/>
                </a:lnTo>
                <a:lnTo>
                  <a:pt x="5288" y="1565"/>
                </a:lnTo>
                <a:lnTo>
                  <a:pt x="5300" y="1573"/>
                </a:lnTo>
                <a:lnTo>
                  <a:pt x="5310" y="1578"/>
                </a:lnTo>
                <a:lnTo>
                  <a:pt x="5316" y="1583"/>
                </a:lnTo>
                <a:lnTo>
                  <a:pt x="5317" y="1584"/>
                </a:lnTo>
                <a:lnTo>
                  <a:pt x="5319" y="1584"/>
                </a:lnTo>
                <a:lnTo>
                  <a:pt x="5345" y="1625"/>
                </a:lnTo>
                <a:lnTo>
                  <a:pt x="5373" y="1666"/>
                </a:lnTo>
                <a:lnTo>
                  <a:pt x="5381" y="1675"/>
                </a:lnTo>
                <a:lnTo>
                  <a:pt x="5390" y="1683"/>
                </a:lnTo>
                <a:lnTo>
                  <a:pt x="5410" y="1697"/>
                </a:lnTo>
                <a:lnTo>
                  <a:pt x="5432" y="1709"/>
                </a:lnTo>
                <a:lnTo>
                  <a:pt x="5454" y="1721"/>
                </a:lnTo>
                <a:lnTo>
                  <a:pt x="5478" y="1736"/>
                </a:lnTo>
                <a:lnTo>
                  <a:pt x="5503" y="1749"/>
                </a:lnTo>
                <a:lnTo>
                  <a:pt x="5530" y="1760"/>
                </a:lnTo>
                <a:lnTo>
                  <a:pt x="5559" y="1769"/>
                </a:lnTo>
                <a:lnTo>
                  <a:pt x="5586" y="1778"/>
                </a:lnTo>
                <a:lnTo>
                  <a:pt x="5617" y="1785"/>
                </a:lnTo>
                <a:lnTo>
                  <a:pt x="5677" y="1796"/>
                </a:lnTo>
                <a:lnTo>
                  <a:pt x="5738" y="1803"/>
                </a:lnTo>
                <a:lnTo>
                  <a:pt x="5800" y="1808"/>
                </a:lnTo>
                <a:lnTo>
                  <a:pt x="5858" y="1813"/>
                </a:lnTo>
                <a:lnTo>
                  <a:pt x="5886" y="1815"/>
                </a:lnTo>
                <a:lnTo>
                  <a:pt x="5912" y="1817"/>
                </a:lnTo>
                <a:lnTo>
                  <a:pt x="5989" y="1843"/>
                </a:lnTo>
                <a:lnTo>
                  <a:pt x="6068" y="1867"/>
                </a:lnTo>
                <a:lnTo>
                  <a:pt x="6145" y="1891"/>
                </a:lnTo>
                <a:lnTo>
                  <a:pt x="6223" y="1912"/>
                </a:lnTo>
                <a:lnTo>
                  <a:pt x="6235" y="1915"/>
                </a:lnTo>
                <a:lnTo>
                  <a:pt x="6248" y="1919"/>
                </a:lnTo>
                <a:lnTo>
                  <a:pt x="6264" y="1922"/>
                </a:lnTo>
                <a:lnTo>
                  <a:pt x="6280" y="1925"/>
                </a:lnTo>
                <a:lnTo>
                  <a:pt x="6314" y="1933"/>
                </a:lnTo>
                <a:lnTo>
                  <a:pt x="6350" y="1942"/>
                </a:lnTo>
                <a:lnTo>
                  <a:pt x="6386" y="1952"/>
                </a:lnTo>
                <a:lnTo>
                  <a:pt x="6403" y="1959"/>
                </a:lnTo>
                <a:lnTo>
                  <a:pt x="6418" y="1964"/>
                </a:lnTo>
                <a:lnTo>
                  <a:pt x="6433" y="1971"/>
                </a:lnTo>
                <a:lnTo>
                  <a:pt x="6445" y="1979"/>
                </a:lnTo>
                <a:lnTo>
                  <a:pt x="6457" y="1987"/>
                </a:lnTo>
                <a:lnTo>
                  <a:pt x="6466" y="1995"/>
                </a:lnTo>
                <a:lnTo>
                  <a:pt x="6426" y="2282"/>
                </a:lnTo>
                <a:close/>
              </a:path>
            </a:pathLst>
          </a:custGeom>
          <a:solidFill>
            <a:srgbClr val="00cc99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477720" y="1332000"/>
            <a:ext cx="2892600" cy="2052720"/>
            <a:chOff x="477720" y="1332000"/>
            <a:chExt cx="2892600" cy="2052720"/>
          </a:xfrm>
        </p:grpSpPr>
        <p:sp>
          <p:nvSpPr>
            <p:cNvPr id="411" name=""/>
            <p:cNvSpPr/>
            <p:nvPr/>
          </p:nvSpPr>
          <p:spPr>
            <a:xfrm>
              <a:off x="477720" y="1332000"/>
              <a:ext cx="2892600" cy="2052720"/>
            </a:xfrm>
            <a:custGeom>
              <a:avLst/>
              <a:gdLst/>
              <a:ahLst/>
              <a:rect l="l" t="t" r="r" b="b"/>
              <a:pathLst>
                <a:path w="3644" h="2676">
                  <a:moveTo>
                    <a:pt x="0" y="1694"/>
                  </a:moveTo>
                  <a:lnTo>
                    <a:pt x="11" y="1689"/>
                  </a:lnTo>
                  <a:lnTo>
                    <a:pt x="23" y="1684"/>
                  </a:lnTo>
                  <a:lnTo>
                    <a:pt x="34" y="1679"/>
                  </a:lnTo>
                  <a:lnTo>
                    <a:pt x="39" y="1678"/>
                  </a:lnTo>
                  <a:lnTo>
                    <a:pt x="45" y="1679"/>
                  </a:lnTo>
                  <a:lnTo>
                    <a:pt x="57" y="1684"/>
                  </a:lnTo>
                  <a:lnTo>
                    <a:pt x="68" y="1690"/>
                  </a:lnTo>
                  <a:lnTo>
                    <a:pt x="91" y="1706"/>
                  </a:lnTo>
                  <a:lnTo>
                    <a:pt x="112" y="1723"/>
                  </a:lnTo>
                  <a:lnTo>
                    <a:pt x="134" y="1738"/>
                  </a:lnTo>
                  <a:lnTo>
                    <a:pt x="144" y="1744"/>
                  </a:lnTo>
                  <a:lnTo>
                    <a:pt x="154" y="1749"/>
                  </a:lnTo>
                  <a:lnTo>
                    <a:pt x="178" y="1756"/>
                  </a:lnTo>
                  <a:lnTo>
                    <a:pt x="200" y="1762"/>
                  </a:lnTo>
                  <a:lnTo>
                    <a:pt x="224" y="1768"/>
                  </a:lnTo>
                  <a:lnTo>
                    <a:pt x="298" y="1791"/>
                  </a:lnTo>
                  <a:lnTo>
                    <a:pt x="374" y="1810"/>
                  </a:lnTo>
                  <a:lnTo>
                    <a:pt x="450" y="1827"/>
                  </a:lnTo>
                  <a:lnTo>
                    <a:pt x="527" y="1842"/>
                  </a:lnTo>
                  <a:lnTo>
                    <a:pt x="681" y="1870"/>
                  </a:lnTo>
                  <a:lnTo>
                    <a:pt x="758" y="1886"/>
                  </a:lnTo>
                  <a:lnTo>
                    <a:pt x="834" y="1902"/>
                  </a:lnTo>
                  <a:lnTo>
                    <a:pt x="851" y="1915"/>
                  </a:lnTo>
                  <a:lnTo>
                    <a:pt x="867" y="1927"/>
                  </a:lnTo>
                  <a:lnTo>
                    <a:pt x="899" y="1953"/>
                  </a:lnTo>
                  <a:lnTo>
                    <a:pt x="915" y="1964"/>
                  </a:lnTo>
                  <a:lnTo>
                    <a:pt x="932" y="1975"/>
                  </a:lnTo>
                  <a:lnTo>
                    <a:pt x="949" y="1984"/>
                  </a:lnTo>
                  <a:lnTo>
                    <a:pt x="968" y="1992"/>
                  </a:lnTo>
                  <a:lnTo>
                    <a:pt x="1024" y="2007"/>
                  </a:lnTo>
                  <a:lnTo>
                    <a:pt x="1080" y="2022"/>
                  </a:lnTo>
                  <a:lnTo>
                    <a:pt x="1136" y="2035"/>
                  </a:lnTo>
                  <a:lnTo>
                    <a:pt x="1191" y="2051"/>
                  </a:lnTo>
                  <a:lnTo>
                    <a:pt x="1195" y="2053"/>
                  </a:lnTo>
                  <a:lnTo>
                    <a:pt x="1201" y="2058"/>
                  </a:lnTo>
                  <a:lnTo>
                    <a:pt x="1209" y="2064"/>
                  </a:lnTo>
                  <a:lnTo>
                    <a:pt x="1220" y="2071"/>
                  </a:lnTo>
                  <a:lnTo>
                    <a:pt x="1232" y="2080"/>
                  </a:lnTo>
                  <a:lnTo>
                    <a:pt x="1246" y="2090"/>
                  </a:lnTo>
                  <a:lnTo>
                    <a:pt x="1275" y="2111"/>
                  </a:lnTo>
                  <a:lnTo>
                    <a:pt x="1305" y="2131"/>
                  </a:lnTo>
                  <a:lnTo>
                    <a:pt x="1320" y="2141"/>
                  </a:lnTo>
                  <a:lnTo>
                    <a:pt x="1333" y="2150"/>
                  </a:lnTo>
                  <a:lnTo>
                    <a:pt x="1344" y="2157"/>
                  </a:lnTo>
                  <a:lnTo>
                    <a:pt x="1356" y="2164"/>
                  </a:lnTo>
                  <a:lnTo>
                    <a:pt x="1364" y="2168"/>
                  </a:lnTo>
                  <a:lnTo>
                    <a:pt x="1370" y="2170"/>
                  </a:lnTo>
                  <a:lnTo>
                    <a:pt x="1549" y="2214"/>
                  </a:lnTo>
                  <a:lnTo>
                    <a:pt x="1638" y="2236"/>
                  </a:lnTo>
                  <a:lnTo>
                    <a:pt x="1727" y="2260"/>
                  </a:lnTo>
                  <a:lnTo>
                    <a:pt x="1744" y="2264"/>
                  </a:lnTo>
                  <a:lnTo>
                    <a:pt x="1762" y="2268"/>
                  </a:lnTo>
                  <a:lnTo>
                    <a:pt x="1781" y="2272"/>
                  </a:lnTo>
                  <a:lnTo>
                    <a:pt x="1802" y="2277"/>
                  </a:lnTo>
                  <a:lnTo>
                    <a:pt x="1843" y="2283"/>
                  </a:lnTo>
                  <a:lnTo>
                    <a:pt x="1885" y="2291"/>
                  </a:lnTo>
                  <a:lnTo>
                    <a:pt x="1904" y="2293"/>
                  </a:lnTo>
                  <a:lnTo>
                    <a:pt x="1922" y="2297"/>
                  </a:lnTo>
                  <a:lnTo>
                    <a:pt x="1938" y="2299"/>
                  </a:lnTo>
                  <a:lnTo>
                    <a:pt x="1952" y="2301"/>
                  </a:lnTo>
                  <a:lnTo>
                    <a:pt x="1964" y="2302"/>
                  </a:lnTo>
                  <a:lnTo>
                    <a:pt x="1972" y="2303"/>
                  </a:lnTo>
                  <a:lnTo>
                    <a:pt x="1977" y="2304"/>
                  </a:lnTo>
                  <a:lnTo>
                    <a:pt x="1980" y="2304"/>
                  </a:lnTo>
                  <a:lnTo>
                    <a:pt x="1993" y="2309"/>
                  </a:lnTo>
                  <a:lnTo>
                    <a:pt x="2004" y="2314"/>
                  </a:lnTo>
                  <a:lnTo>
                    <a:pt x="2014" y="2320"/>
                  </a:lnTo>
                  <a:lnTo>
                    <a:pt x="2022" y="2325"/>
                  </a:lnTo>
                  <a:lnTo>
                    <a:pt x="2028" y="2330"/>
                  </a:lnTo>
                  <a:lnTo>
                    <a:pt x="2033" y="2336"/>
                  </a:lnTo>
                  <a:lnTo>
                    <a:pt x="2043" y="2347"/>
                  </a:lnTo>
                  <a:lnTo>
                    <a:pt x="2051" y="2358"/>
                  </a:lnTo>
                  <a:lnTo>
                    <a:pt x="2062" y="2370"/>
                  </a:lnTo>
                  <a:lnTo>
                    <a:pt x="2069" y="2376"/>
                  </a:lnTo>
                  <a:lnTo>
                    <a:pt x="2078" y="2381"/>
                  </a:lnTo>
                  <a:lnTo>
                    <a:pt x="2087" y="2388"/>
                  </a:lnTo>
                  <a:lnTo>
                    <a:pt x="2099" y="2394"/>
                  </a:lnTo>
                  <a:lnTo>
                    <a:pt x="2121" y="2403"/>
                  </a:lnTo>
                  <a:lnTo>
                    <a:pt x="2144" y="2411"/>
                  </a:lnTo>
                  <a:lnTo>
                    <a:pt x="2166" y="2417"/>
                  </a:lnTo>
                  <a:lnTo>
                    <a:pt x="2188" y="2424"/>
                  </a:lnTo>
                  <a:lnTo>
                    <a:pt x="2194" y="2426"/>
                  </a:lnTo>
                  <a:lnTo>
                    <a:pt x="2202" y="2428"/>
                  </a:lnTo>
                  <a:lnTo>
                    <a:pt x="2216" y="2433"/>
                  </a:lnTo>
                  <a:lnTo>
                    <a:pt x="2223" y="2435"/>
                  </a:lnTo>
                  <a:lnTo>
                    <a:pt x="2229" y="2437"/>
                  </a:lnTo>
                  <a:lnTo>
                    <a:pt x="2232" y="2438"/>
                  </a:lnTo>
                  <a:lnTo>
                    <a:pt x="2233" y="2438"/>
                  </a:lnTo>
                  <a:lnTo>
                    <a:pt x="2244" y="2446"/>
                  </a:lnTo>
                  <a:lnTo>
                    <a:pt x="2256" y="2453"/>
                  </a:lnTo>
                  <a:lnTo>
                    <a:pt x="2268" y="2460"/>
                  </a:lnTo>
                  <a:lnTo>
                    <a:pt x="2278" y="2469"/>
                  </a:lnTo>
                  <a:lnTo>
                    <a:pt x="2285" y="2480"/>
                  </a:lnTo>
                  <a:lnTo>
                    <a:pt x="2291" y="2492"/>
                  </a:lnTo>
                  <a:lnTo>
                    <a:pt x="2298" y="2504"/>
                  </a:lnTo>
                  <a:lnTo>
                    <a:pt x="2302" y="2509"/>
                  </a:lnTo>
                  <a:lnTo>
                    <a:pt x="2308" y="2513"/>
                  </a:lnTo>
                  <a:lnTo>
                    <a:pt x="2319" y="2519"/>
                  </a:lnTo>
                  <a:lnTo>
                    <a:pt x="2334" y="2524"/>
                  </a:lnTo>
                  <a:lnTo>
                    <a:pt x="2348" y="2530"/>
                  </a:lnTo>
                  <a:lnTo>
                    <a:pt x="2363" y="2534"/>
                  </a:lnTo>
                  <a:lnTo>
                    <a:pt x="2376" y="2538"/>
                  </a:lnTo>
                  <a:lnTo>
                    <a:pt x="2387" y="2540"/>
                  </a:lnTo>
                  <a:lnTo>
                    <a:pt x="2392" y="2541"/>
                  </a:lnTo>
                  <a:lnTo>
                    <a:pt x="2395" y="2542"/>
                  </a:lnTo>
                  <a:lnTo>
                    <a:pt x="2396" y="2542"/>
                  </a:lnTo>
                  <a:lnTo>
                    <a:pt x="2397" y="2542"/>
                  </a:lnTo>
                  <a:lnTo>
                    <a:pt x="2428" y="2561"/>
                  </a:lnTo>
                  <a:lnTo>
                    <a:pt x="2460" y="2578"/>
                  </a:lnTo>
                  <a:lnTo>
                    <a:pt x="2492" y="2591"/>
                  </a:lnTo>
                  <a:lnTo>
                    <a:pt x="2526" y="2604"/>
                  </a:lnTo>
                  <a:lnTo>
                    <a:pt x="2559" y="2614"/>
                  </a:lnTo>
                  <a:lnTo>
                    <a:pt x="2594" y="2622"/>
                  </a:lnTo>
                  <a:lnTo>
                    <a:pt x="2628" y="2627"/>
                  </a:lnTo>
                  <a:lnTo>
                    <a:pt x="2663" y="2633"/>
                  </a:lnTo>
                  <a:lnTo>
                    <a:pt x="2699" y="2636"/>
                  </a:lnTo>
                  <a:lnTo>
                    <a:pt x="2734" y="2639"/>
                  </a:lnTo>
                  <a:lnTo>
                    <a:pt x="2806" y="2643"/>
                  </a:lnTo>
                  <a:lnTo>
                    <a:pt x="2877" y="2645"/>
                  </a:lnTo>
                  <a:lnTo>
                    <a:pt x="2948" y="2647"/>
                  </a:lnTo>
                  <a:lnTo>
                    <a:pt x="2992" y="2656"/>
                  </a:lnTo>
                  <a:lnTo>
                    <a:pt x="3037" y="2665"/>
                  </a:lnTo>
                  <a:lnTo>
                    <a:pt x="3059" y="2670"/>
                  </a:lnTo>
                  <a:lnTo>
                    <a:pt x="3081" y="2673"/>
                  </a:lnTo>
                  <a:lnTo>
                    <a:pt x="3104" y="2675"/>
                  </a:lnTo>
                  <a:lnTo>
                    <a:pt x="3126" y="2676"/>
                  </a:lnTo>
                  <a:lnTo>
                    <a:pt x="3644" y="0"/>
                  </a:lnTo>
                  <a:lnTo>
                    <a:pt x="0" y="0"/>
                  </a:lnTo>
                  <a:lnTo>
                    <a:pt x="0" y="169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77720" y="1332000"/>
              <a:ext cx="2892600" cy="2052720"/>
            </a:xfrm>
            <a:custGeom>
              <a:avLst/>
              <a:gdLst/>
              <a:ahLst/>
              <a:rect l="l" t="t" r="r" b="b"/>
              <a:pathLst>
                <a:path w="3644" h="2676">
                  <a:moveTo>
                    <a:pt x="0" y="1694"/>
                  </a:moveTo>
                  <a:lnTo>
                    <a:pt x="11" y="1689"/>
                  </a:lnTo>
                  <a:lnTo>
                    <a:pt x="23" y="1684"/>
                  </a:lnTo>
                  <a:lnTo>
                    <a:pt x="34" y="1679"/>
                  </a:lnTo>
                  <a:lnTo>
                    <a:pt x="39" y="1678"/>
                  </a:lnTo>
                  <a:lnTo>
                    <a:pt x="45" y="1679"/>
                  </a:lnTo>
                  <a:lnTo>
                    <a:pt x="57" y="1684"/>
                  </a:lnTo>
                  <a:lnTo>
                    <a:pt x="68" y="1690"/>
                  </a:lnTo>
                  <a:lnTo>
                    <a:pt x="91" y="1706"/>
                  </a:lnTo>
                  <a:lnTo>
                    <a:pt x="112" y="1723"/>
                  </a:lnTo>
                  <a:lnTo>
                    <a:pt x="134" y="1738"/>
                  </a:lnTo>
                  <a:lnTo>
                    <a:pt x="144" y="1744"/>
                  </a:lnTo>
                  <a:lnTo>
                    <a:pt x="154" y="1749"/>
                  </a:lnTo>
                  <a:lnTo>
                    <a:pt x="178" y="1756"/>
                  </a:lnTo>
                  <a:lnTo>
                    <a:pt x="200" y="1762"/>
                  </a:lnTo>
                  <a:lnTo>
                    <a:pt x="224" y="1768"/>
                  </a:lnTo>
                  <a:lnTo>
                    <a:pt x="298" y="1791"/>
                  </a:lnTo>
                  <a:lnTo>
                    <a:pt x="374" y="1810"/>
                  </a:lnTo>
                  <a:lnTo>
                    <a:pt x="450" y="1827"/>
                  </a:lnTo>
                  <a:lnTo>
                    <a:pt x="527" y="1842"/>
                  </a:lnTo>
                  <a:lnTo>
                    <a:pt x="681" y="1870"/>
                  </a:lnTo>
                  <a:lnTo>
                    <a:pt x="758" y="1886"/>
                  </a:lnTo>
                  <a:lnTo>
                    <a:pt x="834" y="1902"/>
                  </a:lnTo>
                  <a:lnTo>
                    <a:pt x="851" y="1915"/>
                  </a:lnTo>
                  <a:lnTo>
                    <a:pt x="867" y="1927"/>
                  </a:lnTo>
                  <a:lnTo>
                    <a:pt x="899" y="1953"/>
                  </a:lnTo>
                  <a:lnTo>
                    <a:pt x="915" y="1964"/>
                  </a:lnTo>
                  <a:lnTo>
                    <a:pt x="932" y="1975"/>
                  </a:lnTo>
                  <a:lnTo>
                    <a:pt x="949" y="1984"/>
                  </a:lnTo>
                  <a:lnTo>
                    <a:pt x="968" y="1992"/>
                  </a:lnTo>
                  <a:lnTo>
                    <a:pt x="1024" y="2007"/>
                  </a:lnTo>
                  <a:lnTo>
                    <a:pt x="1080" y="2022"/>
                  </a:lnTo>
                  <a:lnTo>
                    <a:pt x="1136" y="2035"/>
                  </a:lnTo>
                  <a:lnTo>
                    <a:pt x="1191" y="2051"/>
                  </a:lnTo>
                  <a:lnTo>
                    <a:pt x="1195" y="2053"/>
                  </a:lnTo>
                  <a:lnTo>
                    <a:pt x="1201" y="2058"/>
                  </a:lnTo>
                  <a:lnTo>
                    <a:pt x="1209" y="2064"/>
                  </a:lnTo>
                  <a:lnTo>
                    <a:pt x="1220" y="2071"/>
                  </a:lnTo>
                  <a:lnTo>
                    <a:pt x="1232" y="2080"/>
                  </a:lnTo>
                  <a:lnTo>
                    <a:pt x="1246" y="2090"/>
                  </a:lnTo>
                  <a:lnTo>
                    <a:pt x="1275" y="2111"/>
                  </a:lnTo>
                  <a:lnTo>
                    <a:pt x="1305" y="2131"/>
                  </a:lnTo>
                  <a:lnTo>
                    <a:pt x="1320" y="2141"/>
                  </a:lnTo>
                  <a:lnTo>
                    <a:pt x="1333" y="2150"/>
                  </a:lnTo>
                  <a:lnTo>
                    <a:pt x="1344" y="2157"/>
                  </a:lnTo>
                  <a:lnTo>
                    <a:pt x="1356" y="2164"/>
                  </a:lnTo>
                  <a:lnTo>
                    <a:pt x="1364" y="2168"/>
                  </a:lnTo>
                  <a:lnTo>
                    <a:pt x="1370" y="2170"/>
                  </a:lnTo>
                  <a:lnTo>
                    <a:pt x="1549" y="2214"/>
                  </a:lnTo>
                  <a:lnTo>
                    <a:pt x="1638" y="2236"/>
                  </a:lnTo>
                  <a:lnTo>
                    <a:pt x="1727" y="2260"/>
                  </a:lnTo>
                  <a:lnTo>
                    <a:pt x="1744" y="2264"/>
                  </a:lnTo>
                  <a:lnTo>
                    <a:pt x="1762" y="2268"/>
                  </a:lnTo>
                  <a:lnTo>
                    <a:pt x="1781" y="2272"/>
                  </a:lnTo>
                  <a:lnTo>
                    <a:pt x="1802" y="2277"/>
                  </a:lnTo>
                  <a:lnTo>
                    <a:pt x="1843" y="2283"/>
                  </a:lnTo>
                  <a:lnTo>
                    <a:pt x="1885" y="2291"/>
                  </a:lnTo>
                  <a:lnTo>
                    <a:pt x="1904" y="2293"/>
                  </a:lnTo>
                  <a:lnTo>
                    <a:pt x="1922" y="2297"/>
                  </a:lnTo>
                  <a:lnTo>
                    <a:pt x="1938" y="2299"/>
                  </a:lnTo>
                  <a:lnTo>
                    <a:pt x="1952" y="2301"/>
                  </a:lnTo>
                  <a:lnTo>
                    <a:pt x="1964" y="2302"/>
                  </a:lnTo>
                  <a:lnTo>
                    <a:pt x="1972" y="2303"/>
                  </a:lnTo>
                  <a:lnTo>
                    <a:pt x="1977" y="2304"/>
                  </a:lnTo>
                  <a:lnTo>
                    <a:pt x="1980" y="2304"/>
                  </a:lnTo>
                  <a:lnTo>
                    <a:pt x="1993" y="2309"/>
                  </a:lnTo>
                  <a:lnTo>
                    <a:pt x="2004" y="2314"/>
                  </a:lnTo>
                  <a:lnTo>
                    <a:pt x="2014" y="2320"/>
                  </a:lnTo>
                  <a:lnTo>
                    <a:pt x="2022" y="2325"/>
                  </a:lnTo>
                  <a:lnTo>
                    <a:pt x="2028" y="2330"/>
                  </a:lnTo>
                  <a:lnTo>
                    <a:pt x="2033" y="2336"/>
                  </a:lnTo>
                  <a:lnTo>
                    <a:pt x="2043" y="2347"/>
                  </a:lnTo>
                  <a:lnTo>
                    <a:pt x="2051" y="2358"/>
                  </a:lnTo>
                  <a:lnTo>
                    <a:pt x="2062" y="2370"/>
                  </a:lnTo>
                  <a:lnTo>
                    <a:pt x="2069" y="2376"/>
                  </a:lnTo>
                  <a:lnTo>
                    <a:pt x="2078" y="2381"/>
                  </a:lnTo>
                  <a:lnTo>
                    <a:pt x="2087" y="2388"/>
                  </a:lnTo>
                  <a:lnTo>
                    <a:pt x="2099" y="2394"/>
                  </a:lnTo>
                  <a:lnTo>
                    <a:pt x="2121" y="2403"/>
                  </a:lnTo>
                  <a:lnTo>
                    <a:pt x="2144" y="2411"/>
                  </a:lnTo>
                  <a:lnTo>
                    <a:pt x="2166" y="2417"/>
                  </a:lnTo>
                  <a:lnTo>
                    <a:pt x="2188" y="2424"/>
                  </a:lnTo>
                  <a:lnTo>
                    <a:pt x="2194" y="2426"/>
                  </a:lnTo>
                  <a:lnTo>
                    <a:pt x="2202" y="2428"/>
                  </a:lnTo>
                  <a:lnTo>
                    <a:pt x="2216" y="2433"/>
                  </a:lnTo>
                  <a:lnTo>
                    <a:pt x="2223" y="2435"/>
                  </a:lnTo>
                  <a:lnTo>
                    <a:pt x="2229" y="2437"/>
                  </a:lnTo>
                  <a:lnTo>
                    <a:pt x="2232" y="2438"/>
                  </a:lnTo>
                  <a:lnTo>
                    <a:pt x="2233" y="2438"/>
                  </a:lnTo>
                  <a:lnTo>
                    <a:pt x="2244" y="2446"/>
                  </a:lnTo>
                  <a:lnTo>
                    <a:pt x="2256" y="2453"/>
                  </a:lnTo>
                  <a:lnTo>
                    <a:pt x="2268" y="2460"/>
                  </a:lnTo>
                  <a:lnTo>
                    <a:pt x="2278" y="2469"/>
                  </a:lnTo>
                  <a:lnTo>
                    <a:pt x="2285" y="2480"/>
                  </a:lnTo>
                  <a:lnTo>
                    <a:pt x="2291" y="2492"/>
                  </a:lnTo>
                  <a:lnTo>
                    <a:pt x="2298" y="2504"/>
                  </a:lnTo>
                  <a:lnTo>
                    <a:pt x="2302" y="2509"/>
                  </a:lnTo>
                  <a:lnTo>
                    <a:pt x="2308" y="2513"/>
                  </a:lnTo>
                  <a:lnTo>
                    <a:pt x="2319" y="2519"/>
                  </a:lnTo>
                  <a:lnTo>
                    <a:pt x="2334" y="2524"/>
                  </a:lnTo>
                  <a:lnTo>
                    <a:pt x="2348" y="2530"/>
                  </a:lnTo>
                  <a:lnTo>
                    <a:pt x="2363" y="2534"/>
                  </a:lnTo>
                  <a:lnTo>
                    <a:pt x="2376" y="2538"/>
                  </a:lnTo>
                  <a:lnTo>
                    <a:pt x="2387" y="2540"/>
                  </a:lnTo>
                  <a:lnTo>
                    <a:pt x="2392" y="2541"/>
                  </a:lnTo>
                  <a:lnTo>
                    <a:pt x="2395" y="2542"/>
                  </a:lnTo>
                  <a:lnTo>
                    <a:pt x="2396" y="2542"/>
                  </a:lnTo>
                  <a:lnTo>
                    <a:pt x="2397" y="2542"/>
                  </a:lnTo>
                  <a:lnTo>
                    <a:pt x="2428" y="2561"/>
                  </a:lnTo>
                  <a:lnTo>
                    <a:pt x="2460" y="2578"/>
                  </a:lnTo>
                  <a:lnTo>
                    <a:pt x="2492" y="2591"/>
                  </a:lnTo>
                  <a:lnTo>
                    <a:pt x="2526" y="2604"/>
                  </a:lnTo>
                  <a:lnTo>
                    <a:pt x="2559" y="2614"/>
                  </a:lnTo>
                  <a:lnTo>
                    <a:pt x="2594" y="2622"/>
                  </a:lnTo>
                  <a:lnTo>
                    <a:pt x="2628" y="2627"/>
                  </a:lnTo>
                  <a:lnTo>
                    <a:pt x="2663" y="2633"/>
                  </a:lnTo>
                  <a:lnTo>
                    <a:pt x="2699" y="2636"/>
                  </a:lnTo>
                  <a:lnTo>
                    <a:pt x="2734" y="2639"/>
                  </a:lnTo>
                  <a:lnTo>
                    <a:pt x="2806" y="2643"/>
                  </a:lnTo>
                  <a:lnTo>
                    <a:pt x="2877" y="2645"/>
                  </a:lnTo>
                  <a:lnTo>
                    <a:pt x="2948" y="2647"/>
                  </a:lnTo>
                  <a:lnTo>
                    <a:pt x="2992" y="2656"/>
                  </a:lnTo>
                  <a:lnTo>
                    <a:pt x="3037" y="2665"/>
                  </a:lnTo>
                  <a:lnTo>
                    <a:pt x="3059" y="2670"/>
                  </a:lnTo>
                  <a:lnTo>
                    <a:pt x="3081" y="2673"/>
                  </a:lnTo>
                  <a:lnTo>
                    <a:pt x="3104" y="2675"/>
                  </a:lnTo>
                  <a:lnTo>
                    <a:pt x="3126" y="2676"/>
                  </a:lnTo>
                  <a:lnTo>
                    <a:pt x="3644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H="1">
            <a:off x="461520" y="1978200"/>
            <a:ext cx="2806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0400" y="1305000"/>
            <a:ext cx="1702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557360"/>
            <a:ext cx="211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ível d’água (N.A.) máximo : 392,50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31800" y="1943280"/>
            <a:ext cx="1830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3280" y="1974960"/>
            <a:ext cx="20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ível d’água (N.A.) mínimo : 380,50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311640" y="1517760"/>
            <a:ext cx="723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64560" y="1549440"/>
            <a:ext cx="55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Barra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32280" y="2131920"/>
            <a:ext cx="1773000" cy="1820880"/>
          </a:xfrm>
          <a:custGeom>
            <a:avLst/>
            <a:gdLst/>
            <a:ahLst/>
            <a:rect l="l" t="t" r="r" b="b"/>
            <a:pathLst>
              <a:path w="2233" h="2292">
                <a:moveTo>
                  <a:pt x="118" y="18"/>
                </a:moveTo>
                <a:lnTo>
                  <a:pt x="139" y="30"/>
                </a:lnTo>
                <a:lnTo>
                  <a:pt x="162" y="42"/>
                </a:lnTo>
                <a:lnTo>
                  <a:pt x="186" y="57"/>
                </a:lnTo>
                <a:lnTo>
                  <a:pt x="213" y="72"/>
                </a:lnTo>
                <a:lnTo>
                  <a:pt x="241" y="89"/>
                </a:lnTo>
                <a:lnTo>
                  <a:pt x="271" y="109"/>
                </a:lnTo>
                <a:lnTo>
                  <a:pt x="302" y="132"/>
                </a:lnTo>
                <a:lnTo>
                  <a:pt x="336" y="156"/>
                </a:lnTo>
                <a:lnTo>
                  <a:pt x="369" y="184"/>
                </a:lnTo>
                <a:lnTo>
                  <a:pt x="404" y="215"/>
                </a:lnTo>
                <a:lnTo>
                  <a:pt x="441" y="251"/>
                </a:lnTo>
                <a:lnTo>
                  <a:pt x="478" y="290"/>
                </a:lnTo>
                <a:lnTo>
                  <a:pt x="496" y="311"/>
                </a:lnTo>
                <a:lnTo>
                  <a:pt x="515" y="334"/>
                </a:lnTo>
                <a:lnTo>
                  <a:pt x="534" y="357"/>
                </a:lnTo>
                <a:lnTo>
                  <a:pt x="552" y="382"/>
                </a:lnTo>
                <a:lnTo>
                  <a:pt x="573" y="407"/>
                </a:lnTo>
                <a:lnTo>
                  <a:pt x="592" y="435"/>
                </a:lnTo>
                <a:lnTo>
                  <a:pt x="612" y="463"/>
                </a:lnTo>
                <a:lnTo>
                  <a:pt x="631" y="493"/>
                </a:lnTo>
                <a:lnTo>
                  <a:pt x="651" y="526"/>
                </a:lnTo>
                <a:lnTo>
                  <a:pt x="671" y="560"/>
                </a:lnTo>
                <a:lnTo>
                  <a:pt x="691" y="598"/>
                </a:lnTo>
                <a:lnTo>
                  <a:pt x="712" y="638"/>
                </a:lnTo>
                <a:lnTo>
                  <a:pt x="733" y="681"/>
                </a:lnTo>
                <a:lnTo>
                  <a:pt x="755" y="727"/>
                </a:lnTo>
                <a:lnTo>
                  <a:pt x="776" y="774"/>
                </a:lnTo>
                <a:lnTo>
                  <a:pt x="798" y="822"/>
                </a:lnTo>
                <a:lnTo>
                  <a:pt x="820" y="872"/>
                </a:lnTo>
                <a:lnTo>
                  <a:pt x="843" y="923"/>
                </a:lnTo>
                <a:lnTo>
                  <a:pt x="866" y="976"/>
                </a:lnTo>
                <a:lnTo>
                  <a:pt x="889" y="1029"/>
                </a:lnTo>
                <a:lnTo>
                  <a:pt x="935" y="1139"/>
                </a:lnTo>
                <a:lnTo>
                  <a:pt x="982" y="1249"/>
                </a:lnTo>
                <a:lnTo>
                  <a:pt x="1030" y="1359"/>
                </a:lnTo>
                <a:lnTo>
                  <a:pt x="1078" y="1466"/>
                </a:lnTo>
                <a:lnTo>
                  <a:pt x="1103" y="1518"/>
                </a:lnTo>
                <a:lnTo>
                  <a:pt x="1127" y="1570"/>
                </a:lnTo>
                <a:lnTo>
                  <a:pt x="1151" y="1620"/>
                </a:lnTo>
                <a:lnTo>
                  <a:pt x="1175" y="1668"/>
                </a:lnTo>
                <a:lnTo>
                  <a:pt x="1200" y="1714"/>
                </a:lnTo>
                <a:lnTo>
                  <a:pt x="1225" y="1758"/>
                </a:lnTo>
                <a:lnTo>
                  <a:pt x="1249" y="1801"/>
                </a:lnTo>
                <a:lnTo>
                  <a:pt x="1274" y="1841"/>
                </a:lnTo>
                <a:lnTo>
                  <a:pt x="1297" y="1878"/>
                </a:lnTo>
                <a:lnTo>
                  <a:pt x="1322" y="1913"/>
                </a:lnTo>
                <a:lnTo>
                  <a:pt x="1346" y="1944"/>
                </a:lnTo>
                <a:lnTo>
                  <a:pt x="1370" y="1972"/>
                </a:lnTo>
                <a:lnTo>
                  <a:pt x="1394" y="1997"/>
                </a:lnTo>
                <a:lnTo>
                  <a:pt x="1420" y="2020"/>
                </a:lnTo>
                <a:lnTo>
                  <a:pt x="1446" y="2041"/>
                </a:lnTo>
                <a:lnTo>
                  <a:pt x="1472" y="2060"/>
                </a:lnTo>
                <a:lnTo>
                  <a:pt x="1500" y="2077"/>
                </a:lnTo>
                <a:lnTo>
                  <a:pt x="1528" y="2091"/>
                </a:lnTo>
                <a:lnTo>
                  <a:pt x="1556" y="2105"/>
                </a:lnTo>
                <a:lnTo>
                  <a:pt x="1585" y="2116"/>
                </a:lnTo>
                <a:lnTo>
                  <a:pt x="1614" y="2126"/>
                </a:lnTo>
                <a:lnTo>
                  <a:pt x="1643" y="2135"/>
                </a:lnTo>
                <a:lnTo>
                  <a:pt x="1672" y="2143"/>
                </a:lnTo>
                <a:lnTo>
                  <a:pt x="1702" y="2148"/>
                </a:lnTo>
                <a:lnTo>
                  <a:pt x="1760" y="2157"/>
                </a:lnTo>
                <a:lnTo>
                  <a:pt x="1818" y="2163"/>
                </a:lnTo>
                <a:lnTo>
                  <a:pt x="1874" y="2166"/>
                </a:lnTo>
                <a:lnTo>
                  <a:pt x="1928" y="2167"/>
                </a:lnTo>
                <a:lnTo>
                  <a:pt x="1979" y="2167"/>
                </a:lnTo>
                <a:lnTo>
                  <a:pt x="2026" y="2167"/>
                </a:lnTo>
                <a:lnTo>
                  <a:pt x="2048" y="2167"/>
                </a:lnTo>
                <a:lnTo>
                  <a:pt x="2070" y="2168"/>
                </a:lnTo>
                <a:lnTo>
                  <a:pt x="2089" y="2169"/>
                </a:lnTo>
                <a:lnTo>
                  <a:pt x="2108" y="2170"/>
                </a:lnTo>
                <a:lnTo>
                  <a:pt x="2124" y="2173"/>
                </a:lnTo>
                <a:lnTo>
                  <a:pt x="2140" y="2175"/>
                </a:lnTo>
                <a:lnTo>
                  <a:pt x="2154" y="2178"/>
                </a:lnTo>
                <a:lnTo>
                  <a:pt x="2167" y="2183"/>
                </a:lnTo>
                <a:lnTo>
                  <a:pt x="2188" y="2193"/>
                </a:lnTo>
                <a:lnTo>
                  <a:pt x="2205" y="2203"/>
                </a:lnTo>
                <a:lnTo>
                  <a:pt x="2217" y="2212"/>
                </a:lnTo>
                <a:lnTo>
                  <a:pt x="2226" y="2222"/>
                </a:lnTo>
                <a:lnTo>
                  <a:pt x="2230" y="2231"/>
                </a:lnTo>
                <a:lnTo>
                  <a:pt x="2233" y="2239"/>
                </a:lnTo>
                <a:lnTo>
                  <a:pt x="2232" y="2248"/>
                </a:lnTo>
                <a:lnTo>
                  <a:pt x="2227" y="2255"/>
                </a:lnTo>
                <a:lnTo>
                  <a:pt x="2220" y="2262"/>
                </a:lnTo>
                <a:lnTo>
                  <a:pt x="2210" y="2269"/>
                </a:lnTo>
                <a:lnTo>
                  <a:pt x="2198" y="2274"/>
                </a:lnTo>
                <a:lnTo>
                  <a:pt x="2185" y="2279"/>
                </a:lnTo>
                <a:lnTo>
                  <a:pt x="2168" y="2282"/>
                </a:lnTo>
                <a:lnTo>
                  <a:pt x="2150" y="2285"/>
                </a:lnTo>
                <a:lnTo>
                  <a:pt x="2131" y="2287"/>
                </a:lnTo>
                <a:lnTo>
                  <a:pt x="2110" y="2288"/>
                </a:lnTo>
                <a:lnTo>
                  <a:pt x="2099" y="2288"/>
                </a:lnTo>
                <a:lnTo>
                  <a:pt x="2086" y="2288"/>
                </a:lnTo>
                <a:lnTo>
                  <a:pt x="2058" y="2289"/>
                </a:lnTo>
                <a:lnTo>
                  <a:pt x="2027" y="2290"/>
                </a:lnTo>
                <a:lnTo>
                  <a:pt x="1993" y="2291"/>
                </a:lnTo>
                <a:lnTo>
                  <a:pt x="1955" y="2292"/>
                </a:lnTo>
                <a:lnTo>
                  <a:pt x="1914" y="2292"/>
                </a:lnTo>
                <a:lnTo>
                  <a:pt x="1872" y="2290"/>
                </a:lnTo>
                <a:lnTo>
                  <a:pt x="1829" y="2288"/>
                </a:lnTo>
                <a:lnTo>
                  <a:pt x="1785" y="2284"/>
                </a:lnTo>
                <a:lnTo>
                  <a:pt x="1739" y="2278"/>
                </a:lnTo>
                <a:lnTo>
                  <a:pt x="1695" y="2270"/>
                </a:lnTo>
                <a:lnTo>
                  <a:pt x="1650" y="2259"/>
                </a:lnTo>
                <a:lnTo>
                  <a:pt x="1606" y="2244"/>
                </a:lnTo>
                <a:lnTo>
                  <a:pt x="1563" y="2227"/>
                </a:lnTo>
                <a:lnTo>
                  <a:pt x="1523" y="2207"/>
                </a:lnTo>
                <a:lnTo>
                  <a:pt x="1484" y="2183"/>
                </a:lnTo>
                <a:lnTo>
                  <a:pt x="1465" y="2169"/>
                </a:lnTo>
                <a:lnTo>
                  <a:pt x="1447" y="2154"/>
                </a:lnTo>
                <a:lnTo>
                  <a:pt x="1409" y="2121"/>
                </a:lnTo>
                <a:lnTo>
                  <a:pt x="1371" y="2084"/>
                </a:lnTo>
                <a:lnTo>
                  <a:pt x="1334" y="2045"/>
                </a:lnTo>
                <a:lnTo>
                  <a:pt x="1296" y="2002"/>
                </a:lnTo>
                <a:lnTo>
                  <a:pt x="1259" y="1956"/>
                </a:lnTo>
                <a:lnTo>
                  <a:pt x="1222" y="1909"/>
                </a:lnTo>
                <a:lnTo>
                  <a:pt x="1185" y="1859"/>
                </a:lnTo>
                <a:lnTo>
                  <a:pt x="1149" y="1809"/>
                </a:lnTo>
                <a:lnTo>
                  <a:pt x="1113" y="1756"/>
                </a:lnTo>
                <a:lnTo>
                  <a:pt x="1044" y="1650"/>
                </a:lnTo>
                <a:lnTo>
                  <a:pt x="978" y="1545"/>
                </a:lnTo>
                <a:lnTo>
                  <a:pt x="947" y="1494"/>
                </a:lnTo>
                <a:lnTo>
                  <a:pt x="915" y="1444"/>
                </a:lnTo>
                <a:lnTo>
                  <a:pt x="886" y="1392"/>
                </a:lnTo>
                <a:lnTo>
                  <a:pt x="857" y="1339"/>
                </a:lnTo>
                <a:lnTo>
                  <a:pt x="830" y="1283"/>
                </a:lnTo>
                <a:lnTo>
                  <a:pt x="805" y="1226"/>
                </a:lnTo>
                <a:lnTo>
                  <a:pt x="756" y="1109"/>
                </a:lnTo>
                <a:lnTo>
                  <a:pt x="709" y="991"/>
                </a:lnTo>
                <a:lnTo>
                  <a:pt x="685" y="933"/>
                </a:lnTo>
                <a:lnTo>
                  <a:pt x="663" y="877"/>
                </a:lnTo>
                <a:lnTo>
                  <a:pt x="640" y="823"/>
                </a:lnTo>
                <a:lnTo>
                  <a:pt x="616" y="771"/>
                </a:lnTo>
                <a:lnTo>
                  <a:pt x="593" y="722"/>
                </a:lnTo>
                <a:lnTo>
                  <a:pt x="568" y="676"/>
                </a:lnTo>
                <a:lnTo>
                  <a:pt x="542" y="635"/>
                </a:lnTo>
                <a:lnTo>
                  <a:pt x="530" y="616"/>
                </a:lnTo>
                <a:lnTo>
                  <a:pt x="517" y="598"/>
                </a:lnTo>
                <a:lnTo>
                  <a:pt x="489" y="566"/>
                </a:lnTo>
                <a:lnTo>
                  <a:pt x="460" y="537"/>
                </a:lnTo>
                <a:lnTo>
                  <a:pt x="430" y="512"/>
                </a:lnTo>
                <a:lnTo>
                  <a:pt x="398" y="491"/>
                </a:lnTo>
                <a:lnTo>
                  <a:pt x="366" y="471"/>
                </a:lnTo>
                <a:lnTo>
                  <a:pt x="333" y="455"/>
                </a:lnTo>
                <a:lnTo>
                  <a:pt x="300" y="440"/>
                </a:lnTo>
                <a:lnTo>
                  <a:pt x="268" y="427"/>
                </a:lnTo>
                <a:lnTo>
                  <a:pt x="237" y="415"/>
                </a:lnTo>
                <a:lnTo>
                  <a:pt x="205" y="404"/>
                </a:lnTo>
                <a:lnTo>
                  <a:pt x="176" y="394"/>
                </a:lnTo>
                <a:lnTo>
                  <a:pt x="148" y="384"/>
                </a:lnTo>
                <a:lnTo>
                  <a:pt x="123" y="373"/>
                </a:lnTo>
                <a:lnTo>
                  <a:pt x="99" y="362"/>
                </a:lnTo>
                <a:lnTo>
                  <a:pt x="79" y="349"/>
                </a:lnTo>
                <a:lnTo>
                  <a:pt x="61" y="335"/>
                </a:lnTo>
                <a:lnTo>
                  <a:pt x="47" y="320"/>
                </a:lnTo>
                <a:lnTo>
                  <a:pt x="34" y="305"/>
                </a:lnTo>
                <a:lnTo>
                  <a:pt x="24" y="290"/>
                </a:lnTo>
                <a:lnTo>
                  <a:pt x="17" y="276"/>
                </a:lnTo>
                <a:lnTo>
                  <a:pt x="11" y="261"/>
                </a:lnTo>
                <a:lnTo>
                  <a:pt x="5" y="247"/>
                </a:lnTo>
                <a:lnTo>
                  <a:pt x="3" y="233"/>
                </a:lnTo>
                <a:lnTo>
                  <a:pt x="1" y="220"/>
                </a:lnTo>
                <a:lnTo>
                  <a:pt x="0" y="193"/>
                </a:lnTo>
                <a:lnTo>
                  <a:pt x="1" y="167"/>
                </a:lnTo>
                <a:lnTo>
                  <a:pt x="3" y="145"/>
                </a:lnTo>
                <a:lnTo>
                  <a:pt x="4" y="124"/>
                </a:lnTo>
                <a:lnTo>
                  <a:pt x="4" y="113"/>
                </a:lnTo>
                <a:lnTo>
                  <a:pt x="5" y="101"/>
                </a:lnTo>
                <a:lnTo>
                  <a:pt x="8" y="76"/>
                </a:lnTo>
                <a:lnTo>
                  <a:pt x="13" y="50"/>
                </a:lnTo>
                <a:lnTo>
                  <a:pt x="17" y="39"/>
                </a:lnTo>
                <a:lnTo>
                  <a:pt x="22" y="28"/>
                </a:lnTo>
                <a:lnTo>
                  <a:pt x="29" y="18"/>
                </a:lnTo>
                <a:lnTo>
                  <a:pt x="37" y="10"/>
                </a:lnTo>
                <a:lnTo>
                  <a:pt x="46" y="4"/>
                </a:lnTo>
                <a:lnTo>
                  <a:pt x="57" y="1"/>
                </a:lnTo>
                <a:lnTo>
                  <a:pt x="69" y="0"/>
                </a:lnTo>
                <a:lnTo>
                  <a:pt x="84" y="2"/>
                </a:lnTo>
                <a:lnTo>
                  <a:pt x="100" y="9"/>
                </a:lnTo>
                <a:lnTo>
                  <a:pt x="118" y="18"/>
                </a:lnTo>
                <a:close/>
              </a:path>
            </a:pathLst>
          </a:custGeom>
          <a:solidFill>
            <a:srgbClr val="66ffff"/>
          </a:solidFill>
          <a:ln w="46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73520" y="3637080"/>
            <a:ext cx="425520" cy="384120"/>
          </a:xfrm>
          <a:prstGeom prst="rect">
            <a:avLst/>
          </a:prstGeom>
          <a:solidFill>
            <a:srgbClr val="00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784760" y="3848040"/>
            <a:ext cx="789120" cy="379440"/>
            <a:chOff x="4784760" y="3848040"/>
            <a:chExt cx="789120" cy="379440"/>
          </a:xfrm>
        </p:grpSpPr>
        <p:sp>
          <p:nvSpPr>
            <p:cNvPr id="423" name=""/>
            <p:cNvSpPr/>
            <p:nvPr/>
          </p:nvSpPr>
          <p:spPr>
            <a:xfrm>
              <a:off x="4784760" y="3848040"/>
              <a:ext cx="789120" cy="379440"/>
            </a:xfrm>
            <a:custGeom>
              <a:avLst/>
              <a:gdLst/>
              <a:ahLst/>
              <a:rect l="l" t="t" r="r" b="b"/>
              <a:pathLst>
                <a:path w="994" h="476">
                  <a:moveTo>
                    <a:pt x="0" y="215"/>
                  </a:moveTo>
                  <a:lnTo>
                    <a:pt x="6" y="225"/>
                  </a:lnTo>
                  <a:lnTo>
                    <a:pt x="14" y="233"/>
                  </a:lnTo>
                  <a:lnTo>
                    <a:pt x="26" y="240"/>
                  </a:lnTo>
                  <a:lnTo>
                    <a:pt x="38" y="244"/>
                  </a:lnTo>
                  <a:lnTo>
                    <a:pt x="64" y="252"/>
                  </a:lnTo>
                  <a:lnTo>
                    <a:pt x="76" y="256"/>
                  </a:lnTo>
                  <a:lnTo>
                    <a:pt x="87" y="262"/>
                  </a:lnTo>
                  <a:lnTo>
                    <a:pt x="91" y="268"/>
                  </a:lnTo>
                  <a:lnTo>
                    <a:pt x="98" y="273"/>
                  </a:lnTo>
                  <a:lnTo>
                    <a:pt x="106" y="279"/>
                  </a:lnTo>
                  <a:lnTo>
                    <a:pt x="115" y="282"/>
                  </a:lnTo>
                  <a:lnTo>
                    <a:pt x="135" y="290"/>
                  </a:lnTo>
                  <a:lnTo>
                    <a:pt x="156" y="295"/>
                  </a:lnTo>
                  <a:lnTo>
                    <a:pt x="180" y="299"/>
                  </a:lnTo>
                  <a:lnTo>
                    <a:pt x="201" y="302"/>
                  </a:lnTo>
                  <a:lnTo>
                    <a:pt x="221" y="304"/>
                  </a:lnTo>
                  <a:lnTo>
                    <a:pt x="230" y="304"/>
                  </a:lnTo>
                  <a:lnTo>
                    <a:pt x="238" y="305"/>
                  </a:lnTo>
                  <a:lnTo>
                    <a:pt x="296" y="314"/>
                  </a:lnTo>
                  <a:lnTo>
                    <a:pt x="355" y="322"/>
                  </a:lnTo>
                  <a:lnTo>
                    <a:pt x="413" y="329"/>
                  </a:lnTo>
                  <a:lnTo>
                    <a:pt x="472" y="332"/>
                  </a:lnTo>
                  <a:lnTo>
                    <a:pt x="492" y="338"/>
                  </a:lnTo>
                  <a:lnTo>
                    <a:pt x="513" y="345"/>
                  </a:lnTo>
                  <a:lnTo>
                    <a:pt x="554" y="358"/>
                  </a:lnTo>
                  <a:lnTo>
                    <a:pt x="595" y="371"/>
                  </a:lnTo>
                  <a:lnTo>
                    <a:pt x="615" y="378"/>
                  </a:lnTo>
                  <a:lnTo>
                    <a:pt x="636" y="383"/>
                  </a:lnTo>
                  <a:lnTo>
                    <a:pt x="666" y="389"/>
                  </a:lnTo>
                  <a:lnTo>
                    <a:pt x="697" y="396"/>
                  </a:lnTo>
                  <a:lnTo>
                    <a:pt x="722" y="405"/>
                  </a:lnTo>
                  <a:lnTo>
                    <a:pt x="749" y="414"/>
                  </a:lnTo>
                  <a:lnTo>
                    <a:pt x="775" y="423"/>
                  </a:lnTo>
                  <a:lnTo>
                    <a:pt x="800" y="429"/>
                  </a:lnTo>
                  <a:lnTo>
                    <a:pt x="829" y="436"/>
                  </a:lnTo>
                  <a:lnTo>
                    <a:pt x="860" y="444"/>
                  </a:lnTo>
                  <a:lnTo>
                    <a:pt x="918" y="460"/>
                  </a:lnTo>
                  <a:lnTo>
                    <a:pt x="924" y="462"/>
                  </a:lnTo>
                  <a:lnTo>
                    <a:pt x="928" y="463"/>
                  </a:lnTo>
                  <a:lnTo>
                    <a:pt x="931" y="463"/>
                  </a:lnTo>
                  <a:lnTo>
                    <a:pt x="933" y="464"/>
                  </a:lnTo>
                  <a:lnTo>
                    <a:pt x="935" y="464"/>
                  </a:lnTo>
                  <a:lnTo>
                    <a:pt x="939" y="465"/>
                  </a:lnTo>
                  <a:lnTo>
                    <a:pt x="943" y="467"/>
                  </a:lnTo>
                  <a:lnTo>
                    <a:pt x="951" y="470"/>
                  </a:lnTo>
                  <a:lnTo>
                    <a:pt x="957" y="472"/>
                  </a:lnTo>
                  <a:lnTo>
                    <a:pt x="963" y="474"/>
                  </a:lnTo>
                  <a:lnTo>
                    <a:pt x="969" y="475"/>
                  </a:lnTo>
                  <a:lnTo>
                    <a:pt x="971" y="476"/>
                  </a:lnTo>
                  <a:lnTo>
                    <a:pt x="971" y="476"/>
                  </a:lnTo>
                  <a:lnTo>
                    <a:pt x="976" y="476"/>
                  </a:lnTo>
                  <a:lnTo>
                    <a:pt x="981" y="476"/>
                  </a:lnTo>
                  <a:lnTo>
                    <a:pt x="986" y="475"/>
                  </a:lnTo>
                  <a:lnTo>
                    <a:pt x="988" y="473"/>
                  </a:lnTo>
                  <a:lnTo>
                    <a:pt x="991" y="462"/>
                  </a:lnTo>
                  <a:lnTo>
                    <a:pt x="992" y="450"/>
                  </a:lnTo>
                  <a:lnTo>
                    <a:pt x="994" y="435"/>
                  </a:lnTo>
                  <a:lnTo>
                    <a:pt x="994" y="419"/>
                  </a:lnTo>
                  <a:lnTo>
                    <a:pt x="992" y="404"/>
                  </a:lnTo>
                  <a:lnTo>
                    <a:pt x="990" y="390"/>
                  </a:lnTo>
                  <a:lnTo>
                    <a:pt x="988" y="377"/>
                  </a:lnTo>
                  <a:lnTo>
                    <a:pt x="985" y="366"/>
                  </a:lnTo>
                  <a:lnTo>
                    <a:pt x="980" y="324"/>
                  </a:lnTo>
                  <a:lnTo>
                    <a:pt x="977" y="283"/>
                  </a:lnTo>
                  <a:lnTo>
                    <a:pt x="977" y="242"/>
                  </a:lnTo>
                  <a:lnTo>
                    <a:pt x="977" y="201"/>
                  </a:lnTo>
                  <a:lnTo>
                    <a:pt x="979" y="159"/>
                  </a:lnTo>
                  <a:lnTo>
                    <a:pt x="981" y="117"/>
                  </a:lnTo>
                  <a:lnTo>
                    <a:pt x="988" y="34"/>
                  </a:lnTo>
                  <a:lnTo>
                    <a:pt x="988" y="25"/>
                  </a:lnTo>
                  <a:lnTo>
                    <a:pt x="990" y="16"/>
                  </a:lnTo>
                  <a:lnTo>
                    <a:pt x="989" y="7"/>
                  </a:lnTo>
                  <a:lnTo>
                    <a:pt x="988" y="5"/>
                  </a:lnTo>
                  <a:lnTo>
                    <a:pt x="985" y="4"/>
                  </a:lnTo>
                  <a:lnTo>
                    <a:pt x="912" y="1"/>
                  </a:lnTo>
                  <a:lnTo>
                    <a:pt x="838" y="0"/>
                  </a:lnTo>
                  <a:lnTo>
                    <a:pt x="765" y="1"/>
                  </a:lnTo>
                  <a:lnTo>
                    <a:pt x="690" y="3"/>
                  </a:lnTo>
                  <a:lnTo>
                    <a:pt x="540" y="8"/>
                  </a:lnTo>
                  <a:lnTo>
                    <a:pt x="465" y="10"/>
                  </a:lnTo>
                  <a:lnTo>
                    <a:pt x="392" y="11"/>
                  </a:lnTo>
                  <a:lnTo>
                    <a:pt x="395" y="215"/>
                  </a:lnTo>
                  <a:lnTo>
                    <a:pt x="2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84760" y="3848040"/>
              <a:ext cx="789120" cy="379440"/>
            </a:xfrm>
            <a:custGeom>
              <a:avLst/>
              <a:gdLst/>
              <a:ahLst/>
              <a:rect l="l" t="t" r="r" b="b"/>
              <a:pathLst>
                <a:path w="994" h="476">
                  <a:moveTo>
                    <a:pt x="0" y="215"/>
                  </a:moveTo>
                  <a:lnTo>
                    <a:pt x="6" y="225"/>
                  </a:lnTo>
                  <a:lnTo>
                    <a:pt x="14" y="233"/>
                  </a:lnTo>
                  <a:lnTo>
                    <a:pt x="26" y="240"/>
                  </a:lnTo>
                  <a:lnTo>
                    <a:pt x="38" y="244"/>
                  </a:lnTo>
                  <a:lnTo>
                    <a:pt x="64" y="252"/>
                  </a:lnTo>
                  <a:lnTo>
                    <a:pt x="76" y="256"/>
                  </a:lnTo>
                  <a:lnTo>
                    <a:pt x="87" y="262"/>
                  </a:lnTo>
                  <a:lnTo>
                    <a:pt x="91" y="268"/>
                  </a:lnTo>
                  <a:lnTo>
                    <a:pt x="98" y="273"/>
                  </a:lnTo>
                  <a:lnTo>
                    <a:pt x="106" y="279"/>
                  </a:lnTo>
                  <a:lnTo>
                    <a:pt x="115" y="282"/>
                  </a:lnTo>
                  <a:lnTo>
                    <a:pt x="135" y="290"/>
                  </a:lnTo>
                  <a:lnTo>
                    <a:pt x="156" y="295"/>
                  </a:lnTo>
                  <a:lnTo>
                    <a:pt x="180" y="299"/>
                  </a:lnTo>
                  <a:lnTo>
                    <a:pt x="201" y="302"/>
                  </a:lnTo>
                  <a:lnTo>
                    <a:pt x="221" y="304"/>
                  </a:lnTo>
                  <a:lnTo>
                    <a:pt x="230" y="304"/>
                  </a:lnTo>
                  <a:lnTo>
                    <a:pt x="238" y="305"/>
                  </a:lnTo>
                  <a:lnTo>
                    <a:pt x="296" y="314"/>
                  </a:lnTo>
                  <a:lnTo>
                    <a:pt x="355" y="322"/>
                  </a:lnTo>
                  <a:lnTo>
                    <a:pt x="413" y="329"/>
                  </a:lnTo>
                  <a:lnTo>
                    <a:pt x="472" y="332"/>
                  </a:lnTo>
                  <a:lnTo>
                    <a:pt x="492" y="338"/>
                  </a:lnTo>
                  <a:lnTo>
                    <a:pt x="513" y="345"/>
                  </a:lnTo>
                  <a:lnTo>
                    <a:pt x="554" y="358"/>
                  </a:lnTo>
                  <a:lnTo>
                    <a:pt x="595" y="371"/>
                  </a:lnTo>
                  <a:lnTo>
                    <a:pt x="615" y="378"/>
                  </a:lnTo>
                  <a:lnTo>
                    <a:pt x="636" y="383"/>
                  </a:lnTo>
                  <a:lnTo>
                    <a:pt x="666" y="389"/>
                  </a:lnTo>
                  <a:lnTo>
                    <a:pt x="697" y="396"/>
                  </a:lnTo>
                  <a:lnTo>
                    <a:pt x="722" y="405"/>
                  </a:lnTo>
                  <a:lnTo>
                    <a:pt x="749" y="414"/>
                  </a:lnTo>
                  <a:lnTo>
                    <a:pt x="775" y="423"/>
                  </a:lnTo>
                  <a:lnTo>
                    <a:pt x="800" y="429"/>
                  </a:lnTo>
                  <a:lnTo>
                    <a:pt x="829" y="436"/>
                  </a:lnTo>
                  <a:lnTo>
                    <a:pt x="860" y="444"/>
                  </a:lnTo>
                  <a:lnTo>
                    <a:pt x="918" y="460"/>
                  </a:lnTo>
                  <a:lnTo>
                    <a:pt x="924" y="462"/>
                  </a:lnTo>
                  <a:lnTo>
                    <a:pt x="928" y="463"/>
                  </a:lnTo>
                  <a:lnTo>
                    <a:pt x="931" y="463"/>
                  </a:lnTo>
                  <a:lnTo>
                    <a:pt x="933" y="464"/>
                  </a:lnTo>
                  <a:lnTo>
                    <a:pt x="935" y="464"/>
                  </a:lnTo>
                  <a:lnTo>
                    <a:pt x="939" y="465"/>
                  </a:lnTo>
                  <a:lnTo>
                    <a:pt x="943" y="467"/>
                  </a:lnTo>
                  <a:lnTo>
                    <a:pt x="951" y="470"/>
                  </a:lnTo>
                  <a:lnTo>
                    <a:pt x="957" y="472"/>
                  </a:lnTo>
                  <a:lnTo>
                    <a:pt x="963" y="474"/>
                  </a:lnTo>
                  <a:lnTo>
                    <a:pt x="969" y="475"/>
                  </a:lnTo>
                  <a:lnTo>
                    <a:pt x="971" y="476"/>
                  </a:lnTo>
                  <a:lnTo>
                    <a:pt x="971" y="476"/>
                  </a:lnTo>
                  <a:lnTo>
                    <a:pt x="976" y="476"/>
                  </a:lnTo>
                  <a:lnTo>
                    <a:pt x="981" y="476"/>
                  </a:lnTo>
                  <a:lnTo>
                    <a:pt x="986" y="475"/>
                  </a:lnTo>
                  <a:lnTo>
                    <a:pt x="988" y="473"/>
                  </a:lnTo>
                  <a:lnTo>
                    <a:pt x="991" y="462"/>
                  </a:lnTo>
                  <a:lnTo>
                    <a:pt x="992" y="450"/>
                  </a:lnTo>
                  <a:lnTo>
                    <a:pt x="994" y="435"/>
                  </a:lnTo>
                  <a:lnTo>
                    <a:pt x="994" y="419"/>
                  </a:lnTo>
                  <a:lnTo>
                    <a:pt x="992" y="404"/>
                  </a:lnTo>
                  <a:lnTo>
                    <a:pt x="990" y="390"/>
                  </a:lnTo>
                  <a:lnTo>
                    <a:pt x="988" y="377"/>
                  </a:lnTo>
                  <a:lnTo>
                    <a:pt x="985" y="366"/>
                  </a:lnTo>
                  <a:lnTo>
                    <a:pt x="980" y="324"/>
                  </a:lnTo>
                  <a:lnTo>
                    <a:pt x="977" y="283"/>
                  </a:lnTo>
                  <a:lnTo>
                    <a:pt x="977" y="242"/>
                  </a:lnTo>
                  <a:lnTo>
                    <a:pt x="977" y="201"/>
                  </a:lnTo>
                  <a:lnTo>
                    <a:pt x="979" y="159"/>
                  </a:lnTo>
                  <a:lnTo>
                    <a:pt x="981" y="117"/>
                  </a:lnTo>
                  <a:lnTo>
                    <a:pt x="988" y="34"/>
                  </a:lnTo>
                  <a:lnTo>
                    <a:pt x="988" y="25"/>
                  </a:lnTo>
                  <a:lnTo>
                    <a:pt x="990" y="16"/>
                  </a:lnTo>
                  <a:lnTo>
                    <a:pt x="989" y="7"/>
                  </a:lnTo>
                  <a:lnTo>
                    <a:pt x="988" y="5"/>
                  </a:lnTo>
                  <a:lnTo>
                    <a:pt x="985" y="4"/>
                  </a:lnTo>
                  <a:lnTo>
                    <a:pt x="912" y="1"/>
                  </a:lnTo>
                  <a:lnTo>
                    <a:pt x="838" y="0"/>
                  </a:lnTo>
                  <a:lnTo>
                    <a:pt x="765" y="1"/>
                  </a:lnTo>
                  <a:lnTo>
                    <a:pt x="690" y="3"/>
                  </a:lnTo>
                  <a:lnTo>
                    <a:pt x="540" y="8"/>
                  </a:lnTo>
                  <a:lnTo>
                    <a:pt x="465" y="10"/>
                  </a:lnTo>
                  <a:lnTo>
                    <a:pt x="392" y="11"/>
                  </a:lnTo>
                  <a:lnTo>
                    <a:pt x="395" y="215"/>
                  </a:lnTo>
                  <a:lnTo>
                    <a:pt x="20" y="2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2971800" y="3125880"/>
            <a:ext cx="766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67560" y="316224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istem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62880" y="315756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istem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50720" y="331632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du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44600" y="331164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du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56200" y="3832200"/>
            <a:ext cx="595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35760" y="386388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Canal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29360" y="400068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Fu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30680" y="3637080"/>
            <a:ext cx="5112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94760" y="3668760"/>
            <a:ext cx="38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Casa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42640" y="3805200"/>
            <a:ext cx="28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Forç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361040" y="2824200"/>
            <a:ext cx="1046160" cy="674640"/>
            <a:chOff x="4361040" y="2824200"/>
            <a:chExt cx="1046160" cy="674640"/>
          </a:xfrm>
        </p:grpSpPr>
        <p:sp>
          <p:nvSpPr>
            <p:cNvPr id="437" name=""/>
            <p:cNvSpPr/>
            <p:nvPr/>
          </p:nvSpPr>
          <p:spPr>
            <a:xfrm>
              <a:off x="4361040" y="2824200"/>
              <a:ext cx="1046160" cy="674640"/>
            </a:xfrm>
            <a:custGeom>
              <a:avLst/>
              <a:gdLst/>
              <a:ahLst/>
              <a:rect l="l" t="t" r="r" b="b"/>
              <a:pathLst>
                <a:path w="1319" h="849">
                  <a:moveTo>
                    <a:pt x="1122" y="430"/>
                  </a:moveTo>
                  <a:lnTo>
                    <a:pt x="1063" y="535"/>
                  </a:lnTo>
                  <a:lnTo>
                    <a:pt x="119" y="0"/>
                  </a:lnTo>
                  <a:lnTo>
                    <a:pt x="0" y="210"/>
                  </a:lnTo>
                  <a:lnTo>
                    <a:pt x="945" y="745"/>
                  </a:lnTo>
                  <a:lnTo>
                    <a:pt x="884" y="849"/>
                  </a:lnTo>
                  <a:lnTo>
                    <a:pt x="1319" y="817"/>
                  </a:lnTo>
                  <a:lnTo>
                    <a:pt x="1122" y="430"/>
                  </a:lnTo>
                  <a:close/>
                </a:path>
              </a:pathLst>
            </a:custGeom>
            <a:solidFill>
              <a:srgbClr val="3333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740000">
              <a:off x="4421880" y="295128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Vazã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740000">
              <a:off x="4736520" y="3168360"/>
              <a:ext cx="52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333399"/>
                  </a:solidFill>
                  <a:latin typeface="Times New Roman"/>
                </a:rPr>
                <a:t>Deflu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525680" y="2232000"/>
            <a:ext cx="1446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77160" y="2270160"/>
            <a:ext cx="12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Mo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865160" y="1636560"/>
            <a:ext cx="1319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19520" y="1674720"/>
            <a:ext cx="105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Ú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61520" y="1552680"/>
            <a:ext cx="289260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0400" y="1517760"/>
            <a:ext cx="17020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98200" y="2386080"/>
            <a:ext cx="144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VAZÃO DEFLU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ÍNIMA : 1.300 m3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4520" y="4834080"/>
            <a:ext cx="479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TOTAL DO RESERVATÓRIO :   34,11 BILHÕES DE 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ÚTIL :                                                28,67 BILHÕES DE 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MORTO :                                            5,45 BILHÕES DE 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6156360" y="2085840"/>
            <a:ext cx="2521080" cy="26384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7381800" y="2301840"/>
            <a:ext cx="503280" cy="43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73640" y="5622840"/>
            <a:ext cx="438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SITUAÇÃO 27/01/2004: 23,25 % 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Qaflu = 4.800 m</a:t>
            </a:r>
            <a:r>
              <a:rPr b="1" lang="pt-BR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/s  e Qdef = 1.007 m</a:t>
            </a:r>
            <a:r>
              <a:rPr b="1" lang="pt-BR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VU controle de cheia = 78,43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865080" y="692280"/>
            <a:ext cx="4340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88880" y="609480"/>
            <a:ext cx="468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SERVATÓRIO DE ITAPA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917800" y="1123920"/>
            <a:ext cx="1604880" cy="2870280"/>
            <a:chOff x="2917800" y="1123920"/>
            <a:chExt cx="1604880" cy="2870280"/>
          </a:xfrm>
        </p:grpSpPr>
        <p:grpSp>
          <p:nvGrpSpPr>
            <p:cNvPr id="454" name=""/>
            <p:cNvGrpSpPr/>
            <p:nvPr/>
          </p:nvGrpSpPr>
          <p:grpSpPr>
            <a:xfrm>
              <a:off x="2931840" y="1140120"/>
              <a:ext cx="1574280" cy="2850840"/>
              <a:chOff x="2931840" y="1140120"/>
              <a:chExt cx="1574280" cy="2850840"/>
            </a:xfrm>
          </p:grpSpPr>
          <p:sp>
            <p:nvSpPr>
              <p:cNvPr id="455" name=""/>
              <p:cNvSpPr/>
              <p:nvPr/>
            </p:nvSpPr>
            <p:spPr>
              <a:xfrm>
                <a:off x="2931840" y="1140120"/>
                <a:ext cx="157428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31840" y="1198800"/>
                <a:ext cx="1574280" cy="6012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931840" y="1258920"/>
                <a:ext cx="157428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31840" y="1317600"/>
                <a:ext cx="1574280" cy="60480"/>
              </a:xfrm>
              <a:prstGeom prst="rect">
                <a:avLst/>
              </a:prstGeom>
              <a:solidFill>
                <a:srgbClr val="97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931840" y="1378080"/>
                <a:ext cx="1574280" cy="58680"/>
              </a:xfrm>
              <a:prstGeom prst="rect">
                <a:avLst/>
              </a:prstGeom>
              <a:solidFill>
                <a:srgbClr val="97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31840" y="1436760"/>
                <a:ext cx="1574280" cy="58680"/>
              </a:xfrm>
              <a:prstGeom prst="rect">
                <a:avLst/>
              </a:prstGeom>
              <a:solidFill>
                <a:srgbClr val="96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931840" y="1495440"/>
                <a:ext cx="1574280" cy="604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31840" y="1555920"/>
                <a:ext cx="1574280" cy="586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931840" y="1614600"/>
                <a:ext cx="1574280" cy="60480"/>
              </a:xfrm>
              <a:prstGeom prst="rect">
                <a:avLst/>
              </a:prstGeom>
              <a:solidFill>
                <a:srgbClr val="94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931840" y="1675080"/>
                <a:ext cx="1574280" cy="58680"/>
              </a:xfrm>
              <a:prstGeom prst="rect">
                <a:avLst/>
              </a:prstGeom>
              <a:solidFill>
                <a:srgbClr val="93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931840" y="1733760"/>
                <a:ext cx="1574280" cy="58680"/>
              </a:xfrm>
              <a:prstGeom prst="rect">
                <a:avLst/>
              </a:prstGeom>
              <a:solidFill>
                <a:srgbClr val="926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931840" y="1792440"/>
                <a:ext cx="1574280" cy="60480"/>
              </a:xfrm>
              <a:prstGeom prst="rect">
                <a:avLst/>
              </a:prstGeom>
              <a:solidFill>
                <a:srgbClr val="90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931840" y="1852920"/>
                <a:ext cx="1574280" cy="58680"/>
              </a:xfrm>
              <a:prstGeom prst="rect">
                <a:avLst/>
              </a:prstGeom>
              <a:solidFill>
                <a:srgbClr val="8f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31840" y="1911600"/>
                <a:ext cx="1574280" cy="60120"/>
              </a:xfrm>
              <a:prstGeom prst="rect">
                <a:avLst/>
              </a:prstGeom>
              <a:solidFill>
                <a:srgbClr val="8e5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931840" y="1971720"/>
                <a:ext cx="1574280" cy="58680"/>
              </a:xfrm>
              <a:prstGeom prst="rect">
                <a:avLst/>
              </a:prstGeom>
              <a:solidFill>
                <a:srgbClr val="8c5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31840" y="2030400"/>
                <a:ext cx="1574280" cy="59040"/>
              </a:xfrm>
              <a:prstGeom prst="rect">
                <a:avLst/>
              </a:prstGeom>
              <a:solidFill>
                <a:srgbClr val="8a5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31840" y="2089440"/>
                <a:ext cx="1574280" cy="60120"/>
              </a:xfrm>
              <a:prstGeom prst="rect">
                <a:avLst/>
              </a:prstGeom>
              <a:solidFill>
                <a:srgbClr val="89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931840" y="2149560"/>
                <a:ext cx="1574280" cy="58680"/>
              </a:xfrm>
              <a:prstGeom prst="rect">
                <a:avLst/>
              </a:prstGeom>
              <a:solidFill>
                <a:srgbClr val="865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931840" y="2208240"/>
                <a:ext cx="1574280" cy="60480"/>
              </a:xfrm>
              <a:prstGeom prst="rect">
                <a:avLst/>
              </a:prstGeom>
              <a:solidFill>
                <a:srgbClr val="845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931840" y="2268720"/>
                <a:ext cx="1574280" cy="58680"/>
              </a:xfrm>
              <a:prstGeom prst="rect">
                <a:avLst/>
              </a:prstGeom>
              <a:solidFill>
                <a:srgbClr val="82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931840" y="2327400"/>
                <a:ext cx="1574280" cy="58680"/>
              </a:xfrm>
              <a:prstGeom prst="rect">
                <a:avLst/>
              </a:prstGeom>
              <a:solidFill>
                <a:srgbClr val="805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931840" y="2386080"/>
                <a:ext cx="1574280" cy="60480"/>
              </a:xfrm>
              <a:prstGeom prst="rect">
                <a:avLst/>
              </a:prstGeom>
              <a:solidFill>
                <a:srgbClr val="7d5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931840" y="2446560"/>
                <a:ext cx="1574280" cy="58680"/>
              </a:xfrm>
              <a:prstGeom prst="rect">
                <a:avLst/>
              </a:prstGeom>
              <a:solidFill>
                <a:srgbClr val="7b5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931840" y="2505240"/>
                <a:ext cx="1574280" cy="60480"/>
              </a:xfrm>
              <a:prstGeom prst="rect">
                <a:avLst/>
              </a:prstGeom>
              <a:solidFill>
                <a:srgbClr val="78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31840" y="2565720"/>
                <a:ext cx="1574280" cy="60120"/>
              </a:xfrm>
              <a:prstGeom prst="rect">
                <a:avLst/>
              </a:prstGeom>
              <a:solidFill>
                <a:srgbClr val="764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931840" y="2625840"/>
                <a:ext cx="1574280" cy="58680"/>
              </a:xfrm>
              <a:prstGeom prst="rect">
                <a:avLst/>
              </a:prstGeom>
              <a:solidFill>
                <a:srgbClr val="72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931840" y="2684520"/>
                <a:ext cx="1574280" cy="58680"/>
              </a:xfrm>
              <a:prstGeom prst="rect">
                <a:avLst/>
              </a:prstGeom>
              <a:solidFill>
                <a:srgbClr val="704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931840" y="2743200"/>
                <a:ext cx="1574280" cy="60480"/>
              </a:xfrm>
              <a:prstGeom prst="rect">
                <a:avLst/>
              </a:prstGeom>
              <a:solidFill>
                <a:srgbClr val="6d4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931840" y="2803680"/>
                <a:ext cx="1574280" cy="58680"/>
              </a:xfrm>
              <a:prstGeom prst="rect">
                <a:avLst/>
              </a:prstGeom>
              <a:solidFill>
                <a:srgbClr val="6a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931840" y="2862360"/>
                <a:ext cx="1574280" cy="60480"/>
              </a:xfrm>
              <a:prstGeom prst="rect">
                <a:avLst/>
              </a:prstGeom>
              <a:solidFill>
                <a:srgbClr val="6745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931840" y="2922840"/>
                <a:ext cx="1574280" cy="58680"/>
              </a:xfrm>
              <a:prstGeom prst="rect">
                <a:avLst/>
              </a:prstGeom>
              <a:solidFill>
                <a:srgbClr val="654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931840" y="2981520"/>
                <a:ext cx="1574280" cy="58680"/>
              </a:xfrm>
              <a:prstGeom prst="rect">
                <a:avLst/>
              </a:pr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31840" y="3040200"/>
                <a:ext cx="1574280" cy="60480"/>
              </a:xfrm>
              <a:prstGeom prst="rect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31840" y="3100680"/>
                <a:ext cx="1574280" cy="58680"/>
              </a:xfrm>
              <a:prstGeom prst="rect">
                <a:avLst/>
              </a:prstGeom>
              <a:solidFill>
                <a:srgbClr val="5d3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931840" y="3159360"/>
                <a:ext cx="1574280" cy="60120"/>
              </a:xfrm>
              <a:prstGeom prst="rect">
                <a:avLst/>
              </a:prstGeom>
              <a:solidFill>
                <a:srgbClr val="5a3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31840" y="3219480"/>
                <a:ext cx="1574280" cy="58680"/>
              </a:xfrm>
              <a:prstGeom prst="rect">
                <a:avLst/>
              </a:prstGeom>
              <a:solidFill>
                <a:srgbClr val="583a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931840" y="3278160"/>
                <a:ext cx="1574280" cy="60480"/>
              </a:xfrm>
              <a:prstGeom prst="rect">
                <a:avLst/>
              </a:prstGeom>
              <a:solidFill>
                <a:srgbClr val="563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931840" y="3338640"/>
                <a:ext cx="1574280" cy="58680"/>
              </a:xfrm>
              <a:prstGeom prst="rect">
                <a:avLst/>
              </a:prstGeom>
              <a:solidFill>
                <a:srgbClr val="543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931840" y="3397320"/>
                <a:ext cx="1574280" cy="58680"/>
              </a:xfrm>
              <a:prstGeom prst="rect">
                <a:avLst/>
              </a:prstGeom>
              <a:solidFill>
                <a:srgbClr val="523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31840" y="3456000"/>
                <a:ext cx="1574280" cy="60480"/>
              </a:xfrm>
              <a:prstGeom prst="rect">
                <a:avLst/>
              </a:prstGeom>
              <a:solidFill>
                <a:srgbClr val="503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931840" y="3516480"/>
                <a:ext cx="1574280" cy="58680"/>
              </a:xfrm>
              <a:prstGeom prst="rect">
                <a:avLst/>
              </a:prstGeom>
              <a:solidFill>
                <a:srgbClr val="4e3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931840" y="3575160"/>
                <a:ext cx="1574280" cy="604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31840" y="3635640"/>
                <a:ext cx="1574280" cy="58680"/>
              </a:xfrm>
              <a:prstGeom prst="rect">
                <a:avLst/>
              </a:prstGeom>
              <a:solidFill>
                <a:srgbClr val="4c3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931840" y="3694320"/>
                <a:ext cx="1574280" cy="58680"/>
              </a:xfrm>
              <a:prstGeom prst="rect">
                <a:avLst/>
              </a:prstGeom>
              <a:solidFill>
                <a:srgbClr val="4a31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931840" y="3753000"/>
                <a:ext cx="1574280" cy="60480"/>
              </a:xfrm>
              <a:prstGeom prst="rect">
                <a:avLst/>
              </a:prstGeom>
              <a:solidFill>
                <a:srgbClr val="49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931840" y="3813480"/>
                <a:ext cx="1574280" cy="58680"/>
              </a:xfrm>
              <a:prstGeom prst="rect">
                <a:avLst/>
              </a:prstGeom>
              <a:solidFill>
                <a:srgbClr val="48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31840" y="3872160"/>
                <a:ext cx="1574280" cy="6012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31840" y="3932280"/>
                <a:ext cx="1574280" cy="5868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31840" y="1140120"/>
                <a:ext cx="1574280" cy="2849400"/>
              </a:xfrm>
              <a:custGeom>
                <a:avLst/>
                <a:gdLst/>
                <a:ahLst/>
                <a:rect l="l" t="t" r="r" b="b"/>
                <a:pathLst>
                  <a:path w="1982" h="3591">
                    <a:moveTo>
                      <a:pt x="0" y="3269"/>
                    </a:moveTo>
                    <a:lnTo>
                      <a:pt x="623" y="0"/>
                    </a:lnTo>
                    <a:lnTo>
                      <a:pt x="1246" y="0"/>
                    </a:lnTo>
                    <a:lnTo>
                      <a:pt x="1982" y="3591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472f17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931840" y="1140120"/>
                <a:ext cx="1574280" cy="2849400"/>
              </a:xfrm>
              <a:custGeom>
                <a:avLst/>
                <a:gdLst/>
                <a:ahLst/>
                <a:rect l="l" t="t" r="r" b="b"/>
                <a:pathLst>
                  <a:path w="1982" h="3591">
                    <a:moveTo>
                      <a:pt x="0" y="3269"/>
                    </a:moveTo>
                    <a:lnTo>
                      <a:pt x="623" y="0"/>
                    </a:lnTo>
                    <a:lnTo>
                      <a:pt x="1246" y="0"/>
                    </a:lnTo>
                    <a:lnTo>
                      <a:pt x="1982" y="3591"/>
                    </a:lnTo>
                    <a:lnTo>
                      <a:pt x="0" y="3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931840" y="1140120"/>
                <a:ext cx="157428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931840" y="1198800"/>
                <a:ext cx="1574280" cy="6012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31840" y="1258920"/>
                <a:ext cx="1574280" cy="58680"/>
              </a:xfrm>
              <a:prstGeom prst="rect">
                <a:avLst/>
              </a:prstGeom>
              <a:solidFill>
                <a:srgbClr val="98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31840" y="1317600"/>
                <a:ext cx="1574280" cy="60480"/>
              </a:xfrm>
              <a:prstGeom prst="rect">
                <a:avLst/>
              </a:prstGeom>
              <a:solidFill>
                <a:srgbClr val="97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31840" y="1378080"/>
                <a:ext cx="1574280" cy="58680"/>
              </a:xfrm>
              <a:prstGeom prst="rect">
                <a:avLst/>
              </a:prstGeom>
              <a:solidFill>
                <a:srgbClr val="97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931840" y="1436760"/>
                <a:ext cx="1574280" cy="58680"/>
              </a:xfrm>
              <a:prstGeom prst="rect">
                <a:avLst/>
              </a:prstGeom>
              <a:solidFill>
                <a:srgbClr val="9664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31840" y="1495440"/>
                <a:ext cx="1574280" cy="604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31840" y="1555920"/>
                <a:ext cx="1574280" cy="58680"/>
              </a:xfrm>
              <a:prstGeom prst="rect">
                <a:avLst/>
              </a:prstGeom>
              <a:solidFill>
                <a:srgbClr val="9563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31840" y="1614600"/>
                <a:ext cx="1574280" cy="60480"/>
              </a:xfrm>
              <a:prstGeom prst="rect">
                <a:avLst/>
              </a:prstGeom>
              <a:solidFill>
                <a:srgbClr val="94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31840" y="1675080"/>
                <a:ext cx="1574280" cy="58680"/>
              </a:xfrm>
              <a:prstGeom prst="rect">
                <a:avLst/>
              </a:prstGeom>
              <a:solidFill>
                <a:srgbClr val="936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31840" y="1733760"/>
                <a:ext cx="1574280" cy="58680"/>
              </a:xfrm>
              <a:prstGeom prst="rect">
                <a:avLst/>
              </a:prstGeom>
              <a:solidFill>
                <a:srgbClr val="9261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31840" y="1792440"/>
                <a:ext cx="1574280" cy="60480"/>
              </a:xfrm>
              <a:prstGeom prst="rect">
                <a:avLst/>
              </a:prstGeom>
              <a:solidFill>
                <a:srgbClr val="906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31840" y="1852920"/>
                <a:ext cx="1574280" cy="58680"/>
              </a:xfrm>
              <a:prstGeom prst="rect">
                <a:avLst/>
              </a:prstGeom>
              <a:solidFill>
                <a:srgbClr val="8f5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31840" y="1911600"/>
                <a:ext cx="1574280" cy="60120"/>
              </a:xfrm>
              <a:prstGeom prst="rect">
                <a:avLst/>
              </a:prstGeom>
              <a:solidFill>
                <a:srgbClr val="8e5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31840" y="1971720"/>
                <a:ext cx="1574280" cy="58680"/>
              </a:xfrm>
              <a:prstGeom prst="rect">
                <a:avLst/>
              </a:prstGeom>
              <a:solidFill>
                <a:srgbClr val="8c5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31840" y="2030400"/>
                <a:ext cx="1574280" cy="59040"/>
              </a:xfrm>
              <a:prstGeom prst="rect">
                <a:avLst/>
              </a:prstGeom>
              <a:solidFill>
                <a:srgbClr val="8a5c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931840" y="2089440"/>
                <a:ext cx="1574280" cy="60120"/>
              </a:xfrm>
              <a:prstGeom prst="rect">
                <a:avLst/>
              </a:prstGeom>
              <a:solidFill>
                <a:srgbClr val="895b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931840" y="2149560"/>
                <a:ext cx="1574280" cy="58680"/>
              </a:xfrm>
              <a:prstGeom prst="rect">
                <a:avLst/>
              </a:prstGeom>
              <a:solidFill>
                <a:srgbClr val="8659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931840" y="2208240"/>
                <a:ext cx="1574280" cy="60480"/>
              </a:xfrm>
              <a:prstGeom prst="rect">
                <a:avLst/>
              </a:prstGeom>
              <a:solidFill>
                <a:srgbClr val="8458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931840" y="2268720"/>
                <a:ext cx="1574280" cy="58680"/>
              </a:xfrm>
              <a:prstGeom prst="rect">
                <a:avLst/>
              </a:prstGeom>
              <a:solidFill>
                <a:srgbClr val="825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931840" y="2327400"/>
                <a:ext cx="1574280" cy="58680"/>
              </a:xfrm>
              <a:prstGeom prst="rect">
                <a:avLst/>
              </a:prstGeom>
              <a:solidFill>
                <a:srgbClr val="8055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931840" y="2386080"/>
                <a:ext cx="1574280" cy="60480"/>
              </a:xfrm>
              <a:prstGeom prst="rect">
                <a:avLst/>
              </a:prstGeom>
              <a:solidFill>
                <a:srgbClr val="7d53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931840" y="2446560"/>
                <a:ext cx="1574280" cy="58680"/>
              </a:xfrm>
              <a:prstGeom prst="rect">
                <a:avLst/>
              </a:prstGeom>
              <a:solidFill>
                <a:srgbClr val="7b52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931840" y="2505240"/>
                <a:ext cx="1574280" cy="60480"/>
              </a:xfrm>
              <a:prstGeom prst="rect">
                <a:avLst/>
              </a:prstGeom>
              <a:solidFill>
                <a:srgbClr val="785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931840" y="2565720"/>
                <a:ext cx="1574280" cy="60120"/>
              </a:xfrm>
              <a:prstGeom prst="rect">
                <a:avLst/>
              </a:prstGeom>
              <a:solidFill>
                <a:srgbClr val="764e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931840" y="2625840"/>
                <a:ext cx="1574280" cy="58680"/>
              </a:xfrm>
              <a:prstGeom prst="rect">
                <a:avLst/>
              </a:prstGeom>
              <a:solidFill>
                <a:srgbClr val="724c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931840" y="2684520"/>
                <a:ext cx="1574280" cy="58680"/>
              </a:xfrm>
              <a:prstGeom prst="rect">
                <a:avLst/>
              </a:prstGeom>
              <a:solidFill>
                <a:srgbClr val="704a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931840" y="2743200"/>
                <a:ext cx="1574280" cy="60480"/>
              </a:xfrm>
              <a:prstGeom prst="rect">
                <a:avLst/>
              </a:prstGeom>
              <a:solidFill>
                <a:srgbClr val="6d48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931840" y="2803680"/>
                <a:ext cx="1574280" cy="58680"/>
              </a:xfrm>
              <a:prstGeom prst="rect">
                <a:avLst/>
              </a:prstGeom>
              <a:solidFill>
                <a:srgbClr val="6a4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931840" y="2862360"/>
                <a:ext cx="1574280" cy="60480"/>
              </a:xfrm>
              <a:prstGeom prst="rect">
                <a:avLst/>
              </a:prstGeom>
              <a:solidFill>
                <a:srgbClr val="6745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931840" y="2922840"/>
                <a:ext cx="1574280" cy="58680"/>
              </a:xfrm>
              <a:prstGeom prst="rect">
                <a:avLst/>
              </a:prstGeom>
              <a:solidFill>
                <a:srgbClr val="654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931840" y="2981520"/>
                <a:ext cx="1574280" cy="58680"/>
              </a:xfrm>
              <a:prstGeom prst="rect">
                <a:avLst/>
              </a:pr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31840" y="3040200"/>
                <a:ext cx="1574280" cy="60480"/>
              </a:xfrm>
              <a:prstGeom prst="rect">
                <a:avLst/>
              </a:pr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931840" y="3100680"/>
                <a:ext cx="1574280" cy="58680"/>
              </a:xfrm>
              <a:prstGeom prst="rect">
                <a:avLst/>
              </a:prstGeom>
              <a:solidFill>
                <a:srgbClr val="5d3e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31840" y="3159360"/>
                <a:ext cx="1574280" cy="60120"/>
              </a:xfrm>
              <a:prstGeom prst="rect">
                <a:avLst/>
              </a:prstGeom>
              <a:solidFill>
                <a:srgbClr val="5a3c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931840" y="3219480"/>
                <a:ext cx="1574280" cy="58680"/>
              </a:xfrm>
              <a:prstGeom prst="rect">
                <a:avLst/>
              </a:prstGeom>
              <a:solidFill>
                <a:srgbClr val="583a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931840" y="3278160"/>
                <a:ext cx="1574280" cy="60480"/>
              </a:xfrm>
              <a:prstGeom prst="rect">
                <a:avLst/>
              </a:prstGeom>
              <a:solidFill>
                <a:srgbClr val="563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931840" y="3338640"/>
                <a:ext cx="1574280" cy="58680"/>
              </a:xfrm>
              <a:prstGeom prst="rect">
                <a:avLst/>
              </a:prstGeom>
              <a:solidFill>
                <a:srgbClr val="5437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931840" y="3397320"/>
                <a:ext cx="1574280" cy="58680"/>
              </a:xfrm>
              <a:prstGeom prst="rect">
                <a:avLst/>
              </a:prstGeom>
              <a:solidFill>
                <a:srgbClr val="523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931840" y="3456000"/>
                <a:ext cx="1574280" cy="60480"/>
              </a:xfrm>
              <a:prstGeom prst="rect">
                <a:avLst/>
              </a:prstGeom>
              <a:solidFill>
                <a:srgbClr val="503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931840" y="3516480"/>
                <a:ext cx="1574280" cy="58680"/>
              </a:xfrm>
              <a:prstGeom prst="rect">
                <a:avLst/>
              </a:prstGeom>
              <a:solidFill>
                <a:srgbClr val="4e34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931840" y="3575160"/>
                <a:ext cx="1574280" cy="60480"/>
              </a:xfrm>
              <a:prstGeom prst="rect">
                <a:avLst/>
              </a:prstGeom>
              <a:solidFill>
                <a:srgbClr val="4d33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931840" y="3635640"/>
                <a:ext cx="1574280" cy="58680"/>
              </a:xfrm>
              <a:prstGeom prst="rect">
                <a:avLst/>
              </a:prstGeom>
              <a:solidFill>
                <a:srgbClr val="4c3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931840" y="3694320"/>
                <a:ext cx="1574280" cy="58680"/>
              </a:xfrm>
              <a:prstGeom prst="rect">
                <a:avLst/>
              </a:prstGeom>
              <a:solidFill>
                <a:srgbClr val="4a31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931840" y="3753000"/>
                <a:ext cx="1574280" cy="60480"/>
              </a:xfrm>
              <a:prstGeom prst="rect">
                <a:avLst/>
              </a:prstGeom>
              <a:solidFill>
                <a:srgbClr val="49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31840" y="3813480"/>
                <a:ext cx="1574280" cy="58680"/>
              </a:xfrm>
              <a:prstGeom prst="rect">
                <a:avLst/>
              </a:prstGeom>
              <a:solidFill>
                <a:srgbClr val="483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931840" y="3872160"/>
                <a:ext cx="1574280" cy="6012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931840" y="3932280"/>
                <a:ext cx="1574280" cy="58680"/>
              </a:xfrm>
              <a:prstGeom prst="rect">
                <a:avLst/>
              </a:prstGeom>
              <a:solidFill>
                <a:srgbClr val="472f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2917800" y="1123920"/>
              <a:ext cx="1604880" cy="2870280"/>
            </a:xfrm>
            <a:custGeom>
              <a:avLst/>
              <a:gdLst/>
              <a:ahLst/>
              <a:rect l="l" t="t" r="r" b="b"/>
              <a:pathLst>
                <a:path w="2021" h="3615">
                  <a:moveTo>
                    <a:pt x="0" y="3286"/>
                  </a:moveTo>
                  <a:lnTo>
                    <a:pt x="39" y="3294"/>
                  </a:lnTo>
                  <a:lnTo>
                    <a:pt x="662" y="24"/>
                  </a:lnTo>
                  <a:lnTo>
                    <a:pt x="642" y="20"/>
                  </a:lnTo>
                  <a:lnTo>
                    <a:pt x="642" y="40"/>
                  </a:lnTo>
                  <a:lnTo>
                    <a:pt x="649" y="39"/>
                  </a:lnTo>
                  <a:lnTo>
                    <a:pt x="656" y="34"/>
                  </a:lnTo>
                  <a:lnTo>
                    <a:pt x="661" y="28"/>
                  </a:lnTo>
                  <a:lnTo>
                    <a:pt x="642" y="40"/>
                  </a:lnTo>
                  <a:lnTo>
                    <a:pt x="1265" y="40"/>
                  </a:lnTo>
                  <a:lnTo>
                    <a:pt x="1265" y="20"/>
                  </a:lnTo>
                  <a:lnTo>
                    <a:pt x="1246" y="28"/>
                  </a:lnTo>
                  <a:lnTo>
                    <a:pt x="1250" y="34"/>
                  </a:lnTo>
                  <a:lnTo>
                    <a:pt x="1257" y="39"/>
                  </a:lnTo>
                  <a:lnTo>
                    <a:pt x="1246" y="24"/>
                  </a:lnTo>
                  <a:lnTo>
                    <a:pt x="1982" y="3615"/>
                  </a:lnTo>
                  <a:lnTo>
                    <a:pt x="2021" y="3607"/>
                  </a:lnTo>
                  <a:lnTo>
                    <a:pt x="1285" y="16"/>
                  </a:lnTo>
                  <a:lnTo>
                    <a:pt x="1284" y="12"/>
                  </a:lnTo>
                  <a:lnTo>
                    <a:pt x="1279" y="5"/>
                  </a:lnTo>
                  <a:lnTo>
                    <a:pt x="1272" y="2"/>
                  </a:lnTo>
                  <a:lnTo>
                    <a:pt x="1265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34" y="2"/>
                  </a:lnTo>
                  <a:lnTo>
                    <a:pt x="627" y="5"/>
                  </a:lnTo>
                  <a:lnTo>
                    <a:pt x="624" y="12"/>
                  </a:lnTo>
                  <a:lnTo>
                    <a:pt x="622" y="20"/>
                  </a:lnTo>
                  <a:lnTo>
                    <a:pt x="623" y="16"/>
                  </a:lnTo>
                  <a:lnTo>
                    <a:pt x="0" y="3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539640" y="2540160"/>
            <a:ext cx="5132520" cy="1811160"/>
          </a:xfrm>
          <a:custGeom>
            <a:avLst/>
            <a:gdLst/>
            <a:ahLst/>
            <a:rect l="l" t="t" r="r" b="b"/>
            <a:pathLst>
              <a:path w="6466" h="2282">
                <a:moveTo>
                  <a:pt x="6426" y="2282"/>
                </a:moveTo>
                <a:lnTo>
                  <a:pt x="0" y="2282"/>
                </a:lnTo>
                <a:lnTo>
                  <a:pt x="1" y="1998"/>
                </a:lnTo>
                <a:lnTo>
                  <a:pt x="1" y="1714"/>
                </a:lnTo>
                <a:lnTo>
                  <a:pt x="2" y="1146"/>
                </a:lnTo>
                <a:lnTo>
                  <a:pt x="2" y="862"/>
                </a:lnTo>
                <a:lnTo>
                  <a:pt x="5" y="579"/>
                </a:lnTo>
                <a:lnTo>
                  <a:pt x="8" y="295"/>
                </a:lnTo>
                <a:lnTo>
                  <a:pt x="14" y="12"/>
                </a:lnTo>
                <a:lnTo>
                  <a:pt x="15" y="6"/>
                </a:lnTo>
                <a:lnTo>
                  <a:pt x="16" y="3"/>
                </a:lnTo>
                <a:lnTo>
                  <a:pt x="18" y="0"/>
                </a:lnTo>
                <a:lnTo>
                  <a:pt x="21" y="0"/>
                </a:lnTo>
                <a:lnTo>
                  <a:pt x="25" y="1"/>
                </a:lnTo>
                <a:lnTo>
                  <a:pt x="29" y="5"/>
                </a:lnTo>
                <a:lnTo>
                  <a:pt x="39" y="12"/>
                </a:lnTo>
                <a:lnTo>
                  <a:pt x="51" y="22"/>
                </a:lnTo>
                <a:lnTo>
                  <a:pt x="65" y="33"/>
                </a:lnTo>
                <a:lnTo>
                  <a:pt x="79" y="44"/>
                </a:lnTo>
                <a:lnTo>
                  <a:pt x="95" y="52"/>
                </a:lnTo>
                <a:lnTo>
                  <a:pt x="127" y="64"/>
                </a:lnTo>
                <a:lnTo>
                  <a:pt x="161" y="74"/>
                </a:lnTo>
                <a:lnTo>
                  <a:pt x="196" y="83"/>
                </a:lnTo>
                <a:lnTo>
                  <a:pt x="230" y="93"/>
                </a:lnTo>
                <a:lnTo>
                  <a:pt x="284" y="110"/>
                </a:lnTo>
                <a:lnTo>
                  <a:pt x="337" y="124"/>
                </a:lnTo>
                <a:lnTo>
                  <a:pt x="390" y="137"/>
                </a:lnTo>
                <a:lnTo>
                  <a:pt x="442" y="147"/>
                </a:lnTo>
                <a:lnTo>
                  <a:pt x="495" y="154"/>
                </a:lnTo>
                <a:lnTo>
                  <a:pt x="549" y="162"/>
                </a:lnTo>
                <a:lnTo>
                  <a:pt x="604" y="169"/>
                </a:lnTo>
                <a:lnTo>
                  <a:pt x="662" y="176"/>
                </a:lnTo>
                <a:lnTo>
                  <a:pt x="673" y="177"/>
                </a:lnTo>
                <a:lnTo>
                  <a:pt x="684" y="179"/>
                </a:lnTo>
                <a:lnTo>
                  <a:pt x="710" y="185"/>
                </a:lnTo>
                <a:lnTo>
                  <a:pt x="737" y="191"/>
                </a:lnTo>
                <a:lnTo>
                  <a:pt x="764" y="198"/>
                </a:lnTo>
                <a:lnTo>
                  <a:pt x="787" y="205"/>
                </a:lnTo>
                <a:lnTo>
                  <a:pt x="797" y="208"/>
                </a:lnTo>
                <a:lnTo>
                  <a:pt x="806" y="210"/>
                </a:lnTo>
                <a:lnTo>
                  <a:pt x="814" y="213"/>
                </a:lnTo>
                <a:lnTo>
                  <a:pt x="820" y="215"/>
                </a:lnTo>
                <a:lnTo>
                  <a:pt x="823" y="216"/>
                </a:lnTo>
                <a:lnTo>
                  <a:pt x="824" y="216"/>
                </a:lnTo>
                <a:lnTo>
                  <a:pt x="839" y="235"/>
                </a:lnTo>
                <a:lnTo>
                  <a:pt x="854" y="252"/>
                </a:lnTo>
                <a:lnTo>
                  <a:pt x="874" y="266"/>
                </a:lnTo>
                <a:lnTo>
                  <a:pt x="894" y="281"/>
                </a:lnTo>
                <a:lnTo>
                  <a:pt x="918" y="293"/>
                </a:lnTo>
                <a:lnTo>
                  <a:pt x="942" y="304"/>
                </a:lnTo>
                <a:lnTo>
                  <a:pt x="968" y="314"/>
                </a:lnTo>
                <a:lnTo>
                  <a:pt x="994" y="323"/>
                </a:lnTo>
                <a:lnTo>
                  <a:pt x="1048" y="339"/>
                </a:lnTo>
                <a:lnTo>
                  <a:pt x="1102" y="351"/>
                </a:lnTo>
                <a:lnTo>
                  <a:pt x="1129" y="355"/>
                </a:lnTo>
                <a:lnTo>
                  <a:pt x="1154" y="360"/>
                </a:lnTo>
                <a:lnTo>
                  <a:pt x="1179" y="363"/>
                </a:lnTo>
                <a:lnTo>
                  <a:pt x="1201" y="367"/>
                </a:lnTo>
                <a:lnTo>
                  <a:pt x="1219" y="373"/>
                </a:lnTo>
                <a:lnTo>
                  <a:pt x="1236" y="379"/>
                </a:lnTo>
                <a:lnTo>
                  <a:pt x="1250" y="386"/>
                </a:lnTo>
                <a:lnTo>
                  <a:pt x="1263" y="391"/>
                </a:lnTo>
                <a:lnTo>
                  <a:pt x="1275" y="398"/>
                </a:lnTo>
                <a:lnTo>
                  <a:pt x="1286" y="403"/>
                </a:lnTo>
                <a:lnTo>
                  <a:pt x="1306" y="417"/>
                </a:lnTo>
                <a:lnTo>
                  <a:pt x="1325" y="431"/>
                </a:lnTo>
                <a:lnTo>
                  <a:pt x="1348" y="448"/>
                </a:lnTo>
                <a:lnTo>
                  <a:pt x="1360" y="457"/>
                </a:lnTo>
                <a:lnTo>
                  <a:pt x="1373" y="467"/>
                </a:lnTo>
                <a:lnTo>
                  <a:pt x="1388" y="478"/>
                </a:lnTo>
                <a:lnTo>
                  <a:pt x="1405" y="489"/>
                </a:lnTo>
                <a:lnTo>
                  <a:pt x="1408" y="491"/>
                </a:lnTo>
                <a:lnTo>
                  <a:pt x="1412" y="493"/>
                </a:lnTo>
                <a:lnTo>
                  <a:pt x="1424" y="497"/>
                </a:lnTo>
                <a:lnTo>
                  <a:pt x="1438" y="501"/>
                </a:lnTo>
                <a:lnTo>
                  <a:pt x="1454" y="505"/>
                </a:lnTo>
                <a:lnTo>
                  <a:pt x="1468" y="510"/>
                </a:lnTo>
                <a:lnTo>
                  <a:pt x="1483" y="513"/>
                </a:lnTo>
                <a:lnTo>
                  <a:pt x="1488" y="515"/>
                </a:lnTo>
                <a:lnTo>
                  <a:pt x="1493" y="516"/>
                </a:lnTo>
                <a:lnTo>
                  <a:pt x="1496" y="516"/>
                </a:lnTo>
                <a:lnTo>
                  <a:pt x="1498" y="517"/>
                </a:lnTo>
                <a:lnTo>
                  <a:pt x="1518" y="524"/>
                </a:lnTo>
                <a:lnTo>
                  <a:pt x="1539" y="533"/>
                </a:lnTo>
                <a:lnTo>
                  <a:pt x="1559" y="540"/>
                </a:lnTo>
                <a:lnTo>
                  <a:pt x="1570" y="542"/>
                </a:lnTo>
                <a:lnTo>
                  <a:pt x="1580" y="544"/>
                </a:lnTo>
                <a:lnTo>
                  <a:pt x="1595" y="546"/>
                </a:lnTo>
                <a:lnTo>
                  <a:pt x="1613" y="549"/>
                </a:lnTo>
                <a:lnTo>
                  <a:pt x="1632" y="551"/>
                </a:lnTo>
                <a:lnTo>
                  <a:pt x="1651" y="553"/>
                </a:lnTo>
                <a:lnTo>
                  <a:pt x="1691" y="558"/>
                </a:lnTo>
                <a:lnTo>
                  <a:pt x="1732" y="562"/>
                </a:lnTo>
                <a:lnTo>
                  <a:pt x="1750" y="564"/>
                </a:lnTo>
                <a:lnTo>
                  <a:pt x="1766" y="565"/>
                </a:lnTo>
                <a:lnTo>
                  <a:pt x="1782" y="568"/>
                </a:lnTo>
                <a:lnTo>
                  <a:pt x="1795" y="569"/>
                </a:lnTo>
                <a:lnTo>
                  <a:pt x="1806" y="570"/>
                </a:lnTo>
                <a:lnTo>
                  <a:pt x="1815" y="571"/>
                </a:lnTo>
                <a:lnTo>
                  <a:pt x="1820" y="572"/>
                </a:lnTo>
                <a:lnTo>
                  <a:pt x="1822" y="572"/>
                </a:lnTo>
                <a:lnTo>
                  <a:pt x="1834" y="575"/>
                </a:lnTo>
                <a:lnTo>
                  <a:pt x="1846" y="578"/>
                </a:lnTo>
                <a:lnTo>
                  <a:pt x="1864" y="582"/>
                </a:lnTo>
                <a:lnTo>
                  <a:pt x="1880" y="587"/>
                </a:lnTo>
                <a:lnTo>
                  <a:pt x="1892" y="589"/>
                </a:lnTo>
                <a:lnTo>
                  <a:pt x="1904" y="592"/>
                </a:lnTo>
                <a:lnTo>
                  <a:pt x="1911" y="593"/>
                </a:lnTo>
                <a:lnTo>
                  <a:pt x="1918" y="596"/>
                </a:lnTo>
                <a:lnTo>
                  <a:pt x="1925" y="598"/>
                </a:lnTo>
                <a:lnTo>
                  <a:pt x="1937" y="601"/>
                </a:lnTo>
                <a:lnTo>
                  <a:pt x="1944" y="603"/>
                </a:lnTo>
                <a:lnTo>
                  <a:pt x="1953" y="607"/>
                </a:lnTo>
                <a:lnTo>
                  <a:pt x="1963" y="610"/>
                </a:lnTo>
                <a:lnTo>
                  <a:pt x="1976" y="615"/>
                </a:lnTo>
                <a:lnTo>
                  <a:pt x="1992" y="620"/>
                </a:lnTo>
                <a:lnTo>
                  <a:pt x="2012" y="627"/>
                </a:lnTo>
                <a:lnTo>
                  <a:pt x="2023" y="632"/>
                </a:lnTo>
                <a:lnTo>
                  <a:pt x="2032" y="640"/>
                </a:lnTo>
                <a:lnTo>
                  <a:pt x="2042" y="647"/>
                </a:lnTo>
                <a:lnTo>
                  <a:pt x="2052" y="654"/>
                </a:lnTo>
                <a:lnTo>
                  <a:pt x="2062" y="658"/>
                </a:lnTo>
                <a:lnTo>
                  <a:pt x="2072" y="661"/>
                </a:lnTo>
                <a:lnTo>
                  <a:pt x="2093" y="666"/>
                </a:lnTo>
                <a:lnTo>
                  <a:pt x="2115" y="673"/>
                </a:lnTo>
                <a:lnTo>
                  <a:pt x="2125" y="676"/>
                </a:lnTo>
                <a:lnTo>
                  <a:pt x="2134" y="682"/>
                </a:lnTo>
                <a:lnTo>
                  <a:pt x="2174" y="709"/>
                </a:lnTo>
                <a:lnTo>
                  <a:pt x="2214" y="736"/>
                </a:lnTo>
                <a:lnTo>
                  <a:pt x="2219" y="740"/>
                </a:lnTo>
                <a:lnTo>
                  <a:pt x="2226" y="744"/>
                </a:lnTo>
                <a:lnTo>
                  <a:pt x="2240" y="753"/>
                </a:lnTo>
                <a:lnTo>
                  <a:pt x="2245" y="757"/>
                </a:lnTo>
                <a:lnTo>
                  <a:pt x="2250" y="760"/>
                </a:lnTo>
                <a:lnTo>
                  <a:pt x="2253" y="762"/>
                </a:lnTo>
                <a:lnTo>
                  <a:pt x="2254" y="763"/>
                </a:lnTo>
                <a:lnTo>
                  <a:pt x="2257" y="775"/>
                </a:lnTo>
                <a:lnTo>
                  <a:pt x="2261" y="784"/>
                </a:lnTo>
                <a:lnTo>
                  <a:pt x="2263" y="791"/>
                </a:lnTo>
                <a:lnTo>
                  <a:pt x="2264" y="797"/>
                </a:lnTo>
                <a:lnTo>
                  <a:pt x="2265" y="800"/>
                </a:lnTo>
                <a:lnTo>
                  <a:pt x="2266" y="803"/>
                </a:lnTo>
                <a:lnTo>
                  <a:pt x="2269" y="804"/>
                </a:lnTo>
                <a:lnTo>
                  <a:pt x="2272" y="804"/>
                </a:lnTo>
                <a:lnTo>
                  <a:pt x="2274" y="805"/>
                </a:lnTo>
                <a:lnTo>
                  <a:pt x="2279" y="805"/>
                </a:lnTo>
                <a:lnTo>
                  <a:pt x="2284" y="807"/>
                </a:lnTo>
                <a:lnTo>
                  <a:pt x="2291" y="809"/>
                </a:lnTo>
                <a:lnTo>
                  <a:pt x="2299" y="812"/>
                </a:lnTo>
                <a:lnTo>
                  <a:pt x="2309" y="818"/>
                </a:lnTo>
                <a:lnTo>
                  <a:pt x="2329" y="832"/>
                </a:lnTo>
                <a:lnTo>
                  <a:pt x="2348" y="848"/>
                </a:lnTo>
                <a:lnTo>
                  <a:pt x="2368" y="862"/>
                </a:lnTo>
                <a:lnTo>
                  <a:pt x="2378" y="868"/>
                </a:lnTo>
                <a:lnTo>
                  <a:pt x="2389" y="872"/>
                </a:lnTo>
                <a:lnTo>
                  <a:pt x="2426" y="885"/>
                </a:lnTo>
                <a:lnTo>
                  <a:pt x="2462" y="897"/>
                </a:lnTo>
                <a:lnTo>
                  <a:pt x="2495" y="907"/>
                </a:lnTo>
                <a:lnTo>
                  <a:pt x="2529" y="917"/>
                </a:lnTo>
                <a:lnTo>
                  <a:pt x="2562" y="925"/>
                </a:lnTo>
                <a:lnTo>
                  <a:pt x="2597" y="932"/>
                </a:lnTo>
                <a:lnTo>
                  <a:pt x="2634" y="937"/>
                </a:lnTo>
                <a:lnTo>
                  <a:pt x="2673" y="942"/>
                </a:lnTo>
                <a:lnTo>
                  <a:pt x="2734" y="945"/>
                </a:lnTo>
                <a:lnTo>
                  <a:pt x="2794" y="948"/>
                </a:lnTo>
                <a:lnTo>
                  <a:pt x="2855" y="952"/>
                </a:lnTo>
                <a:lnTo>
                  <a:pt x="2916" y="955"/>
                </a:lnTo>
                <a:lnTo>
                  <a:pt x="2983" y="962"/>
                </a:lnTo>
                <a:lnTo>
                  <a:pt x="3051" y="968"/>
                </a:lnTo>
                <a:lnTo>
                  <a:pt x="3078" y="979"/>
                </a:lnTo>
                <a:lnTo>
                  <a:pt x="3105" y="990"/>
                </a:lnTo>
                <a:lnTo>
                  <a:pt x="3154" y="1014"/>
                </a:lnTo>
                <a:lnTo>
                  <a:pt x="3203" y="1040"/>
                </a:lnTo>
                <a:lnTo>
                  <a:pt x="3228" y="1052"/>
                </a:lnTo>
                <a:lnTo>
                  <a:pt x="3253" y="1065"/>
                </a:lnTo>
                <a:lnTo>
                  <a:pt x="3278" y="1073"/>
                </a:lnTo>
                <a:lnTo>
                  <a:pt x="3305" y="1081"/>
                </a:lnTo>
                <a:lnTo>
                  <a:pt x="3333" y="1087"/>
                </a:lnTo>
                <a:lnTo>
                  <a:pt x="3360" y="1091"/>
                </a:lnTo>
                <a:lnTo>
                  <a:pt x="3416" y="1099"/>
                </a:lnTo>
                <a:lnTo>
                  <a:pt x="3444" y="1102"/>
                </a:lnTo>
                <a:lnTo>
                  <a:pt x="3470" y="1106"/>
                </a:lnTo>
                <a:lnTo>
                  <a:pt x="3525" y="1123"/>
                </a:lnTo>
                <a:lnTo>
                  <a:pt x="3579" y="1138"/>
                </a:lnTo>
                <a:lnTo>
                  <a:pt x="3635" y="1153"/>
                </a:lnTo>
                <a:lnTo>
                  <a:pt x="3691" y="1166"/>
                </a:lnTo>
                <a:lnTo>
                  <a:pt x="3804" y="1191"/>
                </a:lnTo>
                <a:lnTo>
                  <a:pt x="3915" y="1215"/>
                </a:lnTo>
                <a:lnTo>
                  <a:pt x="3986" y="1232"/>
                </a:lnTo>
                <a:lnTo>
                  <a:pt x="4056" y="1250"/>
                </a:lnTo>
                <a:lnTo>
                  <a:pt x="4127" y="1268"/>
                </a:lnTo>
                <a:lnTo>
                  <a:pt x="4199" y="1283"/>
                </a:lnTo>
                <a:lnTo>
                  <a:pt x="4200" y="1283"/>
                </a:lnTo>
                <a:lnTo>
                  <a:pt x="4201" y="1283"/>
                </a:lnTo>
                <a:lnTo>
                  <a:pt x="4208" y="1284"/>
                </a:lnTo>
                <a:lnTo>
                  <a:pt x="4218" y="1287"/>
                </a:lnTo>
                <a:lnTo>
                  <a:pt x="4231" y="1289"/>
                </a:lnTo>
                <a:lnTo>
                  <a:pt x="4247" y="1291"/>
                </a:lnTo>
                <a:lnTo>
                  <a:pt x="4265" y="1295"/>
                </a:lnTo>
                <a:lnTo>
                  <a:pt x="4285" y="1298"/>
                </a:lnTo>
                <a:lnTo>
                  <a:pt x="4305" y="1301"/>
                </a:lnTo>
                <a:lnTo>
                  <a:pt x="4347" y="1308"/>
                </a:lnTo>
                <a:lnTo>
                  <a:pt x="4367" y="1311"/>
                </a:lnTo>
                <a:lnTo>
                  <a:pt x="4386" y="1315"/>
                </a:lnTo>
                <a:lnTo>
                  <a:pt x="4404" y="1318"/>
                </a:lnTo>
                <a:lnTo>
                  <a:pt x="4419" y="1320"/>
                </a:lnTo>
                <a:lnTo>
                  <a:pt x="4432" y="1322"/>
                </a:lnTo>
                <a:lnTo>
                  <a:pt x="4441" y="1325"/>
                </a:lnTo>
                <a:lnTo>
                  <a:pt x="4456" y="1327"/>
                </a:lnTo>
                <a:lnTo>
                  <a:pt x="4471" y="1329"/>
                </a:lnTo>
                <a:lnTo>
                  <a:pt x="4506" y="1334"/>
                </a:lnTo>
                <a:lnTo>
                  <a:pt x="4542" y="1338"/>
                </a:lnTo>
                <a:lnTo>
                  <a:pt x="4576" y="1343"/>
                </a:lnTo>
                <a:lnTo>
                  <a:pt x="4593" y="1345"/>
                </a:lnTo>
                <a:lnTo>
                  <a:pt x="4609" y="1346"/>
                </a:lnTo>
                <a:lnTo>
                  <a:pt x="4622" y="1348"/>
                </a:lnTo>
                <a:lnTo>
                  <a:pt x="4634" y="1349"/>
                </a:lnTo>
                <a:lnTo>
                  <a:pt x="4644" y="1350"/>
                </a:lnTo>
                <a:lnTo>
                  <a:pt x="4651" y="1350"/>
                </a:lnTo>
                <a:lnTo>
                  <a:pt x="4657" y="1351"/>
                </a:lnTo>
                <a:lnTo>
                  <a:pt x="4658" y="1351"/>
                </a:lnTo>
                <a:lnTo>
                  <a:pt x="4698" y="1364"/>
                </a:lnTo>
                <a:lnTo>
                  <a:pt x="4739" y="1373"/>
                </a:lnTo>
                <a:lnTo>
                  <a:pt x="4782" y="1381"/>
                </a:lnTo>
                <a:lnTo>
                  <a:pt x="4824" y="1386"/>
                </a:lnTo>
                <a:lnTo>
                  <a:pt x="4911" y="1396"/>
                </a:lnTo>
                <a:lnTo>
                  <a:pt x="4953" y="1401"/>
                </a:lnTo>
                <a:lnTo>
                  <a:pt x="4995" y="1406"/>
                </a:lnTo>
                <a:lnTo>
                  <a:pt x="5035" y="1420"/>
                </a:lnTo>
                <a:lnTo>
                  <a:pt x="5076" y="1434"/>
                </a:lnTo>
                <a:lnTo>
                  <a:pt x="5116" y="1448"/>
                </a:lnTo>
                <a:lnTo>
                  <a:pt x="5127" y="1452"/>
                </a:lnTo>
                <a:lnTo>
                  <a:pt x="5137" y="1456"/>
                </a:lnTo>
                <a:lnTo>
                  <a:pt x="5157" y="1468"/>
                </a:lnTo>
                <a:lnTo>
                  <a:pt x="5177" y="1480"/>
                </a:lnTo>
                <a:lnTo>
                  <a:pt x="5187" y="1484"/>
                </a:lnTo>
                <a:lnTo>
                  <a:pt x="5197" y="1489"/>
                </a:lnTo>
                <a:lnTo>
                  <a:pt x="5217" y="1510"/>
                </a:lnTo>
                <a:lnTo>
                  <a:pt x="5227" y="1520"/>
                </a:lnTo>
                <a:lnTo>
                  <a:pt x="5238" y="1529"/>
                </a:lnTo>
                <a:lnTo>
                  <a:pt x="5249" y="1538"/>
                </a:lnTo>
                <a:lnTo>
                  <a:pt x="5262" y="1547"/>
                </a:lnTo>
                <a:lnTo>
                  <a:pt x="5275" y="1556"/>
                </a:lnTo>
                <a:lnTo>
                  <a:pt x="5288" y="1565"/>
                </a:lnTo>
                <a:lnTo>
                  <a:pt x="5300" y="1573"/>
                </a:lnTo>
                <a:lnTo>
                  <a:pt x="5310" y="1578"/>
                </a:lnTo>
                <a:lnTo>
                  <a:pt x="5316" y="1583"/>
                </a:lnTo>
                <a:lnTo>
                  <a:pt x="5317" y="1584"/>
                </a:lnTo>
                <a:lnTo>
                  <a:pt x="5319" y="1584"/>
                </a:lnTo>
                <a:lnTo>
                  <a:pt x="5345" y="1625"/>
                </a:lnTo>
                <a:lnTo>
                  <a:pt x="5373" y="1666"/>
                </a:lnTo>
                <a:lnTo>
                  <a:pt x="5381" y="1675"/>
                </a:lnTo>
                <a:lnTo>
                  <a:pt x="5390" y="1683"/>
                </a:lnTo>
                <a:lnTo>
                  <a:pt x="5410" y="1697"/>
                </a:lnTo>
                <a:lnTo>
                  <a:pt x="5432" y="1709"/>
                </a:lnTo>
                <a:lnTo>
                  <a:pt x="5454" y="1721"/>
                </a:lnTo>
                <a:lnTo>
                  <a:pt x="5478" y="1736"/>
                </a:lnTo>
                <a:lnTo>
                  <a:pt x="5503" y="1749"/>
                </a:lnTo>
                <a:lnTo>
                  <a:pt x="5530" y="1760"/>
                </a:lnTo>
                <a:lnTo>
                  <a:pt x="5559" y="1769"/>
                </a:lnTo>
                <a:lnTo>
                  <a:pt x="5586" y="1778"/>
                </a:lnTo>
                <a:lnTo>
                  <a:pt x="5617" y="1785"/>
                </a:lnTo>
                <a:lnTo>
                  <a:pt x="5677" y="1796"/>
                </a:lnTo>
                <a:lnTo>
                  <a:pt x="5738" y="1803"/>
                </a:lnTo>
                <a:lnTo>
                  <a:pt x="5800" y="1808"/>
                </a:lnTo>
                <a:lnTo>
                  <a:pt x="5858" y="1813"/>
                </a:lnTo>
                <a:lnTo>
                  <a:pt x="5886" y="1815"/>
                </a:lnTo>
                <a:lnTo>
                  <a:pt x="5912" y="1817"/>
                </a:lnTo>
                <a:lnTo>
                  <a:pt x="5989" y="1843"/>
                </a:lnTo>
                <a:lnTo>
                  <a:pt x="6068" y="1867"/>
                </a:lnTo>
                <a:lnTo>
                  <a:pt x="6145" y="1891"/>
                </a:lnTo>
                <a:lnTo>
                  <a:pt x="6223" y="1912"/>
                </a:lnTo>
                <a:lnTo>
                  <a:pt x="6235" y="1915"/>
                </a:lnTo>
                <a:lnTo>
                  <a:pt x="6248" y="1919"/>
                </a:lnTo>
                <a:lnTo>
                  <a:pt x="6264" y="1922"/>
                </a:lnTo>
                <a:lnTo>
                  <a:pt x="6280" y="1925"/>
                </a:lnTo>
                <a:lnTo>
                  <a:pt x="6314" y="1933"/>
                </a:lnTo>
                <a:lnTo>
                  <a:pt x="6350" y="1942"/>
                </a:lnTo>
                <a:lnTo>
                  <a:pt x="6386" y="1952"/>
                </a:lnTo>
                <a:lnTo>
                  <a:pt x="6403" y="1959"/>
                </a:lnTo>
                <a:lnTo>
                  <a:pt x="6418" y="1964"/>
                </a:lnTo>
                <a:lnTo>
                  <a:pt x="6433" y="1971"/>
                </a:lnTo>
                <a:lnTo>
                  <a:pt x="6445" y="1979"/>
                </a:lnTo>
                <a:lnTo>
                  <a:pt x="6457" y="1987"/>
                </a:lnTo>
                <a:lnTo>
                  <a:pt x="6466" y="1995"/>
                </a:lnTo>
                <a:lnTo>
                  <a:pt x="6426" y="2282"/>
                </a:lnTo>
                <a:close/>
              </a:path>
            </a:pathLst>
          </a:custGeom>
          <a:solidFill>
            <a:srgbClr val="00cc99"/>
          </a:solidFill>
          <a:ln w="42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541440" y="1195560"/>
            <a:ext cx="2892240" cy="2052360"/>
            <a:chOff x="541440" y="1195560"/>
            <a:chExt cx="2892240" cy="2052360"/>
          </a:xfrm>
        </p:grpSpPr>
        <p:sp>
          <p:nvSpPr>
            <p:cNvPr id="556" name=""/>
            <p:cNvSpPr/>
            <p:nvPr/>
          </p:nvSpPr>
          <p:spPr>
            <a:xfrm>
              <a:off x="541440" y="1195560"/>
              <a:ext cx="2892240" cy="2052360"/>
            </a:xfrm>
            <a:custGeom>
              <a:avLst/>
              <a:gdLst/>
              <a:ahLst/>
              <a:rect l="l" t="t" r="r" b="b"/>
              <a:pathLst>
                <a:path w="3644" h="2676">
                  <a:moveTo>
                    <a:pt x="0" y="1694"/>
                  </a:moveTo>
                  <a:lnTo>
                    <a:pt x="11" y="1689"/>
                  </a:lnTo>
                  <a:lnTo>
                    <a:pt x="23" y="1684"/>
                  </a:lnTo>
                  <a:lnTo>
                    <a:pt x="34" y="1679"/>
                  </a:lnTo>
                  <a:lnTo>
                    <a:pt x="39" y="1678"/>
                  </a:lnTo>
                  <a:lnTo>
                    <a:pt x="45" y="1679"/>
                  </a:lnTo>
                  <a:lnTo>
                    <a:pt x="57" y="1684"/>
                  </a:lnTo>
                  <a:lnTo>
                    <a:pt x="68" y="1690"/>
                  </a:lnTo>
                  <a:lnTo>
                    <a:pt x="91" y="1706"/>
                  </a:lnTo>
                  <a:lnTo>
                    <a:pt x="112" y="1723"/>
                  </a:lnTo>
                  <a:lnTo>
                    <a:pt x="134" y="1738"/>
                  </a:lnTo>
                  <a:lnTo>
                    <a:pt x="144" y="1744"/>
                  </a:lnTo>
                  <a:lnTo>
                    <a:pt x="154" y="1749"/>
                  </a:lnTo>
                  <a:lnTo>
                    <a:pt x="178" y="1756"/>
                  </a:lnTo>
                  <a:lnTo>
                    <a:pt x="200" y="1762"/>
                  </a:lnTo>
                  <a:lnTo>
                    <a:pt x="224" y="1768"/>
                  </a:lnTo>
                  <a:lnTo>
                    <a:pt x="298" y="1791"/>
                  </a:lnTo>
                  <a:lnTo>
                    <a:pt x="374" y="1810"/>
                  </a:lnTo>
                  <a:lnTo>
                    <a:pt x="450" y="1827"/>
                  </a:lnTo>
                  <a:lnTo>
                    <a:pt x="527" y="1842"/>
                  </a:lnTo>
                  <a:lnTo>
                    <a:pt x="681" y="1870"/>
                  </a:lnTo>
                  <a:lnTo>
                    <a:pt x="758" y="1886"/>
                  </a:lnTo>
                  <a:lnTo>
                    <a:pt x="834" y="1902"/>
                  </a:lnTo>
                  <a:lnTo>
                    <a:pt x="851" y="1915"/>
                  </a:lnTo>
                  <a:lnTo>
                    <a:pt x="867" y="1927"/>
                  </a:lnTo>
                  <a:lnTo>
                    <a:pt x="899" y="1953"/>
                  </a:lnTo>
                  <a:lnTo>
                    <a:pt x="915" y="1964"/>
                  </a:lnTo>
                  <a:lnTo>
                    <a:pt x="932" y="1975"/>
                  </a:lnTo>
                  <a:lnTo>
                    <a:pt x="949" y="1984"/>
                  </a:lnTo>
                  <a:lnTo>
                    <a:pt x="968" y="1992"/>
                  </a:lnTo>
                  <a:lnTo>
                    <a:pt x="1024" y="2007"/>
                  </a:lnTo>
                  <a:lnTo>
                    <a:pt x="1080" y="2022"/>
                  </a:lnTo>
                  <a:lnTo>
                    <a:pt x="1136" y="2035"/>
                  </a:lnTo>
                  <a:lnTo>
                    <a:pt x="1191" y="2051"/>
                  </a:lnTo>
                  <a:lnTo>
                    <a:pt x="1195" y="2053"/>
                  </a:lnTo>
                  <a:lnTo>
                    <a:pt x="1201" y="2058"/>
                  </a:lnTo>
                  <a:lnTo>
                    <a:pt x="1209" y="2064"/>
                  </a:lnTo>
                  <a:lnTo>
                    <a:pt x="1220" y="2071"/>
                  </a:lnTo>
                  <a:lnTo>
                    <a:pt x="1232" y="2080"/>
                  </a:lnTo>
                  <a:lnTo>
                    <a:pt x="1246" y="2090"/>
                  </a:lnTo>
                  <a:lnTo>
                    <a:pt x="1275" y="2111"/>
                  </a:lnTo>
                  <a:lnTo>
                    <a:pt x="1305" y="2131"/>
                  </a:lnTo>
                  <a:lnTo>
                    <a:pt x="1320" y="2141"/>
                  </a:lnTo>
                  <a:lnTo>
                    <a:pt x="1333" y="2150"/>
                  </a:lnTo>
                  <a:lnTo>
                    <a:pt x="1344" y="2157"/>
                  </a:lnTo>
                  <a:lnTo>
                    <a:pt x="1356" y="2164"/>
                  </a:lnTo>
                  <a:lnTo>
                    <a:pt x="1364" y="2168"/>
                  </a:lnTo>
                  <a:lnTo>
                    <a:pt x="1370" y="2170"/>
                  </a:lnTo>
                  <a:lnTo>
                    <a:pt x="1549" y="2214"/>
                  </a:lnTo>
                  <a:lnTo>
                    <a:pt x="1638" y="2236"/>
                  </a:lnTo>
                  <a:lnTo>
                    <a:pt x="1727" y="2260"/>
                  </a:lnTo>
                  <a:lnTo>
                    <a:pt x="1744" y="2264"/>
                  </a:lnTo>
                  <a:lnTo>
                    <a:pt x="1762" y="2268"/>
                  </a:lnTo>
                  <a:lnTo>
                    <a:pt x="1781" y="2272"/>
                  </a:lnTo>
                  <a:lnTo>
                    <a:pt x="1802" y="2277"/>
                  </a:lnTo>
                  <a:lnTo>
                    <a:pt x="1843" y="2283"/>
                  </a:lnTo>
                  <a:lnTo>
                    <a:pt x="1885" y="2291"/>
                  </a:lnTo>
                  <a:lnTo>
                    <a:pt x="1904" y="2293"/>
                  </a:lnTo>
                  <a:lnTo>
                    <a:pt x="1922" y="2297"/>
                  </a:lnTo>
                  <a:lnTo>
                    <a:pt x="1938" y="2299"/>
                  </a:lnTo>
                  <a:lnTo>
                    <a:pt x="1952" y="2301"/>
                  </a:lnTo>
                  <a:lnTo>
                    <a:pt x="1964" y="2302"/>
                  </a:lnTo>
                  <a:lnTo>
                    <a:pt x="1972" y="2303"/>
                  </a:lnTo>
                  <a:lnTo>
                    <a:pt x="1977" y="2304"/>
                  </a:lnTo>
                  <a:lnTo>
                    <a:pt x="1980" y="2304"/>
                  </a:lnTo>
                  <a:lnTo>
                    <a:pt x="1993" y="2309"/>
                  </a:lnTo>
                  <a:lnTo>
                    <a:pt x="2004" y="2314"/>
                  </a:lnTo>
                  <a:lnTo>
                    <a:pt x="2014" y="2320"/>
                  </a:lnTo>
                  <a:lnTo>
                    <a:pt x="2022" y="2325"/>
                  </a:lnTo>
                  <a:lnTo>
                    <a:pt x="2028" y="2330"/>
                  </a:lnTo>
                  <a:lnTo>
                    <a:pt x="2033" y="2336"/>
                  </a:lnTo>
                  <a:lnTo>
                    <a:pt x="2043" y="2347"/>
                  </a:lnTo>
                  <a:lnTo>
                    <a:pt x="2051" y="2358"/>
                  </a:lnTo>
                  <a:lnTo>
                    <a:pt x="2062" y="2370"/>
                  </a:lnTo>
                  <a:lnTo>
                    <a:pt x="2069" y="2376"/>
                  </a:lnTo>
                  <a:lnTo>
                    <a:pt x="2078" y="2381"/>
                  </a:lnTo>
                  <a:lnTo>
                    <a:pt x="2087" y="2388"/>
                  </a:lnTo>
                  <a:lnTo>
                    <a:pt x="2099" y="2394"/>
                  </a:lnTo>
                  <a:lnTo>
                    <a:pt x="2121" y="2403"/>
                  </a:lnTo>
                  <a:lnTo>
                    <a:pt x="2144" y="2411"/>
                  </a:lnTo>
                  <a:lnTo>
                    <a:pt x="2166" y="2417"/>
                  </a:lnTo>
                  <a:lnTo>
                    <a:pt x="2188" y="2424"/>
                  </a:lnTo>
                  <a:lnTo>
                    <a:pt x="2194" y="2426"/>
                  </a:lnTo>
                  <a:lnTo>
                    <a:pt x="2202" y="2428"/>
                  </a:lnTo>
                  <a:lnTo>
                    <a:pt x="2216" y="2433"/>
                  </a:lnTo>
                  <a:lnTo>
                    <a:pt x="2223" y="2435"/>
                  </a:lnTo>
                  <a:lnTo>
                    <a:pt x="2229" y="2437"/>
                  </a:lnTo>
                  <a:lnTo>
                    <a:pt x="2232" y="2438"/>
                  </a:lnTo>
                  <a:lnTo>
                    <a:pt x="2233" y="2438"/>
                  </a:lnTo>
                  <a:lnTo>
                    <a:pt x="2244" y="2446"/>
                  </a:lnTo>
                  <a:lnTo>
                    <a:pt x="2256" y="2453"/>
                  </a:lnTo>
                  <a:lnTo>
                    <a:pt x="2268" y="2460"/>
                  </a:lnTo>
                  <a:lnTo>
                    <a:pt x="2278" y="2469"/>
                  </a:lnTo>
                  <a:lnTo>
                    <a:pt x="2285" y="2480"/>
                  </a:lnTo>
                  <a:lnTo>
                    <a:pt x="2291" y="2492"/>
                  </a:lnTo>
                  <a:lnTo>
                    <a:pt x="2298" y="2504"/>
                  </a:lnTo>
                  <a:lnTo>
                    <a:pt x="2302" y="2509"/>
                  </a:lnTo>
                  <a:lnTo>
                    <a:pt x="2308" y="2513"/>
                  </a:lnTo>
                  <a:lnTo>
                    <a:pt x="2319" y="2519"/>
                  </a:lnTo>
                  <a:lnTo>
                    <a:pt x="2334" y="2524"/>
                  </a:lnTo>
                  <a:lnTo>
                    <a:pt x="2348" y="2530"/>
                  </a:lnTo>
                  <a:lnTo>
                    <a:pt x="2363" y="2534"/>
                  </a:lnTo>
                  <a:lnTo>
                    <a:pt x="2376" y="2538"/>
                  </a:lnTo>
                  <a:lnTo>
                    <a:pt x="2387" y="2540"/>
                  </a:lnTo>
                  <a:lnTo>
                    <a:pt x="2392" y="2541"/>
                  </a:lnTo>
                  <a:lnTo>
                    <a:pt x="2395" y="2542"/>
                  </a:lnTo>
                  <a:lnTo>
                    <a:pt x="2396" y="2542"/>
                  </a:lnTo>
                  <a:lnTo>
                    <a:pt x="2397" y="2542"/>
                  </a:lnTo>
                  <a:lnTo>
                    <a:pt x="2428" y="2561"/>
                  </a:lnTo>
                  <a:lnTo>
                    <a:pt x="2460" y="2578"/>
                  </a:lnTo>
                  <a:lnTo>
                    <a:pt x="2492" y="2591"/>
                  </a:lnTo>
                  <a:lnTo>
                    <a:pt x="2526" y="2604"/>
                  </a:lnTo>
                  <a:lnTo>
                    <a:pt x="2559" y="2614"/>
                  </a:lnTo>
                  <a:lnTo>
                    <a:pt x="2594" y="2622"/>
                  </a:lnTo>
                  <a:lnTo>
                    <a:pt x="2628" y="2627"/>
                  </a:lnTo>
                  <a:lnTo>
                    <a:pt x="2663" y="2633"/>
                  </a:lnTo>
                  <a:lnTo>
                    <a:pt x="2699" y="2636"/>
                  </a:lnTo>
                  <a:lnTo>
                    <a:pt x="2734" y="2639"/>
                  </a:lnTo>
                  <a:lnTo>
                    <a:pt x="2806" y="2643"/>
                  </a:lnTo>
                  <a:lnTo>
                    <a:pt x="2877" y="2645"/>
                  </a:lnTo>
                  <a:lnTo>
                    <a:pt x="2948" y="2647"/>
                  </a:lnTo>
                  <a:lnTo>
                    <a:pt x="2992" y="2656"/>
                  </a:lnTo>
                  <a:lnTo>
                    <a:pt x="3037" y="2665"/>
                  </a:lnTo>
                  <a:lnTo>
                    <a:pt x="3059" y="2670"/>
                  </a:lnTo>
                  <a:lnTo>
                    <a:pt x="3081" y="2673"/>
                  </a:lnTo>
                  <a:lnTo>
                    <a:pt x="3104" y="2675"/>
                  </a:lnTo>
                  <a:lnTo>
                    <a:pt x="3126" y="2676"/>
                  </a:lnTo>
                  <a:lnTo>
                    <a:pt x="3644" y="0"/>
                  </a:lnTo>
                  <a:lnTo>
                    <a:pt x="0" y="0"/>
                  </a:lnTo>
                  <a:lnTo>
                    <a:pt x="0" y="169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1440" y="1195560"/>
              <a:ext cx="2892240" cy="2052360"/>
            </a:xfrm>
            <a:custGeom>
              <a:avLst/>
              <a:gdLst/>
              <a:ahLst/>
              <a:rect l="l" t="t" r="r" b="b"/>
              <a:pathLst>
                <a:path w="3644" h="2676">
                  <a:moveTo>
                    <a:pt x="0" y="1694"/>
                  </a:moveTo>
                  <a:lnTo>
                    <a:pt x="11" y="1689"/>
                  </a:lnTo>
                  <a:lnTo>
                    <a:pt x="23" y="1684"/>
                  </a:lnTo>
                  <a:lnTo>
                    <a:pt x="34" y="1679"/>
                  </a:lnTo>
                  <a:lnTo>
                    <a:pt x="39" y="1678"/>
                  </a:lnTo>
                  <a:lnTo>
                    <a:pt x="45" y="1679"/>
                  </a:lnTo>
                  <a:lnTo>
                    <a:pt x="57" y="1684"/>
                  </a:lnTo>
                  <a:lnTo>
                    <a:pt x="68" y="1690"/>
                  </a:lnTo>
                  <a:lnTo>
                    <a:pt x="91" y="1706"/>
                  </a:lnTo>
                  <a:lnTo>
                    <a:pt x="112" y="1723"/>
                  </a:lnTo>
                  <a:lnTo>
                    <a:pt x="134" y="1738"/>
                  </a:lnTo>
                  <a:lnTo>
                    <a:pt x="144" y="1744"/>
                  </a:lnTo>
                  <a:lnTo>
                    <a:pt x="154" y="1749"/>
                  </a:lnTo>
                  <a:lnTo>
                    <a:pt x="178" y="1756"/>
                  </a:lnTo>
                  <a:lnTo>
                    <a:pt x="200" y="1762"/>
                  </a:lnTo>
                  <a:lnTo>
                    <a:pt x="224" y="1768"/>
                  </a:lnTo>
                  <a:lnTo>
                    <a:pt x="298" y="1791"/>
                  </a:lnTo>
                  <a:lnTo>
                    <a:pt x="374" y="1810"/>
                  </a:lnTo>
                  <a:lnTo>
                    <a:pt x="450" y="1827"/>
                  </a:lnTo>
                  <a:lnTo>
                    <a:pt x="527" y="1842"/>
                  </a:lnTo>
                  <a:lnTo>
                    <a:pt x="681" y="1870"/>
                  </a:lnTo>
                  <a:lnTo>
                    <a:pt x="758" y="1886"/>
                  </a:lnTo>
                  <a:lnTo>
                    <a:pt x="834" y="1902"/>
                  </a:lnTo>
                  <a:lnTo>
                    <a:pt x="851" y="1915"/>
                  </a:lnTo>
                  <a:lnTo>
                    <a:pt x="867" y="1927"/>
                  </a:lnTo>
                  <a:lnTo>
                    <a:pt x="899" y="1953"/>
                  </a:lnTo>
                  <a:lnTo>
                    <a:pt x="915" y="1964"/>
                  </a:lnTo>
                  <a:lnTo>
                    <a:pt x="932" y="1975"/>
                  </a:lnTo>
                  <a:lnTo>
                    <a:pt x="949" y="1984"/>
                  </a:lnTo>
                  <a:lnTo>
                    <a:pt x="968" y="1992"/>
                  </a:lnTo>
                  <a:lnTo>
                    <a:pt x="1024" y="2007"/>
                  </a:lnTo>
                  <a:lnTo>
                    <a:pt x="1080" y="2022"/>
                  </a:lnTo>
                  <a:lnTo>
                    <a:pt x="1136" y="2035"/>
                  </a:lnTo>
                  <a:lnTo>
                    <a:pt x="1191" y="2051"/>
                  </a:lnTo>
                  <a:lnTo>
                    <a:pt x="1195" y="2053"/>
                  </a:lnTo>
                  <a:lnTo>
                    <a:pt x="1201" y="2058"/>
                  </a:lnTo>
                  <a:lnTo>
                    <a:pt x="1209" y="2064"/>
                  </a:lnTo>
                  <a:lnTo>
                    <a:pt x="1220" y="2071"/>
                  </a:lnTo>
                  <a:lnTo>
                    <a:pt x="1232" y="2080"/>
                  </a:lnTo>
                  <a:lnTo>
                    <a:pt x="1246" y="2090"/>
                  </a:lnTo>
                  <a:lnTo>
                    <a:pt x="1275" y="2111"/>
                  </a:lnTo>
                  <a:lnTo>
                    <a:pt x="1305" y="2131"/>
                  </a:lnTo>
                  <a:lnTo>
                    <a:pt x="1320" y="2141"/>
                  </a:lnTo>
                  <a:lnTo>
                    <a:pt x="1333" y="2150"/>
                  </a:lnTo>
                  <a:lnTo>
                    <a:pt x="1344" y="2157"/>
                  </a:lnTo>
                  <a:lnTo>
                    <a:pt x="1356" y="2164"/>
                  </a:lnTo>
                  <a:lnTo>
                    <a:pt x="1364" y="2168"/>
                  </a:lnTo>
                  <a:lnTo>
                    <a:pt x="1370" y="2170"/>
                  </a:lnTo>
                  <a:lnTo>
                    <a:pt x="1549" y="2214"/>
                  </a:lnTo>
                  <a:lnTo>
                    <a:pt x="1638" y="2236"/>
                  </a:lnTo>
                  <a:lnTo>
                    <a:pt x="1727" y="2260"/>
                  </a:lnTo>
                  <a:lnTo>
                    <a:pt x="1744" y="2264"/>
                  </a:lnTo>
                  <a:lnTo>
                    <a:pt x="1762" y="2268"/>
                  </a:lnTo>
                  <a:lnTo>
                    <a:pt x="1781" y="2272"/>
                  </a:lnTo>
                  <a:lnTo>
                    <a:pt x="1802" y="2277"/>
                  </a:lnTo>
                  <a:lnTo>
                    <a:pt x="1843" y="2283"/>
                  </a:lnTo>
                  <a:lnTo>
                    <a:pt x="1885" y="2291"/>
                  </a:lnTo>
                  <a:lnTo>
                    <a:pt x="1904" y="2293"/>
                  </a:lnTo>
                  <a:lnTo>
                    <a:pt x="1922" y="2297"/>
                  </a:lnTo>
                  <a:lnTo>
                    <a:pt x="1938" y="2299"/>
                  </a:lnTo>
                  <a:lnTo>
                    <a:pt x="1952" y="2301"/>
                  </a:lnTo>
                  <a:lnTo>
                    <a:pt x="1964" y="2302"/>
                  </a:lnTo>
                  <a:lnTo>
                    <a:pt x="1972" y="2303"/>
                  </a:lnTo>
                  <a:lnTo>
                    <a:pt x="1977" y="2304"/>
                  </a:lnTo>
                  <a:lnTo>
                    <a:pt x="1980" y="2304"/>
                  </a:lnTo>
                  <a:lnTo>
                    <a:pt x="1993" y="2309"/>
                  </a:lnTo>
                  <a:lnTo>
                    <a:pt x="2004" y="2314"/>
                  </a:lnTo>
                  <a:lnTo>
                    <a:pt x="2014" y="2320"/>
                  </a:lnTo>
                  <a:lnTo>
                    <a:pt x="2022" y="2325"/>
                  </a:lnTo>
                  <a:lnTo>
                    <a:pt x="2028" y="2330"/>
                  </a:lnTo>
                  <a:lnTo>
                    <a:pt x="2033" y="2336"/>
                  </a:lnTo>
                  <a:lnTo>
                    <a:pt x="2043" y="2347"/>
                  </a:lnTo>
                  <a:lnTo>
                    <a:pt x="2051" y="2358"/>
                  </a:lnTo>
                  <a:lnTo>
                    <a:pt x="2062" y="2370"/>
                  </a:lnTo>
                  <a:lnTo>
                    <a:pt x="2069" y="2376"/>
                  </a:lnTo>
                  <a:lnTo>
                    <a:pt x="2078" y="2381"/>
                  </a:lnTo>
                  <a:lnTo>
                    <a:pt x="2087" y="2388"/>
                  </a:lnTo>
                  <a:lnTo>
                    <a:pt x="2099" y="2394"/>
                  </a:lnTo>
                  <a:lnTo>
                    <a:pt x="2121" y="2403"/>
                  </a:lnTo>
                  <a:lnTo>
                    <a:pt x="2144" y="2411"/>
                  </a:lnTo>
                  <a:lnTo>
                    <a:pt x="2166" y="2417"/>
                  </a:lnTo>
                  <a:lnTo>
                    <a:pt x="2188" y="2424"/>
                  </a:lnTo>
                  <a:lnTo>
                    <a:pt x="2194" y="2426"/>
                  </a:lnTo>
                  <a:lnTo>
                    <a:pt x="2202" y="2428"/>
                  </a:lnTo>
                  <a:lnTo>
                    <a:pt x="2216" y="2433"/>
                  </a:lnTo>
                  <a:lnTo>
                    <a:pt x="2223" y="2435"/>
                  </a:lnTo>
                  <a:lnTo>
                    <a:pt x="2229" y="2437"/>
                  </a:lnTo>
                  <a:lnTo>
                    <a:pt x="2232" y="2438"/>
                  </a:lnTo>
                  <a:lnTo>
                    <a:pt x="2233" y="2438"/>
                  </a:lnTo>
                  <a:lnTo>
                    <a:pt x="2244" y="2446"/>
                  </a:lnTo>
                  <a:lnTo>
                    <a:pt x="2256" y="2453"/>
                  </a:lnTo>
                  <a:lnTo>
                    <a:pt x="2268" y="2460"/>
                  </a:lnTo>
                  <a:lnTo>
                    <a:pt x="2278" y="2469"/>
                  </a:lnTo>
                  <a:lnTo>
                    <a:pt x="2285" y="2480"/>
                  </a:lnTo>
                  <a:lnTo>
                    <a:pt x="2291" y="2492"/>
                  </a:lnTo>
                  <a:lnTo>
                    <a:pt x="2298" y="2504"/>
                  </a:lnTo>
                  <a:lnTo>
                    <a:pt x="2302" y="2509"/>
                  </a:lnTo>
                  <a:lnTo>
                    <a:pt x="2308" y="2513"/>
                  </a:lnTo>
                  <a:lnTo>
                    <a:pt x="2319" y="2519"/>
                  </a:lnTo>
                  <a:lnTo>
                    <a:pt x="2334" y="2524"/>
                  </a:lnTo>
                  <a:lnTo>
                    <a:pt x="2348" y="2530"/>
                  </a:lnTo>
                  <a:lnTo>
                    <a:pt x="2363" y="2534"/>
                  </a:lnTo>
                  <a:lnTo>
                    <a:pt x="2376" y="2538"/>
                  </a:lnTo>
                  <a:lnTo>
                    <a:pt x="2387" y="2540"/>
                  </a:lnTo>
                  <a:lnTo>
                    <a:pt x="2392" y="2541"/>
                  </a:lnTo>
                  <a:lnTo>
                    <a:pt x="2395" y="2542"/>
                  </a:lnTo>
                  <a:lnTo>
                    <a:pt x="2396" y="2542"/>
                  </a:lnTo>
                  <a:lnTo>
                    <a:pt x="2397" y="2542"/>
                  </a:lnTo>
                  <a:lnTo>
                    <a:pt x="2428" y="2561"/>
                  </a:lnTo>
                  <a:lnTo>
                    <a:pt x="2460" y="2578"/>
                  </a:lnTo>
                  <a:lnTo>
                    <a:pt x="2492" y="2591"/>
                  </a:lnTo>
                  <a:lnTo>
                    <a:pt x="2526" y="2604"/>
                  </a:lnTo>
                  <a:lnTo>
                    <a:pt x="2559" y="2614"/>
                  </a:lnTo>
                  <a:lnTo>
                    <a:pt x="2594" y="2622"/>
                  </a:lnTo>
                  <a:lnTo>
                    <a:pt x="2628" y="2627"/>
                  </a:lnTo>
                  <a:lnTo>
                    <a:pt x="2663" y="2633"/>
                  </a:lnTo>
                  <a:lnTo>
                    <a:pt x="2699" y="2636"/>
                  </a:lnTo>
                  <a:lnTo>
                    <a:pt x="2734" y="2639"/>
                  </a:lnTo>
                  <a:lnTo>
                    <a:pt x="2806" y="2643"/>
                  </a:lnTo>
                  <a:lnTo>
                    <a:pt x="2877" y="2645"/>
                  </a:lnTo>
                  <a:lnTo>
                    <a:pt x="2948" y="2647"/>
                  </a:lnTo>
                  <a:lnTo>
                    <a:pt x="2992" y="2656"/>
                  </a:lnTo>
                  <a:lnTo>
                    <a:pt x="3037" y="2665"/>
                  </a:lnTo>
                  <a:lnTo>
                    <a:pt x="3059" y="2670"/>
                  </a:lnTo>
                  <a:lnTo>
                    <a:pt x="3081" y="2673"/>
                  </a:lnTo>
                  <a:lnTo>
                    <a:pt x="3104" y="2675"/>
                  </a:lnTo>
                  <a:lnTo>
                    <a:pt x="3126" y="2676"/>
                  </a:lnTo>
                  <a:lnTo>
                    <a:pt x="3644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 flipH="1">
            <a:off x="525600" y="1841400"/>
            <a:ext cx="2806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4120" y="1168560"/>
            <a:ext cx="17017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90840" y="1420920"/>
            <a:ext cx="211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ível d’água (N.A.) máximo : 303,98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5160" y="1806480"/>
            <a:ext cx="1830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46640" y="1838160"/>
            <a:ext cx="209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Nível d’água (N.A.) mínimo : 299,00 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375000" y="1380960"/>
            <a:ext cx="723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28280" y="1413000"/>
            <a:ext cx="55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Barrag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95640" y="1995480"/>
            <a:ext cx="1773360" cy="1820880"/>
          </a:xfrm>
          <a:custGeom>
            <a:avLst/>
            <a:gdLst/>
            <a:ahLst/>
            <a:rect l="l" t="t" r="r" b="b"/>
            <a:pathLst>
              <a:path w="2233" h="2292">
                <a:moveTo>
                  <a:pt x="118" y="18"/>
                </a:moveTo>
                <a:lnTo>
                  <a:pt x="139" y="30"/>
                </a:lnTo>
                <a:lnTo>
                  <a:pt x="162" y="42"/>
                </a:lnTo>
                <a:lnTo>
                  <a:pt x="186" y="57"/>
                </a:lnTo>
                <a:lnTo>
                  <a:pt x="213" y="72"/>
                </a:lnTo>
                <a:lnTo>
                  <a:pt x="241" y="89"/>
                </a:lnTo>
                <a:lnTo>
                  <a:pt x="271" y="109"/>
                </a:lnTo>
                <a:lnTo>
                  <a:pt x="302" y="132"/>
                </a:lnTo>
                <a:lnTo>
                  <a:pt x="336" y="156"/>
                </a:lnTo>
                <a:lnTo>
                  <a:pt x="369" y="184"/>
                </a:lnTo>
                <a:lnTo>
                  <a:pt x="404" y="215"/>
                </a:lnTo>
                <a:lnTo>
                  <a:pt x="441" y="251"/>
                </a:lnTo>
                <a:lnTo>
                  <a:pt x="478" y="290"/>
                </a:lnTo>
                <a:lnTo>
                  <a:pt x="496" y="311"/>
                </a:lnTo>
                <a:lnTo>
                  <a:pt x="515" y="334"/>
                </a:lnTo>
                <a:lnTo>
                  <a:pt x="534" y="357"/>
                </a:lnTo>
                <a:lnTo>
                  <a:pt x="552" y="382"/>
                </a:lnTo>
                <a:lnTo>
                  <a:pt x="573" y="407"/>
                </a:lnTo>
                <a:lnTo>
                  <a:pt x="592" y="435"/>
                </a:lnTo>
                <a:lnTo>
                  <a:pt x="612" y="463"/>
                </a:lnTo>
                <a:lnTo>
                  <a:pt x="631" y="493"/>
                </a:lnTo>
                <a:lnTo>
                  <a:pt x="651" y="526"/>
                </a:lnTo>
                <a:lnTo>
                  <a:pt x="671" y="560"/>
                </a:lnTo>
                <a:lnTo>
                  <a:pt x="691" y="598"/>
                </a:lnTo>
                <a:lnTo>
                  <a:pt x="712" y="638"/>
                </a:lnTo>
                <a:lnTo>
                  <a:pt x="733" y="681"/>
                </a:lnTo>
                <a:lnTo>
                  <a:pt x="755" y="727"/>
                </a:lnTo>
                <a:lnTo>
                  <a:pt x="776" y="774"/>
                </a:lnTo>
                <a:lnTo>
                  <a:pt x="798" y="822"/>
                </a:lnTo>
                <a:lnTo>
                  <a:pt x="820" y="872"/>
                </a:lnTo>
                <a:lnTo>
                  <a:pt x="843" y="923"/>
                </a:lnTo>
                <a:lnTo>
                  <a:pt x="866" y="976"/>
                </a:lnTo>
                <a:lnTo>
                  <a:pt x="889" y="1029"/>
                </a:lnTo>
                <a:lnTo>
                  <a:pt x="935" y="1139"/>
                </a:lnTo>
                <a:lnTo>
                  <a:pt x="982" y="1249"/>
                </a:lnTo>
                <a:lnTo>
                  <a:pt x="1030" y="1359"/>
                </a:lnTo>
                <a:lnTo>
                  <a:pt x="1078" y="1466"/>
                </a:lnTo>
                <a:lnTo>
                  <a:pt x="1103" y="1518"/>
                </a:lnTo>
                <a:lnTo>
                  <a:pt x="1127" y="1570"/>
                </a:lnTo>
                <a:lnTo>
                  <a:pt x="1151" y="1620"/>
                </a:lnTo>
                <a:lnTo>
                  <a:pt x="1175" y="1668"/>
                </a:lnTo>
                <a:lnTo>
                  <a:pt x="1200" y="1714"/>
                </a:lnTo>
                <a:lnTo>
                  <a:pt x="1225" y="1758"/>
                </a:lnTo>
                <a:lnTo>
                  <a:pt x="1249" y="1801"/>
                </a:lnTo>
                <a:lnTo>
                  <a:pt x="1274" y="1841"/>
                </a:lnTo>
                <a:lnTo>
                  <a:pt x="1297" y="1878"/>
                </a:lnTo>
                <a:lnTo>
                  <a:pt x="1322" y="1913"/>
                </a:lnTo>
                <a:lnTo>
                  <a:pt x="1346" y="1944"/>
                </a:lnTo>
                <a:lnTo>
                  <a:pt x="1370" y="1972"/>
                </a:lnTo>
                <a:lnTo>
                  <a:pt x="1394" y="1997"/>
                </a:lnTo>
                <a:lnTo>
                  <a:pt x="1420" y="2020"/>
                </a:lnTo>
                <a:lnTo>
                  <a:pt x="1446" y="2041"/>
                </a:lnTo>
                <a:lnTo>
                  <a:pt x="1472" y="2060"/>
                </a:lnTo>
                <a:lnTo>
                  <a:pt x="1500" y="2077"/>
                </a:lnTo>
                <a:lnTo>
                  <a:pt x="1528" y="2091"/>
                </a:lnTo>
                <a:lnTo>
                  <a:pt x="1556" y="2105"/>
                </a:lnTo>
                <a:lnTo>
                  <a:pt x="1585" y="2116"/>
                </a:lnTo>
                <a:lnTo>
                  <a:pt x="1614" y="2126"/>
                </a:lnTo>
                <a:lnTo>
                  <a:pt x="1643" y="2135"/>
                </a:lnTo>
                <a:lnTo>
                  <a:pt x="1672" y="2143"/>
                </a:lnTo>
                <a:lnTo>
                  <a:pt x="1702" y="2148"/>
                </a:lnTo>
                <a:lnTo>
                  <a:pt x="1760" y="2157"/>
                </a:lnTo>
                <a:lnTo>
                  <a:pt x="1818" y="2163"/>
                </a:lnTo>
                <a:lnTo>
                  <a:pt x="1874" y="2166"/>
                </a:lnTo>
                <a:lnTo>
                  <a:pt x="1928" y="2167"/>
                </a:lnTo>
                <a:lnTo>
                  <a:pt x="1979" y="2167"/>
                </a:lnTo>
                <a:lnTo>
                  <a:pt x="2026" y="2167"/>
                </a:lnTo>
                <a:lnTo>
                  <a:pt x="2048" y="2167"/>
                </a:lnTo>
                <a:lnTo>
                  <a:pt x="2070" y="2168"/>
                </a:lnTo>
                <a:lnTo>
                  <a:pt x="2089" y="2169"/>
                </a:lnTo>
                <a:lnTo>
                  <a:pt x="2108" y="2170"/>
                </a:lnTo>
                <a:lnTo>
                  <a:pt x="2124" y="2173"/>
                </a:lnTo>
                <a:lnTo>
                  <a:pt x="2140" y="2175"/>
                </a:lnTo>
                <a:lnTo>
                  <a:pt x="2154" y="2178"/>
                </a:lnTo>
                <a:lnTo>
                  <a:pt x="2167" y="2183"/>
                </a:lnTo>
                <a:lnTo>
                  <a:pt x="2188" y="2193"/>
                </a:lnTo>
                <a:lnTo>
                  <a:pt x="2205" y="2203"/>
                </a:lnTo>
                <a:lnTo>
                  <a:pt x="2217" y="2212"/>
                </a:lnTo>
                <a:lnTo>
                  <a:pt x="2226" y="2222"/>
                </a:lnTo>
                <a:lnTo>
                  <a:pt x="2230" y="2231"/>
                </a:lnTo>
                <a:lnTo>
                  <a:pt x="2233" y="2239"/>
                </a:lnTo>
                <a:lnTo>
                  <a:pt x="2232" y="2248"/>
                </a:lnTo>
                <a:lnTo>
                  <a:pt x="2227" y="2255"/>
                </a:lnTo>
                <a:lnTo>
                  <a:pt x="2220" y="2262"/>
                </a:lnTo>
                <a:lnTo>
                  <a:pt x="2210" y="2269"/>
                </a:lnTo>
                <a:lnTo>
                  <a:pt x="2198" y="2274"/>
                </a:lnTo>
                <a:lnTo>
                  <a:pt x="2185" y="2279"/>
                </a:lnTo>
                <a:lnTo>
                  <a:pt x="2168" y="2282"/>
                </a:lnTo>
                <a:lnTo>
                  <a:pt x="2150" y="2285"/>
                </a:lnTo>
                <a:lnTo>
                  <a:pt x="2131" y="2287"/>
                </a:lnTo>
                <a:lnTo>
                  <a:pt x="2110" y="2288"/>
                </a:lnTo>
                <a:lnTo>
                  <a:pt x="2099" y="2288"/>
                </a:lnTo>
                <a:lnTo>
                  <a:pt x="2086" y="2288"/>
                </a:lnTo>
                <a:lnTo>
                  <a:pt x="2058" y="2289"/>
                </a:lnTo>
                <a:lnTo>
                  <a:pt x="2027" y="2290"/>
                </a:lnTo>
                <a:lnTo>
                  <a:pt x="1993" y="2291"/>
                </a:lnTo>
                <a:lnTo>
                  <a:pt x="1955" y="2292"/>
                </a:lnTo>
                <a:lnTo>
                  <a:pt x="1914" y="2292"/>
                </a:lnTo>
                <a:lnTo>
                  <a:pt x="1872" y="2290"/>
                </a:lnTo>
                <a:lnTo>
                  <a:pt x="1829" y="2288"/>
                </a:lnTo>
                <a:lnTo>
                  <a:pt x="1785" y="2284"/>
                </a:lnTo>
                <a:lnTo>
                  <a:pt x="1739" y="2278"/>
                </a:lnTo>
                <a:lnTo>
                  <a:pt x="1695" y="2270"/>
                </a:lnTo>
                <a:lnTo>
                  <a:pt x="1650" y="2259"/>
                </a:lnTo>
                <a:lnTo>
                  <a:pt x="1606" y="2244"/>
                </a:lnTo>
                <a:lnTo>
                  <a:pt x="1563" y="2227"/>
                </a:lnTo>
                <a:lnTo>
                  <a:pt x="1523" y="2207"/>
                </a:lnTo>
                <a:lnTo>
                  <a:pt x="1484" y="2183"/>
                </a:lnTo>
                <a:lnTo>
                  <a:pt x="1465" y="2169"/>
                </a:lnTo>
                <a:lnTo>
                  <a:pt x="1447" y="2154"/>
                </a:lnTo>
                <a:lnTo>
                  <a:pt x="1409" y="2121"/>
                </a:lnTo>
                <a:lnTo>
                  <a:pt x="1371" y="2084"/>
                </a:lnTo>
                <a:lnTo>
                  <a:pt x="1334" y="2045"/>
                </a:lnTo>
                <a:lnTo>
                  <a:pt x="1296" y="2002"/>
                </a:lnTo>
                <a:lnTo>
                  <a:pt x="1259" y="1956"/>
                </a:lnTo>
                <a:lnTo>
                  <a:pt x="1222" y="1909"/>
                </a:lnTo>
                <a:lnTo>
                  <a:pt x="1185" y="1859"/>
                </a:lnTo>
                <a:lnTo>
                  <a:pt x="1149" y="1809"/>
                </a:lnTo>
                <a:lnTo>
                  <a:pt x="1113" y="1756"/>
                </a:lnTo>
                <a:lnTo>
                  <a:pt x="1044" y="1650"/>
                </a:lnTo>
                <a:lnTo>
                  <a:pt x="978" y="1545"/>
                </a:lnTo>
                <a:lnTo>
                  <a:pt x="947" y="1494"/>
                </a:lnTo>
                <a:lnTo>
                  <a:pt x="915" y="1444"/>
                </a:lnTo>
                <a:lnTo>
                  <a:pt x="886" y="1392"/>
                </a:lnTo>
                <a:lnTo>
                  <a:pt x="857" y="1339"/>
                </a:lnTo>
                <a:lnTo>
                  <a:pt x="830" y="1283"/>
                </a:lnTo>
                <a:lnTo>
                  <a:pt x="805" y="1226"/>
                </a:lnTo>
                <a:lnTo>
                  <a:pt x="756" y="1109"/>
                </a:lnTo>
                <a:lnTo>
                  <a:pt x="709" y="991"/>
                </a:lnTo>
                <a:lnTo>
                  <a:pt x="685" y="933"/>
                </a:lnTo>
                <a:lnTo>
                  <a:pt x="663" y="877"/>
                </a:lnTo>
                <a:lnTo>
                  <a:pt x="640" y="823"/>
                </a:lnTo>
                <a:lnTo>
                  <a:pt x="616" y="771"/>
                </a:lnTo>
                <a:lnTo>
                  <a:pt x="593" y="722"/>
                </a:lnTo>
                <a:lnTo>
                  <a:pt x="568" y="676"/>
                </a:lnTo>
                <a:lnTo>
                  <a:pt x="542" y="635"/>
                </a:lnTo>
                <a:lnTo>
                  <a:pt x="530" y="616"/>
                </a:lnTo>
                <a:lnTo>
                  <a:pt x="517" y="598"/>
                </a:lnTo>
                <a:lnTo>
                  <a:pt x="489" y="566"/>
                </a:lnTo>
                <a:lnTo>
                  <a:pt x="460" y="537"/>
                </a:lnTo>
                <a:lnTo>
                  <a:pt x="430" y="512"/>
                </a:lnTo>
                <a:lnTo>
                  <a:pt x="398" y="491"/>
                </a:lnTo>
                <a:lnTo>
                  <a:pt x="366" y="471"/>
                </a:lnTo>
                <a:lnTo>
                  <a:pt x="333" y="455"/>
                </a:lnTo>
                <a:lnTo>
                  <a:pt x="300" y="440"/>
                </a:lnTo>
                <a:lnTo>
                  <a:pt x="268" y="427"/>
                </a:lnTo>
                <a:lnTo>
                  <a:pt x="237" y="415"/>
                </a:lnTo>
                <a:lnTo>
                  <a:pt x="205" y="404"/>
                </a:lnTo>
                <a:lnTo>
                  <a:pt x="176" y="394"/>
                </a:lnTo>
                <a:lnTo>
                  <a:pt x="148" y="384"/>
                </a:lnTo>
                <a:lnTo>
                  <a:pt x="123" y="373"/>
                </a:lnTo>
                <a:lnTo>
                  <a:pt x="99" y="362"/>
                </a:lnTo>
                <a:lnTo>
                  <a:pt x="79" y="349"/>
                </a:lnTo>
                <a:lnTo>
                  <a:pt x="61" y="335"/>
                </a:lnTo>
                <a:lnTo>
                  <a:pt x="47" y="320"/>
                </a:lnTo>
                <a:lnTo>
                  <a:pt x="34" y="305"/>
                </a:lnTo>
                <a:lnTo>
                  <a:pt x="24" y="290"/>
                </a:lnTo>
                <a:lnTo>
                  <a:pt x="17" y="276"/>
                </a:lnTo>
                <a:lnTo>
                  <a:pt x="11" y="261"/>
                </a:lnTo>
                <a:lnTo>
                  <a:pt x="5" y="247"/>
                </a:lnTo>
                <a:lnTo>
                  <a:pt x="3" y="233"/>
                </a:lnTo>
                <a:lnTo>
                  <a:pt x="1" y="220"/>
                </a:lnTo>
                <a:lnTo>
                  <a:pt x="0" y="193"/>
                </a:lnTo>
                <a:lnTo>
                  <a:pt x="1" y="167"/>
                </a:lnTo>
                <a:lnTo>
                  <a:pt x="3" y="145"/>
                </a:lnTo>
                <a:lnTo>
                  <a:pt x="4" y="124"/>
                </a:lnTo>
                <a:lnTo>
                  <a:pt x="4" y="113"/>
                </a:lnTo>
                <a:lnTo>
                  <a:pt x="5" y="101"/>
                </a:lnTo>
                <a:lnTo>
                  <a:pt x="8" y="76"/>
                </a:lnTo>
                <a:lnTo>
                  <a:pt x="13" y="50"/>
                </a:lnTo>
                <a:lnTo>
                  <a:pt x="17" y="39"/>
                </a:lnTo>
                <a:lnTo>
                  <a:pt x="22" y="28"/>
                </a:lnTo>
                <a:lnTo>
                  <a:pt x="29" y="18"/>
                </a:lnTo>
                <a:lnTo>
                  <a:pt x="37" y="10"/>
                </a:lnTo>
                <a:lnTo>
                  <a:pt x="46" y="4"/>
                </a:lnTo>
                <a:lnTo>
                  <a:pt x="57" y="1"/>
                </a:lnTo>
                <a:lnTo>
                  <a:pt x="69" y="0"/>
                </a:lnTo>
                <a:lnTo>
                  <a:pt x="84" y="2"/>
                </a:lnTo>
                <a:lnTo>
                  <a:pt x="100" y="9"/>
                </a:lnTo>
                <a:lnTo>
                  <a:pt x="118" y="18"/>
                </a:lnTo>
                <a:close/>
              </a:path>
            </a:pathLst>
          </a:custGeom>
          <a:solidFill>
            <a:srgbClr val="66ffff"/>
          </a:solidFill>
          <a:ln w="468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37240" y="3500280"/>
            <a:ext cx="425160" cy="384480"/>
          </a:xfrm>
          <a:prstGeom prst="rect">
            <a:avLst/>
          </a:prstGeom>
          <a:solidFill>
            <a:srgbClr val="00cc99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848120" y="3711600"/>
            <a:ext cx="789120" cy="379440"/>
            <a:chOff x="4848120" y="3711600"/>
            <a:chExt cx="789120" cy="379440"/>
          </a:xfrm>
        </p:grpSpPr>
        <p:sp>
          <p:nvSpPr>
            <p:cNvPr id="568" name=""/>
            <p:cNvSpPr/>
            <p:nvPr/>
          </p:nvSpPr>
          <p:spPr>
            <a:xfrm>
              <a:off x="4848120" y="3711600"/>
              <a:ext cx="789120" cy="379440"/>
            </a:xfrm>
            <a:custGeom>
              <a:avLst/>
              <a:gdLst/>
              <a:ahLst/>
              <a:rect l="l" t="t" r="r" b="b"/>
              <a:pathLst>
                <a:path w="994" h="476">
                  <a:moveTo>
                    <a:pt x="0" y="215"/>
                  </a:moveTo>
                  <a:lnTo>
                    <a:pt x="6" y="225"/>
                  </a:lnTo>
                  <a:lnTo>
                    <a:pt x="14" y="233"/>
                  </a:lnTo>
                  <a:lnTo>
                    <a:pt x="26" y="240"/>
                  </a:lnTo>
                  <a:lnTo>
                    <a:pt x="38" y="244"/>
                  </a:lnTo>
                  <a:lnTo>
                    <a:pt x="64" y="252"/>
                  </a:lnTo>
                  <a:lnTo>
                    <a:pt x="76" y="256"/>
                  </a:lnTo>
                  <a:lnTo>
                    <a:pt x="87" y="262"/>
                  </a:lnTo>
                  <a:lnTo>
                    <a:pt x="91" y="268"/>
                  </a:lnTo>
                  <a:lnTo>
                    <a:pt x="98" y="273"/>
                  </a:lnTo>
                  <a:lnTo>
                    <a:pt x="106" y="279"/>
                  </a:lnTo>
                  <a:lnTo>
                    <a:pt x="115" y="282"/>
                  </a:lnTo>
                  <a:lnTo>
                    <a:pt x="135" y="290"/>
                  </a:lnTo>
                  <a:lnTo>
                    <a:pt x="156" y="295"/>
                  </a:lnTo>
                  <a:lnTo>
                    <a:pt x="180" y="299"/>
                  </a:lnTo>
                  <a:lnTo>
                    <a:pt x="201" y="302"/>
                  </a:lnTo>
                  <a:lnTo>
                    <a:pt x="221" y="304"/>
                  </a:lnTo>
                  <a:lnTo>
                    <a:pt x="230" y="304"/>
                  </a:lnTo>
                  <a:lnTo>
                    <a:pt x="238" y="305"/>
                  </a:lnTo>
                  <a:lnTo>
                    <a:pt x="296" y="314"/>
                  </a:lnTo>
                  <a:lnTo>
                    <a:pt x="355" y="322"/>
                  </a:lnTo>
                  <a:lnTo>
                    <a:pt x="413" y="329"/>
                  </a:lnTo>
                  <a:lnTo>
                    <a:pt x="472" y="332"/>
                  </a:lnTo>
                  <a:lnTo>
                    <a:pt x="492" y="338"/>
                  </a:lnTo>
                  <a:lnTo>
                    <a:pt x="513" y="345"/>
                  </a:lnTo>
                  <a:lnTo>
                    <a:pt x="554" y="358"/>
                  </a:lnTo>
                  <a:lnTo>
                    <a:pt x="595" y="371"/>
                  </a:lnTo>
                  <a:lnTo>
                    <a:pt x="615" y="378"/>
                  </a:lnTo>
                  <a:lnTo>
                    <a:pt x="636" y="383"/>
                  </a:lnTo>
                  <a:lnTo>
                    <a:pt x="666" y="389"/>
                  </a:lnTo>
                  <a:lnTo>
                    <a:pt x="697" y="396"/>
                  </a:lnTo>
                  <a:lnTo>
                    <a:pt x="722" y="405"/>
                  </a:lnTo>
                  <a:lnTo>
                    <a:pt x="749" y="414"/>
                  </a:lnTo>
                  <a:lnTo>
                    <a:pt x="775" y="423"/>
                  </a:lnTo>
                  <a:lnTo>
                    <a:pt x="800" y="429"/>
                  </a:lnTo>
                  <a:lnTo>
                    <a:pt x="829" y="436"/>
                  </a:lnTo>
                  <a:lnTo>
                    <a:pt x="860" y="444"/>
                  </a:lnTo>
                  <a:lnTo>
                    <a:pt x="918" y="460"/>
                  </a:lnTo>
                  <a:lnTo>
                    <a:pt x="924" y="462"/>
                  </a:lnTo>
                  <a:lnTo>
                    <a:pt x="928" y="463"/>
                  </a:lnTo>
                  <a:lnTo>
                    <a:pt x="931" y="463"/>
                  </a:lnTo>
                  <a:lnTo>
                    <a:pt x="933" y="464"/>
                  </a:lnTo>
                  <a:lnTo>
                    <a:pt x="935" y="464"/>
                  </a:lnTo>
                  <a:lnTo>
                    <a:pt x="939" y="465"/>
                  </a:lnTo>
                  <a:lnTo>
                    <a:pt x="943" y="467"/>
                  </a:lnTo>
                  <a:lnTo>
                    <a:pt x="951" y="470"/>
                  </a:lnTo>
                  <a:lnTo>
                    <a:pt x="957" y="472"/>
                  </a:lnTo>
                  <a:lnTo>
                    <a:pt x="963" y="474"/>
                  </a:lnTo>
                  <a:lnTo>
                    <a:pt x="969" y="475"/>
                  </a:lnTo>
                  <a:lnTo>
                    <a:pt x="971" y="476"/>
                  </a:lnTo>
                  <a:lnTo>
                    <a:pt x="971" y="476"/>
                  </a:lnTo>
                  <a:lnTo>
                    <a:pt x="976" y="476"/>
                  </a:lnTo>
                  <a:lnTo>
                    <a:pt x="981" y="476"/>
                  </a:lnTo>
                  <a:lnTo>
                    <a:pt x="986" y="475"/>
                  </a:lnTo>
                  <a:lnTo>
                    <a:pt x="988" y="473"/>
                  </a:lnTo>
                  <a:lnTo>
                    <a:pt x="991" y="462"/>
                  </a:lnTo>
                  <a:lnTo>
                    <a:pt x="992" y="450"/>
                  </a:lnTo>
                  <a:lnTo>
                    <a:pt x="994" y="435"/>
                  </a:lnTo>
                  <a:lnTo>
                    <a:pt x="994" y="419"/>
                  </a:lnTo>
                  <a:lnTo>
                    <a:pt x="992" y="404"/>
                  </a:lnTo>
                  <a:lnTo>
                    <a:pt x="990" y="390"/>
                  </a:lnTo>
                  <a:lnTo>
                    <a:pt x="988" y="377"/>
                  </a:lnTo>
                  <a:lnTo>
                    <a:pt x="985" y="366"/>
                  </a:lnTo>
                  <a:lnTo>
                    <a:pt x="980" y="324"/>
                  </a:lnTo>
                  <a:lnTo>
                    <a:pt x="977" y="283"/>
                  </a:lnTo>
                  <a:lnTo>
                    <a:pt x="977" y="242"/>
                  </a:lnTo>
                  <a:lnTo>
                    <a:pt x="977" y="201"/>
                  </a:lnTo>
                  <a:lnTo>
                    <a:pt x="979" y="159"/>
                  </a:lnTo>
                  <a:lnTo>
                    <a:pt x="981" y="117"/>
                  </a:lnTo>
                  <a:lnTo>
                    <a:pt x="988" y="34"/>
                  </a:lnTo>
                  <a:lnTo>
                    <a:pt x="988" y="25"/>
                  </a:lnTo>
                  <a:lnTo>
                    <a:pt x="990" y="16"/>
                  </a:lnTo>
                  <a:lnTo>
                    <a:pt x="989" y="7"/>
                  </a:lnTo>
                  <a:lnTo>
                    <a:pt x="988" y="5"/>
                  </a:lnTo>
                  <a:lnTo>
                    <a:pt x="985" y="4"/>
                  </a:lnTo>
                  <a:lnTo>
                    <a:pt x="912" y="1"/>
                  </a:lnTo>
                  <a:lnTo>
                    <a:pt x="838" y="0"/>
                  </a:lnTo>
                  <a:lnTo>
                    <a:pt x="765" y="1"/>
                  </a:lnTo>
                  <a:lnTo>
                    <a:pt x="690" y="3"/>
                  </a:lnTo>
                  <a:lnTo>
                    <a:pt x="540" y="8"/>
                  </a:lnTo>
                  <a:lnTo>
                    <a:pt x="465" y="10"/>
                  </a:lnTo>
                  <a:lnTo>
                    <a:pt x="392" y="11"/>
                  </a:lnTo>
                  <a:lnTo>
                    <a:pt x="395" y="215"/>
                  </a:lnTo>
                  <a:lnTo>
                    <a:pt x="20" y="215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48120" y="3711600"/>
              <a:ext cx="789120" cy="379440"/>
            </a:xfrm>
            <a:custGeom>
              <a:avLst/>
              <a:gdLst/>
              <a:ahLst/>
              <a:rect l="l" t="t" r="r" b="b"/>
              <a:pathLst>
                <a:path w="994" h="476">
                  <a:moveTo>
                    <a:pt x="0" y="215"/>
                  </a:moveTo>
                  <a:lnTo>
                    <a:pt x="6" y="225"/>
                  </a:lnTo>
                  <a:lnTo>
                    <a:pt x="14" y="233"/>
                  </a:lnTo>
                  <a:lnTo>
                    <a:pt x="26" y="240"/>
                  </a:lnTo>
                  <a:lnTo>
                    <a:pt x="38" y="244"/>
                  </a:lnTo>
                  <a:lnTo>
                    <a:pt x="64" y="252"/>
                  </a:lnTo>
                  <a:lnTo>
                    <a:pt x="76" y="256"/>
                  </a:lnTo>
                  <a:lnTo>
                    <a:pt x="87" y="262"/>
                  </a:lnTo>
                  <a:lnTo>
                    <a:pt x="91" y="268"/>
                  </a:lnTo>
                  <a:lnTo>
                    <a:pt x="98" y="273"/>
                  </a:lnTo>
                  <a:lnTo>
                    <a:pt x="106" y="279"/>
                  </a:lnTo>
                  <a:lnTo>
                    <a:pt x="115" y="282"/>
                  </a:lnTo>
                  <a:lnTo>
                    <a:pt x="135" y="290"/>
                  </a:lnTo>
                  <a:lnTo>
                    <a:pt x="156" y="295"/>
                  </a:lnTo>
                  <a:lnTo>
                    <a:pt x="180" y="299"/>
                  </a:lnTo>
                  <a:lnTo>
                    <a:pt x="201" y="302"/>
                  </a:lnTo>
                  <a:lnTo>
                    <a:pt x="221" y="304"/>
                  </a:lnTo>
                  <a:lnTo>
                    <a:pt x="230" y="304"/>
                  </a:lnTo>
                  <a:lnTo>
                    <a:pt x="238" y="305"/>
                  </a:lnTo>
                  <a:lnTo>
                    <a:pt x="296" y="314"/>
                  </a:lnTo>
                  <a:lnTo>
                    <a:pt x="355" y="322"/>
                  </a:lnTo>
                  <a:lnTo>
                    <a:pt x="413" y="329"/>
                  </a:lnTo>
                  <a:lnTo>
                    <a:pt x="472" y="332"/>
                  </a:lnTo>
                  <a:lnTo>
                    <a:pt x="492" y="338"/>
                  </a:lnTo>
                  <a:lnTo>
                    <a:pt x="513" y="345"/>
                  </a:lnTo>
                  <a:lnTo>
                    <a:pt x="554" y="358"/>
                  </a:lnTo>
                  <a:lnTo>
                    <a:pt x="595" y="371"/>
                  </a:lnTo>
                  <a:lnTo>
                    <a:pt x="615" y="378"/>
                  </a:lnTo>
                  <a:lnTo>
                    <a:pt x="636" y="383"/>
                  </a:lnTo>
                  <a:lnTo>
                    <a:pt x="666" y="389"/>
                  </a:lnTo>
                  <a:lnTo>
                    <a:pt x="697" y="396"/>
                  </a:lnTo>
                  <a:lnTo>
                    <a:pt x="722" y="405"/>
                  </a:lnTo>
                  <a:lnTo>
                    <a:pt x="749" y="414"/>
                  </a:lnTo>
                  <a:lnTo>
                    <a:pt x="775" y="423"/>
                  </a:lnTo>
                  <a:lnTo>
                    <a:pt x="800" y="429"/>
                  </a:lnTo>
                  <a:lnTo>
                    <a:pt x="829" y="436"/>
                  </a:lnTo>
                  <a:lnTo>
                    <a:pt x="860" y="444"/>
                  </a:lnTo>
                  <a:lnTo>
                    <a:pt x="918" y="460"/>
                  </a:lnTo>
                  <a:lnTo>
                    <a:pt x="924" y="462"/>
                  </a:lnTo>
                  <a:lnTo>
                    <a:pt x="928" y="463"/>
                  </a:lnTo>
                  <a:lnTo>
                    <a:pt x="931" y="463"/>
                  </a:lnTo>
                  <a:lnTo>
                    <a:pt x="933" y="464"/>
                  </a:lnTo>
                  <a:lnTo>
                    <a:pt x="935" y="464"/>
                  </a:lnTo>
                  <a:lnTo>
                    <a:pt x="939" y="465"/>
                  </a:lnTo>
                  <a:lnTo>
                    <a:pt x="943" y="467"/>
                  </a:lnTo>
                  <a:lnTo>
                    <a:pt x="951" y="470"/>
                  </a:lnTo>
                  <a:lnTo>
                    <a:pt x="957" y="472"/>
                  </a:lnTo>
                  <a:lnTo>
                    <a:pt x="963" y="474"/>
                  </a:lnTo>
                  <a:lnTo>
                    <a:pt x="969" y="475"/>
                  </a:lnTo>
                  <a:lnTo>
                    <a:pt x="971" y="476"/>
                  </a:lnTo>
                  <a:lnTo>
                    <a:pt x="971" y="476"/>
                  </a:lnTo>
                  <a:lnTo>
                    <a:pt x="976" y="476"/>
                  </a:lnTo>
                  <a:lnTo>
                    <a:pt x="981" y="476"/>
                  </a:lnTo>
                  <a:lnTo>
                    <a:pt x="986" y="475"/>
                  </a:lnTo>
                  <a:lnTo>
                    <a:pt x="988" y="473"/>
                  </a:lnTo>
                  <a:lnTo>
                    <a:pt x="991" y="462"/>
                  </a:lnTo>
                  <a:lnTo>
                    <a:pt x="992" y="450"/>
                  </a:lnTo>
                  <a:lnTo>
                    <a:pt x="994" y="435"/>
                  </a:lnTo>
                  <a:lnTo>
                    <a:pt x="994" y="419"/>
                  </a:lnTo>
                  <a:lnTo>
                    <a:pt x="992" y="404"/>
                  </a:lnTo>
                  <a:lnTo>
                    <a:pt x="990" y="390"/>
                  </a:lnTo>
                  <a:lnTo>
                    <a:pt x="988" y="377"/>
                  </a:lnTo>
                  <a:lnTo>
                    <a:pt x="985" y="366"/>
                  </a:lnTo>
                  <a:lnTo>
                    <a:pt x="980" y="324"/>
                  </a:lnTo>
                  <a:lnTo>
                    <a:pt x="977" y="283"/>
                  </a:lnTo>
                  <a:lnTo>
                    <a:pt x="977" y="242"/>
                  </a:lnTo>
                  <a:lnTo>
                    <a:pt x="977" y="201"/>
                  </a:lnTo>
                  <a:lnTo>
                    <a:pt x="979" y="159"/>
                  </a:lnTo>
                  <a:lnTo>
                    <a:pt x="981" y="117"/>
                  </a:lnTo>
                  <a:lnTo>
                    <a:pt x="988" y="34"/>
                  </a:lnTo>
                  <a:lnTo>
                    <a:pt x="988" y="25"/>
                  </a:lnTo>
                  <a:lnTo>
                    <a:pt x="990" y="16"/>
                  </a:lnTo>
                  <a:lnTo>
                    <a:pt x="989" y="7"/>
                  </a:lnTo>
                  <a:lnTo>
                    <a:pt x="988" y="5"/>
                  </a:lnTo>
                  <a:lnTo>
                    <a:pt x="985" y="4"/>
                  </a:lnTo>
                  <a:lnTo>
                    <a:pt x="912" y="1"/>
                  </a:lnTo>
                  <a:lnTo>
                    <a:pt x="838" y="0"/>
                  </a:lnTo>
                  <a:lnTo>
                    <a:pt x="765" y="1"/>
                  </a:lnTo>
                  <a:lnTo>
                    <a:pt x="690" y="3"/>
                  </a:lnTo>
                  <a:lnTo>
                    <a:pt x="540" y="8"/>
                  </a:lnTo>
                  <a:lnTo>
                    <a:pt x="465" y="10"/>
                  </a:lnTo>
                  <a:lnTo>
                    <a:pt x="392" y="11"/>
                  </a:lnTo>
                  <a:lnTo>
                    <a:pt x="395" y="215"/>
                  </a:lnTo>
                  <a:lnTo>
                    <a:pt x="20" y="2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035160" y="2989440"/>
            <a:ext cx="7668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130920" y="302580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istem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126240" y="3021120"/>
            <a:ext cx="58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istem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214440" y="317988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du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207960" y="3174840"/>
            <a:ext cx="41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Adu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119560" y="3695760"/>
            <a:ext cx="5954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99120" y="372744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Canal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292720" y="3863880"/>
            <a:ext cx="25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Fug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94400" y="3500280"/>
            <a:ext cx="5108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58480" y="3532320"/>
            <a:ext cx="386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Casa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06360" y="3668760"/>
            <a:ext cx="28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Forç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424400" y="2687760"/>
            <a:ext cx="1046160" cy="674640"/>
            <a:chOff x="4424400" y="2687760"/>
            <a:chExt cx="1046160" cy="674640"/>
          </a:xfrm>
        </p:grpSpPr>
        <p:sp>
          <p:nvSpPr>
            <p:cNvPr id="582" name=""/>
            <p:cNvSpPr/>
            <p:nvPr/>
          </p:nvSpPr>
          <p:spPr>
            <a:xfrm>
              <a:off x="4424400" y="2687760"/>
              <a:ext cx="1046160" cy="674640"/>
            </a:xfrm>
            <a:custGeom>
              <a:avLst/>
              <a:gdLst/>
              <a:ahLst/>
              <a:rect l="l" t="t" r="r" b="b"/>
              <a:pathLst>
                <a:path w="1319" h="849">
                  <a:moveTo>
                    <a:pt x="1122" y="430"/>
                  </a:moveTo>
                  <a:lnTo>
                    <a:pt x="1063" y="535"/>
                  </a:lnTo>
                  <a:lnTo>
                    <a:pt x="119" y="0"/>
                  </a:lnTo>
                  <a:lnTo>
                    <a:pt x="0" y="210"/>
                  </a:lnTo>
                  <a:lnTo>
                    <a:pt x="945" y="745"/>
                  </a:lnTo>
                  <a:lnTo>
                    <a:pt x="884" y="849"/>
                  </a:lnTo>
                  <a:lnTo>
                    <a:pt x="1319" y="817"/>
                  </a:lnTo>
                  <a:lnTo>
                    <a:pt x="1122" y="430"/>
                  </a:lnTo>
                  <a:close/>
                </a:path>
              </a:pathLst>
            </a:custGeom>
            <a:solidFill>
              <a:srgbClr val="3333cc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740000">
              <a:off x="4485240" y="2814840"/>
              <a:ext cx="37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Times New Roman"/>
                </a:rPr>
                <a:t>Vazã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740000">
              <a:off x="4799880" y="3031920"/>
              <a:ext cx="52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333399"/>
                  </a:solidFill>
                  <a:latin typeface="Times New Roman"/>
                </a:rPr>
                <a:t>Deflu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1589040" y="2095560"/>
            <a:ext cx="1446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640520" y="2133720"/>
            <a:ext cx="12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Mo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28880" y="1500120"/>
            <a:ext cx="1319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82880" y="1538280"/>
            <a:ext cx="105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Volume Út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25600" y="1415880"/>
            <a:ext cx="2892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4120" y="1380960"/>
            <a:ext cx="17017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67880" y="4697280"/>
            <a:ext cx="487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TOTAL DO RESERVATÓRIO :   10,882 BILHÕES DE 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ÚTIL :                                                  7,234 BILHÕES DE 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VOLUME MORTO :                                            3,548 BILHÕES DE  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521080" cy="26384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7742160" y="2274840"/>
            <a:ext cx="503280" cy="432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4680" y="5410080"/>
            <a:ext cx="43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SITUAÇÃO 27/01/2004: 81,79 % 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Qaflu = 5.209 m</a:t>
            </a:r>
            <a:r>
              <a:rPr b="1" lang="pt-BR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/s  e Qdef = 1725 m</a:t>
            </a:r>
            <a:r>
              <a:rPr b="1" lang="pt-BR" sz="20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Times New Roman"/>
              </a:rPr>
              <a:t>VU controle de cheia = 56,51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tresmarias" descr=""/>
          <p:cNvPicPr/>
          <p:nvPr/>
        </p:nvPicPr>
        <p:blipFill>
          <a:blip r:embed="rId1"/>
          <a:stretch/>
        </p:blipFill>
        <p:spPr>
          <a:xfrm>
            <a:off x="1646280" y="1057320"/>
            <a:ext cx="5851440" cy="4743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23:51:05Z</dcterms:created>
  <dc:creator>joaquim</dc:creator>
  <dc:description/>
  <dc:language>en-US</dc:language>
  <cp:lastModifiedBy>est4036</cp:lastModifiedBy>
  <dcterms:modified xsi:type="dcterms:W3CDTF">2004-01-29T13:03:12Z</dcterms:modified>
  <cp:revision>42</cp:revision>
  <dc:subject/>
  <dc:title>Slide 1</dc:title>
</cp:coreProperties>
</file>