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8/03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9B0-B01A-4DD0-A4C6-3A2B87396A62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91628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Técnicas da U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CESTE: Relocação da população ating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clea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geradores com capacidade maior que 15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s rejeitos do processo de geração são polu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ós o fim da vida útil da usina existe um grande problema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resistência popular a este tipo de geração d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dade de água para refrigeração do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: ???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drelétr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complexos com capacidade de geração de mais de 15.000 MW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60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ergia Assegurada ele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uso múltiplo do reservatório (Turismo e lazer, irrigação, transporte hidroviá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gerador de renda durante a construção e operação (royal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nor custo de geração de energia, estimado em R$ 10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697280"/>
            <a:ext cx="81360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sociais quando da implant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ao meio-ambiente na form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e a probabilidade de rac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enções no meio físico, biótico e sócio-econô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3880" y="981000"/>
          <a:ext cx="50562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81000"/>
                    <a:ext cx="50562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95880" y="90792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,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677960"/>
          <a:ext cx="8642160" cy="2325600"/>
        </p:xfrm>
        <a:graphic>
          <a:graphicData uri="http://schemas.openxmlformats.org/drawingml/2006/table">
            <a:tbl>
              <a:tblPr/>
              <a:tblGrid>
                <a:gridCol w="2665440"/>
                <a:gridCol w="1871640"/>
                <a:gridCol w="2016000"/>
                <a:gridCol w="208908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Atu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 Instal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8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 Assegu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,9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reservatório 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ílias atingid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50920" y="42210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m considerar o leito do 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ções Técnicas - 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55736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instalada: 1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ização: Rio Tocantins; 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do Reservatório: 58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em consider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mento de R$ 2.2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as com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as estrutura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 do C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6048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 de boa fé = propri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erá canal aberto de comunicação com a população envolvida e as autoridades locais, através de Centro de Comunicação Social que funcionará em Carolina/MA a partir de 02/04/03, objetivando esclarecer ao público-alvo da região de interesse a implantação do reservatóri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5880" y="1209600"/>
          <a:ext cx="757224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209600"/>
                    <a:ext cx="75722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81800" y="5759280"/>
            <a:ext cx="22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333399"/>
                </a:solidFill>
                <a:latin typeface="Arial"/>
              </a:rPr>
              <a:t>Fonte: The World Fact Book -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03640" y="2347920"/>
            <a:ext cx="295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(Fotovoltaica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-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lio Wolff</cp:lastModifiedBy>
  <dcterms:modified xsi:type="dcterms:W3CDTF">2003-03-17T21:14:10Z</dcterms:modified>
  <cp:revision>176</cp:revision>
  <dc:subject/>
  <dc:title>Slide 1</dc:title>
</cp:coreProperties>
</file>