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lvl="1" marL="301680" indent="-301680" algn="ctr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lvl="2" marL="301680" indent="-3016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lvl="3" marL="301680" indent="-301680" algn="ctr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lvl="4" marL="301680" indent="-301680" algn="ctr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lvl="5" marL="301680" indent="-301680" algn="ctr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lvl="6" marL="301680" indent="-301680" algn="ctr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674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18/03/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27080" y="6165360"/>
            <a:ext cx="4048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CONSÓRCIO ESTREITO ENERGIA - CES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368B-0D1F-4346-8883-EF527FA900DC}" type="slidenum">
              <a:rPr b="0" lang="en-US" sz="14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95280" y="6172200"/>
            <a:ext cx="842472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9640" y="2133720"/>
            <a:ext cx="7993080" cy="25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52280"/>
            <a:ext cx="77724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HE Estre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1916280"/>
            <a:ext cx="799308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escimento do Merca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formações Técnicas da UHE Estre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lítica CESTE: Relocação da população atingi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enefícios da implantação da UHE Estreito para o paí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enefícios da implantação da UHE Estreito para as comunidades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909720"/>
            <a:ext cx="8207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uclea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394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marL="3394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39480" indent="-3394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ndes geradores com capacidade maior que 1500 MW, existindo a possibilidade de grandes complexos (com vários geradores)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276640"/>
            <a:ext cx="8136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ntage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ergia Assegur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o produtivo de baixo impacto ambie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ilidade de grande ger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rteza na existência de combustível / ger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3716280"/>
            <a:ext cx="81360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Os rejeitos do processo de geração são poluid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pós o fim da vida útil da usina existe um grande problema ambie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ombustível importado vendido em U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rande resistência popular a este tipo de geração de ener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ecnologia totalmente import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isponibilidade de água para refrigeração do sist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usto de implantação: ???</a:t>
            </a:r>
            <a:r>
              <a:rPr b="0" lang="pt-BR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$ / MW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909720"/>
            <a:ext cx="8207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olar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acidade de geração de 100 a 300 W (por painel de geração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2276640"/>
            <a:ext cx="8136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ntage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ergia lim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o produtivo de baixo impacto ambie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3716280"/>
            <a:ext cx="81360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usto aproximado de</a:t>
            </a:r>
            <a:r>
              <a:rPr b="0" lang="pt-BR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$ 470,00 / MW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ecessidade de baterias e/ou energia alternativa (no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909720"/>
            <a:ext cx="8207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idrelétrica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ndes complexos com capacidade de geração de mais de 15.000 MW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2060640"/>
            <a:ext cx="8136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antage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nergia Assegurada elev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ombustível renová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cesso produtivo de baixo impacto ambie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ossibilidade de grande ger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erteza na existência de combustível / ger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ossibilidade de uso múltiplo do reservatório (Turismo e lazer, irrigação, transporte hidroviári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ecnologia totalmente na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rande gerador de renda durante a construção e operação (royalt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enor custo de geração de energia, estimado em R$ 100,00 / MW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4697280"/>
            <a:ext cx="8136000" cy="13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actos sociais quando da implantação do reservató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actos ao meio-ambiente na formação do reservató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iste a probabilidade de racio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venções no meio físico, biótico e sócio-econôm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1523880" y="981000"/>
          <a:ext cx="5056200" cy="547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981000"/>
                    <a:ext cx="5056200" cy="547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 flipH="1">
            <a:off x="4660560" y="1289160"/>
            <a:ext cx="6094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95880" y="907920"/>
            <a:ext cx="193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entury Gothic"/>
              </a:rPr>
              <a:t>Estreito 1,087M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52280"/>
            <a:ext cx="77724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to Estre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152280"/>
            <a:ext cx="77724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to Estre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50920" y="1677960"/>
          <a:ext cx="8642160" cy="2325600"/>
        </p:xfrm>
        <a:graphic>
          <a:graphicData uri="http://schemas.openxmlformats.org/drawingml/2006/table">
            <a:tbl>
              <a:tblPr/>
              <a:tblGrid>
                <a:gridCol w="2665440"/>
                <a:gridCol w="1871640"/>
                <a:gridCol w="2016000"/>
                <a:gridCol w="2089080"/>
              </a:tblGrid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ª Configuraçã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ª Configuraçã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 Atu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dade Instalad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8 MW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7 MW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ia Assegurad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7 MW m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4,9 MW m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ta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,5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8,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,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rea do reservatório 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 km</a:t>
                      </a:r>
                      <a:r>
                        <a:rPr b="0" lang="pt-BR" sz="17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0 km</a:t>
                      </a:r>
                      <a:r>
                        <a:rPr b="0" lang="pt-BR" sz="17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mílias atingida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250920" y="4221000"/>
            <a:ext cx="792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Sem considerar o leito do 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152280"/>
            <a:ext cx="77724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ções Técnicas - UHE Estre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557360"/>
            <a:ext cx="799308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pacidade instalada: 1087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ergia Assegurada: 584,9 MW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ocalização: Rio Tocantins; Municípios: Estreito (MA) e Aguiarnópolis (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Área do Reservatório: 580 km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sem considerar o leito do r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amílias Atingid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Área Urbana: 26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Área Rural: 9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lhéus: 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efícios da implantação da UHE Estreit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 o paí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1916280"/>
            <a:ext cx="835344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187 MW de capacidade instal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 km de vias navegáveis no Rio Tocant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regos diretos: mais de 5.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regos indiretos: mais de 16.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imento de R$ 2.200.000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ilidade para a agricultura irrigá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a de mais de 98% do valor da obra no Bras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efícios da implantação da UHE Estreit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 as com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1916280"/>
            <a:ext cx="835344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nsação financeira pela utilização de recursos hídricos:                    R$ 13.636.919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as estrutura de lazer (prai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lhorias na infra-estrutura 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ursos para Parques Nacionais: R$ 11.000.000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ursos para pesquisas básicas e aplicadas (EIA / RIMA, PB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squisas na área de arqueolo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ítica do CE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1604880"/>
            <a:ext cx="835344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sseiro de boa fé = proprietá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pções para famílias diretamente atingid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assentamento rural coletivo para fins pecuá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rta de crédito para auto reassentamento r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rta de crédito para auto reassentamento urb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assentamento urbano col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ote urbano com infra estru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eferencialmente contratar pessoas da regi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CESTE manterá canal aberto de comunicação com a população envolvida e as autoridades locais, através de Centro de Comunicação Social que funcionará em Carolina/MA a partir de 02/04/03, objetivando esclarecer ao público-alvo da região de interesse a implantação do reservatório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scimento do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332000" y="1052640"/>
          <a:ext cx="6624720" cy="1655640"/>
        </p:xfrm>
        <a:graphic>
          <a:graphicData uri="http://schemas.openxmlformats.org/drawingml/2006/table">
            <a:tbl>
              <a:tblPr/>
              <a:tblGrid>
                <a:gridCol w="2016000"/>
                <a:gridCol w="934920"/>
                <a:gridCol w="936720"/>
                <a:gridCol w="936720"/>
                <a:gridCol w="863640"/>
                <a:gridCol w="936720"/>
              </a:tblGrid>
              <a:tr h="280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82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rc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ga Própria (MWm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5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.50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.8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5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.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résci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1.9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 2.380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 2.663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 2.633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1835280" y="2708280"/>
          <a:ext cx="5689440" cy="343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708280"/>
                    <a:ext cx="5689440" cy="34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scimento do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24000" y="1125360"/>
          <a:ext cx="8569080" cy="485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25360"/>
                    <a:ext cx="8569080" cy="48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scimento do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785880" y="1209600"/>
          <a:ext cx="7572240" cy="443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1209600"/>
                    <a:ext cx="7572240" cy="44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081800" y="5759280"/>
            <a:ext cx="226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000" spc="-1" strike="noStrike">
                <a:solidFill>
                  <a:srgbClr val="333399"/>
                </a:solidFill>
                <a:latin typeface="Arial"/>
              </a:rPr>
              <a:t>Fonte: The World Fact Book - 2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03640" y="2347920"/>
            <a:ext cx="29527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ólica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massa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érmica a Gá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érmica a Carvão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ar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ar (Fotovoltaica)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drelétrica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072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nergia Eólica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or Gerador com capacidade instalada = 1,5 MW (por unidade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equados para implantação em regiões planas e onde a confiabilidade dos ventos predominantes assegurem uma velocidade mínima compatível com o equipamento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2997360"/>
            <a:ext cx="374328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ntage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mbustível renová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oluição somente visual e son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Venda da energia diretamente aos consumidores livres (maior ou igual a 500 k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ão contaminante: Licenças Ambientais facilita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eração próxima ao Centro de Car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4920" y="2997360"/>
            <a:ext cx="396072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ão possui energia assegu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ecnologia totalmente  import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mpactos sobre a avifau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a área em que estão instalados os geradores eólicos ocorre a restrição de uso para diversos f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lação área / capacidade instalada é ru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levado custo de implantação (R$ 200,00 / MWh - V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072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iomassa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radores com pequena capacidade instalada (média = 50 MW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cessitam de biomassa no seu processo produtivo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ociado a viabilidade de projetos de co-geração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3286080"/>
            <a:ext cx="37432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ntage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nergia Assegu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duz a poluição quando utiliza resíduos sólidos industriais e/ou domésticos (lixo, madeira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14920" y="3284640"/>
            <a:ext cx="3960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ecnologia import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levado custo de implantação (R$ 160,00 / MWh - V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mplantação limitada a existência de resídu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érmica a Carvão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ores Geradores com capacidade entre 300 e 1000 MW, existindo a possibilidade de grandes complexos (com vários geradores)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989000"/>
            <a:ext cx="8136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ntage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ergia Assegur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ilidade de grande geração, para atendimento da energia de po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nde flexibilidade opera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rteza na existência de combustível para ger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3284640"/>
            <a:ext cx="81360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oluidoras no processo produ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arvão nacional com grande teor de cinza (&gt; 50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ecnologia básica nacional, e de ponta import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esíduos líquido e sólidos no processo produ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Instalados nos centros de carga próximos às cidades, causando resistência da população em aceitar a unidade de ger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lto nível de ruí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ransporte intensivo de combustíveis (carvão) e resíduos (cinz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usto de implantação aproximado de R$ 130,00 / MWh - V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érmica a Gá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ores Geradores com capacidade entre 300 e 1000 MW, existindo a possibilidade de grandes complexos (com vários geradores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637000"/>
            <a:ext cx="8136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ntage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ergia Assegu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sibilidade de concentrar grandes unidades de ger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3716280"/>
            <a:ext cx="81360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mbustível importado vendido em U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nceito de pagamento contínuo mesmo quando não operando (“take-or-pay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ecnologia totalmente import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lexibilidade operacional limitada em função da não existência da venda de gás flexí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usto de implantação aproximado de R$ 130,00 / MW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19:04:09Z</dcterms:created>
  <dc:creator>Tractebel Brasil</dc:creator>
  <dc:description/>
  <dc:language>en-US</dc:language>
  <cp:lastModifiedBy>Élio Wolff</cp:lastModifiedBy>
  <dcterms:modified xsi:type="dcterms:W3CDTF">2003-03-17T21:14:10Z</dcterms:modified>
  <cp:revision>176</cp:revision>
  <dc:subject/>
  <dc:title>Slide 1</dc:title>
</cp:coreProperties>
</file>