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F48-0648-4A9F-B582-DEDF13E0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F16-8AA8-443B-854C-1EA2BE36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DB7-5250-48EF-8517-11E6AF18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980-E1F5-4A70-AA69-281FCE12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E585-C48F-473C-B60F-29A47CAC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A0C1-D3BE-40B1-A5D8-8AD2260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5DE-55C1-45F2-B55E-A2F7650D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189-4E60-40D9-A501-567597C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19A-3128-49AF-8724-DEDEA7A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95D-B737-478E-B82C-48F2E70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C16-45D6-4445-B7CA-0823012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CE9-901F-498C-921B-6053551A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7F29-F0AC-456A-826C-2FB81AE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36B1-9795-49A5-A3EB-2DD8CA8E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9DE-2F5A-4AAD-9D14-FF35594B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EB7E-2223-4D43-B61C-B204DBC7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1D2D-1AD6-4F93-821F-C89DC0D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E57-913C-4268-A8B8-1C554B09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1CD-A2A7-4B52-B16D-8A9DCA9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2E5-84A1-43DC-BF40-04F1CDAC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6DD-C774-4CD2-A727-EC232C7E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A1C-3213-4DC4-ADE9-59DD7352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DB-6B67-4BE0-81E0-DCEC928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1B3-8F5E-4BED-9DE3-1E9A428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96BA-558A-4FC7-AFAB-1EFC33C0600E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1E54-E8A9-4B01-B36A-3E1A35B8E98A}" type="slidenum"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33"/>
                </a:solidFill>
                <a:latin typeface="CG Omega"/>
              </a:rPr>
              <a:t>	</a:t>
            </a:r>
            <a:r>
              <a:rPr b="1" lang="pt-BR" sz="4000" spc="-1" strike="noStrike">
                <a:solidFill>
                  <a:srgbClr val="333333"/>
                </a:solidFill>
                <a:latin typeface="CG Omega"/>
              </a:rPr>
              <a:t>DESERTIFICAÇÃO </a:t>
            </a:r>
            <a:br>
              <a:rPr sz="4000"/>
            </a:br>
            <a:r>
              <a:rPr b="1" lang="pt-BR" sz="3600" spc="-1" strike="noStrike">
                <a:solidFill>
                  <a:srgbClr val="333333"/>
                </a:solidFill>
                <a:latin typeface="CG Omega"/>
              </a:rPr>
              <a:t>INFORME NACIONAL 200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ímulo da ONU a implementação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GRULA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euniões Regionais – AL e 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Ps – Conferência da Par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tês – C&amp;T, CR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econômic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Desenvolvimento da Região Nordeste – provimento de infraestrutura, mecanização agrícola e equipamentos de uso coletiv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Jovem Empreendedor – organização e capacitação do jovem ru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Naciona de Fortalecimento da Agricultura – PRONAF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eguro Renda – R$90,00/mê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de Infraestru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Infraestrutura – ProÁgua Semi-árido – CODEVAS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Gestão – M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Águas do Brasil – Projeto para Minimização dos Impactos da Seca e Combate da Desertificação ??A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omissão Setorial Extraordinária de Convívio com a Seca e Inclusão Social - 20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didas institucionais para a implementação da CC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Brasil assinou a CCD em 1994 e ratificou em 19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o Brasil foram realizadas duas reuniões CONSLAD e ..., condicionais para a aprovação do capítulo 12 da Agenda 21 e da organização necessária para negociação da CCD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a I Reunião Regional apresentou a REDESERT, e já tinha liderança na área de desenvolvimento de indicad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5 por meio do Projeto BRA 93/036 deu início as atividades do Plano Nacional de Combate à Desertificação – PN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9 hospedou a COP III em Recife, P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 Ponto Foc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 Ponto Focal Nacional, situado na SRH tem a responsabilidade de articular e mobilizar as instituições envolvidas com ações e atividades pertinentes ao controle do processo da desertificação, estimular a participação da sociedade civil envolvida, divulgar as decisões da ONU e levar a ONU as posições nacionais, é também o responsável pela elaboração do PAN – Programa de Ação 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alcançad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, documento aprovado pelo Conselho Nacional do Meio Ambiente - CONAMA, resolução nº238 de 22 de dezembro de 199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udos básic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udos básic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udos Básic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- mapas de susceptibilidade e ocorrência, área e população atingida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ocumento com avaliação de toda a produção acadêmica sobre o assunto (estudos e dados existentes sobre desertificação no Brasil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Ambiental das áreas susceptíveis à desertificaçã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valiação geral do sistema de conservação no Semi-Árid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dentificação e avaliação das experiências bem-sucedidas de gerenciamento da seca, manejo e conservação de recursos naturais e produção agropecuária sustentáve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uia metodológico para o desenvolvimento sustentável no Semi-Árido (Manual de Planejamento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posta de Sistema integrado de monitoramento do processo de desertific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ram realizadas reuniões nos Estados da Bahia, Sergipe, Alagoas, Paraíba e Ceará, contando com a participação das Secretarias de Meio Ambiente, Recursos Hídricos, Agricultura e Planejamento, visando à formulação de uma estratégia comum de atuação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a elaboração do Plano Estadual de Combate à Desertificação dos Estados do Ceará e Bahia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pacitação Técnica, com cursos de capacitação para técnicos em diferentes estados e diferentes níveis.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brasileira da Convenção das Nações Unidas de Luta contra 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nais da I Conferência Latino-americana da Desertificação – CONSLA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esertificação: Caracterização e Impac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rtilha sobre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ld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de Selo Comemorativo ao Dia Mundial de Luta contra a Desertific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Banco do Nordeste, para o desenvolvimento de ações de capacitação e sensibilização de pessoal técnico e agricultores no Manejo Sustentável da Caating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Ministério da Educação e Cultura, para distribuição nas escolas técnicas e universidades do material de sensibilização e capacitação do proje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a Superintendência de Desenvolvimento do Nordeste - SUDENE -, para a incorporação da temática da desertificação nos seus projetos de desenvolvi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utras iniciativ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Workshop sobre Desertificação e Gênero, realizado em Recife em 15 e 16 setembro de 1998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à criação de Comissões Municipais de Meio Ambien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criação do Grupo de Estudos sobre a Desertificação em áreas afetadas por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ções de sensibilização de agricultor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s projetos de difusão de tecnologias alternativas de convivência com a se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 desenvolvimento de ações nos núcleos desertificados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luxo de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2860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Secretari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a UN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1240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rganism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Inter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58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munida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2004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Órgã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Governament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295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581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Times New Roman"/>
              </a:rPr>
              <a:t>Ponto Focal Nac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niciativas mais rece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FNMA – edital nº8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GT desertificação da Câmara Técnica de Análise de Projetos do CN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rticulação com muitos atores envolvidos com ações e atividades concernentes ao controle da desertificação e mitigação dos efeitos da se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não alcançad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ocumento do P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ssão Nac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ivulgação Efetiva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Harmonização de Polít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serção do PAN no Orçament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ontes de Financi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FNMA –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CT – Fundo Setorial de Recursos Hídr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DA – Crédito Fundiário e Combate a Pobreza rur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Contribui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Banco do Nordes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UDE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undação Esq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to Dese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overno de Est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ições de Pesqui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inisté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N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A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T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ecanismo Mund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aíses do Reino Uni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m que tempo estam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stribui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para a elaboração do P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uncionamento do G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de sistema de informação para articulação com as partes envolv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nacional mais efetiva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inter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Histórico Inform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4 – negociada a C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1a. Reunião Reg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4a. R. Regional (Peru) – Guia para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Reunião de ONGs Ica – P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III COP – Brasil – Informes Áfr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0 – IV COP – Bohn – Informes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reestrutura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Informe Nacion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todologia utiliza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No Informe 2000 não constaram muitas ações de governo que contribuíram para o controle das causas da desertificação e mitigação dos efeitos da se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letar informações dos agentes envolvidos com o processo de controle da desertificação, v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rreio - Questionários – Ministérios (MCT, MS, MEC, MDA, MI, MA), Secretarias de Estado do Nordes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ntrevistas com coordenadores de proje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-mail – Questionários – Deputados, Senadores, e para as ONG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Reunião com o Ministério do Planejamento e com o G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temização (obrigatória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Índ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umá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stratégias e prioridades – Planos e Políticas de Desenvolvimento Sustentá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institucionais para Implementação da 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participativo -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consultivo –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adotadas no PAN, avaliação e mon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Recursos orçamentais 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Indicadores para medida do progresso na implement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ferências e equip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forme 2000, Contribuição da SUDENE, Tese de Doutorado de Nádima Paiva, documentos da SR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oberto Coimbra, Marco Neves, Nádima Paiva, Geraldo Figueiredo, Flávio de Novaes, Rosângela de Souz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ratégias e Priorida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35268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Meio Ambiente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     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ISNAMA-6938 – 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Recursos Hídricos – 9433 – 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Lei de Crimes Ambientais – 9605 – 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Educação Ambiental – 9765 – 9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onstituição Federal  - Arts. 21, 42 e 43 – (calamidades, secas, favorece a região semi-ár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Plano de desenvolvimento nacion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Avança Brasil – programa de governo de 1998 – baseado nos estudos dos Eixos Nacionais de Integração e  Desenvolvi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392 programas, 52 estratégicos definidos no PP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lanos de Ação Integrados – Projeto Alvorada e o Programa de Desenvolvimento Integrado e Sustentável de Mesorregiões Diferenciadas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jetos soci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Alimentação Saudá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alimentação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Educação de Jovem e Adul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toda Criança na Esco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Escola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56:38Z</dcterms:created>
  <dc:creator>SRH</dc:creator>
  <dc:description/>
  <dc:language>en-US</dc:language>
  <cp:lastModifiedBy>SRH</cp:lastModifiedBy>
  <dcterms:modified xsi:type="dcterms:W3CDTF">2002-06-13T16:58:49Z</dcterms:modified>
  <cp:revision>7</cp:revision>
  <dc:subject/>
  <dc:title> DESERTIFICAÇÃO  INFORME NACIONAL 2002</dc:title>
</cp:coreProperties>
</file>