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798-E12F-4189-990F-2E0359F6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25A-028D-4B09-BA09-51366F6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492-BE1C-4728-B90E-41A0DEF8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87E-E317-4C2A-8344-13BCEA0D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280A-D3CD-40F8-99F2-F51EE2C8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C3F8-893F-45A7-AB25-33D92152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FD07-E1CC-450F-AFF1-00AD7EDE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6C7-C45E-4375-A5E4-4332FFC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31D9-E653-460F-8E57-F53A0FD1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6DB9-CD5D-41CD-B01C-A76E409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1B49-1920-43D0-9370-FD58A67E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773-A387-48CD-927B-FD91DBE2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ECB6-08A7-40BB-83D7-1912873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F80-9116-44A0-AFBA-BE279B1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8F9-58E3-4110-87AA-6A1C6F01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87F7-A0DF-48F6-80DC-53DD3695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B216-0EB3-4DBB-8C9C-011FC91E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0A-372A-4818-A7A1-E792A224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8E5-F4BE-4985-8DC4-319F637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884-D6C7-417A-A2ED-FBDAD96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A35-2897-47BC-9B1E-6667F10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DA9-C289-48D4-9C5C-8C6A7A05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116-A0A7-4571-B5BF-51D65C5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19C-6715-49A6-AD5F-7A055029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50BA-0546-4B91-B920-3833654457A0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110A-25CF-4B37-849B-4675164D1ED2}" type="slidenum"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33"/>
                </a:solidFill>
                <a:latin typeface="CG Omega"/>
              </a:rPr>
              <a:t>	</a:t>
            </a:r>
            <a:r>
              <a:rPr b="1" lang="pt-BR" sz="4000" spc="-1" strike="noStrike">
                <a:solidFill>
                  <a:srgbClr val="333333"/>
                </a:solidFill>
                <a:latin typeface="CG Omega"/>
              </a:rPr>
              <a:t>DESERTIFICAÇÃO </a:t>
            </a:r>
            <a:br>
              <a:rPr sz="4000"/>
            </a:br>
            <a:r>
              <a:rPr b="1" lang="pt-BR" sz="3600" spc="-1" strike="noStrike">
                <a:solidFill>
                  <a:srgbClr val="333333"/>
                </a:solidFill>
                <a:latin typeface="CG Omega"/>
              </a:rPr>
              <a:t>INFORME NACIONAL 200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ímulo da ONU a implementação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GRULA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euniões Regionais – AL e 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Ps – Conferência da Par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tês – C&amp;T, CRI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econômic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Desenvolvimento da Região Nordeste – provimento de infraestrutura, mecanização agrícola e equipamentos de uso coletiv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Jovem Empreendedor – organização e capacitação do jovem ru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Naciona de Fortalecimento da Agricultura – PRONAF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eguro Renda – R$90,00/mê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de Infraestrutur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Infraestrutura – ProÁgua Semi-árido – CODEVAS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Gestão – M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Águas do Brasil – Projeto para Minimização dos Impactos da Seca e Combate da Desertificação ??A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omissão Setorial Extraordinária de Convívio com a Seca e Inclusão Social - 200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didas institucionais para a implementação da CC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Brasil assinou a CCD em 1994 e ratificou em 19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o Brasil foram realizadas duas reuniões CONSLAD e ..., condicionais para a aprovação do capítulo 12 da Agenda 21 e da organização necessária para negociação da CCD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a I Reunião Regional apresentou a REDESERT, e já tinha liderança na área de desenvolvimento de indicado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5 por meio do Projeto BRA 93/036 deu início as atividades do Plano Nacional de Combate à Desertificação – PN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9 hospedou a COP III em Recife, P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 Ponto Foc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 Ponto Focal Nacional, situado na SRH tem a responsabilidade de articular e mobilizar as instituições envolvidas com ações e atividades pertinentes ao controle do processo da desertificação, estimular a participação da sociedade civil envolvida, divulgar as decisões da ONU e levar a ONU as posições nacionais, é também o responsável pela elaboração do PAN – Programa de Ação 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alcançad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, documento aprovado pelo Conselho Nacional do Meio Ambiente - CONAMA, resolução nº238 de 22 de dezembro de 199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udos básic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udos básic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udos Básic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- mapas de susceptibilidade e ocorrência, área e população atingida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ocumento com avaliação de toda a produção acadêmica sobre o assunto (estudos e dados existentes sobre desertificação no Brasil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Ambiental das áreas susceptíveis à desertificaçã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valiação geral do sistema de conservação no Semi-Árid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dentificação e avaliação das experiências bem-sucedidas de gerenciamento da seca, manejo e conservação de recursos naturais e produção agropecuária sustentável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uia metodológico para o desenvolvimento sustentável no Semi-Árido (Manual de Planejamento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posta de Sistema integrado de monitoramento do processo de desertificaçã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ram realizadas reuniões nos Estados da Bahia, Sergipe, Alagoas, Paraíba e Ceará, contando com a participação das Secretarias de Meio Ambiente, Recursos Hídricos, Agricultura e Planejamento, visando à formulação de uma estratégia comum de atuação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a elaboração do Plano Estadual de Combate à Desertificação dos Estados do Ceará e Bahia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pacitação Técnica, com cursos de capacitação para técnicos em diferentes estados e diferentes níveis.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brasileira da Convenção das Nações Unidas de Luta contra 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nais da I Conferência Latino-americana da Desertificação – CONSLA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esertificação: Caracterização e Impact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rtilha sobre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ld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de Selo Comemorativo ao Dia Mundial de Luta contra a Desertific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Banco do Nordeste, para o desenvolvimento de ações de capacitação e sensibilização de pessoal técnico e agricultores no Manejo Sustentável da Caating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Ministério da Educação e Cultura, para distribuição nas escolas técnicas e universidades do material de sensibilização e capacitação do proje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a Superintendência de Desenvolvimento do Nordeste - SUDENE -, para a incorporação da temática da desertificação nos seus projetos de desenvolvi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utras iniciativ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Workshop sobre Desertificação e Gênero, realizado em Recife em 15 e 16 setembro de 1998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à criação de Comissões Municipais de Meio Ambien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criação do Grupo de Estudos sobre a Desertificação em áreas afetadas por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ções de sensibilização de agricultor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s projetos de difusão de tecnologias alternativas de convivência com a se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 desenvolvimento de ações nos núcleos desertificados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luxo de Informa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2860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Secretari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a UN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1240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rganism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Inter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58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munida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2004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Órgã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Governament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295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581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Times New Roman"/>
              </a:rPr>
              <a:t>Ponto Focal Nac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niciativas mais recen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FNMA – edital nº8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GT desertificação da Câmara Técnica de Análise de Projetos do CN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rticulação com muitos atores envolvidos com ações e atividades concernentes ao controle da desertificação e mitigação dos efeitos da se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não alcançad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ocumento do P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ssão Nac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ivulgação Efetiva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Harmonização de Polít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serção do PAN no Orçament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ontes de Financiamen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FNMA –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CT – Fundo Setorial de Recursos Hídr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DA – Crédito Fundiário e Combate a Pobreza rur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Contribui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Banco do Nordes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UDE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undação Esqu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to Dese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overno de Est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ições de Pesqui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inisté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N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A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T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ecanismo Mund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aíses do Reino Uni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m que tempo estam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stribui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para a elaboração do P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uncionamento do G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de sistema de informação para articulação com as partes envolv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nacional mais efetiva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inter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Histórico Inform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4 – negociada a CC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1a. Reunião Reg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4a. R. Regional (Peru) – Guia para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Reunião de ONGs Ica – P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III COP – Brasil – Informes Áfr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0 – IV COP – Bohn – Informes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reestrutura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Informe Nacion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todologia utiliza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No Informe 2000 não constaram muitas ações de governo que contribuíram para o controle das causas da desertificação e mitigação dos efeitos da se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letar informações dos agentes envolvidos com o processo de controle da desertificação, vi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rreio - Questionários – Ministérios (MCT, MS, MEC, MDA, MI, MA), Secretarias de Estado do Nordes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ntrevistas com coordenadores de proje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-mail – Questionários – Deputados, Senadores, e para as ONG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Reunião com o Ministério do Planejamento e com o G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temização (obrigatória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Índ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umá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stratégias e prioridades – Planos e Políticas de Desenvolvimento Sustentá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institucionais para Implementação da 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participativo -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consultivo –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adotadas no PAN, avaliação e mon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Recursos orçamentais 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Indicadores para medida do progresso na implement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ferências e equip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forme 2000, Contribuição da SUDENE, Tese de Doutorado de Nádima Paiva, documentos da SR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oberto Coimbra, Marco Neves, Nádima Paiva, Geraldo Figueiredo, Flávio de Novaes, Rosângela de Souz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ratégias e Prioridad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35268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Meio Ambiente-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     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ISNAMA-6938 – 8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Recursos Hídricos – 9433 – 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Lei de Crimes Ambientais – 9605 – 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Educação Ambiental – 9765 – 9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onstituição Federal  - Arts. 21, 42 e 43 – (calamidades, secas, favorece a região semi-árid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Plano de desenvolvimento nacion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Avança Brasil – programa de governo de 1998 – baseado nos estudos dos Eixos Nacionais de Integração e  Desenvolvi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392 programas, 52 estratégicos definidos no PP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lanos de Ação Integrados – Projeto Alvorada e o Programa de Desenvolvimento Integrado e Sustentável de Mesorregiões Diferenciadas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jetos soci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Alimentação Saudá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alimentação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Educação de Jovem e Adul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toda Criança na Esco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Escola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7:56:38Z</dcterms:created>
  <dc:creator>SRH</dc:creator>
  <dc:description/>
  <dc:language>en-US</dc:language>
  <cp:lastModifiedBy>SRH</cp:lastModifiedBy>
  <dcterms:modified xsi:type="dcterms:W3CDTF">2002-06-13T16:58:49Z</dcterms:modified>
  <cp:revision>7</cp:revision>
  <dc:subject/>
  <dc:title> DESERTIFICAÇÃO  INFORME NACIONAL 2002</dc:title>
</cp:coreProperties>
</file>