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46880"/>
            <a:ext cx="8382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76176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76176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4688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4688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4688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46880"/>
            <a:ext cx="8382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46880"/>
            <a:ext cx="8382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76176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76176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4688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74688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746880"/>
            <a:ext cx="2698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688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761760"/>
            <a:ext cx="4090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46880"/>
            <a:ext cx="8382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33520"/>
            <a:chOff x="0" y="0"/>
            <a:chExt cx="9144000" cy="5335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a8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Logo%20ONS%20branco" descr=""/>
            <p:cNvPicPr/>
            <p:nvPr/>
          </p:nvPicPr>
          <p:blipFill>
            <a:blip r:embed="rId2"/>
            <a:stretch/>
          </p:blipFill>
          <p:spPr>
            <a:xfrm>
              <a:off x="8493120" y="71280"/>
              <a:ext cx="56340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8400" indent="-190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9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9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9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0106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%20com%20assinatura%202%20linhas%20lado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667240" cy="760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7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2884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28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28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010640" cy="259092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OPERAÇÃO DE RESERVATÓRIOS PELO 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ho/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3 - Aspectos Regulató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stituição Feder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guas e potenciais de energia hidráulica são bens da Uni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ódigo de Águ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ências acauteladoras nos aproveitamentos hidrelétricos (salubridade pública, navegação, irrigação, controle de cheias e piscicultura, entre outros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NEEL (Lei No. 9.427  de 26 de dezembro de 1996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orgar o direito de uso dos recursos hídricos para fins de aproveitamento dos potenciais de energia hidráu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pervisão das atividades das concessionárias e autorizadas de aproveitamentos hidrelétricos referente ao uso dos recursos hídr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belecimento de restrições operativas hidráulicas nos contratos de concess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igatoriedade de postos plu-fluviométricos para a operação dos sistemas de reservatór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3 - Aspectos Regulatório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i das Águas (Lei n.º 9433, de 08 de janeiro de 1997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ípios básico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o múltiplo das águas, gestão descentralizada e participativa, planos de recursos hídricos, outorga e cobranç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S (Decreto  n.º 2655 de 2 de Julho de 1998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imentos para a incorporação de restrições hidráulicas nos aproveitamentos e para o planejamento e a operação de controle de cheias nos reservatórios do sistema interlig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 (Lei  n.º 9984 de 17 de Julho de 2000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orgar o direito de uso dos recursos hídr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r as condições de operação de reservatórios para assegurar o uso múltiplo das águ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1000" y="1895040"/>
            <a:ext cx="3803400" cy="273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BJETIVO: </a:t>
            </a:r>
            <a:br>
              <a:rPr sz="24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inimizar custo tota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 presente ao futuro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ravés de decisões de: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Geração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tercâmbio entre regi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te de carga (défic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27800" y="4799160"/>
            <a:ext cx="68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operação do sistema elétrico brasileir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tou esta cadeia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os de oti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447560"/>
            <a:ext cx="3580920" cy="3522960"/>
            <a:chOff x="685800" y="1447560"/>
            <a:chExt cx="3580920" cy="3522960"/>
          </a:xfrm>
        </p:grpSpPr>
        <p:sp>
          <p:nvSpPr>
            <p:cNvPr id="151" name=""/>
            <p:cNvSpPr/>
            <p:nvPr/>
          </p:nvSpPr>
          <p:spPr>
            <a:xfrm>
              <a:off x="1785960" y="1447560"/>
              <a:ext cx="13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575ff"/>
                  </a:solidFill>
                  <a:latin typeface="Arial"/>
                </a:rPr>
                <a:t>Médio pra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04960" y="2514240"/>
              <a:ext cx="13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575ff"/>
                  </a:solidFill>
                  <a:latin typeface="Arial"/>
                </a:rPr>
                <a:t>Curto pra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1440" y="3657240"/>
              <a:ext cx="12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575ff"/>
                  </a:solidFill>
                  <a:latin typeface="Arial"/>
                </a:rPr>
                <a:t>Prog. diá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85800" y="1752480"/>
              <a:ext cx="3580920" cy="3218040"/>
              <a:chOff x="685800" y="1752480"/>
              <a:chExt cx="3580920" cy="3218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85800" y="1752480"/>
                <a:ext cx="1574640" cy="2958480"/>
                <a:chOff x="685800" y="1752480"/>
                <a:chExt cx="1574640" cy="29584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85800" y="2920680"/>
                  <a:ext cx="1562040" cy="6091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ECOM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85800" y="4101480"/>
                  <a:ext cx="1562040" cy="6094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ESSE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447920" y="2374560"/>
                  <a:ext cx="0" cy="55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447920" y="3542760"/>
                  <a:ext cx="0" cy="55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8400" y="1752480"/>
                  <a:ext cx="1562040" cy="6091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EWAV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rot="12123600">
                <a:off x="2742840" y="4038120"/>
                <a:ext cx="1447920" cy="685440"/>
              </a:xfrm>
              <a:prstGeom prst="rightArrow">
                <a:avLst>
                  <a:gd name="adj1" fmla="val 50000"/>
                  <a:gd name="adj2" fmla="val 52810"/>
                </a:avLst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99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685800" y="1752480"/>
            <a:ext cx="1562040" cy="6098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38080" y="1753560"/>
            <a:ext cx="3581280" cy="4021560"/>
            <a:chOff x="838080" y="1753560"/>
            <a:chExt cx="3581280" cy="4021560"/>
          </a:xfrm>
        </p:grpSpPr>
        <p:graphicFrame>
          <p:nvGraphicFramePr>
            <p:cNvPr id="165" name=""/>
            <p:cNvGraphicFramePr/>
            <p:nvPr/>
          </p:nvGraphicFramePr>
          <p:xfrm>
            <a:off x="838080" y="2301840"/>
            <a:ext cx="1815840" cy="347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2301840"/>
                      <a:ext cx="1815840" cy="34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>
              <a:off x="2590560" y="1753560"/>
              <a:ext cx="1828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Reservatórios agregados (Sistema Equivalen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30280" y="1446840"/>
            <a:ext cx="7362360" cy="2440800"/>
            <a:chOff x="530280" y="1446840"/>
            <a:chExt cx="7362360" cy="2440800"/>
          </a:xfrm>
        </p:grpSpPr>
        <p:sp>
          <p:nvSpPr>
            <p:cNvPr id="169" name=""/>
            <p:cNvSpPr/>
            <p:nvPr/>
          </p:nvSpPr>
          <p:spPr>
            <a:xfrm>
              <a:off x="530280" y="1751400"/>
              <a:ext cx="205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ahoma"/>
                </a:rPr>
                <a:t>Médio pra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6760" y="3427920"/>
              <a:ext cx="196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ahoma"/>
                </a:rPr>
                <a:t>Curto pra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45760" y="1446840"/>
              <a:ext cx="194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Tahoma"/>
                </a:rPr>
                <a:t>Prog. diá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4920" y="7621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OPLAMENTO ENTRE OS MODE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942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talhamento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é maior para horizonte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43200" y="3962520"/>
            <a:ext cx="4495680" cy="1723680"/>
            <a:chOff x="2743200" y="3962520"/>
            <a:chExt cx="4495680" cy="1723680"/>
          </a:xfrm>
        </p:grpSpPr>
        <p:graphicFrame>
          <p:nvGraphicFramePr>
            <p:cNvPr id="175" name=""/>
            <p:cNvGraphicFramePr/>
            <p:nvPr/>
          </p:nvGraphicFramePr>
          <p:xfrm>
            <a:off x="2743200" y="3962520"/>
            <a:ext cx="3581280" cy="146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962520"/>
                      <a:ext cx="3581280" cy="14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5105520" y="510552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Usinas individualiz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24480" y="1981080"/>
            <a:ext cx="2333880" cy="2895840"/>
            <a:chOff x="6324480" y="1981080"/>
            <a:chExt cx="2333880" cy="2895840"/>
          </a:xfrm>
        </p:grpSpPr>
        <p:graphicFrame>
          <p:nvGraphicFramePr>
            <p:cNvPr id="179" name=""/>
            <p:cNvGraphicFramePr/>
            <p:nvPr/>
          </p:nvGraphicFramePr>
          <p:xfrm>
            <a:off x="6553080" y="1981080"/>
            <a:ext cx="2105280" cy="2895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1981080"/>
                      <a:ext cx="2105280" cy="289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324480" y="2514600"/>
              <a:ext cx="213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Unidades gerado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76212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nimizar (Custo Total de Oper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nimizar (Custo Imediato + Custo Fut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endimento à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câmbios entre os sub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jeito a restriçõ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lanço hí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mites operativos das us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6576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379080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411480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525780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87692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95288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2120" y="20570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1676520"/>
            <a:ext cx="7315200" cy="2526840"/>
            <a:chOff x="1600200" y="1676520"/>
            <a:chExt cx="7315200" cy="2526840"/>
          </a:xfrm>
        </p:grpSpPr>
        <p:sp>
          <p:nvSpPr>
            <p:cNvPr id="194" name=""/>
            <p:cNvSpPr/>
            <p:nvPr/>
          </p:nvSpPr>
          <p:spPr>
            <a:xfrm>
              <a:off x="1600200" y="2133360"/>
              <a:ext cx="2133720" cy="2070000"/>
            </a:xfrm>
            <a:custGeom>
              <a:avLst/>
              <a:gdLst/>
              <a:ahLst/>
              <a:rect l="l" t="t" r="r" b="b"/>
              <a:pathLst>
                <a:path w="1344" h="1448">
                  <a:moveTo>
                    <a:pt x="0" y="48"/>
                  </a:moveTo>
                  <a:cubicBezTo>
                    <a:pt x="224" y="748"/>
                    <a:pt x="448" y="1448"/>
                    <a:pt x="672" y="1440"/>
                  </a:cubicBezTo>
                  <a:cubicBezTo>
                    <a:pt x="896" y="1432"/>
                    <a:pt x="1232" y="240"/>
                    <a:pt x="1344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33920" y="1676520"/>
              <a:ext cx="5181480" cy="456480"/>
              <a:chOff x="3733920" y="1676520"/>
              <a:chExt cx="5181480" cy="456480"/>
            </a:xfrm>
          </p:grpSpPr>
          <p:sp>
            <p:nvSpPr>
              <p:cNvPr id="196" name=""/>
              <p:cNvSpPr/>
              <p:nvPr/>
            </p:nvSpPr>
            <p:spPr>
              <a:xfrm>
                <a:off x="4114800" y="1676520"/>
                <a:ext cx="480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Custo Total =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usto Futuro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 + Custo Imedia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3733920" y="1904760"/>
                <a:ext cx="457200" cy="228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6158880" y="5526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66680" y="2209680"/>
            <a:ext cx="5486040" cy="2514600"/>
            <a:chOff x="1066680" y="2209680"/>
            <a:chExt cx="5486040" cy="2514600"/>
          </a:xfrm>
        </p:grpSpPr>
        <p:grpSp>
          <p:nvGrpSpPr>
            <p:cNvPr id="200" name=""/>
            <p:cNvGrpSpPr/>
            <p:nvPr/>
          </p:nvGrpSpPr>
          <p:grpSpPr>
            <a:xfrm>
              <a:off x="4572000" y="3124080"/>
              <a:ext cx="1980720" cy="337320"/>
              <a:chOff x="4572000" y="3124080"/>
              <a:chExt cx="1980720" cy="337320"/>
            </a:xfrm>
          </p:grpSpPr>
          <p:sp>
            <p:nvSpPr>
              <p:cNvPr id="201" name=""/>
              <p:cNvSpPr/>
              <p:nvPr/>
            </p:nvSpPr>
            <p:spPr>
              <a:xfrm>
                <a:off x="4819320" y="3124080"/>
                <a:ext cx="173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00"/>
                    </a:solidFill>
                    <a:latin typeface="Arial"/>
                  </a:rPr>
                  <a:t>Custo Imedia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4572000" y="3200040"/>
                <a:ext cx="28872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066680" y="2209680"/>
              <a:ext cx="4038840" cy="2514600"/>
            </a:xfrm>
            <a:custGeom>
              <a:avLst/>
              <a:gdLst/>
              <a:ahLst/>
              <a:rect l="l" t="t" r="r" b="b"/>
              <a:pathLst>
                <a:path w="2592" h="1584">
                  <a:moveTo>
                    <a:pt x="0" y="1584"/>
                  </a:moveTo>
                  <a:cubicBezTo>
                    <a:pt x="624" y="1572"/>
                    <a:pt x="1248" y="1560"/>
                    <a:pt x="1680" y="1296"/>
                  </a:cubicBezTo>
                  <a:cubicBezTo>
                    <a:pt x="2112" y="1032"/>
                    <a:pt x="2432" y="224"/>
                    <a:pt x="259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90720" y="2438280"/>
            <a:ext cx="5790600" cy="2547000"/>
            <a:chOff x="990720" y="2438280"/>
            <a:chExt cx="5790600" cy="2547000"/>
          </a:xfrm>
        </p:grpSpPr>
        <p:sp>
          <p:nvSpPr>
            <p:cNvPr id="205" name=""/>
            <p:cNvSpPr/>
            <p:nvPr/>
          </p:nvSpPr>
          <p:spPr>
            <a:xfrm>
              <a:off x="5257800" y="464796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Custo Fut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4800240" y="4647600"/>
              <a:ext cx="5914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90720" y="2438280"/>
              <a:ext cx="3962160" cy="2209680"/>
            </a:xfrm>
            <a:custGeom>
              <a:avLst/>
              <a:gdLst/>
              <a:ahLst/>
              <a:rect l="l" t="t" r="r" b="b"/>
              <a:pathLst>
                <a:path w="3264" h="1392">
                  <a:moveTo>
                    <a:pt x="0" y="0"/>
                  </a:moveTo>
                  <a:cubicBezTo>
                    <a:pt x="64" y="460"/>
                    <a:pt x="128" y="920"/>
                    <a:pt x="672" y="1152"/>
                  </a:cubicBezTo>
                  <a:cubicBezTo>
                    <a:pt x="1216" y="1384"/>
                    <a:pt x="2832" y="1352"/>
                    <a:pt x="3264" y="139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666520" y="4191120"/>
            <a:ext cx="5105880" cy="1846800"/>
            <a:chOff x="2666520" y="4191120"/>
            <a:chExt cx="5105880" cy="1846800"/>
          </a:xfrm>
        </p:grpSpPr>
        <p:grpSp>
          <p:nvGrpSpPr>
            <p:cNvPr id="209" name=""/>
            <p:cNvGrpSpPr/>
            <p:nvPr/>
          </p:nvGrpSpPr>
          <p:grpSpPr>
            <a:xfrm>
              <a:off x="2666520" y="5029200"/>
              <a:ext cx="5105880" cy="1008720"/>
              <a:chOff x="2666520" y="5029200"/>
              <a:chExt cx="5105880" cy="1008720"/>
            </a:xfrm>
          </p:grpSpPr>
          <p:sp>
            <p:nvSpPr>
              <p:cNvPr id="210" name=""/>
              <p:cNvSpPr/>
              <p:nvPr/>
            </p:nvSpPr>
            <p:spPr>
              <a:xfrm flipH="1" flipV="1">
                <a:off x="2666520" y="5029200"/>
                <a:ext cx="381240" cy="609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95480" y="5639040"/>
                <a:ext cx="48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lume para mínimo custo 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2666880" y="4191120"/>
              <a:ext cx="0" cy="838440"/>
            </a:xfrm>
            <a:prstGeom prst="line">
              <a:avLst/>
            </a:prstGeom>
            <a:ln w="28440">
              <a:solidFill>
                <a:srgbClr val="cc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09680" y="4191120"/>
            <a:ext cx="685440" cy="532800"/>
            <a:chOff x="2209680" y="4191120"/>
            <a:chExt cx="685440" cy="532800"/>
          </a:xfrm>
        </p:grpSpPr>
        <p:sp>
          <p:nvSpPr>
            <p:cNvPr id="214" name=""/>
            <p:cNvSpPr/>
            <p:nvPr/>
          </p:nvSpPr>
          <p:spPr>
            <a:xfrm>
              <a:off x="2209680" y="4191120"/>
              <a:ext cx="6854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209680" y="4635360"/>
              <a:ext cx="685440" cy="8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09680" y="4368960"/>
              <a:ext cx="685440" cy="177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520" y="2209680"/>
            <a:ext cx="4952880" cy="3202920"/>
            <a:chOff x="533520" y="2209680"/>
            <a:chExt cx="4952880" cy="3202920"/>
          </a:xfrm>
        </p:grpSpPr>
        <p:sp>
          <p:nvSpPr>
            <p:cNvPr id="218" name=""/>
            <p:cNvSpPr/>
            <p:nvPr/>
          </p:nvSpPr>
          <p:spPr>
            <a:xfrm>
              <a:off x="762120" y="2209680"/>
              <a:ext cx="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1800" y="4952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ume a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520" y="4952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ume a 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0080" y="2132280"/>
            <a:ext cx="3429000" cy="762840"/>
            <a:chOff x="5410080" y="2132280"/>
            <a:chExt cx="3429000" cy="762840"/>
          </a:xfrm>
        </p:grpSpPr>
        <p:sp>
          <p:nvSpPr>
            <p:cNvPr id="222" name=""/>
            <p:cNvSpPr/>
            <p:nvPr/>
          </p:nvSpPr>
          <p:spPr>
            <a:xfrm>
              <a:off x="5410080" y="2209680"/>
              <a:ext cx="1143000" cy="685440"/>
            </a:xfrm>
            <a:custGeom>
              <a:avLst/>
              <a:gdLst>
                <a:gd name="textAreaLeft" fmla="*/ 251280 w 1143000"/>
                <a:gd name="textAreaRight" fmla="*/ 891720 w 1143000"/>
                <a:gd name="textAreaTop" fmla="*/ 150480 h 685440"/>
                <a:gd name="textAreaBottom" fmla="*/ 5349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2132280"/>
              <a:ext cx="228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ende à carga com 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águ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Final : ZERO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sto imediato: 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0080" y="3503880"/>
            <a:ext cx="3429000" cy="762840"/>
            <a:chOff x="5410080" y="3503880"/>
            <a:chExt cx="3429000" cy="762840"/>
          </a:xfrm>
        </p:grpSpPr>
        <p:sp>
          <p:nvSpPr>
            <p:cNvPr id="225" name=""/>
            <p:cNvSpPr/>
            <p:nvPr/>
          </p:nvSpPr>
          <p:spPr>
            <a:xfrm>
              <a:off x="6553080" y="3503880"/>
              <a:ext cx="228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Atende à carga com </a:t>
              </a:r>
              <a:r>
                <a:rPr b="1" lang="pt-BR" sz="1400" spc="-1" strike="noStrike">
                  <a:solidFill>
                    <a:srgbClr val="3333cc"/>
                  </a:solidFill>
                  <a:latin typeface="Arial"/>
                </a:rPr>
                <a:t>óle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VolumeFinal : 100%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usto imediato: </a:t>
              </a:r>
              <a:r>
                <a:rPr b="0" lang="pt-BR" sz="1400" spc="-1" strike="noStrike">
                  <a:solidFill>
                    <a:srgbClr val="3333cc"/>
                  </a:solidFill>
                  <a:latin typeface="Arial"/>
                </a:rPr>
                <a:t>AL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0080" y="3581280"/>
              <a:ext cx="1143000" cy="685440"/>
            </a:xfrm>
            <a:custGeom>
              <a:avLst/>
              <a:gdLst>
                <a:gd name="textAreaLeft" fmla="*/ 251280 w 1143000"/>
                <a:gd name="textAreaRight" fmla="*/ 891720 w 1143000"/>
                <a:gd name="textAreaTop" fmla="*/ 150480 h 685440"/>
                <a:gd name="textAreaBottom" fmla="*/ 5349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553080" y="2818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 fut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1900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 fut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AIX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762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ização do Cus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826920" y="2971800"/>
            <a:ext cx="3962520" cy="2514600"/>
            <a:chOff x="826920" y="2971800"/>
            <a:chExt cx="3962520" cy="2514600"/>
          </a:xfrm>
        </p:grpSpPr>
        <p:sp>
          <p:nvSpPr>
            <p:cNvPr id="231" name=""/>
            <p:cNvSpPr/>
            <p:nvPr/>
          </p:nvSpPr>
          <p:spPr>
            <a:xfrm>
              <a:off x="1512720" y="2971800"/>
              <a:ext cx="3276720" cy="1218960"/>
            </a:xfrm>
            <a:prstGeom prst="cloudCallout">
              <a:avLst>
                <a:gd name="adj1" fmla="val -43750"/>
                <a:gd name="adj2" fmla="val 7000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mo obter o custo </a:t>
              </a:r>
              <a:br>
                <a:rPr sz="2400"/>
              </a:b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utur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826920" y="4190760"/>
            <a:ext cx="1219320" cy="129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4190760"/>
                      <a:ext cx="121932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"/>
          <p:cNvSpPr/>
          <p:nvPr/>
        </p:nvSpPr>
        <p:spPr>
          <a:xfrm>
            <a:off x="3935520" y="4113000"/>
            <a:ext cx="46033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ando-se o comportamento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tíst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z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260960" y="4800600"/>
            <a:ext cx="3987360" cy="686880"/>
            <a:chOff x="4260960" y="4800600"/>
            <a:chExt cx="3987360" cy="686880"/>
          </a:xfrm>
        </p:grpSpPr>
        <p:grpSp>
          <p:nvGrpSpPr>
            <p:cNvPr id="236" name=""/>
            <p:cNvGrpSpPr/>
            <p:nvPr/>
          </p:nvGrpSpPr>
          <p:grpSpPr>
            <a:xfrm>
              <a:off x="4260960" y="4800600"/>
              <a:ext cx="1909080" cy="686880"/>
              <a:chOff x="4260960" y="4800600"/>
              <a:chExt cx="1909080" cy="686880"/>
            </a:xfrm>
          </p:grpSpPr>
          <p:sp>
            <p:nvSpPr>
              <p:cNvPr id="237" name=""/>
              <p:cNvSpPr/>
              <p:nvPr/>
            </p:nvSpPr>
            <p:spPr>
              <a:xfrm>
                <a:off x="4330440" y="4800600"/>
                <a:ext cx="1831320" cy="685800"/>
              </a:xfrm>
              <a:prstGeom prst="upArrowCallout">
                <a:avLst>
                  <a:gd name="adj1" fmla="val 66765"/>
                  <a:gd name="adj2" fmla="val 66759"/>
                  <a:gd name="adj3" fmla="val 16667"/>
                  <a:gd name="adj4" fmla="val 6666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0960" y="5027760"/>
                <a:ext cx="1909080" cy="45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estocástic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469560" y="4800600"/>
              <a:ext cx="1778760" cy="686880"/>
              <a:chOff x="6469560" y="4800600"/>
              <a:chExt cx="1778760" cy="686880"/>
            </a:xfrm>
          </p:grpSpPr>
          <p:sp>
            <p:nvSpPr>
              <p:cNvPr id="240" name=""/>
              <p:cNvSpPr/>
              <p:nvPr/>
            </p:nvSpPr>
            <p:spPr>
              <a:xfrm>
                <a:off x="6495120" y="4800600"/>
                <a:ext cx="1753200" cy="685800"/>
              </a:xfrm>
              <a:prstGeom prst="upArrowCallout">
                <a:avLst>
                  <a:gd name="adj1" fmla="val 63917"/>
                  <a:gd name="adj2" fmla="val 63911"/>
                  <a:gd name="adj3" fmla="val 16667"/>
                  <a:gd name="adj4" fmla="val 6666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69560" y="5027760"/>
                <a:ext cx="1755360" cy="45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afluência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Futuro na Operação do Sist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timizar, precisamos conhecer os custo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edia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utu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imediato - conheci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futuro -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conheci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epende das vazões no futuro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819520" y="1447920"/>
            <a:ext cx="5181480" cy="2286000"/>
            <a:chOff x="2819520" y="1447920"/>
            <a:chExt cx="5181480" cy="2286000"/>
          </a:xfrm>
        </p:grpSpPr>
        <p:sp>
          <p:nvSpPr>
            <p:cNvPr id="246" name=""/>
            <p:cNvSpPr/>
            <p:nvPr/>
          </p:nvSpPr>
          <p:spPr>
            <a:xfrm>
              <a:off x="2819520" y="1447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4800" y="1447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0080" y="1447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05720" y="1447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01000" y="1447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59092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19520" y="221004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819520" y="167652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9520" y="25909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14800" y="312444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14800" y="274284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114800" y="221004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14800" y="31244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281952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114800" y="243864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114800" y="190512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4800" y="28195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1004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114800" y="182844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14800" y="22100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167652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8480" y="167652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14800" y="1676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3124440"/>
              <a:ext cx="12956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10080" y="2742840"/>
              <a:ext cx="1295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10080" y="2210040"/>
              <a:ext cx="1295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0080" y="312444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10080" y="281952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410080" y="243864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0080" y="1905120"/>
              <a:ext cx="1295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10080" y="281952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0080" y="2210040"/>
              <a:ext cx="12956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410080" y="1828440"/>
              <a:ext cx="1295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21004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0080" y="1676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5720" y="312444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05720" y="274284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705720" y="221004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05720" y="31244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5720" y="281952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705720" y="243864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705720" y="190512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5720" y="28195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05720" y="221004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705720" y="182844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5720" y="22100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5720" y="1676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7800" y="16765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5720" y="17528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14800" y="342900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114800" y="3429000"/>
              <a:ext cx="1295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10080" y="304812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410080" y="3352680"/>
              <a:ext cx="1295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05720" y="350532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705720" y="327636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19520" y="2590920"/>
              <a:ext cx="1371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2743200" y="380988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440" y="4206240"/>
            <a:ext cx="798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o custo de operação para um número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or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diferentes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olume armazenado) e diferent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fluênc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das pelo modelo estocástico 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zer os custos d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utu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ra o pres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GRAMAÇÃO DINÂMICA ESTOCÁS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16765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=Val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álculo do Custo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- Planejamento Ótimo da Operaçã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103480"/>
            <a:ext cx="83844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2179800"/>
            <a:ext cx="83808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2179800"/>
            <a:ext cx="83808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103480"/>
            <a:ext cx="83844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720" y="2837520"/>
            <a:ext cx="6848280" cy="39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o seria atendida uma carga adicional em cada regi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8440" y="1605600"/>
            <a:ext cx="3379680" cy="39888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 DA ÁGUA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56240" y="3501000"/>
            <a:ext cx="69699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água da própria região é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ma das fo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atendi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rga adicional seria atendida com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te mais ba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360" y="4194720"/>
            <a:ext cx="43581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ndição: possibilidade de uti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3240" y="510444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ção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3640" y="472356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gua armaze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4320" y="5485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mento turbin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0080" y="58665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b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3600" y="62474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 de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657600" y="4723560"/>
            <a:ext cx="3332520" cy="398880"/>
            <a:chOff x="3657600" y="4723560"/>
            <a:chExt cx="3332520" cy="398880"/>
          </a:xfrm>
        </p:grpSpPr>
        <p:sp>
          <p:nvSpPr>
            <p:cNvPr id="321" name=""/>
            <p:cNvSpPr/>
            <p:nvPr/>
          </p:nvSpPr>
          <p:spPr>
            <a:xfrm>
              <a:off x="5224320" y="4723560"/>
              <a:ext cx="17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alor da águ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57600" y="4922640"/>
              <a:ext cx="1524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657600" y="5104440"/>
            <a:ext cx="4748040" cy="398880"/>
            <a:chOff x="3657600" y="5104440"/>
            <a:chExt cx="4748040" cy="398880"/>
          </a:xfrm>
        </p:grpSpPr>
        <p:sp>
          <p:nvSpPr>
            <p:cNvPr id="324" name=""/>
            <p:cNvSpPr/>
            <p:nvPr/>
          </p:nvSpPr>
          <p:spPr>
            <a:xfrm>
              <a:off x="5251680" y="5104440"/>
              <a:ext cx="315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usto de Geração térm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57600" y="5303880"/>
              <a:ext cx="1523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57600" y="5485320"/>
            <a:ext cx="2487960" cy="398880"/>
            <a:chOff x="3657600" y="5485320"/>
            <a:chExt cx="2487960" cy="398880"/>
          </a:xfrm>
        </p:grpSpPr>
        <p:sp>
          <p:nvSpPr>
            <p:cNvPr id="327" name=""/>
            <p:cNvSpPr/>
            <p:nvPr/>
          </p:nvSpPr>
          <p:spPr>
            <a:xfrm>
              <a:off x="5257800" y="5485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7600" y="5684760"/>
              <a:ext cx="1523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657600" y="5866560"/>
            <a:ext cx="3381480" cy="398880"/>
            <a:chOff x="3657600" y="5866560"/>
            <a:chExt cx="3381480" cy="398880"/>
          </a:xfrm>
        </p:grpSpPr>
        <p:sp>
          <p:nvSpPr>
            <p:cNvPr id="330" name=""/>
            <p:cNvSpPr/>
            <p:nvPr/>
          </p:nvSpPr>
          <p:spPr>
            <a:xfrm>
              <a:off x="5259600" y="5866560"/>
              <a:ext cx="177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MO do out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7600" y="6065640"/>
              <a:ext cx="1523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657600" y="6247440"/>
            <a:ext cx="4410000" cy="398880"/>
            <a:chOff x="3657600" y="6247440"/>
            <a:chExt cx="4410000" cy="398880"/>
          </a:xfrm>
        </p:grpSpPr>
        <p:sp>
          <p:nvSpPr>
            <p:cNvPr id="333" name=""/>
            <p:cNvSpPr/>
            <p:nvPr/>
          </p:nvSpPr>
          <p:spPr>
            <a:xfrm>
              <a:off x="5253480" y="624744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usto de racion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7600" y="6446880"/>
              <a:ext cx="1523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981080" y="762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o Custo Marginal de O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O Planejamento e a Programação da Oper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81200" y="2209680"/>
            <a:ext cx="5838840" cy="2057400"/>
          </a:xfrm>
          <a:prstGeom prst="rect">
            <a:avLst/>
          </a:prstGeom>
          <a:solidFill>
            <a:srgbClr val="c9e4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2320" y="2778120"/>
            <a:ext cx="21830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 marL="92160" indent="-921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nejamento de médio pr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822320" y="2290680"/>
            <a:ext cx="703440" cy="487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rot="5136600">
            <a:off x="880920" y="2246040"/>
            <a:ext cx="685800" cy="914400"/>
          </a:xfrm>
          <a:custGeom>
            <a:avLst/>
            <a:gdLst/>
            <a:ahLst/>
            <a:rect l="l" t="t" r="r" b="b"/>
            <a:pathLst>
              <a:path w="1646" h="855">
                <a:moveTo>
                  <a:pt x="0" y="849"/>
                </a:moveTo>
                <a:lnTo>
                  <a:pt x="91" y="855"/>
                </a:lnTo>
                <a:lnTo>
                  <a:pt x="136" y="855"/>
                </a:lnTo>
                <a:lnTo>
                  <a:pt x="190" y="855"/>
                </a:lnTo>
                <a:lnTo>
                  <a:pt x="241" y="852"/>
                </a:lnTo>
                <a:lnTo>
                  <a:pt x="291" y="849"/>
                </a:lnTo>
                <a:lnTo>
                  <a:pt x="342" y="843"/>
                </a:lnTo>
                <a:lnTo>
                  <a:pt x="387" y="834"/>
                </a:lnTo>
                <a:lnTo>
                  <a:pt x="437" y="824"/>
                </a:lnTo>
                <a:lnTo>
                  <a:pt x="497" y="809"/>
                </a:lnTo>
                <a:lnTo>
                  <a:pt x="551" y="790"/>
                </a:lnTo>
                <a:lnTo>
                  <a:pt x="602" y="774"/>
                </a:lnTo>
                <a:lnTo>
                  <a:pt x="659" y="753"/>
                </a:lnTo>
                <a:lnTo>
                  <a:pt x="713" y="728"/>
                </a:lnTo>
                <a:lnTo>
                  <a:pt x="767" y="703"/>
                </a:lnTo>
                <a:lnTo>
                  <a:pt x="812" y="678"/>
                </a:lnTo>
                <a:lnTo>
                  <a:pt x="864" y="653"/>
                </a:lnTo>
                <a:lnTo>
                  <a:pt x="906" y="629"/>
                </a:lnTo>
                <a:lnTo>
                  <a:pt x="954" y="601"/>
                </a:lnTo>
                <a:lnTo>
                  <a:pt x="1002" y="573"/>
                </a:lnTo>
                <a:lnTo>
                  <a:pt x="1050" y="538"/>
                </a:lnTo>
                <a:lnTo>
                  <a:pt x="1092" y="510"/>
                </a:lnTo>
                <a:lnTo>
                  <a:pt x="1137" y="472"/>
                </a:lnTo>
                <a:lnTo>
                  <a:pt x="1179" y="438"/>
                </a:lnTo>
                <a:lnTo>
                  <a:pt x="1218" y="403"/>
                </a:lnTo>
                <a:lnTo>
                  <a:pt x="1250" y="365"/>
                </a:lnTo>
                <a:lnTo>
                  <a:pt x="1277" y="334"/>
                </a:lnTo>
                <a:lnTo>
                  <a:pt x="1298" y="299"/>
                </a:lnTo>
                <a:lnTo>
                  <a:pt x="1646" y="345"/>
                </a:lnTo>
                <a:lnTo>
                  <a:pt x="1591" y="321"/>
                </a:lnTo>
                <a:lnTo>
                  <a:pt x="1549" y="299"/>
                </a:lnTo>
                <a:lnTo>
                  <a:pt x="1498" y="277"/>
                </a:lnTo>
                <a:lnTo>
                  <a:pt x="1460" y="255"/>
                </a:lnTo>
                <a:lnTo>
                  <a:pt x="1427" y="234"/>
                </a:lnTo>
                <a:lnTo>
                  <a:pt x="1397" y="218"/>
                </a:lnTo>
                <a:lnTo>
                  <a:pt x="1368" y="195"/>
                </a:lnTo>
                <a:lnTo>
                  <a:pt x="1339" y="174"/>
                </a:lnTo>
                <a:lnTo>
                  <a:pt x="1308" y="150"/>
                </a:lnTo>
                <a:lnTo>
                  <a:pt x="1274" y="120"/>
                </a:lnTo>
                <a:lnTo>
                  <a:pt x="1238" y="91"/>
                </a:lnTo>
                <a:lnTo>
                  <a:pt x="1209" y="61"/>
                </a:lnTo>
                <a:lnTo>
                  <a:pt x="1177" y="28"/>
                </a:lnTo>
                <a:lnTo>
                  <a:pt x="1152" y="0"/>
                </a:lnTo>
                <a:lnTo>
                  <a:pt x="1125" y="10"/>
                </a:lnTo>
                <a:lnTo>
                  <a:pt x="1098" y="26"/>
                </a:lnTo>
                <a:lnTo>
                  <a:pt x="1069" y="39"/>
                </a:lnTo>
                <a:lnTo>
                  <a:pt x="1035" y="54"/>
                </a:lnTo>
                <a:lnTo>
                  <a:pt x="1000" y="69"/>
                </a:lnTo>
                <a:lnTo>
                  <a:pt x="968" y="80"/>
                </a:lnTo>
                <a:lnTo>
                  <a:pt x="937" y="89"/>
                </a:lnTo>
                <a:lnTo>
                  <a:pt x="902" y="100"/>
                </a:lnTo>
                <a:lnTo>
                  <a:pt x="866" y="109"/>
                </a:lnTo>
                <a:lnTo>
                  <a:pt x="827" y="120"/>
                </a:lnTo>
                <a:lnTo>
                  <a:pt x="792" y="129"/>
                </a:lnTo>
                <a:lnTo>
                  <a:pt x="758" y="138"/>
                </a:lnTo>
                <a:lnTo>
                  <a:pt x="721" y="145"/>
                </a:lnTo>
                <a:lnTo>
                  <a:pt x="686" y="153"/>
                </a:lnTo>
                <a:lnTo>
                  <a:pt x="653" y="160"/>
                </a:lnTo>
                <a:lnTo>
                  <a:pt x="614" y="169"/>
                </a:lnTo>
                <a:lnTo>
                  <a:pt x="563" y="175"/>
                </a:lnTo>
                <a:lnTo>
                  <a:pt x="921" y="240"/>
                </a:lnTo>
                <a:lnTo>
                  <a:pt x="897" y="290"/>
                </a:lnTo>
                <a:lnTo>
                  <a:pt x="870" y="327"/>
                </a:lnTo>
                <a:lnTo>
                  <a:pt x="818" y="396"/>
                </a:lnTo>
                <a:lnTo>
                  <a:pt x="788" y="429"/>
                </a:lnTo>
                <a:lnTo>
                  <a:pt x="758" y="460"/>
                </a:lnTo>
                <a:lnTo>
                  <a:pt x="704" y="513"/>
                </a:lnTo>
                <a:lnTo>
                  <a:pt x="671" y="544"/>
                </a:lnTo>
                <a:lnTo>
                  <a:pt x="632" y="582"/>
                </a:lnTo>
                <a:lnTo>
                  <a:pt x="596" y="610"/>
                </a:lnTo>
                <a:lnTo>
                  <a:pt x="566" y="635"/>
                </a:lnTo>
                <a:lnTo>
                  <a:pt x="536" y="659"/>
                </a:lnTo>
                <a:lnTo>
                  <a:pt x="500" y="684"/>
                </a:lnTo>
                <a:lnTo>
                  <a:pt x="461" y="709"/>
                </a:lnTo>
                <a:lnTo>
                  <a:pt x="422" y="728"/>
                </a:lnTo>
                <a:lnTo>
                  <a:pt x="384" y="750"/>
                </a:lnTo>
                <a:lnTo>
                  <a:pt x="336" y="768"/>
                </a:lnTo>
                <a:lnTo>
                  <a:pt x="291" y="783"/>
                </a:lnTo>
                <a:lnTo>
                  <a:pt x="241" y="796"/>
                </a:lnTo>
                <a:lnTo>
                  <a:pt x="193" y="809"/>
                </a:lnTo>
                <a:lnTo>
                  <a:pt x="142" y="821"/>
                </a:lnTo>
                <a:lnTo>
                  <a:pt x="86" y="832"/>
                </a:lnTo>
                <a:lnTo>
                  <a:pt x="0" y="84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rot="16028400">
            <a:off x="7641720" y="2374920"/>
            <a:ext cx="576360" cy="684000"/>
          </a:xfrm>
          <a:custGeom>
            <a:avLst/>
            <a:gdLst/>
            <a:ahLst/>
            <a:rect l="l" t="t" r="r" b="b"/>
            <a:pathLst>
              <a:path w="1646" h="855">
                <a:moveTo>
                  <a:pt x="0" y="849"/>
                </a:moveTo>
                <a:lnTo>
                  <a:pt x="91" y="855"/>
                </a:lnTo>
                <a:lnTo>
                  <a:pt x="136" y="855"/>
                </a:lnTo>
                <a:lnTo>
                  <a:pt x="190" y="855"/>
                </a:lnTo>
                <a:lnTo>
                  <a:pt x="241" y="852"/>
                </a:lnTo>
                <a:lnTo>
                  <a:pt x="291" y="849"/>
                </a:lnTo>
                <a:lnTo>
                  <a:pt x="342" y="843"/>
                </a:lnTo>
                <a:lnTo>
                  <a:pt x="387" y="834"/>
                </a:lnTo>
                <a:lnTo>
                  <a:pt x="437" y="824"/>
                </a:lnTo>
                <a:lnTo>
                  <a:pt x="497" y="809"/>
                </a:lnTo>
                <a:lnTo>
                  <a:pt x="551" y="790"/>
                </a:lnTo>
                <a:lnTo>
                  <a:pt x="602" y="774"/>
                </a:lnTo>
                <a:lnTo>
                  <a:pt x="659" y="753"/>
                </a:lnTo>
                <a:lnTo>
                  <a:pt x="713" y="728"/>
                </a:lnTo>
                <a:lnTo>
                  <a:pt x="767" y="703"/>
                </a:lnTo>
                <a:lnTo>
                  <a:pt x="812" y="678"/>
                </a:lnTo>
                <a:lnTo>
                  <a:pt x="864" y="653"/>
                </a:lnTo>
                <a:lnTo>
                  <a:pt x="906" y="629"/>
                </a:lnTo>
                <a:lnTo>
                  <a:pt x="954" y="601"/>
                </a:lnTo>
                <a:lnTo>
                  <a:pt x="1002" y="573"/>
                </a:lnTo>
                <a:lnTo>
                  <a:pt x="1050" y="538"/>
                </a:lnTo>
                <a:lnTo>
                  <a:pt x="1092" y="510"/>
                </a:lnTo>
                <a:lnTo>
                  <a:pt x="1137" y="472"/>
                </a:lnTo>
                <a:lnTo>
                  <a:pt x="1179" y="438"/>
                </a:lnTo>
                <a:lnTo>
                  <a:pt x="1218" y="403"/>
                </a:lnTo>
                <a:lnTo>
                  <a:pt x="1250" y="365"/>
                </a:lnTo>
                <a:lnTo>
                  <a:pt x="1277" y="334"/>
                </a:lnTo>
                <a:lnTo>
                  <a:pt x="1298" y="299"/>
                </a:lnTo>
                <a:lnTo>
                  <a:pt x="1646" y="345"/>
                </a:lnTo>
                <a:lnTo>
                  <a:pt x="1591" y="321"/>
                </a:lnTo>
                <a:lnTo>
                  <a:pt x="1549" y="299"/>
                </a:lnTo>
                <a:lnTo>
                  <a:pt x="1498" y="277"/>
                </a:lnTo>
                <a:lnTo>
                  <a:pt x="1460" y="255"/>
                </a:lnTo>
                <a:lnTo>
                  <a:pt x="1427" y="234"/>
                </a:lnTo>
                <a:lnTo>
                  <a:pt x="1397" y="218"/>
                </a:lnTo>
                <a:lnTo>
                  <a:pt x="1368" y="195"/>
                </a:lnTo>
                <a:lnTo>
                  <a:pt x="1339" y="174"/>
                </a:lnTo>
                <a:lnTo>
                  <a:pt x="1308" y="150"/>
                </a:lnTo>
                <a:lnTo>
                  <a:pt x="1274" y="120"/>
                </a:lnTo>
                <a:lnTo>
                  <a:pt x="1238" y="91"/>
                </a:lnTo>
                <a:lnTo>
                  <a:pt x="1209" y="61"/>
                </a:lnTo>
                <a:lnTo>
                  <a:pt x="1177" y="28"/>
                </a:lnTo>
                <a:lnTo>
                  <a:pt x="1152" y="0"/>
                </a:lnTo>
                <a:lnTo>
                  <a:pt x="1125" y="10"/>
                </a:lnTo>
                <a:lnTo>
                  <a:pt x="1098" y="26"/>
                </a:lnTo>
                <a:lnTo>
                  <a:pt x="1069" y="39"/>
                </a:lnTo>
                <a:lnTo>
                  <a:pt x="1035" y="54"/>
                </a:lnTo>
                <a:lnTo>
                  <a:pt x="1000" y="69"/>
                </a:lnTo>
                <a:lnTo>
                  <a:pt x="968" y="80"/>
                </a:lnTo>
                <a:lnTo>
                  <a:pt x="937" y="89"/>
                </a:lnTo>
                <a:lnTo>
                  <a:pt x="902" y="100"/>
                </a:lnTo>
                <a:lnTo>
                  <a:pt x="866" y="109"/>
                </a:lnTo>
                <a:lnTo>
                  <a:pt x="827" y="120"/>
                </a:lnTo>
                <a:lnTo>
                  <a:pt x="792" y="129"/>
                </a:lnTo>
                <a:lnTo>
                  <a:pt x="758" y="138"/>
                </a:lnTo>
                <a:lnTo>
                  <a:pt x="721" y="145"/>
                </a:lnTo>
                <a:lnTo>
                  <a:pt x="686" y="153"/>
                </a:lnTo>
                <a:lnTo>
                  <a:pt x="653" y="160"/>
                </a:lnTo>
                <a:lnTo>
                  <a:pt x="614" y="169"/>
                </a:lnTo>
                <a:lnTo>
                  <a:pt x="563" y="175"/>
                </a:lnTo>
                <a:lnTo>
                  <a:pt x="921" y="240"/>
                </a:lnTo>
                <a:lnTo>
                  <a:pt x="897" y="290"/>
                </a:lnTo>
                <a:lnTo>
                  <a:pt x="870" y="327"/>
                </a:lnTo>
                <a:lnTo>
                  <a:pt x="818" y="396"/>
                </a:lnTo>
                <a:lnTo>
                  <a:pt x="788" y="429"/>
                </a:lnTo>
                <a:lnTo>
                  <a:pt x="758" y="460"/>
                </a:lnTo>
                <a:lnTo>
                  <a:pt x="704" y="513"/>
                </a:lnTo>
                <a:lnTo>
                  <a:pt x="671" y="544"/>
                </a:lnTo>
                <a:lnTo>
                  <a:pt x="632" y="582"/>
                </a:lnTo>
                <a:lnTo>
                  <a:pt x="596" y="610"/>
                </a:lnTo>
                <a:lnTo>
                  <a:pt x="566" y="635"/>
                </a:lnTo>
                <a:lnTo>
                  <a:pt x="536" y="659"/>
                </a:lnTo>
                <a:lnTo>
                  <a:pt x="500" y="684"/>
                </a:lnTo>
                <a:lnTo>
                  <a:pt x="461" y="709"/>
                </a:lnTo>
                <a:lnTo>
                  <a:pt x="422" y="728"/>
                </a:lnTo>
                <a:lnTo>
                  <a:pt x="384" y="750"/>
                </a:lnTo>
                <a:lnTo>
                  <a:pt x="336" y="768"/>
                </a:lnTo>
                <a:lnTo>
                  <a:pt x="291" y="783"/>
                </a:lnTo>
                <a:lnTo>
                  <a:pt x="241" y="796"/>
                </a:lnTo>
                <a:lnTo>
                  <a:pt x="193" y="809"/>
                </a:lnTo>
                <a:lnTo>
                  <a:pt x="142" y="821"/>
                </a:lnTo>
                <a:lnTo>
                  <a:pt x="86" y="832"/>
                </a:lnTo>
                <a:lnTo>
                  <a:pt x="0" y="84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57680" y="1750320"/>
            <a:ext cx="2882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onibilidade e restr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transmis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62920" y="1752480"/>
            <a:ext cx="100476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/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360" y="1752480"/>
            <a:ext cx="9144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32280" y="990720"/>
            <a:ext cx="9144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80" y="3121200"/>
            <a:ext cx="17442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onibilid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ger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21960" y="2514240"/>
            <a:ext cx="867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2320" y="3344760"/>
            <a:ext cx="21830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 marL="92160" indent="-921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nejamento de curto pr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2320" y="3962520"/>
            <a:ext cx="2183040" cy="240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 marL="92160" indent="-921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gramação diá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89600" y="3094200"/>
            <a:ext cx="2466720" cy="24084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isã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89600" y="3475080"/>
            <a:ext cx="2466720" cy="24084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isão de afluê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75200" y="2778120"/>
            <a:ext cx="914400" cy="142704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0"/>
                </a:moveTo>
                <a:lnTo>
                  <a:pt x="624" y="288"/>
                </a:lnTo>
                <a:lnTo>
                  <a:pt x="0" y="624"/>
                </a:lnTo>
                <a:lnTo>
                  <a:pt x="240" y="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7320" y="5438880"/>
            <a:ext cx="1410120" cy="885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nalização d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usto futu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sco d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endi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65320" y="5636880"/>
            <a:ext cx="1071720" cy="68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trize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ra 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6440" y="5397120"/>
            <a:ext cx="1199520" cy="489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pacho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s usin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33640" y="4343400"/>
            <a:ext cx="511200" cy="1054080"/>
          </a:xfrm>
          <a:custGeom>
            <a:avLst/>
            <a:gdLst/>
            <a:ahLst/>
            <a:rect l="l" t="t" r="r" b="b"/>
            <a:pathLst>
              <a:path w="396" h="508">
                <a:moveTo>
                  <a:pt x="276" y="316"/>
                </a:moveTo>
                <a:lnTo>
                  <a:pt x="396" y="320"/>
                </a:lnTo>
                <a:lnTo>
                  <a:pt x="204" y="508"/>
                </a:lnTo>
                <a:lnTo>
                  <a:pt x="0" y="328"/>
                </a:lnTo>
                <a:lnTo>
                  <a:pt x="116" y="332"/>
                </a:lnTo>
                <a:lnTo>
                  <a:pt x="56" y="8"/>
                </a:lnTo>
                <a:lnTo>
                  <a:pt x="192" y="200"/>
                </a:lnTo>
                <a:lnTo>
                  <a:pt x="348" y="0"/>
                </a:lnTo>
                <a:lnTo>
                  <a:pt x="276" y="31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73840" y="4267080"/>
            <a:ext cx="631800" cy="1067040"/>
          </a:xfrm>
          <a:custGeom>
            <a:avLst/>
            <a:gdLst/>
            <a:ahLst/>
            <a:rect l="l" t="t" r="r" b="b"/>
            <a:pathLst>
              <a:path w="396" h="508">
                <a:moveTo>
                  <a:pt x="276" y="316"/>
                </a:moveTo>
                <a:lnTo>
                  <a:pt x="396" y="320"/>
                </a:lnTo>
                <a:lnTo>
                  <a:pt x="204" y="508"/>
                </a:lnTo>
                <a:lnTo>
                  <a:pt x="0" y="328"/>
                </a:lnTo>
                <a:lnTo>
                  <a:pt x="116" y="332"/>
                </a:lnTo>
                <a:lnTo>
                  <a:pt x="56" y="8"/>
                </a:lnTo>
                <a:lnTo>
                  <a:pt x="192" y="200"/>
                </a:lnTo>
                <a:lnTo>
                  <a:pt x="348" y="0"/>
                </a:lnTo>
                <a:lnTo>
                  <a:pt x="276" y="31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05360" y="4343400"/>
            <a:ext cx="630000" cy="1219320"/>
          </a:xfrm>
          <a:custGeom>
            <a:avLst/>
            <a:gdLst/>
            <a:ahLst/>
            <a:rect l="l" t="t" r="r" b="b"/>
            <a:pathLst>
              <a:path w="396" h="508">
                <a:moveTo>
                  <a:pt x="276" y="316"/>
                </a:moveTo>
                <a:lnTo>
                  <a:pt x="396" y="320"/>
                </a:lnTo>
                <a:lnTo>
                  <a:pt x="204" y="508"/>
                </a:lnTo>
                <a:lnTo>
                  <a:pt x="0" y="328"/>
                </a:lnTo>
                <a:lnTo>
                  <a:pt x="116" y="332"/>
                </a:lnTo>
                <a:lnTo>
                  <a:pt x="56" y="8"/>
                </a:lnTo>
                <a:lnTo>
                  <a:pt x="192" y="200"/>
                </a:lnTo>
                <a:lnTo>
                  <a:pt x="348" y="0"/>
                </a:lnTo>
                <a:lnTo>
                  <a:pt x="276" y="31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0813200">
            <a:off x="3014640" y="1366560"/>
            <a:ext cx="914400" cy="841320"/>
          </a:xfrm>
          <a:custGeom>
            <a:avLst/>
            <a:gdLst/>
            <a:ahLst/>
            <a:rect l="l" t="t" r="r" b="b"/>
            <a:pathLst>
              <a:path w="1646" h="855">
                <a:moveTo>
                  <a:pt x="0" y="849"/>
                </a:moveTo>
                <a:lnTo>
                  <a:pt x="91" y="855"/>
                </a:lnTo>
                <a:lnTo>
                  <a:pt x="136" y="855"/>
                </a:lnTo>
                <a:lnTo>
                  <a:pt x="190" y="855"/>
                </a:lnTo>
                <a:lnTo>
                  <a:pt x="241" y="852"/>
                </a:lnTo>
                <a:lnTo>
                  <a:pt x="291" y="849"/>
                </a:lnTo>
                <a:lnTo>
                  <a:pt x="342" y="843"/>
                </a:lnTo>
                <a:lnTo>
                  <a:pt x="387" y="834"/>
                </a:lnTo>
                <a:lnTo>
                  <a:pt x="437" y="824"/>
                </a:lnTo>
                <a:lnTo>
                  <a:pt x="497" y="809"/>
                </a:lnTo>
                <a:lnTo>
                  <a:pt x="551" y="790"/>
                </a:lnTo>
                <a:lnTo>
                  <a:pt x="602" y="774"/>
                </a:lnTo>
                <a:lnTo>
                  <a:pt x="659" y="753"/>
                </a:lnTo>
                <a:lnTo>
                  <a:pt x="713" y="728"/>
                </a:lnTo>
                <a:lnTo>
                  <a:pt x="767" y="703"/>
                </a:lnTo>
                <a:lnTo>
                  <a:pt x="812" y="678"/>
                </a:lnTo>
                <a:lnTo>
                  <a:pt x="864" y="653"/>
                </a:lnTo>
                <a:lnTo>
                  <a:pt x="906" y="629"/>
                </a:lnTo>
                <a:lnTo>
                  <a:pt x="954" y="601"/>
                </a:lnTo>
                <a:lnTo>
                  <a:pt x="1002" y="573"/>
                </a:lnTo>
                <a:lnTo>
                  <a:pt x="1050" y="538"/>
                </a:lnTo>
                <a:lnTo>
                  <a:pt x="1092" y="510"/>
                </a:lnTo>
                <a:lnTo>
                  <a:pt x="1137" y="472"/>
                </a:lnTo>
                <a:lnTo>
                  <a:pt x="1179" y="438"/>
                </a:lnTo>
                <a:lnTo>
                  <a:pt x="1218" y="403"/>
                </a:lnTo>
                <a:lnTo>
                  <a:pt x="1250" y="365"/>
                </a:lnTo>
                <a:lnTo>
                  <a:pt x="1277" y="334"/>
                </a:lnTo>
                <a:lnTo>
                  <a:pt x="1298" y="299"/>
                </a:lnTo>
                <a:lnTo>
                  <a:pt x="1646" y="345"/>
                </a:lnTo>
                <a:lnTo>
                  <a:pt x="1591" y="321"/>
                </a:lnTo>
                <a:lnTo>
                  <a:pt x="1549" y="299"/>
                </a:lnTo>
                <a:lnTo>
                  <a:pt x="1498" y="277"/>
                </a:lnTo>
                <a:lnTo>
                  <a:pt x="1460" y="255"/>
                </a:lnTo>
                <a:lnTo>
                  <a:pt x="1427" y="234"/>
                </a:lnTo>
                <a:lnTo>
                  <a:pt x="1397" y="218"/>
                </a:lnTo>
                <a:lnTo>
                  <a:pt x="1368" y="195"/>
                </a:lnTo>
                <a:lnTo>
                  <a:pt x="1339" y="174"/>
                </a:lnTo>
                <a:lnTo>
                  <a:pt x="1308" y="150"/>
                </a:lnTo>
                <a:lnTo>
                  <a:pt x="1274" y="120"/>
                </a:lnTo>
                <a:lnTo>
                  <a:pt x="1238" y="91"/>
                </a:lnTo>
                <a:lnTo>
                  <a:pt x="1209" y="61"/>
                </a:lnTo>
                <a:lnTo>
                  <a:pt x="1177" y="28"/>
                </a:lnTo>
                <a:lnTo>
                  <a:pt x="1152" y="0"/>
                </a:lnTo>
                <a:lnTo>
                  <a:pt x="1125" y="10"/>
                </a:lnTo>
                <a:lnTo>
                  <a:pt x="1098" y="26"/>
                </a:lnTo>
                <a:lnTo>
                  <a:pt x="1069" y="39"/>
                </a:lnTo>
                <a:lnTo>
                  <a:pt x="1035" y="54"/>
                </a:lnTo>
                <a:lnTo>
                  <a:pt x="1000" y="69"/>
                </a:lnTo>
                <a:lnTo>
                  <a:pt x="968" y="80"/>
                </a:lnTo>
                <a:lnTo>
                  <a:pt x="937" y="89"/>
                </a:lnTo>
                <a:lnTo>
                  <a:pt x="902" y="100"/>
                </a:lnTo>
                <a:lnTo>
                  <a:pt x="866" y="109"/>
                </a:lnTo>
                <a:lnTo>
                  <a:pt x="827" y="120"/>
                </a:lnTo>
                <a:lnTo>
                  <a:pt x="792" y="129"/>
                </a:lnTo>
                <a:lnTo>
                  <a:pt x="758" y="138"/>
                </a:lnTo>
                <a:lnTo>
                  <a:pt x="721" y="145"/>
                </a:lnTo>
                <a:lnTo>
                  <a:pt x="686" y="153"/>
                </a:lnTo>
                <a:lnTo>
                  <a:pt x="653" y="160"/>
                </a:lnTo>
                <a:lnTo>
                  <a:pt x="614" y="169"/>
                </a:lnTo>
                <a:lnTo>
                  <a:pt x="563" y="175"/>
                </a:lnTo>
                <a:lnTo>
                  <a:pt x="921" y="240"/>
                </a:lnTo>
                <a:lnTo>
                  <a:pt x="897" y="290"/>
                </a:lnTo>
                <a:lnTo>
                  <a:pt x="870" y="327"/>
                </a:lnTo>
                <a:lnTo>
                  <a:pt x="818" y="396"/>
                </a:lnTo>
                <a:lnTo>
                  <a:pt x="788" y="429"/>
                </a:lnTo>
                <a:lnTo>
                  <a:pt x="758" y="460"/>
                </a:lnTo>
                <a:lnTo>
                  <a:pt x="704" y="513"/>
                </a:lnTo>
                <a:lnTo>
                  <a:pt x="671" y="544"/>
                </a:lnTo>
                <a:lnTo>
                  <a:pt x="632" y="582"/>
                </a:lnTo>
                <a:lnTo>
                  <a:pt x="596" y="610"/>
                </a:lnTo>
                <a:lnTo>
                  <a:pt x="566" y="635"/>
                </a:lnTo>
                <a:lnTo>
                  <a:pt x="536" y="659"/>
                </a:lnTo>
                <a:lnTo>
                  <a:pt x="500" y="684"/>
                </a:lnTo>
                <a:lnTo>
                  <a:pt x="461" y="709"/>
                </a:lnTo>
                <a:lnTo>
                  <a:pt x="422" y="728"/>
                </a:lnTo>
                <a:lnTo>
                  <a:pt x="384" y="750"/>
                </a:lnTo>
                <a:lnTo>
                  <a:pt x="336" y="768"/>
                </a:lnTo>
                <a:lnTo>
                  <a:pt x="291" y="783"/>
                </a:lnTo>
                <a:lnTo>
                  <a:pt x="241" y="796"/>
                </a:lnTo>
                <a:lnTo>
                  <a:pt x="193" y="809"/>
                </a:lnTo>
                <a:lnTo>
                  <a:pt x="142" y="821"/>
                </a:lnTo>
                <a:lnTo>
                  <a:pt x="86" y="832"/>
                </a:lnTo>
                <a:lnTo>
                  <a:pt x="0" y="84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028400">
            <a:off x="7483320" y="3854160"/>
            <a:ext cx="838080" cy="746280"/>
          </a:xfrm>
          <a:custGeom>
            <a:avLst/>
            <a:gdLst/>
            <a:ahLst/>
            <a:rect l="l" t="t" r="r" b="b"/>
            <a:pathLst>
              <a:path w="1646" h="855">
                <a:moveTo>
                  <a:pt x="0" y="849"/>
                </a:moveTo>
                <a:lnTo>
                  <a:pt x="91" y="855"/>
                </a:lnTo>
                <a:lnTo>
                  <a:pt x="136" y="855"/>
                </a:lnTo>
                <a:lnTo>
                  <a:pt x="190" y="855"/>
                </a:lnTo>
                <a:lnTo>
                  <a:pt x="241" y="852"/>
                </a:lnTo>
                <a:lnTo>
                  <a:pt x="291" y="849"/>
                </a:lnTo>
                <a:lnTo>
                  <a:pt x="342" y="843"/>
                </a:lnTo>
                <a:lnTo>
                  <a:pt x="387" y="834"/>
                </a:lnTo>
                <a:lnTo>
                  <a:pt x="437" y="824"/>
                </a:lnTo>
                <a:lnTo>
                  <a:pt x="497" y="809"/>
                </a:lnTo>
                <a:lnTo>
                  <a:pt x="551" y="790"/>
                </a:lnTo>
                <a:lnTo>
                  <a:pt x="602" y="774"/>
                </a:lnTo>
                <a:lnTo>
                  <a:pt x="659" y="753"/>
                </a:lnTo>
                <a:lnTo>
                  <a:pt x="713" y="728"/>
                </a:lnTo>
                <a:lnTo>
                  <a:pt x="767" y="703"/>
                </a:lnTo>
                <a:lnTo>
                  <a:pt x="812" y="678"/>
                </a:lnTo>
                <a:lnTo>
                  <a:pt x="864" y="653"/>
                </a:lnTo>
                <a:lnTo>
                  <a:pt x="906" y="629"/>
                </a:lnTo>
                <a:lnTo>
                  <a:pt x="954" y="601"/>
                </a:lnTo>
                <a:lnTo>
                  <a:pt x="1002" y="573"/>
                </a:lnTo>
                <a:lnTo>
                  <a:pt x="1050" y="538"/>
                </a:lnTo>
                <a:lnTo>
                  <a:pt x="1092" y="510"/>
                </a:lnTo>
                <a:lnTo>
                  <a:pt x="1137" y="472"/>
                </a:lnTo>
                <a:lnTo>
                  <a:pt x="1179" y="438"/>
                </a:lnTo>
                <a:lnTo>
                  <a:pt x="1218" y="403"/>
                </a:lnTo>
                <a:lnTo>
                  <a:pt x="1250" y="365"/>
                </a:lnTo>
                <a:lnTo>
                  <a:pt x="1277" y="334"/>
                </a:lnTo>
                <a:lnTo>
                  <a:pt x="1298" y="299"/>
                </a:lnTo>
                <a:lnTo>
                  <a:pt x="1646" y="345"/>
                </a:lnTo>
                <a:lnTo>
                  <a:pt x="1591" y="321"/>
                </a:lnTo>
                <a:lnTo>
                  <a:pt x="1549" y="299"/>
                </a:lnTo>
                <a:lnTo>
                  <a:pt x="1498" y="277"/>
                </a:lnTo>
                <a:lnTo>
                  <a:pt x="1460" y="255"/>
                </a:lnTo>
                <a:lnTo>
                  <a:pt x="1427" y="234"/>
                </a:lnTo>
                <a:lnTo>
                  <a:pt x="1397" y="218"/>
                </a:lnTo>
                <a:lnTo>
                  <a:pt x="1368" y="195"/>
                </a:lnTo>
                <a:lnTo>
                  <a:pt x="1339" y="174"/>
                </a:lnTo>
                <a:lnTo>
                  <a:pt x="1308" y="150"/>
                </a:lnTo>
                <a:lnTo>
                  <a:pt x="1274" y="120"/>
                </a:lnTo>
                <a:lnTo>
                  <a:pt x="1238" y="91"/>
                </a:lnTo>
                <a:lnTo>
                  <a:pt x="1209" y="61"/>
                </a:lnTo>
                <a:lnTo>
                  <a:pt x="1177" y="28"/>
                </a:lnTo>
                <a:lnTo>
                  <a:pt x="1152" y="0"/>
                </a:lnTo>
                <a:lnTo>
                  <a:pt x="1125" y="10"/>
                </a:lnTo>
                <a:lnTo>
                  <a:pt x="1098" y="26"/>
                </a:lnTo>
                <a:lnTo>
                  <a:pt x="1069" y="39"/>
                </a:lnTo>
                <a:lnTo>
                  <a:pt x="1035" y="54"/>
                </a:lnTo>
                <a:lnTo>
                  <a:pt x="1000" y="69"/>
                </a:lnTo>
                <a:lnTo>
                  <a:pt x="968" y="80"/>
                </a:lnTo>
                <a:lnTo>
                  <a:pt x="937" y="89"/>
                </a:lnTo>
                <a:lnTo>
                  <a:pt x="902" y="100"/>
                </a:lnTo>
                <a:lnTo>
                  <a:pt x="866" y="109"/>
                </a:lnTo>
                <a:lnTo>
                  <a:pt x="827" y="120"/>
                </a:lnTo>
                <a:lnTo>
                  <a:pt x="792" y="129"/>
                </a:lnTo>
                <a:lnTo>
                  <a:pt x="758" y="138"/>
                </a:lnTo>
                <a:lnTo>
                  <a:pt x="721" y="145"/>
                </a:lnTo>
                <a:lnTo>
                  <a:pt x="686" y="153"/>
                </a:lnTo>
                <a:lnTo>
                  <a:pt x="653" y="160"/>
                </a:lnTo>
                <a:lnTo>
                  <a:pt x="614" y="169"/>
                </a:lnTo>
                <a:lnTo>
                  <a:pt x="563" y="175"/>
                </a:lnTo>
                <a:lnTo>
                  <a:pt x="921" y="240"/>
                </a:lnTo>
                <a:lnTo>
                  <a:pt x="897" y="290"/>
                </a:lnTo>
                <a:lnTo>
                  <a:pt x="870" y="327"/>
                </a:lnTo>
                <a:lnTo>
                  <a:pt x="818" y="396"/>
                </a:lnTo>
                <a:lnTo>
                  <a:pt x="788" y="429"/>
                </a:lnTo>
                <a:lnTo>
                  <a:pt x="758" y="460"/>
                </a:lnTo>
                <a:lnTo>
                  <a:pt x="704" y="513"/>
                </a:lnTo>
                <a:lnTo>
                  <a:pt x="671" y="544"/>
                </a:lnTo>
                <a:lnTo>
                  <a:pt x="632" y="582"/>
                </a:lnTo>
                <a:lnTo>
                  <a:pt x="596" y="610"/>
                </a:lnTo>
                <a:lnTo>
                  <a:pt x="566" y="635"/>
                </a:lnTo>
                <a:lnTo>
                  <a:pt x="536" y="659"/>
                </a:lnTo>
                <a:lnTo>
                  <a:pt x="500" y="684"/>
                </a:lnTo>
                <a:lnTo>
                  <a:pt x="461" y="709"/>
                </a:lnTo>
                <a:lnTo>
                  <a:pt x="422" y="728"/>
                </a:lnTo>
                <a:lnTo>
                  <a:pt x="384" y="750"/>
                </a:lnTo>
                <a:lnTo>
                  <a:pt x="336" y="768"/>
                </a:lnTo>
                <a:lnTo>
                  <a:pt x="291" y="783"/>
                </a:lnTo>
                <a:lnTo>
                  <a:pt x="241" y="796"/>
                </a:lnTo>
                <a:lnTo>
                  <a:pt x="193" y="809"/>
                </a:lnTo>
                <a:lnTo>
                  <a:pt x="142" y="821"/>
                </a:lnTo>
                <a:lnTo>
                  <a:pt x="86" y="832"/>
                </a:lnTo>
                <a:lnTo>
                  <a:pt x="0" y="84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32800" y="5409360"/>
            <a:ext cx="112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atos de Ene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4648320"/>
            <a:ext cx="1687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exões Interna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- O Sistema Elétrico Brasilei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idroelétr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moelét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stal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GW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GW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G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9 (91%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 (9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2 (85%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2 (15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07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0 (75%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7 (25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ntes : Plano 2001 (ONS) e Plano Decenal 2000-2009 (CCP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 : Itaipu com somente 50%de sua energ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ctr" pos="2286000"/>
                <a:tab algn="ctr" pos="457200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atual participação das hidroelétricas (91%) na capacidade total evolui para 75% no começo de 2010, mantendo a característica predominante dos recursos hídricos por longo tempo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is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 Planejamento da Operação de Médio Prazo - 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ratégias e diretrizes para otimização da operação eletroenergé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ção das condições de atendimento à pon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ção de necessidade de potência adic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ratégias para controle de che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terminação das funções de custo futu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imativa de geração térm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isco de Défic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olidação da previsão de carg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terminação dos limites de transmissão entre subsistemas e aos principais centros de carga - critério N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752480" y="2286000"/>
            <a:ext cx="106704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93400" y="2376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2286000"/>
            <a:ext cx="106704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0480" y="2376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3200400"/>
            <a:ext cx="10666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61520" y="3290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/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3809880"/>
            <a:ext cx="106668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96560" y="39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78320" y="4205160"/>
            <a:ext cx="78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02200" y="3657600"/>
            <a:ext cx="78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27576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93120" y="2743200"/>
            <a:ext cx="78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5146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504960" y="36576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23623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4495680" y="2819160"/>
            <a:ext cx="533160" cy="76320"/>
          </a:xfrm>
          <a:prstGeom prst="leftRightArrow">
            <a:avLst>
              <a:gd name="adj1" fmla="val 50000"/>
              <a:gd name="adj2" fmla="val 139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9800000">
            <a:off x="3428640" y="3657600"/>
            <a:ext cx="457200" cy="7632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99520" y="27432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 N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8480" y="21337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 N/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80280" y="34290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 S/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 Planejamento da Operação de Curto Prazo - Operação Energé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missas Básicas do Processo de Otimizaçã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zar os recursos hidrotérmicos disponíveis visando equalizar o valor da água (VA) entre os 4 subsistemas, objetivando garantir uma operação óti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qualização influenciada p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 S/S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Limite na Interligação Sul/Sudest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 N/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Limite na Interligação Norte/Su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 N/N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Limite na Interligação Norte/Nordeste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nibilidade de geração nos subsistem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is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 Planejamento da Operação de Curto Prazo - Operação Energé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lores da água dos subsiste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pacho das usinas termelétric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eração térmica mensal para estimativa de consumo de combustível da CC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câmbios entre subsiste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tas de geração das usinas hidráulic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lanço de demanda instantâne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onogramas consolidado de manutenção de unidades gerador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lanços energéticos por subsiste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trizes para a programação diária eletroenergét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3 Programação Diária da Operação - 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ário, discretizado em intervalos de 30 minu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297036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3505320"/>
            <a:ext cx="83822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ubstanciar as políticas e diretrizes energéticas semanais provenientes do Programa Mensal de Operação, em programas diários de geração e intercâmbios, discretizados em intervalos de 30 minutos, considerando as restrições elétricas entre e intra-subsistemas, considerando os desligamentos na rede de operação, visando garantir a otimização energética, preservando a segurança oper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is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3 Programação Diária da Operação - 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visão consolidada de carg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consolidado de geração das usinas hidráulicas e térmic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consolidado de intercâmbios entre Agentes e entre subsiste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 despacho das Interligações Internacionai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consolidado de manutenção de unidades geradoras hidráulicas e térmic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lga de potência, por usina e por Agent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ocação de reserva de potênci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visões de carregamento nos principais pontos da rede de operação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trizes eletroenergéticas para a operação em tempo rea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-  Procedimentos de Rede do 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09480"/>
            <a:ext cx="9144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Definição 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Conjunto de regras e procedimentos que definem o relacionamento do ONS com os demais Agentes do setor elétrico e fora deste, estabelecendo normas e prazos para intercâmbio de informações e definindo as responsabilidades de cada ele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Composição 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23 módulos, divididos em submódulo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Módulo 9 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Hidrologia Operacional (Homologação Provisória pela ANEEL)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 Áreas de Atuação em Recursos Hídricos no 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1 Acompanhamento da Situação Hidroenergé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2 Previsão de Vazões de Curtíssimo (Diária), Curto(semana) e Médio Prazo(an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3 Meteorologia (convênios - CPTEC/INPE e FURNA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4 Controle de Cheias (em articulação com os Agentes de Geraçã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5 Evaporação nos Reservatórios (programa CEHPA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6 Restrições de Usos Múltiplos (irrigação / navegação / recreação / abastecimento / pesc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7 Participação no SNGR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1  Acompanhamento da Situação Hidroenergé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0" y="561960"/>
          <a:ext cx="9144000" cy="62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1960"/>
                    <a:ext cx="914400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1  Acompanhamento da Situação Hidroenergé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90720" y="542880"/>
          <a:ext cx="7696080" cy="62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42880"/>
                    <a:ext cx="769608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- 1  Acompanhamento da Situação Hidroenergé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90720" y="609480"/>
          <a:ext cx="75438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543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- O Sistema Elétrico Brasileiro (continuaçã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529160" cy="4647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2040" y="690480"/>
            <a:ext cx="5677920" cy="128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manda Máxima (ago/2001) = 58.316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acidade Instalada (dez/2000) = 65.669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9 Aproveitamentos Hidrelétricos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30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2  Previsão de Vaz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533520"/>
            <a:ext cx="9144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odelo Mensal (PREVAZ)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Modelo estocástico mensal com previsão de afluências para até 12 meses à f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odelo Semanal (PREVIVAZ) 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Modelo estocástico semanal com previsão de afluências para até 6 semanas à frente. Modelo de Propagação (CPINS), baseado em rotina do SSA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odelo Diário (PREVIVAZH) 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Modelo estocástico diário de desagregação a partir do modelo semanal prevendo até 13 dias à frente. Modelo Determinístico Diário (SMAP II - IPH II) a ser calibrado para as diferentes bacias hidrográficas de inter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Perspectivas Futuras na Previsão de Vaz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o de Redes Neurais Artificiais (R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o da Previsão de Precipitação na Previsão de Vaz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o de considerações macroclimáticas (EL NIÑO - LA NIÑA) nos modelos de previsão men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3  Meteorolog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609480"/>
            <a:ext cx="91440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SITUAÇÃO 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PTEC / INPE - Convênio (modelo climático, modelos de previsão do tempo e focos de cal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URNAS - Contrato (imágens de satéli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PROD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evisão de temperatura e condições de tempo para as capitais dos Es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evisão de precipitação por bacia hidrográfica de até 5 d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missão de alerta para condições de tempo severo (vento, descargas atmosféricas e precipit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PERSPECTIVAS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SE DE DADOS METEOROLÓGICOS - (Precipitação, temperatura, vent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4  Controle de Che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951600" y="1455840"/>
          <a:ext cx="9111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0" y="1455840"/>
                    <a:ext cx="91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2889360" y="1227240"/>
            <a:ext cx="2744640" cy="534960"/>
          </a:xfrm>
          <a:custGeom>
            <a:avLst/>
            <a:gdLst/>
            <a:ahLst/>
            <a:rect l="l" t="t" r="r" b="b"/>
            <a:pathLst>
              <a:path w="1729" h="337">
                <a:moveTo>
                  <a:pt x="0" y="0"/>
                </a:moveTo>
                <a:lnTo>
                  <a:pt x="1728" y="0"/>
                </a:lnTo>
                <a:lnTo>
                  <a:pt x="1632" y="336"/>
                </a:lnTo>
                <a:lnTo>
                  <a:pt x="1104" y="288"/>
                </a:lnTo>
                <a:lnTo>
                  <a:pt x="432" y="144"/>
                </a:lnTo>
                <a:lnTo>
                  <a:pt x="240" y="48"/>
                </a:lnTo>
                <a:lnTo>
                  <a:pt x="96" y="48"/>
                </a:lnTo>
                <a:lnTo>
                  <a:pt x="0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909520" y="1227240"/>
            <a:ext cx="2722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995480" y="846000"/>
            <a:ext cx="378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2680" y="1676520"/>
            <a:ext cx="12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1981080"/>
            <a:ext cx="5997600" cy="51876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perar os sistemas de reservatórios de forma a amortecer cheias e evitar danos por inundação em locais a jusant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49520" y="750960"/>
            <a:ext cx="5203800" cy="1087200"/>
          </a:xfrm>
          <a:custGeom>
            <a:avLst/>
            <a:gdLst/>
            <a:ahLst/>
            <a:rect l="l" t="t" r="r" b="b"/>
            <a:pathLst>
              <a:path w="3278" h="685">
                <a:moveTo>
                  <a:pt x="0" y="23"/>
                </a:moveTo>
                <a:lnTo>
                  <a:pt x="68" y="0"/>
                </a:lnTo>
                <a:lnTo>
                  <a:pt x="124" y="16"/>
                </a:lnTo>
                <a:lnTo>
                  <a:pt x="151" y="32"/>
                </a:lnTo>
                <a:lnTo>
                  <a:pt x="270" y="110"/>
                </a:lnTo>
                <a:lnTo>
                  <a:pt x="317" y="125"/>
                </a:lnTo>
                <a:lnTo>
                  <a:pt x="563" y="226"/>
                </a:lnTo>
                <a:lnTo>
                  <a:pt x="877" y="348"/>
                </a:lnTo>
                <a:lnTo>
                  <a:pt x="1021" y="348"/>
                </a:lnTo>
                <a:lnTo>
                  <a:pt x="1213" y="444"/>
                </a:lnTo>
                <a:lnTo>
                  <a:pt x="1636" y="530"/>
                </a:lnTo>
                <a:lnTo>
                  <a:pt x="1737" y="555"/>
                </a:lnTo>
                <a:lnTo>
                  <a:pt x="1881" y="585"/>
                </a:lnTo>
                <a:lnTo>
                  <a:pt x="2317" y="636"/>
                </a:lnTo>
                <a:lnTo>
                  <a:pt x="2413" y="636"/>
                </a:lnTo>
                <a:lnTo>
                  <a:pt x="2451" y="611"/>
                </a:lnTo>
                <a:lnTo>
                  <a:pt x="2505" y="609"/>
                </a:lnTo>
                <a:lnTo>
                  <a:pt x="2941" y="636"/>
                </a:lnTo>
                <a:lnTo>
                  <a:pt x="3172" y="658"/>
                </a:lnTo>
                <a:lnTo>
                  <a:pt x="3277" y="68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 rot="60000">
            <a:off x="5486400" y="623520"/>
            <a:ext cx="901800" cy="1129680"/>
          </a:xfrm>
          <a:custGeom>
            <a:avLst/>
            <a:gdLst>
              <a:gd name="textAreaLeft" fmla="*/ 207360 w 901800"/>
              <a:gd name="textAreaRight" fmla="*/ 694440 w 901800"/>
              <a:gd name="textAreaTop" fmla="*/ 259560 h 1129680"/>
              <a:gd name="textAreaBottom" fmla="*/ 870120 h 112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809" y="21600"/>
                </a:lnTo>
                <a:lnTo>
                  <a:pt x="5791" y="2160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92880" y="1805040"/>
            <a:ext cx="1301760" cy="79200"/>
          </a:xfrm>
          <a:custGeom>
            <a:avLst/>
            <a:gdLst/>
            <a:ahLst/>
            <a:rect l="l" t="t" r="r" b="b"/>
            <a:pathLst>
              <a:path w="821" h="50">
                <a:moveTo>
                  <a:pt x="0" y="0"/>
                </a:moveTo>
                <a:lnTo>
                  <a:pt x="57" y="4"/>
                </a:lnTo>
                <a:lnTo>
                  <a:pt x="162" y="10"/>
                </a:lnTo>
                <a:lnTo>
                  <a:pt x="544" y="34"/>
                </a:lnTo>
                <a:lnTo>
                  <a:pt x="682" y="49"/>
                </a:lnTo>
                <a:lnTo>
                  <a:pt x="820" y="40"/>
                </a:lnTo>
              </a:path>
            </a:pathLst>
          </a:cu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04880" y="892080"/>
            <a:ext cx="174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VOLUME DE ESP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13920" y="609480"/>
            <a:ext cx="143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cc"/>
                </a:solidFill>
                <a:latin typeface="Arial"/>
              </a:rPr>
              <a:t>NÍVEL MAX NORM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46600" y="5638680"/>
            <a:ext cx="1713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METOD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240" y="2666880"/>
            <a:ext cx="90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971800"/>
            <a:ext cx="6095880" cy="51876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o de Prevenção de Che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odas as  bacias com aproveitamento sujeitos a restri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38560" y="3657600"/>
            <a:ext cx="6125760" cy="51876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ras de Operação de Controle de Che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tualmente para as bacias dos rios Paraná, Iguaçu e Paraíba do Sul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4343400"/>
            <a:ext cx="6095880" cy="73188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ção da Operação de Controle de Che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tualmente para as bacias dos rios Paraná e  Iguaç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visão e Acompanhamento das demais ba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5257800"/>
            <a:ext cx="1295280" cy="115812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s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co de Inundaçã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5181480"/>
            <a:ext cx="1600200" cy="73188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liação Impactos Energético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5187960"/>
            <a:ext cx="1904760" cy="51876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isão Cli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l Niñ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29200" y="5264280"/>
            <a:ext cx="533520" cy="380880"/>
          </a:xfrm>
          <a:prstGeom prst="rightArrow">
            <a:avLst>
              <a:gd name="adj1" fmla="val 50000"/>
              <a:gd name="adj2" fmla="val 70213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0" y="5486400"/>
            <a:ext cx="609480" cy="380880"/>
          </a:xfrm>
          <a:prstGeom prst="rightArrow">
            <a:avLst>
              <a:gd name="adj1" fmla="val 50000"/>
              <a:gd name="adj2" fmla="val 8020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1000" y="649116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5457600">
            <a:off x="8130600" y="6190920"/>
            <a:ext cx="571320" cy="228600"/>
          </a:xfrm>
          <a:prstGeom prst="rightArrow">
            <a:avLst>
              <a:gd name="adj1" fmla="val 19843"/>
              <a:gd name="adj2" fmla="val 6923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8120" y="5950080"/>
            <a:ext cx="1904760" cy="305640"/>
          </a:xfrm>
          <a:prstGeom prst="rect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tr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5950080"/>
            <a:ext cx="533520" cy="380880"/>
          </a:xfrm>
          <a:prstGeom prst="rightArrow">
            <a:avLst>
              <a:gd name="adj1" fmla="val 50000"/>
              <a:gd name="adj2" fmla="val 70213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4  Controle de Che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38080"/>
            <a:ext cx="9144000" cy="58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</a:rPr>
              <a:t>SITUAÇÃO AT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ÇÃ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ração de Séries Sintéticas - Modelo DIANA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álculo de Volumes de Espera - Modelos CAEV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SPOT (condições de controlabilidade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OLESP (metodologia anterior sem v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stêm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AS OPERATIV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gras de Operação em Situaçã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Cheia -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CHEN (mensal e diá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</a:rPr>
              <a:t>PERSPECTIVAS FU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ão para um número maior de b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5  Evaporação nos Reservató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762120"/>
            <a:ext cx="91440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0000ff"/>
                </a:solidFill>
                <a:uFillTx/>
                <a:latin typeface="Times New Roman"/>
              </a:rPr>
              <a:t>SITUAÇÃO ATUAL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Os modelos energéticos utilizam um valor mensal de evaporação para cada reservatório (exceto para o Nordeste), calculado por modelo que utiliza o método de Morton e se baseia nas normais climatológicas 1931-1960. No começo de 2001, ficou concluído o software Sisevapo, desenvolvido pelo CEHPAR/LACTEC - PR, para utilização do método de Morton em diferentes bacias, utilizando as normais climatológicas 1961-1990, podendo selecionar estaç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0000ff"/>
                </a:solidFill>
                <a:uFillTx/>
                <a:latin typeface="Times New Roman"/>
              </a:rPr>
              <a:t>PERSPECTIVAS FU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Pesquisar os locais para os quais deverão ser desenvolvidas outras metodologias de cálculo de evaporação, mais precisas, em conjunto com a ANA, a ANEEL e os Agentes de Geraçã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762120" y="838080"/>
          <a:ext cx="75438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543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-2160" y="4572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EXEMPLO 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Navegação - Hidrovia Tietê/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609480"/>
            <a:ext cx="8534160" cy="595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RESTRIÇÕES HIDRO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Anterior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Flexibi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.Bonit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46,50 m  ( 47,8% VU 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446,10 m  ( 44,3% VU 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miss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81,00 m  ( 28,7% VU 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lha/3 Irmã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25,00 m  ( 37,8% VU 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324,80 m  ( 33,9% VU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PROVIDÊNCIAS ADOTADAS NO ANO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USINA DE ILHA SOLTEIRA 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duzir geração para cerca de 920 MWmed na carga leve dos dias úteis e sáb.(00:00 às 07:00 h), sendo o valor até então de 1100 MWmed, ou seja, redução de 52 MWmed diários na geração da usina, correspondendo a uma redução de 225 m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s na vazão defluente. A utilização da geração da usina apenas para fechamento do balanço energético, após explorados de forma ótima os recursos das demais usi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USINA DE TRÊS IRMÃOS 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duzir geração para 140 MWmed (apenas uma máquina em operação) em carga leve e média (das 00:00 às 18:00 h dos dias úteis e sábados), sendo a operação normal com 2 máquinas em carga leve (das 00:00 às 07:00 h), com 280 MWmed, e 3 máquinas em carga média (das 07:00 às 18:00 h e das 23:00 às 24:00 h), com 410 MWmed, traduzindo redução de 160 MWmed diários, correspondendo a 400 m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s diá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762120"/>
            <a:ext cx="83059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USINA DE BARRA BO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ção minimizada, buscando atender aos requisitos mínimos de afluência para que as usinas de Bariri e Ibitinga pudessem maximizar sua geração apenas no período de pon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ndo operações de eclusagem, sua defluência foi definida de forma a possibilitar a possibilitar afluências à UHE Promissão, a fim desta suprir a UHE Nova Avanhandava dos valores de afluência necessários às operações de eclusag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USINA DE PROMIS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ção dimensionada de forma a atender às restrições elétricas do sistema e às operações de eclusagem na UHE Nova Avanhanda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USINA DE NOVA AVANHAND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ção dimensionada de forma mínima para atender aos requisitos elétricos do sistema, visando estocar água para operações de eclusag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USINA DE SÃO SIM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luência maximizada em todos os períodos de car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896160" cy="53834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867280" y="1239840"/>
            <a:ext cx="327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,9 GW em  1  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,1 Km³ em  1 reservatór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3363840"/>
            <a:ext cx="3124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bast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Retirad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 m³/s  em  Bil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ínim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 m³/s no rio Cuba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38480" y="5778360"/>
            <a:ext cx="518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. = 17 %VU ( 1 reserv.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720" y="5599080"/>
            <a:ext cx="3088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nge o Bombe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s situações de ch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0760" y="9144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to Tiet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são%20francisco" descr=""/>
          <p:cNvPicPr/>
          <p:nvPr/>
        </p:nvPicPr>
        <p:blipFill>
          <a:blip r:embed="rId1"/>
          <a:stretch/>
        </p:blipFill>
        <p:spPr>
          <a:xfrm>
            <a:off x="5072040" y="1143000"/>
            <a:ext cx="3995640" cy="4876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76320" y="762120"/>
            <a:ext cx="5638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1,2 GW em  7  UHE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7,5 Km³ em  3 reservató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ave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ínima = 500 m³/s em Pirapora (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. = 25 %VU ( 3 reserv.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áxima = 4000 m³/s em Pirapora (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8000 m³/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usante Sobradi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bast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ínima = 440 m³/s em Pirapora (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300 m³/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usante Sobradi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rrigação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Retirada = 45 a 139 m³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 em estu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990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ão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- Características e Topolog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9 Aproveitamentos Hidroelétric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1 Reservatórios de regularização plurianual ou sazo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ervatórios apresentam restrições de uso múltiplo da água, tais como o controle de cheias, a navegação, o abastecimento, o saneamento, a irrigação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alização em diferentes bacias hidrográficas, com diversidade hidrológica cria oportunidade de benefícios sinérgic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alização de aproveitamentos em cascata requer coordenação hidráulica para minimização das perdas de recursos hídricos e conseqüênte otimização do siste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9520" y="76176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ção de Energ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,8 GW em  3  UH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,6 Km³ em  2 reservatóri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00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. = 9 a 12 %VU * (1 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áxima = 2400 m³/s  em  Jacu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00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rrigação (levante hidráulico)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ínima = 100 m³/s  jusante de Itaú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condicionado às tendências macroclimátic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* condicionado a situação eletroenergét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828800"/>
            <a:ext cx="2992320" cy="4397040"/>
            <a:chOff x="533520" y="1828800"/>
            <a:chExt cx="2992320" cy="4397040"/>
          </a:xfrm>
        </p:grpSpPr>
        <p:sp>
          <p:nvSpPr>
            <p:cNvPr id="470" name=""/>
            <p:cNvSpPr/>
            <p:nvPr/>
          </p:nvSpPr>
          <p:spPr>
            <a:xfrm rot="16200000">
              <a:off x="2810520" y="3390120"/>
              <a:ext cx="828720" cy="60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ff"/>
                  </a:solidFill>
                  <a:latin typeface="Times New Roman"/>
                </a:rPr>
                <a:t>RIO IVA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1142280" y="5486760"/>
              <a:ext cx="11970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RNEST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1796040" y="2546640"/>
              <a:ext cx="24588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6200000">
              <a:off x="1796760" y="5268960"/>
              <a:ext cx="2448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260280" y="2634840"/>
              <a:ext cx="15238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ff"/>
                  </a:solidFill>
                  <a:latin typeface="Times New Roman"/>
                </a:rPr>
                <a:t>RIO JACUIZINH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6200000">
              <a:off x="1578600" y="2083680"/>
              <a:ext cx="73512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ff"/>
                  </a:solidFill>
                  <a:latin typeface="Times New Roman"/>
                </a:rPr>
                <a:t>RIO JACU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031840" y="2270160"/>
              <a:ext cx="0" cy="37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1884240" y="4324320"/>
              <a:ext cx="29520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6200000">
              <a:off x="1884240" y="3589200"/>
              <a:ext cx="29520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00000">
              <a:off x="1884960" y="2851920"/>
              <a:ext cx="29376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1373760" y="4340880"/>
              <a:ext cx="657360" cy="2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JACU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800000">
              <a:off x="1881000" y="4989600"/>
              <a:ext cx="301320" cy="295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1707120" y="2743560"/>
              <a:ext cx="117648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NA FRANCI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6200000">
              <a:off x="1247760" y="3519000"/>
              <a:ext cx="909720" cy="2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TAÚ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1891440" y="4985280"/>
              <a:ext cx="80784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SSO RE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28720" y="337176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31840" y="4106880"/>
              <a:ext cx="11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590560" y="3960720"/>
              <a:ext cx="299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133720" y="2050560"/>
              <a:ext cx="0" cy="36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04920" y="3225960"/>
              <a:ext cx="301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1995480" y="5319360"/>
              <a:ext cx="73080" cy="149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6200000">
              <a:off x="1995480" y="2598480"/>
              <a:ext cx="72720" cy="149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1886040" y="5572080"/>
              <a:ext cx="301680" cy="295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600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Jac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286000" y="609480"/>
          <a:ext cx="6858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09480"/>
                    <a:ext cx="68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066680" y="2895480"/>
            <a:ext cx="1447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-360" y="32004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ção de Energ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,1 GW em  11  UH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,9 Km³ em  5 reservatór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bastecimento e Geração de Energ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Bombeada = 160 m³/s *  em Santa Cecí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ínima = 90 m³/s  * jusante Santa Cecí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umo de 0,1 GW em  2  Us. Bomb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spcBef>
                <a:spcPts val="400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 redução para 119 m³/s  (bombeamento)  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spcBef>
                <a:spcPts val="400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71 m³/s (mínima) em condições hidrológic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spcBef>
                <a:spcPts val="400"/>
              </a:spcBef>
              <a:buNone/>
              <a:tabLst>
                <a:tab algn="l" pos="0"/>
                <a:tab algn="l" pos="56196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vers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5508720"/>
            <a:ext cx="4495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: 3% VU (2 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áxima: 800 m³/s em Ba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sa (R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50 m³/s em Jacareí (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6720" y="609480"/>
            <a:ext cx="24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íba do S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2895480"/>
            <a:ext cx="1447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ção de Energ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,7 GW em  5  UH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8,3 Km³ em  3 reservatóri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. = 0 a 2 %VU * ( 2 reserv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áxima = 19000 m³/s  em  Salto Santia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condicionado às tendências macroclimátic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370160" y="3819600"/>
          <a:ext cx="609912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3819600"/>
                    <a:ext cx="60991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548640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guaç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2895480"/>
            <a:ext cx="1447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Bacia%20do%20Rio%20Paraná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5715000" cy="43149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52280" y="1295280"/>
            <a:ext cx="563904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. = 17 a 22 %VU *  (15 r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ões Máxima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000 m³/s  em Fu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400 m³/s  em M.Mora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8000 m³/s em Marimb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000 m³/s em Emborc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7000 m³/s em Itumbi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000 m³/s em São Sim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000 m³/s em B.Bon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000 m³/s jusante de Jupi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200 m³/s em Jurumir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000 m³/s em Cha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4000 m³/s Porto S. José (P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ível Máxi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95% VU em Marimb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condicionado às tendências macrocli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5880" y="990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6  Restrições de Usos Múlti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2895480"/>
            <a:ext cx="1447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62120" y="3220920"/>
            <a:ext cx="7589520" cy="3408120"/>
            <a:chOff x="762120" y="3220920"/>
            <a:chExt cx="7589520" cy="3408120"/>
          </a:xfrm>
        </p:grpSpPr>
        <p:sp>
          <p:nvSpPr>
            <p:cNvPr id="515" name=""/>
            <p:cNvSpPr/>
            <p:nvPr/>
          </p:nvSpPr>
          <p:spPr>
            <a:xfrm>
              <a:off x="6183000" y="4872600"/>
              <a:ext cx="12045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RES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37600" y="4872600"/>
              <a:ext cx="12045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FLORI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23480" y="4410720"/>
              <a:ext cx="132588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QR = 3000 m³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8080" y="4410720"/>
              <a:ext cx="132588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QR = 2400 m³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11720" y="4410720"/>
              <a:ext cx="132588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QR = 1600 m³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47640" y="4086360"/>
              <a:ext cx="168768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OA ESPERANÇ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83440" y="4743000"/>
              <a:ext cx="74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173600">
              <a:off x="2629440" y="4416480"/>
              <a:ext cx="842400" cy="721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171240" y="4743000"/>
              <a:ext cx="1685520" cy="15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4616280" y="4751280"/>
              <a:ext cx="1687680" cy="15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183000" y="4743000"/>
              <a:ext cx="1685520" cy="15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964440" y="3259800"/>
              <a:ext cx="132588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242720" y="4743000"/>
              <a:ext cx="964080" cy="9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2120" y="5581440"/>
              <a:ext cx="228168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imes New Roman"/>
                </a:rPr>
                <a:t>RIO URUÇUI PRE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07160" y="6081480"/>
              <a:ext cx="168768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imes New Roman"/>
                </a:rPr>
                <a:t>RIO GURGUÉ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14000" y="6081480"/>
              <a:ext cx="144504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imes New Roman"/>
                </a:rPr>
                <a:t>RIO CANIND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02040" y="6081480"/>
              <a:ext cx="131724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imes New Roman"/>
                </a:rPr>
                <a:t>RIO PO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83440" y="3220920"/>
              <a:ext cx="1685520" cy="3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imes New Roman"/>
                </a:rPr>
                <a:t>RIO BALS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8280" indent="0">
              <a:spcBef>
                <a:spcPts val="499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ção de Energia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bastecim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,5 GW em  1  UH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ínima = 240 m³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,9 Km³ em  1 reservatóri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2001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trole de Che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ocação de Vol. Esp. = 36 %VU ( 1 reserv.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Máxima = 2400 m³/s em Floriano (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51"/>
              </a:spcBef>
              <a:buNone/>
              <a:tabLst>
                <a:tab algn="l" pos="0"/>
                <a:tab algn="l" pos="190440"/>
                <a:tab algn="l" pos="485784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000 m³/s em Teresina (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609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Parnaí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7  Participação do ONS no SNGR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609480"/>
            <a:ext cx="83059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iculação do ONS com a ANA e a ANEEL para estabelecer as premissas que possam garantir a operação dos sistemas hidrelétricos, considerando o uso múltiplo dos recursos hídricos nas diferentes bacias hidrográ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ticipação em câmaras técnicas e nos comitês de bacias para análise conjunta das diferentes restrições e seus impactos no suprimento de energia elétrica e nos usos múltiplos dos recursos hídricos. O espaço do ONS nos Comitês não está garantido em alguns casos pelo seu curto tempo de exist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ação de dados ao Sistema Nacional de Gerenciamento de Recursos Hídr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sistema gerador hidráulico e térmico é de múltipla propriedade, criando potenciais conflitos em seu uso, com possíveis perdas de eficiência na exploração dos recurs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lução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e um organismo de coordenação da operação pela Eletrobrás, o GCOI, pela lei 9899 de 05.07.1973, com o objetivo de promover o rateio dos ônus e vantagens da operação interligada através do uso racional da geração e da transmissã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EB -  A privatização e a desverticalização dos serviços de energia elétrica promovidos a partir da reestruturação do Setor Elétrico, criando competição nos segmentos de geração, distribuição e comercialização, introduzindo novos requisitos para sua gestã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 - Aspectos Institu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lução 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o Operador nacional do Sistema Elétrico - ONS, que sucedeu o GCOI, através do Decreto nº 2655 de 02.07.1998 com o objetivo principal de coordenar e controlar a operação da geração e transmissão de energia elétrica nos sistemas interligad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o Mercado Atacadista de Energia - MAE, e estabelecimento de mecanismos comerciais, através do Decreto nº 2655 com o objetivo de realizar as transações de compra e venda de energia elétrica nos sistemas interligad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as Agências - ANEEL e ANA com o objetivo de regulamentar e fiscalizar as atividades de energia elétrica e uso dos recursos hídric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ribuições do 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ejamento e programação da operação otimizada e despacho centralizado da geração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visão e coordenação dos centros de operação dos sistemas elétrico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visão e controle da operação dos sistemas eletroenergéticos nacionais e das interligações internacionai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tação e administração dos serviços de transmissão, do acesso à rede e dos serviços ancila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ição à ANEEL das ampliações e reforços da rede básica de transmissão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ção de regras para a operação da rede básica de transmissão, a serem aprovadas pela ANE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763920"/>
            <a:ext cx="838224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2 - Aspectos Téc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ortamento aleatório das vazões: Decisões operativas devem ser baseadas em análises probabilístic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pendência Temporal: Considerando a existência dos reservatórios, decisões operativas presentes afetam o estado do sistema num determinado horizo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5029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5867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3124080"/>
            <a:ext cx="2438640" cy="2819520"/>
            <a:chOff x="380880" y="3124080"/>
            <a:chExt cx="2438640" cy="2819520"/>
          </a:xfrm>
        </p:grpSpPr>
        <p:sp>
          <p:nvSpPr>
            <p:cNvPr id="104" name=""/>
            <p:cNvSpPr/>
            <p:nvPr/>
          </p:nvSpPr>
          <p:spPr>
            <a:xfrm>
              <a:off x="380880" y="419076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3124080"/>
              <a:ext cx="129528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tilizar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ervató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95280" y="5333760"/>
              <a:ext cx="1524240" cy="609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Ã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zar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ervató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8080" y="35812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472428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819520" y="3048120"/>
            <a:ext cx="3123720" cy="1523880"/>
            <a:chOff x="2819520" y="3048120"/>
            <a:chExt cx="3123720" cy="1523880"/>
          </a:xfrm>
        </p:grpSpPr>
        <p:sp>
          <p:nvSpPr>
            <p:cNvPr id="110" name=""/>
            <p:cNvSpPr/>
            <p:nvPr/>
          </p:nvSpPr>
          <p:spPr>
            <a:xfrm>
              <a:off x="3657600" y="3581640"/>
              <a:ext cx="45684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3048120"/>
              <a:ext cx="121896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Úm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4114800"/>
              <a:ext cx="121896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3810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90760" y="3200040"/>
              <a:ext cx="4568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90760" y="3886200"/>
              <a:ext cx="456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895480" y="4572000"/>
            <a:ext cx="3048120" cy="1600200"/>
            <a:chOff x="2895480" y="4572000"/>
            <a:chExt cx="3048120" cy="1600200"/>
          </a:xfrm>
        </p:grpSpPr>
        <p:sp>
          <p:nvSpPr>
            <p:cNvPr id="117" name=""/>
            <p:cNvSpPr/>
            <p:nvPr/>
          </p:nvSpPr>
          <p:spPr>
            <a:xfrm>
              <a:off x="3657600" y="510516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5715000"/>
              <a:ext cx="12193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4572000"/>
              <a:ext cx="12193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Úm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5480" y="5333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0760" y="54864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190760" y="47242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553080" y="53341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3886200"/>
            <a:ext cx="12189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EF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4520" y="5856120"/>
            <a:ext cx="1909080" cy="696960"/>
            <a:chOff x="1064520" y="5856120"/>
            <a:chExt cx="1909080" cy="696960"/>
          </a:xfrm>
        </p:grpSpPr>
        <p:sp>
          <p:nvSpPr>
            <p:cNvPr id="126" name=""/>
            <p:cNvSpPr/>
            <p:nvPr/>
          </p:nvSpPr>
          <p:spPr>
            <a:xfrm flipH="1" rot="16162200">
              <a:off x="1828080" y="5104800"/>
              <a:ext cx="381240" cy="1904760"/>
            </a:xfrm>
            <a:custGeom>
              <a:avLst/>
              <a:gdLst>
                <a:gd name="textAreaLeft" fmla="*/ -360 w 381240"/>
                <a:gd name="textAreaRight" fmla="*/ 137160 w 3812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6248520"/>
              <a:ext cx="1295280" cy="30456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ECI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48120" y="3048120"/>
            <a:ext cx="3124080" cy="3581280"/>
            <a:chOff x="3048120" y="3048120"/>
            <a:chExt cx="3124080" cy="3581280"/>
          </a:xfrm>
        </p:grpSpPr>
        <p:sp>
          <p:nvSpPr>
            <p:cNvPr id="129" name=""/>
            <p:cNvSpPr/>
            <p:nvPr/>
          </p:nvSpPr>
          <p:spPr>
            <a:xfrm>
              <a:off x="3048120" y="3048120"/>
              <a:ext cx="0" cy="309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2200" y="3048120"/>
              <a:ext cx="0" cy="309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654720" y="6082920"/>
              <a:ext cx="2212560" cy="546480"/>
              <a:chOff x="3654720" y="6082920"/>
              <a:chExt cx="2212560" cy="546480"/>
            </a:xfrm>
          </p:grpSpPr>
          <p:sp>
            <p:nvSpPr>
              <p:cNvPr id="132" name=""/>
              <p:cNvSpPr/>
              <p:nvPr/>
            </p:nvSpPr>
            <p:spPr>
              <a:xfrm flipH="1" rot="16162200">
                <a:off x="4627440" y="5123160"/>
                <a:ext cx="266760" cy="2209680"/>
              </a:xfrm>
              <a:custGeom>
                <a:avLst/>
                <a:gdLst>
                  <a:gd name="textAreaLeft" fmla="*/ 0 w 266760"/>
                  <a:gd name="textAreaRight" fmla="*/ 96120 w 266760"/>
                  <a:gd name="textAreaTop" fmla="*/ 57600 h 2209680"/>
                  <a:gd name="textAreaBottom" fmla="*/ 2152080 h 22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4800" y="6416640"/>
                <a:ext cx="1295280" cy="21276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Afluência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Futur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6168960" y="5780520"/>
            <a:ext cx="1986120" cy="848880"/>
            <a:chOff x="6168960" y="5780520"/>
            <a:chExt cx="1986120" cy="848880"/>
          </a:xfrm>
        </p:grpSpPr>
        <p:sp>
          <p:nvSpPr>
            <p:cNvPr id="135" name=""/>
            <p:cNvSpPr/>
            <p:nvPr/>
          </p:nvSpPr>
          <p:spPr>
            <a:xfrm flipH="1" rot="16162200">
              <a:off x="6933960" y="5028120"/>
              <a:ext cx="455400" cy="1981080"/>
            </a:xfrm>
            <a:custGeom>
              <a:avLst/>
              <a:gdLst>
                <a:gd name="textAreaLeft" fmla="*/ 0 w 455400"/>
                <a:gd name="textAreaRight" fmla="*/ 164520 w 4554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77120" y="6324480"/>
              <a:ext cx="1295280" cy="30492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onseqüê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perativ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705720" y="4724280"/>
            <a:ext cx="14475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VERT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30481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- Operação do Sistema Hidrotér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53452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lus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objetivo do planejamento da operação de um sistema hidrotérmico é minimizar o custo esperado futuro de operaçã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6:29:32Z</dcterms:created>
  <dc:creator>Aline</dc:creator>
  <dc:description/>
  <dc:language>en-US</dc:language>
  <cp:lastModifiedBy>Secretaria de Recursos Hidricos</cp:lastModifiedBy>
  <cp:lastPrinted>2000-11-07T21:04:42Z</cp:lastPrinted>
  <dcterms:modified xsi:type="dcterms:W3CDTF">2001-07-10T13:54:53Z</dcterms:modified>
  <cp:revision>28</cp:revision>
  <dc:subject/>
  <dc:title>1 - O Sistema Elétrico Brasileiro</dc:title>
</cp:coreProperties>
</file>