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62A320BE-A364-43B4-B27B-CB85626A9865}" type="presOf" srcId="{61D2A96D-88A5-4341-BCF6-1CCC9BADA3E2}" destId="{2D9543E5-08FF-427A-9ED7-269A44231FD6}" srcOrd="0" destOrd="0" presId="urn:microsoft.com/office/officeart/2005/8/layout/venn1"/>
    <dgm:cxn modelId="{9AAD2BD5-61E0-4E60-A64E-8C58B7598AC5}" type="presOf" srcId="{61D2A96D-88A5-4341-BCF6-1CCC9BADA3E2}" destId="{AA5106EF-71AD-45CB-A170-EECF8115B8B2}" srcOrd="1" destOrd="0" presId="urn:microsoft.com/office/officeart/2005/8/layout/venn1"/>
    <dgm:cxn modelId="{1BAABCE1-7837-4808-8DDE-B1CC14A88100}" type="presOf" srcId="{51B54BB3-BDED-4033-B091-85E768D2FFE3}" destId="{3F8687FD-4EEA-4834-995E-E3BA3AFC0FAC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2BF391BD-57BA-46D8-996F-AE777813E014}" type="presOf" srcId="{77AFAA2F-C8BF-4430-9822-B13FFAE3D850}" destId="{41F7BF90-A85E-4824-80CE-74C1AE03E60E}" srcOrd="1" destOrd="0" presId="urn:microsoft.com/office/officeart/2005/8/layout/venn1"/>
    <dgm:cxn modelId="{FFEE984F-90EF-45C7-862F-31026B520CB0}" type="presOf" srcId="{77AFAA2F-C8BF-4430-9822-B13FFAE3D850}" destId="{FC1A1904-D602-47D4-B820-56D2379DD5C7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66F4D14D-36BF-493D-8763-2A5088DF52AB}" type="presOf" srcId="{910F7202-A6E2-46A1-8C99-F43AF11B9F23}" destId="{2F472914-90F2-4052-9681-AD082362AD99}" srcOrd="0" destOrd="0" presId="urn:microsoft.com/office/officeart/2005/8/layout/venn1"/>
    <dgm:cxn modelId="{D3937E34-82AB-4956-A85D-41C4ABEB0DF7}" type="presOf" srcId="{910F7202-A6E2-46A1-8C99-F43AF11B9F23}" destId="{05CE9FEF-5F74-4D8A-8942-85B63E0DCB23}" srcOrd="1" destOrd="0" presId="urn:microsoft.com/office/officeart/2005/8/layout/venn1"/>
    <dgm:cxn modelId="{E8FF9D54-AB5C-453D-8B4F-DEAED581EB75}" type="presParOf" srcId="{3F8687FD-4EEA-4834-995E-E3BA3AFC0FAC}" destId="{2D9543E5-08FF-427A-9ED7-269A44231FD6}" srcOrd="0" destOrd="0" presId="urn:microsoft.com/office/officeart/2005/8/layout/venn1"/>
    <dgm:cxn modelId="{D1A2FA41-F6E4-4EB5-856A-7D9CB04CBB96}" type="presParOf" srcId="{3F8687FD-4EEA-4834-995E-E3BA3AFC0FAC}" destId="{AA5106EF-71AD-45CB-A170-EECF8115B8B2}" srcOrd="1" destOrd="0" presId="urn:microsoft.com/office/officeart/2005/8/layout/venn1"/>
    <dgm:cxn modelId="{6440D62F-8781-430A-9761-108372B94F95}" type="presParOf" srcId="{3F8687FD-4EEA-4834-995E-E3BA3AFC0FAC}" destId="{2F472914-90F2-4052-9681-AD082362AD99}" srcOrd="2" destOrd="0" presId="urn:microsoft.com/office/officeart/2005/8/layout/venn1"/>
    <dgm:cxn modelId="{F5A3F072-566C-409F-874D-FCE927850BA1}" type="presParOf" srcId="{3F8687FD-4EEA-4834-995E-E3BA3AFC0FAC}" destId="{05CE9FEF-5F74-4D8A-8942-85B63E0DCB23}" srcOrd="3" destOrd="0" presId="urn:microsoft.com/office/officeart/2005/8/layout/venn1"/>
    <dgm:cxn modelId="{B8BB4D8B-E40E-4D9A-9BC6-431F0B8CB5B9}" type="presParOf" srcId="{3F8687FD-4EEA-4834-995E-E3BA3AFC0FAC}" destId="{FC1A1904-D602-47D4-B820-56D2379DD5C7}" srcOrd="4" destOrd="0" presId="urn:microsoft.com/office/officeart/2005/8/layout/venn1"/>
    <dgm:cxn modelId="{743EF50E-EEF0-48FE-BA7C-944C533F4EDE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48EA097F-E20F-4297-9224-7FC348A2CCC6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052FA9C5-F19B-414B-B7D5-301E5511D3A2}">
      <dgm:prSet phldrT="[Text]" custT="1"/>
      <dgm:spPr/>
      <dgm:t>
        <a:bodyPr/>
        <a:lstStyle/>
        <a:p>
          <a:r>
            <a:rPr lang="fr-BE" sz="1800" dirty="0" err="1" smtClean="0"/>
            <a:t>Muta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</a:t>
          </a:r>
          <a:endParaRPr lang="en-GB" sz="1800" dirty="0"/>
        </a:p>
      </dgm:t>
    </dgm:pt>
    <dgm:pt modelId="{C9F5D07E-38B2-48CF-BAD2-93F53BFCF346}" type="parTrans" cxnId="{770CB272-77C0-4494-851D-F3EDA8E4DF1F}">
      <dgm:prSet/>
      <dgm:spPr/>
      <dgm:t>
        <a:bodyPr/>
        <a:lstStyle/>
        <a:p>
          <a:endParaRPr lang="en-GB"/>
        </a:p>
      </dgm:t>
    </dgm:pt>
    <dgm:pt modelId="{671F89B8-B581-4977-BB40-2EADBA476612}" type="sibTrans" cxnId="{770CB272-77C0-4494-851D-F3EDA8E4DF1F}">
      <dgm:prSet/>
      <dgm:spPr/>
      <dgm:t>
        <a:bodyPr/>
        <a:lstStyle/>
        <a:p>
          <a:endParaRPr lang="en-GB"/>
        </a:p>
      </dgm:t>
    </dgm:pt>
    <dgm:pt modelId="{58E5B12C-894B-4AE2-A3C7-4DCA60CF31E0}">
      <dgm:prSet phldrT="[Text]" custT="1"/>
      <dgm:spPr/>
      <dgm:t>
        <a:bodyPr/>
        <a:lstStyle/>
        <a:p>
          <a:r>
            <a:rPr lang="fr-BE" sz="1800" dirty="0" err="1" smtClean="0"/>
            <a:t>Carcino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, </a:t>
          </a:r>
          <a:r>
            <a:rPr lang="fr-BE" sz="1800" dirty="0" err="1" smtClean="0"/>
            <a:t>unless</a:t>
          </a:r>
          <a:r>
            <a:rPr lang="fr-BE" sz="1800" dirty="0" smtClean="0"/>
            <a:t> </a:t>
          </a:r>
          <a:r>
            <a:rPr lang="fr-BE" sz="1800" dirty="0" err="1" smtClean="0"/>
            <a:t>exposure</a:t>
          </a:r>
          <a:r>
            <a:rPr lang="fr-BE" sz="1800" dirty="0" smtClean="0"/>
            <a:t> </a:t>
          </a:r>
          <a:r>
            <a:rPr lang="fr-BE" sz="1800" dirty="0" err="1" smtClean="0"/>
            <a:t>is</a:t>
          </a:r>
          <a:r>
            <a:rPr lang="fr-BE" sz="1800" dirty="0" smtClean="0"/>
            <a:t> </a:t>
          </a:r>
          <a:r>
            <a:rPr lang="fr-BE" sz="1800" dirty="0" err="1" smtClean="0"/>
            <a:t>negligible</a:t>
          </a:r>
          <a:endParaRPr lang="en-GB" sz="1800" dirty="0"/>
        </a:p>
      </dgm:t>
    </dgm:pt>
    <dgm:pt modelId="{37A839D0-5A63-4F65-843F-382348A3DF97}" type="parTrans" cxnId="{7BEA6B78-65C2-4B41-841F-E534FFBB953A}">
      <dgm:prSet/>
      <dgm:spPr/>
      <dgm:t>
        <a:bodyPr/>
        <a:lstStyle/>
        <a:p>
          <a:endParaRPr lang="en-GB"/>
        </a:p>
      </dgm:t>
    </dgm:pt>
    <dgm:pt modelId="{09280ACE-9466-4DF0-A4F4-512D1EED34FD}" type="sibTrans" cxnId="{7BEA6B78-65C2-4B41-841F-E534FFBB953A}">
      <dgm:prSet/>
      <dgm:spPr/>
      <dgm:t>
        <a:bodyPr/>
        <a:lstStyle/>
        <a:p>
          <a:endParaRPr lang="en-GB"/>
        </a:p>
      </dgm:t>
    </dgm:pt>
    <dgm:pt modelId="{E1D989C1-E533-4259-AE57-F4496BD00848}">
      <dgm:prSet phldrT="[Text]"/>
      <dgm:spPr/>
      <dgm:t>
        <a:bodyPr/>
        <a:lstStyle/>
        <a:p>
          <a:r>
            <a:rPr lang="fr-BE" dirty="0" smtClean="0"/>
            <a:t>Reproductive </a:t>
          </a:r>
          <a:r>
            <a:rPr lang="fr-BE" dirty="0" err="1" smtClean="0"/>
            <a:t>toxicant</a:t>
          </a:r>
          <a:r>
            <a:rPr lang="fr-BE" dirty="0" smtClean="0"/>
            <a:t>, </a:t>
          </a:r>
          <a:r>
            <a:rPr lang="fr-BE" dirty="0" err="1" smtClean="0"/>
            <a:t>category</a:t>
          </a:r>
          <a:r>
            <a:rPr lang="fr-BE" dirty="0" smtClean="0"/>
            <a:t> 1A or 1B, </a:t>
          </a:r>
          <a:r>
            <a:rPr lang="fr-BE" dirty="0" err="1" smtClean="0"/>
            <a:t>unless</a:t>
          </a:r>
          <a:r>
            <a:rPr lang="fr-BE" dirty="0" smtClean="0"/>
            <a:t> </a:t>
          </a:r>
          <a:r>
            <a:rPr lang="fr-BE" dirty="0" err="1" smtClean="0"/>
            <a:t>exposure</a:t>
          </a:r>
          <a:r>
            <a:rPr lang="fr-BE" dirty="0" smtClean="0"/>
            <a:t> </a:t>
          </a:r>
          <a:r>
            <a:rPr lang="fr-BE" dirty="0" err="1" smtClean="0"/>
            <a:t>is</a:t>
          </a:r>
          <a:r>
            <a:rPr lang="fr-BE" dirty="0" smtClean="0"/>
            <a:t> </a:t>
          </a:r>
          <a:r>
            <a:rPr lang="fr-BE" dirty="0" err="1" smtClean="0"/>
            <a:t>negligible</a:t>
          </a:r>
          <a:endParaRPr lang="en-GB" dirty="0"/>
        </a:p>
      </dgm:t>
    </dgm:pt>
    <dgm:pt modelId="{29F3A624-4098-4C12-92C4-43001F4C6EAA}" type="parTrans" cxnId="{6F0F6632-9660-43D5-B719-1CECEE557CD2}">
      <dgm:prSet/>
      <dgm:spPr/>
      <dgm:t>
        <a:bodyPr/>
        <a:lstStyle/>
        <a:p>
          <a:endParaRPr lang="en-GB"/>
        </a:p>
      </dgm:t>
    </dgm:pt>
    <dgm:pt modelId="{1679D449-BAF5-4B20-836F-CDD8D0BE15F7}" type="sibTrans" cxnId="{6F0F6632-9660-43D5-B719-1CECEE557CD2}">
      <dgm:prSet/>
      <dgm:spPr/>
      <dgm:t>
        <a:bodyPr/>
        <a:lstStyle/>
        <a:p>
          <a:endParaRPr lang="en-GB"/>
        </a:p>
      </dgm:t>
    </dgm:pt>
    <dgm:pt modelId="{56B5E1E9-BB62-4FAD-ABD8-CCC580C4B258}" type="pres">
      <dgm:prSet presAssocID="{48EA097F-E20F-4297-9224-7FC348A2CCC6}" presName="linear" presStyleCnt="0">
        <dgm:presLayoutVars>
          <dgm:dir/>
          <dgm:animLvl val="lvl"/>
          <dgm:resizeHandles val="exact"/>
        </dgm:presLayoutVars>
      </dgm:prSet>
      <dgm:spPr/>
    </dgm:pt>
    <dgm:pt modelId="{1060E3F7-54D1-4127-B358-285418D7E40E}" type="pres">
      <dgm:prSet presAssocID="{052FA9C5-F19B-414B-B7D5-301E5511D3A2}" presName="parentLin" presStyleCnt="0"/>
      <dgm:spPr/>
    </dgm:pt>
    <dgm:pt modelId="{EDA6F17B-0A23-42DA-A4BA-5FCC1E6C002B}" type="pres">
      <dgm:prSet presAssocID="{052FA9C5-F19B-414B-B7D5-301E5511D3A2}" presName="parentLeftMargin" presStyleLbl="node1" presStyleIdx="0" presStyleCnt="3"/>
      <dgm:spPr/>
    </dgm:pt>
    <dgm:pt modelId="{5390857A-CBCF-460B-BFCC-7CFA27166340}" type="pres">
      <dgm:prSet presAssocID="{052FA9C5-F19B-414B-B7D5-301E5511D3A2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02D6363A-FEC6-4047-BD1B-36BF79AE72ED}" type="pres">
      <dgm:prSet presAssocID="{052FA9C5-F19B-414B-B7D5-301E5511D3A2}" presName="negativeSpace" presStyleCnt="0"/>
      <dgm:spPr/>
    </dgm:pt>
    <dgm:pt modelId="{DD75C4F6-ABA1-4456-A4D3-A85CC9076D74}" type="pres">
      <dgm:prSet presAssocID="{052FA9C5-F19B-414B-B7D5-301E5511D3A2}" presName="childText" presStyleLbl="conFgAcc1" presStyleIdx="0" presStyleCnt="3">
        <dgm:presLayoutVars>
          <dgm:bulletEnabled val="1"/>
        </dgm:presLayoutVars>
      </dgm:prSet>
      <dgm:spPr/>
    </dgm:pt>
    <dgm:pt modelId="{1D6E7B4D-C287-4D9C-A19B-0C4EC9E183A4}" type="pres">
      <dgm:prSet presAssocID="{671F89B8-B581-4977-BB40-2EADBA476612}" presName="spaceBetweenRectangles" presStyleCnt="0"/>
      <dgm:spPr/>
    </dgm:pt>
    <dgm:pt modelId="{43C99B39-6AD0-44BB-A15D-8EF885E435D7}" type="pres">
      <dgm:prSet presAssocID="{58E5B12C-894B-4AE2-A3C7-4DCA60CF31E0}" presName="parentLin" presStyleCnt="0"/>
      <dgm:spPr/>
    </dgm:pt>
    <dgm:pt modelId="{E21E5B39-315C-4ABE-B9A2-9C16B4E47F39}" type="pres">
      <dgm:prSet presAssocID="{58E5B12C-894B-4AE2-A3C7-4DCA60CF31E0}" presName="parentLeftMargin" presStyleLbl="node1" presStyleIdx="0" presStyleCnt="3"/>
      <dgm:spPr/>
    </dgm:pt>
    <dgm:pt modelId="{3E11C2A3-1D5A-427E-8B04-C82768B4C80D}" type="pres">
      <dgm:prSet presAssocID="{58E5B12C-894B-4AE2-A3C7-4DCA60CF31E0}" presName="parentText" presStyleLbl="node1" presStyleIdx="1" presStyleCnt="3" custScaleX="133770" custScaleY="10115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1A8714A-5484-4B30-A138-0DD910E520E2}" type="pres">
      <dgm:prSet presAssocID="{58E5B12C-894B-4AE2-A3C7-4DCA60CF31E0}" presName="negativeSpace" presStyleCnt="0"/>
      <dgm:spPr/>
    </dgm:pt>
    <dgm:pt modelId="{C648861C-F83C-45F7-8ECD-C69FF1AD0E6A}" type="pres">
      <dgm:prSet presAssocID="{58E5B12C-894B-4AE2-A3C7-4DCA60CF31E0}" presName="childText" presStyleLbl="conFgAcc1" presStyleIdx="1" presStyleCnt="3">
        <dgm:presLayoutVars>
          <dgm:bulletEnabled val="1"/>
        </dgm:presLayoutVars>
      </dgm:prSet>
      <dgm:spPr/>
    </dgm:pt>
    <dgm:pt modelId="{B881D050-5A42-442D-A382-70C4F4C0E6D9}" type="pres">
      <dgm:prSet presAssocID="{09280ACE-9466-4DF0-A4F4-512D1EED34FD}" presName="spaceBetweenRectangles" presStyleCnt="0"/>
      <dgm:spPr/>
    </dgm:pt>
    <dgm:pt modelId="{F838628E-6B4D-4DE9-B7CD-7F72D1A0A418}" type="pres">
      <dgm:prSet presAssocID="{E1D989C1-E533-4259-AE57-F4496BD00848}" presName="parentLin" presStyleCnt="0"/>
      <dgm:spPr/>
    </dgm:pt>
    <dgm:pt modelId="{4A544CC4-1714-4343-AC80-7AD111D6A196}" type="pres">
      <dgm:prSet presAssocID="{E1D989C1-E533-4259-AE57-F4496BD00848}" presName="parentLeftMargin" presStyleLbl="node1" presStyleIdx="1" presStyleCnt="3"/>
      <dgm:spPr/>
    </dgm:pt>
    <dgm:pt modelId="{712012C3-7030-47F7-BC74-238CAAC2795D}" type="pres">
      <dgm:prSet presAssocID="{E1D989C1-E533-4259-AE57-F4496BD00848}" presName="parentText" presStyleLbl="node1" presStyleIdx="2" presStyleCnt="3" custScaleX="136052">
        <dgm:presLayoutVars>
          <dgm:chMax val="0"/>
          <dgm:bulletEnabled val="1"/>
        </dgm:presLayoutVars>
      </dgm:prSet>
      <dgm:spPr/>
    </dgm:pt>
    <dgm:pt modelId="{B571778D-2D52-41BB-87AB-F99D37B26D1E}" type="pres">
      <dgm:prSet presAssocID="{E1D989C1-E533-4259-AE57-F4496BD00848}" presName="negativeSpace" presStyleCnt="0"/>
      <dgm:spPr/>
    </dgm:pt>
    <dgm:pt modelId="{87B94BE6-2230-4F4E-ACA0-FACE4420F553}" type="pres">
      <dgm:prSet presAssocID="{E1D989C1-E533-4259-AE57-F4496BD00848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F0F6632-9660-43D5-B719-1CECEE557CD2}" srcId="{48EA097F-E20F-4297-9224-7FC348A2CCC6}" destId="{E1D989C1-E533-4259-AE57-F4496BD00848}" srcOrd="2" destOrd="0" parTransId="{29F3A624-4098-4C12-92C4-43001F4C6EAA}" sibTransId="{1679D449-BAF5-4B20-836F-CDD8D0BE15F7}"/>
    <dgm:cxn modelId="{CE469703-4463-4991-8196-6D86B93D6AC2}" type="presOf" srcId="{052FA9C5-F19B-414B-B7D5-301E5511D3A2}" destId="{5390857A-CBCF-460B-BFCC-7CFA27166340}" srcOrd="1" destOrd="0" presId="urn:microsoft.com/office/officeart/2005/8/layout/list1"/>
    <dgm:cxn modelId="{A9E51BA4-B342-4C1A-8F11-23F91663D790}" type="presOf" srcId="{58E5B12C-894B-4AE2-A3C7-4DCA60CF31E0}" destId="{E21E5B39-315C-4ABE-B9A2-9C16B4E47F39}" srcOrd="0" destOrd="0" presId="urn:microsoft.com/office/officeart/2005/8/layout/list1"/>
    <dgm:cxn modelId="{98CFF7BE-BEB6-4AFB-986A-F9B5D5410BE7}" type="presOf" srcId="{48EA097F-E20F-4297-9224-7FC348A2CCC6}" destId="{56B5E1E9-BB62-4FAD-ABD8-CCC580C4B258}" srcOrd="0" destOrd="0" presId="urn:microsoft.com/office/officeart/2005/8/layout/list1"/>
    <dgm:cxn modelId="{164501DA-B5A6-448D-BCAE-0FF51B7CEF97}" type="presOf" srcId="{58E5B12C-894B-4AE2-A3C7-4DCA60CF31E0}" destId="{3E11C2A3-1D5A-427E-8B04-C82768B4C80D}" srcOrd="1" destOrd="0" presId="urn:microsoft.com/office/officeart/2005/8/layout/list1"/>
    <dgm:cxn modelId="{A46D939E-E6BE-452F-812B-965E2ED212D8}" type="presOf" srcId="{E1D989C1-E533-4259-AE57-F4496BD00848}" destId="{712012C3-7030-47F7-BC74-238CAAC2795D}" srcOrd="1" destOrd="0" presId="urn:microsoft.com/office/officeart/2005/8/layout/list1"/>
    <dgm:cxn modelId="{F137F734-9761-493B-A95B-0B1BC2FE9969}" type="presOf" srcId="{E1D989C1-E533-4259-AE57-F4496BD00848}" destId="{4A544CC4-1714-4343-AC80-7AD111D6A196}" srcOrd="0" destOrd="0" presId="urn:microsoft.com/office/officeart/2005/8/layout/list1"/>
    <dgm:cxn modelId="{5E83C209-FAE7-4FE5-A6F3-82E5C07B9CE7}" type="presOf" srcId="{052FA9C5-F19B-414B-B7D5-301E5511D3A2}" destId="{EDA6F17B-0A23-42DA-A4BA-5FCC1E6C002B}" srcOrd="0" destOrd="0" presId="urn:microsoft.com/office/officeart/2005/8/layout/list1"/>
    <dgm:cxn modelId="{7BEA6B78-65C2-4B41-841F-E534FFBB953A}" srcId="{48EA097F-E20F-4297-9224-7FC348A2CCC6}" destId="{58E5B12C-894B-4AE2-A3C7-4DCA60CF31E0}" srcOrd="1" destOrd="0" parTransId="{37A839D0-5A63-4F65-843F-382348A3DF97}" sibTransId="{09280ACE-9466-4DF0-A4F4-512D1EED34FD}"/>
    <dgm:cxn modelId="{770CB272-77C0-4494-851D-F3EDA8E4DF1F}" srcId="{48EA097F-E20F-4297-9224-7FC348A2CCC6}" destId="{052FA9C5-F19B-414B-B7D5-301E5511D3A2}" srcOrd="0" destOrd="0" parTransId="{C9F5D07E-38B2-48CF-BAD2-93F53BFCF346}" sibTransId="{671F89B8-B581-4977-BB40-2EADBA476612}"/>
    <dgm:cxn modelId="{4444F2F8-5D55-442F-B116-55DC457D11E4}" type="presParOf" srcId="{56B5E1E9-BB62-4FAD-ABD8-CCC580C4B258}" destId="{1060E3F7-54D1-4127-B358-285418D7E40E}" srcOrd="0" destOrd="0" presId="urn:microsoft.com/office/officeart/2005/8/layout/list1"/>
    <dgm:cxn modelId="{729B947E-1E5B-42E9-803E-375C17C94BC5}" type="presParOf" srcId="{1060E3F7-54D1-4127-B358-285418D7E40E}" destId="{EDA6F17B-0A23-42DA-A4BA-5FCC1E6C002B}" srcOrd="0" destOrd="0" presId="urn:microsoft.com/office/officeart/2005/8/layout/list1"/>
    <dgm:cxn modelId="{0685A567-B884-440E-9E3D-39E673781BD0}" type="presParOf" srcId="{1060E3F7-54D1-4127-B358-285418D7E40E}" destId="{5390857A-CBCF-460B-BFCC-7CFA27166340}" srcOrd="1" destOrd="0" presId="urn:microsoft.com/office/officeart/2005/8/layout/list1"/>
    <dgm:cxn modelId="{D302231C-5496-4614-B5F4-AFA881113026}" type="presParOf" srcId="{56B5E1E9-BB62-4FAD-ABD8-CCC580C4B258}" destId="{02D6363A-FEC6-4047-BD1B-36BF79AE72ED}" srcOrd="1" destOrd="0" presId="urn:microsoft.com/office/officeart/2005/8/layout/list1"/>
    <dgm:cxn modelId="{8D33BA66-CFFB-4BAB-9394-37F771A369DD}" type="presParOf" srcId="{56B5E1E9-BB62-4FAD-ABD8-CCC580C4B258}" destId="{DD75C4F6-ABA1-4456-A4D3-A85CC9076D74}" srcOrd="2" destOrd="0" presId="urn:microsoft.com/office/officeart/2005/8/layout/list1"/>
    <dgm:cxn modelId="{9B4C9B07-F31B-45F6-9D81-16AC447B407D}" type="presParOf" srcId="{56B5E1E9-BB62-4FAD-ABD8-CCC580C4B258}" destId="{1D6E7B4D-C287-4D9C-A19B-0C4EC9E183A4}" srcOrd="3" destOrd="0" presId="urn:microsoft.com/office/officeart/2005/8/layout/list1"/>
    <dgm:cxn modelId="{023ACBAE-FE4F-42F4-8A93-A14C9F199647}" type="presParOf" srcId="{56B5E1E9-BB62-4FAD-ABD8-CCC580C4B258}" destId="{43C99B39-6AD0-44BB-A15D-8EF885E435D7}" srcOrd="4" destOrd="0" presId="urn:microsoft.com/office/officeart/2005/8/layout/list1"/>
    <dgm:cxn modelId="{F3FC6DA9-7F26-4D00-B741-0AD6C083326E}" type="presParOf" srcId="{43C99B39-6AD0-44BB-A15D-8EF885E435D7}" destId="{E21E5B39-315C-4ABE-B9A2-9C16B4E47F39}" srcOrd="0" destOrd="0" presId="urn:microsoft.com/office/officeart/2005/8/layout/list1"/>
    <dgm:cxn modelId="{DE68BF39-F734-4732-97CB-E1351F1736E9}" type="presParOf" srcId="{43C99B39-6AD0-44BB-A15D-8EF885E435D7}" destId="{3E11C2A3-1D5A-427E-8B04-C82768B4C80D}" srcOrd="1" destOrd="0" presId="urn:microsoft.com/office/officeart/2005/8/layout/list1"/>
    <dgm:cxn modelId="{7D0D23AB-47DA-4830-86F6-7E5079394233}" type="presParOf" srcId="{56B5E1E9-BB62-4FAD-ABD8-CCC580C4B258}" destId="{51A8714A-5484-4B30-A138-0DD910E520E2}" srcOrd="5" destOrd="0" presId="urn:microsoft.com/office/officeart/2005/8/layout/list1"/>
    <dgm:cxn modelId="{0388B10D-88CA-4BC9-92C1-6879DD643E29}" type="presParOf" srcId="{56B5E1E9-BB62-4FAD-ABD8-CCC580C4B258}" destId="{C648861C-F83C-45F7-8ECD-C69FF1AD0E6A}" srcOrd="6" destOrd="0" presId="urn:microsoft.com/office/officeart/2005/8/layout/list1"/>
    <dgm:cxn modelId="{48B7B8DA-E0CA-4AF9-9DD9-51E0C1403155}" type="presParOf" srcId="{56B5E1E9-BB62-4FAD-ABD8-CCC580C4B258}" destId="{B881D050-5A42-442D-A382-70C4F4C0E6D9}" srcOrd="7" destOrd="0" presId="urn:microsoft.com/office/officeart/2005/8/layout/list1"/>
    <dgm:cxn modelId="{694C8DD4-3B55-4DF4-A98B-BB56C8ABA76B}" type="presParOf" srcId="{56B5E1E9-BB62-4FAD-ABD8-CCC580C4B258}" destId="{F838628E-6B4D-4DE9-B7CD-7F72D1A0A418}" srcOrd="8" destOrd="0" presId="urn:microsoft.com/office/officeart/2005/8/layout/list1"/>
    <dgm:cxn modelId="{E3A7197B-D8BA-4B32-8F62-948096A19143}" type="presParOf" srcId="{F838628E-6B4D-4DE9-B7CD-7F72D1A0A418}" destId="{4A544CC4-1714-4343-AC80-7AD111D6A196}" srcOrd="0" destOrd="0" presId="urn:microsoft.com/office/officeart/2005/8/layout/list1"/>
    <dgm:cxn modelId="{D44004CA-F3F6-4F6A-B592-8D7D99E44D3E}" type="presParOf" srcId="{F838628E-6B4D-4DE9-B7CD-7F72D1A0A418}" destId="{712012C3-7030-47F7-BC74-238CAAC2795D}" srcOrd="1" destOrd="0" presId="urn:microsoft.com/office/officeart/2005/8/layout/list1"/>
    <dgm:cxn modelId="{D2B974DD-F385-4200-8A94-D87A5A6AFD37}" type="presParOf" srcId="{56B5E1E9-BB62-4FAD-ABD8-CCC580C4B258}" destId="{B571778D-2D52-41BB-87AB-F99D37B26D1E}" srcOrd="9" destOrd="0" presId="urn:microsoft.com/office/officeart/2005/8/layout/list1"/>
    <dgm:cxn modelId="{F1FDAFD3-0783-40FE-A1F1-6DEEF3EB28FB}" type="presParOf" srcId="{56B5E1E9-BB62-4FAD-ABD8-CCC580C4B258}" destId="{87B94BE6-2230-4F4E-ACA0-FACE4420F553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CE4B9ED-9E2D-49A7-A843-5BF63CD766DC}" type="doc">
      <dgm:prSet loTypeId="urn:microsoft.com/office/officeart/2005/8/layout/hierarchy3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4D8D5543-C516-4860-8567-B319AF8FDBF2}">
      <dgm:prSet phldrT="[Text]" custT="1"/>
      <dgm:spPr/>
      <dgm:t>
        <a:bodyPr/>
        <a:lstStyle/>
        <a:p>
          <a:r>
            <a:rPr lang="fr-BE" sz="2200" dirty="0" err="1" smtClean="0"/>
            <a:t>Shall</a:t>
          </a:r>
          <a:r>
            <a:rPr lang="fr-BE" sz="2200" dirty="0" smtClean="0"/>
            <a:t>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58141145-8444-4C20-9E0D-C53D4029ABC9}" type="parTrans" cxnId="{CCFAF71D-2574-44FD-ACCA-4E79FBA4FD63}">
      <dgm:prSet/>
      <dgm:spPr/>
      <dgm:t>
        <a:bodyPr/>
        <a:lstStyle/>
        <a:p>
          <a:endParaRPr lang="en-GB"/>
        </a:p>
      </dgm:t>
    </dgm:pt>
    <dgm:pt modelId="{7F7F7BA7-BB07-43BA-B4E9-729E0D7427CB}" type="sibTrans" cxnId="{CCFAF71D-2574-44FD-ACCA-4E79FBA4FD63}">
      <dgm:prSet/>
      <dgm:spPr/>
      <dgm:t>
        <a:bodyPr/>
        <a:lstStyle/>
        <a:p>
          <a:endParaRPr lang="en-GB"/>
        </a:p>
      </dgm:t>
    </dgm:pt>
    <dgm:pt modelId="{A9AB8F3D-9D14-4F76-9904-CF87969F9AE7}">
      <dgm:prSet phldrT="[Text]" custT="1"/>
      <dgm:spPr/>
      <dgm:t>
        <a:bodyPr/>
        <a:lstStyle/>
        <a:p>
          <a:r>
            <a:rPr lang="fr-BE" sz="2400" dirty="0" err="1" smtClean="0"/>
            <a:t>Carc</a:t>
          </a:r>
          <a:r>
            <a:rPr lang="fr-BE" sz="2400" dirty="0" smtClean="0"/>
            <a:t> Cat 2</a:t>
          </a:r>
          <a:endParaRPr lang="en-GB" sz="2400" dirty="0"/>
        </a:p>
      </dgm:t>
    </dgm:pt>
    <dgm:pt modelId="{97EDD126-C561-46B6-A55A-42B287966002}" type="parTrans" cxnId="{0F3B7513-2DE3-4774-8DB8-7FD1F381459D}">
      <dgm:prSet/>
      <dgm:spPr/>
      <dgm:t>
        <a:bodyPr/>
        <a:lstStyle/>
        <a:p>
          <a:endParaRPr lang="en-GB"/>
        </a:p>
      </dgm:t>
    </dgm:pt>
    <dgm:pt modelId="{6D6559D7-5322-4C4C-9F2B-814DD7666FF1}" type="sibTrans" cxnId="{0F3B7513-2DE3-4774-8DB8-7FD1F381459D}">
      <dgm:prSet/>
      <dgm:spPr/>
      <dgm:t>
        <a:bodyPr/>
        <a:lstStyle/>
        <a:p>
          <a:endParaRPr lang="en-GB"/>
        </a:p>
      </dgm:t>
    </dgm:pt>
    <dgm:pt modelId="{569B8DA1-776E-44E9-85B0-D8A9F3D4D01E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E5E2A858-16F8-40DD-8B1B-ABD27321B0C8}" type="parTrans" cxnId="{F8AAA542-F11F-49B4-81E1-51F2707F3DF2}">
      <dgm:prSet/>
      <dgm:spPr/>
      <dgm:t>
        <a:bodyPr/>
        <a:lstStyle/>
        <a:p>
          <a:endParaRPr lang="en-GB"/>
        </a:p>
      </dgm:t>
    </dgm:pt>
    <dgm:pt modelId="{EF94AF3C-7B69-462F-BA45-A397F985599B}" type="sibTrans" cxnId="{F8AAA542-F11F-49B4-81E1-51F2707F3DF2}">
      <dgm:prSet/>
      <dgm:spPr/>
      <dgm:t>
        <a:bodyPr/>
        <a:lstStyle/>
        <a:p>
          <a:endParaRPr lang="en-GB"/>
        </a:p>
      </dgm:t>
    </dgm:pt>
    <dgm:pt modelId="{1523573C-564E-4FC7-9CF1-D2DA31F30512}">
      <dgm:prSet phldrT="[Text]" custT="1"/>
      <dgm:spPr/>
      <dgm:t>
        <a:bodyPr/>
        <a:lstStyle/>
        <a:p>
          <a:r>
            <a:rPr lang="fr-BE" sz="2200" dirty="0" smtClean="0"/>
            <a:t>May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FA2396B2-20CC-4298-8EAE-B6760A440B2E}" type="parTrans" cxnId="{27F01380-2B4D-4022-AA35-AB12CDD988DF}">
      <dgm:prSet/>
      <dgm:spPr/>
      <dgm:t>
        <a:bodyPr/>
        <a:lstStyle/>
        <a:p>
          <a:endParaRPr lang="en-GB"/>
        </a:p>
      </dgm:t>
    </dgm:pt>
    <dgm:pt modelId="{EEE694B9-8F58-46F0-84EE-7C2AC3635A65}" type="sibTrans" cxnId="{27F01380-2B4D-4022-AA35-AB12CDD988DF}">
      <dgm:prSet/>
      <dgm:spPr/>
      <dgm:t>
        <a:bodyPr/>
        <a:lstStyle/>
        <a:p>
          <a:endParaRPr lang="en-GB"/>
        </a:p>
      </dgm:t>
    </dgm:pt>
    <dgm:pt modelId="{777D0B1C-1138-4818-A738-FDDA21477193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19CD30A5-BA08-4ED9-9DA0-4FD35574A541}" type="parTrans" cxnId="{39D33F87-5F86-49C5-A7C0-984434315608}">
      <dgm:prSet/>
      <dgm:spPr/>
      <dgm:t>
        <a:bodyPr/>
        <a:lstStyle/>
        <a:p>
          <a:endParaRPr lang="en-GB"/>
        </a:p>
      </dgm:t>
    </dgm:pt>
    <dgm:pt modelId="{9E11170F-5280-4CB1-BAC7-2EFA713D20CF}" type="sibTrans" cxnId="{39D33F87-5F86-49C5-A7C0-984434315608}">
      <dgm:prSet/>
      <dgm:spPr/>
      <dgm:t>
        <a:bodyPr/>
        <a:lstStyle/>
        <a:p>
          <a:endParaRPr lang="en-GB"/>
        </a:p>
      </dgm:t>
    </dgm:pt>
    <dgm:pt modelId="{DA53B95C-6359-4F4E-A027-C535D6CBD102}">
      <dgm:prSet phldrT="[Text]" custT="1"/>
      <dgm:spPr/>
      <dgm:t>
        <a:bodyPr/>
        <a:lstStyle/>
        <a:p>
          <a:r>
            <a:rPr lang="fr-BE" sz="2400" dirty="0" err="1" smtClean="0"/>
            <a:t>Toxic</a:t>
          </a:r>
          <a:r>
            <a:rPr lang="fr-BE" sz="2400" dirty="0" smtClean="0"/>
            <a:t> </a:t>
          </a:r>
          <a:r>
            <a:rPr lang="fr-BE" sz="2400" dirty="0" err="1" smtClean="0"/>
            <a:t>effects</a:t>
          </a:r>
          <a:r>
            <a:rPr lang="fr-BE" sz="2400" dirty="0" smtClean="0"/>
            <a:t> on endocrine </a:t>
          </a:r>
          <a:r>
            <a:rPr lang="fr-BE" sz="2400" dirty="0" err="1" smtClean="0"/>
            <a:t>organs</a:t>
          </a:r>
          <a:endParaRPr lang="en-GB" sz="2400" dirty="0"/>
        </a:p>
      </dgm:t>
    </dgm:pt>
    <dgm:pt modelId="{EE8A8769-197A-4F6E-BFB6-12E4FA90469F}" type="parTrans" cxnId="{64835E36-F159-4051-A312-47297CECF41F}">
      <dgm:prSet/>
      <dgm:spPr/>
      <dgm:t>
        <a:bodyPr/>
        <a:lstStyle/>
        <a:p>
          <a:endParaRPr lang="en-GB"/>
        </a:p>
      </dgm:t>
    </dgm:pt>
    <dgm:pt modelId="{DB84FC1E-1CA2-42FC-89DC-0F70F3F4EADD}" type="sibTrans" cxnId="{64835E36-F159-4051-A312-47297CECF41F}">
      <dgm:prSet/>
      <dgm:spPr/>
      <dgm:t>
        <a:bodyPr/>
        <a:lstStyle/>
        <a:p>
          <a:endParaRPr lang="en-GB"/>
        </a:p>
      </dgm:t>
    </dgm:pt>
    <dgm:pt modelId="{DA09BB09-A5C0-456F-98E4-4BF66E8DCE89}" type="pres">
      <dgm:prSet presAssocID="{9CE4B9ED-9E2D-49A7-A843-5BF63CD766DC}" presName="diagram" presStyleCnt="0">
        <dgm:presLayoutVars>
          <dgm:chPref val="1"/>
          <dgm:dir/>
          <dgm:animOne val="branch"/>
          <dgm:animLvl val="lvl"/>
          <dgm:resizeHandles/>
        </dgm:presLayoutVars>
      </dgm:prSet>
      <dgm:spPr/>
    </dgm:pt>
    <dgm:pt modelId="{3624F529-7147-4274-9AD9-251787FC0227}" type="pres">
      <dgm:prSet presAssocID="{4D8D5543-C516-4860-8567-B319AF8FDBF2}" presName="root" presStyleCnt="0"/>
      <dgm:spPr/>
    </dgm:pt>
    <dgm:pt modelId="{C667C54D-D87F-43F9-B5BB-969C4EC73941}" type="pres">
      <dgm:prSet presAssocID="{4D8D5543-C516-4860-8567-B319AF8FDBF2}" presName="rootComposite" presStyleCnt="0"/>
      <dgm:spPr/>
    </dgm:pt>
    <dgm:pt modelId="{801263A9-D399-4B13-8816-ADEB5967AD51}" type="pres">
      <dgm:prSet presAssocID="{4D8D5543-C516-4860-8567-B319AF8FDBF2}" presName="rootText" presStyleLbl="node1" presStyleIdx="0" presStyleCnt="2"/>
      <dgm:spPr/>
      <dgm:t>
        <a:bodyPr/>
        <a:lstStyle/>
        <a:p>
          <a:endParaRPr lang="en-GB"/>
        </a:p>
      </dgm:t>
    </dgm:pt>
    <dgm:pt modelId="{3A31CE77-2A3E-4E27-AD00-83220013DD85}" type="pres">
      <dgm:prSet presAssocID="{4D8D5543-C516-4860-8567-B319AF8FDBF2}" presName="rootConnector" presStyleLbl="node1" presStyleIdx="0" presStyleCnt="2"/>
      <dgm:spPr/>
    </dgm:pt>
    <dgm:pt modelId="{E78EC812-720F-4B3B-AE99-20A138586FB0}" type="pres">
      <dgm:prSet presAssocID="{4D8D5543-C516-4860-8567-B319AF8FDBF2}" presName="childShape" presStyleCnt="0"/>
      <dgm:spPr/>
    </dgm:pt>
    <dgm:pt modelId="{9AC9908F-424F-4320-AA3B-B39B5D131577}" type="pres">
      <dgm:prSet presAssocID="{97EDD126-C561-46B6-A55A-42B287966002}" presName="Name13" presStyleLbl="parChTrans1D2" presStyleIdx="0" presStyleCnt="4"/>
      <dgm:spPr/>
    </dgm:pt>
    <dgm:pt modelId="{24773DFE-85A6-466E-A01B-EF0365B084D6}" type="pres">
      <dgm:prSet presAssocID="{A9AB8F3D-9D14-4F76-9904-CF87969F9AE7}" presName="childText" presStyleLbl="bgAcc1" presStyleIdx="0" presStyleCnt="4" custLinFactNeighborX="-3646" custLinFactNeighborY="-1596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DD9BF1-1E8F-4260-84C7-F8D572574EC7}" type="pres">
      <dgm:prSet presAssocID="{E5E2A858-16F8-40DD-8B1B-ABD27321B0C8}" presName="Name13" presStyleLbl="parChTrans1D2" presStyleIdx="1" presStyleCnt="4"/>
      <dgm:spPr/>
    </dgm:pt>
    <dgm:pt modelId="{9C5C3C56-BDE7-4D7E-A3D0-9B2AF40E4D4E}" type="pres">
      <dgm:prSet presAssocID="{569B8DA1-776E-44E9-85B0-D8A9F3D4D01E}" presName="childText" presStyleLbl="bgAcc1" presStyleIdx="1" presStyleCnt="4" custLinFactNeighborX="-3646" custLinFactNeighborY="1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EC22BB9B-29ED-4AEE-ABAA-F670145CF99F}" type="pres">
      <dgm:prSet presAssocID="{1523573C-564E-4FC7-9CF1-D2DA31F30512}" presName="root" presStyleCnt="0"/>
      <dgm:spPr/>
    </dgm:pt>
    <dgm:pt modelId="{06047F6C-0AB6-4E77-859A-EE2BF518B206}" type="pres">
      <dgm:prSet presAssocID="{1523573C-564E-4FC7-9CF1-D2DA31F30512}" presName="rootComposite" presStyleCnt="0"/>
      <dgm:spPr/>
    </dgm:pt>
    <dgm:pt modelId="{8D788A8C-E2C1-4DE4-A697-41FA34FE66C6}" type="pres">
      <dgm:prSet presAssocID="{1523573C-564E-4FC7-9CF1-D2DA31F30512}" presName="rootText" presStyleLbl="node1" presStyleIdx="1" presStyleCnt="2"/>
      <dgm:spPr/>
    </dgm:pt>
    <dgm:pt modelId="{C456FA09-2AFA-4E55-9A53-043F829FD427}" type="pres">
      <dgm:prSet presAssocID="{1523573C-564E-4FC7-9CF1-D2DA31F30512}" presName="rootConnector" presStyleLbl="node1" presStyleIdx="1" presStyleCnt="2"/>
      <dgm:spPr/>
    </dgm:pt>
    <dgm:pt modelId="{6B074828-5192-4EE6-BFE7-248672A31DF2}" type="pres">
      <dgm:prSet presAssocID="{1523573C-564E-4FC7-9CF1-D2DA31F30512}" presName="childShape" presStyleCnt="0"/>
      <dgm:spPr/>
    </dgm:pt>
    <dgm:pt modelId="{2F7D2BE8-39C2-4A0F-BB3E-BE4FE53A8B0B}" type="pres">
      <dgm:prSet presAssocID="{19CD30A5-BA08-4ED9-9DA0-4FD35574A541}" presName="Name13" presStyleLbl="parChTrans1D2" presStyleIdx="2" presStyleCnt="4"/>
      <dgm:spPr/>
    </dgm:pt>
    <dgm:pt modelId="{541A7DC8-8F3A-4410-98C1-14D38BF69458}" type="pres">
      <dgm:prSet presAssocID="{777D0B1C-1138-4818-A738-FDDA21477193}" presName="childText" presStyleLbl="bgAcc1" presStyleIdx="2" presStyleCnt="4">
        <dgm:presLayoutVars>
          <dgm:bulletEnabled val="1"/>
        </dgm:presLayoutVars>
      </dgm:prSet>
      <dgm:spPr/>
    </dgm:pt>
    <dgm:pt modelId="{701446E9-4A89-408A-97AB-A54105575F08}" type="pres">
      <dgm:prSet presAssocID="{EE8A8769-197A-4F6E-BFB6-12E4FA90469F}" presName="Name13" presStyleLbl="parChTrans1D2" presStyleIdx="3" presStyleCnt="4"/>
      <dgm:spPr/>
    </dgm:pt>
    <dgm:pt modelId="{B0391250-BDAD-4F4E-8904-083B387302D4}" type="pres">
      <dgm:prSet presAssocID="{DA53B95C-6359-4F4E-A027-C535D6CBD102}" presName="childText" presStyleLbl="b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7310DEF6-3616-427B-B73E-44964C89DC84}" type="presOf" srcId="{1523573C-564E-4FC7-9CF1-D2DA31F30512}" destId="{8D788A8C-E2C1-4DE4-A697-41FA34FE66C6}" srcOrd="0" destOrd="0" presId="urn:microsoft.com/office/officeart/2005/8/layout/hierarchy3"/>
    <dgm:cxn modelId="{85B5DE69-766F-4A84-A18C-9FC6FA3F3225}" type="presOf" srcId="{1523573C-564E-4FC7-9CF1-D2DA31F30512}" destId="{C456FA09-2AFA-4E55-9A53-043F829FD427}" srcOrd="1" destOrd="0" presId="urn:microsoft.com/office/officeart/2005/8/layout/hierarchy3"/>
    <dgm:cxn modelId="{21EC0110-24D5-41F4-9947-DBB7BF249A90}" type="presOf" srcId="{A9AB8F3D-9D14-4F76-9904-CF87969F9AE7}" destId="{24773DFE-85A6-466E-A01B-EF0365B084D6}" srcOrd="0" destOrd="0" presId="urn:microsoft.com/office/officeart/2005/8/layout/hierarchy3"/>
    <dgm:cxn modelId="{8F11F180-76D0-437E-8306-6C9D9187CD2D}" type="presOf" srcId="{777D0B1C-1138-4818-A738-FDDA21477193}" destId="{541A7DC8-8F3A-4410-98C1-14D38BF69458}" srcOrd="0" destOrd="0" presId="urn:microsoft.com/office/officeart/2005/8/layout/hierarchy3"/>
    <dgm:cxn modelId="{F8AAA542-F11F-49B4-81E1-51F2707F3DF2}" srcId="{4D8D5543-C516-4860-8567-B319AF8FDBF2}" destId="{569B8DA1-776E-44E9-85B0-D8A9F3D4D01E}" srcOrd="1" destOrd="0" parTransId="{E5E2A858-16F8-40DD-8B1B-ABD27321B0C8}" sibTransId="{EF94AF3C-7B69-462F-BA45-A397F985599B}"/>
    <dgm:cxn modelId="{500B9458-4BEF-4045-AEE8-245A61EC3982}" type="presOf" srcId="{19CD30A5-BA08-4ED9-9DA0-4FD35574A541}" destId="{2F7D2BE8-39C2-4A0F-BB3E-BE4FE53A8B0B}" srcOrd="0" destOrd="0" presId="urn:microsoft.com/office/officeart/2005/8/layout/hierarchy3"/>
    <dgm:cxn modelId="{CCFAF71D-2574-44FD-ACCA-4E79FBA4FD63}" srcId="{9CE4B9ED-9E2D-49A7-A843-5BF63CD766DC}" destId="{4D8D5543-C516-4860-8567-B319AF8FDBF2}" srcOrd="0" destOrd="0" parTransId="{58141145-8444-4C20-9E0D-C53D4029ABC9}" sibTransId="{7F7F7BA7-BB07-43BA-B4E9-729E0D7427CB}"/>
    <dgm:cxn modelId="{27F01380-2B4D-4022-AA35-AB12CDD988DF}" srcId="{9CE4B9ED-9E2D-49A7-A843-5BF63CD766DC}" destId="{1523573C-564E-4FC7-9CF1-D2DA31F30512}" srcOrd="1" destOrd="0" parTransId="{FA2396B2-20CC-4298-8EAE-B6760A440B2E}" sibTransId="{EEE694B9-8F58-46F0-84EE-7C2AC3635A65}"/>
    <dgm:cxn modelId="{6B7A1646-70F5-4C90-90EB-358561455A64}" type="presOf" srcId="{9CE4B9ED-9E2D-49A7-A843-5BF63CD766DC}" destId="{DA09BB09-A5C0-456F-98E4-4BF66E8DCE89}" srcOrd="0" destOrd="0" presId="urn:microsoft.com/office/officeart/2005/8/layout/hierarchy3"/>
    <dgm:cxn modelId="{8A9B38CB-68AE-4531-8344-D63361A9DA37}" type="presOf" srcId="{4D8D5543-C516-4860-8567-B319AF8FDBF2}" destId="{3A31CE77-2A3E-4E27-AD00-83220013DD85}" srcOrd="1" destOrd="0" presId="urn:microsoft.com/office/officeart/2005/8/layout/hierarchy3"/>
    <dgm:cxn modelId="{813C1EE2-9847-425C-A747-6243993A96DE}" type="presOf" srcId="{DA53B95C-6359-4F4E-A027-C535D6CBD102}" destId="{B0391250-BDAD-4F4E-8904-083B387302D4}" srcOrd="0" destOrd="0" presId="urn:microsoft.com/office/officeart/2005/8/layout/hierarchy3"/>
    <dgm:cxn modelId="{39D33F87-5F86-49C5-A7C0-984434315608}" srcId="{1523573C-564E-4FC7-9CF1-D2DA31F30512}" destId="{777D0B1C-1138-4818-A738-FDDA21477193}" srcOrd="0" destOrd="0" parTransId="{19CD30A5-BA08-4ED9-9DA0-4FD35574A541}" sibTransId="{9E11170F-5280-4CB1-BAC7-2EFA713D20CF}"/>
    <dgm:cxn modelId="{D785B410-B5D3-4F9D-879F-7A30ED0B449C}" type="presOf" srcId="{97EDD126-C561-46B6-A55A-42B287966002}" destId="{9AC9908F-424F-4320-AA3B-B39B5D131577}" srcOrd="0" destOrd="0" presId="urn:microsoft.com/office/officeart/2005/8/layout/hierarchy3"/>
    <dgm:cxn modelId="{E3B94154-485B-40D4-BC4C-2C8AE22E21A3}" type="presOf" srcId="{E5E2A858-16F8-40DD-8B1B-ABD27321B0C8}" destId="{7EDD9BF1-1E8F-4260-84C7-F8D572574EC7}" srcOrd="0" destOrd="0" presId="urn:microsoft.com/office/officeart/2005/8/layout/hierarchy3"/>
    <dgm:cxn modelId="{0F3B7513-2DE3-4774-8DB8-7FD1F381459D}" srcId="{4D8D5543-C516-4860-8567-B319AF8FDBF2}" destId="{A9AB8F3D-9D14-4F76-9904-CF87969F9AE7}" srcOrd="0" destOrd="0" parTransId="{97EDD126-C561-46B6-A55A-42B287966002}" sibTransId="{6D6559D7-5322-4C4C-9F2B-814DD7666FF1}"/>
    <dgm:cxn modelId="{64835E36-F159-4051-A312-47297CECF41F}" srcId="{1523573C-564E-4FC7-9CF1-D2DA31F30512}" destId="{DA53B95C-6359-4F4E-A027-C535D6CBD102}" srcOrd="1" destOrd="0" parTransId="{EE8A8769-197A-4F6E-BFB6-12E4FA90469F}" sibTransId="{DB84FC1E-1CA2-42FC-89DC-0F70F3F4EADD}"/>
    <dgm:cxn modelId="{367C1038-4243-4463-8068-7DF2B176F3B5}" type="presOf" srcId="{569B8DA1-776E-44E9-85B0-D8A9F3D4D01E}" destId="{9C5C3C56-BDE7-4D7E-A3D0-9B2AF40E4D4E}" srcOrd="0" destOrd="0" presId="urn:microsoft.com/office/officeart/2005/8/layout/hierarchy3"/>
    <dgm:cxn modelId="{247C10B9-EE24-4066-A45C-0F10423F543F}" type="presOf" srcId="{EE8A8769-197A-4F6E-BFB6-12E4FA90469F}" destId="{701446E9-4A89-408A-97AB-A54105575F08}" srcOrd="0" destOrd="0" presId="urn:microsoft.com/office/officeart/2005/8/layout/hierarchy3"/>
    <dgm:cxn modelId="{0EC3BEE3-C25F-4469-AE06-2F3B95AA9EC1}" type="presOf" srcId="{4D8D5543-C516-4860-8567-B319AF8FDBF2}" destId="{801263A9-D399-4B13-8816-ADEB5967AD51}" srcOrd="0" destOrd="0" presId="urn:microsoft.com/office/officeart/2005/8/layout/hierarchy3"/>
    <dgm:cxn modelId="{36FFADC1-09BB-4FBC-968A-3E60346D024B}" type="presParOf" srcId="{DA09BB09-A5C0-456F-98E4-4BF66E8DCE89}" destId="{3624F529-7147-4274-9AD9-251787FC0227}" srcOrd="0" destOrd="0" presId="urn:microsoft.com/office/officeart/2005/8/layout/hierarchy3"/>
    <dgm:cxn modelId="{AEBA9F8A-5BAB-4CD1-B8D6-54949C3AA2D2}" type="presParOf" srcId="{3624F529-7147-4274-9AD9-251787FC0227}" destId="{C667C54D-D87F-43F9-B5BB-969C4EC73941}" srcOrd="0" destOrd="0" presId="urn:microsoft.com/office/officeart/2005/8/layout/hierarchy3"/>
    <dgm:cxn modelId="{F3630102-D025-4594-88D6-41BC360C6BC5}" type="presParOf" srcId="{C667C54D-D87F-43F9-B5BB-969C4EC73941}" destId="{801263A9-D399-4B13-8816-ADEB5967AD51}" srcOrd="0" destOrd="0" presId="urn:microsoft.com/office/officeart/2005/8/layout/hierarchy3"/>
    <dgm:cxn modelId="{FAC32AF9-5823-45D5-A761-CC96F651CAEC}" type="presParOf" srcId="{C667C54D-D87F-43F9-B5BB-969C4EC73941}" destId="{3A31CE77-2A3E-4E27-AD00-83220013DD85}" srcOrd="1" destOrd="0" presId="urn:microsoft.com/office/officeart/2005/8/layout/hierarchy3"/>
    <dgm:cxn modelId="{421CBD9C-5042-43FF-A679-DF6C388D8DE0}" type="presParOf" srcId="{3624F529-7147-4274-9AD9-251787FC0227}" destId="{E78EC812-720F-4B3B-AE99-20A138586FB0}" srcOrd="1" destOrd="0" presId="urn:microsoft.com/office/officeart/2005/8/layout/hierarchy3"/>
    <dgm:cxn modelId="{ACF3AFE5-3F92-4217-ACFE-6D7DA6F1303C}" type="presParOf" srcId="{E78EC812-720F-4B3B-AE99-20A138586FB0}" destId="{9AC9908F-424F-4320-AA3B-B39B5D131577}" srcOrd="0" destOrd="0" presId="urn:microsoft.com/office/officeart/2005/8/layout/hierarchy3"/>
    <dgm:cxn modelId="{27434DB8-0368-4CC9-88AF-A7E7A4C1650D}" type="presParOf" srcId="{E78EC812-720F-4B3B-AE99-20A138586FB0}" destId="{24773DFE-85A6-466E-A01B-EF0365B084D6}" srcOrd="1" destOrd="0" presId="urn:microsoft.com/office/officeart/2005/8/layout/hierarchy3"/>
    <dgm:cxn modelId="{4BB05D3C-ACE6-4FDF-ADE6-CC3EFC8581F9}" type="presParOf" srcId="{E78EC812-720F-4B3B-AE99-20A138586FB0}" destId="{7EDD9BF1-1E8F-4260-84C7-F8D572574EC7}" srcOrd="2" destOrd="0" presId="urn:microsoft.com/office/officeart/2005/8/layout/hierarchy3"/>
    <dgm:cxn modelId="{136F0E3D-98BF-4BE0-9F0F-1B6A5DBD24E2}" type="presParOf" srcId="{E78EC812-720F-4B3B-AE99-20A138586FB0}" destId="{9C5C3C56-BDE7-4D7E-A3D0-9B2AF40E4D4E}" srcOrd="3" destOrd="0" presId="urn:microsoft.com/office/officeart/2005/8/layout/hierarchy3"/>
    <dgm:cxn modelId="{9FC16DC8-8F26-4892-83E6-7B774A4AA163}" type="presParOf" srcId="{DA09BB09-A5C0-456F-98E4-4BF66E8DCE89}" destId="{EC22BB9B-29ED-4AEE-ABAA-F670145CF99F}" srcOrd="1" destOrd="0" presId="urn:microsoft.com/office/officeart/2005/8/layout/hierarchy3"/>
    <dgm:cxn modelId="{8E9E4928-9370-4569-A8C0-9EE1D7096453}" type="presParOf" srcId="{EC22BB9B-29ED-4AEE-ABAA-F670145CF99F}" destId="{06047F6C-0AB6-4E77-859A-EE2BF518B206}" srcOrd="0" destOrd="0" presId="urn:microsoft.com/office/officeart/2005/8/layout/hierarchy3"/>
    <dgm:cxn modelId="{D7C3E9A9-BC44-4F3A-8E39-30C3B6859EDB}" type="presParOf" srcId="{06047F6C-0AB6-4E77-859A-EE2BF518B206}" destId="{8D788A8C-E2C1-4DE4-A697-41FA34FE66C6}" srcOrd="0" destOrd="0" presId="urn:microsoft.com/office/officeart/2005/8/layout/hierarchy3"/>
    <dgm:cxn modelId="{89C77E6D-F351-42D6-B308-45B73FC856C8}" type="presParOf" srcId="{06047F6C-0AB6-4E77-859A-EE2BF518B206}" destId="{C456FA09-2AFA-4E55-9A53-043F829FD427}" srcOrd="1" destOrd="0" presId="urn:microsoft.com/office/officeart/2005/8/layout/hierarchy3"/>
    <dgm:cxn modelId="{065C09E1-E810-474F-884D-CE02C0938E48}" type="presParOf" srcId="{EC22BB9B-29ED-4AEE-ABAA-F670145CF99F}" destId="{6B074828-5192-4EE6-BFE7-248672A31DF2}" srcOrd="1" destOrd="0" presId="urn:microsoft.com/office/officeart/2005/8/layout/hierarchy3"/>
    <dgm:cxn modelId="{CE7F874E-6661-4AA5-98AA-88EA08949553}" type="presParOf" srcId="{6B074828-5192-4EE6-BFE7-248672A31DF2}" destId="{2F7D2BE8-39C2-4A0F-BB3E-BE4FE53A8B0B}" srcOrd="0" destOrd="0" presId="urn:microsoft.com/office/officeart/2005/8/layout/hierarchy3"/>
    <dgm:cxn modelId="{65A4FCD5-6B94-4950-ADB7-F7564A6F83CD}" type="presParOf" srcId="{6B074828-5192-4EE6-BFE7-248672A31DF2}" destId="{541A7DC8-8F3A-4410-98C1-14D38BF69458}" srcOrd="1" destOrd="0" presId="urn:microsoft.com/office/officeart/2005/8/layout/hierarchy3"/>
    <dgm:cxn modelId="{09598A3A-A5E7-47E4-9D86-D3A8BDC054CB}" type="presParOf" srcId="{6B074828-5192-4EE6-BFE7-248672A31DF2}" destId="{701446E9-4A89-408A-97AB-A54105575F08}" srcOrd="2" destOrd="0" presId="urn:microsoft.com/office/officeart/2005/8/layout/hierarchy3"/>
    <dgm:cxn modelId="{0831CDF7-05E6-43C2-8A73-FBFAB4DBFCBB}" type="presParOf" srcId="{6B074828-5192-4EE6-BFE7-248672A31DF2}" destId="{B0391250-BDAD-4F4E-8904-083B387302D4}" srcOrd="3" destOrd="0" presId="urn:microsoft.com/office/officeart/2005/8/layout/hierarchy3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A8DBF2A2-A921-48A5-9635-AB000588FAFF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F0E14126-33CB-4D05-95EA-B161DE38AA09}">
      <dgm:prSet phldrT="[Text]" custT="1"/>
      <dgm:spPr/>
      <dgm:t>
        <a:bodyPr/>
        <a:lstStyle/>
        <a:p>
          <a:r>
            <a:rPr lang="fr-BE" sz="2400" dirty="0" err="1" smtClean="0"/>
            <a:t>Biological</a:t>
          </a:r>
          <a:r>
            <a:rPr lang="fr-BE" sz="2400" dirty="0" smtClean="0"/>
            <a:t> </a:t>
          </a:r>
          <a:r>
            <a:rPr lang="fr-BE" sz="2400" dirty="0" err="1" smtClean="0"/>
            <a:t>thresholds</a:t>
          </a:r>
          <a:r>
            <a:rPr lang="fr-BE" sz="2400" dirty="0" smtClean="0"/>
            <a:t> and </a:t>
          </a:r>
          <a:r>
            <a:rPr lang="fr-BE" sz="2400" dirty="0" err="1" smtClean="0"/>
            <a:t>criteria</a:t>
          </a:r>
          <a:r>
            <a:rPr lang="fr-BE" sz="2400" dirty="0" smtClean="0"/>
            <a:t> for </a:t>
          </a:r>
          <a:r>
            <a:rPr lang="fr-BE" sz="2400" dirty="0" err="1" smtClean="0"/>
            <a:t>adversity</a:t>
          </a:r>
          <a:r>
            <a:rPr lang="fr-BE" sz="2400" dirty="0" smtClean="0"/>
            <a:t> vs </a:t>
          </a:r>
          <a:r>
            <a:rPr lang="fr-BE" sz="2400" dirty="0" err="1" smtClean="0"/>
            <a:t>physiological</a:t>
          </a:r>
          <a:r>
            <a:rPr lang="fr-BE" sz="2400" dirty="0" smtClean="0"/>
            <a:t> modulation/ </a:t>
          </a:r>
          <a:r>
            <a:rPr lang="fr-BE" sz="2400" dirty="0" err="1" smtClean="0"/>
            <a:t>homeostatic</a:t>
          </a:r>
          <a:r>
            <a:rPr lang="fr-BE" sz="2400" dirty="0" smtClean="0"/>
            <a:t> </a:t>
          </a:r>
          <a:r>
            <a:rPr lang="fr-BE" sz="2400" dirty="0" err="1" smtClean="0"/>
            <a:t>responses</a:t>
          </a:r>
          <a:endParaRPr lang="en-GB" sz="2400" dirty="0"/>
        </a:p>
      </dgm:t>
    </dgm:pt>
    <dgm:pt modelId="{33274777-C9D8-4E03-A7E6-51980EA03D18}" type="parTrans" cxnId="{7A4CF360-357D-44F2-9AAB-B50A7793D6BA}">
      <dgm:prSet/>
      <dgm:spPr/>
      <dgm:t>
        <a:bodyPr/>
        <a:lstStyle/>
        <a:p>
          <a:endParaRPr lang="en-GB"/>
        </a:p>
      </dgm:t>
    </dgm:pt>
    <dgm:pt modelId="{B430ACE9-3E46-43A9-9A66-5CAE2CEC3CE2}" type="sibTrans" cxnId="{7A4CF360-357D-44F2-9AAB-B50A7793D6BA}">
      <dgm:prSet/>
      <dgm:spPr/>
      <dgm:t>
        <a:bodyPr/>
        <a:lstStyle/>
        <a:p>
          <a:endParaRPr lang="en-GB"/>
        </a:p>
      </dgm:t>
    </dgm:pt>
    <dgm:pt modelId="{86CB106B-8B04-4254-8EF7-2AEB2F63CD72}">
      <dgm:prSet phldrT="[Text]" custT="1"/>
      <dgm:spPr/>
      <dgm:t>
        <a:bodyPr/>
        <a:lstStyle/>
        <a:p>
          <a:r>
            <a:rPr lang="fr-BE" sz="2400" dirty="0" err="1" smtClean="0"/>
            <a:t>Combined</a:t>
          </a:r>
          <a:r>
            <a:rPr lang="fr-BE" sz="2400" dirty="0" smtClean="0"/>
            <a:t> </a:t>
          </a:r>
          <a:r>
            <a:rPr lang="fr-BE" sz="2400" dirty="0" err="1" smtClean="0"/>
            <a:t>exposure</a:t>
          </a:r>
          <a:r>
            <a:rPr lang="fr-BE" sz="2400" dirty="0" smtClean="0"/>
            <a:t> to multiple substances</a:t>
          </a:r>
          <a:endParaRPr lang="en-GB" sz="2400" dirty="0"/>
        </a:p>
      </dgm:t>
    </dgm:pt>
    <dgm:pt modelId="{3784F697-63FF-46B9-AE38-EF8C6313E01E}" type="parTrans" cxnId="{14E627C6-AAA9-4482-96E2-169EE840F41D}">
      <dgm:prSet/>
      <dgm:spPr/>
      <dgm:t>
        <a:bodyPr/>
        <a:lstStyle/>
        <a:p>
          <a:endParaRPr lang="en-GB"/>
        </a:p>
      </dgm:t>
    </dgm:pt>
    <dgm:pt modelId="{596EFC87-274A-459A-9C98-5C352F2D9BE8}" type="sibTrans" cxnId="{14E627C6-AAA9-4482-96E2-169EE840F41D}">
      <dgm:prSet/>
      <dgm:spPr/>
      <dgm:t>
        <a:bodyPr/>
        <a:lstStyle/>
        <a:p>
          <a:endParaRPr lang="en-GB"/>
        </a:p>
      </dgm:t>
    </dgm:pt>
    <dgm:pt modelId="{B133013D-8806-4679-8AB5-E06E97DFD186}">
      <dgm:prSet phldrT="[Text]" custT="1"/>
      <dgm:spPr/>
      <dgm:t>
        <a:bodyPr/>
        <a:lstStyle/>
        <a:p>
          <a:r>
            <a:rPr lang="fr-BE" sz="2400" dirty="0" smtClean="0"/>
            <a:t>Non-</a:t>
          </a:r>
          <a:r>
            <a:rPr lang="fr-BE" sz="2400" dirty="0" err="1" smtClean="0"/>
            <a:t>monotonic</a:t>
          </a:r>
          <a:r>
            <a:rPr lang="fr-BE" sz="2400" dirty="0" smtClean="0"/>
            <a:t> dose </a:t>
          </a:r>
          <a:r>
            <a:rPr lang="fr-BE" sz="2400" dirty="0" err="1" smtClean="0"/>
            <a:t>response</a:t>
          </a:r>
          <a:r>
            <a:rPr lang="fr-BE" sz="2400" dirty="0" smtClean="0"/>
            <a:t> </a:t>
          </a:r>
          <a:r>
            <a:rPr lang="fr-BE" sz="2400" dirty="0" err="1" smtClean="0"/>
            <a:t>curves</a:t>
          </a:r>
          <a:endParaRPr lang="en-GB" sz="2400" dirty="0"/>
        </a:p>
      </dgm:t>
    </dgm:pt>
    <dgm:pt modelId="{EBE19417-F91E-44F5-8E5F-89B3756B8493}" type="parTrans" cxnId="{5A7EE6B3-487B-4B2D-A38F-68E8028C4EED}">
      <dgm:prSet/>
      <dgm:spPr/>
      <dgm:t>
        <a:bodyPr/>
        <a:lstStyle/>
        <a:p>
          <a:endParaRPr lang="en-GB"/>
        </a:p>
      </dgm:t>
    </dgm:pt>
    <dgm:pt modelId="{D4147E64-C616-4824-994A-2F366DDE6A5C}" type="sibTrans" cxnId="{5A7EE6B3-487B-4B2D-A38F-68E8028C4EED}">
      <dgm:prSet/>
      <dgm:spPr/>
      <dgm:t>
        <a:bodyPr/>
        <a:lstStyle/>
        <a:p>
          <a:endParaRPr lang="en-GB"/>
        </a:p>
      </dgm:t>
    </dgm:pt>
    <dgm:pt modelId="{AFC0DC8D-DA42-443C-85E2-B6C24E41AEA6}" type="pres">
      <dgm:prSet presAssocID="{A8DBF2A2-A921-48A5-9635-AB000588FAFF}" presName="linear" presStyleCnt="0">
        <dgm:presLayoutVars>
          <dgm:dir/>
          <dgm:animLvl val="lvl"/>
          <dgm:resizeHandles val="exact"/>
        </dgm:presLayoutVars>
      </dgm:prSet>
      <dgm:spPr/>
    </dgm:pt>
    <dgm:pt modelId="{59699FFF-BFFB-45E1-BA78-3B3AE390486A}" type="pres">
      <dgm:prSet presAssocID="{F0E14126-33CB-4D05-95EA-B161DE38AA09}" presName="parentLin" presStyleCnt="0"/>
      <dgm:spPr/>
    </dgm:pt>
    <dgm:pt modelId="{F7F76382-67B4-455E-82D5-929139313E03}" type="pres">
      <dgm:prSet presAssocID="{F0E14126-33CB-4D05-95EA-B161DE38AA09}" presName="parentLeftMargin" presStyleLbl="node1" presStyleIdx="0" presStyleCnt="3"/>
      <dgm:spPr/>
    </dgm:pt>
    <dgm:pt modelId="{FC9CA109-2E36-4DEC-B7F9-F08913D8A92E}" type="pres">
      <dgm:prSet presAssocID="{F0E14126-33CB-4D05-95EA-B161DE38AA09}" presName="parentText" presStyleLbl="node1" presStyleIdx="0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1CEDCF92-1EEC-4118-96E9-473AB9E83993}" type="pres">
      <dgm:prSet presAssocID="{F0E14126-33CB-4D05-95EA-B161DE38AA09}" presName="negativeSpace" presStyleCnt="0"/>
      <dgm:spPr/>
    </dgm:pt>
    <dgm:pt modelId="{6A262514-F779-4FDC-A390-753BE9E35D8F}" type="pres">
      <dgm:prSet presAssocID="{F0E14126-33CB-4D05-95EA-B161DE38AA09}" presName="childText" presStyleLbl="conFgAcc1" presStyleIdx="0" presStyleCnt="3">
        <dgm:presLayoutVars>
          <dgm:bulletEnabled val="1"/>
        </dgm:presLayoutVars>
      </dgm:prSet>
      <dgm:spPr/>
    </dgm:pt>
    <dgm:pt modelId="{03ADC6EF-0674-42E4-A9EC-94DE78AAB503}" type="pres">
      <dgm:prSet presAssocID="{B430ACE9-3E46-43A9-9A66-5CAE2CEC3CE2}" presName="spaceBetweenRectangles" presStyleCnt="0"/>
      <dgm:spPr/>
    </dgm:pt>
    <dgm:pt modelId="{06A8FDE2-8429-44BD-A3CE-DF7BECF6912B}" type="pres">
      <dgm:prSet presAssocID="{86CB106B-8B04-4254-8EF7-2AEB2F63CD72}" presName="parentLin" presStyleCnt="0"/>
      <dgm:spPr/>
    </dgm:pt>
    <dgm:pt modelId="{68F24B74-F1CA-4DE2-A40A-35B0689252D7}" type="pres">
      <dgm:prSet presAssocID="{86CB106B-8B04-4254-8EF7-2AEB2F63CD72}" presName="parentLeftMargin" presStyleLbl="node1" presStyleIdx="0" presStyleCnt="3"/>
      <dgm:spPr/>
    </dgm:pt>
    <dgm:pt modelId="{BD730CE3-8173-4F8F-9C91-1769F054F0D8}" type="pres">
      <dgm:prSet presAssocID="{86CB106B-8B04-4254-8EF7-2AEB2F63CD72}" presName="parentText" presStyleLbl="node1" presStyleIdx="1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1BDD05-A256-4408-9CFD-ACBAA4660F3B}" type="pres">
      <dgm:prSet presAssocID="{86CB106B-8B04-4254-8EF7-2AEB2F63CD72}" presName="negativeSpace" presStyleCnt="0"/>
      <dgm:spPr/>
    </dgm:pt>
    <dgm:pt modelId="{361DF004-F1C8-4EC5-ADF5-AC5DEACAEB9D}" type="pres">
      <dgm:prSet presAssocID="{86CB106B-8B04-4254-8EF7-2AEB2F63CD72}" presName="childText" presStyleLbl="conFgAcc1" presStyleIdx="1" presStyleCnt="3">
        <dgm:presLayoutVars>
          <dgm:bulletEnabled val="1"/>
        </dgm:presLayoutVars>
      </dgm:prSet>
      <dgm:spPr/>
    </dgm:pt>
    <dgm:pt modelId="{FC3E0785-C284-4178-8018-13B00EAC2335}" type="pres">
      <dgm:prSet presAssocID="{596EFC87-274A-459A-9C98-5C352F2D9BE8}" presName="spaceBetweenRectangles" presStyleCnt="0"/>
      <dgm:spPr/>
    </dgm:pt>
    <dgm:pt modelId="{81B73DE8-EA06-4FA3-B9CD-577E0274FF48}" type="pres">
      <dgm:prSet presAssocID="{B133013D-8806-4679-8AB5-E06E97DFD186}" presName="parentLin" presStyleCnt="0"/>
      <dgm:spPr/>
    </dgm:pt>
    <dgm:pt modelId="{135F4C44-BA4F-4532-A6A4-E3EEB0DE15D0}" type="pres">
      <dgm:prSet presAssocID="{B133013D-8806-4679-8AB5-E06E97DFD186}" presName="parentLeftMargin" presStyleLbl="node1" presStyleIdx="1" presStyleCnt="3"/>
      <dgm:spPr/>
    </dgm:pt>
    <dgm:pt modelId="{86F0191C-1B5D-42E6-BAC5-C0605A1F168C}" type="pres">
      <dgm:prSet presAssocID="{B133013D-8806-4679-8AB5-E06E97DFD186}" presName="parentText" presStyleLbl="node1" presStyleIdx="2" presStyleCnt="3" custScaleX="14009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976FEF6-C323-45EC-BC9B-F33D958FEEF1}" type="pres">
      <dgm:prSet presAssocID="{B133013D-8806-4679-8AB5-E06E97DFD186}" presName="negativeSpace" presStyleCnt="0"/>
      <dgm:spPr/>
    </dgm:pt>
    <dgm:pt modelId="{88B7B53A-5E2E-405F-A9AC-F5E05DB18AEA}" type="pres">
      <dgm:prSet presAssocID="{B133013D-8806-4679-8AB5-E06E97DFD18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CEB97297-726C-4BF5-9444-792C7C3CAA33}" type="presOf" srcId="{F0E14126-33CB-4D05-95EA-B161DE38AA09}" destId="{FC9CA109-2E36-4DEC-B7F9-F08913D8A92E}" srcOrd="1" destOrd="0" presId="urn:microsoft.com/office/officeart/2005/8/layout/list1"/>
    <dgm:cxn modelId="{14E627C6-AAA9-4482-96E2-169EE840F41D}" srcId="{A8DBF2A2-A921-48A5-9635-AB000588FAFF}" destId="{86CB106B-8B04-4254-8EF7-2AEB2F63CD72}" srcOrd="1" destOrd="0" parTransId="{3784F697-63FF-46B9-AE38-EF8C6313E01E}" sibTransId="{596EFC87-274A-459A-9C98-5C352F2D9BE8}"/>
    <dgm:cxn modelId="{86FB065F-CD0E-4CAD-8AA1-7AD1286042F5}" type="presOf" srcId="{86CB106B-8B04-4254-8EF7-2AEB2F63CD72}" destId="{BD730CE3-8173-4F8F-9C91-1769F054F0D8}" srcOrd="1" destOrd="0" presId="urn:microsoft.com/office/officeart/2005/8/layout/list1"/>
    <dgm:cxn modelId="{19FAEAE9-2C68-4530-991D-000EE43A8D16}" type="presOf" srcId="{86CB106B-8B04-4254-8EF7-2AEB2F63CD72}" destId="{68F24B74-F1CA-4DE2-A40A-35B0689252D7}" srcOrd="0" destOrd="0" presId="urn:microsoft.com/office/officeart/2005/8/layout/list1"/>
    <dgm:cxn modelId="{2EF8F1C4-6482-4F9E-91D8-DF0965484273}" type="presOf" srcId="{B133013D-8806-4679-8AB5-E06E97DFD186}" destId="{135F4C44-BA4F-4532-A6A4-E3EEB0DE15D0}" srcOrd="0" destOrd="0" presId="urn:microsoft.com/office/officeart/2005/8/layout/list1"/>
    <dgm:cxn modelId="{1DDA4594-159A-40B9-BD73-62110F7DEA93}" type="presOf" srcId="{B133013D-8806-4679-8AB5-E06E97DFD186}" destId="{86F0191C-1B5D-42E6-BAC5-C0605A1F168C}" srcOrd="1" destOrd="0" presId="urn:microsoft.com/office/officeart/2005/8/layout/list1"/>
    <dgm:cxn modelId="{F2F7209F-1005-4A98-9EFA-C863BCE4320B}" type="presOf" srcId="{A8DBF2A2-A921-48A5-9635-AB000588FAFF}" destId="{AFC0DC8D-DA42-443C-85E2-B6C24E41AEA6}" srcOrd="0" destOrd="0" presId="urn:microsoft.com/office/officeart/2005/8/layout/list1"/>
    <dgm:cxn modelId="{7A4CF360-357D-44F2-9AAB-B50A7793D6BA}" srcId="{A8DBF2A2-A921-48A5-9635-AB000588FAFF}" destId="{F0E14126-33CB-4D05-95EA-B161DE38AA09}" srcOrd="0" destOrd="0" parTransId="{33274777-C9D8-4E03-A7E6-51980EA03D18}" sibTransId="{B430ACE9-3E46-43A9-9A66-5CAE2CEC3CE2}"/>
    <dgm:cxn modelId="{129F6C8C-A525-4B0F-86C2-3E87D5EBA802}" type="presOf" srcId="{F0E14126-33CB-4D05-95EA-B161DE38AA09}" destId="{F7F76382-67B4-455E-82D5-929139313E03}" srcOrd="0" destOrd="0" presId="urn:microsoft.com/office/officeart/2005/8/layout/list1"/>
    <dgm:cxn modelId="{5A7EE6B3-487B-4B2D-A38F-68E8028C4EED}" srcId="{A8DBF2A2-A921-48A5-9635-AB000588FAFF}" destId="{B133013D-8806-4679-8AB5-E06E97DFD186}" srcOrd="2" destOrd="0" parTransId="{EBE19417-F91E-44F5-8E5F-89B3756B8493}" sibTransId="{D4147E64-C616-4824-994A-2F366DDE6A5C}"/>
    <dgm:cxn modelId="{68159F88-1800-434C-9D20-2408DAEF6E2E}" type="presParOf" srcId="{AFC0DC8D-DA42-443C-85E2-B6C24E41AEA6}" destId="{59699FFF-BFFB-45E1-BA78-3B3AE390486A}" srcOrd="0" destOrd="0" presId="urn:microsoft.com/office/officeart/2005/8/layout/list1"/>
    <dgm:cxn modelId="{1324005F-1B55-49E8-806D-A2387F0B7976}" type="presParOf" srcId="{59699FFF-BFFB-45E1-BA78-3B3AE390486A}" destId="{F7F76382-67B4-455E-82D5-929139313E03}" srcOrd="0" destOrd="0" presId="urn:microsoft.com/office/officeart/2005/8/layout/list1"/>
    <dgm:cxn modelId="{3C0C2AB3-32FD-445B-B3D3-13FB6E970B7E}" type="presParOf" srcId="{59699FFF-BFFB-45E1-BA78-3B3AE390486A}" destId="{FC9CA109-2E36-4DEC-B7F9-F08913D8A92E}" srcOrd="1" destOrd="0" presId="urn:microsoft.com/office/officeart/2005/8/layout/list1"/>
    <dgm:cxn modelId="{9305AB3F-F1AD-4C40-95BA-8472AF00CA47}" type="presParOf" srcId="{AFC0DC8D-DA42-443C-85E2-B6C24E41AEA6}" destId="{1CEDCF92-1EEC-4118-96E9-473AB9E83993}" srcOrd="1" destOrd="0" presId="urn:microsoft.com/office/officeart/2005/8/layout/list1"/>
    <dgm:cxn modelId="{63C85498-A194-4034-9ABF-B58550436556}" type="presParOf" srcId="{AFC0DC8D-DA42-443C-85E2-B6C24E41AEA6}" destId="{6A262514-F779-4FDC-A390-753BE9E35D8F}" srcOrd="2" destOrd="0" presId="urn:microsoft.com/office/officeart/2005/8/layout/list1"/>
    <dgm:cxn modelId="{7BCE00B2-DB21-4C19-A0BC-6342103AAF41}" type="presParOf" srcId="{AFC0DC8D-DA42-443C-85E2-B6C24E41AEA6}" destId="{03ADC6EF-0674-42E4-A9EC-94DE78AAB503}" srcOrd="3" destOrd="0" presId="urn:microsoft.com/office/officeart/2005/8/layout/list1"/>
    <dgm:cxn modelId="{CBF71669-83B6-46FC-A4C3-627CB9E541DD}" type="presParOf" srcId="{AFC0DC8D-DA42-443C-85E2-B6C24E41AEA6}" destId="{06A8FDE2-8429-44BD-A3CE-DF7BECF6912B}" srcOrd="4" destOrd="0" presId="urn:microsoft.com/office/officeart/2005/8/layout/list1"/>
    <dgm:cxn modelId="{F6B651D0-5423-4333-A5E7-ECE1E7DD3322}" type="presParOf" srcId="{06A8FDE2-8429-44BD-A3CE-DF7BECF6912B}" destId="{68F24B74-F1CA-4DE2-A40A-35B0689252D7}" srcOrd="0" destOrd="0" presId="urn:microsoft.com/office/officeart/2005/8/layout/list1"/>
    <dgm:cxn modelId="{3154628D-2FAB-42FE-B15F-E96124C2796B}" type="presParOf" srcId="{06A8FDE2-8429-44BD-A3CE-DF7BECF6912B}" destId="{BD730CE3-8173-4F8F-9C91-1769F054F0D8}" srcOrd="1" destOrd="0" presId="urn:microsoft.com/office/officeart/2005/8/layout/list1"/>
    <dgm:cxn modelId="{752C5916-27BC-4F6B-BE10-E29B5316A1F0}" type="presParOf" srcId="{AFC0DC8D-DA42-443C-85E2-B6C24E41AEA6}" destId="{7E1BDD05-A256-4408-9CFD-ACBAA4660F3B}" srcOrd="5" destOrd="0" presId="urn:microsoft.com/office/officeart/2005/8/layout/list1"/>
    <dgm:cxn modelId="{BACB2A92-395C-49A8-B545-A49943BFFE52}" type="presParOf" srcId="{AFC0DC8D-DA42-443C-85E2-B6C24E41AEA6}" destId="{361DF004-F1C8-4EC5-ADF5-AC5DEACAEB9D}" srcOrd="6" destOrd="0" presId="urn:microsoft.com/office/officeart/2005/8/layout/list1"/>
    <dgm:cxn modelId="{14872703-C704-40D2-B1AD-6C693670343E}" type="presParOf" srcId="{AFC0DC8D-DA42-443C-85E2-B6C24E41AEA6}" destId="{FC3E0785-C284-4178-8018-13B00EAC2335}" srcOrd="7" destOrd="0" presId="urn:microsoft.com/office/officeart/2005/8/layout/list1"/>
    <dgm:cxn modelId="{4B5BCA7F-FA94-4DE2-AE80-504671E094C1}" type="presParOf" srcId="{AFC0DC8D-DA42-443C-85E2-B6C24E41AEA6}" destId="{81B73DE8-EA06-4FA3-B9CD-577E0274FF48}" srcOrd="8" destOrd="0" presId="urn:microsoft.com/office/officeart/2005/8/layout/list1"/>
    <dgm:cxn modelId="{C3E2EC1B-173B-4AC0-A045-8DC10FD3AD4C}" type="presParOf" srcId="{81B73DE8-EA06-4FA3-B9CD-577E0274FF48}" destId="{135F4C44-BA4F-4532-A6A4-E3EEB0DE15D0}" srcOrd="0" destOrd="0" presId="urn:microsoft.com/office/officeart/2005/8/layout/list1"/>
    <dgm:cxn modelId="{220D2C7A-584E-4412-B5D8-D2DE3332E578}" type="presParOf" srcId="{81B73DE8-EA06-4FA3-B9CD-577E0274FF48}" destId="{86F0191C-1B5D-42E6-BAC5-C0605A1F168C}" srcOrd="1" destOrd="0" presId="urn:microsoft.com/office/officeart/2005/8/layout/list1"/>
    <dgm:cxn modelId="{2D86EBD1-2AF9-4FC2-A668-50B684701F61}" type="presParOf" srcId="{AFC0DC8D-DA42-443C-85E2-B6C24E41AEA6}" destId="{3976FEF6-C323-45EC-BC9B-F33D958FEEF1}" srcOrd="9" destOrd="0" presId="urn:microsoft.com/office/officeart/2005/8/layout/list1"/>
    <dgm:cxn modelId="{2A005ED5-EDAD-4039-A79C-7AB7D26A4D84}" type="presParOf" srcId="{AFC0DC8D-DA42-443C-85E2-B6C24E41AEA6}" destId="{88B7B53A-5E2E-405F-A9AC-F5E05DB18AEA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472DA387-CC41-4400-93B7-6E59D3C711EC}" type="presOf" srcId="{61D2A96D-88A5-4341-BCF6-1CCC9BADA3E2}" destId="{AA5106EF-71AD-45CB-A170-EECF8115B8B2}" srcOrd="1" destOrd="0" presId="urn:microsoft.com/office/officeart/2005/8/layout/venn1"/>
    <dgm:cxn modelId="{C075C630-645B-4F14-A2B9-F32ED3ED44F6}" type="presOf" srcId="{77AFAA2F-C8BF-4430-9822-B13FFAE3D850}" destId="{41F7BF90-A85E-4824-80CE-74C1AE03E60E}" srcOrd="1" destOrd="0" presId="urn:microsoft.com/office/officeart/2005/8/layout/venn1"/>
    <dgm:cxn modelId="{47EC6F75-BBEA-4EDA-8787-07B57858F950}" type="presOf" srcId="{77AFAA2F-C8BF-4430-9822-B13FFAE3D850}" destId="{FC1A1904-D602-47D4-B820-56D2379DD5C7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C92C3F78-FC83-4B1A-B20A-2103AE250873}" type="presOf" srcId="{61D2A96D-88A5-4341-BCF6-1CCC9BADA3E2}" destId="{2D9543E5-08FF-427A-9ED7-269A44231FD6}" srcOrd="0" destOrd="0" presId="urn:microsoft.com/office/officeart/2005/8/layout/venn1"/>
    <dgm:cxn modelId="{9F2A0CE7-6D30-4377-A33B-DA92FECBB277}" type="presOf" srcId="{910F7202-A6E2-46A1-8C99-F43AF11B9F23}" destId="{2F472914-90F2-4052-9681-AD082362AD99}" srcOrd="0" destOrd="0" presId="urn:microsoft.com/office/officeart/2005/8/layout/venn1"/>
    <dgm:cxn modelId="{B56AEB19-BDC6-49E7-8A59-9DC19A5CF5F7}" type="presOf" srcId="{51B54BB3-BDED-4033-B091-85E768D2FFE3}" destId="{3F8687FD-4EEA-4834-995E-E3BA3AFC0FAC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2C9D92B3-25BB-45A3-A471-D38BD413B53E}" type="presOf" srcId="{910F7202-A6E2-46A1-8C99-F43AF11B9F23}" destId="{05CE9FEF-5F74-4D8A-8942-85B63E0DCB23}" srcOrd="1" destOrd="0" presId="urn:microsoft.com/office/officeart/2005/8/layout/venn1"/>
    <dgm:cxn modelId="{08E64A8D-0059-4386-8034-A48E8621414C}" type="presParOf" srcId="{3F8687FD-4EEA-4834-995E-E3BA3AFC0FAC}" destId="{2D9543E5-08FF-427A-9ED7-269A44231FD6}" srcOrd="0" destOrd="0" presId="urn:microsoft.com/office/officeart/2005/8/layout/venn1"/>
    <dgm:cxn modelId="{7E68E405-F6F4-471C-A2C8-E2FE4859A7EB}" type="presParOf" srcId="{3F8687FD-4EEA-4834-995E-E3BA3AFC0FAC}" destId="{AA5106EF-71AD-45CB-A170-EECF8115B8B2}" srcOrd="1" destOrd="0" presId="urn:microsoft.com/office/officeart/2005/8/layout/venn1"/>
    <dgm:cxn modelId="{1D5ECBD1-0E8C-48B5-8FCB-5DC52381E980}" type="presParOf" srcId="{3F8687FD-4EEA-4834-995E-E3BA3AFC0FAC}" destId="{2F472914-90F2-4052-9681-AD082362AD99}" srcOrd="2" destOrd="0" presId="urn:microsoft.com/office/officeart/2005/8/layout/venn1"/>
    <dgm:cxn modelId="{B69FCFD2-D50F-49F4-AC17-DB14CAD84C6A}" type="presParOf" srcId="{3F8687FD-4EEA-4834-995E-E3BA3AFC0FAC}" destId="{05CE9FEF-5F74-4D8A-8942-85B63E0DCB23}" srcOrd="3" destOrd="0" presId="urn:microsoft.com/office/officeart/2005/8/layout/venn1"/>
    <dgm:cxn modelId="{F4A16F6B-1A9E-4D93-A406-DF5447F72A81}" type="presParOf" srcId="{3F8687FD-4EEA-4834-995E-E3BA3AFC0FAC}" destId="{FC1A1904-D602-47D4-B820-56D2379DD5C7}" srcOrd="4" destOrd="0" presId="urn:microsoft.com/office/officeart/2005/8/layout/venn1"/>
    <dgm:cxn modelId="{6E1A0E4C-82D8-4AC8-89E1-DB0F69AEB704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D75C4F6-ABA1-4456-A4D3-A85CC9076D74}">
      <dsp:nvSpPr>
        <dsp:cNvPr id="0" name=""/>
        <dsp:cNvSpPr/>
      </dsp:nvSpPr>
      <dsp:spPr>
        <a:xfrm>
          <a:off x="0" y="345588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390857A-CBCF-460B-BFCC-7CFA27166340}">
      <dsp:nvSpPr>
        <dsp:cNvPr id="0" name=""/>
        <dsp:cNvSpPr/>
      </dsp:nvSpPr>
      <dsp:spPr>
        <a:xfrm>
          <a:off x="339495" y="109428"/>
          <a:ext cx="4752934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Muta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</a:t>
          </a:r>
          <a:endParaRPr lang="en-GB" sz="1800" kern="1200" dirty="0"/>
        </a:p>
      </dsp:txBody>
      <dsp:txXfrm>
        <a:off x="339495" y="109428"/>
        <a:ext cx="4752934" cy="472320"/>
      </dsp:txXfrm>
    </dsp:sp>
    <dsp:sp modelId="{C648861C-F83C-45F7-8ECD-C69FF1AD0E6A}">
      <dsp:nvSpPr>
        <dsp:cNvPr id="0" name=""/>
        <dsp:cNvSpPr/>
      </dsp:nvSpPr>
      <dsp:spPr>
        <a:xfrm>
          <a:off x="0" y="107679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E11C2A3-1D5A-427E-8B04-C82768B4C80D}">
      <dsp:nvSpPr>
        <dsp:cNvPr id="0" name=""/>
        <dsp:cNvSpPr/>
      </dsp:nvSpPr>
      <dsp:spPr>
        <a:xfrm>
          <a:off x="339495" y="835188"/>
          <a:ext cx="6358000" cy="477765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Carcino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, </a:t>
          </a:r>
          <a:r>
            <a:rPr lang="fr-BE" sz="1800" kern="1200" dirty="0" err="1" smtClean="0"/>
            <a:t>unles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exposure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i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negligible</a:t>
          </a:r>
          <a:endParaRPr lang="en-GB" sz="1800" kern="1200" dirty="0"/>
        </a:p>
      </dsp:txBody>
      <dsp:txXfrm>
        <a:off x="339495" y="835188"/>
        <a:ext cx="6358000" cy="477765"/>
      </dsp:txXfrm>
    </dsp:sp>
    <dsp:sp modelId="{87B94BE6-2230-4F4E-ACA0-FACE4420F553}">
      <dsp:nvSpPr>
        <dsp:cNvPr id="0" name=""/>
        <dsp:cNvSpPr/>
      </dsp:nvSpPr>
      <dsp:spPr>
        <a:xfrm>
          <a:off x="0" y="180255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12012C3-7030-47F7-BC74-238CAAC2795D}">
      <dsp:nvSpPr>
        <dsp:cNvPr id="0" name=""/>
        <dsp:cNvSpPr/>
      </dsp:nvSpPr>
      <dsp:spPr>
        <a:xfrm>
          <a:off x="338500" y="1566394"/>
          <a:ext cx="6447517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600" kern="1200" dirty="0" smtClean="0"/>
            <a:t>Reproductive </a:t>
          </a:r>
          <a:r>
            <a:rPr lang="fr-BE" sz="1600" kern="1200" dirty="0" err="1" smtClean="0"/>
            <a:t>toxicant</a:t>
          </a:r>
          <a:r>
            <a:rPr lang="fr-BE" sz="1600" kern="1200" dirty="0" smtClean="0"/>
            <a:t>, </a:t>
          </a:r>
          <a:r>
            <a:rPr lang="fr-BE" sz="1600" kern="1200" dirty="0" err="1" smtClean="0"/>
            <a:t>category</a:t>
          </a:r>
          <a:r>
            <a:rPr lang="fr-BE" sz="1600" kern="1200" dirty="0" smtClean="0"/>
            <a:t> 1A or 1B, </a:t>
          </a:r>
          <a:r>
            <a:rPr lang="fr-BE" sz="1600" kern="1200" dirty="0" err="1" smtClean="0"/>
            <a:t>unles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exposure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i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negligible</a:t>
          </a:r>
          <a:endParaRPr lang="en-GB" sz="1600" kern="1200" dirty="0"/>
        </a:p>
      </dsp:txBody>
      <dsp:txXfrm>
        <a:off x="338500" y="1566394"/>
        <a:ext cx="6447517" cy="472320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01263A9-D399-4B13-8816-ADEB5967AD51}">
      <dsp:nvSpPr>
        <dsp:cNvPr id="0" name=""/>
        <dsp:cNvSpPr/>
      </dsp:nvSpPr>
      <dsp:spPr>
        <a:xfrm>
          <a:off x="305469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err="1" smtClean="0"/>
            <a:t>Shall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05469" y="7"/>
        <a:ext cx="2437804" cy="1218902"/>
      </dsp:txXfrm>
    </dsp:sp>
    <dsp:sp modelId="{9AC9908F-424F-4320-AA3B-B39B5D131577}">
      <dsp:nvSpPr>
        <dsp:cNvPr id="0" name=""/>
        <dsp:cNvSpPr/>
      </dsp:nvSpPr>
      <dsp:spPr>
        <a:xfrm>
          <a:off x="549250" y="1218910"/>
          <a:ext cx="172674" cy="89472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894723"/>
              </a:lnTo>
              <a:lnTo>
                <a:pt x="172674" y="894723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4773DFE-85A6-466E-A01B-EF0365B084D6}">
      <dsp:nvSpPr>
        <dsp:cNvPr id="0" name=""/>
        <dsp:cNvSpPr/>
      </dsp:nvSpPr>
      <dsp:spPr>
        <a:xfrm>
          <a:off x="721924" y="1504182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arc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1504182"/>
        <a:ext cx="1950243" cy="1218902"/>
      </dsp:txXfrm>
    </dsp:sp>
    <dsp:sp modelId="{7EDD9BF1-1E8F-4260-84C7-F8D572574EC7}">
      <dsp:nvSpPr>
        <dsp:cNvPr id="0" name=""/>
        <dsp:cNvSpPr/>
      </dsp:nvSpPr>
      <dsp:spPr>
        <a:xfrm>
          <a:off x="549250" y="1218910"/>
          <a:ext cx="172674" cy="243781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12"/>
              </a:lnTo>
              <a:lnTo>
                <a:pt x="172674" y="2437812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C5C3C56-BDE7-4D7E-A3D0-9B2AF40E4D4E}">
      <dsp:nvSpPr>
        <dsp:cNvPr id="0" name=""/>
        <dsp:cNvSpPr/>
      </dsp:nvSpPr>
      <dsp:spPr>
        <a:xfrm>
          <a:off x="721924" y="3047271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3047271"/>
        <a:ext cx="1950243" cy="1218902"/>
      </dsp:txXfrm>
    </dsp:sp>
    <dsp:sp modelId="{8D788A8C-E2C1-4DE4-A697-41FA34FE66C6}">
      <dsp:nvSpPr>
        <dsp:cNvPr id="0" name=""/>
        <dsp:cNvSpPr/>
      </dsp:nvSpPr>
      <dsp:spPr>
        <a:xfrm>
          <a:off x="3352725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smtClean="0"/>
            <a:t>May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352725" y="7"/>
        <a:ext cx="2437804" cy="1218902"/>
      </dsp:txXfrm>
    </dsp:sp>
    <dsp:sp modelId="{2F7D2BE8-39C2-4A0F-BB3E-BE4FE53A8B0B}">
      <dsp:nvSpPr>
        <dsp:cNvPr id="0" name=""/>
        <dsp:cNvSpPr/>
      </dsp:nvSpPr>
      <dsp:spPr>
        <a:xfrm>
          <a:off x="3596506" y="1218910"/>
          <a:ext cx="243780" cy="91417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914176"/>
              </a:lnTo>
              <a:lnTo>
                <a:pt x="243780" y="914176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41A7DC8-8F3A-4410-98C1-14D38BF69458}">
      <dsp:nvSpPr>
        <dsp:cNvPr id="0" name=""/>
        <dsp:cNvSpPr/>
      </dsp:nvSpPr>
      <dsp:spPr>
        <a:xfrm>
          <a:off x="3840286" y="1523635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3840286" y="1523635"/>
        <a:ext cx="1950243" cy="1218902"/>
      </dsp:txXfrm>
    </dsp:sp>
    <dsp:sp modelId="{701446E9-4A89-408A-97AB-A54105575F08}">
      <dsp:nvSpPr>
        <dsp:cNvPr id="0" name=""/>
        <dsp:cNvSpPr/>
      </dsp:nvSpPr>
      <dsp:spPr>
        <a:xfrm>
          <a:off x="3596506" y="1218910"/>
          <a:ext cx="243780" cy="2437804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04"/>
              </a:lnTo>
              <a:lnTo>
                <a:pt x="243780" y="2437804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0391250-BDAD-4F4E-8904-083B387302D4}">
      <dsp:nvSpPr>
        <dsp:cNvPr id="0" name=""/>
        <dsp:cNvSpPr/>
      </dsp:nvSpPr>
      <dsp:spPr>
        <a:xfrm>
          <a:off x="3840286" y="3047263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Tox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ffects</a:t>
          </a:r>
          <a:r>
            <a:rPr lang="fr-BE" sz="2400" kern="1200" dirty="0" smtClean="0"/>
            <a:t> on endocrine </a:t>
          </a:r>
          <a:r>
            <a:rPr lang="fr-BE" sz="2400" kern="1200" dirty="0" err="1" smtClean="0"/>
            <a:t>organs</a:t>
          </a:r>
          <a:endParaRPr lang="en-GB" sz="2400" kern="1200" dirty="0"/>
        </a:p>
      </dsp:txBody>
      <dsp:txXfrm>
        <a:off x="3840286" y="3047263"/>
        <a:ext cx="1950243" cy="1218902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A262514-F779-4FDC-A390-753BE9E35D8F}">
      <dsp:nvSpPr>
        <dsp:cNvPr id="0" name=""/>
        <dsp:cNvSpPr/>
      </dsp:nvSpPr>
      <dsp:spPr>
        <a:xfrm>
          <a:off x="0" y="46401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C9CA109-2E36-4DEC-B7F9-F08913D8A92E}">
      <dsp:nvSpPr>
        <dsp:cNvPr id="0" name=""/>
        <dsp:cNvSpPr/>
      </dsp:nvSpPr>
      <dsp:spPr>
        <a:xfrm>
          <a:off x="335671" y="645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Biological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thresholds</a:t>
          </a:r>
          <a:r>
            <a:rPr lang="fr-BE" sz="2400" kern="1200" dirty="0" smtClean="0"/>
            <a:t> and </a:t>
          </a:r>
          <a:r>
            <a:rPr lang="fr-BE" sz="2400" kern="1200" dirty="0" err="1" smtClean="0"/>
            <a:t>criteria</a:t>
          </a:r>
          <a:r>
            <a:rPr lang="fr-BE" sz="2400" kern="1200" dirty="0" smtClean="0"/>
            <a:t> for </a:t>
          </a:r>
          <a:r>
            <a:rPr lang="fr-BE" sz="2400" kern="1200" dirty="0" err="1" smtClean="0"/>
            <a:t>adversity</a:t>
          </a:r>
          <a:r>
            <a:rPr lang="fr-BE" sz="2400" kern="1200" dirty="0" smtClean="0"/>
            <a:t> vs </a:t>
          </a:r>
          <a:r>
            <a:rPr lang="fr-BE" sz="2400" kern="1200" dirty="0" err="1" smtClean="0"/>
            <a:t>physiological</a:t>
          </a:r>
          <a:r>
            <a:rPr lang="fr-BE" sz="2400" kern="1200" dirty="0" smtClean="0"/>
            <a:t> modulation/ </a:t>
          </a:r>
          <a:r>
            <a:rPr lang="fr-BE" sz="2400" kern="1200" dirty="0" err="1" smtClean="0"/>
            <a:t>homeostat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responses</a:t>
          </a:r>
          <a:endParaRPr lang="en-GB" sz="2400" kern="1200" dirty="0"/>
        </a:p>
      </dsp:txBody>
      <dsp:txXfrm>
        <a:off x="335671" y="6459"/>
        <a:ext cx="6713431" cy="915120"/>
      </dsp:txXfrm>
    </dsp:sp>
    <dsp:sp modelId="{361DF004-F1C8-4EC5-ADF5-AC5DEACAEB9D}">
      <dsp:nvSpPr>
        <dsp:cNvPr id="0" name=""/>
        <dsp:cNvSpPr/>
      </dsp:nvSpPr>
      <dsp:spPr>
        <a:xfrm>
          <a:off x="0" y="187017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D730CE3-8173-4F8F-9C91-1769F054F0D8}">
      <dsp:nvSpPr>
        <dsp:cNvPr id="0" name=""/>
        <dsp:cNvSpPr/>
      </dsp:nvSpPr>
      <dsp:spPr>
        <a:xfrm>
          <a:off x="335671" y="141261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ombined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xposure</a:t>
          </a:r>
          <a:r>
            <a:rPr lang="fr-BE" sz="2400" kern="1200" dirty="0" smtClean="0"/>
            <a:t> to multiple substances</a:t>
          </a:r>
          <a:endParaRPr lang="en-GB" sz="2400" kern="1200" dirty="0"/>
        </a:p>
      </dsp:txBody>
      <dsp:txXfrm>
        <a:off x="335671" y="1412619"/>
        <a:ext cx="6713431" cy="915120"/>
      </dsp:txXfrm>
    </dsp:sp>
    <dsp:sp modelId="{88B7B53A-5E2E-405F-A9AC-F5E05DB18AEA}">
      <dsp:nvSpPr>
        <dsp:cNvPr id="0" name=""/>
        <dsp:cNvSpPr/>
      </dsp:nvSpPr>
      <dsp:spPr>
        <a:xfrm>
          <a:off x="0" y="3276340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86F0191C-1B5D-42E6-BAC5-C0605A1F168C}">
      <dsp:nvSpPr>
        <dsp:cNvPr id="0" name=""/>
        <dsp:cNvSpPr/>
      </dsp:nvSpPr>
      <dsp:spPr>
        <a:xfrm>
          <a:off x="341868" y="2818780"/>
          <a:ext cx="6705177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smtClean="0"/>
            <a:t>Non-</a:t>
          </a:r>
          <a:r>
            <a:rPr lang="fr-BE" sz="2400" kern="1200" dirty="0" err="1" smtClean="0"/>
            <a:t>monotonic</a:t>
          </a:r>
          <a:r>
            <a:rPr lang="fr-BE" sz="2400" kern="1200" dirty="0" smtClean="0"/>
            <a:t> dose </a:t>
          </a:r>
          <a:r>
            <a:rPr lang="fr-BE" sz="2400" kern="1200" dirty="0" err="1" smtClean="0"/>
            <a:t>response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curves</a:t>
          </a:r>
          <a:endParaRPr lang="en-GB" sz="2400" kern="1200" dirty="0"/>
        </a:p>
      </dsp:txBody>
      <dsp:txXfrm>
        <a:off x="341868" y="2818780"/>
        <a:ext cx="6705177" cy="9151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ierarchy3">
  <dgm:title val=""/>
  <dgm:desc val=""/>
  <dgm:catLst>
    <dgm:cat type="hierarchy" pri="7000"/>
    <dgm:cat type="list" pri="23000"/>
    <dgm:cat type="relationship" pri="15000"/>
    <dgm:cat type="convert" pri="7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4" srcId="0" destId="1" srcOrd="0" destOrd="0"/>
        <dgm:cxn modelId="5" srcId="1" destId="11" srcOrd="0" destOrd="0"/>
        <dgm:cxn modelId="6" srcId="1" destId="12" srcOrd="1" destOrd="0"/>
        <dgm:cxn modelId="7" srcId="0" destId="2" srcOrd="1" destOrd="0"/>
        <dgm:cxn modelId="8" srcId="2" destId="21" srcOrd="0" destOrd="0"/>
        <dgm:cxn modelId="9" srcId="2" destId="2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diagram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forName="rootText" op="equ" val="65"/>
      <dgm:constr type="primFontSz" for="des" forName="childText" op="equ" val="65"/>
      <dgm:constr type="w" for="des" forName="rootComposite" refType="w"/>
      <dgm:constr type="h" for="des" forName="rootComposite" refType="w" fact="0.5"/>
      <dgm:constr type="w" for="des" forName="childText" refType="w" refFor="des" refForName="rootComposite" fact="0.8"/>
      <dgm:constr type="h" for="des" forName="childText" refType="h" refFor="des" refForName="rootComposite"/>
      <dgm:constr type="sibSp" refType="w" refFor="des" refForName="rootComposite" fact="0.25"/>
      <dgm:constr type="sibSp" for="des" forName="childShape" refType="h" refFor="des" refForName="childText" fact="0.25"/>
      <dgm:constr type="sp" for="des" forName="root" refType="h" refFor="des" refForName="childText" fact="0.25"/>
    </dgm:constrLst>
    <dgm:ruleLst/>
    <dgm:forEach name="Name3" axis="ch">
      <dgm:forEach name="Name4" axis="self" ptType="node" cnt="1">
        <dgm:layoutNode name="root">
          <dgm:choose name="Name5">
            <dgm:if name="Name6" func="var" arg="dir" op="equ" val="norm">
              <dgm:alg type="hierRoot">
                <dgm:param type="hierAlign" val="tL"/>
              </dgm:alg>
            </dgm:if>
            <dgm:else name="Name7">
              <dgm:alg type="hierRoot">
                <dgm:param type="hierAlign" val="tR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>
            <dgm:constr type="alignOff" val="0.2"/>
          </dgm:constrLst>
          <dgm:ruleLst/>
          <dgm:layoutNode name="rootComposite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8">
              <dgm:if name="Name9" func="var" arg="dir" op="equ" val="norm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l" for="ch" forName="rootConnector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if>
              <dgm:else name="Name10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r" for="ch" forName="rootConnector" refType="w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else>
            </dgm:choose>
            <dgm:ruleLst/>
            <dgm:layoutNode name="rootText" styleLbl="node1"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 ptType="node" cnt="1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rootConnector" moveWith="rootText">
              <dgm:alg type="sp"/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self" ptType="node" cnt="1"/>
              <dgm:constrLst/>
              <dgm:ruleLst/>
            </dgm:layoutNode>
          </dgm:layoutNode>
          <dgm:layoutNode name="childShape">
            <dgm:alg type="hierChild">
              <dgm:param type="chAlign" val="l"/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11" axis="ch">
              <dgm:forEach name="Name12" axis="self" ptType="parTrans" cnt="1">
                <dgm:layoutNode name="Name13">
                  <dgm:choose name="Name14">
                    <dgm:if name="Name15" func="var" arg="dir" op="equ" val="norm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L"/>
                      </dgm:alg>
                    </dgm:if>
                    <dgm:else name="Name16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R"/>
                      </dgm:alg>
                    </dgm:else>
                  </dgm:choose>
                  <dgm:shape xmlns:r="http://schemas.openxmlformats.org/officeDocument/2006/relationships" type="conn" r:blip="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7" axis="self" ptType="node">
                <dgm:layoutNode name="childText" styleLbl="bgAcc1">
                  <dgm:varLst>
                    <dgm:bulletEnabled val="1"/>
                  </dgm:varLst>
                  <dgm:alg type="tx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self desOrSelf" ptType="node node" st="1 1" cnt="1 0"/>
                  <dgm:constrLst>
                    <dgm:constr type="tMarg" refType="primFontSz" fact="0.1"/>
                    <dgm:constr type="bMarg" refType="primFontSz" fact="0.1"/>
                    <dgm:constr type="lMarg" refType="primFontSz" fact="0.15"/>
                    <dgm:constr type="rMarg" refType="primFontSz" fact="0.15"/>
                  </dgm:constrLst>
                  <dgm:ruleLst>
                    <dgm:rule type="primFontSz" val="5" fact="NaN" max="NaN"/>
                  </dgm:ruleLst>
                </dgm:layoutNode>
              </dgm:forEach>
            </dgm:forEach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" descr="140259-EFSA_PPTemplate_v8-home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487680" y="3686040"/>
            <a:ext cx="4597200" cy="407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171796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171796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2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093693F5-96C3-41D7-85EB-A13532A3CF9E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7314840" cy="40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2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Second level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Third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our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if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86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87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CE03A516-8A10-4DA8-AF5F-049D4993C791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5049360" y="2273760"/>
            <a:ext cx="356076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approval_active_substances/guideline_documents_en.htm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132.htm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-lex.europa.eu/LexUriServ/LexUriServ.do?uri=CELEX:32013R0283:EN:NOT" TargetMode="External"/><Relationship Id="rId2" Type="http://schemas.openxmlformats.org/officeDocument/2006/relationships/hyperlink" Target="http://eur-lex.europa.eu/LexUriServ/LexUriServ.do?uri=CELEX:32013R0284:EN:NOT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5"/>
          </p:nvPr>
        </p:nvSpPr>
        <p:spPr>
          <a:xfrm>
            <a:off x="3487680" y="3686040"/>
            <a:ext cx="459720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Toxicology Team – Pesticide Un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Parma, 10</a:t>
            </a:r>
            <a:r>
              <a:rPr b="0" lang="en-GB" sz="1900" spc="-1" strike="noStrike" baseline="30000">
                <a:solidFill>
                  <a:srgbClr val="de7008"/>
                </a:solidFill>
                <a:latin typeface="Verdana"/>
                <a:ea typeface="ＭＳ Ｐゴシック"/>
              </a:rPr>
              <a:t>th</a:t>
            </a: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 October 201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BE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Visit of the Brazilian deleg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6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Pest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mmalian Toxi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95280" y="1556280"/>
            <a:ext cx="7279200" cy="47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PPR (2012): dermal absor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13): technical equivalenc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03): assessment of the relevance of groundwater metabolit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2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ec.europa.eu/food/plant/pesticides/approval_active_substances/guideline_documents_en.htm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Guidance docum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Regulation 1107/2009/EC: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2792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-reviewed open literature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of EFSA on the submission of scientific peer-reviewed open literature for the approval of pesticide active substances under Regulation (EC) No 1107/2009 (EFSA Journal 2011; 9(2):2092)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: criteria for approva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&amp;L is not  within the remit of EFSA,  but proposals are made in accordance with the provisions of Regulation (EC) No 1272/2008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3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ssues impacting on Mammalian tox</a:t>
            </a:r>
            <a:endParaRPr b="0" lang="en-GB" sz="23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1945440"/>
            <a:ext cx="7279200" cy="17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 active substance shall only be approved if on the basis of testing and of scientific literature, reviewed by EFSA, it is not or has not to be classified a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67480" y="1342440"/>
            <a:ext cx="7407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6340566"/>
              </p:ext>
            </p:extLst>
          </p:nvPr>
        </p:nvGraphicFramePr>
        <p:xfrm>
          <a:off x="1439640" y="3774240"/>
          <a:ext cx="6789600" cy="231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295280" y="2315160"/>
            <a:ext cx="7279200" cy="40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d it is not considered to have endocrine disruption properties, unless exposure is negligibl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terim measures have been adopted in the legislation for the assessment of endocrine disrupting proper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155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2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2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760015341"/>
              </p:ext>
            </p:extLst>
          </p:nvPr>
        </p:nvGraphicFramePr>
        <p:xfrm>
          <a:off x="1523880" y="2071800"/>
          <a:ext cx="6095520" cy="4265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Scientific Committee (2013)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cientific Opinion on the hazard assessment of endocrine disruptors and appropriateness of existing test methods for assessing effects mediated by these substances on human health and the environme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8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www.efsa.europa.eu/en/efsajournal/pub/3132.htm</a:t>
            </a: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Criteria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activity, adversity of effects, plausible link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methods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standardised assays are only available for the EATS modalities (oestrogen, androgen, thyroid or steroidogenesis) relevant for mammals and fish, with fewer tests available for birds and amphibians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strategy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OECD Conceptual Framework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1: existing data and non-test informat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2: selected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tr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mechanistic/mode of action test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3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lective endocrine mechanistic screening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4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pical tests (for adverse effects) which include endocrine relevant endpoi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5: more comprehensive data over more extensive parts of the life cycl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2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open issu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2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12043769"/>
              </p:ext>
            </p:extLst>
          </p:nvPr>
        </p:nvGraphicFramePr>
        <p:xfrm>
          <a:off x="1523880" y="2273760"/>
          <a:ext cx="705060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2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5280" y="1984320"/>
            <a:ext cx="72792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flects the view of EFSA on the basis of the peer review process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mmarises the hazard and risk assessment of the active substance including non-consumer exposur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whether residues/metabolites/ impurities found in other sections should be considered releva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data gaps and critical areas of concer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2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2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Other activiti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pport to the PPR and MRL groups in the Pesticide Unit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639471396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5" name="PlaceHolder 3"/>
          <p:cNvSpPr>
            <a:spLocks noGrp="1"/>
          </p:cNvSpPr>
          <p:nvPr>
            <p:ph type="ftr" idx="2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RAS Unit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94943207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38" name="PlaceHolder 3"/>
          <p:cNvSpPr>
            <a:spLocks noGrp="1"/>
          </p:cNvSpPr>
          <p:nvPr>
            <p:ph type="ftr" idx="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eer Review Group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hys-chem team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1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sidues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3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ate and behaviour team 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4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o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5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ordination team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BE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What we do ?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the initial pesticide risk assessment (DAR) performed by the RMS in the field of mammalian toxicology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in task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mment on the B.6. of the DAR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view RMS and Applicant’ replies to EFSA and MS’ comments to the DAR.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-chairing of expert meetings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conclusions: section 2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95280" y="1478520"/>
            <a:ext cx="72792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gislation (data requirements): 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active substances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Regulation EU 283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the product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2"/>
              </a:rPr>
              <a:t>Regulation EU 284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95280" y="3443760"/>
            <a:ext cx="731484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DME stud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including eye and skin irritation and skin sensitis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hort-term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en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ong-term toxicity and carcinogenesi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95280" y="1342440"/>
            <a:ext cx="7279200" cy="50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productive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eur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studies: metabolites, immunotoxicity, endocrine disruption, mechanistic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edical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tting of health-based reference valu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sumer: ADI and ARfD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: AO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95280" y="1848240"/>
            <a:ext cx="727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with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Dermal absorption to the active substance in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 exposure to the active substance in the representative formulation and representative us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perator, worker, bystander and resid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  <Words>963</Words>
  <Paragraphs>184</Paragraphs>
  <Company>EFS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08:58:45Z</dcterms:created>
  <dc:creator>kleinjo</dc:creator>
  <dc:description/>
  <dc:language>en-US</dc:language>
  <cp:lastModifiedBy>istacfr</cp:lastModifiedBy>
  <dcterms:modified xsi:type="dcterms:W3CDTF">2014-10-09T14:35:46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4</vt:r8>
  </property>
</Properties>
</file>