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Num" idx="5"/>
          </p:nvPr>
        </p:nvSpPr>
        <p:spPr>
          <a:xfrm>
            <a:off x="6442200" y="9480600"/>
            <a:ext cx="279360" cy="1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09B4B23-87FF-49F2-A0F5-04732B16415B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ldImg"/>
          </p:nvPr>
        </p:nvSpPr>
        <p:spPr>
          <a:xfrm>
            <a:off x="-2206800" y="318600"/>
            <a:ext cx="12103200" cy="8379000"/>
          </a:xfrm>
          <a:prstGeom prst="rect">
            <a:avLst/>
          </a:prstGeom>
          <a:noFill/>
          <a:ln w="38160">
            <a:solidFill>
              <a:srgbClr val="00000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body"/>
          </p:nvPr>
        </p:nvSpPr>
        <p:spPr>
          <a:xfrm>
            <a:off x="55440" y="271440"/>
            <a:ext cx="84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6"/>
          </p:nvPr>
        </p:nvSpPr>
        <p:spPr>
          <a:xfrm>
            <a:off x="55080" y="9315360"/>
            <a:ext cx="630360" cy="3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baua_vorlagen.pp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-209520" y="9482760"/>
            <a:ext cx="1160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1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1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-2208240" y="318960"/>
            <a:ext cx="12103200" cy="837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55440" y="271440"/>
            <a:ext cx="849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itel/Logo +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D-Far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-209520" y="9482760"/>
            <a:ext cx="1160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1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1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-2206800" y="318960"/>
            <a:ext cx="12103200" cy="837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55440" y="271440"/>
            <a:ext cx="849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-209520" y="9482760"/>
            <a:ext cx="1160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1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1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-2206800" y="318960"/>
            <a:ext cx="12103200" cy="837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55440" y="271440"/>
            <a:ext cx="849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9DF68-0296-4983-89CA-8A7A151C0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7544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59200"/>
            <a:ext cx="797544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7C139-4AC4-40CC-95C4-6E8A16E61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5920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2880" y="385920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5B3C5-039B-4B55-9ABB-420A1703D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82560" y="175212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8960" y="175212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5920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82560" y="385920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8960" y="385920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A305B-109F-4D6C-B296-D65327545C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A715C-D52E-4C24-B681-60C43E5E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9754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936D6-7B58-46B2-B751-CC2C5044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754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941F5-04D1-4544-B3A8-B276122F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2E9DB-F212-4F48-8736-A8EE01C5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C6CEC-6295-44AA-B1A3-5981FB5B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52240" y="433440"/>
            <a:ext cx="880092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006E1-C053-462B-9FE2-31A19DD5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5920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7C879-1F64-40C7-B3DA-11664F4A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9754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E0699-1300-469C-98FB-97594EFECF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72880" y="385920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0C513-003F-473E-905E-472C94DB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59200"/>
            <a:ext cx="797544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EA9AC-0049-4F3B-A12B-EAAE25E8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7544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859200"/>
            <a:ext cx="797544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02D24-28BF-44D4-96CA-DF0C568B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85920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72880" y="385920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2C705-17E3-46A3-9B9F-D85837F2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82560" y="175212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78960" y="175212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85920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82560" y="385920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78960" y="385920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A4EE8-4559-47FA-BF0B-480A70F2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754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2399F-8157-4F06-A535-B5AC9E9AE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B4D0-0920-4F6D-A9B3-1283CC8A0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E3227-29B7-4469-8B99-F87C56F7A6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52240" y="433440"/>
            <a:ext cx="880092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DA624-F177-424C-AA07-89E633359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5920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19FC2-3D8D-479E-A486-866FC3207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2880" y="385920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CA6C5-3884-466D-932D-0C860F7B5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59200"/>
            <a:ext cx="797544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63A7E-2816-4892-937B-0EE4CDF10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e7f6"/>
            </a:gs>
            <a:gs pos="50000">
              <a:srgbClr val="feffff"/>
            </a:gs>
            <a:gs pos="100000">
              <a:srgbClr val="dee7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6300720"/>
            <a:ext cx="990612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9754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Line 22"/>
          <p:cNvSpPr/>
          <p:nvPr/>
        </p:nvSpPr>
        <p:spPr>
          <a:xfrm>
            <a:off x="0" y="6305400"/>
            <a:ext cx="9906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4" name="Picture 23" descr="logo_baua_pp"/>
          <p:cNvPicPr/>
          <p:nvPr/>
        </p:nvPicPr>
        <p:blipFill>
          <a:blip r:embed="rId2"/>
          <a:srcRect l="4945" t="12841" r="6593" b="23925"/>
          <a:stretch/>
        </p:blipFill>
        <p:spPr>
          <a:xfrm>
            <a:off x="7458120" y="6367320"/>
            <a:ext cx="1968480" cy="378000"/>
          </a:xfrm>
          <a:prstGeom prst="rect">
            <a:avLst/>
          </a:prstGeom>
          <a:ln w="0">
            <a:noFill/>
          </a:ln>
        </p:spPr>
      </p:pic>
      <p:sp>
        <p:nvSpPr>
          <p:cNvPr id="5" name="Rectangle 3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Text Box 34"/>
          <p:cNvSpPr/>
          <p:nvPr/>
        </p:nvSpPr>
        <p:spPr>
          <a:xfrm>
            <a:off x="2447280" y="6477120"/>
            <a:ext cx="47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34960" indent="-1434960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Dortmund , 10.April 2013</a:t>
            </a:r>
            <a:r>
              <a:rPr b="0" lang="de-DE" sz="1200" spc="-1" strike="noStrike">
                <a:solidFill>
                  <a:srgbClr val="2e59a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Text Box 43"/>
          <p:cNvSpPr/>
          <p:nvPr/>
        </p:nvSpPr>
        <p:spPr>
          <a:xfrm>
            <a:off x="746280" y="628164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50760" y="6533640"/>
            <a:ext cx="635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7B57-2836-40D4-BE3F-C3A5C95E40F7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e7f6"/>
            </a:gs>
            <a:gs pos="50000">
              <a:srgbClr val="feffff"/>
            </a:gs>
            <a:gs pos="100000">
              <a:srgbClr val="dee7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6"/>
          <p:cNvSpPr/>
          <p:nvPr/>
        </p:nvSpPr>
        <p:spPr>
          <a:xfrm>
            <a:off x="0" y="417600"/>
            <a:ext cx="9906120" cy="346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6305400"/>
            <a:ext cx="990612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0" y="6305400"/>
            <a:ext cx="9906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48" name="Picture 19" descr="logo_baua_Title"/>
          <p:cNvPicPr/>
          <p:nvPr/>
        </p:nvPicPr>
        <p:blipFill>
          <a:blip r:embed="rId2">
            <a:lum contrast="6000"/>
          </a:blip>
          <a:srcRect l="4980" t="0" r="3992" b="0"/>
          <a:stretch/>
        </p:blipFill>
        <p:spPr>
          <a:xfrm>
            <a:off x="973080" y="1004760"/>
            <a:ext cx="8008920" cy="26035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9754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2"/>
          </p:nvPr>
        </p:nvSpPr>
        <p:spPr>
          <a:xfrm rot="16200000">
            <a:off x="-108720" y="5506200"/>
            <a:ext cx="7174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9ECB-4F33-4177-9810-5A8D5CB0171B}" type="datetime"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3"/>
          </p:nvPr>
        </p:nvSpPr>
        <p:spPr>
          <a:xfrm>
            <a:off x="974520" y="6426360"/>
            <a:ext cx="45622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040"/>
                </a:solidFill>
                <a:latin typeface="Times New Roman"/>
              </a:rPr>
              <a:t>baua Musters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4"/>
          </p:nvPr>
        </p:nvSpPr>
        <p:spPr>
          <a:xfrm>
            <a:off x="209160" y="6547680"/>
            <a:ext cx="4078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0434-1203-4AC0-A6B6-C0706E0E984B}" type="slidenum">
              <a:rPr b="0" lang="de-DE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525600" y="3446640"/>
            <a:ext cx="8899560" cy="2389320"/>
          </a:xfrm>
          <a:prstGeom prst="roundRect">
            <a:avLst>
              <a:gd name="adj" fmla="val 16667"/>
            </a:avLst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German Competent Authority – Dossier Evaluation work </a:t>
            </a:r>
            <a:br>
              <a:rPr sz="2200"/>
            </a:b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ortmund, 10. April 2013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r. Dana Rühl</a:t>
            </a:r>
            <a:br>
              <a:rPr sz="20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ederal Office for Chemicals/Authorisation of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Biocide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6304-AF0D-42D8-B0DA-12560B800A50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valuation - Compliance Check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952520" y="1294920"/>
            <a:ext cx="44197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10000"/>
              </a:lnSpc>
              <a:spcAft>
                <a:spcPts val="675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Registrants commenting period (30 d) to react on the draft decision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675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Analysing submitted Comments can lead to close the compliance check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675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commenting period of the Member States (MS) is 30 day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675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If a MS decides to amend the Draft Decision it needs to be referred to the Member States Committee to seek for Agreement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46" name="Picture 4" descr="Erläuterung_Eng"/>
          <p:cNvPicPr/>
          <p:nvPr/>
        </p:nvPicPr>
        <p:blipFill>
          <a:blip r:embed="rId1"/>
          <a:stretch/>
        </p:blipFill>
        <p:spPr>
          <a:xfrm>
            <a:off x="8381880" y="5338800"/>
            <a:ext cx="1276560" cy="860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DossierEV_CCH_DD_2_Eng Kopie"/>
          <p:cNvPicPr/>
          <p:nvPr/>
        </p:nvPicPr>
        <p:blipFill>
          <a:blip r:embed="rId2"/>
          <a:stretch/>
        </p:blipFill>
        <p:spPr>
          <a:xfrm>
            <a:off x="685800" y="1219320"/>
            <a:ext cx="400536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1DD6-93CA-4277-94EA-91270CD4B25D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orkflow – DE-CA Commenting period [1]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1620720" y="1463760"/>
            <a:ext cx="1656000" cy="720720"/>
          </a:xfrm>
          <a:prstGeom prst="roundRect">
            <a:avLst>
              <a:gd name="adj" fmla="val 16667"/>
            </a:avLst>
          </a:prstGeom>
          <a:solidFill>
            <a:srgbClr val="8ca3c0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raft Decision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4038480" y="144792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8ca3c0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Administration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4114800" y="2590920"/>
            <a:ext cx="1655640" cy="720720"/>
          </a:xfrm>
          <a:prstGeom prst="roundRect">
            <a:avLst>
              <a:gd name="adj" fmla="val 16667"/>
            </a:avLst>
          </a:prstGeom>
          <a:solidFill>
            <a:srgbClr val="99cc00">
              <a:alpha val="25000"/>
            </a:srgbClr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Coordination fo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Dossier Evaluation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(3 Persons)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5867280" y="3927600"/>
            <a:ext cx="165600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uman Health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Worke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osure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BAuA FB4,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ortmund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2362320" y="3927600"/>
            <a:ext cx="165564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afety-relevant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BAM, Berlin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cxnSp>
        <p:nvCxnSpPr>
          <p:cNvPr id="155" name="AutoShape 8"/>
          <p:cNvCxnSpPr>
            <a:stCxn id="150" idx="3"/>
          </p:cNvCxnSpPr>
          <p:nvPr/>
        </p:nvCxnSpPr>
        <p:spPr>
          <a:xfrm>
            <a:off x="3286080" y="1823760"/>
            <a:ext cx="753120" cy="5400"/>
          </a:xfrm>
          <a:prstGeom prst="straightConnector1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</p:cxnSp>
      <p:cxnSp>
        <p:nvCxnSpPr>
          <p:cNvPr id="156" name="AutoShape 9"/>
          <p:cNvCxnSpPr>
            <a:stCxn id="151" idx="2"/>
            <a:endCxn id="152" idx="0"/>
          </p:cNvCxnSpPr>
          <p:nvPr/>
        </p:nvCxnSpPr>
        <p:spPr>
          <a:xfrm>
            <a:off x="4938480" y="2178000"/>
            <a:ext cx="5400" cy="403920"/>
          </a:xfrm>
          <a:prstGeom prst="straightConnector1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</p:cxnSp>
      <p:sp>
        <p:nvSpPr>
          <p:cNvPr id="157" name="Line 10"/>
          <p:cNvSpPr/>
          <p:nvPr/>
        </p:nvSpPr>
        <p:spPr>
          <a:xfrm flipH="1">
            <a:off x="1420920" y="3519360"/>
            <a:ext cx="6981840" cy="0"/>
          </a:xfrm>
          <a:prstGeom prst="line">
            <a:avLst/>
          </a:prstGeom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4952880" y="3276720"/>
            <a:ext cx="0" cy="269640"/>
          </a:xfrm>
          <a:prstGeom prst="line">
            <a:avLst/>
          </a:prstGeom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1433520" y="3505320"/>
            <a:ext cx="0" cy="360360"/>
          </a:xfrm>
          <a:prstGeom prst="line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0" name="Line 13"/>
          <p:cNvSpPr/>
          <p:nvPr/>
        </p:nvSpPr>
        <p:spPr>
          <a:xfrm>
            <a:off x="6629400" y="3505320"/>
            <a:ext cx="0" cy="360360"/>
          </a:xfrm>
          <a:prstGeom prst="line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>
            <a:off x="3200400" y="3505320"/>
            <a:ext cx="0" cy="360360"/>
          </a:xfrm>
          <a:prstGeom prst="line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2" name="Line 15"/>
          <p:cNvSpPr/>
          <p:nvPr/>
        </p:nvSpPr>
        <p:spPr>
          <a:xfrm>
            <a:off x="4952880" y="3505320"/>
            <a:ext cx="0" cy="360360"/>
          </a:xfrm>
          <a:prstGeom prst="line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3" name="AutoShape 16"/>
          <p:cNvSpPr/>
          <p:nvPr/>
        </p:nvSpPr>
        <p:spPr>
          <a:xfrm>
            <a:off x="4114800" y="3927600"/>
            <a:ext cx="165564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uman Health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Consume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osure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BfR, Berlin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4" name="AutoShape 17"/>
          <p:cNvSpPr/>
          <p:nvPr/>
        </p:nvSpPr>
        <p:spPr>
          <a:xfrm>
            <a:off x="7620120" y="3927600"/>
            <a:ext cx="165564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nviromental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Properties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UBA, Dessau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5" name="AutoShape 18"/>
          <p:cNvSpPr/>
          <p:nvPr/>
        </p:nvSpPr>
        <p:spPr>
          <a:xfrm>
            <a:off x="609480" y="3927600"/>
            <a:ext cx="165600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ubstance Identity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Physico-Chemical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Properties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BAuA</a:t>
            </a: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BfC,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ortmund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6" name="Line 19"/>
          <p:cNvSpPr/>
          <p:nvPr/>
        </p:nvSpPr>
        <p:spPr>
          <a:xfrm>
            <a:off x="8388360" y="3525840"/>
            <a:ext cx="0" cy="360360"/>
          </a:xfrm>
          <a:prstGeom prst="line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7" name="Rectangle 20"/>
          <p:cNvSpPr/>
          <p:nvPr/>
        </p:nvSpPr>
        <p:spPr>
          <a:xfrm>
            <a:off x="380880" y="3809880"/>
            <a:ext cx="9144000" cy="1752840"/>
          </a:xfrm>
          <a:prstGeom prst="rect">
            <a:avLst/>
          </a:prstGeom>
          <a:noFill/>
          <a:ln w="19080">
            <a:solidFill>
              <a:srgbClr val="f24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8" name="Text Box 21"/>
          <p:cNvSpPr/>
          <p:nvPr/>
        </p:nvSpPr>
        <p:spPr>
          <a:xfrm>
            <a:off x="6114960" y="1447920"/>
            <a:ext cx="3137040" cy="642600"/>
          </a:xfrm>
          <a:prstGeom prst="rect">
            <a:avLst/>
          </a:prstGeom>
          <a:noFill/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downloading all documents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requesting IUCLID files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9" name="Text Box 22"/>
          <p:cNvSpPr/>
          <p:nvPr/>
        </p:nvSpPr>
        <p:spPr>
          <a:xfrm>
            <a:off x="6095880" y="2590920"/>
            <a:ext cx="3200400" cy="642600"/>
          </a:xfrm>
          <a:prstGeom prst="rect">
            <a:avLst/>
          </a:prstGeom>
          <a:noFill/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checking all document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distribution to experts </a:t>
            </a:r>
            <a:r>
              <a:rPr b="0" lang="de-DE" sz="1800" spc="-1" strike="noStrike" baseline="30000">
                <a:solidFill>
                  <a:srgbClr val="2e59a6"/>
                </a:solidFill>
                <a:latin typeface="Arial"/>
              </a:rPr>
              <a:t>*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0" name="Text Box 23"/>
          <p:cNvSpPr/>
          <p:nvPr/>
        </p:nvSpPr>
        <p:spPr>
          <a:xfrm>
            <a:off x="609480" y="5638680"/>
            <a:ext cx="8839440" cy="642600"/>
          </a:xfrm>
          <a:prstGeom prst="rect">
            <a:avLst/>
          </a:prstGeom>
          <a:noFill/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baseline="30000">
                <a:solidFill>
                  <a:srgbClr val="2e59a6"/>
                </a:solidFill>
                <a:latin typeface="Arial"/>
              </a:rPr>
              <a:t>*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TPE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  <a:ea typeface="Arial"/>
              </a:rPr>
              <a:t>→ participation of experts according to endpoints covered in DD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CCH → participation of all experts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B058-BA39-4F68-81ED-28645DD2BD6E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orkflow – MSCA Commenting period [2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4097160" y="4156200"/>
            <a:ext cx="1656000" cy="720720"/>
          </a:xfrm>
          <a:prstGeom prst="roundRect">
            <a:avLst>
              <a:gd name="adj" fmla="val 16667"/>
            </a:avLst>
          </a:prstGeom>
          <a:solidFill>
            <a:srgbClr val="99cc00">
              <a:alpha val="25000"/>
            </a:srgbClr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Coordination fo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Dossier Evaluation 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6573960" y="4156200"/>
            <a:ext cx="1655640" cy="720720"/>
          </a:xfrm>
          <a:prstGeom prst="roundRect">
            <a:avLst>
              <a:gd name="adj" fmla="val 16667"/>
            </a:avLst>
          </a:prstGeom>
          <a:solidFill>
            <a:srgbClr val="99cc00">
              <a:alpha val="25000"/>
            </a:srgbClr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MSC member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5" name="Line 5"/>
          <p:cNvSpPr/>
          <p:nvPr/>
        </p:nvSpPr>
        <p:spPr>
          <a:xfrm flipH="1">
            <a:off x="1371240" y="3624120"/>
            <a:ext cx="7010280" cy="0"/>
          </a:xfrm>
          <a:prstGeom prst="line">
            <a:avLst/>
          </a:prstGeom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6" name="Line 6"/>
          <p:cNvSpPr/>
          <p:nvPr/>
        </p:nvSpPr>
        <p:spPr>
          <a:xfrm flipV="1">
            <a:off x="4917960" y="3546000"/>
            <a:ext cx="0" cy="576360"/>
          </a:xfrm>
          <a:prstGeom prst="line">
            <a:avLst/>
          </a:prstGeom>
          <a:ln w="28440">
            <a:solidFill>
              <a:srgbClr val="2e59a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7" name="Line 7"/>
          <p:cNvSpPr/>
          <p:nvPr/>
        </p:nvSpPr>
        <p:spPr>
          <a:xfrm flipV="1">
            <a:off x="1384200" y="2936520"/>
            <a:ext cx="0" cy="676440"/>
          </a:xfrm>
          <a:prstGeom prst="line">
            <a:avLst/>
          </a:prstGeom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 flipV="1">
            <a:off x="6600960" y="2936520"/>
            <a:ext cx="0" cy="676440"/>
          </a:xfrm>
          <a:prstGeom prst="line">
            <a:avLst/>
          </a:prstGeom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 flipV="1">
            <a:off x="3159000" y="2945880"/>
            <a:ext cx="0" cy="676440"/>
          </a:xfrm>
          <a:prstGeom prst="line">
            <a:avLst/>
          </a:prstGeom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0" name="Line 10"/>
          <p:cNvSpPr/>
          <p:nvPr/>
        </p:nvSpPr>
        <p:spPr>
          <a:xfrm flipV="1">
            <a:off x="4917960" y="2936520"/>
            <a:ext cx="0" cy="676440"/>
          </a:xfrm>
          <a:prstGeom prst="line">
            <a:avLst/>
          </a:prstGeom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8367840" y="2936880"/>
            <a:ext cx="0" cy="674640"/>
          </a:xfrm>
          <a:prstGeom prst="line">
            <a:avLst/>
          </a:prstGeom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5778360" y="4537080"/>
            <a:ext cx="762120" cy="0"/>
          </a:xfrm>
          <a:prstGeom prst="line">
            <a:avLst/>
          </a:prstGeom>
          <a:ln w="28440">
            <a:solidFill>
              <a:srgbClr val="2e59a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3" name="Line 13"/>
          <p:cNvSpPr/>
          <p:nvPr/>
        </p:nvSpPr>
        <p:spPr>
          <a:xfrm>
            <a:off x="4952880" y="4886280"/>
            <a:ext cx="0" cy="609480"/>
          </a:xfrm>
          <a:prstGeom prst="line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4135320" y="5527800"/>
            <a:ext cx="1656000" cy="720720"/>
          </a:xfrm>
          <a:prstGeom prst="roundRect">
            <a:avLst>
              <a:gd name="adj" fmla="val 16667"/>
            </a:avLst>
          </a:prstGeom>
          <a:solidFill>
            <a:srgbClr val="8ca3c0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CHA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3809880" y="4070520"/>
            <a:ext cx="4648320" cy="914400"/>
          </a:xfrm>
          <a:prstGeom prst="rect">
            <a:avLst/>
          </a:prstGeom>
          <a:noFill/>
          <a:ln w="19080">
            <a:solidFill>
              <a:srgbClr val="f24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6" name="AutoShape 16"/>
          <p:cNvSpPr/>
          <p:nvPr/>
        </p:nvSpPr>
        <p:spPr>
          <a:xfrm>
            <a:off x="5867280" y="1413000"/>
            <a:ext cx="165600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uman Health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Worke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osure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7" name="AutoShape 17"/>
          <p:cNvSpPr/>
          <p:nvPr/>
        </p:nvSpPr>
        <p:spPr>
          <a:xfrm>
            <a:off x="2362320" y="1413000"/>
            <a:ext cx="165564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afety-relevant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ata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8" name="AutoShape 18"/>
          <p:cNvSpPr/>
          <p:nvPr/>
        </p:nvSpPr>
        <p:spPr>
          <a:xfrm>
            <a:off x="4114800" y="1413000"/>
            <a:ext cx="165564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uman Health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Consume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osure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9" name="AutoShape 19"/>
          <p:cNvSpPr/>
          <p:nvPr/>
        </p:nvSpPr>
        <p:spPr>
          <a:xfrm>
            <a:off x="7620120" y="1413000"/>
            <a:ext cx="165564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nviromental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Properties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0" name="AutoShape 20"/>
          <p:cNvSpPr/>
          <p:nvPr/>
        </p:nvSpPr>
        <p:spPr>
          <a:xfrm>
            <a:off x="609480" y="1413000"/>
            <a:ext cx="165600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ubstance Identity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Physico-Chemical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Properties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00040" y="4206960"/>
            <a:ext cx="3139920" cy="642600"/>
          </a:xfrm>
          <a:prstGeom prst="rect">
            <a:avLst/>
          </a:prstGeom>
          <a:noFill/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Agreement between DE-CA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and MSC member 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C42D-517B-4DE6-A48C-34F51F9837E5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orkflow – MS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1066680" y="184932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8ca3c0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RCOM documents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1143000" y="3200400"/>
            <a:ext cx="1655640" cy="720720"/>
          </a:xfrm>
          <a:prstGeom prst="roundRect">
            <a:avLst>
              <a:gd name="adj" fmla="val 16667"/>
            </a:avLst>
          </a:prstGeom>
          <a:solidFill>
            <a:srgbClr val="99cc00">
              <a:alpha val="25000"/>
            </a:srgbClr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MSC member /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Coordination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1981080" y="3941640"/>
            <a:ext cx="0" cy="706680"/>
          </a:xfrm>
          <a:prstGeom prst="line">
            <a:avLst/>
          </a:prstGeom>
          <a:ln w="28440">
            <a:solidFill>
              <a:srgbClr val="2e59a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1143000" y="4689360"/>
            <a:ext cx="1655640" cy="72072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1981080" y="2590920"/>
            <a:ext cx="0" cy="609480"/>
          </a:xfrm>
          <a:prstGeom prst="line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3352680" y="1795320"/>
            <a:ext cx="5943600" cy="3660120"/>
          </a:xfrm>
          <a:prstGeom prst="rect">
            <a:avLst/>
          </a:prstGeom>
          <a:noFill/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Receiving of RCOM document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Analyzing of the documents – involvement of experts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ECHAs response to DE-amendment is checked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analysing amendments from other MS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Support or reject amendment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Discussion between MSC member and experts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Development of DE-MSC opinion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990720" y="3124080"/>
            <a:ext cx="1904760" cy="2438640"/>
          </a:xfrm>
          <a:prstGeom prst="rect">
            <a:avLst/>
          </a:prstGeom>
          <a:noFill/>
          <a:ln w="28440">
            <a:solidFill>
              <a:srgbClr val="f24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6E3E-11A1-4E3E-A207-3E39A8681DC7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51880" y="433080"/>
            <a:ext cx="880164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9754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14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marL="380880" indent="0">
              <a:lnSpc>
                <a:spcPct val="14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e59a6"/>
                </a:solidFill>
                <a:latin typeface="Arial"/>
              </a:rPr>
              <a:t>Thank you for your attention!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marL="380880" indent="0">
              <a:lnSpc>
                <a:spcPct val="14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marL="380880" indent="0">
              <a:lnSpc>
                <a:spcPct val="14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e59a6"/>
                </a:solidFill>
                <a:latin typeface="Arial"/>
              </a:rPr>
              <a:t>Bundesanstalt für Arbeitsschutz und Arbeitsmedizin</a:t>
            </a:r>
            <a:br>
              <a:rPr sz="2000"/>
            </a:br>
            <a:r>
              <a:rPr b="0" lang="de-DE" sz="2000" spc="-1" strike="noStrike">
                <a:solidFill>
                  <a:srgbClr val="2e59a6"/>
                </a:solidFill>
                <a:latin typeface="Arial"/>
              </a:rPr>
              <a:t>Friedrich-Henkel-Weg 1-25</a:t>
            </a:r>
            <a:br>
              <a:rPr sz="2000"/>
            </a:br>
            <a:r>
              <a:rPr b="0" lang="de-DE" sz="2000" spc="-1" strike="noStrike">
                <a:solidFill>
                  <a:srgbClr val="2e59a6"/>
                </a:solidFill>
                <a:latin typeface="Arial"/>
              </a:rPr>
              <a:t>44149 Dortmund 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marL="380880" indent="0">
              <a:lnSpc>
                <a:spcPct val="14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e59a6"/>
                </a:solidFill>
                <a:latin typeface="Arial"/>
              </a:rPr>
              <a:t>www.reach-clp-helpdesk.de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marL="380880" indent="0">
              <a:lnSpc>
                <a:spcPct val="14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e59a6"/>
                </a:solidFill>
                <a:latin typeface="Arial"/>
              </a:rPr>
              <a:t>www.baua.de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204" name="Picture 4" descr="BAuA DASA Luftaufn"/>
          <p:cNvPicPr/>
          <p:nvPr/>
        </p:nvPicPr>
        <p:blipFill>
          <a:blip r:embed="rId1"/>
          <a:stretch/>
        </p:blipFill>
        <p:spPr>
          <a:xfrm>
            <a:off x="6553080" y="1600200"/>
            <a:ext cx="288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4C3A-71AB-44B9-98DF-3A84985246A0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egistr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65160" y="4952880"/>
            <a:ext cx="7416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Dossiers have to pass the Technical Completeness Check to gain a registration number.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00" name="Picture 12" descr="Registrierung_Eng"/>
          <p:cNvPicPr/>
          <p:nvPr/>
        </p:nvPicPr>
        <p:blipFill>
          <a:blip r:embed="rId1"/>
          <a:stretch/>
        </p:blipFill>
        <p:spPr>
          <a:xfrm>
            <a:off x="990720" y="1371600"/>
            <a:ext cx="6430680" cy="3295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Erläuterung_Eng"/>
          <p:cNvPicPr/>
          <p:nvPr/>
        </p:nvPicPr>
        <p:blipFill>
          <a:blip r:embed="rId2"/>
          <a:stretch/>
        </p:blipFill>
        <p:spPr>
          <a:xfrm>
            <a:off x="8381880" y="5338800"/>
            <a:ext cx="12765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8F3B-7736-42D2-A24A-1AC586F08BEF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valuation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5181480"/>
            <a:ext cx="7975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05" name="Picture 9" descr="Erläuterung_Eng"/>
          <p:cNvPicPr/>
          <p:nvPr/>
        </p:nvPicPr>
        <p:blipFill>
          <a:blip r:embed="rId1"/>
          <a:stretch/>
        </p:blipFill>
        <p:spPr>
          <a:xfrm>
            <a:off x="8381880" y="5338800"/>
            <a:ext cx="1276560" cy="860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Übersicht_Evaluation_eng"/>
          <p:cNvPicPr/>
          <p:nvPr/>
        </p:nvPicPr>
        <p:blipFill>
          <a:blip r:embed="rId2"/>
          <a:stretch/>
        </p:blipFill>
        <p:spPr>
          <a:xfrm>
            <a:off x="838080" y="1220760"/>
            <a:ext cx="7328160" cy="47214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8"/>
          <p:cNvSpPr/>
          <p:nvPr/>
        </p:nvSpPr>
        <p:spPr>
          <a:xfrm>
            <a:off x="762120" y="1295280"/>
            <a:ext cx="3504960" cy="4724640"/>
          </a:xfrm>
          <a:prstGeom prst="rect">
            <a:avLst/>
          </a:prstGeom>
          <a:noFill/>
          <a:ln w="38160">
            <a:solidFill>
              <a:srgbClr val="f24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Espaço Reservado para Número de Slide 4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0EE3-BB0F-4AA8-9C7A-9C3707622CA2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85800" y="4572000"/>
            <a:ext cx="8077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if no study for one endpoint (from Annex IX and X) is available – the Registrant has to propose a Test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all submitted and accepted Dossiers are checked if they contain a proposed test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any TPE has to be evaluated by ECHA 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193840" y="20145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3184560" y="33861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13" name="Picture 120" descr="DossierEV_Eng"/>
          <p:cNvPicPr/>
          <p:nvPr/>
        </p:nvPicPr>
        <p:blipFill>
          <a:blip r:embed="rId1"/>
          <a:stretch/>
        </p:blipFill>
        <p:spPr>
          <a:xfrm>
            <a:off x="831960" y="1676520"/>
            <a:ext cx="8242200" cy="2514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1" descr="Erläuterung_Eng"/>
          <p:cNvPicPr/>
          <p:nvPr/>
        </p:nvPicPr>
        <p:blipFill>
          <a:blip r:embed="rId2"/>
          <a:stretch/>
        </p:blipFill>
        <p:spPr>
          <a:xfrm>
            <a:off x="8381880" y="5338800"/>
            <a:ext cx="1276560" cy="8604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22"/>
          <p:cNvSpPr/>
          <p:nvPr/>
        </p:nvSpPr>
        <p:spPr>
          <a:xfrm>
            <a:off x="762120" y="2590920"/>
            <a:ext cx="3276360" cy="1904760"/>
          </a:xfrm>
          <a:prstGeom prst="rect">
            <a:avLst/>
          </a:prstGeom>
          <a:noFill/>
          <a:ln w="38160">
            <a:solidFill>
              <a:srgbClr val="f24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51DD-4929-4977-9235-FFB2DB2F3A65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51880" y="433080"/>
            <a:ext cx="880164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valuation - Testing Proposal Examination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520" y="5105160"/>
            <a:ext cx="79754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10000"/>
              </a:lnSpc>
              <a:spcAft>
                <a:spcPts val="675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all animal studies – Third party consultation of 45 day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675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after this generation of a Draft  Decision – ECHA can support Registrant choice, can reject the proposed study, or propose another study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19" name="Picture 5" descr="Erläuterung_Eng"/>
          <p:cNvPicPr/>
          <p:nvPr/>
        </p:nvPicPr>
        <p:blipFill>
          <a:blip r:embed="rId1"/>
          <a:stretch/>
        </p:blipFill>
        <p:spPr>
          <a:xfrm>
            <a:off x="8381880" y="5338800"/>
            <a:ext cx="1276560" cy="860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DossierEV_TPE_DD_1_Eng"/>
          <p:cNvPicPr/>
          <p:nvPr/>
        </p:nvPicPr>
        <p:blipFill>
          <a:blip r:embed="rId2"/>
          <a:stretch/>
        </p:blipFill>
        <p:spPr>
          <a:xfrm>
            <a:off x="2057400" y="1295280"/>
            <a:ext cx="5791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1A79-BD23-4FE7-9210-8DF059DE82B2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52960" y="434160"/>
            <a:ext cx="8800920" cy="11415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valuation - Testing Proposal Examination – Overview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8"/>
          <p:cNvSpPr/>
          <p:nvPr/>
        </p:nvSpPr>
        <p:spPr>
          <a:xfrm>
            <a:off x="885960" y="1828800"/>
            <a:ext cx="8132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Period for evaluation of all Testing Proposals (TP) of Dossiers 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&gt; 1000 tons/year (1.12.2010) was 1. December 2012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571 Dossiers containing 1.184 TP to different endpoints 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445 Dossiers containing 770 TP for vertebrate studies 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7EAD-85ED-4280-A894-654E1E0B0E2A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valuation - Testing Proposal Examin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248160" y="1295280"/>
            <a:ext cx="3352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spcAft>
                <a:spcPts val="751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Registrants commenting period as well commenting period of the Member States (MS) is 30 days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751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If a MS decides to amend the Draft Decision it needs to be referred to the Member States Committee to seek for Agreement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27" name="Picture 4" descr="Erläuterung_Eng"/>
          <p:cNvPicPr/>
          <p:nvPr/>
        </p:nvPicPr>
        <p:blipFill>
          <a:blip r:embed="rId1"/>
          <a:stretch/>
        </p:blipFill>
        <p:spPr>
          <a:xfrm>
            <a:off x="8381880" y="5338800"/>
            <a:ext cx="1276560" cy="860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DossierEV_TPE_DD_2_Eng"/>
          <p:cNvPicPr/>
          <p:nvPr/>
        </p:nvPicPr>
        <p:blipFill>
          <a:blip r:embed="rId2"/>
          <a:stretch/>
        </p:blipFill>
        <p:spPr>
          <a:xfrm>
            <a:off x="609480" y="1371600"/>
            <a:ext cx="516744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ço Reservado para Número de Slide 4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D5FF-C21E-4E69-897B-AE1FF14FE341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74880" y="4952880"/>
            <a:ext cx="778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5% of Dossiers of each tonnage band (&gt; 1000 t/a; 100 – 1000 t/a and 1 -100 t/a) needs to be checked for compliance 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for 2010 Deadline around 900 Dossiers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193840" y="20145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184560" y="33861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34" name="Picture 6" descr="DossierEV_Eng"/>
          <p:cNvPicPr/>
          <p:nvPr/>
        </p:nvPicPr>
        <p:blipFill>
          <a:blip r:embed="rId1"/>
          <a:stretch/>
        </p:blipFill>
        <p:spPr>
          <a:xfrm>
            <a:off x="831960" y="1676520"/>
            <a:ext cx="8242200" cy="2514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Erläuterung_Eng"/>
          <p:cNvPicPr/>
          <p:nvPr/>
        </p:nvPicPr>
        <p:blipFill>
          <a:blip r:embed="rId2"/>
          <a:stretch/>
        </p:blipFill>
        <p:spPr>
          <a:xfrm>
            <a:off x="8381880" y="5338800"/>
            <a:ext cx="1276560" cy="860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3505320" y="2819520"/>
            <a:ext cx="5715000" cy="1904760"/>
          </a:xfrm>
          <a:prstGeom prst="rect">
            <a:avLst/>
          </a:prstGeom>
          <a:noFill/>
          <a:ln w="38160">
            <a:solidFill>
              <a:srgbClr val="f24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5803-D0D5-41E5-9309-935A3BEF4257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valuation - Compliance Check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09120" y="4038480"/>
            <a:ext cx="79758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spcAft>
                <a:spcPts val="751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according REACH Regulation - all standard information requirements were checked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751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if shortcomings occur – addressing in a Draft Decision  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40" name="Picture 4" descr="Erläuterung_Eng"/>
          <p:cNvPicPr/>
          <p:nvPr/>
        </p:nvPicPr>
        <p:blipFill>
          <a:blip r:embed="rId1"/>
          <a:stretch/>
        </p:blipFill>
        <p:spPr>
          <a:xfrm>
            <a:off x="8381880" y="5338800"/>
            <a:ext cx="1276560" cy="86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DossierEV_CCH_DD_1_Eng"/>
          <p:cNvPicPr/>
          <p:nvPr/>
        </p:nvPicPr>
        <p:blipFill>
          <a:blip r:embed="rId2"/>
          <a:stretch/>
        </p:blipFill>
        <p:spPr>
          <a:xfrm>
            <a:off x="1447920" y="1371600"/>
            <a:ext cx="6486480" cy="2389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5791320" y="2819520"/>
            <a:ext cx="2590560" cy="1218960"/>
          </a:xfrm>
          <a:prstGeom prst="rect">
            <a:avLst/>
          </a:prstGeom>
          <a:noFill/>
          <a:ln w="38160">
            <a:solidFill>
              <a:srgbClr val="f24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14:46:31Z</dcterms:created>
  <dc:creator>Thomas Breuer</dc:creator>
  <dc:description/>
  <dc:language>en-US</dc:language>
  <cp:lastModifiedBy>Ibama</cp:lastModifiedBy>
  <cp:lastPrinted>2004-05-03T19:40:53Z</cp:lastPrinted>
  <dcterms:modified xsi:type="dcterms:W3CDTF">2018-08-16T17:20:24Z</dcterms:modified>
  <cp:revision>196</cp:revision>
  <dc:subject/>
  <dc:title>Folie 1</dc:title>
</cp:coreProperties>
</file>