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765-B715-42EF-81F2-76C801B7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C8E-B760-4966-9038-E0B876A4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D0C-D3F4-4CBB-BFE5-2A71D5B3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D2F-3242-4174-9561-9C03F24D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CCC5-C371-4BCE-AD29-56E203C5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88A-CCCC-4917-94B9-36D58B52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A0A3-5137-424A-9CE8-FBBC3EC0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C01-34E6-4FD7-A09A-8575A404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F1C-560A-446A-8495-A71A9CB4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534E-6E9C-4F8C-87E3-DB1DC023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B15-CB8D-4BCC-BAC2-D309F450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DF82-E2CE-4BC7-A5C5-15C4E4F2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72EB-D6C1-4FF7-8C03-EB5F638C23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652320"/>
            <a:ext cx="822960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144720" y="4495680"/>
            <a:ext cx="68162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N : nº de PPGs avaliados pelas Comissões de Área em 2007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: PPGs que estão sendo avaliados pela 1ª vez em uma Trienal ("novos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: PPGs avaliados em duas trienais consecutivas, 2004 e 20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: PPGs avaliados em 2007 com conceito superior ao de 2004 (conceito majorado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: PPGs avaliados em 2007 com o mesmo conceito de 2004 (conceito mantido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'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04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: média aritmética dos conceitos atribuídos em 2004 aos PPGs que participaram de du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valiações consecutivas, 2004 e 20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07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: média aritmética dos conceitos propostos em 20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* : média referencial; média aritmética ponderada dos cursos "novos" e "velhos"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* = (3,3 x 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+ m'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04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x 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)/(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+ 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"/>
          <p:cNvSpPr/>
          <p:nvPr/>
        </p:nvSpPr>
        <p:spPr>
          <a:xfrm>
            <a:off x="152280" y="4419720"/>
            <a:ext cx="86868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7"/>
          <p:cNvSpPr/>
          <p:nvPr/>
        </p:nvSpPr>
        <p:spPr>
          <a:xfrm>
            <a:off x="152280" y="4495680"/>
            <a:ext cx="86868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tretch/>
        </p:blipFill>
        <p:spPr>
          <a:xfrm>
            <a:off x="152280" y="803160"/>
            <a:ext cx="8686800" cy="36165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160920" y="0"/>
            <a:ext cx="562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MO POR ÁREA DE AVALI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Trecho da planilha apresentad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7"/>
          <p:cNvSpPr/>
          <p:nvPr/>
        </p:nvSpPr>
        <p:spPr>
          <a:xfrm>
            <a:off x="752040" y="1066680"/>
            <a:ext cx="769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66"/>
                </a:solidFill>
                <a:latin typeface="Times New Roman"/>
              </a:rPr>
              <a:t>III) Planilhas com indicadores sele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66"/>
                </a:solidFill>
                <a:latin typeface="Times New Roman"/>
              </a:rPr>
              <a:t>para auxiliar as relatorias no C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196280" y="2860560"/>
            <a:ext cx="576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PGs acadêmicos com conceito 7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em conceito 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em conceito 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em por área de avaliação (45 planilh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8229600" cy="6889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6858000" y="1295280"/>
            <a:ext cx="1447920" cy="1447920"/>
          </a:xfrm>
          <a:prstGeom prst="rect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845640" y="1936800"/>
            <a:ext cx="762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itos (pontuados com notas de 1 a 5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2 – Corpo Docent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Q3 – Corpo Discente, Teses e Dissertaçõ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Q4 – Produção Intelectua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5 – Inserção So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990720" y="247680"/>
            <a:ext cx="7238880" cy="28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990720" y="3597120"/>
            <a:ext cx="7162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276720" y="157320"/>
            <a:ext cx="3821040" cy="6543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152280" y="157320"/>
            <a:ext cx="308160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6520" cy="3929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97480" y="4130640"/>
            <a:ext cx="464652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52280" y="157320"/>
            <a:ext cx="3081600" cy="654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3352680" y="157320"/>
            <a:ext cx="3764160" cy="6543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7161120" y="152280"/>
            <a:ext cx="190656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280" y="157320"/>
            <a:ext cx="3081600" cy="6543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3352680" y="157320"/>
            <a:ext cx="190656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942840"/>
            <a:ext cx="624852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298440"/>
            <a:ext cx="761976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204840"/>
            <a:ext cx="720072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91640" y="228600"/>
            <a:ext cx="70570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I) </a:t>
            </a:r>
            <a:r>
              <a:rPr b="1" lang="pt-BR" sz="3200" spc="-1" strike="noStrike">
                <a:solidFill>
                  <a:srgbClr val="ff0066"/>
                </a:solidFill>
                <a:latin typeface="Times New Roman"/>
              </a:rPr>
              <a:t>“Matrizes” e Histogra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66"/>
                </a:solidFill>
                <a:latin typeface="Times New Roman"/>
              </a:rPr>
              <a:t>Distribuição e movimentação dos PP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66"/>
                </a:solidFill>
                <a:latin typeface="Times New Roman"/>
              </a:rPr>
              <a:t>na escala de conce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ceito Atual (Trienal 2004 ou APC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ceito Trienal 2007 (Proposto ao CTC pelas CA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Univers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: PPGs acadêmicos (2.108 PP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Unidades da anális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55 “matrizes”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Todas as áreas 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Grandes áreas (9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) Áreas de Avaliação (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41360" y="3584520"/>
            <a:ext cx="34128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92000" y="3584520"/>
            <a:ext cx="26625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484440" y="3584520"/>
            <a:ext cx="470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013280" y="3584520"/>
            <a:ext cx="35388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376880" y="3584520"/>
            <a:ext cx="3967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41360" y="3738600"/>
            <a:ext cx="34128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92000" y="3738600"/>
            <a:ext cx="26625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484440" y="3738600"/>
            <a:ext cx="4701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441360" y="3892680"/>
            <a:ext cx="34128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792000" y="3892680"/>
            <a:ext cx="26625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3484440" y="3892680"/>
            <a:ext cx="4701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171440" y="3435480"/>
            <a:ext cx="1800" cy="76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1554120" y="3435480"/>
            <a:ext cx="1800" cy="76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2319480" y="3435480"/>
            <a:ext cx="1440" cy="76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2703600" y="3435480"/>
            <a:ext cx="1440" cy="76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3973680" y="887400"/>
            <a:ext cx="8064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973680" y="1063800"/>
            <a:ext cx="8064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3973680" y="1239840"/>
            <a:ext cx="8064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3973680" y="1415880"/>
            <a:ext cx="8064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4782960" y="3584520"/>
            <a:ext cx="3686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2" descr=""/>
          <p:cNvPicPr/>
          <p:nvPr/>
        </p:nvPicPr>
        <p:blipFill>
          <a:blip r:embed="rId1"/>
          <a:stretch/>
        </p:blipFill>
        <p:spPr>
          <a:xfrm>
            <a:off x="34920" y="4863960"/>
            <a:ext cx="4462560" cy="1994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"/>
          <p:cNvPicPr/>
          <p:nvPr/>
        </p:nvPicPr>
        <p:blipFill>
          <a:blip r:embed="rId2"/>
          <a:stretch/>
        </p:blipFill>
        <p:spPr>
          <a:xfrm>
            <a:off x="5791320" y="3662280"/>
            <a:ext cx="3352680" cy="3195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"/>
          <p:cNvPicPr/>
          <p:nvPr/>
        </p:nvPicPr>
        <p:blipFill>
          <a:blip r:embed="rId3"/>
          <a:stretch/>
        </p:blipFill>
        <p:spPr>
          <a:xfrm>
            <a:off x="0" y="0"/>
            <a:ext cx="5638680" cy="4751280"/>
          </a:xfrm>
          <a:prstGeom prst="rect">
            <a:avLst/>
          </a:prstGeom>
          <a:ln w="0">
            <a:noFill/>
          </a:ln>
        </p:spPr>
      </p:pic>
      <p:sp>
        <p:nvSpPr>
          <p:cNvPr id="69" name="Oval 25"/>
          <p:cNvSpPr/>
          <p:nvPr/>
        </p:nvSpPr>
        <p:spPr>
          <a:xfrm>
            <a:off x="4038480" y="1219320"/>
            <a:ext cx="38124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26"/>
          <p:cNvSpPr/>
          <p:nvPr/>
        </p:nvSpPr>
        <p:spPr>
          <a:xfrm>
            <a:off x="3200400" y="1600200"/>
            <a:ext cx="762120" cy="2286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27"/>
          <p:cNvSpPr/>
          <p:nvPr/>
        </p:nvSpPr>
        <p:spPr>
          <a:xfrm>
            <a:off x="8077320" y="5410080"/>
            <a:ext cx="990360" cy="990720"/>
          </a:xfrm>
          <a:prstGeom prst="ellipse">
            <a:avLst/>
          </a:prstGeom>
          <a:noFill/>
          <a:ln w="381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28"/>
          <p:cNvSpPr/>
          <p:nvPr/>
        </p:nvSpPr>
        <p:spPr>
          <a:xfrm>
            <a:off x="914400" y="1219320"/>
            <a:ext cx="38088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29"/>
          <p:cNvSpPr/>
          <p:nvPr/>
        </p:nvSpPr>
        <p:spPr>
          <a:xfrm>
            <a:off x="3124080" y="457200"/>
            <a:ext cx="76212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740600" y="2712960"/>
            <a:ext cx="569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II) Gráficos atualizados do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ink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istribuição dos Conce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por área” e RESUMO </a:t>
            </a:r>
            <a:r>
              <a:rPr b="1" lang="en-US" sz="3200" spc="-1" strike="noStrike" baseline="30000">
                <a:solidFill>
                  <a:srgbClr val="ff0066"/>
                </a:solidFill>
                <a:latin typeface="Times New Roman"/>
              </a:rPr>
              <a:t>[1/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72680" y="4984920"/>
            <a:ext cx="83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/] Considera os conceitos indicados pelas Comissões de Área 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po de texto livre da Ficha de Avaliaçã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antamento feito pela CAA/DAV ficha por fi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77" name="Oval 4"/>
          <p:cNvSpPr/>
          <p:nvPr/>
        </p:nvSpPr>
        <p:spPr>
          <a:xfrm>
            <a:off x="76320" y="4191120"/>
            <a:ext cx="12952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"/>
          <p:cNvSpPr/>
          <p:nvPr/>
        </p:nvSpPr>
        <p:spPr>
          <a:xfrm>
            <a:off x="1752480" y="3276720"/>
            <a:ext cx="457200" cy="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 flipH="1">
            <a:off x="4114800" y="3276720"/>
            <a:ext cx="533520" cy="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785840" y="30481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4086360" y="0"/>
            <a:ext cx="49813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27520" y="2774880"/>
            <a:ext cx="26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PPGs com conce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igual a 6 ou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0:52:58Z</dcterms:created>
  <dc:creator>RicardoL</dc:creator>
  <dc:description/>
  <dc:language>en-US</dc:language>
  <cp:lastModifiedBy>rubensp</cp:lastModifiedBy>
  <dcterms:modified xsi:type="dcterms:W3CDTF">2008-10-30T19:58:47Z</dcterms:modified>
  <cp:revision>18</cp:revision>
  <dc:subject/>
  <dc:title>Apresentação do PowerPoint</dc:title>
</cp:coreProperties>
</file>