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74F7-0847-4760-9195-83847A78F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FD82-5DBD-41C5-AB19-1DF219C6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C99F-18A0-4CEF-9A56-B8C1206F0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68A4-AE83-46FE-8E00-C281DADC6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20BD-8061-4023-A922-B661B71E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15B0-862F-4064-8727-DAF27E88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464C-5278-4223-8205-9B3EBEB3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0651-F103-4E2F-880B-B7599BD1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B947-D992-45F3-A54C-EABA8C16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0975-49DB-47F1-A639-F74FA806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212F-3314-4027-A057-C06AFEE3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A8EB-FC08-4706-B6AA-F15F756C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92C6-142A-4ABC-92A0-5B0519DE8B2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652320"/>
            <a:ext cx="822960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144720" y="4495680"/>
            <a:ext cx="68162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N : nº de PPGs avaliados pelas Comissões de Área em 2007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: PPGs que estão sendo avaliados pela 1ª vez em uma Trienal ("novos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: PPGs avaliados em duas trienais consecutivas, 2004 e 2007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: PPGs avaliados em 2007 com conceito superior ao de 2004 (conceito majorado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: PPGs avaliados em 2007 com o mesmo conceito de 2004 (conceito mantido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m'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Times New Roman"/>
              </a:rPr>
              <a:t>04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: média aritmética dos conceitos atribuídos em 2004 aos PPGs que participaram de du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valiações consecutivas, 2004 e 2007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Times New Roman"/>
              </a:rPr>
              <a:t>07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: média aritmética dos conceitos propostos em 2007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m* : média referencial; média aritmética ponderada dos cursos "novos" e "velhos"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m* = (3,3 x N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+ m'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Times New Roman"/>
              </a:rPr>
              <a:t>04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x N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)/(N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+ N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6"/>
          <p:cNvSpPr/>
          <p:nvPr/>
        </p:nvSpPr>
        <p:spPr>
          <a:xfrm>
            <a:off x="152280" y="4419720"/>
            <a:ext cx="86868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7"/>
          <p:cNvSpPr/>
          <p:nvPr/>
        </p:nvSpPr>
        <p:spPr>
          <a:xfrm>
            <a:off x="152280" y="4495680"/>
            <a:ext cx="86868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1"/>
          <a:stretch/>
        </p:blipFill>
        <p:spPr>
          <a:xfrm>
            <a:off x="152280" y="803160"/>
            <a:ext cx="8686800" cy="36165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160920" y="0"/>
            <a:ext cx="5624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MO POR ÁREA DE AVALI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(Trecho da planilha apresentada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7"/>
          <p:cNvSpPr/>
          <p:nvPr/>
        </p:nvSpPr>
        <p:spPr>
          <a:xfrm>
            <a:off x="752040" y="1066680"/>
            <a:ext cx="769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66"/>
                </a:solidFill>
                <a:latin typeface="Times New Roman"/>
              </a:rPr>
              <a:t>III) Planilhas com indicadores sele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66"/>
                </a:solidFill>
                <a:latin typeface="Times New Roman"/>
              </a:rPr>
              <a:t>para auxiliar as relatorias no C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1196280" y="2860560"/>
            <a:ext cx="576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PGs acadêmicos com conceito 7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dem conceito 6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dem conceito 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dem por área de avaliação (45 planilh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8229600" cy="6889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9"/>
          <p:cNvSpPr/>
          <p:nvPr/>
        </p:nvSpPr>
        <p:spPr>
          <a:xfrm>
            <a:off x="6858000" y="1295280"/>
            <a:ext cx="1447920" cy="1447920"/>
          </a:xfrm>
          <a:prstGeom prst="rect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845640" y="1936800"/>
            <a:ext cx="7620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itos (pontuados com notas de 1 a 5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2 – Corpo Docent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Q3 – Corpo Discente, Teses e Dissertaçõ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Q4 – Produção Intelectua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5 – Inserção Soc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990720" y="247680"/>
            <a:ext cx="7238880" cy="28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990720" y="3597120"/>
            <a:ext cx="71625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3276720" y="157320"/>
            <a:ext cx="3821040" cy="6543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152280" y="157320"/>
            <a:ext cx="3081600" cy="65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86520" cy="3929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497480" y="4130640"/>
            <a:ext cx="464652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52280" y="157320"/>
            <a:ext cx="3081600" cy="6543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3352680" y="157320"/>
            <a:ext cx="3764160" cy="6543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3"/>
          <a:stretch/>
        </p:blipFill>
        <p:spPr>
          <a:xfrm>
            <a:off x="7161120" y="152280"/>
            <a:ext cx="1906560" cy="7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52280" y="157320"/>
            <a:ext cx="3081600" cy="6543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3352680" y="157320"/>
            <a:ext cx="1906560" cy="65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71600" y="942840"/>
            <a:ext cx="624852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298440"/>
            <a:ext cx="761976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71640" y="204840"/>
            <a:ext cx="7200720" cy="64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791640" y="228600"/>
            <a:ext cx="705708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I) </a:t>
            </a:r>
            <a:r>
              <a:rPr b="1" lang="pt-BR" sz="3200" spc="-1" strike="noStrike">
                <a:solidFill>
                  <a:srgbClr val="ff0066"/>
                </a:solidFill>
                <a:latin typeface="Times New Roman"/>
              </a:rPr>
              <a:t>“Matrizes” e Histogra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66"/>
                </a:solidFill>
                <a:latin typeface="Times New Roman"/>
              </a:rPr>
              <a:t>Distribuição e movimentação dos PP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66"/>
                </a:solidFill>
                <a:latin typeface="Times New Roman"/>
              </a:rPr>
              <a:t>na escala de conce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onceito Atual (Trienal 2004 ou APC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onceito Trienal 2007 (Proposto ao CTC pelas CAs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Universo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: PPGs acadêmicos (2.108 PP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Unidades da anális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(55 “matrizes”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) Todas as áreas (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) Grandes áreas (9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) Áreas de Avaliação (4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441360" y="3584520"/>
            <a:ext cx="34128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792000" y="3584520"/>
            <a:ext cx="266256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3484440" y="3584520"/>
            <a:ext cx="47016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4013280" y="3584520"/>
            <a:ext cx="35388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4376880" y="3584520"/>
            <a:ext cx="39672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441360" y="3738600"/>
            <a:ext cx="34128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792000" y="3738600"/>
            <a:ext cx="26625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3484440" y="3738600"/>
            <a:ext cx="4701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441360" y="3892680"/>
            <a:ext cx="34128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792000" y="3892680"/>
            <a:ext cx="26625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3484440" y="3892680"/>
            <a:ext cx="4701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1171440" y="3435480"/>
            <a:ext cx="1800" cy="765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1554120" y="3435480"/>
            <a:ext cx="1800" cy="765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5"/>
          <p:cNvSpPr/>
          <p:nvPr/>
        </p:nvSpPr>
        <p:spPr>
          <a:xfrm>
            <a:off x="2319480" y="3435480"/>
            <a:ext cx="1440" cy="765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6"/>
          <p:cNvSpPr/>
          <p:nvPr/>
        </p:nvSpPr>
        <p:spPr>
          <a:xfrm>
            <a:off x="2703600" y="3435480"/>
            <a:ext cx="1440" cy="765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3973680" y="887400"/>
            <a:ext cx="8064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3973680" y="1063800"/>
            <a:ext cx="8064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3973680" y="1239840"/>
            <a:ext cx="8064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0"/>
          <p:cNvSpPr/>
          <p:nvPr/>
        </p:nvSpPr>
        <p:spPr>
          <a:xfrm>
            <a:off x="3973680" y="1415880"/>
            <a:ext cx="80640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1"/>
          <p:cNvSpPr/>
          <p:nvPr/>
        </p:nvSpPr>
        <p:spPr>
          <a:xfrm>
            <a:off x="4782960" y="3584520"/>
            <a:ext cx="36864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2" descr=""/>
          <p:cNvPicPr/>
          <p:nvPr/>
        </p:nvPicPr>
        <p:blipFill>
          <a:blip r:embed="rId1"/>
          <a:stretch/>
        </p:blipFill>
        <p:spPr>
          <a:xfrm>
            <a:off x="34920" y="4863960"/>
            <a:ext cx="4462560" cy="1994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3" descr=""/>
          <p:cNvPicPr/>
          <p:nvPr/>
        </p:nvPicPr>
        <p:blipFill>
          <a:blip r:embed="rId2"/>
          <a:stretch/>
        </p:blipFill>
        <p:spPr>
          <a:xfrm>
            <a:off x="5791320" y="3662280"/>
            <a:ext cx="3352680" cy="3195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4" descr=""/>
          <p:cNvPicPr/>
          <p:nvPr/>
        </p:nvPicPr>
        <p:blipFill>
          <a:blip r:embed="rId3"/>
          <a:stretch/>
        </p:blipFill>
        <p:spPr>
          <a:xfrm>
            <a:off x="0" y="0"/>
            <a:ext cx="5638680" cy="4751280"/>
          </a:xfrm>
          <a:prstGeom prst="rect">
            <a:avLst/>
          </a:prstGeom>
          <a:ln w="0">
            <a:noFill/>
          </a:ln>
        </p:spPr>
      </p:pic>
      <p:sp>
        <p:nvSpPr>
          <p:cNvPr id="69" name="Oval 25"/>
          <p:cNvSpPr/>
          <p:nvPr/>
        </p:nvSpPr>
        <p:spPr>
          <a:xfrm>
            <a:off x="4038480" y="1219320"/>
            <a:ext cx="381240" cy="380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26"/>
          <p:cNvSpPr/>
          <p:nvPr/>
        </p:nvSpPr>
        <p:spPr>
          <a:xfrm>
            <a:off x="3200400" y="1600200"/>
            <a:ext cx="762120" cy="2286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27"/>
          <p:cNvSpPr/>
          <p:nvPr/>
        </p:nvSpPr>
        <p:spPr>
          <a:xfrm>
            <a:off x="8077320" y="5410080"/>
            <a:ext cx="990360" cy="990720"/>
          </a:xfrm>
          <a:prstGeom prst="ellipse">
            <a:avLst/>
          </a:prstGeom>
          <a:noFill/>
          <a:ln w="381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28"/>
          <p:cNvSpPr/>
          <p:nvPr/>
        </p:nvSpPr>
        <p:spPr>
          <a:xfrm>
            <a:off x="914400" y="1219320"/>
            <a:ext cx="380880" cy="380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29"/>
          <p:cNvSpPr/>
          <p:nvPr/>
        </p:nvSpPr>
        <p:spPr>
          <a:xfrm>
            <a:off x="3124080" y="457200"/>
            <a:ext cx="762120" cy="304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740600" y="2712960"/>
            <a:ext cx="5693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II) Gráficos atualizados do </a:t>
            </a: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link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Distribuição dos Conce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por área” e RESUMO </a:t>
            </a:r>
            <a:r>
              <a:rPr b="1" lang="en-US" sz="3200" spc="-1" strike="noStrike" baseline="30000">
                <a:solidFill>
                  <a:srgbClr val="ff0066"/>
                </a:solidFill>
                <a:latin typeface="Times New Roman"/>
              </a:rPr>
              <a:t>[1/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472680" y="4984920"/>
            <a:ext cx="834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1/] Considera os conceitos indicados pelas Comissões de Área 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po de texto livre da Ficha de Avaliaçã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antamento feito pela CAA/DAV ficha por fic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77" name="Oval 4"/>
          <p:cNvSpPr/>
          <p:nvPr/>
        </p:nvSpPr>
        <p:spPr>
          <a:xfrm>
            <a:off x="76320" y="4191120"/>
            <a:ext cx="1295280" cy="38088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5"/>
          <p:cNvSpPr/>
          <p:nvPr/>
        </p:nvSpPr>
        <p:spPr>
          <a:xfrm>
            <a:off x="1752480" y="3276720"/>
            <a:ext cx="457200" cy="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6"/>
          <p:cNvSpPr/>
          <p:nvPr/>
        </p:nvSpPr>
        <p:spPr>
          <a:xfrm flipH="1">
            <a:off x="4114800" y="3276720"/>
            <a:ext cx="533520" cy="0"/>
          </a:xfrm>
          <a:prstGeom prst="line">
            <a:avLst/>
          </a:prstGeom>
          <a:ln w="57240">
            <a:solidFill>
              <a:srgbClr val="ff00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785840" y="304812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4086360" y="0"/>
            <a:ext cx="498132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227520" y="2774880"/>
            <a:ext cx="26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PPGs com conce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igual a 6 ou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20:52:58Z</dcterms:created>
  <dc:creator>RicardoL</dc:creator>
  <dc:description/>
  <dc:language>en-US</dc:language>
  <cp:lastModifiedBy>rubensp</cp:lastModifiedBy>
  <dcterms:modified xsi:type="dcterms:W3CDTF">2008-10-30T19:58:47Z</dcterms:modified>
  <cp:revision>18</cp:revision>
  <dc:subject/>
  <dc:title>Apresentação do PowerPoint</dc:title>
</cp:coreProperties>
</file>