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907588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52520" y="341280"/>
            <a:ext cx="7577280" cy="649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r">
              <a:lnSpc>
                <a:spcPct val="13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4480" y="1230480"/>
            <a:ext cx="7156440" cy="2348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 algn="just">
              <a:spcBef>
                <a:spcPts val="22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374480" y="3802680"/>
            <a:ext cx="7156440" cy="2348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 algn="just">
              <a:spcBef>
                <a:spcPts val="22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52520" y="341280"/>
            <a:ext cx="7577280" cy="649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r">
              <a:lnSpc>
                <a:spcPct val="13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4480" y="1230480"/>
            <a:ext cx="3492000" cy="2348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 algn="just">
              <a:spcBef>
                <a:spcPts val="22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1440" y="1230480"/>
            <a:ext cx="3492000" cy="2348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 algn="just">
              <a:spcBef>
                <a:spcPts val="22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4480" y="3802680"/>
            <a:ext cx="3492000" cy="2348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 algn="just">
              <a:spcBef>
                <a:spcPts val="22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41440" y="3802680"/>
            <a:ext cx="3492000" cy="2348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 algn="just">
              <a:spcBef>
                <a:spcPts val="22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52520" y="341280"/>
            <a:ext cx="7577280" cy="649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r">
              <a:lnSpc>
                <a:spcPct val="13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4480" y="1230480"/>
            <a:ext cx="2304000" cy="2348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 algn="just">
              <a:spcBef>
                <a:spcPts val="22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794040" y="1230480"/>
            <a:ext cx="2304000" cy="2348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 algn="just">
              <a:spcBef>
                <a:spcPts val="22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13600" y="1230480"/>
            <a:ext cx="2304000" cy="2348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 algn="just">
              <a:spcBef>
                <a:spcPts val="22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374480" y="3802680"/>
            <a:ext cx="2304000" cy="2348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 algn="just">
              <a:spcBef>
                <a:spcPts val="22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794040" y="3802680"/>
            <a:ext cx="2304000" cy="2348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 algn="just">
              <a:spcBef>
                <a:spcPts val="22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13600" y="3802680"/>
            <a:ext cx="2304000" cy="2348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 algn="just">
              <a:spcBef>
                <a:spcPts val="22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52520" y="341280"/>
            <a:ext cx="7577280" cy="649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r">
              <a:lnSpc>
                <a:spcPct val="13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374480" y="1230480"/>
            <a:ext cx="715644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52520" y="341280"/>
            <a:ext cx="7577280" cy="649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r">
              <a:lnSpc>
                <a:spcPct val="13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374480" y="1230480"/>
            <a:ext cx="7156440" cy="4924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 algn="just">
              <a:spcBef>
                <a:spcPts val="22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52520" y="341280"/>
            <a:ext cx="7577280" cy="649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r">
              <a:lnSpc>
                <a:spcPct val="13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4480" y="1230480"/>
            <a:ext cx="3492000" cy="4924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 algn="just">
              <a:spcBef>
                <a:spcPts val="22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41440" y="1230480"/>
            <a:ext cx="3492000" cy="4924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 algn="just">
              <a:spcBef>
                <a:spcPts val="22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52520" y="341280"/>
            <a:ext cx="7577280" cy="649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r">
              <a:lnSpc>
                <a:spcPct val="13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52520" y="341280"/>
            <a:ext cx="757728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52520" y="341280"/>
            <a:ext cx="7577280" cy="649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r">
              <a:lnSpc>
                <a:spcPct val="13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4480" y="1230480"/>
            <a:ext cx="3492000" cy="2348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 algn="just">
              <a:spcBef>
                <a:spcPts val="22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1440" y="1230480"/>
            <a:ext cx="3492000" cy="4924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 algn="just">
              <a:spcBef>
                <a:spcPts val="22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374480" y="3802680"/>
            <a:ext cx="3492000" cy="2348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 algn="just">
              <a:spcBef>
                <a:spcPts val="22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52520" y="341280"/>
            <a:ext cx="7577280" cy="649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r">
              <a:lnSpc>
                <a:spcPct val="13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4480" y="1230480"/>
            <a:ext cx="3492000" cy="4924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 algn="just">
              <a:spcBef>
                <a:spcPts val="22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1440" y="1230480"/>
            <a:ext cx="3492000" cy="2348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 algn="just">
              <a:spcBef>
                <a:spcPts val="22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41440" y="3802680"/>
            <a:ext cx="3492000" cy="2348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 algn="just">
              <a:spcBef>
                <a:spcPts val="22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52520" y="341280"/>
            <a:ext cx="7577280" cy="649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r">
              <a:lnSpc>
                <a:spcPct val="13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4480" y="1230480"/>
            <a:ext cx="3492000" cy="2348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 algn="just">
              <a:spcBef>
                <a:spcPts val="22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1440" y="1230480"/>
            <a:ext cx="3492000" cy="2348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 algn="just">
              <a:spcBef>
                <a:spcPts val="22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74480" y="3802680"/>
            <a:ext cx="7156440" cy="2348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 algn="just">
              <a:spcBef>
                <a:spcPts val="22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se%20azul" descr="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52520" y="341280"/>
            <a:ext cx="7577280" cy="649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r">
              <a:lnSpc>
                <a:spcPct val="13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374480" y="1230480"/>
            <a:ext cx="7156440" cy="4924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 algn="just">
              <a:spcBef>
                <a:spcPts val="22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lvl="1" marL="777960" indent="-298440" algn="just">
              <a:spcBef>
                <a:spcPts val="2299"/>
              </a:spcBef>
              <a:buClr>
                <a:srgbClr val="ffffff"/>
              </a:buClr>
              <a:buFont typeface="Tahoma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lvl="2" marL="1198440" indent="-241200" algn="just">
              <a:spcBef>
                <a:spcPts val="2299"/>
              </a:spcBef>
              <a:buClr>
                <a:srgbClr val="ffffff"/>
              </a:buClr>
              <a:buFont typeface="Tahoma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lvl="3" marL="1676520" indent="-239760" algn="just">
              <a:spcBef>
                <a:spcPts val="2299"/>
              </a:spcBef>
              <a:buClr>
                <a:srgbClr val="ffffff"/>
              </a:buClr>
              <a:buFont typeface="Tahoma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lvl="4" marL="2155680" indent="-239400" algn="just">
              <a:spcBef>
                <a:spcPts val="2299"/>
              </a:spcBef>
              <a:buClr>
                <a:srgbClr val="ffffff"/>
              </a:buClr>
              <a:buFont typeface="Tahoma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lvl="5" marL="2155680" indent="-239400" algn="just">
              <a:spcBef>
                <a:spcPts val="2299"/>
              </a:spcBef>
              <a:buClr>
                <a:srgbClr val="000000"/>
              </a:buClr>
              <a:buFont typeface="Tahoma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lvl="6" marL="2155680" indent="-239400" algn="just">
              <a:spcBef>
                <a:spcPts val="2299"/>
              </a:spcBef>
              <a:buClr>
                <a:srgbClr val="000000"/>
              </a:buClr>
              <a:buFont typeface="Tahoma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01400" y="2590560"/>
            <a:ext cx="7302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txBody>
          <a:bodyPr lIns="95760" rIns="95760" tIns="47880" bIns="4788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Regulamentação do Livre Acesso no Brasi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301400" y="3886200"/>
            <a:ext cx="7302600" cy="17524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spcBef>
                <a:spcPts val="587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BR" sz="1900" spc="-1" strike="noStrike">
                <a:solidFill>
                  <a:srgbClr val="ffffff"/>
                </a:solidFill>
                <a:latin typeface="Tahoma"/>
              </a:rPr>
              <a:t>Audiência Pública ANP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587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BR" sz="1900" spc="-1" strike="noStrike">
                <a:solidFill>
                  <a:srgbClr val="ffffff"/>
                </a:solidFill>
                <a:latin typeface="Tahoma"/>
              </a:rPr>
              <a:t>- Dezembro de 2003 -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52520" y="341280"/>
            <a:ext cx="7577280" cy="649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r">
              <a:lnSpc>
                <a:spcPct val="13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Situação atu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4480" y="1230480"/>
            <a:ext cx="7156440" cy="4924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2000"/>
          </a:bodyPr>
          <a:p>
            <a:pPr marL="330120" indent="-330120">
              <a:lnSpc>
                <a:spcPct val="90000"/>
              </a:lnSpc>
              <a:spcBef>
                <a:spcPts val="18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BR" sz="1900" spc="-1" strike="noStrike">
                <a:solidFill>
                  <a:srgbClr val="ffffff"/>
                </a:solidFill>
                <a:latin typeface="Tahoma"/>
              </a:rPr>
              <a:t>Indústria pouco desenvolvida, principalmente quando se considera as dimensões do país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15680" indent="-274320">
              <a:lnSpc>
                <a:spcPct val="90000"/>
              </a:lnSpc>
              <a:spcBef>
                <a:spcPts val="1162"/>
              </a:spcBef>
              <a:buClr>
                <a:srgbClr val="ffffff"/>
              </a:buClr>
              <a:buFont typeface="Tahoma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BR" sz="1700" spc="-1" strike="noStrike">
                <a:solidFill>
                  <a:srgbClr val="ffffff"/>
                </a:solidFill>
                <a:latin typeface="Tahoma"/>
              </a:rPr>
              <a:t>Necessidade de vultuosos investimentos em infra-estrutura de transporte e distribuição, envolvendo contratos de longo prazo.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1" marL="715680" indent="-274320">
              <a:lnSpc>
                <a:spcPct val="90000"/>
              </a:lnSpc>
              <a:spcBef>
                <a:spcPts val="1162"/>
              </a:spcBef>
              <a:buClr>
                <a:srgbClr val="ffffff"/>
              </a:buClr>
              <a:buFont typeface="Tahoma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BR" sz="1700" spc="-1" strike="noStrike">
                <a:solidFill>
                  <a:srgbClr val="ffffff"/>
                </a:solidFill>
                <a:latin typeface="Tahoma"/>
              </a:rPr>
              <a:t>Elevado nível de risco para a viabilização desses investimentos.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1" marL="715680" indent="-274320">
              <a:lnSpc>
                <a:spcPct val="90000"/>
              </a:lnSpc>
              <a:spcBef>
                <a:spcPts val="1162"/>
              </a:spcBef>
              <a:buClr>
                <a:srgbClr val="ffffff"/>
              </a:buClr>
              <a:buFont typeface="Tahoma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BR" sz="1700" spc="-1" strike="noStrike">
                <a:solidFill>
                  <a:srgbClr val="ffffff"/>
                </a:solidFill>
                <a:latin typeface="Tahoma"/>
              </a:rPr>
              <a:t>Inadequação dos mecanismos de regulação utilizados em países com a indústria de gás consolidada e universalizada.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30120" indent="-330120">
              <a:lnSpc>
                <a:spcPct val="90000"/>
              </a:lnSpc>
              <a:spcBef>
                <a:spcPts val="18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BR" sz="1900" spc="-1" strike="noStrike">
                <a:solidFill>
                  <a:srgbClr val="ffffff"/>
                </a:solidFill>
                <a:latin typeface="Tahoma"/>
              </a:rPr>
              <a:t>Política Setorial pouco clara (Lei n.º 9.478/97)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15680" indent="-274320">
              <a:lnSpc>
                <a:spcPct val="90000"/>
              </a:lnSpc>
              <a:spcBef>
                <a:spcPts val="1162"/>
              </a:spcBef>
              <a:buClr>
                <a:srgbClr val="ffffff"/>
              </a:buClr>
              <a:buFont typeface="Tahoma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BR" sz="1700" spc="-1" strike="noStrike">
                <a:solidFill>
                  <a:srgbClr val="ffffff"/>
                </a:solidFill>
                <a:latin typeface="Tahoma"/>
              </a:rPr>
              <a:t>Ausência de diretrizes que organizem o desenvolvimento do setor.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1" marL="715680" indent="-274320">
              <a:lnSpc>
                <a:spcPct val="90000"/>
              </a:lnSpc>
              <a:spcBef>
                <a:spcPts val="1162"/>
              </a:spcBef>
              <a:buClr>
                <a:srgbClr val="ffffff"/>
              </a:buClr>
              <a:buFont typeface="Tahoma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BR" sz="1700" spc="-1" strike="noStrike">
                <a:solidFill>
                  <a:srgbClr val="ffffff"/>
                </a:solidFill>
                <a:latin typeface="Tahoma"/>
              </a:rPr>
              <a:t>Definição do gás como mercadoria ou insumo básico.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1" marL="715680" indent="-274320">
              <a:lnSpc>
                <a:spcPct val="90000"/>
              </a:lnSpc>
              <a:spcBef>
                <a:spcPts val="1162"/>
              </a:spcBef>
              <a:buClr>
                <a:srgbClr val="ffffff"/>
              </a:buClr>
              <a:buFont typeface="Tahoma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BR" sz="1700" spc="-1" strike="noStrike">
                <a:solidFill>
                  <a:srgbClr val="ffffff"/>
                </a:solidFill>
                <a:latin typeface="Tahoma"/>
              </a:rPr>
              <a:t>Harmonização entre as regulações do setor energético.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30120" indent="-330120">
              <a:lnSpc>
                <a:spcPct val="90000"/>
              </a:lnSpc>
              <a:spcBef>
                <a:spcPts val="18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BR" sz="1900" spc="-1" strike="noStrike">
                <a:solidFill>
                  <a:srgbClr val="ffffff"/>
                </a:solidFill>
                <a:latin typeface="Tahoma"/>
              </a:rPr>
              <a:t>Reflexos da Crise de Energia sobre o Modelo Institucional do  Setor de Gás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15680" indent="-274320">
              <a:lnSpc>
                <a:spcPct val="90000"/>
              </a:lnSpc>
              <a:spcBef>
                <a:spcPts val="1162"/>
              </a:spcBef>
              <a:buClr>
                <a:srgbClr val="ffffff"/>
              </a:buClr>
              <a:buFont typeface="Tahoma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BR" sz="1700" spc="-1" strike="noStrike">
                <a:solidFill>
                  <a:srgbClr val="ffffff"/>
                </a:solidFill>
                <a:latin typeface="Tahoma"/>
              </a:rPr>
              <a:t>Discussão do modelo do setor energético: universalização, modicidade, prestação de serviço público.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52520" y="341280"/>
            <a:ext cx="7577280" cy="649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r">
              <a:lnSpc>
                <a:spcPct val="13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Sobre as Minut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4480" y="1230480"/>
            <a:ext cx="7156440" cy="4924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4000"/>
          </a:bodyPr>
          <a:p>
            <a:pPr marL="337320" indent="-337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Respeito aos contratos em vigor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7320" indent="-337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Administração do risco dos investimentos em infra-estrutura, disciplinando o livre-acesso e estabelecendo condições especiai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1160" indent="-280440">
              <a:lnSpc>
                <a:spcPct val="90000"/>
              </a:lnSpc>
              <a:spcBef>
                <a:spcPts val="1162"/>
              </a:spcBef>
              <a:buClr>
                <a:srgbClr val="ffffff"/>
              </a:buClr>
              <a:buFont typeface="Tahoma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BR" sz="1700" spc="-1" strike="noStrike">
                <a:solidFill>
                  <a:srgbClr val="ffffff"/>
                </a:solidFill>
                <a:latin typeface="Tahoma"/>
              </a:rPr>
              <a:t>Atribuição do Regulador conforme Lei n.º 9.478/97.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1" marL="731160" indent="-280440">
              <a:lnSpc>
                <a:spcPct val="90000"/>
              </a:lnSpc>
              <a:spcBef>
                <a:spcPts val="1162"/>
              </a:spcBef>
              <a:buClr>
                <a:srgbClr val="ffffff"/>
              </a:buClr>
              <a:buFont typeface="Tahoma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BR" sz="1700" spc="-1" strike="noStrike">
                <a:solidFill>
                  <a:srgbClr val="ffffff"/>
                </a:solidFill>
                <a:latin typeface="Tahoma"/>
              </a:rPr>
              <a:t>Excepcionalidades em favor dos carregadores investidores: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2" marL="1126440" indent="-226440">
              <a:lnSpc>
                <a:spcPct val="90000"/>
              </a:lnSpc>
              <a:spcBef>
                <a:spcPts val="374"/>
              </a:spcBef>
              <a:buClr>
                <a:srgbClr val="ffffff"/>
              </a:buClr>
              <a:buFont typeface="Tahoma"/>
              <a:buChar char="•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Tahoma"/>
              </a:rPr>
              <a:t>Mercado Emergente / Nova Instalação / Serviço Interruptível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37320" indent="-337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Alocação no CPAC pelo menor preço: foco no consumidor final harmoniza regulações federal e estaduai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7320" indent="-337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Critério tarifário considerando distância e escal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1160" indent="-280440">
              <a:lnSpc>
                <a:spcPct val="90000"/>
              </a:lnSpc>
              <a:spcBef>
                <a:spcPts val="1162"/>
              </a:spcBef>
              <a:buClr>
                <a:srgbClr val="ffffff"/>
              </a:buClr>
              <a:buFont typeface="Tahoma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BR" sz="1700" spc="-1" strike="noStrike">
                <a:solidFill>
                  <a:srgbClr val="ffffff"/>
                </a:solidFill>
                <a:latin typeface="Tahoma"/>
              </a:rPr>
              <a:t>Conforme estabelecido na Port. 169/98.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1" marL="731160" indent="-280440">
              <a:lnSpc>
                <a:spcPct val="90000"/>
              </a:lnSpc>
              <a:spcBef>
                <a:spcPts val="1162"/>
              </a:spcBef>
              <a:buClr>
                <a:srgbClr val="ffffff"/>
              </a:buClr>
              <a:buFont typeface="Tahoma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BR" sz="1700" spc="-1" strike="noStrike">
                <a:solidFill>
                  <a:srgbClr val="ffffff"/>
                </a:solidFill>
                <a:latin typeface="Tahoma"/>
              </a:rPr>
              <a:t>Mais racional que critério apenas por distância, </a:t>
            </a:r>
            <a:r>
              <a:rPr b="0" lang="pt-BR" sz="1700" spc="-1" strike="noStrike" u="sng">
                <a:solidFill>
                  <a:srgbClr val="ffffff"/>
                </a:solidFill>
                <a:uFillTx/>
                <a:latin typeface="Tahoma"/>
              </a:rPr>
              <a:t>mas não viabiliza o atendimento de regiões distantes e menos industrializadas</a:t>
            </a:r>
            <a:r>
              <a:rPr b="0" lang="pt-BR" sz="17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37320" indent="-337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Maior liberdade para a negociação direta entre os agentes nas operações de cessão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52520" y="341280"/>
            <a:ext cx="7577280" cy="649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r">
              <a:lnSpc>
                <a:spcPct val="13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Expectativ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4480" y="1230480"/>
            <a:ext cx="7156440" cy="4924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8000"/>
          </a:bodyPr>
          <a:p>
            <a:pPr marL="351720" indent="-351720">
              <a:lnSpc>
                <a:spcPct val="90000"/>
              </a:lnSpc>
              <a:spcBef>
                <a:spcPts val="21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BR" sz="2100" spc="-1" strike="noStrike">
                <a:solidFill>
                  <a:srgbClr val="ffffff"/>
                </a:solidFill>
                <a:latin typeface="Tahoma"/>
              </a:rPr>
              <a:t>Implementação de uma Regulação para o Setor voltada para: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1" marL="762120" indent="-292320">
              <a:lnSpc>
                <a:spcPct val="9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BR" sz="1900" spc="-1" strike="noStrike">
                <a:solidFill>
                  <a:srgbClr val="ffffff"/>
                </a:solidFill>
                <a:latin typeface="Tahoma"/>
              </a:rPr>
              <a:t>Desenvolvimento e Consolidação da Indústria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62120" indent="-292320">
              <a:lnSpc>
                <a:spcPct val="9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BR" sz="1900" spc="-1" strike="noStrike">
                <a:solidFill>
                  <a:srgbClr val="ffffff"/>
                </a:solidFill>
                <a:latin typeface="Tahoma"/>
              </a:rPr>
              <a:t>Inserção do gás na matriz energética (geração térmica)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62120" indent="-292320">
              <a:lnSpc>
                <a:spcPct val="9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BR" sz="1900" spc="-1" strike="noStrike">
                <a:solidFill>
                  <a:srgbClr val="ffffff"/>
                </a:solidFill>
                <a:latin typeface="Tahoma"/>
              </a:rPr>
              <a:t>Atendimento das demandas ambientais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51720" indent="-351720">
              <a:lnSpc>
                <a:spcPct val="90000"/>
              </a:lnSpc>
              <a:spcBef>
                <a:spcPts val="21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BR" sz="2100" spc="-1" strike="noStrike">
                <a:solidFill>
                  <a:srgbClr val="ffffff"/>
                </a:solidFill>
                <a:latin typeface="Tahoma"/>
              </a:rPr>
              <a:t>Administração dos riscos possibilitando a realização de investimentos em infra-estrutura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1" marL="762120" indent="-292320">
              <a:lnSpc>
                <a:spcPct val="9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BR" sz="1900" spc="-1" strike="noStrike">
                <a:solidFill>
                  <a:srgbClr val="ffffff"/>
                </a:solidFill>
                <a:latin typeface="Tahoma"/>
              </a:rPr>
              <a:t>Implantação dos projetos em estudo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62120" indent="-292320">
              <a:lnSpc>
                <a:spcPct val="9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BR" sz="1900" spc="-1" strike="noStrike">
                <a:solidFill>
                  <a:srgbClr val="ffffff"/>
                </a:solidFill>
                <a:latin typeface="Tahoma"/>
              </a:rPr>
              <a:t>Atração de novos carregadores investidores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51720" indent="-351720">
              <a:lnSpc>
                <a:spcPct val="90000"/>
              </a:lnSpc>
              <a:spcBef>
                <a:spcPts val="21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pt-BR" sz="2100" spc="-1" strike="noStrike">
                <a:solidFill>
                  <a:srgbClr val="ffffff"/>
                </a:solidFill>
                <a:latin typeface="Tahoma"/>
              </a:rPr>
              <a:t>Sintonia dos Órgãos de Regulação com as diretrizes em discussão para organização do Setor Energético (Modelo do Setor Elétrico e Lei do Gás)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02:17:48Z</dcterms:created>
  <dc:creator>Flavio Tojal</dc:creator>
  <dc:description/>
  <dc:language>en-US</dc:language>
  <cp:lastModifiedBy>eliana</cp:lastModifiedBy>
  <dcterms:modified xsi:type="dcterms:W3CDTF">2003-12-03T17:23:50Z</dcterms:modified>
  <cp:revision>191</cp:revision>
  <dc:subject/>
  <dc:title>Título da Apresentação</dc:title>
</cp:coreProperties>
</file>