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B95-DAC5-4FDF-AB07-123DFC87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8FC-582D-46FD-AC76-130FE896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7BE-854A-497E-BCC7-C07420B5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112-9602-43FB-9749-659CBA71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C94-A42B-44FA-8FCC-7BD26853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2CA-80E6-4A09-8B9A-E1093659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A88-B4B4-46B8-8F76-0285C63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B5E-C967-41E6-A3B1-631A09A9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151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7E4-465B-4C33-841D-37D4B70D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EB1-1CD5-4217-81D6-783F14E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357-666B-40E6-BB58-96DD4B6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D9C-E830-4B0E-B2FF-AF1E638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49D3-F9B1-4C79-8A8B-490DC4A41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890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Rio, 04 de dezembro d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Regulamentação do Livre Acesso a Gasodu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- AUDIÊNCIA PÚBLICA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83740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intendência de Comercialização e Movimentação de Gás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ência Nacional do Petróleo - A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de Trabalho criado pela Portaria n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432 (19/11/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ordenação: MME e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é estabelecer diretrizes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envolvimento do merc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, ampliando sua participação na matriz energét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rmação d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reç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gás natural, considerando os seus competidores de origem fóssil e renováv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roveitamento da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erv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 no Bras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equação 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co regulatóri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a indústria de G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ansão d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ra-estrutu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transporte e distribuição de gás natural, considerando modais alternativos, inclus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ite para participação de outros agentes a critério da Coorde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F, Petrobras, IBP, TBG, TSB, Transpetro, Distribuidoras de GN, Abegás, BNDES, Reguladores Estadu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AZO: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rço/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120 dia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ESTAL do Banco Mund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de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ção de problemas regul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aleciment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co na Relação Gás-Eletricidade -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ita alguns aspect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lta de competição no suprimento de gás prejudicando a introdução da geração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ompatibilidade entre compromissos fixos (ToP e SoP) e flexibilidade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ração distribuída, cogeração, mercado secund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ticipação cruzada  considerando as 2 indúst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íticas regulatórias e comercias e relação com barreiras e oportunidades para os ag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jetivo: identificar imperfeições de mercado e propor ações de mitig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ros Iten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ção de Base de Dados do Gas Natural no 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ursos de tecnologia da informação para viabilizar elaboração de políticas consisten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peracionalização do C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valiar  arranjo atual e identificar opções de melhoria das estruturas institucionais de su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ndo este contexto, questiona-se a pertinência de publicar as portarias no curto prazo (até 6 meses) antes de se ter propostas estruturais consistentes e a definição de uma política para o gás na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uns comentários recebidos durante o processo de consulta pública afirmam que a publicação de tais regulamentações não seria oportuna nesse mo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33560" y="3504240"/>
            <a:ext cx="4543560" cy="430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L A OPINIÃO DOS AGENT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Audiência Pública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i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 manifestações dos expositores seguirão a ordem de inscrição, realizada previame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da exposição estará limitada ao tempo de 10 minut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cialmente será permitida a manifestação de 1 representante de cada entidad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as as manifestações dos expositores inscritos, será permitido, por um período de 30 minut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retorno de expositores para complementar sua manifestação ou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manifestação de outros participantes da audiênci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os os depoimentos serão gravad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posicionamento da ANP relativo aos questionamentos apresentados será realizado mediante Nota Técnica, disponibilizada aos interessados, após aprovação pela Diretoria Colegi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90800" y="4869000"/>
            <a:ext cx="5022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ência Nacional do Petróleo – A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an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67200" y="2286000"/>
          <a:ext cx="12081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0" y="2286000"/>
                    <a:ext cx="1208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órico da Regulamentação do Artigo 58 da Lei 9.47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05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169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ogad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isão da Portaria ANP 169/98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98/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etermina o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ncurso Aberto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ara oferta e alocação de capacidade decorrente da expansão de gasod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ntexto do racionamento de energia elétrica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254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gulamenta os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procedimentos para resolução de confli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4 portarias: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, cessão de capacidade e informações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001/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Estabelece os procedimentos para o envio de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informações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erentes às atividades de transporte e de compra e v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diênci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1905120"/>
            <a:ext cx="2895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6/nov/98 a 19/ab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7/fev/2001 a 09/ma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25/jun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12/set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5/ago/2002 a 20/out/2002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07/jan/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9/set/2003 a 19/nov/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4 de dezembro de 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itude de altern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040" y="270396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LIVRE ACES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6240" y="2666160"/>
            <a:ext cx="56152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urso Aberto p/ Novos Gasodutos  VS.  só p/ Expansã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4800" y="3276000"/>
            <a:ext cx="4268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de STI Limitada   VS.   Sem Restr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4040" y="424404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RITÉRIOS TARIFÁR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5880" y="4266360"/>
            <a:ext cx="35136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Mais Detalhado   VS.   Mais Gené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83360" y="4647600"/>
            <a:ext cx="278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ência com base legal exis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79760" y="5546160"/>
            <a:ext cx="47710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Pública   VS.   Exceções para Cessão Dire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89120" y="2056680"/>
            <a:ext cx="25261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+ Aberto   VS.   + Restri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504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íodo de Carência p/ Mercado Emergente e Novas Instal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720" y="5531400"/>
            <a:ext cx="29649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ESSÃO DE CAPACIDA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057400"/>
            <a:ext cx="0" cy="160020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11480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33412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2800" spc="-1" strike="noStrike">
                <a:solidFill>
                  <a:srgbClr val="006666"/>
                </a:solidFill>
                <a:latin typeface="Arial Narrow"/>
              </a:rPr>
              <a:t>30 Documentos Recebidos</a:t>
            </a:r>
            <a:endParaRPr b="1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ociações de Classe (7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P, ABEGAS, ABRACE, APINE, FIESP, SINDSAL,  OAB/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Transportador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BG, TSB, Gasocidente, Transp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 dos Estado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cretaria de Energia, Indústria Naval e Petróleo - R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de Petróleo e Energia (8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G, El Paso, Petrobras, Repsol YPF, Shell, Tot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n American, ChevronTex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tribuidora de Gá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s Brasi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gência Reguladora Estadual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ultores (2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BIE, Estratégia &amp;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ritório de Advocacia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lhôa Canto, Rezende e Guerra Adv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âmara de Comércio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erican Chamber of Comme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soas físic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sé Garcez, Urbano Lopes, Douglas Pedra/ Lúcia Helena Salgado,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Ricardo Vig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371600"/>
            <a:ext cx="4724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UNS PONTOS DE CONSEN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cariedade de se regulamentar por Por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a percepção de risco pelos a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LEI específica para o Gás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iderando suas especific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anda por atuação mais enfática por parte do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compatibilizar Regulação do Setor de Infra-estrutura                 com Defesa da Concor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mentação pró-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Proteção para Novas Instalações e Mercado Emergente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6880" y="342828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062240"/>
            <a:ext cx="434340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amentos quanto à legalidade             (Leis 9478/97 e 8.884/9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patibilidade com princípios que nortearam decisões de investimento no E&amp;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sição à reserva de mercado, impedem a competitividade e a livre concorrênc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orno à situação de monopó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judica o consumidor, impedindo o acesso a alternativas de suprimento / menores preç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64400"/>
            <a:ext cx="35812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nço com relação às propostas anterior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ção, redução da percepção de risco e incentivo a investiment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sugerem aumento dos prazos de prote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3047400"/>
            <a:ext cx="1396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Secr. Energia R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34120" y="342828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ão à Oferta de Transporte Interruptível (70% de utilização do d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8680" y="378684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160" y="378540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211640"/>
            <a:ext cx="43434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ringe a otimização do uso da infra-estrutur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be o desenvolvimento do mercado de gá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omete o objetivo de modicidade tarifár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elece o monopólio de fato da empresa domin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212360"/>
            <a:ext cx="35812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iga riscos dos contratos de compra de gás que permitiram viabilizar à implantação da infra-estrutura de transpor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propõem alterar definição de capacidade ociosa, aumentando restri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ês projetos de estudo encontram-se em andamento com o objetivo de propor ou definir Diretrizes para uma Política para o Gás Natu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nvolvimento do 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upo de Trabalho MME/ANP criado pela Portaria n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432 (19/11/0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participação de outros agentes a critério dos coorden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o Banco Mundial - ESTA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Energy Sector Technical Assistance 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ás e 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ronogramas não compatíveis para formulação de uma Política consistente e bem fundame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isão de longo prazo, estrutura de mercado, papel dos agentes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talhes nos slides seguint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: propor um modelo de desenvolvimento para a indústria de gás natural no Brasil, fornecendo subsídios para a política de 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E/SPG está diretamente envolvido n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entes do mercado são convidados a contribuir através de entrevistas e convidados para workshops de apresentação de rel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267080"/>
            <a:ext cx="1511280" cy="8384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udo da Experiência Inter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256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óstico do Setor de Gás  no 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enho do Modelo do Se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agem do Mercado de Gás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m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960" y="54100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69160" y="5334120"/>
            <a:ext cx="15264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3640" y="5813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o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45240" y="57150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et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95680" y="541008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3040" y="581328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z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6:03:43Z</dcterms:created>
  <dc:creator>ANP</dc:creator>
  <dc:description/>
  <dc:language>en-US</dc:language>
  <cp:lastModifiedBy>eliana</cp:lastModifiedBy>
  <cp:lastPrinted>2003-11-24T16:36:24Z</cp:lastPrinted>
  <dcterms:modified xsi:type="dcterms:W3CDTF">2003-12-04T10:16:18Z</dcterms:modified>
  <cp:revision>158</cp:revision>
  <dc:subject/>
  <dc:title>Slide sem título </dc:title>
</cp:coreProperties>
</file>