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36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36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36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1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1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36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36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36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85800" y="336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68480" y="336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36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85800" y="336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36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68480" y="336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313800" y="121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41440" y="121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85800" y="336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313800" y="336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41440" y="336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36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36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36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550720" y="6602760"/>
            <a:ext cx="79956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56801-A607-4062-9769-15249CB99C34}" type="slidenum">
              <a:rPr b="0" lang="en-US" sz="1000" spc="-1" strike="noStrike">
                <a:solidFill>
                  <a:srgbClr val="ffffff"/>
                </a:solidFill>
                <a:latin typeface="Eri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7840800" cy="733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0066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819920" y="7920"/>
            <a:ext cx="1308240" cy="730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5800" y="1066680"/>
            <a:ext cx="77724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PAbertBluecópi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4780080" y="653904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160" y="923760"/>
            <a:ext cx="8945640" cy="69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ff"/>
                </a:solidFill>
                <a:latin typeface="Erie"/>
              </a:rPr>
              <a:t>Respeito aos contratos em vigo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8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ffff"/>
                </a:solidFill>
                <a:latin typeface="Erie"/>
              </a:rPr>
              <a:t>  </a:t>
            </a:r>
            <a:r>
              <a:rPr b="0" lang="pt-BR" sz="2200" spc="-1" strike="noStrike">
                <a:solidFill>
                  <a:srgbClr val="ffffff"/>
                </a:solidFill>
                <a:latin typeface="Erie"/>
              </a:rPr>
              <a:t>Segurança regulatóri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8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8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8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ffff"/>
                </a:solidFill>
                <a:latin typeface="Erie"/>
              </a:rPr>
              <a:t> </a:t>
            </a:r>
            <a:r>
              <a:rPr b="0" lang="pt-BR" sz="2200" spc="-1" strike="noStrike">
                <a:solidFill>
                  <a:srgbClr val="ffffff"/>
                </a:solidFill>
                <a:latin typeface="Erie"/>
              </a:rPr>
              <a:t>Não amplia a exposição de risco da TBG, para cumprimento das obrigações financeiras e comerciai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8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8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8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8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ffff"/>
                </a:solidFill>
                <a:latin typeface="Erie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8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1130400" indent="-457200">
              <a:lnSpc>
                <a:spcPct val="100000"/>
              </a:lnSpc>
              <a:spcBef>
                <a:spcPts val="8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8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63360"/>
            <a:ext cx="828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Erie"/>
              </a:rPr>
              <a:t>Diretrizes apontad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780080" y="653904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923760"/>
            <a:ext cx="8945640" cy="56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ff"/>
                </a:solidFill>
                <a:latin typeface="Erie"/>
              </a:rPr>
              <a:t>Atração de Investimento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ffff"/>
                </a:solidFill>
                <a:latin typeface="Erie"/>
              </a:rPr>
              <a:t>  </a:t>
            </a:r>
            <a:r>
              <a:rPr b="0" lang="pt-BR" sz="2000" spc="-1" strike="noStrike">
                <a:solidFill>
                  <a:srgbClr val="ffffff"/>
                </a:solidFill>
                <a:latin typeface="Erie"/>
              </a:rPr>
              <a:t>Adequa o arcabouço regulatório às características da indústria –”tropicaliza” conceit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Eri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Erie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Erie"/>
              </a:rPr>
              <a:t>- Conceitos de Mercados Emergent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Erie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Erie"/>
              </a:rPr>
              <a:t>- Novas Instalações de Transpor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Erie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Erie"/>
              </a:rPr>
              <a:t>Protege e estimula investimentos em mercados em desenvolvimento e gasodutos de transpor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Erie"/>
              </a:rPr>
              <a:t>Março/2004, TBG deixa de ser Nova Instalação de Transporte e COMGAS e CEG deixam de ser Mercados Emergentes – sinalização de competiçã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63360"/>
            <a:ext cx="828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Erie"/>
              </a:rPr>
              <a:t>Diretrizes apontad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780080" y="653904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8280" y="784080"/>
            <a:ext cx="8945640" cy="28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ff"/>
                </a:solidFill>
                <a:latin typeface="Erie"/>
              </a:rPr>
              <a:t>Adequação de conceito Capacidade Ociosa de Transport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 algn="just"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ffffff"/>
                </a:solidFill>
                <a:latin typeface="Erie"/>
              </a:rPr>
              <a:t>	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Erie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Erie"/>
              </a:rPr>
              <a:t>Necessidade de ajuste de definição para não haver conflito na aplicação de conceit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Erie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Erie"/>
              </a:rPr>
              <a:t>Modelo já extensivamente debatido pelos agentes – figura seguinte, mais adequad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 algn="just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649520" y="4243320"/>
            <a:ext cx="5707080" cy="24386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63360"/>
            <a:ext cx="828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Erie"/>
              </a:rPr>
              <a:t>Diretrizes apontad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780080" y="653904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8280" y="847800"/>
            <a:ext cx="8945640" cy="48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just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ff"/>
                </a:solidFill>
                <a:latin typeface="Erie"/>
              </a:rPr>
              <a:t> </a:t>
            </a:r>
            <a:r>
              <a:rPr b="1" lang="pt-BR" sz="2200" spc="-1" strike="noStrike">
                <a:solidFill>
                  <a:srgbClr val="ffffff"/>
                </a:solidFill>
                <a:latin typeface="Erie"/>
              </a:rPr>
              <a:t>Redução do preço ao consumido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Erie"/>
              </a:rPr>
              <a:t>Critério de alocação de capacidade num Concurso Aberto será baseado no menor preço do gás natural ofertado - </a:t>
            </a:r>
            <a:r>
              <a:rPr b="0" i="1" lang="pt-BR" sz="2000" spc="-1" strike="noStrike">
                <a:solidFill>
                  <a:srgbClr val="ffffff"/>
                </a:solidFill>
                <a:latin typeface="Erie"/>
              </a:rPr>
              <a:t>commodity</a:t>
            </a:r>
            <a:r>
              <a:rPr b="0" lang="pt-BR" sz="2000" spc="-1" strike="noStrike">
                <a:solidFill>
                  <a:srgbClr val="ffffff"/>
                </a:solidFill>
                <a:latin typeface="Erie"/>
              </a:rPr>
              <a:t> + transport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 algn="just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Erie"/>
              </a:rPr>
              <a:t>Infere-se que a concorrência por capacidade restringir-se-á ao preço do gás devendo a tarifa de transporte refletir a mínima necessário para remunerar o investiment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 algn="just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 algn="just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Erie"/>
              </a:rPr>
              <a:t>Busca benefício à socieda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 algn="just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 algn="just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63360"/>
            <a:ext cx="828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Erie"/>
              </a:rPr>
              <a:t>Diretrizes apontad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4780080" y="653904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8280" y="847800"/>
            <a:ext cx="8945640" cy="32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just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ff"/>
                </a:solidFill>
                <a:latin typeface="Erie"/>
              </a:rPr>
              <a:t>Tarifas em função do mercado e configuração do projeto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 algn="just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 algn="just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Erie"/>
              </a:rPr>
              <a:t>Volume/demanda e distância serão considerados no cálculo tarifário (sinalização adequada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 algn="just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Eri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 algn="just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Eri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 algn="just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Erie"/>
              </a:rPr>
              <a:t>Permite que as tarifas levem em consideração os aspectos de competitividade do Transportador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63360"/>
            <a:ext cx="828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Erie"/>
              </a:rPr>
              <a:t>Diretrizes apontad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780080" y="653904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8280" y="847800"/>
            <a:ext cx="894564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just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ff"/>
                </a:solidFill>
                <a:latin typeface="Erie"/>
              </a:rPr>
              <a:t>Incentivos aos Transportadores – busca de novos serviço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 algn="just">
              <a:lnSpc>
                <a:spcPct val="100000"/>
              </a:lnSpc>
              <a:spcBef>
                <a:spcPts val="150"/>
              </a:spcBef>
              <a:buClr>
                <a:srgbClr val="ffffff"/>
              </a:buClr>
              <a:buFont typeface="Eri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 algn="just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Erie"/>
              </a:rPr>
              <a:t>Repasse de receitas, entendemos que reduzir o repasse de 90% para 75% estimula o Transportador (oportunidades para obtenção de receitas extras com serviços de transporte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 algn="just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Eri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 algn="just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Eri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 algn="just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Erie"/>
              </a:rPr>
              <a:t>Sugerimos estabelecer a inclusão de duas outras alternativas possíveis (STF e outros serviços), bem como o repasse associado de 50%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63360"/>
            <a:ext cx="828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Erie"/>
              </a:rPr>
              <a:t>Diretrizes apontad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05T09:43:49Z</dcterms:created>
  <dc:creator>Transportadora Brasileira Gasoduto Bolívia-Brasil S.A.</dc:creator>
  <dc:description/>
  <dc:language>en-US</dc:language>
  <cp:lastModifiedBy>charles.fernandes</cp:lastModifiedBy>
  <cp:lastPrinted>2001-06-21T20:18:23Z</cp:lastPrinted>
  <dcterms:modified xsi:type="dcterms:W3CDTF">2003-12-04T12:33:11Z</dcterms:modified>
  <cp:revision>346</cp:revision>
  <dc:subject/>
  <dc:title>Slide sem título </dc:title>
</cp:coreProperties>
</file>