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187-A88C-430F-B2A3-1EEC7F25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34F-BB1E-47FF-B119-8E550096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8D1-79F5-4908-A2BA-EE4718E2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589-E4F5-4FA4-8EF2-A5EBC2A4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16B-67B6-4329-9D0E-E06668A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DAF-D9A2-4497-8AE6-7360A73B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B94-4567-46F2-B0EC-0571697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274-E15C-4838-98DF-24E4C1D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2AF-40DC-4613-8175-B36F5BC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3E0-632F-4B94-8761-E1ACBC1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91B-84E1-49CE-9BA8-0F8B35E0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A1A-9F5B-4FF9-B2CD-798F383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7FBA-50EB-4F71-B6B7-2F0F381004B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GMedium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BGMedium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791400" y="5699160"/>
            <a:ext cx="1990800" cy="91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GMedium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G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GMedium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150000"/>
              <a:buFont typeface="BG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GMedium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150000"/>
              <a:buFont typeface="BG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GMedium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90840"/>
            <a:ext cx="9144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udiência Pública ANP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Comentários BG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Minutas de Portarias para Regulamentação do Livre Acesso, Cessão de Capacidade e Critérios Tarifários para Gasodutos de Transporte  </a:t>
            </a:r>
            <a:br>
              <a:rPr sz="2400"/>
            </a:br>
            <a:br>
              <a:rPr sz="2400"/>
            </a:b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4 de Dezembro 2003</a:t>
            </a:r>
            <a:br>
              <a:rPr sz="3600"/>
            </a:br>
            <a:br>
              <a:rPr sz="36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76200" y="464004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itos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ALIDADE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livre acesso a gasodutos de transporte está previsto na Lei 9478/97, que estabelece como sua única condição a remuneração adequada ao proprietário das instalações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Qualquer restrição ao conceito de livre acesso fere a Lei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acesso deve ser concedido para gasodutos existentes e a construir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GMedium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ESTRUTURA DA INDÚSTRIA;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 Emenda Constitucional No. 9 estabeleceu a abertura do setor de petróleo e gás natural no Brasi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Para que a competição possa se dar é importante a adequada regulação dos segmentos não competitivos – transporte por ser um monopólio natural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Sem o livre acesso não se viabiliza de fato a concorrência na produç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BG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BGMedium"/>
              </a:rPr>
              <a:t>Garantia de remuneração do transportador - contratos </a:t>
            </a:r>
            <a:r>
              <a:rPr b="1" i="1" lang="pt-BR" sz="1800" spc="-1" strike="noStrike">
                <a:solidFill>
                  <a:srgbClr val="ffff00"/>
                </a:solidFill>
                <a:latin typeface="BGMedium"/>
              </a:rPr>
              <a:t>ship-or-pay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arência para Aplicação do Livre Acesso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belece, na prática, um monopólio na comercialização do produto; 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Uma vez  que o transporte de gás no Brasil é feito sob o regime de autorização, não há garantias de contrapartidas de investimento mínimo, obrigatoriedade de oferta, tarifas reguladas e requisitos de transparência que caracterizam um processo de concessã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Neste sentido a carência não garante o investimento em novos gasodutos como está sendo proclamado;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O conceito de Mercado Emergente carece de fundamentação técnica e econômica. Eventuais restrições à competição pela natureza do mercado seriam de competência do orgão regulador da concorrência.</a:t>
            </a: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87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mite para Prestação Serviço Interruptível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rece de justificativa econômic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i contra o conceito de maximização do uso da infra-estrutura estabelecido na Lei 9.478/97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umenta o poder de mercado do comercializador monopolista, pois este pode efetivamente controlar o mercado para mantê-lo abaixo do limite de 70%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mpede o desenvolvimento de um mercado secundário de gá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O Serviço Interruptível favorece a redução da tarifa de Serviço Firme, assim sua proibição vai contra o conceito de modicidade tarifária defendido pelo Governo.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0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ferência do Carregador na Recontratação de Capacidade ao Fim do Contrato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imina efetivamente a possibilidade de acesso de terceiros interessados à capacidade disponível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do Gás como critério para alocação de capacidade;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fere ao Transportador o poder de definir o preço do gás natural no país, o que vai contra a Lei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ssume que os consumidores não sabem contratar devidamente seu gás e lhes retira esta prerrogativa;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eço final do gás é função de outros acordos comerciais (ex. </a:t>
            </a:r>
            <a:r>
              <a:rPr b="1" i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ake-or-pay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e o transportador não tem como avaliar o menor preço do produto.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3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licações das Propostas de Porta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taria de Critérios Tarifários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astante vaga, não definindo claramente os critérios a serem adotados quando do estabelecimento de tarifas de transpor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ão estabelece objetivamente o conceito de tarifas baseadas em custo de prestação de serviço, nem tarifas baseadas em distância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 falta de critérios objetivos, aliada ao não tratamento da possibilidade de discriminação através de critérios não tarifários (balanceamento do gasoduto, gás para uso do sistema etc) cria espaço para que a tarifa seja utilizada para a discriminação na prestação dos diversos serviços, ou para a apropriação indevida de renda por um determinado agente da cadeia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6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Gasoduto como Infra-Estrutu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BG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287000"/>
            <a:ext cx="77724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 Audiência Pública da Comissão de Infra-Estrutura do Senado em 25 de Novembro foi afirmado diversas vezes que gasoduto é obra de infra-estrura e portanto deve ser desenvolvido com recursos do Governo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so esta tese prevaleça na nova regulação que está sendo estudada para o gás natural, toda a discusão sobre o livre acesso deixa de ser relevante, pois aplicado automaticamente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jacente ao conceito de obra de infra-estrutura, está o conceito de uso desta infra-estrutura por qualquer agente / pessoa em condições não discriminatórias;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sto corrobora a tese de que o livre acesso é um conceito imprescindível para a indústria.   </a:t>
            </a:r>
            <a:endParaRPr b="0" lang="en-US" sz="2000" spc="-1" strike="noStrike">
              <a:solidFill>
                <a:srgbClr val="ffffff"/>
              </a:solidFill>
              <a:latin typeface="BGMedium"/>
            </a:endParaRPr>
          </a:p>
        </p:txBody>
      </p:sp>
      <p:sp>
        <p:nvSpPr>
          <p:cNvPr id="99" name=""/>
          <p:cNvSpPr/>
          <p:nvPr/>
        </p:nvSpPr>
        <p:spPr>
          <a:xfrm>
            <a:off x="1684080" y="6399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BGMedium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11:17:11Z</dcterms:created>
  <dc:creator>hillierdj</dc:creator>
  <dc:description/>
  <dc:language>en-US</dc:language>
  <cp:lastModifiedBy>eliana</cp:lastModifiedBy>
  <cp:lastPrinted>2001-03-09T12:11:51Z</cp:lastPrinted>
  <dcterms:modified xsi:type="dcterms:W3CDTF">2003-12-03T17:30:41Z</dcterms:modified>
  <cp:revision>4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8007508</vt:r8>
  </property>
  <property fmtid="{D5CDD505-2E9C-101B-9397-08002B2CF9AE}" pid="3" name="_AuthorEmail">
    <vt:lpwstr>martin.pratt@bg-bolivia.com</vt:lpwstr>
  </property>
  <property fmtid="{D5CDD505-2E9C-101B-9397-08002B2CF9AE}" pid="4" name="_AuthorEmailDisplayName">
    <vt:lpwstr>Martin Pratt</vt:lpwstr>
  </property>
  <property fmtid="{D5CDD505-2E9C-101B-9397-08002B2CF9AE}" pid="5" name="_EmailSubject">
    <vt:lpwstr>see att</vt:lpwstr>
  </property>
</Properties>
</file>