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A005-BEDD-4656-A098-7EED02BD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423756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D50B-BB39-43CB-A385-23E960A1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37160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423756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423756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C3FA-1E40-4DB3-AA9A-23BDF375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37160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137160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423756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423756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423756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0D37-4143-4F5D-9DBF-2E5349A6D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B941-F4DD-4FA1-8B73-B2D2E5A3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E5C7-BB9B-4515-AC6D-864AD303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37160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1282-09C1-41C9-AE4C-B5C0F918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1B2F-275A-42FD-8394-39C14699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4760" y="151920"/>
            <a:ext cx="693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75A7-86AB-48A7-A3B6-8F9EC30A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37160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423756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C353-0B11-496F-AE7E-8259B270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37160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423756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AF76-3F1A-452C-A074-1BAE9CE6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37160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423756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7005-E284-41BB-B472-F54347F1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A0F0-0E38-4786-81F7-4FB6CBBDD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2890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Rio, 04 de dezembro de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057400"/>
            <a:ext cx="914400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cc"/>
                </a:solidFill>
                <a:latin typeface="Arial Narrow"/>
              </a:rPr>
              <a:t>Regulamentação do Livre Acesso a Gasodu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cc"/>
                </a:solidFill>
                <a:latin typeface="Arial Narrow"/>
              </a:rPr>
              <a:t>- AUDIÊNCIA PÚBLICA-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583740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erintendência de Comercialização e Movimentação de Gás Na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ência Nacional do Petróleo - AN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Definição de Política para o Gás Natural</a:t>
            </a: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rupo de Trabalho criado pela Portaria n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432 (19/11/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ordenação: MME e A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objetivo é estabelecer diretrizes pa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senvolvimento do mercad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 gás natural, ampliando sua participação na matriz energétic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ormação do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preç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gás natural, considerando os seus competidores de origem fóssil e renováve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proveitamento das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serv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 gás natural no Brasi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equação do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arco regulatóri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a indústria de G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pansão da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fra-estrutu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 transporte e distribuição de gás natural, considerando modais alternativos, inclus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vite para participação de outros agentes a critério da Coorden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F, Petrobras, IBP, TBG, TSB, Transpetro, Distribuidoras de GN, Abegás, BNDES, Reguladores Estadua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AZO: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Março/2004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120 dias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Definição de Política para o Gás Natural</a:t>
            </a: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jeto ESTAL do Banco Mund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envolvimento de merc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rreção de problemas regulató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rtalecimento institu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oco na Relação Gás-Eletricidade -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ita alguns aspectos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alta de competição no suprimento de gás prejudicando a introdução da geração tér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ncompatibilidade entre compromissos fixos (ToP e SoP) e flexibilidade tér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ração distribuída, cogeração, mercado secundá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articipação cruzada  considerando as 2 indúst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olíticas regulatórias e comercias e relação com barreiras e oportunidades para os ag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bjetivo: identificar imperfeições de mercado e propor ações de mitig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utros Itens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truturação de Base de Dados do Gas Natural no 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cursos de tecnologia da informação para viabilizar elaboração de políticas consisten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peracionalização do CN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valiar  arranjo atual e identificar opções de melhoria das estruturas institucionais de su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Definição de Política para o Gás Natural</a:t>
            </a: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ando este contexto, questiona-se a pertinência de publicar as portarias no curto prazo (até 6 meses) antes de se ter propostas estruturais consistentes e a definição de uma política para o gás natu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24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guns comentários recebidos durante o processo de consulta pública afirmam que a publicação de tais regulamentações não seria oportuna nesse mom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33560" y="3504240"/>
            <a:ext cx="4543560" cy="430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QUAL A OPINIÃO DOS AGENTES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Audiência Pública</a:t>
            </a: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dimen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s manifestações dos expositores seguirão a ordem de inscrição, realizada previamente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da exposição estará limitada ao tempo de 10 minutos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icialmente será permitida a manifestação de 1 representante de cada entidade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spcBef>
                <a:spcPts val="12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ndas as manifestações dos expositores inscritos, será permitido, por um período de 30 minuto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 retorno de expositores para complementar sua manifestação ou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manifestação de outros participantes da audiência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odos os depoimentos serão gravados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 posicionamento da ANP relativo aos questionamentos apresentados será realizado mediante Nota Técnica, disponibilizada aos interessados, após aprovação pela Diretoria Colegiad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990800" y="4869000"/>
            <a:ext cx="50223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ência Nacional do Petróleo – AN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anp.gov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967200" y="2286000"/>
          <a:ext cx="120816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7200" y="2286000"/>
                    <a:ext cx="12081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1828800"/>
            <a:ext cx="792468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Histórico da Regulamentação do          Livre Acesso a Gasodutos</a:t>
            </a: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órico da Regulamentação do Artigo 58 da Lei 9.478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05120"/>
            <a:ext cx="5029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ortaria ANP 169/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Revogada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pt-BR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onsulta Púb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Revisão da Portaria ANP 169/98</a:t>
            </a: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ortaria ANP 98/0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Determina o </a:t>
            </a: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Concurso Aberto </a:t>
            </a: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para oferta e alocação de capacidade decorrente da expansão de gasodu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Contexto do racionamento de energia elétrica</a:t>
            </a: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ortaria ANP 254/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Regulamenta os </a:t>
            </a: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procedimentos para resolução de conflit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Consulta Púb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4 portarias: </a:t>
            </a: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livre acesso, critérios tarifários, cessão de capacidade e informações</a:t>
            </a: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ortaria ANP 001/0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Estabelece os procedimentos para o envio de </a:t>
            </a: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informações </a:t>
            </a: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referentes às atividades de transporte e de compra e v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Consulta Púb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livre acesso, critérios tarifários e cessão de capacidade</a:t>
            </a: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udiência Púb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livre acesso, critérios tarifários e cessão de capacid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19920" y="1905120"/>
            <a:ext cx="28954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26/nov/98 a 19/abr/2001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07/fev/2001 a 09/mar/2001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ublicada em 25/jun/2001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ublicada em 12/set/2001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05/ago/2002 a 20/out/2002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ublicada em 07/jan/2003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19/set/2003 a 19/nov/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4 de dezembro de 2003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Histórico da Regulamentação do          Livre Acesso a Gasodutos</a:t>
            </a: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plitude de alternativ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4040" y="2703960"/>
            <a:ext cx="2916360" cy="353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LIVRE ACESS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86240" y="2666160"/>
            <a:ext cx="5615280" cy="322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curso Aberto p/ Novos Gasodutos  VS.  só p/ Expansã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84800" y="3276000"/>
            <a:ext cx="4268160" cy="322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ferta de STI Limitada   VS.   Sem Restriçõ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4040" y="4244040"/>
            <a:ext cx="2916360" cy="353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CRITÉRIOS TARIFÁRI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85880" y="4266360"/>
            <a:ext cx="3513600" cy="322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Mais Detalhado   VS.   Mais Genéri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83360" y="4647600"/>
            <a:ext cx="278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stência com base legal exis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79760" y="5546160"/>
            <a:ext cx="4771080" cy="322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ferta Pública   VS.   Exceções para Cessão Dire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89120" y="2056680"/>
            <a:ext cx="2526120" cy="322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+ Aberto   VS.   + Restrit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1950480"/>
            <a:ext cx="251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íodo de Carência p/ Mercado Emergente e Novas Instalaç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720" y="5531400"/>
            <a:ext cx="2964960" cy="353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CESSÃO DE CAPACIDAD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2057400"/>
            <a:ext cx="0" cy="1600200"/>
          </a:xfrm>
          <a:prstGeom prst="line">
            <a:avLst/>
          </a:prstGeom>
          <a:ln cap="rnd" w="324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4114800"/>
            <a:ext cx="0" cy="838080"/>
          </a:xfrm>
          <a:prstGeom prst="line">
            <a:avLst/>
          </a:prstGeom>
          <a:ln cap="rnd" w="324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5334120"/>
            <a:ext cx="0" cy="838080"/>
          </a:xfrm>
          <a:prstGeom prst="line">
            <a:avLst/>
          </a:prstGeom>
          <a:ln cap="rnd" w="324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Consulta Pública: </a:t>
            </a:r>
            <a:r>
              <a:rPr b="0" lang="en-US" sz="2800" spc="-1" strike="noStrike">
                <a:solidFill>
                  <a:srgbClr val="006666"/>
                </a:solidFill>
                <a:latin typeface="Arial Narrow"/>
              </a:rPr>
              <a:t>30 Documentos Recebidos</a:t>
            </a:r>
            <a:endParaRPr b="1" lang="en-US" sz="28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ssociações de Classe (7)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BP, ABEGAS, ABRACE, APINE, FIESP, SINDSAL,  OAB/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mpresas Transportadoras (4)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BG, TSB, Gasocidente, Transpe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overno dos Estados (1)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cretaria de Energia, Indústria Naval e Petróleo - R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mpresas de Petróleo e Energia (8)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G, El Paso, Petrobras, Repsol YPF, Shell, Tota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n American, ChevronTexa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24200" indent="0"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istribuidora de Gás (1)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as Brasili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gência Reguladora Estadual (1)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S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sultores (2)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BIE, Estratégia &amp; Val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scritório de Advocacia (1)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lhôa Canto, Rezende e Guerra Advog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âmara de Comércio (1)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merican Chamber of Commer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essoas físicas (4)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José Garcez, Urbano Lopes, Douglas Pedra/ Lúcia Helena Salgado,        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Ricardo Vigli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1371600"/>
            <a:ext cx="47242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Consulta Pública</a:t>
            </a:r>
            <a:r>
              <a:rPr b="0" lang="en-US" sz="3200" spc="-1" strike="noStrike">
                <a:solidFill>
                  <a:srgbClr val="006666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GUNS PONTOS DE CONSEN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ecariedade de se regulamentar por Port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umenta percepção de risco pelos ag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cessidade de LEI específica para o Gás Na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siderando suas especific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manda por atuação mais enfática por parte do regu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cessidade de compatibilizar Regulação do Setor de Infra-estrutura                 com Defesa da Concorr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gulamentação pró-desenvolv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Consulta Pública: </a:t>
            </a:r>
            <a:r>
              <a:rPr b="0" lang="en-US" sz="3200" spc="-1" strike="noStrike">
                <a:solidFill>
                  <a:srgbClr val="006666"/>
                </a:solidFill>
                <a:latin typeface="Arial Narrow"/>
              </a:rPr>
              <a:t>Alguns Resultados </a:t>
            </a:r>
            <a:br>
              <a:rPr sz="2800"/>
            </a:b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azos de Proteção para Novas Instalações e Mercado Emergentes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44600" y="2039400"/>
            <a:ext cx="14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FAVORÁ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89520" y="203940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0000"/>
                </a:solidFill>
                <a:uFillTx/>
                <a:latin typeface="Arial"/>
              </a:rPr>
              <a:t>CONTRÁ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67440" y="3015360"/>
            <a:ext cx="1098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Gasocid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9440" y="2057400"/>
            <a:ext cx="0" cy="4267080"/>
          </a:xfrm>
          <a:prstGeom prst="line">
            <a:avLst/>
          </a:prstGeom>
          <a:ln cap="rnd" w="324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8160" y="2634480"/>
            <a:ext cx="833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ABEGÁ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44400" y="2634480"/>
            <a:ext cx="83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AB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3280" y="3382200"/>
            <a:ext cx="40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00600" y="2634480"/>
            <a:ext cx="646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AP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04480" y="3382200"/>
            <a:ext cx="1157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PanAmer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89160" y="2634480"/>
            <a:ext cx="766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OAB/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54160" y="3015360"/>
            <a:ext cx="1252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Gas Brasili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521200" y="3382200"/>
            <a:ext cx="545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CB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67440" y="3382200"/>
            <a:ext cx="73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El Pa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93240" y="2634480"/>
            <a:ext cx="872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AMCH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21000" y="2634480"/>
            <a:ext cx="622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FI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76560" y="3382200"/>
            <a:ext cx="546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59040" y="2863080"/>
            <a:ext cx="435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83440" y="2955240"/>
            <a:ext cx="982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00"/>
                </a:solidFill>
                <a:latin typeface="Arial"/>
              </a:rPr>
              <a:t>D. Pedra/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00"/>
                </a:solidFill>
                <a:latin typeface="Arial"/>
              </a:rPr>
              <a:t>L. H. Salg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7960" y="2634480"/>
            <a:ext cx="502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5400" y="2634480"/>
            <a:ext cx="977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ranspe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6880" y="3428280"/>
            <a:ext cx="1029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99"/>
                </a:solidFill>
                <a:latin typeface="Arial"/>
              </a:rPr>
              <a:t>Repsol Y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78040" y="2634480"/>
            <a:ext cx="485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43320" y="3382200"/>
            <a:ext cx="494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E&amp;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95320" y="3017160"/>
            <a:ext cx="596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CS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4062240"/>
            <a:ext cx="4343400" cy="24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entá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ionamentos quanto à legalidade             (Leis 9478/97 e 8.884/94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ompatibilidade com princípios que nortearam decisões de investimento no E&amp;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sição à reserva de mercado, impedem a competitividade e a livre concorrênci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orno à situação de monopóli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judica o consumidor, impedindo o acesso a alternativas de suprimento / menores preç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4064400"/>
            <a:ext cx="3581280" cy="17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entá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anço com relação às propostas anterior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eção, redução da percepção de risco e incentivo a investiment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guns sugerem aumento dos prazos de prote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047400"/>
            <a:ext cx="89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etrob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70120" y="3047400"/>
            <a:ext cx="1396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99"/>
                </a:solidFill>
                <a:latin typeface="Arial"/>
              </a:rPr>
              <a:t>Secr. Energia R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34120" y="3428280"/>
            <a:ext cx="545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Consulta Pública: </a:t>
            </a:r>
            <a:r>
              <a:rPr b="0" lang="en-US" sz="3200" spc="-1" strike="noStrike">
                <a:solidFill>
                  <a:srgbClr val="006666"/>
                </a:solidFill>
                <a:latin typeface="Arial Narrow"/>
              </a:rPr>
              <a:t>Alguns Resultados </a:t>
            </a:r>
            <a:br>
              <a:rPr sz="2800"/>
            </a:b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rição à Oferta de Transporte Interruptível (70% de utilização do du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44600" y="2039400"/>
            <a:ext cx="14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FAVORÁ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89520" y="203940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0000"/>
                </a:solidFill>
                <a:uFillTx/>
                <a:latin typeface="Arial"/>
              </a:rPr>
              <a:t>CONTRÁ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440" y="3015360"/>
            <a:ext cx="1098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Gasocid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9440" y="2057400"/>
            <a:ext cx="0" cy="4267080"/>
          </a:xfrm>
          <a:prstGeom prst="line">
            <a:avLst/>
          </a:prstGeom>
          <a:ln cap="rnd" w="324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8160" y="2634480"/>
            <a:ext cx="833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ABEGÁ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44400" y="2634480"/>
            <a:ext cx="83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AB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83280" y="3382200"/>
            <a:ext cx="40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00600" y="2634480"/>
            <a:ext cx="646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AP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04480" y="3382200"/>
            <a:ext cx="1157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PanAmer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48680" y="3786840"/>
            <a:ext cx="545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89160" y="2634480"/>
            <a:ext cx="766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OAB/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54160" y="3015360"/>
            <a:ext cx="1252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Gas Brasili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521200" y="3382200"/>
            <a:ext cx="545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CB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67440" y="3382200"/>
            <a:ext cx="734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El Pa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193240" y="2634480"/>
            <a:ext cx="872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AMCH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21000" y="2634480"/>
            <a:ext cx="622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FI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76560" y="3382200"/>
            <a:ext cx="546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59040" y="2863080"/>
            <a:ext cx="435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83440" y="2955240"/>
            <a:ext cx="982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00"/>
                </a:solidFill>
                <a:latin typeface="Arial"/>
              </a:rPr>
              <a:t>D. Pedra/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00"/>
                </a:solidFill>
                <a:latin typeface="Arial"/>
              </a:rPr>
              <a:t>L. H. Salg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8160" y="3785400"/>
            <a:ext cx="1029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00"/>
                </a:solidFill>
                <a:latin typeface="Arial"/>
              </a:rPr>
              <a:t>Repsol YP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843320" y="3382200"/>
            <a:ext cx="494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E&amp;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95320" y="3017160"/>
            <a:ext cx="596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CS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211640"/>
            <a:ext cx="434340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entá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tringe a otimização do uso da infra-estrutur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be o desenvolvimento do mercado de gá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romete o objetivo de modicidade tarifári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abelece o monopólio de fato da empresa domina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4212360"/>
            <a:ext cx="3581280" cy="18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entá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tiga riscos dos contratos de compra de gás que permitiram viabilizar à implantação da infra-estrutura de transport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guns propõem alterar definição de capacidade ociosa, aumentando restriçõ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7960" y="2634480"/>
            <a:ext cx="502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5400" y="2634480"/>
            <a:ext cx="977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ranspe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78040" y="2634480"/>
            <a:ext cx="485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047400"/>
            <a:ext cx="89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etrob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Definição de Política para o Gás Natural</a:t>
            </a: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rês projetos de estudo encontram-se em andamento com o objetivo de propor ou definir Diretrizes para uma Política para o Gás Natur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jeto de consultoria contratado pela A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 envolvimento do 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6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rupo de Trabalho MME/ANP criado pela Portaria n</a:t>
            </a:r>
            <a:r>
              <a:rPr b="0" lang="pt-BR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432 (19/11/03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 participação de outros agentes a critério dos coorden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jeto do Banco Mundial - ESTAL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Energy Sector Technical Assistance Lo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ás e eletric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Cronogramas não compatíveis para formulação de uma Política consistente e bem fundamen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visão de longo prazo, estrutura de mercado, papel dos agentes,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92420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924200" indent="-228600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talhes nos slides seguintes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 Narrow"/>
              </a:rPr>
              <a:t>Definição de Política para o Gás Natural</a:t>
            </a:r>
            <a:endParaRPr b="1" lang="en-US" sz="3200" spc="-1" strike="noStrike">
              <a:solidFill>
                <a:srgbClr val="006666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jeto de consultoria contratado pela A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bjetivo: propor um modelo de desenvolvimento para a indústria de gás natural no Brasil, fornecendo subsídios para a política de gov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ME/SPG está diretamente envolvido no proje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gentes do mercado são convidados a contribuir através de entrevistas e convidados para workshops de apresentação de relató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4267080"/>
            <a:ext cx="1511280" cy="83844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75" y="0"/>
                </a:lnTo>
                <a:lnTo>
                  <a:pt x="21600" y="10800"/>
                </a:lnTo>
                <a:lnTo>
                  <a:pt x="189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studo da Experiência Internac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22560" y="4272120"/>
            <a:ext cx="1511280" cy="8380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75" y="0"/>
                </a:lnTo>
                <a:lnTo>
                  <a:pt x="21600" y="10800"/>
                </a:lnTo>
                <a:lnTo>
                  <a:pt x="189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agnóstico do Setor de Gás  no Bras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51280" y="4272120"/>
            <a:ext cx="1511280" cy="8380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75" y="0"/>
                </a:lnTo>
                <a:lnTo>
                  <a:pt x="21600" y="10800"/>
                </a:lnTo>
                <a:lnTo>
                  <a:pt x="189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enho do Modelo do Se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80000" y="4272120"/>
            <a:ext cx="1511280" cy="8380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75" y="0"/>
                </a:lnTo>
                <a:lnTo>
                  <a:pt x="21600" y="10800"/>
                </a:lnTo>
                <a:lnTo>
                  <a:pt x="189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delagem do Mercado de Gás Natu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08720" y="4272120"/>
            <a:ext cx="1511280" cy="8380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75" y="0"/>
                </a:lnTo>
                <a:lnTo>
                  <a:pt x="21600" y="10800"/>
                </a:lnTo>
                <a:lnTo>
                  <a:pt x="189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umo Execu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9960" y="5410080"/>
            <a:ext cx="15264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669160" y="5334120"/>
            <a:ext cx="15264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3640" y="58132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o/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445240" y="5715000"/>
            <a:ext cx="61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et/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95680" y="5410080"/>
            <a:ext cx="15228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3040" y="581328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z/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16:03:43Z</dcterms:created>
  <dc:creator>ANP</dc:creator>
  <dc:description/>
  <dc:language>en-US</dc:language>
  <cp:lastModifiedBy>eliana</cp:lastModifiedBy>
  <cp:lastPrinted>2003-11-24T16:36:24Z</cp:lastPrinted>
  <dcterms:modified xsi:type="dcterms:W3CDTF">2003-12-04T10:16:18Z</dcterms:modified>
  <cp:revision>158</cp:revision>
  <dc:subject/>
  <dc:title>Slide sem título </dc:title>
</cp:coreProperties>
</file>